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662D-DA35-470A-863B-07CEEA3A3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51D7-2FE3-4F8D-8196-B5B88404F2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52D4-8193-42E5-9093-3E3863A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8FD0-148C-4E46-9C4B-A9A20314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360E-8411-456C-B709-AC8129FF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4AA7-129F-4859-AF53-14D5FB33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2F30-2930-4ABC-8E8D-19DB6C10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AB4C-37D9-429A-AB84-A5D89E3C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BF7-DEB2-4B20-A1FC-A2DCF281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111-55EF-4904-85B7-9EC81090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D7FA-E8B1-4F94-A271-3F8D66E8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3B1-1C0D-49F8-9DBE-EBB037F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175-6F90-4CFF-A94E-6B95CDB5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A7BF-232B-4134-B47F-D145F1D3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324C-7D11-46FD-BDAD-4BB032E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768-FF26-4023-BAE1-723A981F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C17F-3F27-4909-ACB8-87E9B4DD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0997-E99D-44B3-B7CE-F845768E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049-7753-432A-983D-933CCC68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DC17-952B-4385-A484-F87A8F78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E703-7A60-44D5-A41D-045FABF1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F255-A964-4D75-9522-976A56B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D621-8050-489B-ACFD-2659A2DF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FDDC-FC9F-4DC0-B91E-FB3A64C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C1AD-DBD4-428F-B0C3-68D49F9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028B-9090-432C-8A5D-F247457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3578-F383-4B83-9147-AA17B63F8E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FCE-FE3E-486B-99F2-D2A839F64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ypertension in Pregnanc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 asma hass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isk Factors for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ypertension in Pregna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llipa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eclampsia in a previous pregnan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ge &gt;40 years or &lt;18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mily history of pregnancy-induced hyperten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ronic hyperten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ronic renal dise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tiphospholipid antibody syndrome or inherited thrombophil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ascular or connective tissue dise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abetes mellitus (pregestational and gestationa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ltifetal gest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 body mass inde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explained fetal growth restri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valuation of Hypertension in Pregna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 and Compla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PI (S/S of Preeclampsi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st Medical Hx, Past Family H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st Obstetrical Hx, Past Gyne H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H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dications, Allerg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natal serology, blood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sess for Hypertension in Pregnancy risk fac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t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rdiovascul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pirato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dominal  = Epigastric pain, RUQ p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uromuscular and Extremities = Reflex, Clonus, Ede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tu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valuation of Hypertension in Pregna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boratory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BC (Hgb, Pl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nal Function (Cr, UA, Albumi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ver Function (AST, ALT, ALP, L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gulation (PT, PTT, INR, Fibrinog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ine Protein (Dipstick, 24 hour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ment of Hypertension in Pregna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ends on severity of hypertension and gestational age!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servational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tricted 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ose Maternal and Fetal Monito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P Monito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/S of preeclamps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tal growth and well being (NST, and U/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utine weekly or biweekly blood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ment of Hypertension in Pregna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dical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ute Therapy = IV Labetalol, IV Hydralazine, SR Nifedipin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ctant Therapy = Oral Labetalol, Methyldopa, Nifedip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clampsia prevention = MgSO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traindicated antihypertensive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E inhibi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giotensin receptor antagoni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ment of Hypertension in Pregnanc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ceed with 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ginal Delivery VS Cesarean S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pends on severity of hypertensi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y need to administer antenatal corticosteroids depending on gestation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nly cure is DELIVERY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tiology &amp; 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icates 10-20% of pregna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vation of B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140 mmHg systolic and/or ≥90 mmHg diastolic, on two occasions at least 6 hours a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tego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onic Hyperte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stational Hyperte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eclamp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eclampsia superimposed on Chronic Hyperten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ronic Hyperte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existing Hypertensio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stolic pressur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≥ 140 mmHg, diastolic pressure ≥90 mmHg, or both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Presents befor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week of pregnancy or persists longer then 12 weeks postpart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Primary = “Essential Hypertens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Secondary = Result of other medical condition (ie: renal dise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natal Care for Chronic Hypertens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ctrocardiogram should be obtained in women with long-standing hyperten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seline laboratory tes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inalysis, urine culture, and serum creatinine, glucose, and electroly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sts will rule out renal disease, and identify comorbidities such as diabetes mellitu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men with proteinuria on a urine dipstick should have a quantitative test for urine protei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 for Chronic Hyperte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oid treatment in women with uncomplicated mild essential HTN as blood pressure may decrease as pregnancy progress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y taper or discontinue meds for women with blood pressures less than 120/80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rimest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nstitute or initiate therapy for persistent diastolic pressures &gt;95 mmHg, systolic pressures &gt;150 mmHg, or signs of hypertensive end-organ dama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cation choices = Oral methyldopa and labetal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eclampsia superimposed on Chronic Hyperten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fects 10-25% of patients with chronic HT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existing Hypertension with the following additional signs/sympto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onset proteinu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ertension and proteinuria beginning prior to 20 weeks of ges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udden increase in blood pressu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ombocytopen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evated aminotransfera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 of Preeclamps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ve Treatmen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jor indication for antihypertensive therapy is prevention of strok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stolic pressure ≥105-110 mmHg or systolic pressure ≥160 mmH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ice of drug therap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– IV labetalol, IV hydralazine, SR Nifedip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-term – Oral methyldopa or labetal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estational Hyperten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ld hypertensio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ou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inuria or other signs of preeclampsi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s in late pregnancy, after 20 weeks gesta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olves by 12 weeks postpart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progress onto preeclamps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when hypertension develops &lt;30 weeks gest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cations for and choice of antihypertensive therapy are the same as for women with preeclampsi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5:16:21Z</dcterms:created>
  <dc:creator>Nadean Caines</dc:creator>
  <dc:description/>
  <dc:language>en-US</dc:language>
  <cp:lastModifiedBy>Grace</cp:lastModifiedBy>
  <dcterms:modified xsi:type="dcterms:W3CDTF">2020-04-02T07:06:29Z</dcterms:modified>
  <cp:revision>19</cp:revision>
  <dc:subject/>
  <dc:title>Hypertension in Pregnancy</dc:title>
</cp:coreProperties>
</file>