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62AB-B054-4F78-9297-21D8C605D9B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7ED9-FD07-47FB-A88F-7BEB0B6BF0F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C8BA-524D-4C05-AB21-F9D34952F2A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207D-ADE9-4403-888B-7AE0823015A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8E3E-05DA-4FC0-A732-65C7E41EBC2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89B0-A33C-4BD2-B085-2D038096A07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A10F-3427-4744-BFA5-C7FF2CA46E0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0AA5-B6DE-4C43-909F-FF388EA7C5B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E0D2-2FFB-42D0-B974-3410C47CEF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9AC7-A176-4737-A433-FB1C293CE7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34C0-DB8E-48E2-A3B5-616CCDBD620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3987-A680-404D-B585-0C7FB120521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5302-56BC-4D0C-9AD0-E88F130C11D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023F-E2AB-417F-9D9C-919B19F5D8C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F352-AA85-42FC-8539-FA8ADC4667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8457-64C4-4A93-B9D3-04BC31D31C9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FBE3-FC9D-4998-B777-F1335B0616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75DC-9A34-409C-B712-04FE4564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205D-94C8-4D96-86A7-3A9EAC46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AC661E-D83A-46A3-BE32-1E3CB9A8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2EE325-07D5-444F-8576-40A48D7E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446076-D520-45CC-85D7-6FAD4206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8EA8F5-0E79-4AE6-84C9-CC8EC112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43CDD7-CEE8-4B57-B2DC-6F189CD5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6F9229-AF00-468F-BAEA-9E711A5E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AAB32A-C47E-403E-AD23-E380ED02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79A8BC-8F21-402B-A803-A0EF08AE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F014D7-62F4-4324-94ED-324D853C6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8B44AF-94BA-4C86-AC4F-061361B8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BBB0-E6D2-45FF-BD2D-27AEFACF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9BA344-AB03-4975-BC16-51E7A091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98835E-347A-4CA1-BA12-F1CA1C9F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B4DCBC-6C22-4508-83A6-E50C5BAA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32A144-681E-4BEE-AAF4-36B1562A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8A732B-FE62-45D3-AAE5-E96140D8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D74875-7904-4328-B583-89BCE363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C01E6B-62BE-4765-8EE1-54AAAFFD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9E3F77-B884-4606-8434-5954FB84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48D49F-CDD0-42C6-9419-B72B2EC1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92920B-9D5E-4496-9CA1-E4A2777E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A9F7-906B-46C5-9508-E2F9020E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F1D528-EEFA-4473-80BB-4899F9C1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BCB55-AB7B-4685-AB19-05563A3F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E68E3-313D-4A94-BC78-5D9C1BB0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094FE-0B9F-4FD4-B500-33DE1508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B85B6-3EFE-4851-840E-0BD3BF3D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FF392-8EA5-4E44-9CAC-4147E4B5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CCC6B-B60A-4966-B7BD-76EAFF90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A01FA-F715-4D52-A0F2-C358AF26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9D2EA-9A6F-4C0D-B658-920CA958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F6596-F40E-4093-A638-AC8B167B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D9F5-A853-4DB1-82BA-96EC48E8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0AFE1-DA22-41CA-8C5B-48C74439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F4D59-D0FA-41B2-A2DB-C6A1858A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EB853-9835-4DB0-AF36-5332B65F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C13D9D-3EE7-4473-9181-FBF9C08F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74368D-62CC-4CE9-A777-25192D07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97E19C-B971-422B-80C5-17BACB25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B376E4-6A76-4172-9942-D4EEBC98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287BEF-855A-4AA6-AB06-2B581B4F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C8CA93-37EB-49FD-9A3C-FC6F1A4C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81647F-36A3-4AB6-BF11-44AF06FE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5C74-823F-4017-B3AC-A7492833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A72CEB-6E64-4A6E-9417-B198C348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259442-2404-4EEC-A70A-DAD54028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93AEF7-5932-4159-9396-0260EEA2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B9D519-0543-4D0F-B8EF-7BC25575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BF51F4-5974-46FF-BDE4-FB1FF28E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BB0C-4FA2-4958-A870-DB6143DC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754D-A861-43CF-B68B-F193433C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D9A0-7671-4BCE-83E6-978219D9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13B8-9E79-4DDA-92A6-CC100F46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A148-865B-4700-8956-B2126A6A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7911-38CD-45E4-A80D-921AE013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C03C-4D02-4257-9CBA-A87F9D11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E686-66B2-4170-8CDA-013077C3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5705-4FFE-481B-86B5-80B6A8EF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4938-BA69-4463-8C97-5ABF3064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0C45-5986-4787-8830-4415ABAB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3EC67-2F70-4BCC-9959-C0D93EAD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D41BE-55C7-4474-A3C3-A0668FD0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AA5D9-DEB9-42B7-9BF8-CA198934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04280-8541-4B50-BD99-3BBA5FDE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82C13-E7E2-4778-89A1-59337034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D3D4-33BA-44B2-A80C-06F7C221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415BE-BB90-462F-B149-EF147775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ECDB4-B8B8-4203-BC99-EE69F73B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C57E4-E785-4B53-9027-8012F29F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0156D-A6F5-4570-8C25-6D6DA70D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C5CD5-8572-47B1-8A28-13079196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D6EE3-2D58-4D1A-8436-D9995218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88D6C-48B2-4D24-969C-A87570DD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265C7-45D2-4D9B-BEE2-997F1F3E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DD869-80A9-45A8-8B42-BE082B0A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A1593-8E4C-446D-B955-E5FE3D8E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1669-CD9E-4AB9-8548-67C4143F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D30F1-5AF3-41A1-9D46-03CD5FB2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0721F-5611-4F47-A2C7-D1BCF18D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25212-6B51-4690-9D86-934F1DD7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0979A-A690-4F7A-BF13-2C2DEA19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67565-B74C-4216-B371-BA4E0765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845DE-E1F4-43E6-B5E5-D2CB35FE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97A46-DD6D-486F-A6BB-1400F58F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00BA0-87CC-489A-B05E-DC97DB23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F5442-CAC7-4B6F-8157-DE29AAC85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CF7D3-9808-4684-BE8B-F2BDFA58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C8E8-18CF-42DF-8805-DE76C7A0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0F0A9-F132-43C0-8AC1-CDAEBA45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A881F-3B99-44B1-AFC3-8442CC9E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3C903-4AD8-4F58-AC2E-62FB8C59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FE47C-1F00-4D14-B504-79B7C8D0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6A918-F73C-4434-85DE-DEC371FD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EB3A0-2498-4175-BA1B-450E0B5B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A08FA-AB58-4B00-AA63-C618886C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61777-EA5D-4AA4-8903-58E7E54D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E2269-96B2-4E2C-BA80-38001AA8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2997F-26EE-42DF-8114-9461EDD9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A8CA-2C3B-4887-B261-A9510F8C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CDF25-DF0F-4B80-8B32-8477154E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3C7E1-1710-47EC-AD33-0674A2BC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64252-F68C-4816-997B-DA82B967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C6ED9-673B-41E9-8BBA-237B450F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FD8ED-2EC0-4B53-B145-855DF3B9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1FB90-FD1E-47CD-BD90-AA026726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0A256-0E90-4BFF-8341-1B0C8871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B6F40-94BA-446E-87E4-E6EF86BB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95CD9-4DFC-406B-B854-27793909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859D6-AED3-49EA-9D14-13E5C44B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B6AA-AEDC-4F7B-96E0-287AB1B3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517DE-A08A-46ED-85B0-1D21E7DF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2EA13-EAF1-4077-B5DE-DEA6AD48F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8109F-6C04-4AB7-881D-50EC8252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B8CB2-C633-4731-BACE-E66699AC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2C262-053D-481C-8D7D-14C99D3C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CB185-6492-40A2-9EDD-06947765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B7A65-21E4-44E6-AF86-2F0621A5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38F6A-B514-4F5B-BE4A-D4CCBE7E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66E73-AB27-49E6-93CD-E5DC607C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8821A-9945-4FFE-B602-E77DE6DF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7F70-D89E-4489-BC21-AD49DB97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A433A-DF1A-414B-BF93-A985A1E5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5B0D8-4EAD-41A0-A2CB-43C8FCA4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310CA-1618-40FE-91DE-5E4BCCAC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35329-30DC-434C-A07F-7CA26363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7CFF2-EC22-4A87-BFBD-5C2D2087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21143-E265-40D0-A848-2359FDDE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C4FD0-D30D-49A2-AF96-EA9CE4E2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96E1E-2DA3-4EEE-9744-F6425DB2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32B8B-5DCB-4C53-9FB9-513B08C3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12221-9F12-4CFE-B3DF-8C21545F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B7A1-65AA-42E0-81B9-FB6CC834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323FD-6155-45FA-B791-1D964BF3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9822B-0635-4D07-8F82-7D12B468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4A158-A0A9-4E23-9737-19311DF1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80E57-E5EB-401D-8D3B-AE92715E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1EAF7-BE94-4192-B4E2-44699040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C8180-64CF-4DCF-A810-8BB8FDAB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69668-1E03-4F58-9F50-DD5E5176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BC94EE-C4AF-4EBC-89FA-8F1A18FF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588B7A-B16C-4B99-9869-0FFA7A29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26AA66-5D51-46A1-B922-12242162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FB18-1545-443C-A746-5D7FB0F8C55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2A62-7C4E-4F80-8965-9AA03BED5CE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B5A1-1C95-41C2-85C1-1BAA85EB138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F9EF-501C-4714-B1BD-66D46F5CEAB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5B90-182B-40C3-80A9-8E3131AE777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4C89-E8B0-4C23-A4EC-B4865D9DAAB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EF3F-CF73-4BA6-8B52-1A9015D45E5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3395-4857-457C-9D96-482F981E824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36DC-C513-4E61-A89C-2E28F42CC1A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B81C-71DF-46AD-82D6-12EA14C6AF4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4797-CE0A-40BE-8D1D-202A4AB84D8A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2D37-BC80-4CD8-9A2C-8478C30070E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85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7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b86"/>
                </a:solidFill>
                <a:latin typeface="Georgia"/>
                <a:ea typeface="Calibri"/>
              </a:rPr>
              <a:t>BY</a:t>
            </a:r>
            <a:br>
              <a:rPr sz="1600"/>
            </a:br>
            <a:r>
              <a:rPr b="1" lang="en-GB" sz="2400" spc="-1" strike="noStrike">
                <a:solidFill>
                  <a:srgbClr val="646b86"/>
                </a:solidFill>
                <a:latin typeface="Georgia"/>
                <a:ea typeface="Calibri"/>
              </a:rPr>
              <a:t>TANVEER AHMED</a:t>
            </a:r>
            <a:br>
              <a:rPr sz="2400"/>
            </a:br>
            <a:r>
              <a:rPr b="1" lang="en-GB" sz="2000" spc="-1" strike="noStrike">
                <a:solidFill>
                  <a:srgbClr val="646b86"/>
                </a:solidFill>
                <a:latin typeface="Georgia"/>
                <a:ea typeface="Calibri"/>
              </a:rPr>
              <a:t>VISITING LECTURER</a:t>
            </a:r>
            <a:br>
              <a:rPr sz="2400"/>
            </a:br>
            <a:r>
              <a:rPr b="1" lang="en-GB" sz="1600" spc="-1" strike="noStrike">
                <a:solidFill>
                  <a:srgbClr val="646b86"/>
                </a:solidFill>
                <a:latin typeface="Georgia"/>
                <a:ea typeface="Calibri"/>
              </a:rPr>
              <a:t>THE ISLAMIA UNIVERSITY OF BAHAWALPUR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REPOSITION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TextBox 1" descr=""/>
          <p:cNvPicPr/>
          <p:nvPr/>
        </p:nvPicPr>
        <p:blipFill>
          <a:blip r:embed="rId1"/>
          <a:stretch/>
        </p:blipFill>
        <p:spPr>
          <a:xfrm>
            <a:off x="-55440" y="-189000"/>
            <a:ext cx="9285120" cy="634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TextBox 1"/>
          <p:cNvGrpSpPr/>
          <p:nvPr/>
        </p:nvGrpSpPr>
        <p:grpSpPr>
          <a:xfrm>
            <a:off x="182520" y="262080"/>
            <a:ext cx="8339040" cy="5499000"/>
            <a:chOff x="182520" y="262080"/>
            <a:chExt cx="8339040" cy="5499000"/>
          </a:xfrm>
        </p:grpSpPr>
        <p:pic>
          <p:nvPicPr>
            <p:cNvPr id="646" name="TextBox 1" descr=""/>
            <p:cNvPicPr/>
            <p:nvPr/>
          </p:nvPicPr>
          <p:blipFill>
            <a:blip r:embed="rId1"/>
            <a:stretch/>
          </p:blipFill>
          <p:spPr>
            <a:xfrm>
              <a:off x="182520" y="262080"/>
              <a:ext cx="8339040" cy="549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"/>
            <p:cNvSpPr/>
            <p:nvPr/>
          </p:nvSpPr>
          <p:spPr>
            <a:xfrm>
              <a:off x="380880" y="380880"/>
              <a:ext cx="7772400" cy="49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Georgia"/>
                </a:rPr>
                <a:t>Usage of  “WITH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7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He pounds nails </a:t>
              </a:r>
              <a:r>
                <a:rPr b="1" i="1" lang="en-US" sz="3200" spc="-1" strike="noStrike" u="sng">
                  <a:solidFill>
                    <a:srgbClr val="000000"/>
                  </a:solidFill>
                  <a:uFillTx/>
                  <a:latin typeface="Georgia"/>
                </a:rPr>
                <a:t> with </a:t>
              </a: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a hammer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Mix the flour </a:t>
              </a:r>
              <a:r>
                <a:rPr b="1" i="1" lang="en-US" sz="32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 water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She painted the picture </a:t>
              </a:r>
              <a:r>
                <a:rPr b="1" i="1" lang="en-US" sz="32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 her new paint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Would you like to come </a:t>
              </a:r>
              <a:r>
                <a:rPr b="1" i="1" lang="en-US" sz="32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 us to the cinema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I can do difficult problems </a:t>
              </a:r>
              <a:r>
                <a:rPr b="1" i="1" lang="en-US" sz="32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 help from Mom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Who is the man </a:t>
              </a:r>
              <a:r>
                <a:rPr b="1" i="1" lang="en-US" sz="32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 the beard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TextBox 1" descr=""/>
          <p:cNvPicPr/>
          <p:nvPr/>
        </p:nvPicPr>
        <p:blipFill>
          <a:blip r:embed="rId1"/>
          <a:stretch/>
        </p:blipFill>
        <p:spPr>
          <a:xfrm>
            <a:off x="146160" y="304920"/>
            <a:ext cx="83944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TextBox 1" descr=""/>
          <p:cNvPicPr/>
          <p:nvPr/>
        </p:nvPicPr>
        <p:blipFill>
          <a:blip r:embed="rId1"/>
          <a:stretch/>
        </p:blipFill>
        <p:spPr>
          <a:xfrm>
            <a:off x="146160" y="66600"/>
            <a:ext cx="9235800" cy="66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Title 1"/>
          <p:cNvGrpSpPr/>
          <p:nvPr/>
        </p:nvGrpSpPr>
        <p:grpSpPr>
          <a:xfrm>
            <a:off x="237960" y="189000"/>
            <a:ext cx="8661600" cy="1122120"/>
            <a:chOff x="237960" y="189000"/>
            <a:chExt cx="8661600" cy="1122120"/>
          </a:xfrm>
        </p:grpSpPr>
        <p:pic>
          <p:nvPicPr>
            <p:cNvPr id="651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160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301680" y="228600"/>
              <a:ext cx="85345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 u="sng">
                  <a:solidFill>
                    <a:srgbClr val="ffffff"/>
                  </a:solidFill>
                  <a:uFillTx/>
                  <a:latin typeface="Georgia"/>
                </a:rPr>
                <a:t>Prepositions with Adjective ,Verbs .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3" name="TextBox 2" descr=""/>
          <p:cNvPicPr/>
          <p:nvPr/>
        </p:nvPicPr>
        <p:blipFill>
          <a:blip r:embed="rId2"/>
          <a:stretch/>
        </p:blipFill>
        <p:spPr>
          <a:xfrm>
            <a:off x="96840" y="1249200"/>
            <a:ext cx="913932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TextBox 1"/>
          <p:cNvGrpSpPr/>
          <p:nvPr/>
        </p:nvGrpSpPr>
        <p:grpSpPr>
          <a:xfrm>
            <a:off x="66600" y="146160"/>
            <a:ext cx="9090000" cy="6056280"/>
            <a:chOff x="66600" y="146160"/>
            <a:chExt cx="9090000" cy="6056280"/>
          </a:xfrm>
        </p:grpSpPr>
        <p:pic>
          <p:nvPicPr>
            <p:cNvPr id="655" name="TextBox 1" descr=""/>
            <p:cNvPicPr/>
            <p:nvPr/>
          </p:nvPicPr>
          <p:blipFill>
            <a:blip r:embed="rId1"/>
            <a:stretch/>
          </p:blipFill>
          <p:spPr>
            <a:xfrm>
              <a:off x="66600" y="146160"/>
              <a:ext cx="9090000" cy="53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304920" y="380880"/>
              <a:ext cx="8610480" cy="58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eorgia"/>
                </a:rPr>
                <a:t>Prepositions are used with some verbs. The verbs in these examples are printed in color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7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I’m </a:t>
              </a:r>
              <a:r>
                <a:rPr b="0" lang="en-US" sz="3200" spc="-1" strike="noStrike">
                  <a:solidFill>
                    <a:srgbClr val="ff0000"/>
                  </a:solidFill>
                  <a:latin typeface="Georgia"/>
                </a:rPr>
                <a:t>looking </a:t>
              </a:r>
              <a:r>
                <a:rPr b="1" i="1" lang="en-US" sz="3200" spc="-1" strike="noStrike" u="sng">
                  <a:solidFill>
                    <a:srgbClr val="000000"/>
                  </a:solidFill>
                  <a:uFillTx/>
                  <a:latin typeface="Georgia"/>
                </a:rPr>
                <a:t>for</a:t>
              </a: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 my pencil. Have you seen it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7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Can you </a:t>
              </a:r>
              <a:r>
                <a:rPr b="0" lang="en-US" sz="3200" spc="-1" strike="noStrike">
                  <a:solidFill>
                    <a:srgbClr val="ff0000"/>
                  </a:solidFill>
                  <a:latin typeface="Georgia"/>
                </a:rPr>
                <a:t>think</a:t>
              </a: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3200" spc="-1" strike="noStrike" u="sng">
                  <a:solidFill>
                    <a:srgbClr val="000000"/>
                  </a:solidFill>
                  <a:uFillTx/>
                  <a:latin typeface="Georgia"/>
                </a:rPr>
                <a:t>of</a:t>
              </a: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 another word for ‘pleased’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7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Does this book</a:t>
              </a:r>
              <a:r>
                <a:rPr b="0" lang="en-US" sz="3200" spc="-1" strike="noStrike">
                  <a:solidFill>
                    <a:srgbClr val="ff0000"/>
                  </a:solidFill>
                  <a:latin typeface="Georgia"/>
                </a:rPr>
                <a:t> belong </a:t>
              </a:r>
              <a:r>
                <a:rPr b="1" i="1" lang="en-US" sz="3200" spc="-1" strike="noStrike" u="sng">
                  <a:solidFill>
                    <a:srgbClr val="000000"/>
                  </a:solidFill>
                  <a:uFillTx/>
                  <a:latin typeface="Georgia"/>
                </a:rPr>
                <a:t>to</a:t>
              </a: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 you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7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We’re </a:t>
              </a:r>
              <a:r>
                <a:rPr b="0" lang="en-US" sz="3200" spc="-1" strike="noStrike">
                  <a:solidFill>
                    <a:srgbClr val="ff0000"/>
                  </a:solidFill>
                  <a:latin typeface="Georgia"/>
                </a:rPr>
                <a:t>listening </a:t>
              </a:r>
              <a:r>
                <a:rPr b="1" i="1" lang="en-US" sz="3200" spc="-1" strike="noStrike" u="sng">
                  <a:solidFill>
                    <a:srgbClr val="000000"/>
                  </a:solidFill>
                  <a:uFillTx/>
                  <a:latin typeface="Georgia"/>
                </a:rPr>
                <a:t>to</a:t>
              </a: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 CD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7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I </a:t>
              </a:r>
              <a:r>
                <a:rPr b="0" lang="en-US" sz="3200" spc="-1" strike="noStrike">
                  <a:solidFill>
                    <a:srgbClr val="ff0000"/>
                  </a:solidFill>
                  <a:latin typeface="Georgia"/>
                </a:rPr>
                <a:t>agree</a:t>
              </a: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32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 you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7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Georgia"/>
                </a:rPr>
                <a:t> </a:t>
              </a:r>
              <a:r>
                <a:rPr b="0" lang="en-US" sz="3200" spc="-1" strike="noStrike">
                  <a:solidFill>
                    <a:srgbClr val="ff0000"/>
                  </a:solidFill>
                  <a:latin typeface="Georgia"/>
                </a:rPr>
                <a:t>Tell</a:t>
              </a: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 me </a:t>
              </a:r>
              <a:r>
                <a:rPr b="1" i="1" lang="en-US" sz="3200" spc="-1" strike="noStrike" u="sng">
                  <a:solidFill>
                    <a:srgbClr val="000000"/>
                  </a:solidFill>
                  <a:uFillTx/>
                  <a:latin typeface="Georgia"/>
                </a:rPr>
                <a:t>about</a:t>
              </a: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 the show you saw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7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Georgia"/>
                </a:rPr>
                <a:t> </a:t>
              </a:r>
              <a:r>
                <a:rPr b="0" lang="en-US" sz="3200" spc="-1" strike="noStrike">
                  <a:solidFill>
                    <a:srgbClr val="ff0000"/>
                  </a:solidFill>
                  <a:latin typeface="Georgia"/>
                </a:rPr>
                <a:t>Cut</a:t>
              </a: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 the cake </a:t>
              </a:r>
              <a:r>
                <a:rPr b="1" i="1" lang="en-US" sz="3200" spc="-1" strike="noStrike" u="sng">
                  <a:solidFill>
                    <a:srgbClr val="000000"/>
                  </a:solidFill>
                  <a:uFillTx/>
                  <a:latin typeface="Georgia"/>
                </a:rPr>
                <a:t>into</a:t>
              </a: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 five piece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7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They </a:t>
              </a:r>
              <a:r>
                <a:rPr b="0" lang="en-US" sz="3200" spc="-1" strike="noStrike">
                  <a:solidFill>
                    <a:srgbClr val="ff0000"/>
                  </a:solidFill>
                  <a:latin typeface="Georgia"/>
                </a:rPr>
                <a:t>borrowed</a:t>
              </a: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 money </a:t>
              </a:r>
              <a:r>
                <a:rPr b="1" i="1" lang="en-US" sz="3200" spc="-1" strike="noStrike" u="sng">
                  <a:solidFill>
                    <a:srgbClr val="000000"/>
                  </a:solidFill>
                  <a:uFillTx/>
                  <a:latin typeface="Georgia"/>
                </a:rPr>
                <a:t>from</a:t>
              </a: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 the bank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TextBox 1" descr=""/>
          <p:cNvPicPr/>
          <p:nvPr/>
        </p:nvPicPr>
        <p:blipFill>
          <a:blip r:embed="rId1"/>
          <a:stretch/>
        </p:blipFill>
        <p:spPr>
          <a:xfrm>
            <a:off x="212760" y="231840"/>
            <a:ext cx="8864640" cy="1008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1"/>
          <p:cNvSpPr/>
          <p:nvPr/>
        </p:nvSpPr>
        <p:spPr>
          <a:xfrm>
            <a:off x="380880" y="457200"/>
            <a:ext cx="80773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. A cat was sitting _______the roof of my car. (plac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Some people were talking ___the movie. (tim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. A man was coming____ us on his bike. (direc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4. The party starts_____ six o’clock. (tim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5. She put the book ____her bag. (plac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6. We walked____ the street to the park. (plac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7. She keeps her slippers____ her bed. (plac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8. We always wash our hands ____meals. (tim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9. She ran ____the dog because she was frightened.    (direc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TextBox 3" descr=""/>
          <p:cNvPicPr/>
          <p:nvPr/>
        </p:nvPicPr>
        <p:blipFill>
          <a:blip r:embed="rId1"/>
          <a:stretch/>
        </p:blipFill>
        <p:spPr>
          <a:xfrm>
            <a:off x="1060560" y="208080"/>
            <a:ext cx="7480080" cy="1103040"/>
          </a:xfrm>
          <a:prstGeom prst="rect">
            <a:avLst/>
          </a:prstGeom>
          <a:ln w="0">
            <a:noFill/>
          </a:ln>
        </p:spPr>
      </p:pic>
      <p:sp>
        <p:nvSpPr>
          <p:cNvPr id="616" name="TextBox 4"/>
          <p:cNvSpPr/>
          <p:nvPr/>
        </p:nvSpPr>
        <p:spPr>
          <a:xfrm>
            <a:off x="304920" y="1676520"/>
            <a:ext cx="8839080" cy="273420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efinition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reposition is a word, which is used before a noun, a noun phrase or a pronoun , connecting it to another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Title 1" descr=""/>
          <p:cNvPicPr/>
          <p:nvPr/>
        </p:nvPicPr>
        <p:blipFill>
          <a:blip r:embed="rId1"/>
          <a:stretch/>
        </p:blipFill>
        <p:spPr>
          <a:xfrm>
            <a:off x="237960" y="-60480"/>
            <a:ext cx="8661600" cy="114624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 txBox="1"/>
          <p:nvPr/>
        </p:nvSpPr>
        <p:spPr>
          <a:xfrm>
            <a:off x="304560" y="1905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@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 Simple prepositions: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repositions which consists only one word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.g. in, on, at, with, against etc..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@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 Compound prepositions: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repositions which consists of two or more words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.g. instead of, in the middle of, by the side of etc..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eorgia"/>
              </a:rPr>
              <a:t>Some prepos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533520" y="1523880"/>
            <a:ext cx="8305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on, through, behind, for,  beneath, against,  beside,   over,   during, without,  abroad, across, among, against, around ,at the end, at the bottom, between, behind, below, by , inside , corner, into,  via,  after , to ,  about ,in, on, at, since ,while, under, over, right, lef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eorgia"/>
              </a:rPr>
              <a:t>Kinds of Prepos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2" name="TextBox 4" descr=""/>
          <p:cNvPicPr/>
          <p:nvPr/>
        </p:nvPicPr>
        <p:blipFill>
          <a:blip r:embed="rId1"/>
          <a:stretch/>
        </p:blipFill>
        <p:spPr>
          <a:xfrm>
            <a:off x="73080" y="1298520"/>
            <a:ext cx="78580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Title 1"/>
          <p:cNvGrpSpPr/>
          <p:nvPr/>
        </p:nvGrpSpPr>
        <p:grpSpPr>
          <a:xfrm>
            <a:off x="231840" y="133200"/>
            <a:ext cx="8972640" cy="946440"/>
            <a:chOff x="231840" y="133200"/>
            <a:chExt cx="8972640" cy="946440"/>
          </a:xfrm>
        </p:grpSpPr>
        <p:pic>
          <p:nvPicPr>
            <p:cNvPr id="624" name="Title 1" descr=""/>
            <p:cNvPicPr/>
            <p:nvPr/>
          </p:nvPicPr>
          <p:blipFill>
            <a:blip r:embed="rId1"/>
            <a:stretch/>
          </p:blipFill>
          <p:spPr>
            <a:xfrm>
              <a:off x="231840" y="133200"/>
              <a:ext cx="8972640" cy="9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301680" y="228600"/>
              <a:ext cx="88423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Georgia"/>
                </a:rPr>
                <a:t>Prepositions of Plac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TextBox 2"/>
          <p:cNvGrpSpPr/>
          <p:nvPr/>
        </p:nvGrpSpPr>
        <p:grpSpPr>
          <a:xfrm>
            <a:off x="146160" y="907920"/>
            <a:ext cx="8778600" cy="5767200"/>
            <a:chOff x="146160" y="907920"/>
            <a:chExt cx="8778600" cy="5767200"/>
          </a:xfrm>
        </p:grpSpPr>
        <p:pic>
          <p:nvPicPr>
            <p:cNvPr id="627" name="TextBox 2" descr=""/>
            <p:cNvPicPr/>
            <p:nvPr/>
          </p:nvPicPr>
          <p:blipFill>
            <a:blip r:embed="rId2"/>
            <a:stretch/>
          </p:blipFill>
          <p:spPr>
            <a:xfrm>
              <a:off x="146160" y="907920"/>
              <a:ext cx="87786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304920" y="1066680"/>
              <a:ext cx="8458200" cy="56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Some prepositions show where something happens. They are called prepositions of plac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Examples: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Ali was sitting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 under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a tre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0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There’s a wooden floor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underneath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the carpet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0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Some geese flew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over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ir hous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0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Maya and Haram were hiding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inside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wardrob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There was a tree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beside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river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0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I have a friend who lives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in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America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Title 1"/>
          <p:cNvGrpSpPr/>
          <p:nvPr/>
        </p:nvGrpSpPr>
        <p:grpSpPr>
          <a:xfrm>
            <a:off x="237960" y="189000"/>
            <a:ext cx="8661600" cy="890640"/>
            <a:chOff x="237960" y="189000"/>
            <a:chExt cx="8661600" cy="890640"/>
          </a:xfrm>
        </p:grpSpPr>
        <p:pic>
          <p:nvPicPr>
            <p:cNvPr id="630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160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of Time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TextBox 3"/>
          <p:cNvGrpSpPr/>
          <p:nvPr/>
        </p:nvGrpSpPr>
        <p:grpSpPr>
          <a:xfrm>
            <a:off x="66600" y="907920"/>
            <a:ext cx="9315360" cy="5995800"/>
            <a:chOff x="66600" y="907920"/>
            <a:chExt cx="9315360" cy="5995800"/>
          </a:xfrm>
        </p:grpSpPr>
        <p:pic>
          <p:nvPicPr>
            <p:cNvPr id="633" name="TextBox 3" descr=""/>
            <p:cNvPicPr/>
            <p:nvPr/>
          </p:nvPicPr>
          <p:blipFill>
            <a:blip r:embed="rId2"/>
            <a:stretch/>
          </p:blipFill>
          <p:spPr>
            <a:xfrm>
              <a:off x="66600" y="907920"/>
              <a:ext cx="9315360" cy="57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304920" y="1143000"/>
              <a:ext cx="8839080" cy="57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Some prepositions show when something happens. They are called prepositions of tim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Examples: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School starts at nine o’clock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We’re going to the zoo on Saturday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No, you can’t watch a video. It’s past your bedtime already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I visited my grandparents during the summer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You must finish the work by Friday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I’ll do my homework before dinner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Title 1"/>
          <p:cNvGrpSpPr/>
          <p:nvPr/>
        </p:nvGrpSpPr>
        <p:grpSpPr>
          <a:xfrm>
            <a:off x="237960" y="189000"/>
            <a:ext cx="8661600" cy="890640"/>
            <a:chOff x="237960" y="189000"/>
            <a:chExt cx="8661600" cy="890640"/>
          </a:xfrm>
        </p:grpSpPr>
        <p:pic>
          <p:nvPicPr>
            <p:cNvPr id="636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160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of Direction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TextBox 2"/>
          <p:cNvSpPr/>
          <p:nvPr/>
        </p:nvSpPr>
        <p:spPr>
          <a:xfrm>
            <a:off x="380880" y="1371600"/>
            <a:ext cx="876312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ome prepositions show where something is going. They are called prepositions of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Example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boys chased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football rolled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down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the h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 man was walking his dog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along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the riverb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freeway goes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right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through the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e were travelling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towards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Miam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Title 1"/>
          <p:cNvGrpSpPr/>
          <p:nvPr/>
        </p:nvGrpSpPr>
        <p:grpSpPr>
          <a:xfrm>
            <a:off x="237960" y="189000"/>
            <a:ext cx="8661600" cy="890640"/>
            <a:chOff x="237960" y="189000"/>
            <a:chExt cx="8661600" cy="890640"/>
          </a:xfrm>
        </p:grpSpPr>
        <p:pic>
          <p:nvPicPr>
            <p:cNvPr id="640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160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with special uses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Rectangle 3"/>
          <p:cNvSpPr/>
          <p:nvPr/>
        </p:nvSpPr>
        <p:spPr>
          <a:xfrm>
            <a:off x="609480" y="1981080"/>
            <a:ext cx="8305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Our modules are full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real life 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 ate a plate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rice and a quarter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mi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ould you like a glas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lemon ju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 need three piece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st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of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hildren in my class like Edu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re are several way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cooking Up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4"/>
          <p:cNvSpPr/>
          <p:nvPr/>
        </p:nvSpPr>
        <p:spPr>
          <a:xfrm>
            <a:off x="762120" y="1523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Usage of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 OF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8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8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9:24:32Z</dcterms:created>
  <dc:creator>Praveen</dc:creator>
  <dc:description/>
  <dc:language>en-US</dc:language>
  <cp:lastModifiedBy>CLASSIC</cp:lastModifiedBy>
  <dcterms:modified xsi:type="dcterms:W3CDTF">2020-03-29T21:51:54Z</dcterms:modified>
  <cp:revision>53</cp:revision>
  <dc:subject/>
  <dc:title>Slide 1</dc:title>
</cp:coreProperties>
</file>