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2EEC-4B3F-4643-8227-23AC8C9C6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CEAC-56DA-410D-A0C7-C5380A108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E205-63CE-4EF1-8BE2-62425F3EA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7587-1A7E-4F7F-9CF5-15CA6898D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8108-A8A4-427C-B2E9-EE754E5BC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8A42-1E6A-4A7D-ACD1-0CE9D2D73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D46E-2675-4A3E-B55B-19EA6CB7C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C3CF-7B20-4DC6-BDFF-DA57138F5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E2C1-763F-4DE0-9939-C93EF143F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4AAC-FEB5-4A63-B52B-CD68AFA3C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CD8F-856D-4D76-88AB-0610B061E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F78C-C940-4A05-8822-8549AC2F3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B9BC-0569-4B0B-BCD0-326680AE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7CCB-AFB7-4CDA-A8D9-F750761AA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BD59-2B8B-41E8-A6A3-CC5489A44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AE08-BE09-4DBC-9D34-D80F8A34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5E9A-F601-4FBC-A9F7-C3521BC2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05F1-3C64-412B-80B4-BBA3D20E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F935-EE92-4707-ABBD-F2CE71E3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18FE-E563-4B00-AB54-4D0CE8FE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FE7E-00EA-4E79-91E1-E2813C0F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992F-9765-430E-ACD6-4C3D7DDB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9C26-63A5-43C8-9914-98678F0B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F06D-ADE5-4179-841E-681F426B5A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1066680"/>
            <a:ext cx="7696080" cy="185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r>
              <a:rPr b="1" lang="en-GB" sz="6000" spc="-1" strike="noStrike">
                <a:solidFill>
                  <a:srgbClr val="000000"/>
                </a:solidFill>
                <a:latin typeface="Calibri"/>
              </a:rPr>
              <a:t>CONJUNCTION </a:t>
            </a:r>
            <a:br>
              <a:rPr sz="6000"/>
            </a:br>
            <a:br>
              <a:rPr sz="60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  <a:ea typeface="Calibri"/>
              </a:rPr>
              <a:t>By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  <a:ea typeface="Calibri"/>
              </a:rPr>
              <a:t>Tanveer Ahmed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  <a:ea typeface="Calibri"/>
              </a:rPr>
              <a:t>Visiting Lecturer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  <a:ea typeface="Calibri"/>
              </a:rPr>
              <a:t>The Islamia University of Bahawalpu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1066680" y="45720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ubordinate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295280" y="15238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762120" y="2209680"/>
            <a:ext cx="838188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to Use Common Subordinat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s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ordinate Conj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arding time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ter, before, once, since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til, when, whenever, w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ommunicate a reason/cau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, because, si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ommunicate a result/effe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order that, so, so that, 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ommunicate a condi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, even if, un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ommunicate contra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hough, even though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ugh, whe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arding loc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, where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arding a choi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n, whe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838080" y="13716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conjunctions are used to express relationships between a dependent and an independent cla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ubordinate Conjunctions cont….</a:t>
            </a:r>
            <a:br>
              <a:rPr sz="4000"/>
            </a:b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ordinate conjunctions often begin a dependent clause. If the dependent clause begins or interrupts the sentence, then it is separated from the independent clause by a comm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685800" y="3352680"/>
            <a:ext cx="8077320" cy="30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 of subordinate conjunctions i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e found the perfect broach, she purchased three outfits to match it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c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nstrates a time context. A comma is used because the conjunction begins the sentence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ore the top 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 wen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erev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nstrates a location context. Thoug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erev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gins the dependent clause, no comma is used because it does not begin the sentence or interrupt the sentence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orrelative Conjun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1219320"/>
            <a:ext cx="7848720" cy="53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lative conjunctions are two separate conjunctions that are often in sentences toget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on Correlative Conjunctions and 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oth, 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o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maro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gray accent nice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ither, 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I like to wea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it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pant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apr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ither, n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it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he shir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he jacket f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 only, but (als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 on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ne button fell off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ll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ther, 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t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 you wear nice clothes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you have to wear cloth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, so much 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It w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hat his clothes w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flamboyan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 mu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y were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flori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onjunctive Adverbs</a:t>
            </a:r>
            <a:br>
              <a:rPr sz="4000"/>
            </a:br>
            <a:br>
              <a:rPr sz="700"/>
            </a:br>
            <a:br>
              <a:rPr sz="7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njunctive adverbs provide connections and transitions that clarify or limit the meaning of words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990720" y="2133720"/>
            <a:ext cx="7619760" cy="39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to Use Common Conjunctive Adverb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s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junctive Adver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ommunicate addi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, furthermore, bes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ommunicate contra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ever, still, nevertheless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ead,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ommunicate comparis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ilarly, like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introduce a result/summary therefore, thus, consequently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ccordingly, hence,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indicate ti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, then, meanwhile, fin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ommunicate empha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eed, certai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345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njunctive Adverbs cont…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143000" y="27432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 of conjunctive adverbs in sentences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447920" y="3257640"/>
            <a:ext cx="632448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rtherm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tiletto heels are not a fad; they are classic! (Furthermore communicates an additional statement and is followed by a comma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His crimson cape caught on the skyscraper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is flying ended abruptly. (Therefore communicates a result and is preceded by a semicolon because it is in the middle of the sentenc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066680" y="114300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junctive adverbs can appear anywhere in a sentence. They should be followed by a comma and, when in the middle of a sentence, preceded by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6"/>
          <p:cNvSpPr/>
          <p:nvPr/>
        </p:nvSpPr>
        <p:spPr>
          <a:xfrm>
            <a:off x="1905120" y="22860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efinition of Conjun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143000" y="1066680"/>
            <a:ext cx="723888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word used to connect clauses or sentences or to coordinate words in the same clause (e.g. and, butt, if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 of Conjunctions…………………........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a conjunction?.............................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lid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es of Conjunctions……………....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lides 5-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ordinating Conj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ordinate Conj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relative Conj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junctive Adverb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209680" y="198108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바탕"/>
              </a:rPr>
              <a:t>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5257800" y="4343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th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4470840" y="35146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458000" y="145260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3124080" y="4191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1447920" y="3886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2514600" y="2971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wher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6400800" y="3505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7238880" y="28195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1219320" y="2819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365760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3429000" y="5029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c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5105520" y="25146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en th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838080" y="3049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ll of these words, and many more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re conjunctions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784872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imSu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7696080" y="1371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9"/>
          <p:cNvSpPr/>
          <p:nvPr/>
        </p:nvSpPr>
        <p:spPr>
          <a:xfrm>
            <a:off x="190512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y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0"/>
          <p:cNvSpPr/>
          <p:nvPr/>
        </p:nvSpPr>
        <p:spPr>
          <a:xfrm>
            <a:off x="8001000" y="3886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1"/>
          <p:cNvSpPr/>
          <p:nvPr/>
        </p:nvSpPr>
        <p:spPr>
          <a:xfrm>
            <a:off x="5638680" y="5334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2"/>
          <p:cNvSpPr/>
          <p:nvPr/>
        </p:nvSpPr>
        <p:spPr>
          <a:xfrm>
            <a:off x="1219320" y="5638680"/>
            <a:ext cx="106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3"/>
          <p:cNvSpPr/>
          <p:nvPr/>
        </p:nvSpPr>
        <p:spPr>
          <a:xfrm>
            <a:off x="5943600" y="1752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6"/>
          <p:cNvSpPr/>
          <p:nvPr/>
        </p:nvSpPr>
        <p:spPr>
          <a:xfrm>
            <a:off x="6934320" y="47242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at is a conjunction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143000" y="1833480"/>
            <a:ext cx="77724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1b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junc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the name for those common words that are used to join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onjo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parts of sentences.  Also, conjunctions may be used to begin certain sente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f81b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two different types of conjunction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ordinating conjunc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bordinating conjunc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f81b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junctions sometimes work in pairs and are call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rrelative conjunc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f81b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junctive adverb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also frequently used to provide logical connections in sente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ordinating Conjunctions</a:t>
            </a:r>
            <a:br>
              <a:rPr sz="4000"/>
            </a:br>
            <a:br>
              <a:rPr sz="18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se conjunctions are seven very common words. They are very small, made up of three or fewer letters.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142640" y="2209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en to Use Each Coordinating Conjunc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952880" y="251460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066680" y="3164040"/>
            <a:ext cx="830592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s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Conj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municate add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municate contra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, y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municate a result/eff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municate a reason/ca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municate a cho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municate a negative choi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m between two independ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u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1066680" y="3048120"/>
            <a:ext cx="77724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He only wears striped ti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lka dotted bow tie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oins two words.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The shoes were not blue sued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lack leather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oins two phrase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It wasn’t a costume party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ame dressed as literary villain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oins two independent clause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914400" y="533520"/>
            <a:ext cx="800100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ordinating Conjunctions cont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ordinating conjunctions are used to join words, phrases, and independent clau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s of coordinating conjunctions i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1143000" y="380880"/>
            <a:ext cx="7272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re Coordinating Conjunctions...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are likely used less often; however, they serve an important function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838080" y="190512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to Use Each Coordinating Conj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4270320" y="2286000"/>
            <a:ext cx="41911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838080" y="2895480"/>
            <a:ext cx="8305920" cy="38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s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Conj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municate addition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th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m between two independent clau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1143000" y="2749680"/>
            <a:ext cx="777240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He only wears brown wingtips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equent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e does not wear white socks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sequent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s two independent clauses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e shoes were not suede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y were leather.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wev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joins two independent clauses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It was not a Halloween party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thel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ny came dressed in costumes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verthel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joins two independent clauses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914400" y="533520"/>
            <a:ext cx="800100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ordinating Conjunctions cont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coordinating conjunctions are used to join independent clau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s of coordinating conjunctions i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7:24:48Z</dcterms:created>
  <dc:creator>Computer &amp; Technology</dc:creator>
  <dc:description/>
  <dc:language>en-US</dc:language>
  <cp:lastModifiedBy>CLASSIC</cp:lastModifiedBy>
  <cp:lastPrinted>2005-06-10T16:41:19Z</cp:lastPrinted>
  <dcterms:modified xsi:type="dcterms:W3CDTF">2020-03-29T21:45:25Z</dcterms:modified>
  <cp:revision>106</cp:revision>
  <dc:subject/>
  <dc:title>No Slide Title</dc:title>
</cp:coreProperties>
</file>