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3B5-34D4-4843-B130-F6E858A0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53E-7AE5-4F4A-8AFA-897F5D15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15B-8FDD-4AE8-AA8D-FA3FC5BA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5D4-A901-4811-9470-7B444D04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E955-52A6-4995-B8D2-DA708F6C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3335-54A7-49EF-ACF9-A07240E5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743D-62E3-493C-9437-DF9791AF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33AE-9D84-4A43-8BEC-37C1FDC2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88F6-5F14-4B46-98E6-4D8F984F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0E93-4352-4AF9-98F8-DC2EFDE6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26ED-C6FF-407C-8376-990098F2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81A-4CFD-4F7B-BE83-AB82AD05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6963-76D2-482A-BB5D-D7C3B0A7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BACA-326A-4A0F-AE8F-61EBE342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690F-9B06-48DC-B1C5-22CBA957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A4C2-820B-44CC-B630-1D940EFE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E7E0-8363-42C4-96BF-0E285372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215-4303-490C-A722-A57764DC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66C-52DE-49B7-B9BE-9750CC91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4AC-4949-461E-9913-C8ED496F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B2E-E87A-4A2C-A698-0BA646EC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823-562B-477B-8F21-5917FD3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341-C197-4399-979D-54222D08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B1D-C2A2-4360-9BBB-7F6E92C8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3B99-6E5B-4914-AE5B-E5E24A8D94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FA49-D57F-4B4E-93A0-389D75952E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Instructional Technology</a:t>
            </a:r>
            <a:br>
              <a:rPr sz="3300"/>
            </a:b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vs.</a:t>
            </a:r>
            <a:br>
              <a:rPr sz="3300"/>
            </a:b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Educational Technology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K. Hal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Instructional Technolog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broad te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als with the process of using technology for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cribes the technologies that facilitate access to information of all types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quisition, processing, storage, and dissemination of information in all of its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, management, and integration of instruction with tools avail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do Instructional Technologists d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and analyze problems of instructional desig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ise and implement solutions to those proble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grate people, procedures, ideas, and devices for the purpose of providing tools which enhance the learning pro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Educational Technolog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ment of teaching and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es theories of instruction, learning, behavioral and cognitive psychology to assessment, design, implementation, and evaluation of instructional mater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es research, theory, technologies, and psychology to solve instructional and performance probl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articular approach used to achieve the ends of educ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do Educational Technologists d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 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e instructional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 instructional computing services or learning resources colle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theories of cognition and research to utilize technology for the benefit of the learn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y personal definition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structional Technology 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use of technological processes as a tool specifically for teaching and learning which facilitates access to information of all typ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y personal definition: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ducational Technology i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pplication of theory, technology, and psychology to achieve the goal of education and enhance the learning of individu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would seem that Instructional and Educational Technology are synonymous.  The simple definition for each makes the distinction of their differen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al Technology is the t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Technology is the procedure for using that t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4:06:43Z</dcterms:created>
  <dc:creator>Randy Hall</dc:creator>
  <dc:description/>
  <dc:language>en-US</dc:language>
  <cp:lastModifiedBy>Randy Hall</cp:lastModifiedBy>
  <dcterms:modified xsi:type="dcterms:W3CDTF">2003-09-25T03:11:44Z</dcterms:modified>
  <cp:revision>10</cp:revision>
  <dc:subject/>
  <dc:title>Instructional Technology vs Educational Technology</dc:title>
</cp:coreProperties>
</file>