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1149-9A0A-4134-8A1B-0DC0DBD32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0F2B-9D00-456C-91C0-C577C912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D79D-DA54-4F0F-8A90-34318961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70DE-38C8-4552-B99E-FB9754582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3D1A-C2EF-4451-AED8-80B0FEC2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87F8-B229-4D63-857B-D2F937F5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4BAA-4AD4-478D-8CD1-FAE1D679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F9FB-D470-4166-9EF2-0F73EFFD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DC05-190A-49C9-956E-73409C7D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8B26-1F04-4BD9-B3CC-C1A16FDA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3580-85D7-493B-B214-EB9558C7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7170-8CFA-49D5-85C5-C9772EF8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F972-56E1-453D-9C9F-3B0AB942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07E7-7408-4636-9789-D32E9C52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2674-BF98-4D94-8ADD-E72EF258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98D9-6FCC-4A70-AB34-1A2CEE31F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0502-1395-4ABE-9419-AE47F6C7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A647-0346-495F-9BC1-9EBBAC2B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7919-8CEB-4837-87FA-82A164DD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4BD4-3939-402F-A94A-545A2942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BE54-79C0-4B39-8CA2-1948D4CD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6180-2AE4-4842-8653-518DB09C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892A-81A1-4CEF-A5CD-2465C11E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E4DC-52FD-42CD-8FB8-24B7D7AE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A063-EFF3-4D72-A2AB-B94A20D9C80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F966-6C28-4B3B-AFBB-9D4D7B0571F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66"/>
                </a:solidFill>
                <a:latin typeface="Arial"/>
              </a:rPr>
              <a:t>Instructional Technology</a:t>
            </a:r>
            <a:br>
              <a:rPr sz="3300"/>
            </a:br>
            <a:r>
              <a:rPr b="1" lang="en-US" sz="3300" spc="-1" strike="noStrike">
                <a:solidFill>
                  <a:srgbClr val="003366"/>
                </a:solidFill>
                <a:latin typeface="Arial"/>
              </a:rPr>
              <a:t>vs.</a:t>
            </a:r>
            <a:br>
              <a:rPr sz="3300"/>
            </a:br>
            <a:r>
              <a:rPr b="1" lang="en-US" sz="3300" spc="-1" strike="noStrike">
                <a:solidFill>
                  <a:srgbClr val="003366"/>
                </a:solidFill>
                <a:latin typeface="Arial"/>
              </a:rPr>
              <a:t>Educational Technology</a:t>
            </a: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y K. Hal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Instructional Technolog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broad ter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als with the process of using technology for instru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scribes the technologies that facilitate access to information of all types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quisition, processing, storage, and dissemination of information in all of its for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aluation, management, and integration of instruction with tools availab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What do Instructional Technologists do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dentify and analyze problems of instructional desig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ise and implement solutions to those problem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grate people, procedures, ideas, and devices for the purpose of providing tools which enhance the learning proc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Educational Technolog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velopment of teaching and lear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plies theories of instruction, learning, behavioral and cognitive psychology to assessment, design, implementation, and evaluation of instructional materi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plies research, theory, technologies, and psychology to solve instructional and performance proble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particular approach used to achieve the ends of educatio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What do Educational Technologists do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ign instr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duce instructional materi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age instructional computing services or learning resources collec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ly theories of cognition and research to utilize technology for the benefit of the learn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y personal definition: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structional Technology is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use of technological processes as a tool specifically for teaching and learning which facilitates access to information of all typ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y personal definition: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ducational Technology is: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application of theory, technology, and psychology to achieve the goal of education and enhance the learning of individua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would seem that Instructional and Educational Technology are synonymous.  The simple definition for each makes the distinction of their differenc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tructional Technology is the t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ducational Technology is the procedure for using that t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04:06:43Z</dcterms:created>
  <dc:creator>Randy Hall</dc:creator>
  <dc:description/>
  <dc:language>en-US</dc:language>
  <cp:lastModifiedBy>Randy Hall</cp:lastModifiedBy>
  <dcterms:modified xsi:type="dcterms:W3CDTF">2003-09-25T03:11:44Z</dcterms:modified>
  <cp:revision>10</cp:revision>
  <dc:subject/>
  <dc:title>Instructional Technology vs Educational Technology</dc:title>
</cp:coreProperties>
</file>