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764B-C620-4799-9CC0-6F77D6DF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04DD-3DB8-4C51-A061-D6B19CD4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62A3-6884-4D6B-AA40-ED2EE070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4F69-3690-4E34-8A68-C58D46B7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B096-6D4E-475E-A102-B1D0BA30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F34A-4798-4B27-B39C-34A1DBCC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D274-C10F-498B-B3A4-630EE78C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373A-8036-4ADE-9201-89BAE18B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459A-0951-4B4D-AE3E-AB92B217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0883-D1A9-48FA-9030-6E46C548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1905-05EE-48A1-B6ED-25C79BDE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2FF9-169E-4563-B8FD-AE0FC71B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A6D0-531B-44AE-B21E-E9DBAE47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A79F-8AA0-4A49-802E-A87F5880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39B0-6C64-423F-90C5-41CF4AD0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1A87-E3AD-4FB4-8D11-4305648A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CB8B-483C-4C55-AE95-AD994AF4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82A0-D925-4DAB-964F-4B2B0050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7A42-7894-4015-836E-7048B7AE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18BF-0970-41DE-8FBC-176324CB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4A52-5040-45DC-A5A4-1E0D186A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C58D-A5FD-4EF8-B559-32E291F9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B094-A623-4CE3-96A1-06AC7562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18B2-14E2-45EC-AD16-9B8C850D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B4A6-0C70-4EED-B798-54B76C861AE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5AD8-6345-4E62-B52C-57662D9B0C0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Instructional Technology</a:t>
            </a:r>
            <a:br>
              <a:rPr sz="3300"/>
            </a:b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vs.</a:t>
            </a:r>
            <a:br>
              <a:rPr sz="3300"/>
            </a:b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Educational Technology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y K. Hal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Instructional Technolog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broad ter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als with the process of using technology for instru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cribes the technologies that facilitate access to information of all types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quisition, processing, storage, and dissemination of information in all of its for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aluation, management, and integration of instruction with tools availab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hat do Instructional Technologists do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y and analyze problems of instructional desig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ise and implement solutions to those proble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grate people, procedures, ideas, and devices for the purpose of providing tools which enhance the learning proc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Educational Technolog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velopment of teaching and lear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lies theories of instruction, learning, behavioral and cognitive psychology to assessment, design, implementation, and evaluation of instructional materi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lies research, theory, technologies, and psychology to solve instructional and performance proble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particular approach used to achieve the ends of educati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hat do Educational Technologists do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ign i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duce instructional materi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ge instructional computing services or learning resources collec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y theories of cognition and research to utilize technology for the benefit of the learn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y personal definition: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structional Technology i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use of technological processes as a tool specifically for teaching and learning which facilitates access to information of all typ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y personal definition: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ducational Technology is: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application of theory, technology, and psychology to achieve the goal of education and enhance the learning of individua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would seem that Instructional and Educational Technology are synonymous.  The simple definition for each makes the distinction of their differenc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tructional Technology is the t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ducational Technology is the procedure for using that t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4:06:43Z</dcterms:created>
  <dc:creator>Randy Hall</dc:creator>
  <dc:description/>
  <dc:language>en-US</dc:language>
  <cp:lastModifiedBy>Randy Hall</cp:lastModifiedBy>
  <dcterms:modified xsi:type="dcterms:W3CDTF">2003-09-25T03:11:44Z</dcterms:modified>
  <cp:revision>10</cp:revision>
  <dc:subject/>
  <dc:title>Instructional Technology vs Educational Technology</dc:title>
</cp:coreProperties>
</file>