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8D4-2765-4387-AE1E-695D9940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D49-3E4F-4DCD-93F5-6326C2C6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BC6-7752-4A36-9390-F9681D15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8C7-4405-4D29-9E6E-DB962ACC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226-6261-40E3-9934-8480BE66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144F-972C-48D1-8F14-5961ACDD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5699-4DB1-4A87-9508-F1E5861C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A41C-3AED-4968-AFF7-F3956020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44F3-694D-47B5-9F91-920D8886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6513-51E4-4617-AB2F-54165A7E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FAB8-3C36-47EC-BF7B-2548895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F89-F3BD-4616-92DA-9AE3694A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9B1A-9EEF-4A02-9FA1-CDE2D120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0F7E-81CB-40D9-AF74-9FC652F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0855-CC8B-4C46-AC1E-9D8AD0FC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372C-789C-4DF7-9790-5D48CCF5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B345-326C-4B11-9B2D-83B9FF7D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6A5-3262-446F-AA61-6F1A08E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335-C9C3-4984-861A-BDC9DC29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081-F4DD-46C5-92DD-9772CE40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A7E-D174-4726-9D6D-84D06A28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9C9-D6A4-4CF1-B4DD-27222E2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759-EFC2-4072-8C1E-0DE63177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B19-D075-4E8B-A83F-19E8B56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99F5-A69F-4D56-A047-4876F55408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57A4-4D8E-408B-9E06-A3A78D801A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Instructional Technology</a:t>
            </a:r>
            <a:br>
              <a:rPr sz="3300"/>
            </a:b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vs.</a:t>
            </a:r>
            <a:br>
              <a:rPr sz="3300"/>
            </a:b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Educational Technology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K. Hal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Instructional Technolog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road te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als with the process of using technology for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bes the technologies that facilitate access to information of all type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quisition, processing, storage, and dissemination of information in all of its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, management, and integration of instruction with tools avail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do Instructional Technologists d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and analyze problems of instructional desig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se and implement solutions to those probl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grate people, procedures, ideas, and devices for the purpose of providing tools which enhance the learning pro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Educational Technolog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ment of teaching and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es theories of instruction, learning, behavioral and cognitive psychology to assessment, design, implementation, and evaluation of instructional mater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es research, theory, technologies, and psychology to solve instructional and performance probl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articular approach used to achieve the ends of educ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do Educational Technologists d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 instructional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 instructional computing services or learning resources colle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theories of cognition and research to utilize technology for the benefit of the lear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y personal definition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tructional Technology 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use of technological processes as a tool specifically for teaching and learning which facilitates access to information of all ty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y personal definition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ducational Technology i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pplication of theory, technology, and psychology to achieve the goal of education and enhance the learning of individu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would seem that Instructional and Educational Technology are synonymous.  The simple definition for each makes the distinction of their differe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al Technology is the t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Technology is the procedure for using that t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4:06:43Z</dcterms:created>
  <dc:creator>Randy Hall</dc:creator>
  <dc:description/>
  <dc:language>en-US</dc:language>
  <cp:lastModifiedBy>Randy Hall</cp:lastModifiedBy>
  <dcterms:modified xsi:type="dcterms:W3CDTF">2003-09-25T03:11:44Z</dcterms:modified>
  <cp:revision>10</cp:revision>
  <dc:subject/>
  <dc:title>Instructional Technology vs Educational Technology</dc:title>
</cp:coreProperties>
</file>