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bbd7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8bbd71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9F0C-5ABA-4148-9A04-AD81BA3C7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F591-3893-46B2-9872-CF88DAE359C2}" type="slidenum">
              <a:rPr b="0" lang="en-US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EE6D-A633-4021-AB03-D27E8FC10A04}" type="slidenum">
              <a:rPr b="0" lang="en-US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01FC-2F09-4808-88B4-9972B3362D25}" type="slidenum">
              <a:rPr b="0" lang="en-US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9B14-4B3B-4EEC-AA5E-2DEDA3443E74}" type="slidenum">
              <a:rPr b="0" lang="en-US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E802-8274-46F8-8CEF-E2B5272E7AE8}" type="slidenum">
              <a:rPr b="0" lang="en-US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0156-F169-47F8-BBC7-93016D83E8E7}" type="slidenum">
              <a:rPr b="0" lang="en-US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395D-1A16-4DC1-BB17-D1EAE58E0061}" type="slidenum">
              <a:rPr b="0" lang="en-US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A306-EEC1-49D1-869A-FA3275A12DE8}" type="slidenum">
              <a:rPr b="0" lang="en-US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8287-BEAA-4EB7-95E5-03B6CE31824B}" type="slidenum">
              <a:rPr b="0" lang="en-US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A51-0EC6-4413-83A1-5FC9BDC6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35CB-23AD-47E1-967E-91073889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C04-5CEF-413E-88E0-0DE21847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523-18E3-49BE-8A78-8C5C3BA6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838B-4F83-4450-96FF-127C55B3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CC4D-EB6E-415A-A40B-AE055BBB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6D41-D089-4048-9CD5-7872BEA1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AB16-5202-464C-A59E-6B007254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C9B6-2995-4ED5-968B-C7E54764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D03A-CC9F-4A7A-98B4-0D054590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E84B-AFB3-4368-BB41-396DF03C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0AE2-4350-4D88-B758-4AE66736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2B4C-842C-416D-B035-AAD62E56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78EB-7BC4-40E2-B3A9-0766C699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F7E3-6888-4027-8CB7-D42E8131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AD8D-CE4F-4C53-90E0-5745CDC7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CD40-863E-400D-AFBB-19D043DE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E46EB-2A76-4C32-878A-A0BB8743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98DF10-F5A9-4F3A-828A-A89C631B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D8A29-2DEC-45C1-A06A-019036CB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0E903-E469-46F9-9E7E-218DE2AE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EDE865-8A24-4779-81A2-44399BC0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C40-57BB-427C-9367-626849A9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BC21E-5281-4FAF-82F9-D60A3B49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4F71B-A8B8-40FA-A6D6-8CCC3B6F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44EBE-8DFE-4C48-8AC1-C55A75C1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9FF74-DCA5-4A8F-8068-743AEF7C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B7C44-7709-4068-A06B-454E0555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F102C-E14C-4B02-886A-B29568F0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F4BD22-A811-4215-AC42-CF168854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875FF8-F3F9-4EF3-A02F-3B2AF998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B20238-E81F-428C-9E41-01B156CA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FD8F7F-07D0-44B4-9C62-26578065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A0A1-2707-4EB8-8815-B2A576DB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1F762E-17F2-4EB4-B230-6935637E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A9ECE2-3662-4C24-ACCA-6BE8B69B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F88D23-9484-4312-A330-20EA289B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EA5454-3B74-4260-A466-951F7D25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D1EED3-782F-4368-A304-AE19EA62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7B1BB4-690D-433D-8C7E-FB0E9FDB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A6AB26-160A-42F0-81AD-7512C104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076E9D-A13A-4620-B602-43059FEA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E67436-A1E7-4C8C-ADAD-EF733B90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6E2C3-FEB7-414F-96BE-057BC7A9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CA7-031E-41AB-A46F-0C62680A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48553-3635-46BA-95A7-98D6F815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127E5-5327-402D-A87E-1EA07AFE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431A35-62ED-41E3-9046-37936FD4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07030A-75A1-40CB-A551-F9262C35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DB4862-77BA-4935-B50F-376F1B63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FDB29-9841-4ADD-91DF-8AEAB078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31D4EF-D337-4A84-BC44-9F08D45C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3372BE-73B8-4363-836B-2A7A4329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3D894-65D7-4C14-A594-BE2B9780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CBB12E-8285-4040-9C2F-02EEABF3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B79-F0E8-4D8B-8B7B-ECA7E3C7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C2C1B-5994-4F8C-B710-D0EF2CEF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CF546-5C44-40AD-AEBA-9589450C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B5578-F577-4EF4-8697-825BC500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EB922-9C22-445E-9EC2-3E741A02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10A15-B2FE-40D6-948A-8E24799A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5AA7E-BCBF-4388-89D0-D417BD47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3FBFB-3C0B-408E-88FC-F3858A19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3FF54-0C9C-4AB6-B9DD-F52AF429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9BC8D-E890-4376-B643-9A92B023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4AD95-D61A-44D9-A384-F44A3847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913-4973-425F-AF6D-8DDEDD7C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79C48-794B-475B-9178-911B2ADD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AD47E-F51A-4E2C-8D48-AB6BD969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A11D1-3E4C-4EDF-8583-4B4A16C5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6DDE63-F026-45AB-9427-52C85BD1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BACD17-4369-4031-8879-EAC1D8A9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B60541-666E-4203-BBBE-665B29FA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F87EBD-7BC3-45D3-880E-27850289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D00175-3D8B-4171-83AB-2DBA3BDB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C3B33C-2276-4018-9647-D3189399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95717A-E239-495F-AA68-C5A776A8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DED-588E-4DC1-91B7-CE83150F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AC8DAB-1027-4F5D-BED5-65F624A5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6A5B1F-F958-4E60-9B65-98F9C21B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4F078C-8C58-40C2-9286-FD915947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5A83E-D1C1-4B86-B7CC-9936CEA5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13BF3E-946F-4D5A-AB49-056EF489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1C966-A993-409F-891D-48F9DA50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6C6FE-E966-4AAD-889C-B1A1EC30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5428B-A644-418C-A7FF-004A8321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BEB8B-6FE7-4AF2-9CC3-1BA2649F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4C2C6-A797-4134-8C9A-40212C60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E73-B721-4C5E-A9FF-C63510E7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31D0B-0E75-45C1-A1F1-CF924E4F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590F8-9DB3-4AD2-B924-53EC8D1D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F4D3E-AAA6-4AAC-A360-E60F63AE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3C1DB-DFEB-4566-BDDD-1E134BA7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CF08B-223E-4DC2-BFDE-205AC745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EA4BE-60B1-46D2-9EB7-844053BA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2631F-CF37-4D36-A737-73A9B674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aad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adad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527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8bbd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EFF2-0755-49DC-B39A-F0071FF01F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527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8bbd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bbd7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8bbd7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99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99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99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aad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99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adad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99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99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99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bbd7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1BDB-EF36-4915-8236-CEBDDD0F926F}" type="slidenum">
              <a:rPr b="1" lang="en-US" sz="1400" spc="-1" strike="noStrike">
                <a:solidFill>
                  <a:srgbClr val="8bbd7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527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8bbd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aad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adad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8E27-B7B9-4845-923F-642EBF4413E7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527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8bbd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aad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adad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9CF5-6A6C-4619-82D8-F7BA2C8E4D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527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8bbd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aad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adad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71B5-FBFF-44A4-9EB0-49F3973DA1C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aad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adad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7371-BCF9-48A7-9BB4-CE9F7728840A}" type="slidenum"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527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8bbd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aad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adad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7043-266E-4811-81BE-AE711734573A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8bbd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527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aad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adad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45EB-FC57-4DB2-A9D0-99877B2944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mu.edu/aca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175248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bbd71"/>
                </a:solidFill>
                <a:latin typeface="Calibri"/>
              </a:rPr>
              <a:t>LEARNING STYLES</a:t>
            </a:r>
            <a:endParaRPr b="0" lang="en-US" sz="6000" spc="-1" strike="noStrike">
              <a:solidFill>
                <a:srgbClr val="8bbd71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nowing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you learn can make all the difference.</a:t>
            </a:r>
            <a:endParaRPr b="0" lang="en-US" sz="2400" spc="-1" strike="noStrike">
              <a:solidFill>
                <a:srgbClr val="ffff99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Calibri"/>
              </a:rPr>
              <a:t>Learning Styles—an Overview</a:t>
            </a:r>
            <a:endParaRPr b="0" lang="en-US" sz="5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560" y="2057040"/>
            <a:ext cx="4647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Visual – 40% of population.</a:t>
            </a:r>
            <a:endParaRPr b="0" lang="en-US" sz="26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Auditory – 30% of population.</a:t>
            </a:r>
            <a:endParaRPr b="0" lang="en-US" sz="26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Kinesthetic – 30% of population.</a:t>
            </a:r>
            <a:endParaRPr b="0" lang="en-US" sz="26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8000"/>
                </a:solidFill>
                <a:latin typeface="Calibri"/>
              </a:rPr>
              <a:t>NOTE: 100% of population uses a combination of all three styles listed above.  Most often one type is dominant.</a:t>
            </a: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</p:txBody>
      </p:sp>
      <p:pic>
        <p:nvPicPr>
          <p:cNvPr id="361" name="Picture 4" descr="C:\Documents and Settings\wirichar\Local Settings\Temporary Internet Files\Content.IE5\PEBU3Z8D\MPj04386120000[1].jpg"/>
          <p:cNvPicPr/>
          <p:nvPr/>
        </p:nvPicPr>
        <p:blipFill>
          <a:blip r:embed="rId1"/>
          <a:stretch/>
        </p:blipFill>
        <p:spPr>
          <a:xfrm>
            <a:off x="5105520" y="1600200"/>
            <a:ext cx="3352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alibri"/>
              </a:rPr>
              <a:t>Why it is important to understand your learning style?</a:t>
            </a:r>
            <a:endParaRPr b="0" lang="en-US" sz="28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Better major selection.</a:t>
            </a:r>
            <a:endParaRPr b="0" lang="en-US" sz="27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You want to choose a major that caters to your dominant learning style.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If you are a kinesthetic learner, a Construction Management major is a good fit.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On the other hand, if you are an auditory learner you will want to purse a major that contains a majority of lecture courses.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Better strategy in choosing courses that are aligned with how you learn.</a:t>
            </a:r>
            <a:endParaRPr b="0" lang="en-US" sz="27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If you are undecided about your major, knowing your learning style can help you avoid courses in which you know you will struggle.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Lecture course versus a Lab course?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Strategize ways to do better in your courses.</a:t>
            </a:r>
            <a:endParaRPr b="0" lang="en-US" sz="27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Once you identify your learning preference, you can focus better on required program courses that you know are going to be difficult.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Your choice of study group partners or tutoring formats can be informed by your learning style preference.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8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Calibri"/>
              </a:rPr>
              <a:t>Visual Learners </a:t>
            </a:r>
            <a:endParaRPr b="0" lang="en-US" sz="5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09120" y="1980720"/>
            <a:ext cx="5712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Visual Learners typically…</a:t>
            </a:r>
            <a:endParaRPr b="0" lang="en-US" sz="27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Remember what was read or seen in a presentation. </a:t>
            </a:r>
            <a:endParaRPr b="0" lang="en-US" sz="2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Don't retain what they hear over a long period of time.</a:t>
            </a:r>
            <a:endParaRPr b="0" lang="en-US" sz="2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Think in pictures, use “scenes” to describe.</a:t>
            </a:r>
            <a:endParaRPr b="0" lang="en-US" sz="2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Have vivid imaginations. </a:t>
            </a:r>
            <a:endParaRPr b="0" lang="en-US" sz="2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Associate color with information. </a:t>
            </a:r>
            <a:endParaRPr b="0" lang="en-US" sz="2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Remember faces, but not names. </a:t>
            </a:r>
            <a:endParaRPr b="0" lang="en-US" sz="2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Like written reports better than verbal ones. </a:t>
            </a:r>
            <a:endParaRPr b="0" lang="en-US" sz="2400" spc="-1" strike="noStrike">
              <a:solidFill>
                <a:srgbClr val="008000"/>
              </a:solidFill>
              <a:latin typeface="Tw Cen MT"/>
            </a:endParaRPr>
          </a:p>
        </p:txBody>
      </p:sp>
      <p:pic>
        <p:nvPicPr>
          <p:cNvPr id="366" name="Picture 5" descr="C:\Documents and Settings\wirichar\Local Settings\Temporary Internet Files\Content.IE5\VUSEQ9CJ\MCj04405870000[1].wmf"/>
          <p:cNvPicPr/>
          <p:nvPr/>
        </p:nvPicPr>
        <p:blipFill>
          <a:blip r:embed="rId1"/>
          <a:stretch/>
        </p:blipFill>
        <p:spPr>
          <a:xfrm>
            <a:off x="7010280" y="15238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C:\Documents and Settings\wirichar\Local Settings\Temporary Internet Files\Content.IE5\08SKWR8F\MCj04405840000[1].png"/>
          <p:cNvPicPr/>
          <p:nvPr/>
        </p:nvPicPr>
        <p:blipFill>
          <a:blip r:embed="rId2"/>
          <a:stretch/>
        </p:blipFill>
        <p:spPr>
          <a:xfrm>
            <a:off x="7010280" y="3276720"/>
            <a:ext cx="1803600" cy="1600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C:\Documents and Settings\wirichar\Local Settings\Temporary Internet Files\Content.IE5\PEBU3Z8D\MCj04405930000[1].wmf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Calibri"/>
              </a:rPr>
              <a:t>Auditory Learners</a:t>
            </a:r>
            <a:endParaRPr b="0" lang="en-US" sz="5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352320" y="2057400"/>
            <a:ext cx="54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Calibri"/>
              </a:rPr>
              <a:t>Auditory Learners typically…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8000"/>
                </a:solidFill>
                <a:latin typeface="Calibri"/>
              </a:rPr>
              <a:t>Remember what they hear in a lecture or presentation. Or even during a conversation.</a:t>
            </a:r>
            <a:endParaRPr b="0" lang="en-US" sz="1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8000"/>
                </a:solidFill>
                <a:latin typeface="Calibri"/>
              </a:rPr>
              <a:t>Talk while they write. </a:t>
            </a:r>
            <a:endParaRPr b="0" lang="en-US" sz="1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8000"/>
                </a:solidFill>
                <a:latin typeface="Calibri"/>
              </a:rPr>
              <a:t>Are sophisticated speakers.</a:t>
            </a:r>
            <a:endParaRPr b="0" lang="en-US" sz="1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8000"/>
                </a:solidFill>
                <a:latin typeface="Calibri"/>
              </a:rPr>
              <a:t>Remember by listening, and therefore get the most out of lectures. </a:t>
            </a:r>
            <a:endParaRPr b="0" lang="en-US" sz="1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8000"/>
                </a:solidFill>
                <a:latin typeface="Calibri"/>
              </a:rPr>
              <a:t>Assign little meaning to concepts or information until that information is presented in an audible format.</a:t>
            </a:r>
            <a:endParaRPr b="0" lang="en-US" sz="19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pic>
        <p:nvPicPr>
          <p:cNvPr id="371" name="Picture 4" descr="C:\Documents and Settings\wirichar\Local Settings\Temporary Internet Files\Content.IE5\DNG1S9YC\MCj03349760000[1].wmf"/>
          <p:cNvPicPr/>
          <p:nvPr/>
        </p:nvPicPr>
        <p:blipFill>
          <a:blip r:embed="rId1"/>
          <a:stretch/>
        </p:blipFill>
        <p:spPr>
          <a:xfrm>
            <a:off x="228600" y="2819520"/>
            <a:ext cx="2698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Calibri"/>
              </a:rPr>
              <a:t>Kinesthetic Learners</a:t>
            </a:r>
            <a:endParaRPr b="0" lang="en-US" sz="5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0520" y="21337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Calibri"/>
              </a:rPr>
              <a:t>Kinesthetic Learners typically…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Want to move all the time…they want to be busy!</a:t>
            </a:r>
            <a:endParaRPr b="0" lang="en-US" sz="18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Are well coordinated.</a:t>
            </a:r>
            <a:endParaRPr b="0" lang="en-US" sz="18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Are “doers”, not big “talkers”.</a:t>
            </a:r>
            <a:endParaRPr b="0" lang="en-US" sz="18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Like to take things apart, put them back together to learn how things work.</a:t>
            </a:r>
            <a:endParaRPr b="0" lang="en-US" sz="18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Need concrete experiences to act as learning aides.</a:t>
            </a:r>
            <a:endParaRPr b="0" lang="en-US" sz="18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w Cen MT"/>
            </a:endParaRPr>
          </a:p>
        </p:txBody>
      </p:sp>
      <p:pic>
        <p:nvPicPr>
          <p:cNvPr id="374" name="Picture 10" descr="C:\Documents and Settings\wirichar\Local Settings\Temporary Internet Files\Content.IE5\8RGB9QQK\MPj04394320000[1].jpg"/>
          <p:cNvPicPr/>
          <p:nvPr/>
        </p:nvPicPr>
        <p:blipFill>
          <a:blip r:embed="rId1"/>
          <a:stretch/>
        </p:blipFill>
        <p:spPr>
          <a:xfrm>
            <a:off x="4724280" y="2286000"/>
            <a:ext cx="3857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alibri"/>
              </a:rPr>
              <a:t>Break it down…</a:t>
            </a: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So how do you know which is your dominant learning style?</a:t>
            </a:r>
            <a:endParaRPr b="0" lang="en-US" sz="20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Take a learning style assessment. </a:t>
            </a:r>
            <a:endParaRPr b="0" lang="en-US" sz="20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Usually available from your adviser.</a:t>
            </a:r>
            <a:endParaRPr b="0" lang="en-US" sz="20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Sometimes UN 100 textbooks contain them.</a:t>
            </a:r>
            <a:endParaRPr b="0" lang="en-US" sz="20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ACAC can provide them.</a:t>
            </a:r>
            <a:endParaRPr b="0" lang="en-US" sz="20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Some available online for FREE.</a:t>
            </a:r>
            <a:endParaRPr b="0" lang="en-US" sz="20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Analyze the results…what do they </a:t>
            </a:r>
            <a:r>
              <a:rPr b="0" i="1" lang="en-US" sz="2000" spc="-1" strike="noStrike">
                <a:solidFill>
                  <a:srgbClr val="008000"/>
                </a:solidFill>
                <a:latin typeface="Calibri"/>
              </a:rPr>
              <a:t>mean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8000"/>
                </a:solidFill>
                <a:latin typeface="Calibri"/>
              </a:rPr>
              <a:t>Discuss them with your academic adviser.</a:t>
            </a: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8000"/>
                </a:solidFill>
                <a:latin typeface="Calibri"/>
              </a:rPr>
              <a:t>What are the strengths of your learning style?</a:t>
            </a: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8000"/>
                </a:solidFill>
                <a:latin typeface="Calibri"/>
              </a:rPr>
              <a:t>What are the challenges?</a:t>
            </a: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8000"/>
                </a:solidFill>
                <a:latin typeface="Calibri"/>
              </a:rPr>
              <a:t>What are some strategies you can use to be more successful – particularly in your current classes?</a:t>
            </a: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Refer to the following slides for applied techniques for each learning style.</a:t>
            </a:r>
            <a:endParaRPr b="0" lang="en-US" sz="18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alibri"/>
              </a:rPr>
              <a:t>Applied techniques</a:t>
            </a: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8000"/>
                </a:solidFill>
                <a:uFillTx/>
                <a:latin typeface="Calibri"/>
              </a:rPr>
              <a:t>Visual Learners</a:t>
            </a:r>
            <a:r>
              <a:rPr b="0" lang="en-US" sz="1700" spc="-1" strike="noStrike">
                <a:solidFill>
                  <a:srgbClr val="008000"/>
                </a:solidFill>
                <a:latin typeface="Calibri"/>
              </a:rPr>
              <a:t>: </a:t>
            </a: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Write out everything for frequent and quick visual review. 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Use color coding when learning new concepts and words.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Use outlines of reading assignments which cover key points and guide reading. 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Use notes and flash cards for review of material, vocabulary, and terminology for specific course s.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Review textbook during relevant lecture component.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8000"/>
                </a:solidFill>
                <a:uFillTx/>
                <a:latin typeface="Calibri"/>
              </a:rPr>
              <a:t>Auditory Learners</a:t>
            </a:r>
            <a:r>
              <a:rPr b="0" lang="en-US" sz="1700" spc="-1" strike="noStrike">
                <a:solidFill>
                  <a:srgbClr val="008000"/>
                </a:solidFill>
                <a:latin typeface="Calibri"/>
              </a:rPr>
              <a:t>:</a:t>
            </a: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alibri"/>
              </a:rPr>
              <a:t>The student should position themselves in the classroom or lecture hall so that he/she can hear lectures and review them frequently.</a:t>
            </a:r>
            <a:endParaRPr b="0" lang="en-US" sz="13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alibri"/>
              </a:rPr>
              <a:t>Read written material  aloud (restate in your own words) .</a:t>
            </a:r>
            <a:endParaRPr b="0" lang="en-US" sz="13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alibri"/>
              </a:rPr>
              <a:t>Verbally review spelling words and lectures with another person - practice verbal repetition .</a:t>
            </a:r>
            <a:endParaRPr b="0" lang="en-US" sz="13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alibri"/>
              </a:rPr>
              <a:t>Record  lectures (with instructor permission).</a:t>
            </a:r>
            <a:endParaRPr b="0" lang="en-US" sz="13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8000"/>
                </a:solidFill>
                <a:uFillTx/>
                <a:latin typeface="Calibri"/>
              </a:rPr>
              <a:t>Kinesthetic Learners</a:t>
            </a:r>
            <a:r>
              <a:rPr b="0" lang="en-US" sz="1700" spc="-1" strike="noStrike">
                <a:solidFill>
                  <a:srgbClr val="008000"/>
                </a:solidFill>
                <a:latin typeface="Calibri"/>
              </a:rPr>
              <a:t>:</a:t>
            </a: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alibri"/>
              </a:rPr>
              <a:t>Study in short blocks of time rather than extended periods .</a:t>
            </a:r>
            <a:endParaRPr b="0" lang="en-US" sz="13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alibri"/>
              </a:rPr>
              <a:t>Have as many experimental learning opportunities as possible, such as lab and studio courses, as opposed to straight lecture classes - if you have a choice job shadowing, internships, etc.</a:t>
            </a:r>
            <a:endParaRPr b="0" lang="en-US" sz="13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alibri"/>
              </a:rPr>
              <a:t>Use this info when selecting courses.</a:t>
            </a:r>
            <a:endParaRPr b="0" lang="en-US" sz="13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alibri"/>
              </a:rPr>
              <a:t>Use flash cards. </a:t>
            </a:r>
            <a:endParaRPr b="0" lang="en-US" sz="13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609120" y="205704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This PowerPoint presentation is the property of Northern Michigan University’s Academic &amp; Career Advisement Center.  It may not be reproduced without written consent.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363636"/>
                </a:solidFill>
                <a:uFillTx/>
                <a:latin typeface="Tw Cen MT"/>
                <a:hlinkClick r:id="rId1"/>
              </a:rPr>
              <a:t>www.nmu.edu/acac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3:38:10Z</dcterms:created>
  <dc:creator>Registered User</dc:creator>
  <dc:description/>
  <dc:language>en-US</dc:language>
  <cp:lastModifiedBy>Windows User</cp:lastModifiedBy>
  <dcterms:modified xsi:type="dcterms:W3CDTF">2020-04-04T09:22:54Z</dcterms:modified>
  <cp:revision>34</cp:revision>
  <dc:subject/>
  <dc:title>Learning Styles</dc:title>
</cp:coreProperties>
</file>