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wmf" ContentType="image/x-wmf"/>
  <Override PartName="/ppt/media/image7.wmf" ContentType="image/x-wmf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bbd7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8bbd71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E7C1-97AA-451C-B353-CA83965F3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9B77-7835-42A5-872F-64CE84F9AECB}" type="slidenum">
              <a:rPr b="0" lang="en-US" sz="12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3A3A-19E0-4469-919C-A48B8476A520}" type="slidenum">
              <a:rPr b="0" lang="en-US" sz="12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B259-EB05-4F89-AF40-B8963AE025BA}" type="slidenum">
              <a:rPr b="0" lang="en-US" sz="12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BFAF-CBC7-4F03-A7AA-6BA8D5102221}" type="slidenum">
              <a:rPr b="0" lang="en-US" sz="12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066A-C229-4F17-9E10-C90DC1174790}" type="slidenum">
              <a:rPr b="0" lang="en-US" sz="12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F8F4-B7A2-49A5-BE32-02F3D579DBDD}" type="slidenum">
              <a:rPr b="0" lang="en-US" sz="12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FF6A-36CB-4583-A3E7-6182DF146254}" type="slidenum">
              <a:rPr b="0" lang="en-US" sz="12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ABA2-D2CF-401A-B66C-5C7C289B505C}" type="slidenum">
              <a:rPr b="0" lang="en-US" sz="12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D887-596E-4F77-ADA1-2BAF7A213209}" type="slidenum">
              <a:rPr b="0" lang="en-US" sz="12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96C8-1FEE-4588-B244-711FF25AE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81D9-6B87-41F4-AC23-0F9F5913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87A0-6FF2-4B79-A609-47D0EFFF4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F002-925E-4600-853F-A505F263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06D9-85E3-4447-8983-CD523B681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7E2C-BFAC-4312-9964-F95563A7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0B63-6A16-4A0C-9668-100C4128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E382-F874-4B4F-98C1-3D10C34B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78DA-C8B4-4E72-AD68-659086E8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3AEC-D438-449A-9B13-F334A991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7835-3317-44C3-A45A-E5194DCB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5174-E344-44F5-AD98-D0136E0E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3411-E5BC-47D0-8527-FD72BD78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3876-39EA-4CB1-90FA-CE2B9220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A81D-291B-4B70-822C-161813E7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540D-ABCB-4BCC-856E-8616235B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F0F4-7B65-4BDC-B385-5F5121545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DB3724-2D3C-4A7C-8CFA-4A06624B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24EB2A-26DF-4C7B-9D30-6D6F6AD2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F6D03C-2D33-4A13-813B-64AE66DE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5DFED5-DD3A-4876-B294-37F96D26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B7280A-7F20-4DBF-A696-707D8311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6ECF-4475-4C50-896F-2CBB4C57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8FAC80-257F-4AA2-B6B0-2E9C5274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FE62BD-C0E0-44C1-B920-4C197625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A0BDCC-2259-4DE0-982C-65617879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907768-3DBF-46F7-9810-76CFA2FB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C5017E-70A3-40DA-8212-BF53F568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299258-23CE-4BA9-B185-97503F2E8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488936-C6CD-4C10-BDEB-62826F51C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BCC1D3-ED65-41AA-A921-56C9D44AD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02FA31-E029-49A9-B967-CA786B3D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3FAFAA-FB7E-4257-BF75-F63DC807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2D52-EA23-48CD-9F52-25C83A80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A4C307-99C4-4660-9E4C-D939638B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1B2526-9C4F-45D4-895B-BD2E4516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511712-3067-4A38-A453-1630FED0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9C794C-C76C-4E03-A1D2-E1BEE018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1965C6-BE02-47C7-BEFF-CF296BEA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A3B4F3-A7A0-499B-BE5B-56870AFC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B207D1-211E-4141-B92B-2576AF06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E9E4D9-FD51-4278-82FD-76306F8E1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00420A-5B63-40C0-8878-B8BA6BD6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8339CA-5A03-41AF-B86F-B03F5476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283D-B1BB-4D4C-BABE-612FF914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E2ED1D-B209-437F-B6A4-03728694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FB6E1D-A62B-46EC-9355-484265D6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0E0563-E526-4538-9042-3271D54C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D8FEBE-D217-45C7-B3B8-FAE7332E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A800E0-FAEC-480A-8770-9A2D6D5E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7A2CB8-F5F0-4229-846E-9042F56C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F97585-9E5F-47F2-BB38-1DD1D00C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3E00FD-2837-4F5B-A46F-6CB0F094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C9AE4C-F939-42C2-8858-ABEFD657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E33602-591B-4AF2-9052-98F31D12D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E153-253B-4DEB-BA97-E730BB5A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B86930-7B26-48C5-8E3F-0A3C6D9CD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38C3B-7357-4FCB-9DEE-ADFF0E7D1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1EC1D-7604-411E-80D6-F80B2FB4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F90C3-0C4B-41C5-9978-C42D9D9E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9ED68-BDC4-47AF-84E5-DD2CDD11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5B4FF-D2B9-4DA8-8FE4-F0BA3B9A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C4DED-9A14-439A-BA15-95DC87AA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C33B0-9B0E-48D1-B020-6BEE3EF4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513BC-1CBF-4D0B-9067-FE6E0311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B9B87-4FE7-499E-9418-5297B37D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126C-C84E-4E30-A901-C9F72696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458D4-8452-418C-BECF-EBE6090A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FD422-4E94-4425-93F0-EEC7C5399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72AFA-E9B7-4623-AEED-66B8458D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EE6F1C-88DA-412A-A075-8EB4BBD7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B100B6-D2AF-4E14-AE4F-546652A8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FA82E4-DC00-489C-A225-D8D126B7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CCE689-E093-495D-BF73-F45E062A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EA7F51-0863-42C9-8E0E-1DD7DDF3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CE34D3-70FB-430F-A4DD-41DE5F78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88C5EF-2301-4453-9B48-414B595A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CE5B-9628-4931-BBC2-7CB22261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C0F4F7-F029-4D52-8622-58686BF2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6F7DF0-D23D-45F1-B3DA-9F502FC8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63F6FF-8653-424C-A86D-96C2FA29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B82576-81D5-406D-8F9D-DFDA9D87B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E71426-42B5-41C5-B971-96BAA7C68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EEC82-70B9-4FFF-B747-B06C65F2B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48DEE-2FCB-4539-B57F-A7A20BA5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AB58D-75AF-47A1-8819-90768CE5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3703D-9BC5-429C-8108-3E47D97F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A8D7B-9A2F-44DB-B3BD-3C8C971B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266B-3679-497F-944F-465D1E17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98DFA-354D-405B-B73A-A16DE47F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318DA-FF63-40FE-BF20-C012A0CF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9A00A-7B8D-46BC-A47C-BDF9A5E6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3E257-A937-4B53-8F4D-89FB5AB3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47E4D-6762-4121-A9A1-1A39F73B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F258E-AE24-4615-8EA3-20C45406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96BF7-EE68-48F0-93D1-B0C54227F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527c3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aada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adad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527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8bbd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DE97-BE40-4441-B3E5-9F6EA696FBF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527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8bbd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bbd7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8bbd7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99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99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527c3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99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aada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99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adad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99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99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99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8bbd7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F466-5417-4FBF-95D8-56C5D01B8BF5}" type="slidenum">
              <a:rPr b="1" lang="en-US" sz="1400" spc="-1" strike="noStrike">
                <a:solidFill>
                  <a:srgbClr val="8bbd7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527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8bbd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527c3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aada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adad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E614-9BF2-4698-90D4-351099BA0419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527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8bbd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527c3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aada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adad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69B6-3D3C-48BD-9507-FF495CFD3F7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527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8bbd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527c3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aada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adad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B023-297B-4C87-82D6-3A75BA38F57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527c3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aada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adad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5181-CD4A-4A2E-92FE-6D77A2D2A3E0}" type="slidenum">
              <a:rPr b="1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527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8bbd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527c3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aada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adad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7D20-7228-4898-B2F4-06E17CE5CE74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8bbd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527c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527c3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aada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adad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9C74-05A8-44D9-AEE2-0BD65F312B2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mu.edu/aca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680" y="175248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bbd71"/>
                </a:solidFill>
                <a:latin typeface="Calibri"/>
              </a:rPr>
              <a:t>LEARNING STYLES</a:t>
            </a:r>
            <a:endParaRPr b="0" lang="en-US" sz="6000" spc="-1" strike="noStrike">
              <a:solidFill>
                <a:srgbClr val="8bbd71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Knowing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how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you learn can make all the difference.</a:t>
            </a:r>
            <a:endParaRPr b="0" lang="en-US" sz="2400" spc="-1" strike="noStrike">
              <a:solidFill>
                <a:srgbClr val="ffff99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Calibri"/>
              </a:rPr>
              <a:t>Learning Styles—an Overview</a:t>
            </a:r>
            <a:endParaRPr b="0" lang="en-US" sz="5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560" y="2057040"/>
            <a:ext cx="4647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Visual – 40% of population.</a:t>
            </a:r>
            <a:endParaRPr b="0" lang="en-US" sz="2600" spc="-1" strike="noStrike">
              <a:solidFill>
                <a:srgbClr val="008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Auditory – 30% of population.</a:t>
            </a:r>
            <a:endParaRPr b="0" lang="en-US" sz="2600" spc="-1" strike="noStrike">
              <a:solidFill>
                <a:srgbClr val="008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000"/>
                </a:solidFill>
                <a:latin typeface="Calibri"/>
              </a:rPr>
              <a:t>Kinesthetic – 30% of population.</a:t>
            </a:r>
            <a:endParaRPr b="0" lang="en-US" sz="2600" spc="-1" strike="noStrike">
              <a:solidFill>
                <a:srgbClr val="008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8000"/>
                </a:solidFill>
                <a:latin typeface="Calibri"/>
              </a:rPr>
              <a:t>NOTE: 100% of population uses a combination of all three styles listed above.  Most often one type is dominant.</a:t>
            </a:r>
            <a:endParaRPr b="0" lang="en-US" sz="1700" spc="-1" strike="noStrike">
              <a:solidFill>
                <a:srgbClr val="008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8000"/>
              </a:solidFill>
              <a:latin typeface="Tw Cen MT"/>
            </a:endParaRPr>
          </a:p>
        </p:txBody>
      </p:sp>
      <p:pic>
        <p:nvPicPr>
          <p:cNvPr id="361" name="Picture 4" descr="C:\Documents and Settings\wirichar\Local Settings\Temporary Internet Files\Content.IE5\PEBU3Z8D\MPj04386120000[1].jpg"/>
          <p:cNvPicPr/>
          <p:nvPr/>
        </p:nvPicPr>
        <p:blipFill>
          <a:blip r:embed="rId1"/>
          <a:stretch/>
        </p:blipFill>
        <p:spPr>
          <a:xfrm>
            <a:off x="5105520" y="1600200"/>
            <a:ext cx="3352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Calibri"/>
              </a:rPr>
              <a:t>Why it is important to understand your learning style?</a:t>
            </a:r>
            <a:endParaRPr b="0" lang="en-US" sz="28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</a:rPr>
              <a:t>Better major selection.</a:t>
            </a:r>
            <a:endParaRPr b="0" lang="en-US" sz="27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alibri"/>
              </a:rPr>
              <a:t>You want to choose a major that caters to your dominant learning style.</a:t>
            </a:r>
            <a:endParaRPr b="0" lang="en-US" sz="14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alibri"/>
              </a:rPr>
              <a:t>If you are a kinesthetic learner, a Construction Management major is a good fit.</a:t>
            </a:r>
            <a:endParaRPr b="0" lang="en-US" sz="14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alibri"/>
              </a:rPr>
              <a:t>On the other hand, if you are an auditory learner you will want to purse a major that contains a majority of lecture courses.</a:t>
            </a:r>
            <a:endParaRPr b="0" lang="en-US" sz="1400" spc="-1" strike="noStrike">
              <a:solidFill>
                <a:srgbClr val="008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</a:rPr>
              <a:t>Better strategy in choosing courses that are aligned with how you learn.</a:t>
            </a:r>
            <a:endParaRPr b="0" lang="en-US" sz="27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alibri"/>
              </a:rPr>
              <a:t>If you are undecided about your major, knowing your learning style can help you avoid courses in which you know you will struggle.</a:t>
            </a:r>
            <a:endParaRPr b="0" lang="en-US" sz="14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alibri"/>
              </a:rPr>
              <a:t>Lecture course versus a Lab course?</a:t>
            </a:r>
            <a:endParaRPr b="0" lang="en-US" sz="1400" spc="-1" strike="noStrike">
              <a:solidFill>
                <a:srgbClr val="008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</a:rPr>
              <a:t>Strategize ways to do better in your courses.</a:t>
            </a:r>
            <a:endParaRPr b="0" lang="en-US" sz="27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alibri"/>
              </a:rPr>
              <a:t>Once you identify your learning preference, you can focus better on required program courses that you know are going to be difficult.</a:t>
            </a:r>
            <a:endParaRPr b="0" lang="en-US" sz="14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alibri"/>
              </a:rPr>
              <a:t>Your choice of study group partners or tutoring formats can be informed by your learning style preference.</a:t>
            </a:r>
            <a:endParaRPr b="0" lang="en-US" sz="1400" spc="-1" strike="noStrike">
              <a:solidFill>
                <a:srgbClr val="008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8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8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Calibri"/>
              </a:rPr>
              <a:t>Visual Learners </a:t>
            </a:r>
            <a:endParaRPr b="0" lang="en-US" sz="5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09120" y="1980720"/>
            <a:ext cx="5712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8000"/>
                </a:solidFill>
                <a:latin typeface="Calibri"/>
              </a:rPr>
              <a:t>Visual Learners typically…</a:t>
            </a:r>
            <a:endParaRPr b="0" lang="en-US" sz="27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Remember what was read or seen in a presentation. </a:t>
            </a:r>
            <a:endParaRPr b="0" lang="en-US" sz="24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Don't retain what they hear over a long period of time.</a:t>
            </a:r>
            <a:endParaRPr b="0" lang="en-US" sz="24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Think in pictures, use “scenes” to describe.</a:t>
            </a:r>
            <a:endParaRPr b="0" lang="en-US" sz="24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Have vivid imaginations. </a:t>
            </a:r>
            <a:endParaRPr b="0" lang="en-US" sz="24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Associate color with information. </a:t>
            </a:r>
            <a:endParaRPr b="0" lang="en-US" sz="24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Remember faces, but not names. </a:t>
            </a:r>
            <a:endParaRPr b="0" lang="en-US" sz="24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alibri"/>
              </a:rPr>
              <a:t>Like written reports better than verbal ones. </a:t>
            </a:r>
            <a:endParaRPr b="0" lang="en-US" sz="2400" spc="-1" strike="noStrike">
              <a:solidFill>
                <a:srgbClr val="008000"/>
              </a:solidFill>
              <a:latin typeface="Tw Cen MT"/>
            </a:endParaRPr>
          </a:p>
        </p:txBody>
      </p:sp>
      <p:pic>
        <p:nvPicPr>
          <p:cNvPr id="366" name="Picture 5" descr="C:\Documents and Settings\wirichar\Local Settings\Temporary Internet Files\Content.IE5\VUSEQ9CJ\MCj04405870000[1].wmf"/>
          <p:cNvPicPr/>
          <p:nvPr/>
        </p:nvPicPr>
        <p:blipFill>
          <a:blip r:embed="rId1"/>
          <a:stretch/>
        </p:blipFill>
        <p:spPr>
          <a:xfrm>
            <a:off x="7010280" y="1523880"/>
            <a:ext cx="1828800" cy="16765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C:\Documents and Settings\wirichar\Local Settings\Temporary Internet Files\Content.IE5\08SKWR8F\MCj04405840000[1].png"/>
          <p:cNvPicPr/>
          <p:nvPr/>
        </p:nvPicPr>
        <p:blipFill>
          <a:blip r:embed="rId2"/>
          <a:stretch/>
        </p:blipFill>
        <p:spPr>
          <a:xfrm>
            <a:off x="7010280" y="3276720"/>
            <a:ext cx="1803600" cy="16002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7" descr="C:\Documents and Settings\wirichar\Local Settings\Temporary Internet Files\Content.IE5\PEBU3Z8D\MCj04405930000[1].wmf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Calibri"/>
              </a:rPr>
              <a:t>Auditory Learners</a:t>
            </a:r>
            <a:endParaRPr b="0" lang="en-US" sz="5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352320" y="2057400"/>
            <a:ext cx="5410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Calibri"/>
              </a:rPr>
              <a:t>Auditory Learners typically…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8000"/>
                </a:solidFill>
                <a:latin typeface="Calibri"/>
              </a:rPr>
              <a:t>Remember what they hear in a lecture or presentation. Or even during a conversation.</a:t>
            </a:r>
            <a:endParaRPr b="0" lang="en-US" sz="19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8000"/>
                </a:solidFill>
                <a:latin typeface="Calibri"/>
              </a:rPr>
              <a:t>Talk while they write. </a:t>
            </a:r>
            <a:endParaRPr b="0" lang="en-US" sz="19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8000"/>
                </a:solidFill>
                <a:latin typeface="Calibri"/>
              </a:rPr>
              <a:t>Are sophisticated speakers.</a:t>
            </a:r>
            <a:endParaRPr b="0" lang="en-US" sz="19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8000"/>
                </a:solidFill>
                <a:latin typeface="Calibri"/>
              </a:rPr>
              <a:t>Remember by listening, and therefore get the most out of lectures. </a:t>
            </a:r>
            <a:endParaRPr b="0" lang="en-US" sz="19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8000"/>
                </a:solidFill>
                <a:latin typeface="Calibri"/>
              </a:rPr>
              <a:t>Assign little meaning to concepts or information until that information is presented in an audible format.</a:t>
            </a:r>
            <a:endParaRPr b="0" lang="en-US" sz="1900" spc="-1" strike="noStrike">
              <a:solidFill>
                <a:srgbClr val="008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  <p:pic>
        <p:nvPicPr>
          <p:cNvPr id="371" name="Picture 4" descr="C:\Documents and Settings\wirichar\Local Settings\Temporary Internet Files\Content.IE5\DNG1S9YC\MCj03349760000[1].wmf"/>
          <p:cNvPicPr/>
          <p:nvPr/>
        </p:nvPicPr>
        <p:blipFill>
          <a:blip r:embed="rId1"/>
          <a:stretch/>
        </p:blipFill>
        <p:spPr>
          <a:xfrm>
            <a:off x="228600" y="2819520"/>
            <a:ext cx="2698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00"/>
                </a:solidFill>
                <a:latin typeface="Calibri"/>
              </a:rPr>
              <a:t>Kinesthetic Learners</a:t>
            </a:r>
            <a:endParaRPr b="0" lang="en-US" sz="5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80520" y="213372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Calibri"/>
              </a:rPr>
              <a:t>Kinesthetic Learners typically…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</a:rPr>
              <a:t>Want to move all the time…they want to be busy!</a:t>
            </a:r>
            <a:endParaRPr b="0" lang="en-US" sz="18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</a:rPr>
              <a:t>Are well coordinated.</a:t>
            </a:r>
            <a:endParaRPr b="0" lang="en-US" sz="18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</a:rPr>
              <a:t>Are “doers”, not big “talkers”.</a:t>
            </a:r>
            <a:endParaRPr b="0" lang="en-US" sz="18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</a:rPr>
              <a:t>Like to take things apart, put them back together to learn how things work.</a:t>
            </a:r>
            <a:endParaRPr b="0" lang="en-US" sz="18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</a:rPr>
              <a:t>Need concrete experiences to act as learning aides.</a:t>
            </a:r>
            <a:endParaRPr b="0" lang="en-US" sz="1800" spc="-1" strike="noStrike">
              <a:solidFill>
                <a:srgbClr val="008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Tw Cen MT"/>
            </a:endParaRPr>
          </a:p>
        </p:txBody>
      </p:sp>
      <p:pic>
        <p:nvPicPr>
          <p:cNvPr id="374" name="Picture 10" descr="C:\Documents and Settings\wirichar\Local Settings\Temporary Internet Files\Content.IE5\8RGB9QQK\MPj04394320000[1].jpg"/>
          <p:cNvPicPr/>
          <p:nvPr/>
        </p:nvPicPr>
        <p:blipFill>
          <a:blip r:embed="rId1"/>
          <a:stretch/>
        </p:blipFill>
        <p:spPr>
          <a:xfrm>
            <a:off x="4724280" y="2286000"/>
            <a:ext cx="38577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alibri"/>
              </a:rPr>
              <a:t>Break it down…</a:t>
            </a: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alibri"/>
              </a:rPr>
              <a:t>So how do you know which is your dominant learning style?</a:t>
            </a:r>
            <a:endParaRPr b="0" lang="en-US" sz="20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alibri"/>
              </a:rPr>
              <a:t>Take a learning style assessment. </a:t>
            </a:r>
            <a:endParaRPr b="0" lang="en-US" sz="2000" spc="-1" strike="noStrike">
              <a:solidFill>
                <a:srgbClr val="008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527c3a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alibri"/>
              </a:rPr>
              <a:t>Usually available from your adviser.</a:t>
            </a:r>
            <a:endParaRPr b="0" lang="en-US" sz="2000" spc="-1" strike="noStrike">
              <a:solidFill>
                <a:srgbClr val="008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527c3a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alibri"/>
              </a:rPr>
              <a:t>Sometimes UN 100 textbooks contain them.</a:t>
            </a:r>
            <a:endParaRPr b="0" lang="en-US" sz="2000" spc="-1" strike="noStrike">
              <a:solidFill>
                <a:srgbClr val="008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527c3a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alibri"/>
              </a:rPr>
              <a:t>ACAC can provide them.</a:t>
            </a:r>
            <a:endParaRPr b="0" lang="en-US" sz="2000" spc="-1" strike="noStrike">
              <a:solidFill>
                <a:srgbClr val="008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527c3a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alibri"/>
              </a:rPr>
              <a:t>Some available online for FREE.</a:t>
            </a:r>
            <a:endParaRPr b="0" lang="en-US" sz="20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alibri"/>
              </a:rPr>
              <a:t>Analyze the results…what do they </a:t>
            </a:r>
            <a:r>
              <a:rPr b="0" i="1" lang="en-US" sz="2000" spc="-1" strike="noStrike">
                <a:solidFill>
                  <a:srgbClr val="008000"/>
                </a:solidFill>
                <a:latin typeface="Calibri"/>
              </a:rPr>
              <a:t>mean</a:t>
            </a:r>
            <a:r>
              <a:rPr b="0" lang="en-US" sz="2000" spc="-1" strike="noStrike">
                <a:solidFill>
                  <a:srgbClr val="008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8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527c3a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8000"/>
                </a:solidFill>
                <a:latin typeface="Calibri"/>
              </a:rPr>
              <a:t>Discuss them with your academic adviser.</a:t>
            </a:r>
            <a:endParaRPr b="0" lang="en-US" sz="1700" spc="-1" strike="noStrike">
              <a:solidFill>
                <a:srgbClr val="008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527c3a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8000"/>
                </a:solidFill>
                <a:latin typeface="Calibri"/>
              </a:rPr>
              <a:t>What are the strengths of your learning style?</a:t>
            </a:r>
            <a:endParaRPr b="0" lang="en-US" sz="1700" spc="-1" strike="noStrike">
              <a:solidFill>
                <a:srgbClr val="008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527c3a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8000"/>
                </a:solidFill>
                <a:latin typeface="Calibri"/>
              </a:rPr>
              <a:t>What are the challenges?</a:t>
            </a:r>
            <a:endParaRPr b="0" lang="en-US" sz="1700" spc="-1" strike="noStrike">
              <a:solidFill>
                <a:srgbClr val="008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527c3a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8000"/>
                </a:solidFill>
                <a:latin typeface="Calibri"/>
              </a:rPr>
              <a:t>What are some strategies you can use to be more successful – particularly in your current classes?</a:t>
            </a:r>
            <a:endParaRPr b="0" lang="en-US" sz="1700" spc="-1" strike="noStrike">
              <a:solidFill>
                <a:srgbClr val="008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527c3a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</a:rPr>
              <a:t>Refer to the following slides for applied techniques for each learning style.</a:t>
            </a:r>
            <a:endParaRPr b="0" lang="en-US" sz="1800" spc="-1" strike="noStrike">
              <a:solidFill>
                <a:srgbClr val="008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8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alibri"/>
              </a:rPr>
              <a:t>Applied techniques</a:t>
            </a:r>
            <a:endParaRPr b="0" lang="en-US" sz="4400" spc="-1" strike="noStrike">
              <a:solidFill>
                <a:srgbClr val="003300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8000"/>
                </a:solidFill>
                <a:uFillTx/>
                <a:latin typeface="Calibri"/>
              </a:rPr>
              <a:t>Visual Learners</a:t>
            </a:r>
            <a:r>
              <a:rPr b="0" lang="en-US" sz="1700" spc="-1" strike="noStrike">
                <a:solidFill>
                  <a:srgbClr val="008000"/>
                </a:solidFill>
                <a:latin typeface="Calibri"/>
              </a:rPr>
              <a:t>: </a:t>
            </a:r>
            <a:endParaRPr b="0" lang="en-US" sz="17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alibri"/>
              </a:rPr>
              <a:t>Write out everything for frequent and quick visual review. </a:t>
            </a:r>
            <a:endParaRPr b="0" lang="en-US" sz="14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alibri"/>
              </a:rPr>
              <a:t>Use color coding when learning new concepts and words.</a:t>
            </a:r>
            <a:endParaRPr b="0" lang="en-US" sz="14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alibri"/>
              </a:rPr>
              <a:t>Use outlines of reading assignments which cover key points and guide reading. </a:t>
            </a:r>
            <a:endParaRPr b="0" lang="en-US" sz="14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alibri"/>
              </a:rPr>
              <a:t>Use notes and flash cards for review of material, vocabulary, and terminology for specific course s.</a:t>
            </a:r>
            <a:endParaRPr b="0" lang="en-US" sz="14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alibri"/>
              </a:rPr>
              <a:t>Review textbook during relevant lecture component.</a:t>
            </a:r>
            <a:endParaRPr b="0" lang="en-US" sz="14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8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8000"/>
                </a:solidFill>
                <a:uFillTx/>
                <a:latin typeface="Calibri"/>
              </a:rPr>
              <a:t>Auditory Learners</a:t>
            </a:r>
            <a:r>
              <a:rPr b="0" lang="en-US" sz="1700" spc="-1" strike="noStrike">
                <a:solidFill>
                  <a:srgbClr val="008000"/>
                </a:solidFill>
                <a:latin typeface="Calibri"/>
              </a:rPr>
              <a:t>:</a:t>
            </a:r>
            <a:endParaRPr b="0" lang="en-US" sz="17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8000"/>
                </a:solidFill>
                <a:latin typeface="Calibri"/>
              </a:rPr>
              <a:t>The student should position themselves in the classroom or lecture hall so that he/she can hear lectures and review them frequently.</a:t>
            </a:r>
            <a:endParaRPr b="0" lang="en-US" sz="13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8000"/>
                </a:solidFill>
                <a:latin typeface="Calibri"/>
              </a:rPr>
              <a:t>Read written material  aloud (restate in your own words) .</a:t>
            </a:r>
            <a:endParaRPr b="0" lang="en-US" sz="13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8000"/>
                </a:solidFill>
                <a:latin typeface="Calibri"/>
              </a:rPr>
              <a:t>Verbally review spelling words and lectures with another person - practice verbal repetition .</a:t>
            </a:r>
            <a:endParaRPr b="0" lang="en-US" sz="13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8000"/>
                </a:solidFill>
                <a:latin typeface="Calibri"/>
              </a:rPr>
              <a:t>Record  lectures (with instructor permission).</a:t>
            </a:r>
            <a:endParaRPr b="0" lang="en-US" sz="13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8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8000"/>
                </a:solidFill>
                <a:uFillTx/>
                <a:latin typeface="Calibri"/>
              </a:rPr>
              <a:t>Kinesthetic Learners</a:t>
            </a:r>
            <a:r>
              <a:rPr b="0" lang="en-US" sz="1700" spc="-1" strike="noStrike">
                <a:solidFill>
                  <a:srgbClr val="008000"/>
                </a:solidFill>
                <a:latin typeface="Calibri"/>
              </a:rPr>
              <a:t>:</a:t>
            </a:r>
            <a:endParaRPr b="0" lang="en-US" sz="17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8000"/>
                </a:solidFill>
                <a:latin typeface="Calibri"/>
              </a:rPr>
              <a:t>Study in short blocks of time rather than extended periods .</a:t>
            </a:r>
            <a:endParaRPr b="0" lang="en-US" sz="13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8000"/>
                </a:solidFill>
                <a:latin typeface="Calibri"/>
              </a:rPr>
              <a:t>Have as many experimental learning opportunities as possible, such as lab and studio courses, as opposed to straight lecture classes - if you have a choice job shadowing, internships, etc.</a:t>
            </a:r>
            <a:endParaRPr b="0" lang="en-US" sz="13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8000"/>
                </a:solidFill>
                <a:latin typeface="Calibri"/>
              </a:rPr>
              <a:t>Use this info when selecting courses.</a:t>
            </a:r>
            <a:endParaRPr b="0" lang="en-US" sz="13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8000"/>
                </a:solidFill>
                <a:latin typeface="Calibri"/>
              </a:rPr>
              <a:t>Use flash cards. </a:t>
            </a:r>
            <a:endParaRPr b="0" lang="en-US" sz="1300" spc="-1" strike="noStrike">
              <a:solidFill>
                <a:srgbClr val="008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8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8000"/>
              </a:solidFill>
              <a:latin typeface="Tw Cen MT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8bbd71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8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609120" y="2057040"/>
            <a:ext cx="7696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8000"/>
                </a:solidFill>
                <a:latin typeface="Tw Cen MT"/>
              </a:rPr>
              <a:t>This PowerPoint presentation is the property of Northern Michigan University’s Academic &amp; Career Advisement Center.  It may not be reproduced without written consent.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363636"/>
                </a:solidFill>
                <a:uFillTx/>
                <a:latin typeface="Tw Cen MT"/>
                <a:hlinkClick r:id="rId1"/>
              </a:rPr>
              <a:t>www.nmu.edu/acac</a:t>
            </a: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527c3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8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13:38:10Z</dcterms:created>
  <dc:creator>Registered User</dc:creator>
  <dc:description/>
  <dc:language>en-US</dc:language>
  <cp:lastModifiedBy>Windows User</cp:lastModifiedBy>
  <dcterms:modified xsi:type="dcterms:W3CDTF">2020-04-04T09:22:54Z</dcterms:modified>
  <cp:revision>34</cp:revision>
  <dc:subject/>
  <dc:title>Learning Styles</dc:title>
</cp:coreProperties>
</file>