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CE6-6C30-41E6-B0EB-8EB314C2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992-14C5-472C-8887-699C8D78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9E19D-7C07-4CB0-A711-B0FE34EE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39763-F9FC-4848-BEEB-A359A9D0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15C22-7711-42AC-9550-FF47F81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43FD5-F5E4-4691-85A5-B26A8298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3E653-AAF5-4F42-AA9C-A1C544D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D6EB8-BB4F-47F6-85A8-8A5B61CD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4E0DC-E716-4B7E-9C90-E7B29C23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4163A-4D45-4AAA-9D09-94701A74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275E-EB58-4D2C-A6BC-3B768851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BDC-3E94-4ABC-A19E-CFB52390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653-C9E7-4096-B381-A5E172F5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4EE8-441A-432F-89E6-451F1CAB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2C3D-D14F-4070-A0C7-ACFF08DE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B65B-5FE6-4A0D-941B-437D4D18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15F-69F0-46BE-9860-893FED23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9FBA-B9CD-4610-98B3-6B505023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2850-9371-40D5-94D2-310FC528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4FD0-C48D-4111-BBDA-68A2691A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46E-6792-42E1-B09B-BFE4FD36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42E-057B-4A85-9BEC-1F706F2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0D7A-A0D9-47DB-BCD7-46B64106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1E0-1B16-4510-939C-0FA45B08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C267-69BD-46D7-AA45-69C9D207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DA33-8CE7-4FE5-8D50-58E10E27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6B47-D975-47FB-A405-6F4B6070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E7325-A684-47C0-BAB0-6290B326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7B05-ADAD-4CB9-8199-C843C0E2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C003-65B4-4986-B7C4-3376B33D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6FAA-588C-424C-97A0-9759FCD9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3FF-A7D9-4973-8717-0F5BDA0A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C2A4-F349-4208-B196-0E1EEB87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8F1A-CB91-4B5E-B3D8-96DD895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1B79-30FD-4B23-90B3-30088CF4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F2D1-B11A-4D05-8D63-6BE5858D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5AE2-4A42-4C0E-BD93-B927A5D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58DF-1670-4D94-901B-FED797D4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FF1D-6D23-4A0F-AFA7-53618A8D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CE18-6A77-4843-BECF-F6030EFB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0C08-7C85-48FD-8887-8070813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149F-2511-420A-9F18-9DA1EF53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3A5-77E1-42A8-9F17-35A91ADB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2B83-44D1-4118-AC57-B9A327E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0343-7803-4168-8B17-EBA235EF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DB6E-C809-42CF-9F6A-611651DE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1B1AC-D23A-4E10-A5EE-C7F9A2D9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E170A-A13D-4AD2-A2C2-46432664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C1AE-69FC-40E4-84B5-E0363E9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A53F-F9BB-4144-AD6E-F9BBFFD8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DD685-567F-4FDE-94E6-66DD25FF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81B6-5D59-4FAE-9014-86A867C4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AF87-D153-4FA9-862E-A21967AC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98D-0F63-446C-B4F9-F71B5BC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A1857-92C7-4421-A9EC-6B4BFD29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FB8E-5211-4133-8219-0F5ACA2C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00B1-F88E-40C8-932A-461B45B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82C5-AA44-48BE-9D11-4DD8170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B3FC-6AB6-47CA-9F54-5B6289E7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CCF4-46BA-47D1-816C-8F765FD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6045-85A6-4D91-AB50-A9CD6E4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E3DAF-D8C9-4813-A7D3-D5C9D45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FB6A-CD10-4C43-89AB-347D5D5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EF6B-4BBB-4DBC-AA80-D901EB5D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A20-7AF1-4C86-B346-314388AC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EB80-4B90-431F-A444-51AF0AF5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902F-7F0F-452F-8E1B-C0F54DE2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E8DE-7FCF-4D34-8939-CFDCBBFB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8C14-7309-4246-835F-8E064E1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230D-125F-49ED-B918-63FFA4F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92B2-A4CB-4C26-B62B-EE058A33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6608-AA5E-4C27-87A6-B4A8F421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EF5C-715C-403F-A6E7-DEFA0D8D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E3258-548D-4C42-B0B6-03EE689E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1F47-4909-431E-9867-566FDBD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0D3-7B29-4343-8BCC-F07569A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A06DA-00CF-4536-BAB2-2324694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BE251-D3CF-450C-B706-2835DA49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69D2-EAB7-4F51-A064-1AF7609B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D8257-09B7-4972-A455-134DAD98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3D0D1-35D2-4A86-A7E6-1EA89659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12A3-363D-4E2B-BB3E-0F1D5544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2DB6-BEA2-4A20-8BA1-3AEB36C9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DC95C-BF71-4676-A2FE-C4E713D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C1AB-054B-4C10-9863-6DF0E0B3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06E8-61A0-43CC-A9D5-620DFE63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EF5-A7F8-4E7F-B9B0-AD128E9A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E4E55-7B14-4B90-8C3E-6D7FC9BA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D9FC-89AC-4F65-9F9C-9CDD0B4B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E31D-C9EC-468A-AC8D-2CD7747E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16EC1-E55C-4CAD-B3B5-AB721EAB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615F-A052-4D2E-8BD4-D1FABB5A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981BE-5A5F-4F26-A2F1-CCB6E935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B803-5DAC-475E-B450-AEB3A8D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81FF0-ECAB-40D4-B899-8280367F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64B90-6078-4040-A14D-0912BA9D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0AA3-7CD4-4B3C-8051-03ED6CD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571-63CB-4BC7-A923-C4ED2596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45208-7C6E-48F3-AA7A-95297975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117F-A2C5-48DC-BC0D-DA14C14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A50A-D5D0-4D43-9264-E52AC6E1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9218E-AB87-4919-B251-F2C21684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9B70-CB1C-4CA0-86A5-B9B40858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8C3B0-D474-4FE0-864F-4E7E750E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FEC89-DB40-4BC9-91E0-91559A09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5464-B29E-4C7C-ACBC-4CA8BFC9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5FC9A-D3C4-46E3-AED4-C1937BCC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433DF-B7B2-43D1-97AD-7E5D6619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8BC3-F023-4381-AE89-F02AFCE70D5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349-01BD-4461-86CA-B87B1ADA747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052A-A3EB-41DA-BDAF-B9D285E44C5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1DC-69F9-499B-9B13-38A231715AA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2C3-43C6-4E74-B7DA-B2EAD61B423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C87F-9AE4-453B-910B-ED17D0A5C8D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B2F-6532-4D50-9E7B-370F76F4F12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96F-4075-4B82-B3C7-8269E70868A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6C7E-6D58-4B14-8DEA-B0AA8BA8B9C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3425760" y="1444680"/>
            <a:ext cx="4492800" cy="18889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962160" y="3540240"/>
            <a:ext cx="205740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hazia khaliq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96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put basically means getting data into the computer to be process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32" name="Object 5"/>
          <p:cNvGraphicFramePr/>
          <p:nvPr/>
        </p:nvGraphicFramePr>
        <p:xfrm>
          <a:off x="5548320" y="3090960"/>
          <a:ext cx="2114640" cy="15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8320" y="3090960"/>
                    <a:ext cx="211464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 Box 4"/>
          <p:cNvSpPr/>
          <p:nvPr/>
        </p:nvSpPr>
        <p:spPr>
          <a:xfrm>
            <a:off x="990720" y="289548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, Mous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ball, Touch P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Pen, Laser Scanner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ing St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uch Scree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r Code Reader, Sc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phone, Joyst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utput basically means getting data out of the comput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37" name="Object 5"/>
          <p:cNvGraphicFramePr/>
          <p:nvPr/>
        </p:nvGraphicFramePr>
        <p:xfrm>
          <a:off x="5519880" y="2800440"/>
          <a:ext cx="2171520" cy="217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19880" y="2800440"/>
                    <a:ext cx="217152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Text Box 4"/>
          <p:cNvSpPr/>
          <p:nvPr/>
        </p:nvSpPr>
        <p:spPr>
          <a:xfrm>
            <a:off x="1066680" y="297180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ph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566280" y="1752120"/>
            <a:ext cx="8272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orage devices are both input and output devices in one.  A storage device is a place to keep data that has been processed so that it can be retrieved at a later time to be used agai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1066680" y="4419720"/>
            <a:ext cx="609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D’s, DVD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gnetic Ta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sh Memory, Jump Dr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ftware is the programs and applications that tell the computer what to do and how to loo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uter programmers write the codes/instructions that make-up software applications/progra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ML is a type of computer programming language that allows programmers to make web pag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next 2 slides show what HTML codes look like and the web page the codes produc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Object 7"/>
          <p:cNvGraphicFramePr/>
          <p:nvPr/>
        </p:nvGraphicFramePr>
        <p:xfrm>
          <a:off x="760320" y="304920"/>
          <a:ext cx="76215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30492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Object 4"/>
          <p:cNvGraphicFramePr/>
          <p:nvPr/>
        </p:nvGraphicFramePr>
        <p:xfrm>
          <a:off x="792000" y="304920"/>
          <a:ext cx="75582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304920"/>
                    <a:ext cx="7558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pplication Softw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erating System Softw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51" name="Object 4"/>
          <p:cNvGraphicFramePr/>
          <p:nvPr/>
        </p:nvGraphicFramePr>
        <p:xfrm>
          <a:off x="5433840" y="1900080"/>
          <a:ext cx="2343240" cy="17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33840" y="1900080"/>
                    <a:ext cx="234324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5315040" y="4129200"/>
          <a:ext cx="2581200" cy="172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15040" y="4129200"/>
                    <a:ext cx="25812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53160" cy="1150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rects all the activities and sets all the rules for how the hardware and software will work toget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amples would be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S, Windows 95, 98, ME, NT, XP, Vista, Windows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nix, Linux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C system OS 6,7,8,9,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S is an example of a command line operating syst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the next slide, Notice that there are no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cons (pictur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lo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ouse Poin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t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have to memorize commands in order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use this text based operating syst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4"/>
          <p:cNvGraphicFramePr/>
          <p:nvPr/>
        </p:nvGraphicFramePr>
        <p:xfrm>
          <a:off x="785880" y="304920"/>
          <a:ext cx="7569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304920"/>
                    <a:ext cx="7569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504960" y="3540240"/>
            <a:ext cx="297180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ypes of computer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566280" y="1752480"/>
            <a:ext cx="8348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UI stands for Graphical User Interf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066680" y="23623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pictures (icons) to represent files, folder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 drives, modems, printer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I’s were created to make using a comput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er, more interesting, non-threaten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experienced us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ouse allows users to point at something an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ake it work.  With command li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to have all of the commands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your programs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e is an example of a GU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Object 4"/>
          <p:cNvGraphicFramePr/>
          <p:nvPr/>
        </p:nvGraphicFramePr>
        <p:xfrm>
          <a:off x="566640" y="430200"/>
          <a:ext cx="800892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430200"/>
                    <a:ext cx="800892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566280" y="1752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grams that work with operating system software to help the computer to do specific types of wor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six basic types of application software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siness software: word processors, spreadsheets, and database program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unication software: allows computers to communicate with other computers: fax software, Novell NetWare, AOL, Modem Softwa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raphics software: software that allows users to create and manipulate graphics...Photoshop, Print Shop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tion and Reference software: Programs that help teach new material and ideas, and programs that can be used to find information...Encarta, Worldbook Encyclopedia, Jumpstart Kindergarten, MicroTyp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ertainment and Leisure software...Warcraft, Age of Empires, Barbie Design Center, Mrs.  Pacman, Solitai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grated software: Combines several types of software into one program or package...Quicken (Spreadsheet/data base/communications/reference) or Print Shop (Graphics/Word processor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13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5" name="Object 3"/>
          <p:cNvGraphicFramePr/>
          <p:nvPr/>
        </p:nvGraphicFramePr>
        <p:xfrm>
          <a:off x="1467000" y="1809720"/>
          <a:ext cx="2124000" cy="19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7000" y="1809720"/>
                    <a:ext cx="212400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6"/>
          <p:cNvGraphicFramePr/>
          <p:nvPr/>
        </p:nvGraphicFramePr>
        <p:xfrm>
          <a:off x="5576760" y="1752480"/>
          <a:ext cx="2057400" cy="2057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6760" y="175248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9"/>
          <p:cNvGraphicFramePr/>
          <p:nvPr/>
        </p:nvGraphicFramePr>
        <p:xfrm>
          <a:off x="1447920" y="4038480"/>
          <a:ext cx="2004840" cy="200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0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4038480"/>
                    <a:ext cx="20048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12"/>
          <p:cNvGraphicFramePr/>
          <p:nvPr/>
        </p:nvGraphicFramePr>
        <p:xfrm>
          <a:off x="5238720" y="3962520"/>
          <a:ext cx="2732040" cy="2057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2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720" y="3962520"/>
                    <a:ext cx="27320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Supercomputers...are used to process very large amounts of information including processing information to predict hurricanes, satellite images and navigation, and process military war scenarios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Mainframes...are used by government and businesses to process very large amounts of information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Mini-Computers...are similar to mainframes...they are used by business and government to process large amounts of information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ersonal Computers (PC)…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rsonal Computers (Continued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rsonal Computers...also known as PC’s...are smaller and less powerful than the others.  They are used in homes, schools, and small busines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re are 3 main types of PC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sktop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ortable (Notebook/Laptop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hen portable (notebook/laptop) computers were first created they were HUGE.  They weighed around 100 lbs., and were carried in a large luggage suitcase.  The creators of the portable (notebook/laptop) computer dreamed that one day it would be the size a notebook or pocket dictionary.  With today’s technology, we have been able to accomplish this goal and more.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nd-Hel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6" name="Object 4"/>
          <p:cNvGraphicFramePr/>
          <p:nvPr/>
        </p:nvGraphicFramePr>
        <p:xfrm>
          <a:off x="7315200" y="380880"/>
          <a:ext cx="143496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380880"/>
                    <a:ext cx="14349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043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 network is a group of computers that share information and hardwar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computers are connected together using copper phone wires, fiber optic cables, or radio wav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Our computers are on a network here at school...Look under the table and see the blue wires that connect your computer to the networ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e internet is many networks around the world that are all connected together to make 1 huge network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5867280" y="228600"/>
          <a:ext cx="129564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2860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6"/>
          <p:cNvGraphicFramePr/>
          <p:nvPr/>
        </p:nvGraphicFramePr>
        <p:xfrm>
          <a:off x="7543800" y="233280"/>
          <a:ext cx="1371600" cy="12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43800" y="233280"/>
                    <a:ext cx="13716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15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two basic parts that make up a computer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16" name="Object 6"/>
          <p:cNvGraphicFramePr/>
          <p:nvPr/>
        </p:nvGraphicFramePr>
        <p:xfrm>
          <a:off x="990720" y="3657600"/>
          <a:ext cx="2057400" cy="20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657600"/>
                    <a:ext cx="2057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8"/>
          <p:cNvGraphicFramePr/>
          <p:nvPr/>
        </p:nvGraphicFramePr>
        <p:xfrm>
          <a:off x="5334120" y="3657600"/>
          <a:ext cx="2133360" cy="213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3657600"/>
                    <a:ext cx="21333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 Box 4"/>
          <p:cNvSpPr/>
          <p:nvPr/>
        </p:nvSpPr>
        <p:spPr>
          <a:xfrm>
            <a:off x="1143000" y="28195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638680" y="2819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566280" y="1752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ware is basically anything that you can touch with your fing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914400" y="274320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U (central processing unit...Pentium chi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 &amp; M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 Drive, Zip Drive, CD-ROM, DV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   D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y (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328680" y="298440"/>
            <a:ext cx="8254800" cy="1225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three types/categories of hardw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27" name="Object 5"/>
          <p:cNvGraphicFramePr/>
          <p:nvPr/>
        </p:nvGraphicFramePr>
        <p:xfrm>
          <a:off x="5672160" y="3181320"/>
          <a:ext cx="1866960" cy="14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72160" y="3181320"/>
                    <a:ext cx="186696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 Box 4"/>
          <p:cNvSpPr/>
          <p:nvPr/>
        </p:nvSpPr>
        <p:spPr>
          <a:xfrm>
            <a:off x="914400" y="3048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.  Input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.  Output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.  Storage De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20:35:03Z</dcterms:created>
  <dc:creator>Tech Tech</dc:creator>
  <dc:description/>
  <dc:language>en-US</dc:language>
  <cp:lastModifiedBy>A.G</cp:lastModifiedBy>
  <dcterms:modified xsi:type="dcterms:W3CDTF">2018-10-11T17:43:43Z</dcterms:modified>
  <cp:revision>34</cp:revision>
  <dc:subject/>
  <dc:title>Computer Basics</dc:title>
</cp:coreProperties>
</file>