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952B-5134-420F-A108-3335AB3B6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9759-CCE5-43B5-9152-B450537D38C3}" type="slidenum"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890-68AF-420A-ABA3-247A0973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804-D10E-4D86-BEEF-F6D08B5D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9CE-0852-4350-A9AB-AD8E4EB2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7FD-604E-4E32-A536-E8FF7C40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7F80-30B6-4FDB-8592-0233B8E6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4837-B0DF-48D8-B827-29D7161E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9179-128F-4555-A35B-B0E4B25E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27E3-573C-4EBF-93D9-0E082EF7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AB15-4FF3-4BAD-89C7-332B39A9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D77A-216D-4ED7-8E8F-91453A63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FE70-A0BA-41F0-B6BC-79B5A61C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2E6-093A-4256-A5B1-66E25D07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9CAE-69BC-480F-B32F-0BB8DEF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03A6-6892-46F3-8CEA-4ACB47E1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1DB9-DF72-464F-B13E-0447F502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5B62-019B-4186-876A-20949240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B341-A04E-4B9C-ACEB-CA20FB58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2D9-9921-4E11-9C8A-D67C463B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BD0-2140-4D53-97C5-613645C6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709-EF1F-42F2-8863-1E5136C9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12E-4591-4FF6-B309-41B68460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942-3201-4DE4-8BD7-3CE7CDFC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207-EE3B-43C3-BCAD-1E4306A0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617-CEDC-47C4-AA5D-DF9C25BA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6FD4-0FC1-4C37-99FB-5C35B8611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D10E-3C5B-4903-B0E4-F1765A354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roduction to compu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cture No 1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ssist by shazi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put: Keyboa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andard keyboard - 101 key, letters, number-pad, function key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crosoft Natural Keyboard -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utput: Types of Moni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thode Ray Tube (CRT) - standard monitor, inexpensive, good resolution, good pixel siz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lat Panel (Liquid Crystal Display - LCD) – more expensive, prices dropp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3" name="Picture 5" descr="320-0657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uying a Monit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ze is most important fact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Get a 17” CRT or 15” LCD or bigg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Note 15” LCD is about the same as a 17” CR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15” CRT cheaper but will seem very smal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t size advertised, not that big of a fact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Viewable Area – 15.8” for a 17” CR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ximum resolution – look for at least 1280 x 1024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6"/>
          <p:cNvSpPr/>
          <p:nvPr/>
        </p:nvSpPr>
        <p:spPr>
          <a:xfrm>
            <a:off x="3581280" y="2819520"/>
            <a:ext cx="152424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mpu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AutoShape 1027"/>
          <p:cNvSpPr/>
          <p:nvPr/>
        </p:nvSpPr>
        <p:spPr>
          <a:xfrm>
            <a:off x="3886200" y="380880"/>
            <a:ext cx="1676520" cy="1371600"/>
          </a:xfrm>
          <a:prstGeom prst="cube">
            <a:avLst>
              <a:gd name="adj" fmla="val 250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Monito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Line 1028"/>
          <p:cNvSpPr/>
          <p:nvPr/>
        </p:nvSpPr>
        <p:spPr>
          <a:xfrm flipV="1">
            <a:off x="4343400" y="1752480"/>
            <a:ext cx="0" cy="106704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Rectangle 1029"/>
          <p:cNvSpPr/>
          <p:nvPr/>
        </p:nvSpPr>
        <p:spPr>
          <a:xfrm>
            <a:off x="3581280" y="5334120"/>
            <a:ext cx="160020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Line 1031"/>
          <p:cNvSpPr/>
          <p:nvPr/>
        </p:nvSpPr>
        <p:spPr>
          <a:xfrm flipV="1">
            <a:off x="4343400" y="3962520"/>
            <a:ext cx="0" cy="137160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5105520" y="2819520"/>
            <a:ext cx="106668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Rectangle 1033"/>
          <p:cNvSpPr/>
          <p:nvPr/>
        </p:nvSpPr>
        <p:spPr>
          <a:xfrm>
            <a:off x="5105520" y="3124080"/>
            <a:ext cx="106668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Rectangle 1034"/>
          <p:cNvSpPr/>
          <p:nvPr/>
        </p:nvSpPr>
        <p:spPr>
          <a:xfrm>
            <a:off x="5105520" y="3429000"/>
            <a:ext cx="106668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D-RW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Rectangle 1035"/>
          <p:cNvSpPr/>
          <p:nvPr/>
        </p:nvSpPr>
        <p:spPr>
          <a:xfrm>
            <a:off x="1219320" y="1371600"/>
            <a:ext cx="129528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in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Rectangle 1036"/>
          <p:cNvSpPr/>
          <p:nvPr/>
        </p:nvSpPr>
        <p:spPr>
          <a:xfrm>
            <a:off x="533520" y="4648320"/>
            <a:ext cx="144756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Rectangle 1037"/>
          <p:cNvSpPr/>
          <p:nvPr/>
        </p:nvSpPr>
        <p:spPr>
          <a:xfrm>
            <a:off x="7086600" y="5105520"/>
            <a:ext cx="106668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Rectangle 1038"/>
          <p:cNvSpPr/>
          <p:nvPr/>
        </p:nvSpPr>
        <p:spPr>
          <a:xfrm>
            <a:off x="5867280" y="4952880"/>
            <a:ext cx="22860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Line 1039"/>
          <p:cNvSpPr/>
          <p:nvPr/>
        </p:nvSpPr>
        <p:spPr>
          <a:xfrm flipH="1" flipV="1">
            <a:off x="4572000" y="3962160"/>
            <a:ext cx="1295280" cy="99036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Line 1040"/>
          <p:cNvSpPr/>
          <p:nvPr/>
        </p:nvSpPr>
        <p:spPr>
          <a:xfrm flipV="1">
            <a:off x="1905120" y="3962160"/>
            <a:ext cx="1676160" cy="60948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Line 1041"/>
          <p:cNvSpPr/>
          <p:nvPr/>
        </p:nvSpPr>
        <p:spPr>
          <a:xfrm flipH="1" flipV="1">
            <a:off x="4723920" y="3962520"/>
            <a:ext cx="2057400" cy="91440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Text Box 1042"/>
          <p:cNvSpPr/>
          <p:nvPr/>
        </p:nvSpPr>
        <p:spPr>
          <a:xfrm>
            <a:off x="5715720" y="525780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Mous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Rectangle 1043"/>
          <p:cNvSpPr/>
          <p:nvPr/>
        </p:nvSpPr>
        <p:spPr>
          <a:xfrm>
            <a:off x="1981080" y="3048120"/>
            <a:ext cx="99072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ode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Line 1044"/>
          <p:cNvSpPr/>
          <p:nvPr/>
        </p:nvSpPr>
        <p:spPr>
          <a:xfrm>
            <a:off x="2971800" y="3200400"/>
            <a:ext cx="609480" cy="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Line 1046"/>
          <p:cNvSpPr/>
          <p:nvPr/>
        </p:nvSpPr>
        <p:spPr>
          <a:xfrm flipH="1" flipV="1">
            <a:off x="1980720" y="1980720"/>
            <a:ext cx="1600200" cy="83844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Rectangle 1047"/>
          <p:cNvSpPr/>
          <p:nvPr/>
        </p:nvSpPr>
        <p:spPr>
          <a:xfrm>
            <a:off x="6324480" y="990720"/>
            <a:ext cx="1447920" cy="609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CD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Oval 1048"/>
          <p:cNvSpPr/>
          <p:nvPr/>
        </p:nvSpPr>
        <p:spPr>
          <a:xfrm>
            <a:off x="7315200" y="1066680"/>
            <a:ext cx="380880" cy="3812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Line 1049"/>
          <p:cNvSpPr/>
          <p:nvPr/>
        </p:nvSpPr>
        <p:spPr>
          <a:xfrm flipV="1">
            <a:off x="5715000" y="1599840"/>
            <a:ext cx="990720" cy="121932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Rectangle 1050"/>
          <p:cNvSpPr/>
          <p:nvPr/>
        </p:nvSpPr>
        <p:spPr>
          <a:xfrm>
            <a:off x="7331040" y="2757600"/>
            <a:ext cx="304920" cy="304560"/>
          </a:xfrm>
          <a:prstGeom prst="rect">
            <a:avLst/>
          </a:prstGeom>
          <a:solidFill>
            <a:srgbClr val="0066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Rectangle 1051"/>
          <p:cNvSpPr/>
          <p:nvPr/>
        </p:nvSpPr>
        <p:spPr>
          <a:xfrm>
            <a:off x="7331040" y="3138480"/>
            <a:ext cx="3049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Rectangle 1052"/>
          <p:cNvSpPr/>
          <p:nvPr/>
        </p:nvSpPr>
        <p:spPr>
          <a:xfrm>
            <a:off x="7331040" y="3519360"/>
            <a:ext cx="30492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Text Box 1053"/>
          <p:cNvSpPr/>
          <p:nvPr/>
        </p:nvSpPr>
        <p:spPr>
          <a:xfrm>
            <a:off x="7621560" y="27432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Text Box 1054"/>
          <p:cNvSpPr/>
          <p:nvPr/>
        </p:nvSpPr>
        <p:spPr>
          <a:xfrm>
            <a:off x="7697880" y="312408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Text Box 1055"/>
          <p:cNvSpPr/>
          <p:nvPr/>
        </p:nvSpPr>
        <p:spPr>
          <a:xfrm>
            <a:off x="7776720" y="350532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I/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Read - Writ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Rectangle 1056"/>
          <p:cNvSpPr/>
          <p:nvPr/>
        </p:nvSpPr>
        <p:spPr>
          <a:xfrm>
            <a:off x="7162920" y="2286000"/>
            <a:ext cx="1828800" cy="19051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Text Box 1057"/>
          <p:cNvSpPr/>
          <p:nvPr/>
        </p:nvSpPr>
        <p:spPr>
          <a:xfrm>
            <a:off x="7529760" y="22510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Legen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put: Mi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ndard Two-Button: Left button for selecting, right button for propert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Wheeled Mouse - Wheel for scroll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ckball - Inverted mous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ouchpad - Touch/tap sensit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raser”/Joystick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8" name="Picture 1029" descr="IntelliMouse Explorer"/>
          <p:cNvPicPr/>
          <p:nvPr/>
        </p:nvPicPr>
        <p:blipFill>
          <a:blip r:embed="rId1"/>
          <a:srcRect l="40795" t="0" r="7893" b="0"/>
          <a:stretch/>
        </p:blipFill>
        <p:spPr>
          <a:xfrm>
            <a:off x="6248520" y="2209680"/>
            <a:ext cx="250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ice: Mechanic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st mice have a round ball and rollers – rollers must be clean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wer mice are OPTICAL, using LED and sensor to track move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1" name="Picture 5" descr="Wireless Optical Mouse"/>
          <p:cNvPicPr/>
          <p:nvPr/>
        </p:nvPicPr>
        <p:blipFill>
          <a:blip r:embed="rId1"/>
          <a:srcRect l="32726" t="0" r="7266" b="0"/>
          <a:stretch/>
        </p:blipFill>
        <p:spPr>
          <a:xfrm>
            <a:off x="6324480" y="2209680"/>
            <a:ext cx="2514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put: Scann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latbed Scanners - Lay image flat on “copier”-like glass panel.  Scanning element mov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oto Scanners - Run a single photo through a scanner - photo moves, scanning element stays stationar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at you pay for: resolution, color quality, connectiv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peed:  USB connection faster than Parallel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l scanners on market sufficient for web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put: Digital Came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mera without fil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ixel resolution measures number of do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ixel resolution is key: 640x480 vs. 1280x1024 (1.3 Megapixels) vs. 2048X1536 (3.3 Megapixel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orage can be on flash memory cards, memory sticks, floppy disks, internal, or no storage (web cam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ow to unload images is importa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6" name="Picture 5" descr="hp photosmart 945 digital camera (Q2200A) - photo enthusiast"/>
          <p:cNvPicPr/>
          <p:nvPr/>
        </p:nvPicPr>
        <p:blipFill>
          <a:blip r:embed="rId1"/>
          <a:stretch/>
        </p:blipFill>
        <p:spPr>
          <a:xfrm>
            <a:off x="6324480" y="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Ques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is the common language in which input and output devices communicat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nsw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es and Zer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00011010101010100001010001011111001010010101010101001010011000001010010101110011011111100010100110 actually means something to a compu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able of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3520" y="1905120"/>
            <a:ext cx="63244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hat is compu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1" action="ppaction://hlinksldjump"/>
              </a:rPr>
              <a:t>  Computer Hardwa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2" action="ppaction://hlinksldjump"/>
              </a:rPr>
              <a:t>Examples of Computer Hardwa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3" action="ppaction://hlinksldjump"/>
              </a:rPr>
              <a:t>Computer Input Devi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4" action="ppaction://hlinksldjump"/>
              </a:rPr>
              <a:t>Computer Output Devi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torage Devi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utput: Prin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kjet Printers - Tiny dots of ink on pap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an print high quality photo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k is expensive!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ser Printers - Laser, plastic toner, and heat; drawback: no col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lor Laser Printers - ~$600 and u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ot Matrix Print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3" name="Picture 5" descr="hp deskjet 3650 color inkjet printer (C8974C) - entry-level"/>
          <p:cNvPicPr/>
          <p:nvPr/>
        </p:nvPicPr>
        <p:blipFill>
          <a:blip r:embed="rId1"/>
          <a:stretch/>
        </p:blipFill>
        <p:spPr>
          <a:xfrm>
            <a:off x="6348240" y="-609480"/>
            <a:ext cx="2795760" cy="3124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hp LaserJet 2300 printer series - black and white hp LaserJet printers"/>
          <p:cNvPicPr/>
          <p:nvPr/>
        </p:nvPicPr>
        <p:blipFill>
          <a:blip r:embed="rId2"/>
          <a:stretch/>
        </p:blipFill>
        <p:spPr>
          <a:xfrm>
            <a:off x="6553080" y="3962520"/>
            <a:ext cx="259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utput - LCD Proje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milar to monitors but project im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w to computer market (last 5 year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pensive, becoming cheaper every day (some under $1000 now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 business and education, some people getting them for home theatre syste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97" name="Picture 7" descr="hp digital projector vp6100 series - digital projectors"/>
          <p:cNvPicPr/>
          <p:nvPr/>
        </p:nvPicPr>
        <p:blipFill>
          <a:blip r:embed="rId1"/>
          <a:srcRect l="0" t="24010" r="0" b="26000"/>
          <a:stretch/>
        </p:blipFill>
        <p:spPr>
          <a:xfrm>
            <a:off x="5735520" y="4952880"/>
            <a:ext cx="3408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wo-way Communication: Mod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dulator / DEModualter = MO-D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verts digital computer signal to analog telephone signal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and receives infor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56K is current standar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 speeds often slower than 56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ble Mode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ble Modems convert from cable interface to Ethernet or USB interface.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xternal, $50-$200 to bu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st subscribe to Broadband/ Cable Internet Service through your cable provid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est way to go from home but expensive ($45/month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able provider has a monopoly so prices won’t dro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S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gital Subscriber L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orks over phone line but doesn’t interfere with phone cal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e speed is much higher than a regular modem (1.5 Mbps vs. 56 Kbps)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orks better closer to phone compan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ot available everywhe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orage Med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 refers to the objects on which information is stor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ngular of word is mediu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CD is a medium for storage, a floppy disk is a medium, …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orage:  Magnetic Med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rive” Storage:  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magnetic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film stores 1s and 0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ard Drives - Internal, sealed plat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loppy Drive - One flexible plat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Zip Drive – Very high capacity flop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rewritable storage is magnet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torage: Optical Media Read Only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D-ROM – 650MB or 700 MB, 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read only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, etched pi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rives 32X etc.  for speed relative to norma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VD - stands for Digital Versatile Disc, 4.7 Gb (7X CD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CD Burners – Optical Read/Wri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D R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8x/16x/52x means 48x maximum write speed, 16x max. rewrite speed, and 52x max. read spee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: CD-R is cheapest, write o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D-RW – good medium for transporting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finition of a Comput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computer is an device that receives information (input), processes information, and outputs infor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ahoma"/>
              </a:rPr>
              <a:t>input/output device that processes infor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puter Hardw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ey parts of a compu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put vs. output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terconnection between par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ssential P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ox - Central Processing Unit (CPU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nitor - main output devi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Keyboard - main input devi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Box (CPU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l processing goes through the bo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 simple input/output (I/O) devi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ahoma"/>
              </a:rPr>
              <a:t>Ports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on back for connection of input and output de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sk </a:t>
            </a:r>
            <a:r>
              <a:rPr b="1" i="1" lang="en-US" sz="3200" spc="-1" strike="noStrike">
                <a:solidFill>
                  <a:srgbClr val="ffff66"/>
                </a:solidFill>
                <a:latin typeface="Tahoma"/>
              </a:rPr>
              <a:t>drives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on front for storage I/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ahoma"/>
              </a:rPr>
              <a:t>Input vs. Output?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lassify the following as input or outpu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nit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eyboar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PU (The Box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loppy Dr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D-RO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int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cann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ode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gital Cam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D Writer/Burn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ard Dr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CD Project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aser Point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etwork Car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Bluetooth Card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peak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581280" y="2819520"/>
            <a:ext cx="152424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mpu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3886200" y="380880"/>
            <a:ext cx="1676520" cy="1371600"/>
          </a:xfrm>
          <a:prstGeom prst="cube">
            <a:avLst>
              <a:gd name="adj" fmla="val 250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Monito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Line 4"/>
          <p:cNvSpPr/>
          <p:nvPr/>
        </p:nvSpPr>
        <p:spPr>
          <a:xfrm flipV="1">
            <a:off x="4343400" y="1752480"/>
            <a:ext cx="0" cy="106704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81280" y="5334120"/>
            <a:ext cx="160020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 flipV="1">
            <a:off x="4343400" y="3962520"/>
            <a:ext cx="0" cy="137160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105520" y="2819520"/>
            <a:ext cx="106668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5105520" y="3124080"/>
            <a:ext cx="106668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F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105520" y="3429000"/>
            <a:ext cx="106668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D-RW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219320" y="1371600"/>
            <a:ext cx="1295280" cy="6858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in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33520" y="4648320"/>
            <a:ext cx="144756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cann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7086600" y="5105520"/>
            <a:ext cx="1066680" cy="457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amer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5867280" y="4952880"/>
            <a:ext cx="22860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Line 14"/>
          <p:cNvSpPr/>
          <p:nvPr/>
        </p:nvSpPr>
        <p:spPr>
          <a:xfrm flipH="1" flipV="1">
            <a:off x="4572000" y="3962160"/>
            <a:ext cx="1295280" cy="99036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Line 15"/>
          <p:cNvSpPr/>
          <p:nvPr/>
        </p:nvSpPr>
        <p:spPr>
          <a:xfrm flipV="1">
            <a:off x="1905120" y="3962160"/>
            <a:ext cx="1676160" cy="60948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Line 16"/>
          <p:cNvSpPr/>
          <p:nvPr/>
        </p:nvSpPr>
        <p:spPr>
          <a:xfrm flipH="1" flipV="1">
            <a:off x="4723920" y="3962520"/>
            <a:ext cx="2057400" cy="91440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715720" y="525780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Mous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1981080" y="3048120"/>
            <a:ext cx="99072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ode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>
            <a:off x="2971800" y="3200400"/>
            <a:ext cx="609480" cy="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Line 20"/>
          <p:cNvSpPr/>
          <p:nvPr/>
        </p:nvSpPr>
        <p:spPr>
          <a:xfrm flipH="1" flipV="1">
            <a:off x="1980720" y="1980720"/>
            <a:ext cx="1600200" cy="83844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6324480" y="990720"/>
            <a:ext cx="1447920" cy="609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CD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Oval 22"/>
          <p:cNvSpPr/>
          <p:nvPr/>
        </p:nvSpPr>
        <p:spPr>
          <a:xfrm>
            <a:off x="7315200" y="1066680"/>
            <a:ext cx="380880" cy="3812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Line 23"/>
          <p:cNvSpPr/>
          <p:nvPr/>
        </p:nvSpPr>
        <p:spPr>
          <a:xfrm flipV="1">
            <a:off x="5715000" y="1599840"/>
            <a:ext cx="990720" cy="121932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7331040" y="2757600"/>
            <a:ext cx="304920" cy="304560"/>
          </a:xfrm>
          <a:prstGeom prst="rect">
            <a:avLst/>
          </a:prstGeom>
          <a:solidFill>
            <a:srgbClr val="0066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7331040" y="3138480"/>
            <a:ext cx="3049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7331040" y="3519360"/>
            <a:ext cx="30492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7621560" y="274320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7697880" y="312408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7776720" y="350532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I/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imes New Roman"/>
              </a:rPr>
              <a:t>Read - Writ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7162920" y="2286000"/>
            <a:ext cx="1828800" cy="19051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7529760" y="22510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Legen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side the Box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cessor – e.g. Pentium IV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mory – e.g. 256 MB R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age – e.g. Hard Drive, CD-RW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lots &amp; Ca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14:45:56Z</dcterms:created>
  <dc:creator>Urquhart</dc:creator>
  <dc:description/>
  <dc:language>en-US</dc:language>
  <cp:lastModifiedBy>A.G</cp:lastModifiedBy>
  <dcterms:modified xsi:type="dcterms:W3CDTF">2018-10-11T17:31:18Z</dcterms:modified>
  <cp:revision>81</cp:revision>
  <dc:subject/>
  <dc:title>Computer Hardware</dc:title>
</cp:coreProperties>
</file>