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8BE-6FAD-4E80-93BE-7FE12B2D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430-26B3-4437-A709-D3A908F5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C0B-3DAF-406B-9D11-0D6B187B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3FE-BE6A-45B3-92A4-F98F87C4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A7A-E548-41DE-959A-8A3D1268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2B5E-7AD4-486B-BD2E-9B9F9FB3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019A-775B-4965-907A-0E4AE191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CDE1-A96E-4CC2-99E0-3FA7846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5947-20DB-4D82-9DA5-72E8D5AD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A06F-09C2-4F18-B496-926DB672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E18-1225-4FB1-9641-26E0E88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B816-DC6B-4DC7-BA32-5CD3D5B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C511-FEE2-437E-927E-4813703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9A3-748E-4D88-A480-7451D0D8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B6E8-4578-4310-A385-126487DB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780B-BC84-4E7D-9AD8-EDB3CF3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043-B7F1-4364-AF5C-041E0643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B3F-80A9-4726-A483-AA3182B4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B22-8671-4A15-9B99-4CF98A8A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F46-76FD-420F-A9DB-A7308B71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D25-FD53-4C9C-8D81-F684A1EE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ACF-459C-4531-91CC-AEB02810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0CF-E29D-4D9E-89EB-38E44B4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BB-D938-47C3-9FC8-CF7DE47A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2124-3CE5-4F02-98E6-64CB4018B5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06F6-9295-4389-9236-76A7B9B068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Computer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&amp; the Intern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ctur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n Ele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help make computers easier to us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icture icons are used to represent action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st programs have things in commo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p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st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look the same from program to program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 Common Elements to Loc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itle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ize and Close butt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croll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rtion 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nu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soft Word button on the task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S Office Menu Bar &amp; Tool Ba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ll menu bars have these op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Ed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Vie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s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bean_on_a_computer_lc"/>
          <p:cNvPicPr/>
          <p:nvPr/>
        </p:nvPicPr>
        <p:blipFill>
          <a:blip r:embed="rId1"/>
          <a:stretch/>
        </p:blipFill>
        <p:spPr>
          <a:xfrm>
            <a:off x="5486400" y="4572000"/>
            <a:ext cx="148608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omputer_mouse_maze_lc"/>
          <p:cNvPicPr/>
          <p:nvPr/>
        </p:nvPicPr>
        <p:blipFill>
          <a:blip r:embed="rId2"/>
          <a:stretch/>
        </p:blipFill>
        <p:spPr>
          <a:xfrm>
            <a:off x="1219320" y="12952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king with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nd save a docu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Opening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 fol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computer_tower_floppy_a_lc"/>
          <p:cNvPicPr/>
          <p:nvPr/>
        </p:nvPicPr>
        <p:blipFill>
          <a:blip r:embed="rId1"/>
          <a:stretch/>
        </p:blipFill>
        <p:spPr>
          <a:xfrm>
            <a:off x="5029200" y="3048120"/>
            <a:ext cx="2075040" cy="299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't harm a computer by experimenting or trying something new, so if you think you remember how to do something, try it. The worst that can happen is that you learn something new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Describe the function and components of the Interne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the Internet Explorer brows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Web pag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Internet Explorer Help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 a Web pag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man_web_surfing_lc"/>
          <p:cNvPicPr/>
          <p:nvPr/>
        </p:nvPicPr>
        <p:blipFill>
          <a:blip r:embed="rId1"/>
          <a:stretch/>
        </p:blipFill>
        <p:spPr>
          <a:xfrm>
            <a:off x="5181480" y="4876920"/>
            <a:ext cx="1782720" cy="141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Interne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worldwide network of compu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urrent information on almost any top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unicate worldwid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retired_woman_pulling_a_lc"/>
          <p:cNvPicPr/>
          <p:nvPr/>
        </p:nvPicPr>
        <p:blipFill>
          <a:blip r:embed="rId1"/>
          <a:stretch/>
        </p:blipFill>
        <p:spPr>
          <a:xfrm>
            <a:off x="1066680" y="1349280"/>
            <a:ext cx="163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mail_e_rotate_lc"/>
          <p:cNvPicPr/>
          <p:nvPr/>
        </p:nvPicPr>
        <p:blipFill>
          <a:blip r:embed="rId2"/>
          <a:stretch/>
        </p:blipFill>
        <p:spPr>
          <a:xfrm>
            <a:off x="5410080" y="4572000"/>
            <a:ext cx="133668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 Explorer (I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Web browser used to navigate through pages on the Intern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Web pages are accessed by hyperlinks or typed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 group of Web pages owned by one organization is a Web si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main page in a Web site is the home pa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use computer hardwa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and close a desired progra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back and forth between open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d save a Word document on a floppy dis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10" descr="man_stuck_in_computer_a_lc"/>
          <p:cNvPicPr/>
          <p:nvPr/>
        </p:nvPicPr>
        <p:blipFill>
          <a:blip r:embed="rId1"/>
          <a:stretch/>
        </p:blipFill>
        <p:spPr>
          <a:xfrm>
            <a:off x="5257800" y="4724280"/>
            <a:ext cx="1635120" cy="11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six main areas of IE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itle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enu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ddres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formation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tu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Toolbar buttons help you navig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orw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o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fre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6" descr="computer_to_computer__a_lc"/>
          <p:cNvPicPr/>
          <p:nvPr/>
        </p:nvPicPr>
        <p:blipFill>
          <a:blip r:embed="rId1"/>
          <a:stretch/>
        </p:blipFill>
        <p:spPr>
          <a:xfrm>
            <a:off x="2438280" y="4495680"/>
            <a:ext cx="35816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Favor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 are shortcuts to pre-selected Web si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Favorites through the toolbar but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lace a Web site in the Favorites folder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Hel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vides information, support, and tips for using 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Help through the menu b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ful topics include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Getting Star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king the To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733560" y="2209320"/>
            <a:ext cx="6933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monitor_info_exchange_a_lc"/>
          <p:cNvPicPr/>
          <p:nvPr/>
        </p:nvPicPr>
        <p:blipFill>
          <a:blip r:embed="rId1"/>
          <a:stretch/>
        </p:blipFill>
        <p:spPr>
          <a:xfrm>
            <a:off x="4952880" y="4191120"/>
            <a:ext cx="2590920" cy="2477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et Explorer is a Web browser that is used to access, view, and navigate text and images on the World Wide Web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ditional Inform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Harness E-Mail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 Etiquet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uter Worksta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Working Posi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mput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tool for accessing informatio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PC is a personal computer – a one person or single user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does not think on its own. You have to tell it what to d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c computer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c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mister_pc_winking_lc"/>
          <p:cNvPicPr/>
          <p:nvPr/>
        </p:nvPicPr>
        <p:blipFill>
          <a:blip r:embed="rId1"/>
          <a:stretch/>
        </p:blipFill>
        <p:spPr>
          <a:xfrm>
            <a:off x="5029200" y="4419720"/>
            <a:ext cx="2079720" cy="1931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ech_frustrated_compu_a_lc"/>
          <p:cNvPicPr/>
          <p:nvPr/>
        </p:nvPicPr>
        <p:blipFill>
          <a:blip r:embed="rId2"/>
          <a:stretch/>
        </p:blipFill>
        <p:spPr>
          <a:xfrm>
            <a:off x="1143000" y="1143000"/>
            <a:ext cx="19810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kt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esktop is the first thing you see when you log in- it is the “launch pad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cons, or pictures, represent programs that are available on the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tice the gray task bar at the bottom of the scre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cate the following items on your desktop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sk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gram ic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use poi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rt butt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arting a Program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 start, or open, a program by double-clicking its icon on the desk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ogram is visible as a window on the computer scr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button representing the program appears on the taskb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6" descr="hand_mouse_moving_cli_a_lc"/>
          <p:cNvPicPr/>
          <p:nvPr/>
        </p:nvPicPr>
        <p:blipFill>
          <a:blip r:embed="rId1"/>
          <a:stretch/>
        </p:blipFill>
        <p:spPr>
          <a:xfrm>
            <a:off x="1295280" y="1295280"/>
            <a:ext cx="163512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laptop_closeup_windows_lc"/>
          <p:cNvPicPr/>
          <p:nvPr/>
        </p:nvPicPr>
        <p:blipFill>
          <a:blip r:embed="rId2"/>
          <a:stretch/>
        </p:blipFill>
        <p:spPr>
          <a:xfrm>
            <a:off x="4952880" y="4800600"/>
            <a:ext cx="1863720" cy="133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orking With 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ndows represents an open program or fold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 have more than one window open at a tim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window you are working in is called the active wind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ctive window will be on top of any other open window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07:53Z</dcterms:created>
  <dc:creator>Sarah Kate Moore</dc:creator>
  <dc:description/>
  <cp:keywords/>
  <dc:language>en-US</dc:language>
  <cp:lastModifiedBy>A.G</cp:lastModifiedBy>
  <dcterms:modified xsi:type="dcterms:W3CDTF">2018-12-17T08:08:46Z</dcterms:modified>
  <cp:revision>49</cp:revision>
  <dc:subject/>
  <dc:title>Basic Computer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