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C41-430D-42A3-BCF2-8BBC1E3E5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EE8-5A66-445B-8E7C-0D7F9BCA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47D4-9A02-485C-B689-D3B0ECD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C449-47E6-4CE1-83C5-BB1C106EA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CD35-D79C-4336-AA46-FF32D359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A8B0-E95F-4598-AABD-028B66F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C81-1A51-44B5-B2D6-2E74E93F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C2FE-63B3-44C0-8731-E0753984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3D7B-B665-4A44-AA85-A0E13910A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A092-A20B-48FE-AA97-846F156C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290D-7114-41D9-9E77-F1BBDF2A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F16E-90FE-4427-877A-220C7137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C94FE495-8BFF-4BF0-95CD-AAF200B50C5E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ion and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hift opera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&l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he bits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s to the left, shifting in zeros on the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x = 1111 1111 1111 000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&l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quals 1111 1111 1110 0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the bits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itions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the sign if it is a signed integer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(arithmetic shif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ifts in 0 if it is an unsigned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0111 1111 1111 1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&gt;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1111 1111 1111 1000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ign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twise logical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on all integer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Bitwis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F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002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&amp;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0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itwise In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|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^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Bitwise Exclusiv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^y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The complement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 y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0xFFD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s all of the bits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ift, Multiplication and Di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 and division is often slower than shi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ying 2 can be replaced by shifting 1 bit to the lef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n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 , n*2, n&lt;&l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, n*4, n&lt;&lt;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 by 2 can be replace by shifting 1 bit to the r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n =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 , n/2, n&gt;&gt;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Courier New"/>
              </a:rPr>
              <a:t>printf(“%d = %d”, n/4, n&gt;&gt;2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or Preced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Precedenc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1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 )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~, ++, --, unary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*, /, %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,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&lt;, &gt;&g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, &lt;=, &gt;, &g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=, !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^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amp;&amp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||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, +=, -=, etc.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7652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’ll be adding more to this list later on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1676520"/>
            <a:ext cx="5715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1219320"/>
            <a:ext cx="0" cy="5715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difference between the two lines of outpu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w=10,x=20,y=30,z=4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temp1, temp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1 = x * x /++y + z /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temp1= %d;\nw= %d;\nx= %d;\ny= %d;\nz= %d\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1, w,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y=3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2 = x * x /y++ + z /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temp2= %d;\nw= %d;\nx= %d;\ny= %d;\nz= %d\n"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emp2, w,x,y,z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nditional operator essentially allows you to embed an “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tatement into an expr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xp1  ?  exp2  :  exp3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1 is true (non-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 is exp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exp3 is not evalu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exp1 is false (0),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 is exp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exp2 is not evalua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(x &gt; y) ? x :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equivalent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f (x &gt;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z = y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58920" y="355320"/>
            <a:ext cx="3639960" cy="64944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41440" y="1066680"/>
            <a:ext cx="9136080" cy="61660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can be composed of multiple subexpressions separated by com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expressions are evaluated left to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tire expression evaluates to the valu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ightmost subexpres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(a++, b++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cr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ssigned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incr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hesis are required because the comma operator has a lower precedence than the assignment operato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mma operator is often used i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ma Operator and For Loo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int i, sum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for (i=0,sum=0;i&lt;100;i++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   </a:t>
            </a: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sum +=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1" lang="en-CA" sz="2800" spc="-1" strike="noStrike">
                <a:solidFill>
                  <a:srgbClr val="9900cc"/>
                </a:solidFill>
                <a:latin typeface="Courier New"/>
              </a:rPr>
              <a:t>printf(“1+...+100 = %d”, sum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ressions and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 + 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x+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",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yp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ction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pressions formed by data and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pression in C usually has a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 for the function call that return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vo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ithmetic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ymbol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Ac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ddi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+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Adds operand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ubtraction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-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Subs second from first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-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egation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-           Negates operan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ultiplicat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*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Multiplies operand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ivisio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/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Divides first by secon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/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integer quot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odulu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%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Remainder of divide op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%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2286000"/>
            <a:ext cx="89913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0120" y="16002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ignment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n 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of this expression i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perator has a side effect -- assig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ssignment operat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de-effect is to assign the value of the right hand side (rhs) to the left hand side (lh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lue is the value of the r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( y = 3 ) +1;      /* y is assigned 3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the value of (y=3) is 3 *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x is assigned 4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ound Assignment Opera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we use “update” forms of op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=x+1,  x=x*2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offers a short form for th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op=  expr       equivalent to  variable = variable op exp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forms have value equal to the final value of exp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.e.,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x=3; y= (x+=3)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/* x and y both get value 6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28800" y="3276720"/>
            <a:ext cx="5562720" cy="3018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Operator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9900cc"/>
                </a:solidFill>
                <a:uFillTx/>
                <a:latin typeface="Arial"/>
              </a:rPr>
              <a:t>Equivalent t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*= y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x *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-= z + 1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y - (z +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/= b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= a / 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+= y / 8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 x + (y / 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%= 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y %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rement and Decr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operators with side effects are the pre- and post-increment and decrement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me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x, x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is the same as :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 = x + 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lu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9900cc"/>
                </a:solidFill>
                <a:latin typeface="Arial"/>
              </a:rPr>
              <a:t>ol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ide-effect of increment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valu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i="1" lang="en-US" sz="2800" spc="-1" strike="noStrike" baseline="-25000">
                <a:solidFill>
                  <a:srgbClr val="9900cc"/>
                </a:solidFill>
                <a:latin typeface="Arial"/>
              </a:rPr>
              <a:t>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side-effect of incrementing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ment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-            --x, x-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lationa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onal operators allow you to compare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return a 1 value for true and a 0 for fa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perator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ymbol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5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=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==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x 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 &gt;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/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g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gt;=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han/equ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&lt;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&lt;= 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eq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!=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 !=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re is no </a:t>
            </a:r>
            <a:r>
              <a:rPr b="0" lang="en-CA" sz="2800" spc="-1" strike="noStrike">
                <a:solidFill>
                  <a:srgbClr val="9900cc"/>
                </a:solidFill>
                <a:latin typeface="Arial"/>
              </a:rPr>
              <a:t>bool</a:t>
            </a: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 type in C.  Instead, C u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0 as 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n-zero integer as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666880"/>
            <a:ext cx="8305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2133720"/>
            <a:ext cx="0" cy="3504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2133720"/>
            <a:ext cx="0" cy="3504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gical Oper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amp;&amp;    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||       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        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!((a&gt;1)&amp;&amp;(a&lt;10))||((a&lt;-1)&amp;&amp;(a&gt;-10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rating on Bi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5252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 allows you to operate on the bit representations of integer variab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ly called bit-wise operato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integers can be thought of in binary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, suppose ints have 16-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552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= 1111 1111 1111 0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FFF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6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776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C, hexadecimal literals begin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octal literals begin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6552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0xfff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16 (h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19680" indent="-24336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x=0177760;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 8 (oc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10-07T01:29:11Z</dcterms:modified>
  <cp:revision>1422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