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744C-9C29-4888-949B-6BDA9A7B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E3C-89C4-4E01-B585-1A7E0788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578A-1E8A-41F4-869F-CCEC6F07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0558-D7A0-414B-A654-E2C0CD16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E836-2020-4689-A0F6-2EC64659C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838B-8C37-49C3-A925-1FAB870D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3D9-C38F-4032-89E6-4F86862A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DFC2-084C-4147-8D55-AEE937B9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7458-04A1-4B78-9C88-7FE63DE76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5B78-43C0-44BF-93AE-2FC5CF3FB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86A-D979-49D4-A37F-0FB079DD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7DF6-D6D7-4A12-9759-BA0B2BC4C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A679B027-142B-4139-AA5C-9878E2EBE20B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lname[81], fname[81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 count, id_n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 ("Enter the last name, firstname, ID number separated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 ("by spaces, then press Enter 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unt = scanf ("%s%s%d", lname, fname,&amp;id_n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%d items entered: %s %s %d\n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unt,fname,lname,id_n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 String Libr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functions are provided in an ANSI standard string libra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 this through the include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ludes functions such 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ing length of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ying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atenating st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ibrary is guaranteed to be there in any ANSI standard implementation of 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5320" indent="-3553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l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s the length of a NULL terminated character str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ize_t  strlen (char * str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string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ize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e defined in string.h that is equivalent to an unsigned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-3553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*st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s to a series of characters or is a character array ending with '\0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95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code has a problem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a[5]={‘a’, ’b’, ’c’, ’d’, ’e’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len(a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c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pying a string comes in the for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strcpy (char * destination, char * sourc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py of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ourc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made at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dest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be NULL termin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destin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uld have enough ro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its length should be at least the size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our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turn value also points at the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destin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c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cluded in string.h and comes in the form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 strcat (char * str1, char * str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ends a copy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end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er equal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sure that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has sufficient space for the concatenated str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ay index out of range will be the most popular bug in your C programming care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tr1[27] = "abc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tr2[1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%d\n",strlen(str1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str2,str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str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"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at(str2,str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str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aring String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 strings can be compared for equality or inequ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are equal - they are ASCII identic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f they are unequal the comparison function will return an int that is interpreted 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&lt; 0  :  str1 is less than st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0  :  str1 is equal to st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&gt; 0  :  str1 is greater than st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cm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 basic comparison fun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strcmp (char *str1, char *str2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0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an ASCII comparison one char at a time until a difference is found between two ch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9840" indent="-24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value is as stated b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0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both strings reach a '\0' at the same time, they are considered eq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strncmp (char *str1, char * str2, size_t 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-240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s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9840" indent="-24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s until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s are compared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89840" indent="-241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nd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encount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hav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asecmp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ncasecmp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ich do the same as above, but ignore case in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nc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tr1[] = "The first string.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tr2[] = "The second string.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ize_t  n,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%d\n", strncmp(str1,str2,4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%d\n", strncmp(str1,str2,5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arching String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100584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are a number of searching function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 strchr (char * str, int ch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h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arc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ound or NULL character is foun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ound, a (non-NULL) pointer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NULL is returne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etermine its location (index) in the string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ng the value returned from the address of the start of the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pointer arithmetic … more on this la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ngs are Character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s in C are simply arrays of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 s [1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n (10) element array that can hold a character string consisting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9 charac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because C does not know where the end of an array is at ru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, C uses a NULL characte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'\0'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terminate all strings in its library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str [10] = {'u', 'n', 'I', 'x', '\0'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the string terminator (not the size of the array) that determines the length of the str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use of strch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ch='b', buf[8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buf, "The quick brown fox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(strchr(buf,ch) == NUL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The character %c was not found.\n",ch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The character %c was found at positio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%d\n", ch, strchr(buf,ch)-buf+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arching String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other string searching func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 strstr (char * str, char * query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arches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til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quer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found or a NULL character is foun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found, a (non-NULL) pointer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retur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NULL is returned inst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print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9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9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int sprintf( char *s, const char *format, …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tead of printing to the stdin with printf(…),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print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prints to a str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ry useful for formatting a string, or when one needs to convert integers or floating point numbers to string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e is also a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scan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or formatted input from a string in the same way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can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ork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result[10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printf(result, "%f", (float)17/37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f (strstr(result, "45") != NU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The digit sequence 45 is in 17                   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     divided by 37. \n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Strings to Numb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d in &lt;stdlib.h&gt; and are often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atoi (char *pt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es a character string and converts it to an integ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 space and + or - are 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at beginning and continues until something non-convertible is encount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Value returned</a:t>
            </a: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57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7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-1.6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+50x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twelve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x506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verting Strings to Numb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long atol (char *ptr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a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toi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pt it returns a lo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double atof (char * str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s digits 0-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decimal po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onent indicator (e or 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haracters are convertible a 0 is retur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 return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2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.000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-0.123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0.123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23E+3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3000.000000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123.1e-5"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0012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ccessing Individual Charac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element of any array in C is at index 0.  The second is at index 1, and so on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s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0] = 'h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1] = 'i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2] = '!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[3] = '\0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notation can be used in all kinds of statements and expressions in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 = s[1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s[0] == '-')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 (s[1])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1240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91120" y="289548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242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780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91320" y="289548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2895480"/>
            <a:ext cx="53316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924680" y="2895480"/>
            <a:ext cx="533520" cy="5335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0004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33920" y="2895480"/>
            <a:ext cx="29376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895480"/>
            <a:ext cx="31644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23920" y="2895480"/>
            <a:ext cx="54216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\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376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86692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0044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3396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6712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00640" y="2895480"/>
            <a:ext cx="429480" cy="5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3480" y="3471840"/>
            <a:ext cx="583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  [0] [1]  [2] [3] [4]  [5] [6]  [7] [8]  [9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ing Liter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ing literals are given as a string quoted by double quot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("Long long ago.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itializing char array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[10]="unix";  /* s[4] is '\0';               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s[ ]="unix";     /* s has five elements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ting with printf 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tr[ ] = "A message to display"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%s\n", s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pects to receive a string as an additional parameter when it sees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%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the format 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from a character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another literal str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from a character pointer (more on this lat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nows how much to print out because of the NULL character at the end of all string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it finds a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\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it knows to s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str[10]="unix and c"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%s", 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[6]='\0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%s", 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[2]='%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st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rinting with puts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nction is a much simpler output function than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string prin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e of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defined in stdio.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puts(const char * st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7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more efficient tha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cause your program doesn't need to analyze the format string at run-ti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sentence[] = "The quick brown fox\n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sentenc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s 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quick brown f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putting Strings with gets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gets(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ts a line from the standard inp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rototype is defined in stdio.h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gets(char *s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 is a pointer to the space where gets will store the line to, or a character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NULL upon failure.  Otherwise, it returns st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your_line[1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Enter a line: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gets(your_line)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"Your input follows: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your_lin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overflow your string buffer, so be carefu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putting Strings with scanf ( 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1360" indent="-351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ad a string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%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scans up to but not including the “next” white space charac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%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cans the next </a:t>
            </a:r>
            <a:r>
              <a:rPr b="1" i="1" lang="en-US" sz="2800" spc="-1" strike="noStrike" u="sng">
                <a:solidFill>
                  <a:srgbClr val="9900cc"/>
                </a:solidFill>
                <a:uFillTx/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haracters or up to the next white space character, whichever com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360" indent="-351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 ("%s%s%s", s1, s2, s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692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 ("%2s%2s%2s", s1, s2, s3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No ampersand(&amp;) when inputting strings into character arrays!  (We’ll explain why later …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360" indent="-351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between 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gets( 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read a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60320" indent="-291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("%s",…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ad up to the next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0-07T01:56:04Z</dcterms:modified>
  <cp:revision>1486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