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C7F1-BABD-484D-B9BC-52031B242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E49-4714-41F0-B129-2EF09AC0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CBF7-D450-496E-8E27-5976DC18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0087-596A-4D94-B932-B5806A779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5C0D-F541-49CB-8B07-D0FECE511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69F6-6ABA-4C1E-B671-1D2D5F44A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2E9D-3BE9-4952-BD69-38DC8123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389-42A5-493F-9433-EF6C7A8DE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3C33-E892-43BF-AA9E-F14D6A183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4456-D6B1-49E8-866B-6525A6A8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E9A-1E7E-4932-9D59-7B7C24C6A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E84-60F1-4309-8C46-DBA01ED23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8FD5755E-275D-4A47-9C76-1434A8761421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vanced Pointer Top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Func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ypedef struct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title[10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 book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(*ptr_comp)(const book *, const book *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compare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* ptr_comp(const book *, const book *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not forget to initialize the pointer -- point the pointer to a real func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Function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compare_price(const book * p, const book *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p-&gt;price-q-&gt;pr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compare_title(const book * p, const book *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strcmp(p-&gt;title,q-&gt; tit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 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ook a,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.price=19.99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cpy(a.title, "unix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.price=20.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cpy(b.title, "c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tr_comp = compare_pri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 ptr_comp(&amp;a, &amp;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tr_comp = compare_tit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 ptr_comp(&amp;a, &amp;b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The qsort() Func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you want to sort something using the quick sort algorithm.  C provides a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qsort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n its standard library.  Here is the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YNOP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 qsort(void  *base,  size_t  nel,  size_t  width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(*compar)(const void *, const void *)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 points to the element at the base of  the array to sort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 is the number of elements in the table. 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id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gument specifies the size of  each  element in 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mpa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 is a pointer to the comparison function, which is called with two arguments  that     point to the elements being comp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The qsort() Func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ook my_books[1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qsort(my_books, 1000, sizeof(book), compare_pric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qsort(my_books, 1000, sizeof(book), compare_titl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allocating Dynamic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very call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sed to build a dynamically allocated structure, there should be a corresponding call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able insid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mallo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eps track of the starting addresses of all allocated blocks from the heap, along with their siz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n address is passed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it is looked up in the table, and the correct amount of space is deallo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not deallocate just part of a string or any other allocated blo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 main(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 *p = malloc(10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(p+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ntf("Finsished!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Poin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98298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inter variabl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a var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takes some memory address as its value.  Therefore, you can have another pointer pointing to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* p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** pp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px = &amp;p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x = &amp;x;       /* i.e. *ppx = &amp;x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**ppx = 10;  /*  i.e. *px =10;  i.e. x=10;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px = (int **) malloc(sizeof(int *)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**ppx = 20;  /* Wrong, since *ppx is uninitialized!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Point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we have an array of structures, each structure can potentially be very bi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ort such an array, a lot of memory copying and movements are necessary, which can be expens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fficiency, we can use array of pointers inste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abstract[5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book_ary[1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* pbook_ary[1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i=0;i&lt;1000;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book_ary[i] = &amp;book_ary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Point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4000"/>
          </a:bodyPr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my_sort(struct book * pbook_ary[ ], int siz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i=1;i&lt;size;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=pbook_ary[i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j=i-1;j&gt;=0;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pbook_ary[ j ] -&gt; price &gt; p -&gt; pri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book_ary[ j+1 ]= pbook_ary[ j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book_ary[ j+1 ] = 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5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Pointer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9296640" cy="6172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** search_range(struct book * pbook_ary[ ], int size, float low, float high, int *nu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i, j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i=0;i&lt;size;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pbook_ary[i] -&gt; price &gt;= low) 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j=size; j&gt;0;j--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pbook_ary[ j] -&gt; price &lt;= high) brea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/* i , i+1, …, j  are the elements in the range */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*num = j – i +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&amp;pbook_ary[ i 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ynamic Two 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** ar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, 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rand( time(NULL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 = rand( ) % 5000 +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 = (int **) malloc( m * sizeof(int *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j =0; j&lt; m; j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[ j ]= (int *) malloc ( (j+1) *sizeof(int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[3][4]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*( *( ary + 3) + 4) = 6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ry-&gt;[3]-&gt;[4] = 6;   /* NO! You can not do this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 Pointer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on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keyword has a different meaning when applied to poi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test( const int k, const int * 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k ++;      /* 1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(*m) ++;  /*  2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 ++;      /*  3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%d,%d", k, *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piler will warn you about th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increments, but not 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 Pointer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ason we use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cons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before parameters is to indicate that we will not modify the value of the corresponding parameter inside the functio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example:  we would not worry about the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format_st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s going to be modified by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when we look at its prototyp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printf(const char * format_str, ……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Func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a pointer merely contains an address, it can point to anyth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ction also has an address -- it must be loaded in to memory somewhere to be executed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we can also point a pointer to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(*compare)(int, int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825080" y="5575320"/>
            <a:ext cx="5010120" cy="1556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1. Compare is a poin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2. To a fun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3. That returns an int va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40800">
            <a:off x="2361960" y="3962160"/>
            <a:ext cx="380880" cy="1600200"/>
          </a:xfrm>
          <a:custGeom>
            <a:avLst/>
            <a:gdLst>
              <a:gd name="textAreaLeft" fmla="*/ 243360 w 380880"/>
              <a:gd name="textAreaRight" fmla="*/ 381240 w 38088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6240800">
            <a:off x="3502800" y="4280760"/>
            <a:ext cx="380880" cy="22082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08240"/>
              <a:gd name="textAreaBottom" fmla="*/ 2150640 h 220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40800">
            <a:off x="2208960" y="4802760"/>
            <a:ext cx="380880" cy="2513160"/>
          </a:xfrm>
          <a:custGeom>
            <a:avLst/>
            <a:gdLst>
              <a:gd name="textAreaLeft" fmla="*/ 243360 w 380880"/>
              <a:gd name="textAreaRight" fmla="*/ 381240 w 380880"/>
              <a:gd name="textAreaTop" fmla="*/ 65520 h 2513160"/>
              <a:gd name="textAreaBottom" fmla="*/ 2447640 h 251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29160" y="4853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45160" y="557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75280" y="6249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1-18T03:00:42Z</dcterms:modified>
  <cp:revision>1646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