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10058400" cy="77724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0880" y="440676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476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2440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6792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088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2440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6792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3CD3-AA5D-460E-89DF-89BEC243B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C062-D27F-45A5-A666-D1CA4A271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A551-DEFF-44AD-A037-7060D3F6C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57DC-F0E9-4008-A8F6-3463B01D2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11C9-63F7-4FDE-80E6-1B3C4B60E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3520" y="258840"/>
            <a:ext cx="8991360" cy="37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2AA0-B398-498C-8C23-2FC53C7E1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70C8-A14E-423A-BB61-ED2C56CAF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4476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48B1-F57A-4005-9463-6DAC01E2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1B2F-516A-4C2A-A35A-65F0014E9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0880" y="440676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18B9-DE17-4A00-8C28-0C26DEBC8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4476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9121-A417-41F3-80F6-2AF2429C7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2440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6792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8088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2440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66792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5A21-32C2-4662-BAFA-92C9DA3B9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3520" y="258840"/>
            <a:ext cx="8991360" cy="37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476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60400" indent="-252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63680" indent="-252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63680" indent="-2523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63680" indent="-2523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066680"/>
            <a:ext cx="929664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00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6632640"/>
            <a:ext cx="10064880" cy="115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0" y="6570720"/>
            <a:ext cx="10066320" cy="1219320"/>
            <a:chOff x="0" y="6570720"/>
            <a:chExt cx="10066320" cy="1219320"/>
          </a:xfrm>
        </p:grpSpPr>
        <p:sp>
          <p:nvSpPr>
            <p:cNvPr id="41" name=""/>
            <p:cNvSpPr/>
            <p:nvPr/>
          </p:nvSpPr>
          <p:spPr>
            <a:xfrm>
              <a:off x="0" y="6570720"/>
              <a:ext cx="1009800" cy="1219320"/>
            </a:xfrm>
            <a:custGeom>
              <a:avLst/>
              <a:gdLst/>
              <a:ahLst/>
              <a:rect l="l" t="t" r="r" b="b"/>
              <a:pathLst>
                <a:path w="636" h="768">
                  <a:moveTo>
                    <a:pt x="0" y="767"/>
                  </a:moveTo>
                  <a:lnTo>
                    <a:pt x="529" y="0"/>
                  </a:lnTo>
                  <a:lnTo>
                    <a:pt x="635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755640" y="6570720"/>
              <a:ext cx="1009800" cy="1219320"/>
            </a:xfrm>
            <a:custGeom>
              <a:avLst/>
              <a:gdLst/>
              <a:ahLst/>
              <a:rect l="l" t="t" r="r" b="b"/>
              <a:pathLst>
                <a:path w="636" h="768">
                  <a:moveTo>
                    <a:pt x="0" y="767"/>
                  </a:moveTo>
                  <a:lnTo>
                    <a:pt x="529" y="0"/>
                  </a:lnTo>
                  <a:lnTo>
                    <a:pt x="635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33600" y="6570720"/>
              <a:ext cx="1008000" cy="1219320"/>
            </a:xfrm>
            <a:custGeom>
              <a:avLst/>
              <a:gdLst/>
              <a:ahLst/>
              <a:rect l="l" t="t" r="r" b="b"/>
              <a:pathLst>
                <a:path w="635" h="768">
                  <a:moveTo>
                    <a:pt x="0" y="767"/>
                  </a:moveTo>
                  <a:lnTo>
                    <a:pt x="528" y="0"/>
                  </a:lnTo>
                  <a:lnTo>
                    <a:pt x="634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309760" y="6570720"/>
              <a:ext cx="1009800" cy="1219320"/>
            </a:xfrm>
            <a:custGeom>
              <a:avLst/>
              <a:gdLst/>
              <a:ahLst/>
              <a:rect l="l" t="t" r="r" b="b"/>
              <a:pathLst>
                <a:path w="636" h="768">
                  <a:moveTo>
                    <a:pt x="0" y="767"/>
                  </a:moveTo>
                  <a:lnTo>
                    <a:pt x="529" y="0"/>
                  </a:lnTo>
                  <a:lnTo>
                    <a:pt x="635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087720" y="6570720"/>
              <a:ext cx="1008000" cy="1219320"/>
            </a:xfrm>
            <a:custGeom>
              <a:avLst/>
              <a:gdLst/>
              <a:ahLst/>
              <a:rect l="l" t="t" r="r" b="b"/>
              <a:pathLst>
                <a:path w="635" h="768">
                  <a:moveTo>
                    <a:pt x="0" y="767"/>
                  </a:moveTo>
                  <a:lnTo>
                    <a:pt x="528" y="0"/>
                  </a:lnTo>
                  <a:lnTo>
                    <a:pt x="634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863880" y="6570720"/>
              <a:ext cx="1009800" cy="1219320"/>
            </a:xfrm>
            <a:custGeom>
              <a:avLst/>
              <a:gdLst/>
              <a:ahLst/>
              <a:rect l="l" t="t" r="r" b="b"/>
              <a:pathLst>
                <a:path w="636" h="768">
                  <a:moveTo>
                    <a:pt x="0" y="767"/>
                  </a:moveTo>
                  <a:lnTo>
                    <a:pt x="529" y="0"/>
                  </a:lnTo>
                  <a:lnTo>
                    <a:pt x="635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621320" y="6570720"/>
              <a:ext cx="1008000" cy="1219320"/>
            </a:xfrm>
            <a:custGeom>
              <a:avLst/>
              <a:gdLst/>
              <a:ahLst/>
              <a:rect l="l" t="t" r="r" b="b"/>
              <a:pathLst>
                <a:path w="635" h="768">
                  <a:moveTo>
                    <a:pt x="0" y="767"/>
                  </a:moveTo>
                  <a:lnTo>
                    <a:pt x="528" y="0"/>
                  </a:lnTo>
                  <a:lnTo>
                    <a:pt x="634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96040" y="6570720"/>
              <a:ext cx="1011240" cy="1219320"/>
            </a:xfrm>
            <a:custGeom>
              <a:avLst/>
              <a:gdLst/>
              <a:ahLst/>
              <a:rect l="l" t="t" r="r" b="b"/>
              <a:pathLst>
                <a:path w="637" h="768">
                  <a:moveTo>
                    <a:pt x="0" y="767"/>
                  </a:moveTo>
                  <a:lnTo>
                    <a:pt x="530" y="0"/>
                  </a:lnTo>
                  <a:lnTo>
                    <a:pt x="636" y="0"/>
                  </a:lnTo>
                  <a:lnTo>
                    <a:pt x="106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194520" y="6570720"/>
              <a:ext cx="1011240" cy="1219320"/>
            </a:xfrm>
            <a:custGeom>
              <a:avLst/>
              <a:gdLst/>
              <a:ahLst/>
              <a:rect l="l" t="t" r="r" b="b"/>
              <a:pathLst>
                <a:path w="637" h="768">
                  <a:moveTo>
                    <a:pt x="0" y="767"/>
                  </a:moveTo>
                  <a:lnTo>
                    <a:pt x="530" y="0"/>
                  </a:lnTo>
                  <a:lnTo>
                    <a:pt x="636" y="0"/>
                  </a:lnTo>
                  <a:lnTo>
                    <a:pt x="106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991200" y="6570720"/>
              <a:ext cx="1011240" cy="1219320"/>
            </a:xfrm>
            <a:custGeom>
              <a:avLst/>
              <a:gdLst/>
              <a:ahLst/>
              <a:rect l="l" t="t" r="r" b="b"/>
              <a:pathLst>
                <a:path w="637" h="768">
                  <a:moveTo>
                    <a:pt x="0" y="767"/>
                  </a:moveTo>
                  <a:lnTo>
                    <a:pt x="530" y="0"/>
                  </a:lnTo>
                  <a:lnTo>
                    <a:pt x="636" y="0"/>
                  </a:lnTo>
                  <a:lnTo>
                    <a:pt x="106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810560" y="6570720"/>
              <a:ext cx="1011240" cy="1219320"/>
            </a:xfrm>
            <a:custGeom>
              <a:avLst/>
              <a:gdLst/>
              <a:ahLst/>
              <a:rect l="l" t="t" r="r" b="b"/>
              <a:pathLst>
                <a:path w="637" h="768">
                  <a:moveTo>
                    <a:pt x="0" y="767"/>
                  </a:moveTo>
                  <a:lnTo>
                    <a:pt x="530" y="0"/>
                  </a:lnTo>
                  <a:lnTo>
                    <a:pt x="636" y="0"/>
                  </a:lnTo>
                  <a:lnTo>
                    <a:pt x="106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609040" y="6570720"/>
              <a:ext cx="1009800" cy="1219320"/>
            </a:xfrm>
            <a:custGeom>
              <a:avLst/>
              <a:gdLst/>
              <a:ahLst/>
              <a:rect l="l" t="t" r="r" b="b"/>
              <a:pathLst>
                <a:path w="636" h="768">
                  <a:moveTo>
                    <a:pt x="0" y="767"/>
                  </a:moveTo>
                  <a:lnTo>
                    <a:pt x="529" y="0"/>
                  </a:lnTo>
                  <a:lnTo>
                    <a:pt x="635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434520" y="6881760"/>
              <a:ext cx="631800" cy="908280"/>
            </a:xfrm>
            <a:custGeom>
              <a:avLst/>
              <a:gdLst/>
              <a:ahLst/>
              <a:rect l="l" t="t" r="r" b="b"/>
              <a:pathLst>
                <a:path w="398" h="572">
                  <a:moveTo>
                    <a:pt x="0" y="571"/>
                  </a:moveTo>
                  <a:lnTo>
                    <a:pt x="397" y="0"/>
                  </a:lnTo>
                  <a:lnTo>
                    <a:pt x="397" y="139"/>
                  </a:lnTo>
                  <a:lnTo>
                    <a:pt x="105" y="571"/>
                  </a:lnTo>
                  <a:lnTo>
                    <a:pt x="0" y="57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3129120"/>
            <a:ext cx="900000" cy="1641240"/>
          </a:xfrm>
          <a:custGeom>
            <a:avLst/>
            <a:gdLst/>
            <a:ahLst/>
            <a:rect l="l" t="t" r="r" b="b"/>
            <a:pathLst>
              <a:path w="567" h="1034">
                <a:moveTo>
                  <a:pt x="0" y="0"/>
                </a:moveTo>
                <a:lnTo>
                  <a:pt x="566" y="0"/>
                </a:lnTo>
                <a:lnTo>
                  <a:pt x="0" y="103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9900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4200" y="2590920"/>
            <a:ext cx="855000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  <a:defRPr b="0" lang="en-GB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  <a:defRPr b="0" lang="en-GB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  <a:defRPr b="0" lang="en-GB" sz="15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fld id="{E59C2AF6-6EC2-4F55-93EE-62B722BED25B}" type="slidenum">
              <a:rPr b="0" lang="en-GB" sz="15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 algn="ctr">
              <a:spcBef>
                <a:spcPts val="601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6560" algn="ctr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0804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1132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113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113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4200" y="2590920"/>
            <a:ext cx="855000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ruct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5000"/>
          </a:bodyPr>
          <a:p>
            <a:pPr marL="358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truct data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loat amoun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char  fname[30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char lname[30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  re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main (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truct data re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 ("Enter the donor's first and last names, \n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 ("separated by a space: 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canf  ("%s %s", rec.fname, rec.lnam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 ("\nEnter the donation amount: 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canf  ("%f", &amp;rec.amount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 ("\nDonor %s %s gave $%.2f.\n"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rec.fname,rec.lname,rec.amount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rrays of Struct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verse of a structure with array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truct  entry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char  fname [10]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char  lname [12]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char phone [8]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truct entry list [1000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creates a list of 1000 identical entry(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ign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list [1] = list [6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trcpy (list[1].phone, list[6].phon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list[6].phone[1] = list[3].phone[4]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7200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truct entry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char fname [20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char lname [20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char phone [10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581280" y="1142640"/>
            <a:ext cx="64771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9000"/>
          </a:bodyPr>
          <a:p>
            <a:pPr marL="37404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int mai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04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struct entry list[4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04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int 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04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for (i=0; i &lt; 4; i++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04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printf ("\nEnter first name: 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04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scanf  ("%s", list[i].fnam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04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printf ("Enter last name: 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04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scanf  ("%s", list[i].lnam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04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printf ("Enter phone in 123-4567 format: 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04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scanf  ("%s", list[i].phon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04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04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printf ("\n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04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for (i=0; i &lt; 4; i++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04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printf ("Name: %s %s", list[i].fname, list[i].lnam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04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printf ("\t\tPhone: %s\n", list[i].phon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04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04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040" indent="0">
              <a:spcBef>
                <a:spcPts val="499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52680" y="1143000"/>
            <a:ext cx="0" cy="5943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itializing Struct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700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truct sale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700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char  customer [20]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700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char  item [20]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700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int amount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700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700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700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truct sale mysale = { "Acme Industries"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700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"Zorgle blaster"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700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1000 }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700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itializing Struct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s within structu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truct  customer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char firm [20]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char contact [25]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truct sal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truct customer buyer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char item [20]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amount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 mysale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{ { "Acme Industries", "George Adams"}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"Zorgle Blaster",  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itializing Struct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1920" y="1142640"/>
            <a:ext cx="480060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rays of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truct customer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char firm [20]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char contact [25]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}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truct sale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truct customer buyer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char item [20]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int amount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}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05520" y="1142640"/>
            <a:ext cx="457200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truct sale y1990 [100] =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{  { "Acme Industries", "George Adams"} 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"Left-handed Idiots" ,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}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{  { "Wilson &amp; Co."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"Ed Wilson"} 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"Thingamabob" , 2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} 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inters to Struct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6775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lvl="1" marL="81756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struct part {</a:t>
            </a:r>
            <a:br>
              <a:rPr sz="3200"/>
            </a:b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float price ;</a:t>
            </a:r>
            <a:br>
              <a:rPr sz="3200"/>
            </a:b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char name [10]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}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struct part *p , th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p = &amp;thing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/* The following three statements are equivalent 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thing.price = 5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(*p).price = 50;   /* () around *p is needed 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p -&gt; price = 50;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inters to Struct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0">
              <a:spcBef>
                <a:spcPts val="799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set to point to the first byte of the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stru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ari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2662200" y="1951200"/>
            <a:ext cx="882360" cy="366120"/>
            <a:chOff x="2662200" y="1951200"/>
            <a:chExt cx="882360" cy="366120"/>
          </a:xfrm>
        </p:grpSpPr>
        <p:sp>
          <p:nvSpPr>
            <p:cNvPr id="152" name=""/>
            <p:cNvSpPr/>
            <p:nvPr/>
          </p:nvSpPr>
          <p:spPr>
            <a:xfrm>
              <a:off x="2662200" y="1951200"/>
              <a:ext cx="434880" cy="366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09680" y="1951200"/>
              <a:ext cx="434880" cy="366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3557520" y="1951200"/>
            <a:ext cx="880920" cy="366120"/>
            <a:chOff x="3557520" y="1951200"/>
            <a:chExt cx="880920" cy="366120"/>
          </a:xfrm>
        </p:grpSpPr>
        <p:sp>
          <p:nvSpPr>
            <p:cNvPr id="155" name=""/>
            <p:cNvSpPr/>
            <p:nvPr/>
          </p:nvSpPr>
          <p:spPr>
            <a:xfrm>
              <a:off x="3557520" y="1951200"/>
              <a:ext cx="434160" cy="366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004280" y="1951200"/>
              <a:ext cx="434160" cy="366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4451400" y="1951200"/>
            <a:ext cx="882360" cy="366120"/>
            <a:chOff x="4451400" y="1951200"/>
            <a:chExt cx="882360" cy="366120"/>
          </a:xfrm>
        </p:grpSpPr>
        <p:sp>
          <p:nvSpPr>
            <p:cNvPr id="158" name=""/>
            <p:cNvSpPr/>
            <p:nvPr/>
          </p:nvSpPr>
          <p:spPr>
            <a:xfrm>
              <a:off x="4451400" y="1951200"/>
              <a:ext cx="434880" cy="366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98880" y="1951200"/>
              <a:ext cx="434880" cy="366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5346720" y="1951200"/>
            <a:ext cx="882360" cy="366120"/>
            <a:chOff x="5346720" y="1951200"/>
            <a:chExt cx="882360" cy="366120"/>
          </a:xfrm>
        </p:grpSpPr>
        <p:sp>
          <p:nvSpPr>
            <p:cNvPr id="161" name=""/>
            <p:cNvSpPr/>
            <p:nvPr/>
          </p:nvSpPr>
          <p:spPr>
            <a:xfrm>
              <a:off x="5346720" y="1951200"/>
              <a:ext cx="434880" cy="366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794200" y="1951200"/>
              <a:ext cx="434880" cy="366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6242040" y="1951200"/>
            <a:ext cx="880560" cy="366120"/>
            <a:chOff x="6242040" y="1951200"/>
            <a:chExt cx="880560" cy="366120"/>
          </a:xfrm>
        </p:grpSpPr>
        <p:sp>
          <p:nvSpPr>
            <p:cNvPr id="164" name=""/>
            <p:cNvSpPr/>
            <p:nvPr/>
          </p:nvSpPr>
          <p:spPr>
            <a:xfrm>
              <a:off x="6242040" y="1951200"/>
              <a:ext cx="433800" cy="366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689160" y="1951200"/>
              <a:ext cx="433440" cy="366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7134120" y="1951200"/>
            <a:ext cx="880920" cy="366120"/>
            <a:chOff x="7134120" y="1951200"/>
            <a:chExt cx="880920" cy="366120"/>
          </a:xfrm>
        </p:grpSpPr>
        <p:sp>
          <p:nvSpPr>
            <p:cNvPr id="167" name=""/>
            <p:cNvSpPr/>
            <p:nvPr/>
          </p:nvSpPr>
          <p:spPr>
            <a:xfrm>
              <a:off x="7134120" y="1951200"/>
              <a:ext cx="433800" cy="366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581240" y="1951200"/>
              <a:ext cx="433800" cy="366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1591560" y="1185840"/>
            <a:ext cx="18093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2500" spc="-1" strike="noStrike">
                <a:solidFill>
                  <a:srgbClr val="9900cc"/>
                </a:solidFill>
                <a:latin typeface="Arial"/>
              </a:rPr>
              <a:t>thing.price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52200" y="1185840"/>
            <a:ext cx="22665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2500" spc="-1" strike="noStrike">
                <a:solidFill>
                  <a:srgbClr val="9900cc"/>
                </a:solidFill>
                <a:latin typeface="Arial"/>
              </a:rPr>
              <a:t>thing.name [ ]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641680" y="1641600"/>
            <a:ext cx="0" cy="24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3757680" y="1544760"/>
            <a:ext cx="79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763800" y="1550880"/>
            <a:ext cx="0" cy="347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261120" y="1565280"/>
            <a:ext cx="1542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812000" y="1571760"/>
            <a:ext cx="0" cy="345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392360" y="2724120"/>
            <a:ext cx="3816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2500" spc="-1" strike="noStrike">
                <a:solidFill>
                  <a:srgbClr val="9900cc"/>
                </a:solidFill>
                <a:latin typeface="Arial"/>
              </a:rPr>
              <a:t>p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02000" y="2711520"/>
            <a:ext cx="920880" cy="347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447920" y="2886120"/>
            <a:ext cx="1954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1447920" y="2133360"/>
            <a:ext cx="279360" cy="717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779480" y="1951200"/>
            <a:ext cx="882360" cy="366120"/>
            <a:chOff x="1779480" y="1951200"/>
            <a:chExt cx="882360" cy="366120"/>
          </a:xfrm>
        </p:grpSpPr>
        <p:sp>
          <p:nvSpPr>
            <p:cNvPr id="181" name=""/>
            <p:cNvSpPr/>
            <p:nvPr/>
          </p:nvSpPr>
          <p:spPr>
            <a:xfrm>
              <a:off x="1779480" y="1951200"/>
              <a:ext cx="434880" cy="366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26960" y="1951200"/>
              <a:ext cx="434880" cy="366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557520" y="1951200"/>
            <a:ext cx="0" cy="3664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inters to Struct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9000"/>
          </a:bodyPr>
          <a:p>
            <a:pPr lvl="1" marL="80928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struct part * p, *q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928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p = (struct part *) malloc( sizeof(struct part) 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928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q = (struct part *) malloc( sizeof(struct part) 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928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p -&gt; price = 199.99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928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strcpy( p -&gt; name, "hard disk" 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928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(*q) = (*p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928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q = p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928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free(p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0928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free(q); /* This statement causes a problem !!!           </a:t>
            </a:r>
            <a:br>
              <a:rPr sz="3200"/>
            </a:b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              Why? *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inters to Struct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allocate a structure array as wel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truct part *ptr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ptr = (struct part *) malloc(10 * sizeof(struct part)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for( i=0; i&lt; 10; i+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ptr[ i ].price = 10.0 * 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printf( ptr[ i ].name, "part %d", i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free(ptr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ructures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6000"/>
          </a:bodyPr>
          <a:p>
            <a:pPr marL="362880" indent="-3628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es are C’s way of grouping collections of data into a single manageable un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4800" indent="-301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lso the fundamental element of C upon which most of C++ is built (i.e., class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4800" indent="-301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ilar to Java's cla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2880" indent="-3628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84800" indent="-301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ng a structure typ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07080" indent="0">
              <a:spcBef>
                <a:spcPts val="700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truct coord {</a:t>
            </a:r>
            <a:br>
              <a:rPr sz="2800"/>
            </a:b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    int x ;</a:t>
            </a:r>
            <a:br>
              <a:rPr sz="2800"/>
            </a:b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    int y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07080" indent="0">
              <a:spcBef>
                <a:spcPts val="700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4800" indent="-301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defines a new type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truct coo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 No variable is actually declared or gener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inters to Struct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use pointer arithmetic to access the elements of the arra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truct part *ptr,  *p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ptr = (struct part *) malloc(10 * sizeof(struct part)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for( i=0, p=ptr; i&lt; 10; i++, p+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p -&gt; price = 10.0 * 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printf( p -&gt; name, "part %d", i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free(ptr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ointer as Structure Memb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3886200" cy="48769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CA" sz="3200" spc="-1" strike="noStrike">
                <a:solidFill>
                  <a:srgbClr val="9900cc"/>
                </a:solidFill>
                <a:latin typeface="Arial"/>
              </a:rPr>
              <a:t>struct node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CA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9900cc"/>
                </a:solidFill>
                <a:latin typeface="Arial"/>
              </a:rPr>
              <a:t>int dat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CA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9900cc"/>
                </a:solidFill>
                <a:latin typeface="Arial"/>
              </a:rPr>
              <a:t>struct node *nex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CA" sz="3200" spc="-1" strike="noStrike">
                <a:solidFill>
                  <a:srgbClr val="9900cc"/>
                </a:solidFill>
                <a:latin typeface="Arial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CA" sz="3200" spc="-1" strike="noStrike">
                <a:solidFill>
                  <a:srgbClr val="9900cc"/>
                </a:solidFill>
                <a:latin typeface="Arial"/>
              </a:rPr>
              <a:t>struct node a,b,c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CA" sz="3200" spc="-1" strike="noStrike">
                <a:solidFill>
                  <a:srgbClr val="9900cc"/>
                </a:solidFill>
                <a:latin typeface="Arial"/>
              </a:rPr>
              <a:t>a.next = &amp;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CA" sz="3200" spc="-1" strike="noStrike">
                <a:solidFill>
                  <a:srgbClr val="9900cc"/>
                </a:solidFill>
                <a:latin typeface="Arial"/>
              </a:rPr>
              <a:t>b.next = &amp;c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CA" sz="3200" spc="-1" strike="noStrike">
                <a:solidFill>
                  <a:srgbClr val="9900cc"/>
                </a:solidFill>
                <a:latin typeface="Arial"/>
              </a:rPr>
              <a:t>c.next = NULL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3520" y="6477120"/>
            <a:ext cx="2590560" cy="685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62520" y="6477120"/>
            <a:ext cx="2590560" cy="685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162920" y="6477120"/>
            <a:ext cx="2590560" cy="685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828800" y="647712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257800" y="647712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459640" y="647712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743200" y="6858000"/>
            <a:ext cx="12193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943600" y="6851520"/>
            <a:ext cx="12193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614080" y="662940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NUL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52400" y="70628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54400" y="706284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314920" y="70628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1143000"/>
            <a:ext cx="454824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 marL="378000" indent="-37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a.data = 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a.next-&gt;data = 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/* b.data =2 *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a.next-&gt;next-&gt;data = 3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/* c.data = 3 *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c.next = (struct node *) malloc(sizeof(struct node)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78000" indent="-3780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ssignment Operator vs. memcp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40388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assign a struct to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struct part a,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b.price = 39.99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b.name = "floppy"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a = 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0" y="1142640"/>
            <a:ext cx="548640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valently, you can use memc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#include &lt;string.h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truct part a,b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b.price = 39.99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b.name = "floppy"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memcpy(&amp;a,&amp;b,sizeof(part)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rray Member vs. Pointer Memb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33530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struct book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float pri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char name[50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885840" y="1142640"/>
            <a:ext cx="617220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7000"/>
          </a:bodyPr>
          <a:p>
            <a:pPr marL="36648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int main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struct book a,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b.price = 19.99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strcpy(b.name, "C handbook"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a = 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strcpy(b.name, "Unix handbook"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puts(a.nam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puts(b.name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rray Member vs. Pointer Memb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429000" y="1142640"/>
            <a:ext cx="640080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int main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truct book a,b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b.price = 19.99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b.name = (char *) malloc(50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trcpy(b.name, "C handbook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a = b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trcpy(b.name, "Unix handbook"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puts(a.name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puts(b.name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free(b.name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80880" y="1142640"/>
            <a:ext cx="28195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struct book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float pric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char *nam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}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34800" y="5486400"/>
            <a:ext cx="2960640" cy="1557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A function called</a:t>
            </a:r>
            <a:br>
              <a:rPr sz="2400"/>
            </a:b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trdup() will do the</a:t>
            </a:r>
            <a:br>
              <a:rPr sz="2400"/>
            </a:b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malloc() and strcpy()</a:t>
            </a:r>
            <a:br>
              <a:rPr sz="2400"/>
            </a:b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 one step for you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1600200" y="3885840"/>
            <a:ext cx="213372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ssing Structures to Functions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res are passed by value to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rameter variable is a local variable, which will be assigned by the value of the argument pas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like Ja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means that the structure is copied if it is passed as a parame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can be inefficient if the structure is bi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case it may be more efficient to pass a pointer to the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tru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stru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n also be returned from a fun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assing Structures to Functions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7200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truct book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float pric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char abstract[5000]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void print_abstract( struct book *p_boo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puts( p_book-&gt;abstract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5105520" y="1142640"/>
            <a:ext cx="4952880" cy="662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truct pairInt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min, ma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truct pairInt min_max(int x,int 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truct pairInt pai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air.min = (x &gt; y) ? y : 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air.max = (x &gt; y) ? x : 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return pairIn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main()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truct pairInt resul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result = min_max( 3, 5 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("%d&lt;=%d", result.min, result.ma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ructures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96775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truc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b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700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truct coord {</a:t>
            </a:r>
            <a:br>
              <a:rPr sz="2800"/>
            </a:b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   int x,y ;</a:t>
            </a:r>
            <a:br>
              <a:rPr sz="2800"/>
            </a:b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} first, seco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Approa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700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truct coord {</a:t>
            </a:r>
            <a:br>
              <a:rPr sz="2800"/>
            </a:b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   int x,y ;</a:t>
            </a:r>
            <a:br>
              <a:rPr sz="2800"/>
            </a:b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}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700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700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truct coord first, second;  /* declare variables *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700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truct coord thir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ructures (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ou can even use a </a:t>
            </a:r>
            <a:r>
              <a:rPr b="0" lang="en-US" sz="3600" spc="-1" strike="noStrike">
                <a:solidFill>
                  <a:srgbClr val="9900cc"/>
                </a:solidFill>
                <a:latin typeface="Arial"/>
              </a:rPr>
              <a:t>typedef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f your don't like having to use the word “</a:t>
            </a:r>
            <a:r>
              <a:rPr b="0" lang="en-US" sz="3600" spc="-1" strike="noStrike">
                <a:solidFill>
                  <a:srgbClr val="9900cc"/>
                </a:solidFill>
                <a:latin typeface="Arial"/>
              </a:rPr>
              <a:t>struc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typedef struct coord coordinat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coordinate first, seco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9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some compilers, and all C++ compilers, you can usually simply say just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coord first, seco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ructures (4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 structure variables by the dot (.) ope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ic for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tructure_var.member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irst.x = 50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econd.y = 1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member names are like the public data members of a class in Java (or C++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equivalent to function members/metho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truct_var.member_nam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be used anywhere a variable can be us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printf ("%d , %d", second.x , second.y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scanf("%d, %d", &amp;first.x, &amp;first.y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ructures (5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assign structures as a unit with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first = seco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 of writ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first.x = second.x ;</a:t>
            </a:r>
            <a:br>
              <a:rPr sz="2800"/>
            </a:b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first.y = second.y 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hough the saving here is not gre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ill reduce the likelihood of error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more convenient with large struc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different from Java where variables are simply references to ob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first = second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s first and second refer to the same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ructures Containing Struct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6000"/>
          </a:bodyPr>
          <a:p>
            <a:pPr marL="362880" indent="-3628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“type” of thing can be a member of a stru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2880" indent="-3628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can use the coord struct to define a rectang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070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truct rectangl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70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truct coord toplef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70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truct coord bottom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70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2880" indent="-3628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describes a rectangle by using the two points necessa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070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truct rectangle mybox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2880" indent="-3628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ing the poi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070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mybox.topleft.x = 0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70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mybox.topleft.y = 10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70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mybox.bottomrt.x = 100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070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mybox.bottomrt.y = 200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 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3886200" cy="662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truct coord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truct rectangl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truct coord toplef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truct coord bottom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24480" y="1142640"/>
            <a:ext cx="5153040" cy="662940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main (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length, widt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long are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truct rectangle mybo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mybox.topleft.x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mybox.topleft.y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mybox.bottomrt.x = 1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mybox.bottomrt.y = 5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width = mybox.bottomrt.x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mybox.topleft.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length = mybox.bottomrt.y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mybox.topleft.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area   = width * lengt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 ("The area is %ld units.\n", are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22400" y="2246400"/>
            <a:ext cx="250668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24480" y="1486080"/>
            <a:ext cx="460836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114800" y="1371600"/>
            <a:ext cx="0" cy="6019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ructures Containing Array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ays within structures are the same as any other member ele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truct record {</a:t>
            </a:r>
            <a:br>
              <a:rPr sz="2400"/>
            </a:b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  float  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char  y [5] ;</a:t>
            </a:r>
            <a:br>
              <a:rPr sz="2400"/>
            </a:b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ical organiz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981080" y="5829480"/>
            <a:ext cx="2133720" cy="4572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14800" y="5829480"/>
            <a:ext cx="2666880" cy="4572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5829480"/>
            <a:ext cx="0" cy="45720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81280" y="5829480"/>
            <a:ext cx="0" cy="45720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514600" y="5829480"/>
            <a:ext cx="0" cy="45720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81480" y="58294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58294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248520" y="58294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648320" y="582948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668680" y="68198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lo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955760" y="681984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char[5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rot="16200000">
            <a:off x="4267080" y="3123720"/>
            <a:ext cx="228600" cy="4800600"/>
          </a:xfrm>
          <a:custGeom>
            <a:avLst/>
            <a:gdLst>
              <a:gd name="textAreaLeft" fmla="*/ 0 w 228600"/>
              <a:gd name="textAreaRight" fmla="*/ 82440 w 228600"/>
              <a:gd name="textAreaTop" fmla="*/ 124920 h 4800600"/>
              <a:gd name="textAreaBottom" fmla="*/ 4675680 h 48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16960" y="476244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recor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 rot="5400000">
            <a:off x="2857320" y="5524560"/>
            <a:ext cx="228600" cy="1981440"/>
          </a:xfrm>
          <a:custGeom>
            <a:avLst/>
            <a:gdLst>
              <a:gd name="textAreaLeft" fmla="*/ 0 w 228600"/>
              <a:gd name="textAreaRight" fmla="*/ 82440 w 22860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 rot="5400000">
            <a:off x="5410080" y="5258160"/>
            <a:ext cx="228600" cy="2514600"/>
          </a:xfrm>
          <a:custGeom>
            <a:avLst/>
            <a:gdLst>
              <a:gd name="textAreaLeft" fmla="*/ 0 w 228600"/>
              <a:gd name="textAreaRight" fmla="*/ 82440 w 22860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23T21:17:46Z</dcterms:created>
  <dc:creator>Mike Katchabaw</dc:creator>
  <dc:description/>
  <dc:language>en-US</dc:language>
  <cp:lastModifiedBy>Bin Ma</cp:lastModifiedBy>
  <cp:lastPrinted>1998-07-26T16:47:22Z</cp:lastPrinted>
  <dcterms:modified xsi:type="dcterms:W3CDTF">2003-08-29T18:03:08Z</dcterms:modified>
  <cp:revision>1575</cp:revision>
  <dc:subject/>
  <dc:title>CS211 Slid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d.uwo.ca/courses/CS211b</vt:lpwstr>
  </property>
  <property fmtid="{D5CDD505-2E9C-101B-9397-08002B2CF9AE}" pid="9" name="LinkColor">
    <vt:r8>16711782</vt:r8>
  </property>
  <property fmtid="{D5CDD505-2E9C-101B-9397-08002B2CF9AE}" pid="10" name="MailAddress">
    <vt:lpwstr>katchab@csd.uwo.ca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WINDOWS\DESKTOP\cs211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