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33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576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5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33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576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56EC-E1D4-4D31-89DF-336E7AA4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B0C1-28E2-4AF8-8A57-303E83739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080C-DF27-481D-ADA8-723FEDCD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668-2577-4B87-8245-49E5FBEF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C600-5200-4D62-A181-B7A19048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8992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AD62-A11B-4B8F-ABAD-188DAD7D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F8D-D86F-476B-A544-7746F4CE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8CAE-FD33-4C94-920A-8DB63DE0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2D9-77FD-4D5A-A9B8-235F8CC9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65B8-3EC8-4E14-8A96-EA0F26125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0C45-A3BF-49C6-801B-C45368E69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332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5760" y="114264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5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332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5760" y="4406760"/>
            <a:ext cx="299268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F939-6EFC-4A1B-BDAE-8FE56DADA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89920" cy="373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3320" y="440676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3320" y="1142640"/>
            <a:ext cx="4535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520" y="4406760"/>
            <a:ext cx="92948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89920" cy="806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142640"/>
            <a:ext cx="9294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48560" cy="1293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376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312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3760" cy="5158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500" spc="-1" strike="noStrike">
                <a:solidFill>
                  <a:srgbClr val="ffffff"/>
                </a:solidFill>
                <a:latin typeface="Arial"/>
                <a:ea typeface="Luxi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1CBF5-11FC-417E-A0B3-80E8830C5BF8}" type="slidenum">
              <a:rPr b="0" lang="en-GB" sz="1500" spc="-1" strike="noStrike">
                <a:solidFill>
                  <a:srgbClr val="ffffff"/>
                </a:solidFill>
                <a:latin typeface="Arial"/>
                <a:ea typeface="Luxi Sans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3280" y="1819080"/>
            <a:ext cx="9050400" cy="51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5896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2240" indent="-250920">
              <a:lnSpc>
                <a:spcPct val="97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258840"/>
            <a:ext cx="94485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572000" cy="2590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p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(p+1)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", *(p+3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29200" y="2382480"/>
            <a:ext cx="4572000" cy="3106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3] 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", a[5]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76240" y="6400800"/>
            <a:ext cx="815364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13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765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95468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229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8000" y="644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956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959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34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728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2811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184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572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957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876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49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007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52640" y="5715000"/>
            <a:ext cx="1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58880" y="52545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5688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04160" y="5240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8480" y="56736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580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280120" y="569124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4100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114960" y="5691240"/>
            <a:ext cx="180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678360" y="5257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953400" y="569124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17160" y="52401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791480" y="56736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279280" y="525456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+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53600" y="5688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9080" y="1295280"/>
            <a:ext cx="9388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en a pointer variable points to an array element, there is a notion of adding or subtracting an integer to/from the pointer.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le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p + 3;           /* q points to a[5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q – 1;           /*  p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++;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p points to a[5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--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           /* p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p = 123;            /*  a[4] = 12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q = *p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 a[5] = a[4] 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p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   /*   q points to a[4] now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", q)    /* scanf("%d", &amp;a[4])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Arithmetic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wo pointers point to elements of a same array, then there are notions of subtraction and comparisons between the two poin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 , i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&amp;a[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q - p;        /* i is 3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p - q;        /* i is -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a[5] =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 = *p - *q;     /* i = a[2] – a[5]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&lt; q;            /* tru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= q;          /* fals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!= q;           /* tru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Pointers and Array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8915400" cy="6083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all that the value of an array name is also a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fact, pointers and array names can be used interchangeably in many (but not all)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 int n, *p;    p=&amp;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=1;  *p = 1;  p[0] = 1;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jor differenc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ray names come with valid spaces where they “point” to.  And you cannot “point” the names to other pl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ointers do not point to valid space when they are created.  You have to point them to some valid space (initializ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258840"/>
            <a:ext cx="952488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Using Pointers to Access Array El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76240" y="6400800"/>
            <a:ext cx="8153640" cy="609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7913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765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19112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5468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7480" y="6400800"/>
            <a:ext cx="180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229600" y="6400800"/>
            <a:ext cx="1440" cy="609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8000" y="644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956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959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34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3728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811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184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728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9572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48764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9760" y="644040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24320" y="525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676600" y="5715000"/>
            <a:ext cx="14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910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52944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29228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13036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82264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600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9880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68920" y="5867280"/>
            <a:ext cx="68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p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1981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&amp;a[2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0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1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“%d”, p[3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05520" y="1981080"/>
            <a:ext cx="457200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10 ], *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2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[3]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“%d”, a[5]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9080" y="1295280"/>
            <a:ext cx="938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 pointer can be used just like an arra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n Array Name is Like a Constant Poi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929628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rray name is like a constant pointer which points to the first element of the arr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10], *p, *q;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a;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  /* p = &amp;a[0]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q = a + 3;        /* q = &amp;a[0] + 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a ++;               /*  illegal !!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refore, you can “pass an array” to a function.  Actually, the address of the first element is p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a[ ] = { 5, 7, 8 , 2, 3 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um( a, 5 );  /* Equal to sum(&amp;a[0],5)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………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5257800" cy="627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Sum – sum up the ints in the given array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sum(int *ary, int siz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i,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for(i = 0, s=0; i&lt;size;i++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+=ary[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562720" y="1143000"/>
            <a:ext cx="4343400" cy="624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In another function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a[1000],x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x= sum(&amp;a[100],5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76200"/>
                <a:tab algn="l" pos="1290600"/>
                <a:tab algn="l" pos="2205000"/>
                <a:tab algn="l" pos="3119400"/>
                <a:tab algn="l" pos="4033800"/>
                <a:tab algn="l" pos="4948200"/>
                <a:tab algn="l" pos="5862600"/>
                <a:tab algn="l" pos="6777000"/>
                <a:tab algn="l" pos="7691400"/>
                <a:tab algn="l" pos="8605800"/>
                <a:tab algn="l" pos="9520200"/>
                <a:tab algn="l" pos="104346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/* This sums up a[100], a[101], …, a[149]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1371600"/>
            <a:ext cx="180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following program is 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one is corre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 = &amp;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5252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re is another way to allocate memory so the pointer can point to something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p = (int *) malloc( sizeof(int) );   /* Allocate 4 bytes 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scanf("%d", 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printf("%d", *p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free(p);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/* This returns the memory to the system.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/* Important !!! */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llocating Memory for a Pointer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47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ototypes of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malloc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()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defined in stdlib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* malloc(size_t number_of_byte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free(void * 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use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mallo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dynamically allocate and release the memo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 = (int *) malloc(1000 * sizeof(in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or(i=0; i&lt;1000; i++)</a:t>
            </a:r>
            <a:br>
              <a:rPr sz="2800"/>
            </a:b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p[i] =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1000]=3;   /* Wrong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free(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[0]=5;   /* Wrong!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 Fundamenta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63248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variable is defined the compiler (linker/loader actually) allocates a real memory address for the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x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will allocate 4 bytes in the main memory, which will be used to store an integer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a value is assigned to a variable, the value is actually placed to the memory that wa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x=3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will store integer 3 in the 4 bytes of mem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24680" y="1143000"/>
            <a:ext cx="1447920" cy="624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924680" y="16765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924680" y="22096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4680" y="26668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924680" y="32004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924680" y="37339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42670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24680" y="48769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24680" y="5410080"/>
            <a:ext cx="1447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924680" y="59436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924680" y="640080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2209680"/>
            <a:ext cx="609480" cy="2057400"/>
          </a:xfrm>
          <a:custGeom>
            <a:avLst/>
            <a:gdLst>
              <a:gd name="textAreaLeft" fmla="*/ 389520 w 609480"/>
              <a:gd name="textAreaRight" fmla="*/ 609840 w 6094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956720" y="220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003880" y="22096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3880" y="27432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003880" y="327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02440" y="3733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78600" y="29718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6934320"/>
            <a:ext cx="1447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533520" y="337320"/>
            <a:ext cx="8991360" cy="65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imes New Roman"/>
              </a:rPr>
              <a:t>An Example – Finding Prime Numb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371600"/>
            <a:ext cx="47912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#include &lt;stdio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#include &lt;stdlib.h&gt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Print out all prim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numbers which are les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than m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void print_prime( int m 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i,j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* ary = (int *) malloc( m * sizeof(int)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 (ary==NULL) exit -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0;i&lt;m;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i]=1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Assume all integers between 0 and m-1 are prime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0]=ary[1]=0;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/* Note that in fact 0 and 1 are not prime *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1371600"/>
            <a:ext cx="36482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3;i&lt;m;i++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 j=2; j&lt;i; j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(ary[ i ] &amp;&amp; i%j==0)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ary[i]=0;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or(i=0;i&lt;m;i++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f(ary[i]) printf("%d ", i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free( ary 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main() {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int m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m = 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scanf("%d", &amp;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f("\n"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print_prime(m)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  </a:t>
            </a: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return 0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2300dc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6400" y="1371600"/>
            <a:ext cx="1440" cy="5943600"/>
          </a:xfrm>
          <a:prstGeom prst="line">
            <a:avLst/>
          </a:prstGeom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85800" y="1143000"/>
            <a:ext cx="8686800" cy="1440"/>
          </a:xfrm>
          <a:prstGeom prst="line">
            <a:avLst/>
          </a:prstGeom>
          <a:ln w="54720">
            <a:solidFill>
              <a:srgbClr val="94006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5867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When the value of a variable is used, the contents in the memory are use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y=x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  will read the contents in the 4 bytes of memory, and then assign it to variable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y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&amp;x</a:t>
            </a:r>
            <a:r>
              <a:rPr b="0" lang="en-GB" sz="2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an get the address of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. (referencing operator </a:t>
            </a: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ddress can be passed to a function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9900cc"/>
                </a:solidFill>
                <a:latin typeface="Arial"/>
              </a:rPr>
              <a:t>scanf("%d", &amp;x)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The address can also be stored in a variable …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829640" y="685800"/>
            <a:ext cx="1447560" cy="6248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29640" y="12193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29640" y="17524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829640" y="22096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829640" y="27432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829640" y="32767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829640" y="38098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829640" y="44197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829640" y="4952880"/>
            <a:ext cx="1447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829640" y="54864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829640" y="594360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219800" y="1752480"/>
            <a:ext cx="609840" cy="2057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61320" y="175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08840" y="17524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8840" y="22860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08840" y="28195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07040" y="32767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9900cc"/>
                </a:solidFill>
                <a:latin typeface="Arial"/>
              </a:rPr>
              <a:t>0000001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83560" y="251460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29640" y="6477120"/>
            <a:ext cx="1447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219800" y="4876920"/>
            <a:ext cx="609840" cy="2057400"/>
          </a:xfrm>
          <a:custGeom>
            <a:avLst/>
            <a:gdLst>
              <a:gd name="textAreaLeft" fmla="*/ 389520 w 609840"/>
              <a:gd name="textAreaRight" fmla="*/ 610200 w 6098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83560" y="56386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eclare a point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type * pointernam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 p1;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p1 is a variable that tends to point to an integer, (or p1 is a int point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char *p2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unsigned int * p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1 = &amp;x;     /* Store the address in p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", p1);  /* i.e. scanf("%d",&amp;x);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2 = &amp;x;    /* Will get warning message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914400" y="304812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Initializing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276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ke other variables, always initialize pointers before using them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   /*                                        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 = &amp;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scanf("%d",p);  /* Correct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76920" y="3962520"/>
            <a:ext cx="4267080" cy="1371600"/>
          </a:xfrm>
          <a:prstGeom prst="irregularSeal2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Don’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Using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 can use pointers to access the values of other variables,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he contents of the memory for other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do this, use the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perator (dereferencing operato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-314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pending on different context, </a:t>
            </a:r>
            <a:r>
              <a:rPr b="0" lang="en-GB" sz="2400" spc="-1" strike="noStrike">
                <a:solidFill>
                  <a:srgbClr val="9900cc"/>
                </a:solidFill>
                <a:latin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has different mean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6200" indent="-376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n, m=3,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=&amp;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n=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\n", n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5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\n",*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int m=3, n=100, *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=&amp;m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m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m++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ow m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=&amp;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 is %d\n",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*p=500;    /* *p is at the left of "=" 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6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9900cc"/>
                </a:solidFill>
                <a:latin typeface="Arial"/>
              </a:rPr>
              <a:t>printf("now n is %d\n", 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times, you want a function to assign a value to a variabl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.g. you want a function that computes the minimum AND maximum numbers in 2 integ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thod 1, us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 the function, assign the minimum and maximum numbers to th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8680" indent="-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n the function returns, the calling function can read the minimum and maximum numbers from the two global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-5317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258920"/>
                <a:tab algn="l" pos="2365200"/>
                <a:tab algn="l" pos="3471840"/>
                <a:tab algn="l" pos="4578480"/>
                <a:tab algn="l" pos="5684760"/>
                <a:tab algn="l" pos="6791400"/>
                <a:tab algn="l" pos="7897680"/>
                <a:tab algn="l" pos="9004320"/>
                <a:tab algn="l" pos="1011096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is bad because the function is not reus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4840"/>
                <a:tab algn="l" pos="2211480"/>
                <a:tab algn="l" pos="3317760"/>
                <a:tab algn="l" pos="4424400"/>
                <a:tab algn="l" pos="5530680"/>
                <a:tab algn="l" pos="6637320"/>
                <a:tab algn="l" pos="7743960"/>
                <a:tab algn="l" pos="8850240"/>
                <a:tab algn="l" pos="995688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imes New Roman"/>
              </a:rPr>
              <a:t>Pointer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99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-376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stead, we use the following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void min_max(int a, int b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*min, int *max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f(a&gt;b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ax=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in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else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ax=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*min=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952880" cy="64450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x,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int small,big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Two integers: 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scanf("%d %d", &amp;x, &amp;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min_max(x,y,&amp;small,&amp;bi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printf("%d &lt;= %d", small, big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6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3400"/>
                <a:tab algn="l" pos="2209680"/>
                <a:tab algn="l" pos="3316320"/>
                <a:tab algn="l" pos="4422600"/>
                <a:tab algn="l" pos="5529240"/>
                <a:tab algn="l" pos="6635880"/>
                <a:tab algn="l" pos="7742160"/>
                <a:tab algn="l" pos="8848800"/>
                <a:tab algn="l" pos="995508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943520" y="1371600"/>
            <a:ext cx="144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tchabaw</dc:creator>
  <dc:description/>
  <dc:language>en-US</dc:language>
  <cp:lastModifiedBy>Bin Ma</cp:lastModifiedBy>
  <cp:revision>0</cp:revision>
  <dc:subject/>
  <dc:title>CS211 Slides</dc:title>
</cp:coreProperties>
</file>