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1193-98D5-4511-B958-F572F9D5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920A-0ECE-41DB-8821-E4FABCF1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4B6A-0C1E-4163-96A2-3D035B36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6BD2-139E-4F4F-BA0C-6E39D612A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027-1577-493B-88E0-4CA8630D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A13F-4C4A-40F2-99FE-854D559A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BB8C-64C3-4545-90B6-FB2C84341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488-F446-4A43-BF2C-93087B9C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1467-5A1E-4B1A-9549-714C90316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1C80-2455-4E97-B7CF-76B1E107E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341E-94FE-4B79-A83B-A8208A93B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72E-3668-4997-9C0A-AD1B54D2C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1654F519-ADE1-4DF3-BFCF-43B015333DDB}" type="slidenum"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value of the array n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int main()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int a[3] = { 1, 2, 3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 ? %d\n"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[0] ? %d\na[1] ? %d\na[2]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? %d\n", a[0], a[1], 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&amp;a[0] ? %d\n&amp;a[1] ?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%d\n&amp;a[2] ? %d\n", &amp;a[0],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&amp;a[1], &amp;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\na[0] &lt;- 4 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a[0]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 ? %d\n"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[0] ? %d\na[1] ? %d\na[2]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? %d\n", a[0], a[1], 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&amp;a[0] ? %d\n&amp;a[1] ?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%d\n&amp;a[2] ? %d\n\n", &amp;a[0],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&amp;a[1], &amp;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for (i=0; i&lt;3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[%d] &lt;- "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scanf( "%d", &amp;a[i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 ? %d\n", 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a[0] ? %d\na[1] ? %d\na[2]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? %d\n", a[0], a[1], 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 "&amp;a[0] ? %d\n&amp;a[1] ?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%d\n&amp;a[2] ? %d\n", &amp;a[0], 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&amp;a[1], &amp;a[2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array name is used alone, its value is the address of the array (a pointer to its addres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amp;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no meaning if used in this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s as Function Paramete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4572000" cy="64771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program, the array addresses (i.e., the values of the array names), are passed to the function inc_array(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es not conflict with the rule that “parameters are passed by value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 inc_array(int a[ ], int siz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(i=0;i&lt;size;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i]++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 inc_array(int a[ ],int siz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test[3]={1,2,3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ry[4]={1,2,3,4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c_array(test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(i=0;i&lt;3;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\n",test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c_array(ary,4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(i=0;i&lt;4;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\n",ary[i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 -- Sor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2120" y="1149480"/>
            <a:ext cx="4432320" cy="6248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oid mysort(int a[ ],int siz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i,j,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(i=0; i&lt;size; i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(j=i; j&gt;0; j--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(a[ j ] &lt; a[ j-1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  /* Change the order of a[ j ] and a[ j-1]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x=a[ j ];a[ j ]=a[ j-1]; a[j-1]=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0480" y="1149480"/>
            <a:ext cx="4432320" cy="62481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rmAutofit fontScale="99000"/>
          </a:bodyPr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  <a:ea typeface="宋体"/>
              </a:rPr>
              <a:t>i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nt main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int tab[10] = {3,6,3,5,9,2,4,5,6,0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for(i=0;i&lt;10;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"%d ",tab[i]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"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mysort(tab,10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for(i=0;i&lt;10;i++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"%d ",tab[i]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printf("\n"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74040" indent="-374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gle-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declar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typename variablename[size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name is any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name is any legal variab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is a number the compiler can figure 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 a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n array of ints with subscripts ranging from 0 to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10*sizeof(int) bytes of memory reserved for this arr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=10; x=a[2]; a[3]=a[2]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us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&amp;a[3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0300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3620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6656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92220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67784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4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3348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19560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6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95736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7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2596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8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494200" y="5740560"/>
            <a:ext cx="68976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9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Constants to Define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useful to define arrays using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constan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define  MONTH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 array [MONTHS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in ANSI C, you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“%d”, &amp;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rray[n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GNU C, the variable length array is allow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NSI C, the handling of variable length array is more compli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-Bounds Check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, unlike many languages, does NOT check array bounds subscripts dur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ation  (some C compilers will check liter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time  (bounds are never check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access off the ends of any array, it will calculate the address it expects the data to be at, and then attempts to use it any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get “something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get a memory exception (segmentation fault, bus error, core dump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programmer’s responsibility to ensure that their programs are correctly written and debugg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does have some advantages but it does give you all the rope you need to hang yoursel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itializing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 of arrays can be done by a comma separated list following its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rray [4] = { 100, 200, 300, 400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equivalent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rray [4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ray[0]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ray[1] = 2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ray[2] = 3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ray[3] = 4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let the compiler figure out the array size for yo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rray[] = { 100, 200, 300, 400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mple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expenses[12]={10.3, 9, 7.5, 4.3, 10.5, 7.5, 7.5, 8, 9.9, 10.2, 11.5, 7.8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count,mon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tot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month=0, total=0.0; month &lt; 12; month++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total+=expenses[month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count=0; count &lt; 12; count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Month %d = %.2f K$\n", count+1, expenses[count]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Total = %.2f K$,   Average = %.2f K$\n", total, total/1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ulti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in C can have virtually as many dimensions as you w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is accomplished by adding additional subscripts when it is defi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 a [4] [3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 a two dimensional 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array of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[3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emo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5562720"/>
            <a:ext cx="9144000" cy="1143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952880" y="5562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5562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556272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14300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90512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900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63120" y="556272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6934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429000" y="6934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62720" y="6934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2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848720" y="6934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3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60055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a[0][2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6004080"/>
            <a:ext cx="10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a[0][0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43000" y="6004080"/>
            <a:ext cx="102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cc"/>
                </a:solidFill>
                <a:latin typeface="Arial"/>
              </a:rPr>
              <a:t>a[0][1]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itializing Multidimensional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llowing initialize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[4][3]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[4] [3] = { {1, 2, 3} , { 4, 5, 6} , {7, 8, 9} , {10, 11, 12}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can be done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[4] [3] = { 1, 2, 3, 4, 5, 6, 7, 8, 9, 10, 11, 12 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[0]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[1] =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0][2] =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1][0] = 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[3][2] = 1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9296640" cy="67057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lib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 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random1[8][8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,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a = 0; a &lt; 8; a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b = 0; b &lt; 8; b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andom1[a][b] = rand()%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a = 0; a &lt; 8; a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b = 0; b &lt; 8; b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%c " , random1[a][b] ? 'x' : 'o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 SS</cp:lastModifiedBy>
  <cp:lastPrinted>1998-07-26T16:47:22Z</cp:lastPrinted>
  <dcterms:modified xsi:type="dcterms:W3CDTF">2005-10-06T02:49:32Z</dcterms:modified>
  <cp:revision>1561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