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7972-F2ED-492C-A8A9-F5CF17A5B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7B3C7-1318-44EA-B0B4-10173F1D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D252-AC8D-47F8-AF5F-B8E1E547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C5A4-4B25-4D72-BC16-676AEB8D4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29C4-506C-4B39-8619-A2CCD9140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A9BD-DAB5-4515-84D5-F94BD1C3B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8CB6-F5DA-4D94-9A70-7FA1655B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06B9-E60D-43B9-A015-78CA17621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D8E9-4230-412D-BBC0-365ED248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B1C2-DACE-426B-B89C-135EDB96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8EBE-9D2D-4A67-901E-54A6E8500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346D-F5E8-4EB6-B01F-65822F87C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368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066680"/>
            <a:ext cx="92966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632640"/>
            <a:ext cx="10064880" cy="11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0" y="6570720"/>
            <a:ext cx="10066320" cy="1219320"/>
            <a:chOff x="0" y="6570720"/>
            <a:chExt cx="10066320" cy="1219320"/>
          </a:xfrm>
        </p:grpSpPr>
        <p:sp>
          <p:nvSpPr>
            <p:cNvPr id="41" name=""/>
            <p:cNvSpPr/>
            <p:nvPr/>
          </p:nvSpPr>
          <p:spPr>
            <a:xfrm>
              <a:off x="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6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3360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0976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877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6388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13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04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9452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120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056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090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34520" y="6881760"/>
              <a:ext cx="631800" cy="908280"/>
            </a:xfrm>
            <a:custGeom>
              <a:avLst/>
              <a:gdLst/>
              <a:ahLst/>
              <a:rect l="l" t="t" r="r" b="b"/>
              <a:pathLst>
                <a:path w="398" h="572">
                  <a:moveTo>
                    <a:pt x="0" y="571"/>
                  </a:moveTo>
                  <a:lnTo>
                    <a:pt x="397" y="0"/>
                  </a:lnTo>
                  <a:lnTo>
                    <a:pt x="397" y="139"/>
                  </a:lnTo>
                  <a:lnTo>
                    <a:pt x="105" y="571"/>
                  </a:lnTo>
                  <a:lnTo>
                    <a:pt x="0" y="57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29120"/>
            <a:ext cx="900000" cy="1641240"/>
          </a:xfrm>
          <a:custGeom>
            <a:avLst/>
            <a:gdLst/>
            <a:ahLst/>
            <a:rect l="l" t="t" r="r" b="b"/>
            <a:pathLst>
              <a:path w="567" h="1034">
                <a:moveTo>
                  <a:pt x="0" y="0"/>
                </a:moveTo>
                <a:lnTo>
                  <a:pt x="566" y="0"/>
                </a:lnTo>
                <a:lnTo>
                  <a:pt x="0" y="103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US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fld id="{BE845E04-EFC0-4A19-8061-08DF0D968E19}" type="slidenum">
              <a:rPr b="0" lang="en-US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601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6560" algn="ctr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8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13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t and Put a L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*fgets(char *s, int n, FILE * f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fputs(char *s, FILE * f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two functions read or write a string from or to a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g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s an entire line in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up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haracters in length (pass the size of the character array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s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be safe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g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 the pointer s on success, or NULL if an error or end-of-file is reach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pu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turns the number of characters written if successful; otherwise, return E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write and fread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writ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binary file reading and writing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s are found in stdio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fwrite (void *buf, int size, int count, FILE *fp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fread  (void *buf, int size, int count, FILE *fp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bu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s a pointer to the region in memory to be written/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be a pointer to anything (more on this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bytes of each individual data i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number of data items to be written/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 a 100 element array of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write( buf, sizeof(int), 100, f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wr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re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returns the number of items actually written (rea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write and fread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6775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ing for err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 ((frwrite(buf,size,count,fp)) != count)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fprintf(stderr, "Error writing to file.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a single double variable x to a fi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write (&amp;x, sizeof(double), 1, fp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writes the double x to the file in raw binary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, it simply writes the internal machine format of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an array text[50] of 50 characters can be done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write (text, sizeof(char), 50, fp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write (text, sizeof(text), 1, fp);  /* text must be a local array name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rea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frwr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more efficient than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scan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prin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osing and Flushing F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fclose (FILE * fp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ses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p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- returns 0 if it works -1 if i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clear a buffer without closi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fflush (FILE * fp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this is a force to dis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y useful when debugg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clo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flu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your updates to a file may not be written to the file on disk.  (Operating systems like Unix usually use “write caching” disk access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quential and Random A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94489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ILE structure, there is a long type to indicate the position of your next reading or wri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you read/write, the position move forwa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“rewind” and start reading from the beginning of the file aga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void rewind (FILE * fp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rmine where the position indicator is us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long ftell (FILE * fp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a long giving the current position in by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byte of the file is byte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 error occurs,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tell (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returns 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andom Acc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additional operation gives slightly better contro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fseek (FILE * fp, long offset, int origin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ffse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umber of bytes to move the position ind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rig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ays where to move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options/constants are defined for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ri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EEK_S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the indicator offset bytes from the begi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EEK_C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the indicator offset bytes from its current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EEK_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the indicator offset bytes from 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tecting End of Fi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mode f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hile (   (c = fgetc (fp) ) != EOF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characters until it encounters the E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oblem is that the byte of data read may actually be indistinguishable from EO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nary mode f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feof (FILE * fp)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th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e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realizes the end of file only 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reading failed (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rea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scan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get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…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seek(fp,0,SEEK_END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%d\n", feof(fp));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/* zero value       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getc(fp);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/* fgetc returns -1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%d\n",feof(fp));            /* nonzero value  *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define BUFSIZE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 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buf[BUFSIZE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f ( (fp=fopen("file1", "r"))==NULL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printf (stderr,"Error opening file.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exit (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hile (!feof(fp)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gets  (buf,BUFSIZE,f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%s",buf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close (f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3440" y="1165320"/>
            <a:ext cx="4802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e Management Func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rasing a 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remove (const char * filenam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character string naming th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0 if deleted; otherwise -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naming a fi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rename (const char * oldname, const char * newnam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0 if successful or -1 if an error occu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: fil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ld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oes not ex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: fil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new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lready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: try to rename to another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Using Temporary F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s that only exist during the execution of the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 For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 *tmpnam (char *s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d in stdio.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s a valid filename that does not conflict with any other existing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 this does not create th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the NAM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then go and open it and presumably write to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le created will continue to exist after the program executes unless you delete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LE *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C, we use a FILE * data type to access fi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* is defined in /usr/include/stdio.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mai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ILE *f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p = fopen("tmp.txt", "w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printf(fp,"This is a test\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close(fp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main (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buffer[25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mpnam(buffe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 ("Temporary name 1: %s", buffe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emporary name 1:  /var/tmp/aaaceayw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2000" y="1486080"/>
            <a:ext cx="507348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ct val="90000"/>
              </a:lnSpc>
              <a:spcBef>
                <a:spcPts val="1188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ening a File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218960"/>
            <a:ext cx="9296640" cy="61722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must include &lt;std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otype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ILE * fopen (const char * filename, const char * m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I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structure type declared in stdio.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don't need to worry about the details of the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act it may vary from system to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p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turns a pointer to the FILE structure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must declare a pointer of type FILE to receive that value when it is retur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turned pointer in all subsequent references to that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p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ails, NULL is retur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rgument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ile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name of the file to be open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pening a File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ues of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lose in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ub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otes or pass as a string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open the file for reading (NULL if it doesn’t exi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create for writing. destroy old if file ex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open for writing. create if not there. start at the end-of-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pen for update (r/w).  create if not there.  start at the begin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w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for r/w. destroy old if t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open for r/w. create if not there. start at the end-of-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text book, there are other binary modes with the letter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They have no effect in today’s C compil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din, stdout, and stder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C program has three files opened for them at start-up: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der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d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opened for reading, whil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dou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der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opened for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be used wherever a FILE * can be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printf(stdout, "Hello there!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same as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Hello there!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scanf(stdin, "%d", &amp;int_va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same as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("%d", &amp;int_va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printf(stderr, "An error has occurred!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useful to report errors to standard error - it flushes output as well, so this is really good for debugg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exit ()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used to leave the program at anytime from anywhere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fore the “normal” exit lo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exit (statu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 &lt;stdlib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( (fp=fopen("a.txt","r")) == NULL)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printf(stderr, "Cannot open file a.txt!\n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exit(1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ur Ways to Read and Write F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9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matted file I/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9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t and put a charac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9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t and put a 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9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lock read and wr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ormatted File I/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ted File input is done through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fscan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fscanf (FILE * fp, const char * fmt, ...)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tted File output is done through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print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fprintf(FILE *fp, const char *fmt, …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ILE *fp1, *fp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p1 = fopen("file1", "r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p2 = fopen("file2", "w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scanf(fp1, "%d", &amp;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printf(fp2, "%d", 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close(fp1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close(fp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t and Put a Charac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fgetc(FILE * f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fputc(int c, FILE * f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two functions read or write a single byte from or to a fi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getc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s the character that was read, converted to an integ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put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turns the same value of parameter c if it succeeds, otherwise, return EO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3T21:17:46Z</dcterms:created>
  <dc:creator>Mike Katchabaw</dc:creator>
  <dc:description/>
  <dc:language>en-US</dc:language>
  <cp:lastModifiedBy>csnow</cp:lastModifiedBy>
  <cp:lastPrinted>1998-07-26T16:47:22Z</cp:lastPrinted>
  <dcterms:modified xsi:type="dcterms:W3CDTF">2003-05-30T19:09:21Z</dcterms:modified>
  <cp:revision>1481</cp:revision>
  <dc:subject/>
  <dc:title>CS211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d.uwo.ca/courses/CS211b</vt:lpwstr>
  </property>
  <property fmtid="{D5CDD505-2E9C-101B-9397-08002B2CF9AE}" pid="9" name="LinkColor">
    <vt:r8>16711782</vt:r8>
  </property>
  <property fmtid="{D5CDD505-2E9C-101B-9397-08002B2CF9AE}" pid="10" name="MailAddress">
    <vt:lpwstr>katchab@csd.uwo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\cs21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