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6B77-83F8-4196-A57B-5903DF7D9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149-3EDF-46AB-8577-6F0E6294D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0E02-76D1-4B4B-9D7B-2B1C8A03F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D681-6C8C-4FFC-99C7-29CAB712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8714-915F-47EA-8B78-239BEFEF3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8B1A0-0A88-4246-A7E0-CBDDA807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E14-AA1A-4B9C-B367-6ED54FCF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6367-C85C-40D0-825C-4156F7E15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C614-7624-48C3-B11B-1AD94AC5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19F-BA52-47FB-8BE9-20BEDACC5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CCD-5E62-4334-A881-4B32F2104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B389-28FD-40D6-8384-2D2909C8C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0F424BD2-35F4-49F1-8175-FD5B6B33376E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low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ost important looping structure in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(initial ;  condition ; increment )</a:t>
            </a:r>
            <a:br>
              <a:rPr sz="2400"/>
            </a:b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   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initial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9900cc"/>
                </a:solidFill>
                <a:latin typeface="Arial"/>
              </a:rPr>
              <a:t>increm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C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loops are execut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init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  Usually an assignment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  Usually a relational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alse (i.e. 0),  fall out of the loop (go to step 6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(i.e. nonzero), execute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incremen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go back to step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724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statement exa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,x,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t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1. simple counted for loo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 =1; count &lt;=20; count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%d\n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2. for loop counting backward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 = 100; count &gt;0; count--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*=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count=%d x=%d\n", count,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3. for loop counting by 5'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count=0; count&lt;1000; count += 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y=y+coun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4. initialization outside of loop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ount &lt; 1000; count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5. very little need be in the fo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=1; ctd=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td; 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", coun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++; ctd=count&lt;1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6. compound statements for initialization and increme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, y=100; x&lt;y; x++, y--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%d %d\n", x,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105520" y="1143000"/>
            <a:ext cx="0" cy="6248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for Statement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ing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s (and any other C statement) can go inside the loop of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ows=10, columns=2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, 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 r=rows ; r&gt;0 ; r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c = columns; c&gt;0; c--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X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 (condition)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s as expec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false (i.e. 0),  loop is exited (go to step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true (i.e. nonzero),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stat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 to step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 ; condition ; )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 (condit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mt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  stm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exp1; exp2; exp3) stmt;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equivalent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p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hile(exp2) { stmt; exp3;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 ... while Loop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statement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conditio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repeat until 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op, but with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est at botto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-4572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executes at least o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mantic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h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cond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go to step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t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do ... while Loop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_menu_choice (voi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mai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hoic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hoice = get_menu_choice 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You chose %d\n",choic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while(choice!=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imple function get_menu_choic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get_menu_choice (vo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selection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1 - Add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2 - Change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3 - Delete a Record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4 - Quit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\nEnter a selection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selectio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 while ( selection&lt;1 || selection&gt;4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selec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114300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reak and contin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low of control in any loop can be changed through the use of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exits the loop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ful for stopping on conditions not controlled in the loop cond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; x&lt;10000; 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 x*x % 5==1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... do some more work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terminates if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*x % 5 ==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 causes the next iteration of the loop to be started immediat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x=0; x&lt;10000; x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*x % 5 == 1) continu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 "%d ", 1/ (x*x % 5 – 1) 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-311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't execute loop when x*x % 5 == 1 (and avoid division by 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 for and break Toge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mycard=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gues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;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Guess my card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&amp;gue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(guess==myc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Good guess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Try again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198120" y="1600200"/>
            <a:ext cx="331848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he notation for(;;) is used 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o create an infinite for loo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while(1) creates an infinite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while loop inste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371240" y="2284560"/>
            <a:ext cx="480060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45120" y="4800600"/>
            <a:ext cx="337824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o get out of an infinite loop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like this one, we have to use</a:t>
            </a:r>
            <a:br>
              <a:rPr sz="2000"/>
            </a:br>
            <a:r>
              <a:rPr b="0" lang="en-CA" sz="2000" spc="-1" strike="noStrike">
                <a:solidFill>
                  <a:srgbClr val="9900cc"/>
                </a:solidFill>
                <a:latin typeface="Arial"/>
              </a:rPr>
              <a:t>the break state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6880" y="5332320"/>
            <a:ext cx="335304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9296640" cy="64008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 statement is used to do “multiple choices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expres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1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2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constant_exprk :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fault :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valu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gram jumps to the correspond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ant_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tatements after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ant_exp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executed until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statement is encount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: switch Sta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1. Open file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2. Save file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3. Save as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4. Quit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Your choice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(a==1)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pen_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2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ave_file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3)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ave_as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if(a==4)  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lse 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1. Open file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2. Save file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3. Save as.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4. Quit.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Your choice: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1: open_file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2: save_file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3: save_as();break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4: 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efault: return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800600" y="1219320"/>
            <a:ext cx="0" cy="6095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s: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/*  This is a comment  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nts should explai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functions (parameters, return values, purpo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tricks or things that are not obv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r code does things the what it do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Jumping Out of Nested Loops -- go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9829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go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tatement will jump to any point of your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nly if it is absolutely necessary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(never in this cour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(;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witch(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ase … : goto finished;    /* finished is a label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nished:    /* Jumped out from the nested loops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12960" y="3276720"/>
            <a:ext cx="3399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jump into a loop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er jump backward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ore on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d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assign i+1 to the variable i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* increment the loop counter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++ Com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ad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assign i+1 to the variable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etter com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= i + 1;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/ increment the loop cou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most general sense, a statement is a part of your program that can be execu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is a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=a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--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function call is also a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tatements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0440" indent="-3704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 free form language, so you may type the statements in any style you feel comfor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;a--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line breaks can be any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und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es of statements can be combined into one with {...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ch like Ja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Hello,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world! 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 compiler treats the collection of these statements like they are a single stat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State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Sugg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stay consistent with how you use whitesp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put block braces on their own line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akes the code easier to 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 line up block braces so that it is easy to find the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ginning and end of a blo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spreading a single statement across multiple lines if there is no need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o keep it on one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f Statement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-374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if (express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41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atement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42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ext stat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18000" y="1447920"/>
            <a:ext cx="4338360" cy="1008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ecute statement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ression is non-ze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i.e., it does not have to be exactly 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if Statement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x,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Input an integer value for x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("%d", &amp;x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Input an integer value for y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("%d",&amp;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==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equal to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 if (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greater than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x is smaller than y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09-23T00:44:15Z</dcterms:modified>
  <cp:revision>1413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