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58400" cy="77724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F9A8-AAD8-4878-801A-5E44E22BF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1931-59FD-49C8-B0E8-797F4AD8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02D-2920-4CA4-8EFB-83CE41E66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956-B39A-448F-B6DF-0627AD8F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DE4-6FEA-44D8-A0B9-C584BBDA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CEB0-8119-4460-977B-FAA221E9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236F-80E1-4BB7-9471-29B2CAB0F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1DA5-8693-4BD2-ADF7-7B6411C08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DCF-D391-4B69-9ED6-431832B0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995F-B0AC-48BD-8D97-333685F69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4400-3644-4E3F-AC53-A05239FC2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2440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667920" y="114264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38088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2440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667920" y="4406760"/>
            <a:ext cx="299340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AFA-59ED-48AA-B309-FE01A3966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33520" y="258840"/>
            <a:ext cx="899136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44760" y="440676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44760" y="1142640"/>
            <a:ext cx="453672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4406760"/>
            <a:ext cx="9296640" cy="29804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263680" indent="-252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263680" indent="-25236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066680"/>
            <a:ext cx="9296640" cy="7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6632640"/>
            <a:ext cx="10064880" cy="1157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" name=""/>
          <p:cNvGrpSpPr/>
          <p:nvPr/>
        </p:nvGrpSpPr>
        <p:grpSpPr>
          <a:xfrm>
            <a:off x="0" y="6570720"/>
            <a:ext cx="10066320" cy="1219320"/>
            <a:chOff x="0" y="6570720"/>
            <a:chExt cx="10066320" cy="1219320"/>
          </a:xfrm>
        </p:grpSpPr>
        <p:sp>
          <p:nvSpPr>
            <p:cNvPr id="41" name=""/>
            <p:cNvSpPr/>
            <p:nvPr/>
          </p:nvSpPr>
          <p:spPr>
            <a:xfrm>
              <a:off x="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7556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3360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0976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0877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86388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621320" y="6570720"/>
              <a:ext cx="1008000" cy="1219320"/>
            </a:xfrm>
            <a:custGeom>
              <a:avLst/>
              <a:gdLst/>
              <a:ahLst/>
              <a:rect l="l" t="t" r="r" b="b"/>
              <a:pathLst>
                <a:path w="635" h="768">
                  <a:moveTo>
                    <a:pt x="0" y="767"/>
                  </a:moveTo>
                  <a:lnTo>
                    <a:pt x="528" y="0"/>
                  </a:lnTo>
                  <a:lnTo>
                    <a:pt x="634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04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19452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99120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810560" y="6570720"/>
              <a:ext cx="1011240" cy="1219320"/>
            </a:xfrm>
            <a:custGeom>
              <a:avLst/>
              <a:gdLst/>
              <a:ahLst/>
              <a:rect l="l" t="t" r="r" b="b"/>
              <a:pathLst>
                <a:path w="637" h="768">
                  <a:moveTo>
                    <a:pt x="0" y="767"/>
                  </a:moveTo>
                  <a:lnTo>
                    <a:pt x="530" y="0"/>
                  </a:lnTo>
                  <a:lnTo>
                    <a:pt x="636" y="0"/>
                  </a:lnTo>
                  <a:lnTo>
                    <a:pt x="106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609040" y="6570720"/>
              <a:ext cx="1009800" cy="1219320"/>
            </a:xfrm>
            <a:custGeom>
              <a:avLst/>
              <a:gdLst/>
              <a:ahLst/>
              <a:rect l="l" t="t" r="r" b="b"/>
              <a:pathLst>
                <a:path w="636" h="768">
                  <a:moveTo>
                    <a:pt x="0" y="767"/>
                  </a:moveTo>
                  <a:lnTo>
                    <a:pt x="529" y="0"/>
                  </a:lnTo>
                  <a:lnTo>
                    <a:pt x="635" y="0"/>
                  </a:lnTo>
                  <a:lnTo>
                    <a:pt x="105" y="767"/>
                  </a:lnTo>
                  <a:lnTo>
                    <a:pt x="0" y="76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434520" y="6881760"/>
              <a:ext cx="631800" cy="908280"/>
            </a:xfrm>
            <a:custGeom>
              <a:avLst/>
              <a:gdLst/>
              <a:ahLst/>
              <a:rect l="l" t="t" r="r" b="b"/>
              <a:pathLst>
                <a:path w="398" h="572">
                  <a:moveTo>
                    <a:pt x="0" y="571"/>
                  </a:moveTo>
                  <a:lnTo>
                    <a:pt x="397" y="0"/>
                  </a:lnTo>
                  <a:lnTo>
                    <a:pt x="397" y="139"/>
                  </a:lnTo>
                  <a:lnTo>
                    <a:pt x="105" y="571"/>
                  </a:lnTo>
                  <a:lnTo>
                    <a:pt x="0" y="571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0" y="3129120"/>
            <a:ext cx="900000" cy="1641240"/>
          </a:xfrm>
          <a:custGeom>
            <a:avLst/>
            <a:gdLst/>
            <a:ahLst/>
            <a:rect l="l" t="t" r="r" b="b"/>
            <a:pathLst>
              <a:path w="567" h="1034">
                <a:moveTo>
                  <a:pt x="0" y="0"/>
                </a:moveTo>
                <a:lnTo>
                  <a:pt x="566" y="0"/>
                </a:lnTo>
                <a:lnTo>
                  <a:pt x="0" y="103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9900c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  <a:defRPr b="0" lang="zh-CN" sz="15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fld id="{E030E589-59CB-40FF-ADD9-A6A059C54690}" type="slidenum"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03280" indent="0" algn="ctr">
              <a:spcBef>
                <a:spcPts val="601"/>
              </a:spcBef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6560" algn="ctr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804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11320" algn="ctr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113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4200" y="2590920"/>
            <a:ext cx="8550000" cy="129528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troduction to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 Programm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3000"/>
          </a:bodyPr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i, j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i = 0; i &lt; 10; i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for (j = 0; j &lt; i+1; j++ )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 "A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("\n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136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457200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Program to calculate the product of two number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product(int x, int 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a,b,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Input the first numbe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a number between 1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and 100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Input the second number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Enter another number        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between 1 and 100: 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648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scanf  ("%d", &amp;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05160" y="1142640"/>
            <a:ext cx="472428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Calculate and display the product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c = product (a, b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printf ("%d times %d = %d \n", a, b, 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601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/* Functions returns the product of its two arguments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int product (int x, int 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return (x*y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499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523880"/>
            <a:ext cx="0" cy="5410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Brief Histo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6775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 fontScale="97000"/>
          </a:bodyPr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y Dennis Ritchie at AT&amp;T Labs in 19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iginally created to design and support the Unix operating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only 27 keywords in the original version of 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, goto, if, else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y to build a compiler for 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people have written C compi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compilers are available for virtually ever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6480" indent="-3664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1983 the American National Standards Institute (ANSI) formed a committee to establish a standard defini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ed ANSI Standard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2720" indent="-3045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opposed to K&amp;R C (referring to the general “standards” that appeared in the first edition of Brian Kernighan and Ritchie’s influential book:  </a:t>
            </a:r>
            <a:r>
              <a:rPr b="0" i="1" lang="en-US" sz="2400" spc="-1" strike="noStrike">
                <a:solidFill>
                  <a:srgbClr val="9900cc"/>
                </a:solidFill>
                <a:latin typeface="Arial"/>
              </a:rPr>
              <a:t>The C Programming Languag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use C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944892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intended as a language for programm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was for nonprogrammers to program and solve simple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was created, influenced, and field-tested by working programm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powerful and effic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nearly achieve the efficiency of assembly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ointers allow you do most of the things that you can do with an assembly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a structured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 can be written and read much easi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is standard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ANSI C program should work with any ANSI C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14640" y="355320"/>
            <a:ext cx="5527440" cy="1258920"/>
          </a:xfrm>
          <a:prstGeom prst="rect">
            <a:avLst/>
          </a:prstGeom>
          <a:noFill/>
          <a:ln w="0">
            <a:noFill/>
          </a:ln>
        </p:spPr>
        <p:txBody>
          <a:bodyPr lIns="49320" rIns="49320" tIns="19800" bIns="19800" anchor="t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C Development Cyc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83120" y="1671480"/>
            <a:ext cx="1562040" cy="806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Edi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Progra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rot="16200000">
            <a:off x="4478760" y="2207880"/>
            <a:ext cx="766800" cy="18939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Sourc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Co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83120" y="3773520"/>
            <a:ext cx="1562040" cy="80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Compi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rot="16200000">
            <a:off x="4478760" y="4209840"/>
            <a:ext cx="766800" cy="1893960"/>
          </a:xfrm>
          <a:prstGeom prst="rightArrow">
            <a:avLst>
              <a:gd name="adj1" fmla="val 50000"/>
              <a:gd name="adj2" fmla="val 50005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t" anchorCtr="1" vert="eaVer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Objec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Co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83120" y="5773680"/>
            <a:ext cx="1562040" cy="808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Link Object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Co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24040" y="1365120"/>
          <a:ext cx="1631880" cy="17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1365120"/>
                    <a:ext cx="1631880" cy="17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7615080" y="5168880"/>
          <a:ext cx="1630440" cy="1755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15080" y="5168880"/>
                    <a:ext cx="1630440" cy="17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5735520" y="5715000"/>
            <a:ext cx="1778040" cy="1046160"/>
          </a:xfrm>
          <a:prstGeom prst="rightArrow">
            <a:avLst>
              <a:gd name="adj1" fmla="val 50000"/>
              <a:gd name="adj2" fmla="val 8498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Executab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76560" y="1530360"/>
            <a:ext cx="1679400" cy="1047600"/>
          </a:xfrm>
          <a:prstGeom prst="rightArrow">
            <a:avLst>
              <a:gd name="adj1" fmla="val 50000"/>
              <a:gd name="adj2" fmla="val 80162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41480" y="5573880"/>
            <a:ext cx="1855800" cy="1187280"/>
          </a:xfrm>
          <a:prstGeom prst="rightArrow">
            <a:avLst>
              <a:gd name="adj1" fmla="val 50000"/>
              <a:gd name="adj2" fmla="val 7816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Library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1" lang="en-US" sz="1900" spc="-1" strike="noStrike">
                <a:solidFill>
                  <a:srgbClr val="9900cc"/>
                </a:solidFill>
                <a:latin typeface="Arial"/>
              </a:rPr>
              <a:t>File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llo World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700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one writes this program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666880" y="2779560"/>
            <a:ext cx="4724640" cy="35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080" bIns="4608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nt main ( 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7304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 ("Hello, World!\n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44640"/>
                <a:tab algn="l" pos="1889280"/>
                <a:tab algn="l" pos="2833560"/>
                <a:tab algn="l" pos="3778200"/>
                <a:tab algn="l" pos="4722840"/>
                <a:tab algn="l" pos="5667480"/>
                <a:tab algn="l" pos="6611760"/>
                <a:tab algn="l" pos="7556400"/>
                <a:tab algn="l" pos="8501040"/>
                <a:tab algn="l" pos="9445680"/>
                <a:tab algn="l" pos="10390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ilation 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ation translates your source code (in the fil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ello.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into object code (machine dependent instructions for the particular machine you are o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e difference with Ja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java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piler creates Java byte code from your Java progr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2509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yte code is then executed by a Java virtual machine, so it’s machine independ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the object code will generate an executabl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many compilers for C under Un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N provides the Workshop C Compiler, which you run with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c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lso the freeware GNU compiler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ilation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compile a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ile the program to object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2] &gt; cc –c hello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0480" indent="-4572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 the object code to executable fi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3] &gt; cc hello.o –o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do the two steps together by run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4] &gt; cc hello.c –o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un your progra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5] &gt; ./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Hello Wor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6376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287680" y="5562720"/>
            <a:ext cx="3964680" cy="1373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If you leave off t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o, executable goes i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the file a.ou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ilation 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messages are a little different than you may be used to but they can be quite descrip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you forgot the semi-colon after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601"/>
              </a:spcBef>
              <a:buNone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belix[3] &gt; cc hello.c –o h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"hello.c", line 5: syntax error before or at: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spcBef>
                <a:spcPts val="700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c: acomp failed for hello.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760400" indent="0">
              <a:spcBef>
                <a:spcPts val="601"/>
              </a:spcBef>
              <a:buNone/>
              <a:tabLst>
                <a:tab algn="l" pos="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at the compiler flags and informs you about the error at the first inappropriate to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-314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case, the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t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ways try to fix problems starting with the first error the compiler gives you - the others may disappear to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520" y="258840"/>
            <a:ext cx="8991360" cy="80784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9296640" cy="6248520"/>
          </a:xfrm>
          <a:prstGeom prst="rect">
            <a:avLst/>
          </a:prstGeom>
          <a:noFill/>
          <a:ln w="0">
            <a:noFill/>
          </a:ln>
        </p:spPr>
        <p:txBody>
          <a:bodyPr lIns="101520" rIns="101520" tIns="50760" bIns="50760" anchor="t">
            <a:normAutofit/>
          </a:bodyPr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#include &lt;stdio.h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main 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int radius, are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Enter radius (i.e. 10) : 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scanf ( "%d", &amp;radiu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area = 3.14159 * radius * radi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printf ("\nArea = %d\n\n", ar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1756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8000" indent="0">
              <a:spcBef>
                <a:spcPts val="1500"/>
              </a:spcBef>
              <a:buNone/>
              <a:tabLst>
                <a:tab algn="l" pos="0"/>
                <a:tab algn="l" pos="1106640"/>
                <a:tab algn="l" pos="2212920"/>
                <a:tab algn="l" pos="3319560"/>
                <a:tab algn="l" pos="4425840"/>
                <a:tab algn="l" pos="5532480"/>
                <a:tab algn="l" pos="6638760"/>
                <a:tab algn="l" pos="7745400"/>
                <a:tab algn="l" pos="8852040"/>
                <a:tab algn="l" pos="9958320"/>
              </a:tabLst>
            </a:pP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1-23T21:17:46Z</dcterms:created>
  <dc:creator>Mike Katchabaw</dc:creator>
  <dc:description/>
  <dc:language>en-US</dc:language>
  <cp:lastModifiedBy> SS</cp:lastModifiedBy>
  <cp:lastPrinted>1998-07-26T16:47:22Z</cp:lastPrinted>
  <dcterms:modified xsi:type="dcterms:W3CDTF">2005-09-12T13:18:40Z</dcterms:modified>
  <cp:revision>1339</cp:revision>
  <dc:subject/>
  <dc:title>CS211 Slid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csd.uwo.ca/courses/CS211b</vt:lpwstr>
  </property>
  <property fmtid="{D5CDD505-2E9C-101B-9397-08002B2CF9AE}" pid="9" name="LinkColor">
    <vt:r8>16711782</vt:r8>
  </property>
  <property fmtid="{D5CDD505-2E9C-101B-9397-08002B2CF9AE}" pid="10" name="MailAddress">
    <vt:lpwstr>katchab@csd.uwo.ca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WINDOWS\DESKTOP\cs211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