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657D-F333-47D0-A539-37124E08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0917-E30A-458C-A3EE-57F505A8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FCBB-0632-4158-AA93-943342B9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F0B-42C2-48D1-A24E-78F08EA5F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D88B-C3AB-4D9F-B87A-8C67253BD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72E8-9F68-4FA9-BBF9-EC1F5649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5356-C89D-40DB-A189-02EC2423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0D8E-68B9-4198-976D-48975BC1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F009-11B1-48E3-8192-B4578433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8E45-60BC-4A72-A842-DE5689850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5DBC-7A74-43F7-8185-29DC9110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02BB-5A32-45E4-9A93-89660AC9E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F83DC514-F893-4CFD-B71C-BCDE36D97EB9}" type="slidenum"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ic Types and Formatted I/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Printing with printf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929628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0000"/>
          </a:bodyPr>
          <a:p>
            <a:pPr marL="340200" indent="-34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sion Specifi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ed decimal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Hexadecimal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f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mal floating point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point in “scientific not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s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string (more on this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igned decimal inte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%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Just print a % 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ld, %lld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, and long lo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0200" indent="-34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must be one conversion specifier for each argument being printed 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0200" indent="-340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you use the correct specifier for the type of data you are prin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18288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3520" y="2438280"/>
            <a:ext cx="8839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Printing with printf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pe Seque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ll (al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n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izontal ta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\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sl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'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qu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"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quo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x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hh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char specified by hex digits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h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ooo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CII char specified by octal digits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o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828800"/>
            <a:ext cx="0" cy="5334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590920"/>
            <a:ext cx="5257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Printing with printf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 use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ten=10,x=4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ch1='o', ch2='f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%% %c%c %d is %f\n"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en,ch1,ch2,x, 1.0*x / ten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outpu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3224880" y="4343400"/>
            <a:ext cx="4252680" cy="2892960"/>
            <a:chOff x="3224880" y="4343400"/>
            <a:chExt cx="4252680" cy="2892960"/>
          </a:xfrm>
        </p:grpSpPr>
        <p:sp>
          <p:nvSpPr>
            <p:cNvPr id="126" name=""/>
            <p:cNvSpPr/>
            <p:nvPr/>
          </p:nvSpPr>
          <p:spPr>
            <a:xfrm>
              <a:off x="3224880" y="6227640"/>
              <a:ext cx="4252680" cy="1008720"/>
            </a:xfrm>
            <a:prstGeom prst="rect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Why do we need to do this?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We will talk about a better way later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9900cc"/>
                  </a:solidFill>
                  <a:latin typeface="Arial"/>
                </a:rPr>
                <a:t>(Type conversion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4038480" y="4343400"/>
              <a:ext cx="914400" cy="1884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ing Numeric Data with scanf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 is the input equivalent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 library function in the &lt;stdio.h&gt;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a format string and parameters, much lik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rmat string specifiers are nearly the same as those used in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("%d", &amp;x);       /* reads a decimal integer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("%f", &amp;rate);   /* reads a floating point value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mpersand (&amp;) is used to get the “address” of the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 C function parameters are “passed by value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used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x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ead, the value of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passed.  As a result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not know where to put the number it rea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bout this in Section 15 (“Functions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ing Numeric Data with scanf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 more than one variable at a ti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n1, n2;  float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("%d%d%f",&amp;n1,&amp;n2,&amp;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white spaces to separate numbers when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5      10      20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format str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use other characters to separate the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("value=%d,ratio=%f", &amp;value,&amp;rati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must provide input lik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alue=27,ratio=0.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eturns an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nd-of-file was reached, it returns EOF, a constant defined in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herwise, it returns the number of input values correctly read from standard inp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ading Numeric Data with scanf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ricky poi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are reading into a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dou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you must precede the conversion specifier with an </a:t>
            </a:r>
            <a:r>
              <a:rPr b="1" lang="en-US" sz="2400" spc="-1" strike="noStrike">
                <a:solidFill>
                  <a:srgbClr val="9900cc"/>
                </a:solidFill>
                <a:latin typeface="Courier New"/>
              </a:rPr>
              <a:t>l</a:t>
            </a:r>
            <a:r>
              <a:rPr b="0" lang="en-US" sz="2400" spc="-1" strike="noStrike">
                <a:solidFill>
                  <a:srgbClr val="9900cc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a lower case 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ong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double 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 %ld %f %lf", &amp;x, &amp;y, &amp;a, &amp;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ype Conve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allows for conversions between the basic types, implicitly or explicit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conversion uses the cast opera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=1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y,z=3.1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=(float) x;       /* y=10.0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(int) z;          /* x=3   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x=(int) (-z);      /* x=-3   -- rounded approaching zero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;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hort int j=10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=j*j;                 /* wrong!!!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=(int)j * (int)j;   /* correct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mplicit Conver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compiler expects one type at a position, but another type is provided, then implicit conversion occu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during assign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c='a'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=c;    /* i  is assigned the ASCII code of ‘a’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 conversion – if two operands of a binary operator are not the same type, implicit conversion occu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=5 , j=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x=1.0 ,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x / i;           /* y = 1.0 /  5.0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j / i;            /* y = 1 / 5  so  y = 0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y = (float) j / i;   /* y = 1.0 / 5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The cast operator has a higher precedence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2000"/>
          </a:bodyPr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izeof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returns the number of bytes in a data type.</a:t>
            </a:r>
            <a:br>
              <a:rPr sz="24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char ......... = %2d byte(s)\n", sizeof(char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short ........ = %2d byte(s)\n", sizeof(shor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int ........... = %2d byte(s)\n", sizeof(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“Size of long long …… = %2d byte(s)\n”, sizeof(long long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long ......... = %2d byte(s)\n", sizeof(long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unsigned char. = %2d byte(s)\n", sizeof (unsigned char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unsigned int.. = %2d byte(s)\n", sizeof (unsigned in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unsigned short = %2d byte(s)\n", sizeof (unsigned shor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unsigned long. = %2d byte(s)\n", sizeof (unsigned long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float ........ = %2d byte(s)\n", sizeof(float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double ....... = %2d byte(s)\n", sizeof(doubl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("Size of long double .. = %2d byte(s)\n", sizeof(long double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of a previous run of this code on obelix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char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long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long 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8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unsigned char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1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unsigned in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unsigned short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2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unsigned long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float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double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8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ze of long double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16 byt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Variables Nam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s may contain letters, digits and undersc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character must be a letter or an undersco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nderscore can be used but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atch ou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se matter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keywords cannot be be used as variable na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405080" y="4495680"/>
            <a:ext cx="7248240" cy="20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esent, hello, y2x3, r2d3, ...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OK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_1993_tar_return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OK but don’t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Hello#there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illegal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shouldn’t work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2fartogo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illegal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reating Simple Typ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ypede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reates a new name for an existing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you to create a new name for a complex old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synt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typedef  oldtype  new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def  long  int32;    /* suppose we know an int has 32-bit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def  unsigned char  byte;  /* create a byte type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def  long double extende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often used with complex dat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s synta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riable Declara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name    varname1, varname2, ...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 cou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loat 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percent, to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char x,y,z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 int aLongI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 AnotherLong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long a_1, a_2, a_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long int b_1, b_2, b_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def long int32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32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eclarations appear affects their scope and vi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s are similar to those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ation outside of any function are for global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just before the main rout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ariable Declara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initialize a variable before using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ure to do so in C is asking for tr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value of an uninitialized variables is undefined in the C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ount;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Set aside storage space for cou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unt = 0;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Store 0 in coun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be done at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count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percent = 10.0,  rate = 0.5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ning:  be careful about “out of range error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int value = -25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 compiler does not detect this as an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do you suspect it do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ant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so declare variables as being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lifi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 double pi=3.141592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 int maxlength=2356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nst int val=(3*7+6)*5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ants are useful for a number of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the reader of the code that a value does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reading large pieces of code eas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ls the compiler that a value does not 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mpiler can potentially compile faster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onstants whenever appropri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You will get errors with the cc compiler --- use the </a:t>
            </a:r>
            <a:r>
              <a:rPr b="0" lang="en-US" sz="2800" spc="-1" strike="noStrike">
                <a:solidFill>
                  <a:srgbClr val="ff9933"/>
                </a:solidFill>
                <a:latin typeface="Arial"/>
              </a:rPr>
              <a:t>gc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r (new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350760" y="2209680"/>
            <a:ext cx="311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Note: simple compu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values are allow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must be able to evaluate</a:t>
            </a:r>
            <a:br>
              <a:rPr sz="2000"/>
            </a:b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at 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compil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838400" y="2894040"/>
            <a:ext cx="1485720" cy="61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ant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rocessor Const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an older form of constant which you still s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a potential for problems, so be careful using th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define CONSTNAME lit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make pre-processor constants all upper case (conventio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define PI 3.141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really happ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 preprocessor runs before the compi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ery time it sees the token PI, it substitutes the value 3.1415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mpiler is then run with this “pre-processed”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this is dangero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 to determine the value of a multiply-defined constant (which you are allowed to cre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stant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ample of constants in u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define GRAMS_PER_POUND 4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onst int FARFARAWAY = 3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weight_in_grams, weight_in_pound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year_of_birth, age_in_300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your weight in pounds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weight_in_pound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your year of birth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year_of_birth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weight_in_grams = weight_in_pounds * GRAMS_PER_POU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age_in_3000 = FARFARAWAY - year_of_birth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Your weight in grams = %d\n", weight_in_gram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In 3000 you will be %d years old\n", age_in_300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iterals in 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ls are representations of values of som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 allows literal values for integer, character, and floating poi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write the integer in base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y=-46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discuss base 8 and base 16 literals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acter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 literals are specified with a single character in single quo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har ch='a'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al characters are specified with escap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the discussion of ‘escaped’ characters with the sh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discuss these la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 point lit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st write the floating point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loat PI=3.14159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use mantissa/exponent (scientific) no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double minusPItimes100 = -3.14159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Variables Nam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ions regarding variab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use variable names that are descrip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: adopt and stick to a standard naming con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it is useful to do this consistently for the entire software development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:  variable names starting with an under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ten used by the operating system and easy to 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OID:  using uppercase only variable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these are pre-processor macros (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nly a few basic data types in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ingle byte, capable of holding one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eger of fixed length, typically reflecting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al size of integers on the host mach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e., 32 or 64 bi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precision float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uble precision floating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8000"/>
          </a:bodyPr>
          <a:p>
            <a:pPr marL="370440" indent="-37044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a number of qualifiers which can be applied to the basic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07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ngth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hort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shorter" int, &lt;= number of bits in an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2183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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just write "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"longer int", &gt;= number of bits in an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12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ten the same number of bits as an 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5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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also just write "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 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extended precision floating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1000" indent="-307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ed and uns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t type with no 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nt has 32-bits, range from 0.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0">
              <a:spcBef>
                <a:spcPts val="499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works with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h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unsigned char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from 0 to 2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245880"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igned 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umber from –128 to 127 (8-bit signed value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</a:t>
            </a:r>
            <a:r>
              <a:rPr b="0" lang="en-US" sz="2000" spc="-1" strike="noStrike">
                <a:solidFill>
                  <a:srgbClr val="ffff00"/>
                </a:solidFill>
                <a:latin typeface="Monotype Sorts"/>
                <a:ea typeface="Monotype Sorts"/>
              </a:rPr>
              <a:t>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similar to byte in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ypes have a fixed size associated with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ize can be determined at compile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storage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numbers are highly variable between C compilers and computer architecture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that rely on these figures must be very careful to make their code portable (ie. Try not to avoid relying on the size of the predefined typ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49200" y="2590920"/>
            <a:ext cx="7539120" cy="178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 u="sng">
                <a:solidFill>
                  <a:srgbClr val="9900cc"/>
                </a:solidFill>
                <a:uFillTx/>
                <a:latin typeface="Arial"/>
              </a:rPr>
              <a:t>DATA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9900cc"/>
                </a:solidFill>
                <a:uFillTx/>
                <a:latin typeface="Arial"/>
              </a:rPr>
              <a:t>Bytes Requir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he letter </a:t>
            </a:r>
            <a:r>
              <a:rPr b="0" i="1" lang="en-US" sz="2000" spc="-1" strike="noStrike">
                <a:solidFill>
                  <a:srgbClr val="9900cc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char)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he number 100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(int)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he number 120.145 (double)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 Variable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32-bits or 64-bits in leng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an int has b-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gned int is in range -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-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2768 .. 32767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32767+1=-3276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unsigned int is in range 0..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.. 65535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(65535+1=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rror message is given on this "overflo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oating-point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ly IEEE 754 floating point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 (IEEE single): 8 bits exponent, 1-bit sign, 23 bits manti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 (IEEE double): 10 bits exponent, 1-bit sign, 53 bits manti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double (IEEE extend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use floating point types when really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o a lot of rounding which must be understood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ating point operations tend to cost more than integer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Basic Types (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typical 32-bit mach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Type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 Keyword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Bytes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128...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,147,483,648...2,147,438,6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shor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32768...3236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2,147,483,648...2,147,438,64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 long 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8           -9223372036854775808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2233720368547758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charact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unsigned ch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..25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integ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unsigned 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..4,294,967,2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short integer    unsigned short   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..655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signed long integer     unsigned lo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..4,294,967,2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ngle-prec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floa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4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2E-38...3.4E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uble-prec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dou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8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E-308...1.8E3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Printing with printf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unction is used to output information (both data from variables and text) to standard out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 library function in the &lt;stdio.h&gt;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s a format string and parameters for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(format string, arg1, arg2, …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printf("The result is %d and %d\n", a, b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ormat string contai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teral text:  is printed as is without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caped sequences:  special characters preceeded by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 specifiers: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ed by a single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cates (usually) that a variable is to be printed at this location in the output str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ariables to be printed must appear in the parameters to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llowing the format string, in the order that they appear in the forma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 SS</cp:lastModifiedBy>
  <cp:lastPrinted>1998-07-26T16:47:22Z</cp:lastPrinted>
  <dcterms:modified xsi:type="dcterms:W3CDTF">2005-09-22T04:16:37Z</dcterms:modified>
  <cp:revision>1414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