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6A8A-3914-4210-8AC9-384B9C790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60B4-A377-4BC4-900C-6D995F10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676D-036A-4AB6-B7E9-9E8FC1E88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2CDD-02DC-4A38-BF49-DC40C177F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EAB7-6C65-4F10-8EEF-C79EA97E8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8F40-16AF-4263-B41B-86B4048DB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4FFA-C0F6-41EE-8552-701F368E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4302-4895-4555-A03F-599DF9EFC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FAE7-6F58-4079-8A87-DFA0B90AA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E002-2D9C-431D-9266-4E3E0770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862D-5EE1-47C6-AB2C-BCFD69B3A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9418-3B6C-412F-BB42-BCD7DDF26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6826FFA9-B854-4D38-9FC8-5F799DBF0904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imple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x=1;   /* global variable - bad!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void demo(voi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y=2;  /* local variable to main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\nBefore calling demo(), x = %d and y = %d.",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emo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\nAfter calling demo(), x = %d and y = %d.\n",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void demo 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x = 88, y =99;  /* local variables to demo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\nWithin demo(), x = %d and y = %d.",x,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lacement of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arg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 related functions in a .c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.h file containing all the prototypes of the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include the header file in the files that uses the fun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mall programs, use the following order in the only one fi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to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()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math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in(int x,int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x(int x,int 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math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in(int x,int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x&gt;y?y: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x(int x,int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x&gt;y?x: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ursion - 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4572000" cy="63244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unsigned int factorial(unsigned int 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 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unsigned int f,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Enter value between 1 &amp; 8: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"%d", &amp;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(x &gt; 8 || x &lt;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”Illegal input!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 = factorial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%u factorial equals %u\n", x,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105520" y="1219320"/>
            <a:ext cx="4572000" cy="624816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unsigned int factorial (unsigned int a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(a==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 *= factorial(a-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max(int a, int b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main()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x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max(5,8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max(x,7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 max(int a, int b)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 a&gt;b?a: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58520" y="355320"/>
            <a:ext cx="4642200" cy="12589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19800" bIns="19800" anchor="t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C Functio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7880" y="1218960"/>
            <a:ext cx="8543880" cy="6151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receives zero or more parameters, performs a specific task, and returns zero or one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is invoked by its name and paramet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wo functions have the same name in your C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two functions have the same name AND parameter types in your C++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munication between the function and invoker is through the parameters and the return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is independ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“completely” self-conta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called at any places of your code and can be ported to another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s make programs reusable and read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ynta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Proto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_type  function_name (type1  name1, type2  name2,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..., typen  namen)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Defini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_type function_name (type1 name1, type2 name2,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...,typen nam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....statement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14400" y="3276720"/>
            <a:ext cx="8610480" cy="838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533520" y="4114800"/>
            <a:ext cx="38088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6781680"/>
            <a:ext cx="251460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unction hea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3809880"/>
            <a:ext cx="0" cy="2362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3680" y="6324480"/>
            <a:ext cx="2332440" cy="459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The parame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10280" y="2438280"/>
            <a:ext cx="228600" cy="3886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 Examp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Prototype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ouble squared (double numb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void print_report (i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get _menu_choice (vo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Definition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ouble squared (double numb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(number * numb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void print_report (int report_numb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(report_nmber == 1)</a:t>
            </a:r>
            <a:br>
              <a:rPr sz="2000"/>
            </a:b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printf(“Printer Report 1”);</a:t>
            </a:r>
            <a:br>
              <a:rPr sz="2000"/>
            </a:b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else</a:t>
            </a:r>
            <a:br>
              <a:rPr sz="2000"/>
            </a:b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printf(“Not printing Report 1”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646280" y="2285640"/>
            <a:ext cx="7971480" cy="4268520"/>
            <a:chOff x="1646280" y="2285640"/>
            <a:chExt cx="7971480" cy="4268520"/>
          </a:xfrm>
        </p:grpSpPr>
        <p:sp>
          <p:nvSpPr>
            <p:cNvPr id="113" name=""/>
            <p:cNvSpPr/>
            <p:nvPr/>
          </p:nvSpPr>
          <p:spPr>
            <a:xfrm>
              <a:off x="6776280" y="5850360"/>
              <a:ext cx="2841480" cy="70380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cc"/>
                  </a:solidFill>
                  <a:latin typeface="Arial"/>
                </a:rPr>
                <a:t>return type void means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cc"/>
                  </a:solidFill>
                  <a:latin typeface="Arial"/>
                </a:rPr>
                <a:t>it returns noth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1646280" y="2285640"/>
              <a:ext cx="5105520" cy="32943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2133720" y="5457600"/>
              <a:ext cx="4618080" cy="561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876920" y="2695680"/>
            <a:ext cx="5082120" cy="1036080"/>
            <a:chOff x="4876920" y="2695680"/>
            <a:chExt cx="5082120" cy="1036080"/>
          </a:xfrm>
        </p:grpSpPr>
        <p:sp>
          <p:nvSpPr>
            <p:cNvPr id="117" name=""/>
            <p:cNvSpPr/>
            <p:nvPr/>
          </p:nvSpPr>
          <p:spPr>
            <a:xfrm>
              <a:off x="6203160" y="2906280"/>
              <a:ext cx="3755880" cy="82548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Arial"/>
                </a:rPr>
                <a:t>void parameter list means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cc"/>
                  </a:solidFill>
                  <a:latin typeface="Arial"/>
                </a:rPr>
                <a:t>it takes no parameter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 flipV="1">
              <a:off x="4876920" y="2695680"/>
              <a:ext cx="1295280" cy="228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ssing Argu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guments are passed as in Java and Pas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ca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unc1 (a, b, c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func1 (int x, int y, int 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rgument can be any valid C expression that has a val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x = func1(x+1,func1(2,3,4),5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meters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x y 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initialized by the value of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 b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onversions may occur if types do not m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666880"/>
            <a:ext cx="106668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10080" y="2666880"/>
            <a:ext cx="13716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91320" y="2666880"/>
            <a:ext cx="190476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rameters are Passed by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3200" spc="-1" strike="noStrike" u="sng">
                <a:solidFill>
                  <a:srgbClr val="9900cc"/>
                </a:solidFill>
                <a:uFillTx/>
                <a:latin typeface="Arial"/>
              </a:rPr>
              <a:t>All</a:t>
            </a:r>
            <a:r>
              <a:rPr b="1" lang="en-US" sz="3200" spc="-1" strike="noStrike">
                <a:solidFill>
                  <a:srgbClr val="9900cc"/>
                </a:solidFill>
                <a:latin typeface="Arial"/>
              </a:rPr>
              <a:t> parameters are passed by value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means they are basically local variables initialized to the values that the function is called wi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modified as you wish but these modifications will not be seen in the calling routin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twice(int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x=x+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turn x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x=10,y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y=twice(x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("%d,%d\n",x,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turning a Val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return a value from a C function you must explicitly return it with a return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&lt;expression&gt;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ression can be any valid C expression that resolves  to the type defined in the function hea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conversion may occur if type does not m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ple return statements can be used within a single function (eg: inside an “if-then-else” statement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cal Variab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Variabl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func1 (int y)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int a, b = 10;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float rate;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double cost = 12.55;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.......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se variables declared “within” the function are considered “local variabl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only be used inside the function they were declared in, and not elsew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Bin Ma</cp:lastModifiedBy>
  <cp:lastPrinted>1998-07-26T16:47:22Z</cp:lastPrinted>
  <dcterms:modified xsi:type="dcterms:W3CDTF">2003-10-09T18:32:10Z</dcterms:modified>
  <cp:revision>1428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