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937-C370-4B45-BB58-CE94BAD8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812-1863-4132-9F88-26A856AB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2A7-CAD8-4478-B4FD-C026F41A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000-1E47-4E0E-9FF0-2B134CA6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EEBE-8827-4C17-BFCD-0FF1D32E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904A-71A8-4726-8935-92666920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BA73-C2A8-4C9C-9A91-95F974E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3026-D905-442D-BEDA-AF73505B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B25-BCBD-4921-83C8-EFEC8294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F7E0-C19F-4893-BCC6-BFDFB9F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DCAF-F40B-41FD-BFFC-7C42B7A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663-FC5E-44CE-A46B-D76B9920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89AA-15E4-4085-91BE-D2D9A66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E00-D946-483C-B61B-35E418A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DACB-FA11-4E3A-A0FF-DEB89637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6502-D05A-41AB-B96C-0F517821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4D8B-2BE6-4703-9A1E-D63C3AC2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652-2B39-4351-9DCB-0BF9FFC2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3ED-1065-45EA-AFBF-E49E0B8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786-B419-40A0-BB2B-6313E48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EB4-FCB1-4368-A315-F272107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4D5-994B-434B-92BB-575D5E9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DC5-B3C0-4BA2-AAE8-E00A263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8C8-6AA7-403E-B984-99B8ABCE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36F8-F094-468A-9FA9-0287BE5A4A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5b2ff"/>
                </a:gs>
                <a:gs pos="100000">
                  <a:srgbClr val="3d6c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55BC-77FA-47A7-8395-967E5A7741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ismillah own copy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The Communication Process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533520" y="1295280"/>
          <a:ext cx="7848360" cy="50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84836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od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od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i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42e00"/>
                </a:solidFill>
                <a:uFillTx/>
                <a:latin typeface="Arial"/>
              </a:rPr>
              <a:t>The Communication Process</a:t>
            </a:r>
            <a:r>
              <a:rPr b="0" lang="en-US" sz="4400" spc="-1" strike="noStrike">
                <a:solidFill>
                  <a:srgbClr val="f42e00"/>
                </a:solidFill>
                <a:latin typeface="Arial"/>
              </a:rPr>
              <a:t>  Contd........…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Communication Directions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wnward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ward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rizontal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onal Di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Barriers to Communication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1477800"/>
            <a:ext cx="71629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Overcoming Communication Barriers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62120" y="1363680"/>
            <a:ext cx="76960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3300"/>
                </a:solidFill>
                <a:uFillTx/>
                <a:latin typeface="Arial"/>
              </a:rPr>
              <a:t>Communication Skills</a:t>
            </a:r>
            <a:endParaRPr b="0" lang="en-US" sz="8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048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 u="sng">
                <a:solidFill>
                  <a:srgbClr val="ff3300"/>
                </a:solidFill>
                <a:uFillTx/>
                <a:latin typeface="Arial"/>
              </a:rPr>
              <a:t>Listening Skills</a:t>
            </a:r>
            <a:endParaRPr b="0" lang="en-US" sz="117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The Process of Listening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eiv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tten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derstan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pon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memb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How to Be an Effective Listener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 the Complexities of Listen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e to List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just to the Sit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cus on ideas or key poi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ganize material for learn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What You Feel about Listening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nt to liste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lay judgment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dmit your biase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n’t tune out “dry” subject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ccept responsibility for understand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Communication Skills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Follow the Golden Rule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 unto others as you would have them do unto you. Be the kind of listener you want others to be when you are talking. Ask “How would I want others to listen to me?” That’s how to be an effective listene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 u="sng">
                <a:solidFill>
                  <a:srgbClr val="ff3300"/>
                </a:solidFill>
                <a:uFillTx/>
                <a:latin typeface="Arial"/>
              </a:rPr>
              <a:t>Reading Skills</a:t>
            </a:r>
            <a:endParaRPr b="0" lang="en-US" sz="10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How to Improve Reading Skills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ing what you need to know, and reading appropriately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ing how deeply to read the document: skimming, scanning or study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active reading techniques to pick out key points and keep your mind focused on the material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the table of contents for reading magazines and newspapers, and clipping useful article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ing how to extract information from different article type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ting your own table of contents for reviewing materia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indexes, tables of contents, and glossaries to help you assimilate technical informatio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Suggestions for Improving Reading Speed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rovement of Reading R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Conditions for Increased Reading R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 u="sng">
                <a:solidFill>
                  <a:srgbClr val="ff3300"/>
                </a:solidFill>
                <a:uFillTx/>
                <a:latin typeface="Arial"/>
              </a:rPr>
              <a:t>Writing Skills</a:t>
            </a:r>
            <a:endParaRPr b="0" lang="en-US" sz="14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An Effective Writing Formula</a:t>
            </a:r>
            <a:br>
              <a:rPr sz="4400"/>
            </a:b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 for Unsure Writers 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You have to have a reason for wri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nowing the prospective read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udy the subjec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aking not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rganizing the materi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paring the draf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diting &amp; inser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vise and rewri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nal draf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Easy Writing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clear, correct sentences without worrying if they are clear and correct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well-structured paragraphs that will present and expand your ideas effectively.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cture and develop the longer forms: reports, booklets--yes, even books--with new confidence and control....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More important, you'll finally begin to enjoy writing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ith knowledge comes confidence, and with your new knowledge you'll develop skills and the ability to tackle successfully the writing challenges you now avoid. Being able to do this brings a real sense of achievement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3300"/>
                </a:solidFill>
                <a:uFillTx/>
                <a:latin typeface="Arial"/>
              </a:rPr>
              <a:t>Definition</a:t>
            </a: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ansmission of information, ideas, knowledge or emotions from one person or group to another through speech, writing or signs etc. is called communicatio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3300"/>
                </a:solidFill>
                <a:uFillTx/>
                <a:latin typeface="Arial"/>
              </a:rPr>
              <a:t>Writing Tips</a:t>
            </a:r>
            <a:endParaRPr b="0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oose clear, familiar word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ut more action into your sentences by using active voice rather than passive voice verb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lan before you write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 power to your writing by using shorter verbs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 the comma correctly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void wordines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yphenate the elements of a compound adjective that occurs before a nou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 sure to edit your writing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rganize your writing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liminate unclear jargon from your sentence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 specific and use terms your reader can picture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ep your sentences short and simpl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n’t use un-popular acronyms: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e sensitive to the small differences in word meaning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ke your writing reader-friendly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6"/>
          <p:cNvSpPr txBox="1"/>
          <p:nvPr/>
        </p:nvSpPr>
        <p:spPr>
          <a:xfrm>
            <a:off x="533520" y="2209680"/>
            <a:ext cx="784836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99"/>
                    </a:gs>
                    <a:gs pos="50000">
                      <a:srgbClr val="ff3300"/>
                    </a:gs>
                    <a:gs pos="100000">
                      <a:srgbClr val="00ff99"/>
                    </a:gs>
                  </a:gsLst>
                  <a:lin ang="27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99"/>
                  </a:gs>
                  <a:gs pos="50000">
                    <a:srgbClr val="ff3300"/>
                  </a:gs>
                  <a:gs pos="100000">
                    <a:srgbClr val="00ff99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Importance of Communication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unication is one of the most frequently used human activities, which embraces five basic elements i.e., thinking, observing, acting, talking and listening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1001"/>
              </a:spcBef>
              <a:buClr>
                <a:srgbClr val="ff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f these five basic elements there are four primary communication skills involved:-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a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rso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nk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ing Di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ologu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Contd........…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terperso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e to fac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ter Wri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x , etc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Contd........…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SzPct val="6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roup Communic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 Group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 Group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Levels of Communication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Contd........…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Mass Communication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ews paper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agazi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Book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adi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elevis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1:54:41Z</dcterms:created>
  <dc:creator>zafar</dc:creator>
  <dc:description/>
  <dc:language>en-US</dc:language>
  <cp:lastModifiedBy>Muhammad Shakir</cp:lastModifiedBy>
  <cp:lastPrinted>2017-02-20T11:15:14Z</cp:lastPrinted>
  <dcterms:modified xsi:type="dcterms:W3CDTF">2017-02-20T11:25:08Z</dcterms:modified>
  <cp:revision>78</cp:revision>
  <dc:subject/>
  <dc:title>SMCR MODEL</dc:title>
</cp:coreProperties>
</file>