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15.gif" ContentType="image/gif"/>
  <Override PartName="/ppt/media/image7.jpeg" ContentType="image/jpe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9001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9001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344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3440" y="413064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4560" y="198108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7640" y="198108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4560" y="413064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57640" y="4130640"/>
            <a:ext cx="289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344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9001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344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344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3440" y="413064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3440" y="1981080"/>
            <a:ext cx="439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9001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gradFill rotWithShape="0">
            <a:gsLst>
              <a:gs pos="0">
                <a:srgbClr val="cee2ff"/>
              </a:gs>
              <a:gs pos="50000">
                <a:srgbClr val="5e9eff"/>
              </a:gs>
              <a:gs pos="100000">
                <a:srgbClr val="cee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304920" y="0"/>
            <a:ext cx="752400" cy="139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752760" cy="139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752760" cy="139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aperfectworld.org/clipart/communications/transmitter.gif&amp;imgrefurl=http://www.aperfectworld.org/communications.htm&amp;h=184&amp;w=158&amp;sz=10&amp;tbnid=0fM59eH1DFUJ:&amp;tbnh=96&amp;tbnw=82&amp;hl=en&amp;start=8&amp;prev=/images?q=transmitter&amp;hl=en&amp;lr=&amp;sa=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75800" y="1600200"/>
            <a:ext cx="701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FFECTIVE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666880" y="3581280"/>
            <a:ext cx="5295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99"/>
                </a:solidFill>
                <a:latin typeface="Times New Roman"/>
              </a:rPr>
              <a:t>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99"/>
                </a:solidFill>
                <a:latin typeface="Times New Roman"/>
              </a:rPr>
              <a:t>Dr. Muhammad Shak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714680" y="45720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ing Vs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333440" y="1676520"/>
            <a:ext cx="4724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hysical process, natural, pa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hysical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al process, acti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d process, a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43080" y="5334120"/>
            <a:ext cx="94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is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choose to participate in the process of list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HM00050_[1]"/>
          <p:cNvPicPr/>
          <p:nvPr/>
        </p:nvPicPr>
        <p:blipFill>
          <a:blip r:embed="rId1"/>
          <a:stretch/>
        </p:blipFill>
        <p:spPr>
          <a:xfrm>
            <a:off x="6362640" y="1219320"/>
            <a:ext cx="2210040" cy="188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355407[1]"/>
          <p:cNvPicPr/>
          <p:nvPr/>
        </p:nvPicPr>
        <p:blipFill>
          <a:blip r:embed="rId2"/>
          <a:stretch/>
        </p:blipFill>
        <p:spPr>
          <a:xfrm>
            <a:off x="7277040" y="3200400"/>
            <a:ext cx="2362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71468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714680" y="213372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529280" y="457200"/>
            <a:ext cx="57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ALUE OF 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04920" y="1447920"/>
            <a:ext cx="9982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ing to others is an elegant 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ing reflects courtesy and good man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ing carefully to the instructions of superiors improve competence and                                                              performanc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of poor listening skill could be disastrous in business,   employment and social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ing can eliminate a number of imaginary grievances of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ing skill can improve social relations and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ing is a positive activity rather than a passive or negative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3" descr="j0097935[1]"/>
          <p:cNvPicPr/>
          <p:nvPr/>
        </p:nvPicPr>
        <p:blipFill>
          <a:blip r:embed="rId1"/>
          <a:stretch/>
        </p:blipFill>
        <p:spPr>
          <a:xfrm>
            <a:off x="7696080" y="380880"/>
            <a:ext cx="11923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1676520"/>
            <a:ext cx="102870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think ahead about what you are going to s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simple words and phrases that are understood by every bod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 your knowledge on all subjects you are required to spea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ak clearly and audib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twice with the listener whether you have been understood accurately or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ase of an interruption, always do a little recap of what has been already sai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pay undivided attention to the speaker while listen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le listening, always make notes of important po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ways ask for clarification if you have failed to grasp other’s point of vie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what the speaker has said to check whether you have understood accurate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3480" y="380880"/>
            <a:ext cx="721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SENTIALS OF COMMUNIC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446120" y="380880"/>
            <a:ext cx="721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SENTIALS OF COMMUNIC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407960"/>
            <a:ext cx="1028700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instantly react and mutter something in ang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use technical terms &amp; terminologies not understood by majority of peo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speak too fast or too s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speak in inaudible surroundings, as you won’t be he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assume that every body understands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listening do not glance here and there as it might distract the speak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interrupt the speak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jump to the conclusion that you have understood every th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518480" y="74520"/>
            <a:ext cx="56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Improve Existing Level of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UNI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1219320"/>
            <a:ext cx="102870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 LANGU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 PRONUNCIATIO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ON VOICE MODU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ON BODY LANGU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EN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OID READING OR WATCHING OR LISTENING UNWANTED LITERATURE, GOSSIP, MEDIA   PRESENTATIO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ACT WITH QUALITATIVE 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 ON YOU TOPIC OF DISCUSS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CTICE MEDITATION &amp; GOOD THOUGH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NK AND SPE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 SPEAK TOO FA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SIMPLE VOCABUL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 SPEAK ONLY TO IMPRESS SOME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OK PRESENTABLE AND CONF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27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1714680" y="434880"/>
            <a:ext cx="78865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roving Body Language - T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09760" y="1905120"/>
            <a:ext cx="79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ppropriate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onl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are of your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- people may give false c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le genuin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8115480" y="4648320"/>
            <a:ext cx="1590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028880" y="1676520"/>
            <a:ext cx="830088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new global and diverse workplace requi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llent communication skills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Ch01diversity"/>
          <p:cNvPicPr/>
          <p:nvPr/>
        </p:nvPicPr>
        <p:blipFill>
          <a:blip r:embed="rId1"/>
          <a:stretch/>
        </p:blipFill>
        <p:spPr>
          <a:xfrm>
            <a:off x="3390840" y="4191120"/>
            <a:ext cx="3657600" cy="1960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943280" y="53352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 for YOU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933640" y="4876920"/>
            <a:ext cx="474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0028_[1]"/>
          <p:cNvPicPr/>
          <p:nvPr/>
        </p:nvPicPr>
        <p:blipFill>
          <a:blip r:embed="rId1"/>
          <a:stretch/>
        </p:blipFill>
        <p:spPr>
          <a:xfrm>
            <a:off x="3086280" y="990720"/>
            <a:ext cx="4190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62040" y="45720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104840" y="1676520"/>
            <a:ext cx="861084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understand communication and th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nd overcome the filters/barriers in a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active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 to improve verbal and non 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374840" y="228600"/>
            <a:ext cx="566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ommunic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04920" y="1052640"/>
            <a:ext cx="998208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IS THE ART OF TRANSMITTING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IDEAS AND ATTITUDES FROM ONE PERS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NOTHER.COMMUNICATION IS THE PROCES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FUL INTERACTION AMONG HUMAN BE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ITS ESSENCES</a:t>
            </a:r>
            <a:r>
              <a:rPr b="0" lang="en-US" sz="2600" spc="-1" strike="noStrike">
                <a:solidFill>
                  <a:srgbClr val="663300"/>
                </a:solidFill>
                <a:latin typeface="Times New Roman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PERSONAL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OCCURS BETWEEN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NVOLVES CHANGE IN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MEANS TO INFLUENCE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EXPRESSION OF THOUGHT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EMOTIONS THROUGH WORDS &amp;  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OOLS FOR CONTROLLING AND MOTIVATING PEO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T IS A SOCIAL AND EMOTIONAL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people_talking"/>
          <p:cNvPicPr/>
          <p:nvPr/>
        </p:nvPicPr>
        <p:blipFill>
          <a:blip r:embed="rId1"/>
          <a:stretch/>
        </p:blipFill>
        <p:spPr>
          <a:xfrm>
            <a:off x="8077320" y="2819520"/>
            <a:ext cx="1712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638360" y="228600"/>
            <a:ext cx="8305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are the most common way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e communicat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 rot="20879400">
            <a:off x="1542960" y="1981080"/>
            <a:ext cx="3257640" cy="1752840"/>
          </a:xfrm>
          <a:prstGeom prst="rightArrow">
            <a:avLst>
              <a:gd name="adj1" fmla="val 50000"/>
              <a:gd name="adj2" fmla="val 46462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oken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843200" y="3835440"/>
            <a:ext cx="3000240" cy="1828800"/>
          </a:xfrm>
          <a:prstGeom prst="rightArrow">
            <a:avLst>
              <a:gd name="adj1" fmla="val 50000"/>
              <a:gd name="adj2" fmla="val 4101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ten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7"/>
          <p:cNvSpPr/>
          <p:nvPr/>
        </p:nvSpPr>
        <p:spPr>
          <a:xfrm rot="20784000">
            <a:off x="5343120" y="1587240"/>
            <a:ext cx="3171960" cy="1828800"/>
          </a:xfrm>
          <a:prstGeom prst="leftArrow">
            <a:avLst>
              <a:gd name="adj1" fmla="val 50000"/>
              <a:gd name="adj2" fmla="val 433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sual 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 rot="987600">
            <a:off x="5343120" y="3873240"/>
            <a:ext cx="3257640" cy="1600200"/>
          </a:xfrm>
          <a:prstGeom prst="leftArrow">
            <a:avLst>
              <a:gd name="adj1" fmla="val 50000"/>
              <a:gd name="adj2" fmla="val 50894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d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866960" y="380880"/>
            <a:ext cx="7086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676520" y="1371600"/>
            <a:ext cx="771516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wnwards Commun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ly Directive, from Senior to subordinates,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duties, give instructions, to inform to offer fe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, approval to highlight problems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wards Communic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non directive in nature from down below, to gi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edback, to inform about progress/problems, see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v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teral or Horizo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mong colleagues, peers at same level for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vel for information sharing for coordination, to save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modern business environment communication extends beyond written or spo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s to listened w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 dimension added by T.V., computers has given to new meaning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al Networ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rtually vertical as per chain go command withi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erarchy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rmal Networ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e to move in any direction may skip formal chai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and.  Likely  to satisfy social and emotional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can facilitate task accomplish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Y LEV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828800" y="2057400"/>
          <a:ext cx="252108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25210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1523880" y="205740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4648320" y="205704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7"/>
          <p:cNvSpPr txBox="1"/>
          <p:nvPr/>
        </p:nvSpPr>
        <p:spPr>
          <a:xfrm rot="5400000">
            <a:off x="3580920" y="350496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Upward Comm.</a:t>
            </a:r>
            <a:endParaRPr b="0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WordArt 10"/>
          <p:cNvSpPr txBox="1"/>
          <p:nvPr/>
        </p:nvSpPr>
        <p:spPr>
          <a:xfrm rot="5400000">
            <a:off x="-571680" y="3466800"/>
            <a:ext cx="3200400" cy="381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Downward Comm.</a:t>
            </a:r>
            <a:endParaRPr b="0" i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791320" y="144792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5848200" y="2362320"/>
          <a:ext cx="4438800" cy="243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8200" y="2362320"/>
                    <a:ext cx="4438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15"/>
          <p:cNvSpPr/>
          <p:nvPr/>
        </p:nvSpPr>
        <p:spPr>
          <a:xfrm>
            <a:off x="66294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Co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56204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55680" y="3284640"/>
            <a:ext cx="2106720" cy="10810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nc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248600" y="3284640"/>
            <a:ext cx="1946160" cy="10810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dec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524400" y="3284640"/>
            <a:ext cx="2023920" cy="1726920"/>
          </a:xfrm>
          <a:prstGeom prst="irregularSeal2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5372280" y="2438280"/>
            <a:ext cx="1701720" cy="1800360"/>
          </a:xfrm>
          <a:prstGeom prst="irregularSeal1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2146320" y="2133360"/>
            <a:ext cx="0" cy="1150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8140680" y="2133720"/>
            <a:ext cx="0" cy="1150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2146320" y="2133720"/>
            <a:ext cx="5994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8223120" y="4365720"/>
            <a:ext cx="0" cy="1295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146320" y="4365720"/>
            <a:ext cx="0" cy="122400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2146320" y="5589720"/>
            <a:ext cx="60768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332240" y="1844640"/>
            <a:ext cx="1701720" cy="43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3767040" y="5445000"/>
            <a:ext cx="2835360" cy="43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eedback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714680" y="304920"/>
            <a:ext cx="6521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rriers to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38360" y="1752480"/>
            <a:ext cx="6781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/Miscon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listen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image,7451,en"/>
          <p:cNvPicPr/>
          <p:nvPr/>
        </p:nvPicPr>
        <p:blipFill>
          <a:blip r:embed="rId1"/>
          <a:stretch/>
        </p:blipFill>
        <p:spPr>
          <a:xfrm>
            <a:off x="6515280" y="1676520"/>
            <a:ext cx="1863720" cy="103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PE07006_[1]"/>
          <p:cNvPicPr/>
          <p:nvPr/>
        </p:nvPicPr>
        <p:blipFill>
          <a:blip r:embed="rId2"/>
          <a:stretch/>
        </p:blipFill>
        <p:spPr>
          <a:xfrm>
            <a:off x="7048440" y="3124080"/>
            <a:ext cx="1571760" cy="144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ndex0401"/>
          <p:cNvPicPr/>
          <p:nvPr/>
        </p:nvPicPr>
        <p:blipFill>
          <a:blip r:embed="rId3"/>
          <a:stretch/>
        </p:blipFill>
        <p:spPr>
          <a:xfrm>
            <a:off x="6972480" y="4876920"/>
            <a:ext cx="2366640" cy="146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transmit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953560" y="2362320"/>
            <a:ext cx="10382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080" y="0"/>
            <a:ext cx="92581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vercoming Communication Barrier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57160" y="1363680"/>
            <a:ext cx="86583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6:39:34Z</dcterms:created>
  <dc:creator>PRAMOD</dc:creator>
  <dc:description/>
  <dc:language>en-US</dc:language>
  <cp:lastModifiedBy>Muhammad Shakir</cp:lastModifiedBy>
  <dcterms:modified xsi:type="dcterms:W3CDTF">2014-04-30T05:19:02Z</dcterms:modified>
  <cp:revision>49</cp:revision>
  <dc:subject/>
  <dc:title>PowerPoint Presentation</dc:title>
</cp:coreProperties>
</file>