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0BF-9238-4412-92F5-B0E56AF4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FD2-596C-49F1-AF93-2C031C4E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F91-18EF-42C4-9AD2-7E1B8EB5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BB1-A7F3-46C1-A911-5DE5C989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0C25-E15C-4988-B5C0-5ABDB0E1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1600-6EDE-4194-B596-A03A6C41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829C-B48E-462E-9BAA-4DBB8DC9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5D48-6DA7-4FE6-A95D-EFF62AD4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4300-04D6-4D8A-9BFB-010BDF9C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6B4D-A88C-4B84-85E7-A87FBDC2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913B-6306-4312-8A30-86B056FD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C2A-C604-4C58-A833-9E8FFFED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75FA-0953-4796-BA3A-C98D5BA6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516F-E94D-4065-8022-6AF7AFB4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00FA-DD1C-41BE-8039-5713EE4E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1283-837C-4CA8-8C8E-E48B57E0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14AE-57E7-4B67-87B2-25347E9F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78E-3E82-4900-A0D9-D953F66D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5CC-349E-4AC4-847E-ECABBE06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853-B617-41C8-8F45-16549C5D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540-ACDB-4EF0-98C6-B160B1C7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747-B61D-4E96-AA7B-C69171C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781-54F0-4647-B638-D0C1315A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630-0BDD-4FE6-8F9F-2ADBE96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AA14-0F19-4A04-8E00-2BAE0B2210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9B0D-9066-4A87-8C66-FB27B244CDB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Bismillah own copy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mon low cost non-projected aid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har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obil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Real thing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ictur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Graph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od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Board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oard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.  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riting Boar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alk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rker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.   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Display Boar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 Cloth Boa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  Magnetic Boa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   Bulletin Boa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ow Non-Projected Visual Aids Can Be Helpful for teacher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feel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eas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mfor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can teach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nfidentl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Eye contact with student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possib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ow teacher to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ove around the ro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ow Non-Projected Visual Aids Can Be Helpful for studen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Students feel comfortabl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can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ake/record the not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easi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Learning become eas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or stud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attend the lesson attentive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take interest in les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participate in les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inciples to Choose the Visual Aid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levant with the objectives of teach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hould be prepared by the teacher (preferabl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oose low cost materials preferab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ariety in selection of ai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void information overlo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sent simple ideas that can easily stated verbal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from the objections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ropriate size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Expens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ealing for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irections for the Use of Aid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lay/ pace proper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y to understand before coming in the cl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how at the time of explan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lay on the central part in front of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nd on left side while us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intain eye contact with your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pointer to point out the key-point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ain in easy words/wa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main in contact with students while explaining the ai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y to involve students in explan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sk questions &amp; stimulate discus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llow students to write main points on their notebook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move aid after the us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ve those material that can be used aga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rners will prepare a chart to teach primary cla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4"/>
          <p:cNvSpPr/>
          <p:nvPr/>
        </p:nvSpPr>
        <p:spPr>
          <a:xfrm>
            <a:off x="1143000" y="2057400"/>
            <a:ext cx="6705720" cy="3495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DAY IS THE DOOR TO TOMORROW”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9600" spc="-1" strike="noStrike">
                <a:solidFill>
                  <a:srgbClr val="eaeaea"/>
                </a:solidFill>
                <a:latin typeface="Times New Roman"/>
              </a:rPr>
              <a:t>Thanks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4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Helping aids/ AUDIO VISUAL AIDS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uhammad Shaki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bjectives of the s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understand the concept of helping a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study the Importance of helping a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identify the types of helping a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know how it will be helpful for teachers and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suggest some directions how to use helping aids in cla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ffcc"/>
                </a:solidFill>
                <a:latin typeface="Arial"/>
              </a:rPr>
              <a:t>Helping aids /AUDIO VISUAL AID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 materials that can be used to enhance the learning experiences of students is called helping aids.( soul, 2006-7,p:36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le of audio visual ai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 helping aids work like a vehicle through which message can be conveyed to learners (Ellington,Percival &amp; Race (200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2514600" y="3581280"/>
          <a:ext cx="380988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581280"/>
                    <a:ext cx="380988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portance of helping ai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lping aids create motiv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aching learning process become pleasant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develops the sensation power of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is useful for slow learn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enhances the practical power in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lessens the use of traditional method in teach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saves the ti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consulates psychological aspect of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ypes of Helping Aid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dio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sual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dio visual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sual aid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jected visual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ids that involve the use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f projecto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n projected visual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ids that do not involve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use of project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roject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343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4:31:47Z</dcterms:created>
  <dc:creator>JBL</dc:creator>
  <dc:description/>
  <dc:language>en-US</dc:language>
  <cp:lastModifiedBy>Muhammad Shakir</cp:lastModifiedBy>
  <cp:lastPrinted>2017-01-13T08:09:28Z</cp:lastPrinted>
  <dcterms:modified xsi:type="dcterms:W3CDTF">2017-01-13T08:10:42Z</dcterms:modified>
  <cp:revision>43</cp:revision>
  <dc:subject/>
  <dc:title>AUDIO VISUAL AIDS</dc:title>
</cp:coreProperties>
</file>