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E4E-6182-4137-A064-D4B041C5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920" y="402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DAA-66D6-49C3-9668-21CE05E2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17600" y="1879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4920" y="402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17600" y="402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C5C-1AC4-4007-AA0F-DDE81277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2920" y="1879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90560" y="1879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4920" y="402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2920" y="402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90560" y="402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23C-F49F-41DE-B77F-9E0118CB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A09C-033E-4D0C-8FD1-BC8DA1EC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029A-A667-4DC6-BFA5-EAD27BFE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0CB4-8BDC-4492-96DF-642CA975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7600" y="1879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5D62-593C-4C09-817A-EBDBD0BC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A96A-20D4-4AAD-950D-DC0739E1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547560"/>
            <a:ext cx="77724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5E3E-6BB2-4B1F-A7AB-B5F3673F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7600" y="1879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34920" y="402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F009-0523-4AB9-A0B3-02B61C07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A7B-568C-4493-868E-DF36AF16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7600" y="1879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7600" y="402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45BC-95D6-43E0-9884-9FBA6119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7600" y="1879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34920" y="402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1683-6E46-4EDF-BFED-B7F24A65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34920" y="402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A4CA-CBB9-4116-8F43-CD2A854C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7600" y="1879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34920" y="402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7600" y="402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D6F2-6BB7-4162-BB85-D1F6AB84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62920" y="1879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0560" y="1879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34920" y="402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62920" y="402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0560" y="402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5E33-0374-4C8E-908D-1F9CBB90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EE3-E92A-4A57-8C26-EBA1344A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17600" y="1879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045-5F11-495E-A391-ADB1A56F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FE3-EEB4-441F-94D4-CA47CB71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547560"/>
            <a:ext cx="77724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BA1-E2B6-4E88-AE4A-5729E6EA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17600" y="1879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4920" y="402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974-F425-44FA-88A5-93A88338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7600" y="1879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0" y="402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044-BB13-460E-992F-A232A49C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0" y="1879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4920" y="402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D21-C87A-4671-B78F-B7F38F6C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23760" y="1763640"/>
            <a:ext cx="6899400" cy="17136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98360" y="152280"/>
            <a:ext cx="716040" cy="6400800"/>
          </a:xfrm>
          <a:custGeom>
            <a:avLst/>
            <a:gdLst>
              <a:gd name="textAreaLeft" fmla="*/ 0 w 716040"/>
              <a:gd name="textAreaRight" fmla="*/ 716400 w 71604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24000" y="1157400"/>
            <a:ext cx="152280" cy="914400"/>
          </a:xfrm>
          <a:custGeom>
            <a:avLst/>
            <a:gdLst>
              <a:gd name="textAreaLeft" fmla="*/ 0 w 152280"/>
              <a:gd name="textAreaRight" fmla="*/ 152640 w 152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85A7-14B7-4543-AFEC-CFBDA56E8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Freeform 3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360 h 8564400"/>
                <a:gd name="textAreaBottom" fmla="*/ 8565120 h 8564400"/>
              </a:gdLst>
              <a:ahLst/>
              <a:rect l="textAreaLeft" t="textAreaTop" r="textAreaRight" b="textAreaBottom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Group 4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Group 5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Freeform 6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>
                    <a:gd name="textAreaLeft" fmla="*/ 0 w 1123200"/>
                    <a:gd name="textAreaRight" fmla="*/ 1123560 w 1123200"/>
                    <a:gd name="textAreaTop" fmla="*/ 0 h 272520"/>
                    <a:gd name="textAreaBottom" fmla="*/ 272880 h 272520"/>
                  </a:gdLst>
                  <a:ahLst/>
                  <a:rect l="textAreaLeft" t="textAreaTop" r="textAreaRight" b="textAreaBottom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7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>
                    <a:gd name="textAreaLeft" fmla="*/ 0 w 1216800"/>
                    <a:gd name="textAreaRight" fmla="*/ 1217160 w 1216800"/>
                    <a:gd name="textAreaTop" fmla="*/ 0 h 348840"/>
                    <a:gd name="textAreaBottom" fmla="*/ 349200 h 348840"/>
                  </a:gdLst>
                  <a:ahLst/>
                  <a:rect l="textAreaLeft" t="textAreaTop" r="textAreaRight" b="textAreaBottom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Freeform 8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9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>
                  <a:gd name="textAreaLeft" fmla="*/ 0 w 81360"/>
                  <a:gd name="textAreaRight" fmla="*/ 81360 w 813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>
                  <a:gd name="textAreaLeft" fmla="*/ 0 w 419760"/>
                  <a:gd name="textAreaRight" fmla="*/ 420120 w 41976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D432-82BF-4C35-9519-FFE09B16F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y /Physiology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phe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rves are either motor nerves or sensory nerv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rent or motor nerves innervate muscles and glands. In order to accomplish this, they conduct nerve impulses from the CNS to the muscles and gla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rent or sensory nerves send sensory information and nerve impulses from sensory receptors in the skin, muscles, and joints to the br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phe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anial Nerves – 12 pairs of cranial nerves which are either sensory or motor nerves. 10 of these nerves originate at the brain st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al Nerve 1: Olfactory – sm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al Nerve 2: Optic – 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al Nerve 3,4&amp;6: Occulomotor, trochlear, and abducens – motor nerves controlling movement of the ey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phe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al Nerve 5: Trigeminal – sensation of the head, face, and movements of the j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al Nerve 7: Facial – taste, facial movements, and secretions of tears and sal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al Nerve 8: Acoustic – hearing and equilib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al Nerve 9: Glossopharyngeal – taste, sensation and movement in the pharynx, and secretion of sal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phe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al Nerve 10: Vagus – controls taste, and movements in the pharynx and laryn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al Nerve 11: Spinal accessory – movements of the pharynx, larynx, head, and shoul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al Nerve 12: Hypoglossal – movement of the to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phe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inal Nerves – there are 31 pairs of spinal nerves branching off the spinal cor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 cerv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 thorac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lumb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sac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coccyg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nomic Nervous System (A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utonomic or involuntary nervous system is that portion of the nervous system which regulates the activity of cardiac muscle, smooth muscle, and the glan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NS has two par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sympathe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nomic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ympathetic – stimulates visce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s the body for emergency situations (“fight or flight” response to str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ar, emergency, physical exertion, and embarrassment are responded to by thi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system shifts energy and blood toward the skeletal muscles, cardiac muscles, and respi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nomic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asympathetic – inhibits visce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ergy conserv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tores body energy during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s toward digestion, elimination of waste, and decreases heart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ly fixed patterns of response or behavior similar for any given stimulus. Fast, predictable, automatic responses to changes in the environment that help to protect the bod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flexes may be used as diagnostic tools to determine nervous system disord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flex pathways consist of sensory fibers bringing impulses into the spinal cord and motor fibers capable of effecting a response, as well as all the interconnections between the tw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etch refl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in the contraction of a muscle when it is stretched sudden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patellar tendon ref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drawal refl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dden contraction and removal of a body segment as the result of a painful stimul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hot stove ref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human nervous system is highly complex. It is divided into the central nervous system, consisting of the brain and spinal cord; the peripheral nervous system, which includes nerves innervating the muscles and nerves sending sensory information from the skin, muscle, and joints to the brain; and the autonomic nervous system which controls the involuntary processes of the bod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uries and Diseases of the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rebral Concu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aly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rebral Pals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rebrovascular Accident (strok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eury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kinson’s Dise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ple Sclerosis (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Con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pite its considerable protection, the brain is subject to traumatic injury, often with serious consequenc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ncussion literally means an agitation or shaking of the brain by either a direct or indirect b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ncussion is characterized by immediate and transient impairment of neural functions such as alteration of consciousness,disturbance of vision, and equilibr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Con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ussions are classified by degree of severity – 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3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These distinctions are important for treatment and progno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ariation in the classification of concussion is comm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gree concussion experience no loss of consciousness, possible memory loss, possible dizziness and tinnitus (ringing in the ears), no loss of coordination, and relatively rapid recov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Con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gree concussions have momentary loss (10 sec. to 5 min.) of consciousness, transient confusion and mild retrograde amnesia (amnesia for the events prior to the injury), moderate dizziness and tinnitus, slight loss of coordination and varied recovery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gree concussion experiences a prolonged loss consciousness, severe memory loss , severe dizziness and tinnitus, marked loss of coordination and a prolonged recovery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Con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a and death can also result from a serious concuss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fter a concussion, the athlete should not be allowed to return to competition that day. In fact, before resuming training, a head-injured athlete must be free of headaches for 24 hours. Athletes who experience a loss of consciousness for any period of time require evaluation and monitoring by a physicia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Con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thlete who sustains repeated concussions requires special evaluation before returning to a sport with the potential for further brain injury. Most team physicians follow the “1-2-3” rule: one concussion= the athlete is out of the game, two concussion= out for the season, three concussions= the athlete should no longer pla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inability to voluntarily move a muscle or lim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alysis can be caused by damage to a sensory nerve that results in a lack of sensation in the area which that nerve innerva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alysis can also result from damage to the spinal cord or motor nerv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higher the spinal cord is damaged, the greater the extent of paraly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plegia – paralysis of both lower extrem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driplegia – paralysis of both upper and lower extrem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Pal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disorder of movement and posture caused by an irreparable lesion of the C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velopmental defects of motor areas of the brain because of trauma at bir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s with cerebral palsy may have musculoskeletal problems, mental retardation, speech and hearing difficulties, eye problems, and seizu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re is a great deal of variation among individuals with cerebral palsy – some are particularly bright; others have less musculoskeletal abnormaliti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ovascular Accident (Stok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 the most common brain disord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ies that supply blood to the brain cause blood clots to develop, obstructing blood flow to the brain, precipitating a strok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ymptoms of a stroke include slurred speech, loss/blurred vision, and paralysis of a limb or half the bod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the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ervous system is the communication system of the bod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rols body functions and ac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intains physiological homeosta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eury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ak, swollen areas of a blood vessel supplying the brain which alters the brain’s blood flow, resulting in a partial or complete loss of consciousnes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eurysms develop slowly and are rarely associated with sympto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weak area ruptures, massive hemorrhage occurs. This can be fa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kinson’s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rogressive disorder of the CNS (usually in individuals over 60 years of age, but can occur in younger patient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kinson’s is thought to result from too little dopamine being pro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ptoms include muscle tremors, muscle rigidity, and slow, difficult movements. Walking and speech are often aff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clerosis (M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rogressive destruction of the myelin sheaths of the nerves of the CNS. This causes “short circuits” in nerve transmiss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re is no known cause or treatm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S most commonly strikes young women in their 20’s, but can affect men as 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gressive loss of muscle function is the main sympto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y Questions??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 of the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 Nervous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ipheral Nervous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ory and Motor Ner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al Ner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inal Ner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nom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sympathe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Nervous System (C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ain- lies inside the hard outer shell of the skull, inside a protected cushion of cerebrospinal flui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inges are layers of non-nervous tissue that surround and protect the brain and spinal cord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 Mater – a tough, fibrous membrane that lies immediately internal to the skull and encloses the brain and spinal 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Nervous System (C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chnoid- resembling a spider web, this is a delicate layer and a thin, cellular membrane with many silk-like tissue st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 Mater – loose tissue that covers the brain and encases the blood vessels that supply the brain. This is a thin, delicate and highly vascularized membr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rebrospinal fluid lies in the space between the arachnoid and pia mater layers. Its main function is to act as a cushion, helping to diminish the transmission of shocking fo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rebrum – the largest part of the brain distinguished by the folds or convolutions of much of its surfa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erebrum has four paired lobes – frontal, parietal, occipital, and tempo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ory and conscious thought, speech, motor and sensory functions are controlled by the cerebr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rebellum – a mass that occupies the posterior part of the crani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erebellum controls the automatic regulation of movement, balance, and posture, as well as skilled mov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dulla Oblongata (Brain Stem) – connects the cerebrum and cerebellum with the spinal cor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rain stem controls the heart rate, respiration, and body temper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34920" y="187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inal Cord – A continuation of the brain which provides pathways to and from the brain, to and from the bod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pinal cord is also surrounded, protected, and nourished by cerebrospinal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ertebrae also serve as a bony protection to the spinal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pinal cord terminates with the cauda equ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03:31:29Z</dcterms:created>
  <dc:creator>DIT</dc:creator>
  <dc:description/>
  <dc:language>en-US</dc:language>
  <cp:lastModifiedBy>DIT</cp:lastModifiedBy>
  <dcterms:modified xsi:type="dcterms:W3CDTF">2014-10-13T10:46:49Z</dcterms:modified>
  <cp:revision>6</cp:revision>
  <dc:subject/>
  <dc:title>Anatomy /Physiology Overview</dc:title>
</cp:coreProperties>
</file>