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0CB-B6B2-4C62-B5A0-35DAAA14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74B-4363-4356-8BF7-ACA24CF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B45-1A95-4DAD-B560-29DA0D63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D54-F878-495D-93D3-113C59A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4A46-CE6A-48DF-81B4-44550C90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759-6CA9-4E73-B5DE-1B0D7B1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0C20-16C9-4F0F-A7C9-CCF7911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8C69-3BD3-45FB-9008-22645B13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C1E7-B8AE-496F-9372-416F068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56A4-B2BC-434E-936E-2FF7246A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60B-AA0E-4A2D-8C57-BC3A162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947-9923-49A8-931E-CA1DBEEE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B2FD-FF0A-400B-B554-AF3C6B2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F21-3BE7-49D6-B40C-5EF5C44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9B25-E2EA-4791-A9EB-73635094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A878-FBA8-4C93-9205-9D4D6B6E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CCBF-EBE5-4CB5-8DF0-2F1D7F9A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C44-EEC2-4B57-8F15-9886897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870-1F8B-4FF2-95BF-0DDDB208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31E-BF6E-47A7-A627-A80FD2C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9F7-AE9C-48AB-9FFA-166432B4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73B-D0E6-4A08-8686-9F1AA63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2D0-EAEF-474A-96DB-871FAA9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C4D-3166-47B9-B709-9387C63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48E-D486-403B-993B-A9E92BB561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7E1A-194A-4EC5-A4FF-99841E0005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lfred Adler: Individual Psycholog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cial Intere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nate potential to cooperate with others to reach personal and societal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 must cooperate with and contribute to society to achieve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rth Ord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jor social influence in childh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born: Oriented to past, role of leader, organized, scrupulo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born: Optimistic, competitive, ambitio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ngest: High achievers or helpless and depend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ly child: Difficulty when not center of attention, mature ear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ssessment: Early Recollections and Dream Analysi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arly Recollection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sonality created in first 4-5 year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arliest memories: reveal primary interest in lif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: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school memory: Attitudes toward achievement, mastery and indepen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ream Analysi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veal feelings about current problem and intended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iented to present and future, not pa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: School exams: Unprepared in situa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earch in Adler’s Theor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eams: Support for solving current probl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arly Recollections: Early memories may be associated with later problems     Ex: Crimin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glected children: Later showed more depression (inferiorit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search in Adler’s Theory Continu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cial Interest: Higher social interest=less depression and stress, higher empathy and popula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irth Order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orn: Overrepresented in achievement- oriented posi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orn: No support for competitive, ambitious na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st born: More likely to become alcoholics than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born (pampered excessivel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ly: Adjustment, initiative comparable to groups with sibli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vidual Psych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cuses on uniqueness of each pers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nies universal biological drives and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elings of Inferior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ways present as motivating force in behavi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urce of all human striv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wth results from compensation: attempts to overcome inferior feel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feriority Comple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ability to overcome inferiority feelings: helpless, poor self-opin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 Sourc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c: Physical defici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oiling: Immediate gratification, little regard for needs of oth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glect: Lack love, security, develop feelings of worthless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periority Comple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vercompensate for feelings of inferior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ggerated opinion of one’s abilities and accomplish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riving for Superior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ltimate goal of lif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rive to perf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an attempt to be better than oth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ctional finalism: Reach goals set in the future to be complete, who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tential goals guide behavi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yle of Lif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ression of striving for superiority to attain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rned from early social inter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uiding framework for all later behavi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reative Power of the Self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ility to create an appropriate style of lif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create ourselves, personality and charac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actions and interpretations of experience more important than actual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niversal Problems and Styles of Life for Dealing with Probl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blem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volving behavior toward oth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ccupati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lationships/Lo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yles of Life: Specific 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minant: Little social awaren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tting: Expects to receive satisfaction from others, becomes depend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voiding: Avoids life’s probl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ally useful: Cooperates with others, shows social intere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6:06:30Z</dcterms:created>
  <dc:creator>Mary Shuttlesworth</dc:creator>
  <dc:description/>
  <dc:language>en-US</dc:language>
  <cp:lastModifiedBy>West Chester University</cp:lastModifiedBy>
  <dcterms:modified xsi:type="dcterms:W3CDTF">2006-02-02T23:08:45Z</dcterms:modified>
  <cp:revision>13</cp:revision>
  <dc:subject/>
  <dc:title>Alfred Adler: Individual Psychology</dc:title>
</cp:coreProperties>
</file>