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e99f0"/>
            </a:gs>
            <a:gs pos="50000">
              <a:srgbClr val="c6d7f9"/>
            </a:gs>
            <a:gs pos="100000">
              <a:srgbClr val="6e99f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c0128"/>
                </a:solidFill>
                <a:latin typeface="Times New Roman"/>
              </a:rPr>
              <a:t>PHYLUM MOLLUS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3" descr=""/>
          <p:cNvPicPr/>
          <p:nvPr/>
        </p:nvPicPr>
        <p:blipFill>
          <a:blip r:embed="rId1"/>
          <a:stretch/>
        </p:blipFill>
        <p:spPr>
          <a:xfrm>
            <a:off x="304920" y="4010040"/>
            <a:ext cx="2176200" cy="1628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4" descr=""/>
          <p:cNvPicPr/>
          <p:nvPr/>
        </p:nvPicPr>
        <p:blipFill>
          <a:blip r:embed="rId2"/>
          <a:stretch/>
        </p:blipFill>
        <p:spPr>
          <a:xfrm>
            <a:off x="2583000" y="2438280"/>
            <a:ext cx="3198600" cy="240048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"/>
          <p:cNvPicPr/>
          <p:nvPr/>
        </p:nvPicPr>
        <p:blipFill>
          <a:blip r:embed="rId3"/>
          <a:stretch/>
        </p:blipFill>
        <p:spPr>
          <a:xfrm>
            <a:off x="1620720" y="5267160"/>
            <a:ext cx="2113200" cy="1528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4"/>
          <a:stretch/>
        </p:blipFill>
        <p:spPr>
          <a:xfrm>
            <a:off x="6356520" y="2971800"/>
            <a:ext cx="2396880" cy="22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5"/>
          <a:stretch/>
        </p:blipFill>
        <p:spPr>
          <a:xfrm>
            <a:off x="4319640" y="4876920"/>
            <a:ext cx="2376360" cy="178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06360" y="915840"/>
            <a:ext cx="6931080" cy="50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WHAT IS A MOLLUS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y are animals that look and act so different grouped in the same phylum?  It is because they share  developmental pattern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Object 3"/>
          <p:cNvGraphicFramePr/>
          <p:nvPr/>
        </p:nvGraphicFramePr>
        <p:xfrm>
          <a:off x="6278400" y="2514600"/>
          <a:ext cx="279900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8400" y="2514600"/>
                    <a:ext cx="279900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519120" y="595440"/>
            <a:ext cx="8470800" cy="685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e00"/>
                </a:solidFill>
                <a:latin typeface="Times New Roman"/>
              </a:rPr>
              <a:t>Characteristics of Mollu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man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mantle c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sh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true coel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head, muscular foot, viscera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systems:  circulatory, respiratory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gestive, excretory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productive, and nerv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mpuls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371600" y="838080"/>
            <a:ext cx="610092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llusks are well defined as soft bodied animals that either have 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ternal or internal sh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ir name comes from the Latin word </a:t>
            </a:r>
            <a:r>
              <a:rPr b="1" i="1" lang="en-US" sz="4000" spc="-1" strike="noStrike">
                <a:solidFill>
                  <a:srgbClr val="fc0128"/>
                </a:solidFill>
                <a:latin typeface="Times New Roman"/>
              </a:rPr>
              <a:t>molluscu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aning sof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lvl="1" marL="705600" indent="-271440">
              <a:spcBef>
                <a:spcPts val="90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foo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flat surface adapted for locomotion and usually contains the mouth and other feeding struc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90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mant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covers most of the body and secretes the sh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90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shell 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sed of calcium carbon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901"/>
              </a:spcBef>
              <a:buClr>
                <a:srgbClr val="fc012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0128"/>
                </a:solidFill>
                <a:latin typeface="Times New Roman"/>
              </a:rPr>
              <a:t>visceral mas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contains the internal org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mollusks are composed of 4 basic par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que features of  most mollusks inclu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Times New Roman"/>
              </a:rPr>
              <a:t>Man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Times New Roman"/>
              </a:rPr>
              <a:t>ctendi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special gill which are also used for filter fee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Times New Roman"/>
              </a:rPr>
              <a:t>radula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 rasping  tongue-like structure used for scra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307720" y="2209680"/>
            <a:ext cx="74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6248520" y="990720"/>
          <a:ext cx="199872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990720"/>
                    <a:ext cx="199872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3"/>
          <p:cNvSpPr/>
          <p:nvPr/>
        </p:nvSpPr>
        <p:spPr>
          <a:xfrm>
            <a:off x="2055240" y="533520"/>
            <a:ext cx="5532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imes New Roman"/>
              </a:rPr>
              <a:t>INTERNAL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73680" y="1158840"/>
            <a:ext cx="5482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OPEN CIRCULATORY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42800" y="1662120"/>
            <a:ext cx="831852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open circulatory systems, the blood is not always contained in vessels.  There is a simple heart and a few arteries but there are no veins.   Blood leaves the heart and  bathes the internal organs and travels through the body in open spaces called 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sinus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sinuses lead the blood to the gills where oxygen and carbon dioxide are exchang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c0128"/>
                </a:solidFill>
                <a:latin typeface="Times New Roman"/>
              </a:rPr>
              <a:t>diffus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3240" y="990720"/>
            <a:ext cx="72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400"/>
                </a:solidFill>
                <a:latin typeface="Times New Roman"/>
              </a:rPr>
              <a:t>What is a closed circulatory syst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569880" y="380880"/>
            <a:ext cx="85741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Excretion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animals must remove waste products An open circulatory system will work well for s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ving animals.  Why is an open circulatory system not adequate for fast-moving an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08:32:22Z</dcterms:created>
  <dc:creator>Jefferson County Schools</dc:creator>
  <dc:description/>
  <cp:keywords/>
  <dc:language>en-US</dc:language>
  <cp:lastModifiedBy>Grace</cp:lastModifiedBy>
  <dcterms:modified xsi:type="dcterms:W3CDTF">2020-03-31T14:45:10Z</dcterms:modified>
  <cp:revision>5</cp:revision>
  <dc:subject/>
  <dc:title>PHYLUM MOLLUSCA</dc:title>
</cp:coreProperties>
</file>