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7.xml.rels" ContentType="application/vnd.openxmlformats-package.relationships+xml"/>
  <Override PartName="/ppt/notesSlides/notesSlide8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935160" y="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57040" y="6825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7560" y="4397400"/>
            <a:ext cx="5146920" cy="4168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-360" y="879300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935160" y="8793000"/>
            <a:ext cx="30272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94761B-9927-4643-B4F0-F291997367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7400" y="6825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7560" y="4397400"/>
            <a:ext cx="5146920" cy="4168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4A9-4C61-4D3A-99AE-698872CA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7F4-967E-4D49-934C-3024304E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903-37D9-42F6-9761-F42DFC9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CC9-4CBB-4E6B-B40E-D7149661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76B-5D3A-42DB-979C-C18F6FA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495-5561-4FC0-AA49-1BF24409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3AF-9E6B-412F-BC85-0583FA6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44F-44B8-4422-92A8-1F7F9DD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5E3-087E-43C8-9844-33C99A3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3AC-7A92-43BD-A95A-9E40744B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422-E192-4CE1-80E5-D99D7B3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23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509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95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23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509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F94-A06D-4E63-9462-51F322EF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315360" indent="-3153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315360" indent="-31536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315360" indent="-3153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315360" indent="-31536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315360" indent="-31536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2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4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FC0-AAFB-4D97-A731-3A581B7BB6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nsecticid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Brief Overview of a Complex Subjec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3" name="bs01161_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276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Environmental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nvironmental hazard of insecticides is generally evaluated as a function of persistence often compared to effectivenes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Environmental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ig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Environmental persistence far greater than period of effectiveness (&gt; 5 months and often &gt; a year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Environmental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rmediate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Persists beyond effectiveness (3-5 month half-lif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Environmental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Low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Persists about the period of effectiveness (up to about 3 months) and then degrades completely over several month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Environmental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Very low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Persists for short periods (&gt;45 days) and degrades completely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sistance/Resurgence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hazard of populations developing resistance and resurging is evaluated for most insecticid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sistance/Resurgence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ig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Strong potential to develop resistance and resurg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sistance/Resurgence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rmediat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– Moderate potential to develop resistance in treated environment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sistance/Resurgence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Low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Minimal potential to develop resistanc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sistance/Resurgence Hazard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None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No resistance developed, no resurgence after many treatment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odes of Entrance into Insec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ontac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- dermal – through the ski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tomach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- oral – through the mou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Respiratio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- inhalation through the nose or gil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ystemi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- combination of abov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PM Attributes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PM is especially important when discussing the use of insecticides due to the potential for the development of resistance and subsequent  resurgence of pest populations repeatedly treated with a single insecticid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peated treatment with a single pesticide imposes artificial genetic selection on insect population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PM Attributes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owever, IPM must be effective and so there are several criteria to evaluat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ffectiveness in controlling pest population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st of treatment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man and nontarget-animal toxicity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nvironmental persistenc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nsecticide groups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following slides present a system in which insecticides are generally catagorized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t is not the only system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mpers and splitters of names have created very different categories, depending on their emphasi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so called the chlorinated hydrocarbon insecticid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aracterized by containing chlorine and carbon atom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owerful nerve pois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 affect a broad spectrum of non-target organisms along with the target pes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iochemical mode of action – uncertai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e of action chemical dependa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ong persistence and residual activ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ode of Toxicity in Insec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hysical pois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eneral protoplasmic pois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ellular enzyme pois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rve pois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owth reg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ease causing ag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pella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ral were used in forestr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DT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ndan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cofol (Kelthan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ndosulfan (Thioda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 have been banned in the U.S.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chlorin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few still available for our us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ndosulfan is sometimes used on ornamentals and in seed orchard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ndane is still registered for Southern Pine Beetle control but no product is available in the marketplac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so known as the OPs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aracterized by containing carbon and phosphorus atom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emical and often habitat dependant effect on non-target organism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e of action varies by chemical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enerally only short term persistence and limited residual activ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Unfortunately, often have broad spectrum activity against beneficial insects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ral used in forestry or applied to forests for public health purpo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lthion (Malathion and Cythio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cephate (Orthen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hyl parathion (Methyl parathio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azinon (Diazinon and Spectracid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hlorpyrifos (Dursban and Lorsba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zinphos methyl (Guthio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humans or nontarget organism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 insecticides have the capacity to affect non-target organism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me as previously discussed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ighly toxi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LD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Tahoma"/>
              </a:rPr>
              <a:t>5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0 – 50 mg/kg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oderately toxi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- LD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Tahoma"/>
              </a:rPr>
              <a:t>5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50 – 500 mg/kg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Low toxicity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- LD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Tahoma"/>
              </a:rPr>
              <a:t>5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500 – 5,000 mg/kg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Nontoxi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- LD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Tahoma"/>
              </a:rPr>
              <a:t>50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&lt;5,000 mg/kg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phosph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 have been lost to forestry due to FQPA (Food Quality Protection Act) review performed by the EPA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sulfu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mall group of sulfur containing insecticid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sulfu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ow insect toxicity, but with good miticidal character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sulfu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ave been used in seed orchard work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rganosulfu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nly a single product relevant to this discuss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pargite (Omit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arbam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secticides which are derivatives of  carbamic acid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arbam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n-target toxicity is chemical specific, ranging from low to very hig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arbam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enerally only short term persistence and limited residual activ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arbam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ften with broad spectrum activity against beneficial insect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arbamat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few used in forestr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rbaryl (Sevi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dicarb (Temik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homyl (Lannat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insects natural enem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 insecticides have the potential to affect populations of beneficial insect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hemicals extracted or derived from plant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ay be present and subsequently extracted from the plant material (a constitutive chemical), or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May be activated in the plant as a response to insect activity (inducible chemicals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Limited numbers of extractable chemicals have performed well enough to have been made commercially availabl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me are chemically modified after extraction to enhance their insecticidal propertie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Botanica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nly a few have found a niche in forestry, and generally even these are subsequently replaced by more target-specific, less persistent synthetic chemic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yrethrins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methrin (Pyosect, Synthhri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zadirachtin (Azati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thetic Pyrethroid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ified esters of chrysanthemate a chemical similar to that which is derived from chrysanthemum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thetic Pyrethroid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terations in the acid components yield a reduced degradation rate compared to natural pyrethri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thetic Pyrethroid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ften with additional modification to enhance synergistic ac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thetic Pyrethroid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ates are often 10% of the rates of OP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insects natural enem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ighly toxi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- Pest populations recover much faster than enemy populations in natur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thetic Pyrethroid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ral have been used in forestry, seed orchard or nursery work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ermethrin (Pounce, Ambush, Dragnet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ypermethrin (Ammo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sfenvalerate (Asana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amda cyhalothrin (Karat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ergists or activato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emicals which perform any of a variety of actions which enhance the action of an insectici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ergists or activato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crease the toxicity of the initial chemical above that expected from the combination of the two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lock detoxification of insecticides by insect defensive system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duce the functioning of otherwise benign  chemical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ynergists or activator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wo primary chemicals used in insecticide formul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iperonyl butoxid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samin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Produced by rending (cooking) animal fat (lard), fish oil or vegetable oil with an alkali metal such as sodium hydroxide (= hard soap) or potassium hydroxide (= soft soap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ft soaps from fish oils were the most common insecticidal soaps in the past since they are the most effective insecticidal soaps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ft soaps made from vegetable oils are most common at the present time due  to a better smell (not greater efficacy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often or wash off the waxy epicuticle covering an insect allowing it to dehydrat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Abrasives degrade the epicuticle - same resul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wo soaps are commonly used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otassium salts of fatty acids (Safer soaps, M-Pede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oric acid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insects natural enem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oderately toxic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Pest populations recover somewhat faster than enemy populations in treated environment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Soaps and Abras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single abrasive is currently registered as a forestry insectici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orax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ngi, bacteria, viruses, etc. which can be used to cause disease in an insect popul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latively narrow spectrum of activity, not broad spectrum insecticid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ral have been genetically engineered to kill target insects more rapidl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acteria in forestry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cillus thuringiensis var. karstaki (Dipel, Thuricide, Foray, Agrobac, Javelin, Cutlas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Virus in forestry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culovirus (Nucleopolyhedrosis virus or NPV; Gypchek, TM-Biocontrol-1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Pathogen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Bacteria applied over forests for public health protection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cillus thuringiensis var. israeliensi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cillus sphaericu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Derivat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enerally organic chemicals with a nitrogen compon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Derivat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icrobially produced and then extracted and refined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Derivat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are toxic to the target organisms at very low do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insects natural enem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Low toxicity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– Natural enemies are maintained to a degree &amp; quickly attack recovering pest populations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Microbial Derivativ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nly one used in forestry at pres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vermectin (derived from Streptomyces avermitilis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so available are: 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pinosad (Tracer) 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yrroles (Pirate)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pell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rge group of unrelated chemic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pell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ny experimental chemicals – but to the present no truly effective forest protectant chemic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pell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have found use for people or livestock protec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pell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restry insect repellants inclu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Verbenon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4-allyl anisole (4AA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oth are anti-aggregant chemicals designed to disrupt pine beetle aggregation and thwart ‘spot’ formation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Repell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rester protective repella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et (Off, Deep-Woods-Off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i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ightweight petroleum oils mixed with emulsifiers may be used as insecticides in some ca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i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oadly defined in two groups: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Dormant oils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re designed to be used to protect dormant plant materials and may have bad effects if used during the growing seas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ummer oils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may be used to protect growing pla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i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Oils kill  by suffocation (scales, mealy bugs and aphids)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Oil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restry registered oils inclu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nspray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uperior oi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oxicity to insects natural enem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Nontoxic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– Normal enemy population levels are maintained which quickly attack recovering pest popul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Fumig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imarily used in forest tree nursery beds and greenhouse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Fumig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migants generally contain a halogen (chlorine, bromine, fluorine, etc.) in their molecul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Fumig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mall molecules which vaporize at relatively low temperatur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Fumig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ny are now or will shortly be banned in the U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4950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Fumigant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2209320"/>
            <a:ext cx="7392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migants which have held forestry or ornamental insecticide registr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hyl bromide (MC33, MC98, Brom-o-Sol, etc.) – NFTA should eliminate this fumigant from the US by 200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chloropropene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hloropicrin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m-sodium (Vapam, Busan, Sectagon)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ransgenic Crops with Insecticidal Propert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lants genetically engineered to enhance insecticidal proper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Transgenic Crops with Insecticidal Properties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2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ne in forestry as ye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5T00:15:14Z</dcterms:created>
  <dc:creator>R8 S&amp;PF</dc:creator>
  <dc:description/>
  <dc:language>en-US</dc:language>
  <cp:lastModifiedBy>FSDefaultUser</cp:lastModifiedBy>
  <dcterms:modified xsi:type="dcterms:W3CDTF">2003-01-09T17:28:47Z</dcterms:modified>
  <cp:revision>12</cp:revision>
  <dc:subject/>
  <dc:title>PowerPoint Presentation</dc:title>
</cp:coreProperties>
</file>