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2.png" ContentType="image/png"/>
  <Override PartName="/ppt/media/image1.png" ContentType="image/png"/>
  <Override PartName="/ppt/media/image3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E38B1-0B7F-45C9-89F3-C80C36AB9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3E054-6592-4C93-9036-8884810B08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ECC3C-FDC6-44B9-A4D4-8FD70E12D6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BA1696-7D9E-401B-BB0A-63E5A80201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E7D1F-6C4F-428F-AF05-206BEE009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AB8796-EFB2-4D24-B0E9-61959976E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5E098-F4B0-420F-B334-D4020C851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42838-4B75-46A3-AAF5-05F5EAFF6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9073BC-4642-49D0-9C31-F2EFC8D0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90722-E8E0-4B40-8AF7-13C1796A7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994B0D-3AEF-4034-9BE7-86B0CE890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24826-CBF5-47FE-8D9B-0C9C41FB7A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1B12D8-474D-4EBF-8841-592620A9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82784-DDFD-42D5-AB7C-416A57DF7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3A7D0-E536-4119-83D0-DB949CEE8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1FC4D8-5FE5-4931-9F2C-1E69134C3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431C7A-0FAD-4EE2-B430-E0D851926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EF9CC4-376D-4791-A56E-1FB62C4B73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8FB85-1821-4154-9C27-23492B38CE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897357-FF81-4C64-8DB1-2878F51355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9186F3-B648-498E-8218-DE48763D1D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79F9C-784C-4524-9E12-E568661507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2A0CB-C23E-4C4D-8670-2E2BEC1680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DAD1C-9AFA-42CF-906F-C5A74D4EFE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6C12-DDED-4686-B9C7-D3166EC304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DED7-D64B-41AD-B2F2-B9E9DFB754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0: IC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68F47C-E561-4DB6-8ED4-1E16D2990D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l Cus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59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st size, power,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nd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rible time-to-market/flexibility/NRE cos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for the most important units in a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, Instruction fetch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ysical design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ess optimal, but faster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9324" b="0"/>
          <a:stretch/>
        </p:blipFill>
        <p:spPr>
          <a:xfrm>
            <a:off x="609480" y="4191120"/>
            <a:ext cx="3886200" cy="17938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rcRect l="55690" t="7792" r="2749" b="2938"/>
          <a:stretch/>
        </p:blipFill>
        <p:spPr>
          <a:xfrm>
            <a:off x="4800600" y="4100400"/>
            <a:ext cx="2362320" cy="18986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6705720" y="1600200"/>
            <a:ext cx="200952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93E196-1131-49B2-9045-A0D8110D433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Cus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 Arr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ray of prefabricated g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” and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er density, faster time-to-mark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es not integrate as well with full-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 C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library of pre-designed ce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and rou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density, higher complex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great with full-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rcRect l="45467" t="0" r="0" b="0"/>
          <a:stretch/>
        </p:blipFill>
        <p:spPr>
          <a:xfrm>
            <a:off x="6172200" y="3962520"/>
            <a:ext cx="2270160" cy="1933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rcRect l="0" t="0" r="56111" b="-3427"/>
          <a:stretch/>
        </p:blipFill>
        <p:spPr>
          <a:xfrm>
            <a:off x="6477120" y="1523880"/>
            <a:ext cx="2133360" cy="233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68F9-24F4-4EC7-BF18-ECD536E77B9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Custom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257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popular design sty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ck of all tr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wer, time-to-market, performance, NRE cost, per-unit cost, are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ster of n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te with full custom for critical regions of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rcRect l="28618" t="7886" r="26410" b="0"/>
          <a:stretch/>
        </p:blipFill>
        <p:spPr>
          <a:xfrm>
            <a:off x="6329520" y="1447920"/>
            <a:ext cx="2066760" cy="4572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2EFE6-F130-45D1-A71F-CDAA3664742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B2B04-D2E2-4198-8328-E892E0ECEB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mable Logic Dev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4582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mable Logic De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grammable Logic Array, Programmable Array Logic, Field Programmable Gate 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layers already ex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gners can purchase an 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implement desired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s on the IC are either created or destroyed to imp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low NRE cos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time to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raw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igh unit cost, bad for large volu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cept special P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l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15200" y="3962520"/>
            <a:ext cx="1268280" cy="13716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551640" y="5410080"/>
            <a:ext cx="23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600 usable gate, 7.5 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$7 list pr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4BBD-BDD6-4925-B8C5-D56254E26B6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Xilinx FPG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2733" t="0" r="1822" b="19757"/>
          <a:stretch/>
        </p:blipFill>
        <p:spPr>
          <a:xfrm>
            <a:off x="1295280" y="1828800"/>
            <a:ext cx="6858000" cy="3527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FD3610-58D2-4AD3-A61D-0052D2AC1BC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figurable Logic Block (CLB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3922" t="2691" r="4902" b="0"/>
          <a:stretch/>
        </p:blipFill>
        <p:spPr>
          <a:xfrm>
            <a:off x="1447920" y="1447920"/>
            <a:ext cx="6476760" cy="4444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4A1F8-858E-44A6-A5F0-62FC5B118FE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/O Bl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510552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6119-DD9F-4CC2-9B56-43FE1ACDA8B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Anatomy of integrated circu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ll-Custom (VLSI) IC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mi-Custom (ASIC) IC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grammable Logic Device (PLD) IC 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337C7-99D9-4065-934A-92B2832B43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OS transist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, Dr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ffusion area where electrons can fl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be connected to metal contacts (via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silicon area where control voltage is appl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 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sulator so the gate voltage can’t l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rcRect l="0" t="12109" r="0" b="0"/>
          <a:stretch/>
        </p:blipFill>
        <p:spPr>
          <a:xfrm>
            <a:off x="1981080" y="4114800"/>
            <a:ext cx="5562720" cy="19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86EC-8F64-4FD1-B74B-83B7BC4832D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d of the Moore’s La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ry dimension of the MOSFET has to sc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MOS) Gate oxide has to scale down 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gate capaci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leakage current from S to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inch off current from source to dra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ent gate oxide thickness is about 2.5-3n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33"/>
                </a:solidFill>
                <a:latin typeface="Times New Roman"/>
              </a:rPr>
              <a:t>That’s about 25 atoms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762120" y="4237200"/>
            <a:ext cx="7162560" cy="1554120"/>
            <a:chOff x="762120" y="4237200"/>
            <a:chExt cx="7162560" cy="1554120"/>
          </a:xfrm>
        </p:grpSpPr>
        <p:sp>
          <p:nvSpPr>
            <p:cNvPr id="96" name=""/>
            <p:cNvSpPr/>
            <p:nvPr/>
          </p:nvSpPr>
          <p:spPr>
            <a:xfrm>
              <a:off x="2951280" y="4602240"/>
              <a:ext cx="1728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82960" y="4570560"/>
              <a:ext cx="1728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1200" y="472140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922480" y="4653000"/>
              <a:ext cx="17640" cy="13176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884320" y="469116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051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52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70036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646360" y="472932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59380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5416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48904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4354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38284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33028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27664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22408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17188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1193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06532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01312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960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656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5436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801800" y="4729320"/>
              <a:ext cx="1764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7800" y="4729320"/>
              <a:ext cx="190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695600" y="4729320"/>
              <a:ext cx="17280" cy="1332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68600" y="4675320"/>
              <a:ext cx="1177920" cy="997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687320" y="4626000"/>
              <a:ext cx="49356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758600" y="4641840"/>
              <a:ext cx="422280" cy="12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810800" y="4626000"/>
              <a:ext cx="405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181240" y="4610160"/>
              <a:ext cx="361800" cy="19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933720" y="5281560"/>
              <a:ext cx="3990960" cy="493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210200" y="5281560"/>
              <a:ext cx="725400" cy="2462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sour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840280" y="5299200"/>
              <a:ext cx="725760" cy="2458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drai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935600" y="5057640"/>
              <a:ext cx="904680" cy="2476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oxi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935600" y="4809960"/>
              <a:ext cx="904680" cy="24768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360520" y="4237200"/>
              <a:ext cx="2005200" cy="380880"/>
            </a:xfrm>
            <a:custGeom>
              <a:avLst/>
              <a:gdLst/>
              <a:ahLst/>
              <a:rect l="l" t="t" r="r" b="b"/>
              <a:pathLst>
                <a:path w="1263" h="240">
                  <a:moveTo>
                    <a:pt x="0" y="198"/>
                  </a:moveTo>
                  <a:cubicBezTo>
                    <a:pt x="56" y="177"/>
                    <a:pt x="223" y="99"/>
                    <a:pt x="334" y="71"/>
                  </a:cubicBezTo>
                  <a:cubicBezTo>
                    <a:pt x="445" y="43"/>
                    <a:pt x="514" y="0"/>
                    <a:pt x="669" y="28"/>
                  </a:cubicBezTo>
                  <a:cubicBezTo>
                    <a:pt x="824" y="56"/>
                    <a:pt x="1139" y="196"/>
                    <a:pt x="1263" y="24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62120" y="5116680"/>
              <a:ext cx="108720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packag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573280" y="5116680"/>
              <a:ext cx="108756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22240" y="4711680"/>
              <a:ext cx="627120" cy="345960"/>
            </a:xfrm>
            <a:custGeom>
              <a:avLst/>
              <a:gdLst/>
              <a:ahLst/>
              <a:rect l="l" t="t" r="r" b="b"/>
              <a:pathLst>
                <a:path w="395" h="218">
                  <a:moveTo>
                    <a:pt x="124" y="218"/>
                  </a:moveTo>
                  <a:cubicBezTo>
                    <a:pt x="111" y="194"/>
                    <a:pt x="0" y="110"/>
                    <a:pt x="45" y="74"/>
                  </a:cubicBezTo>
                  <a:cubicBezTo>
                    <a:pt x="90" y="38"/>
                    <a:pt x="322" y="15"/>
                    <a:pt x="395" y="0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612880" y="4576680"/>
              <a:ext cx="662040" cy="530280"/>
            </a:xfrm>
            <a:custGeom>
              <a:avLst/>
              <a:gdLst/>
              <a:ahLst/>
              <a:rect l="l" t="t" r="r" b="b"/>
              <a:pathLst>
                <a:path w="417" h="334">
                  <a:moveTo>
                    <a:pt x="324" y="334"/>
                  </a:moveTo>
                  <a:cubicBezTo>
                    <a:pt x="337" y="307"/>
                    <a:pt x="399" y="221"/>
                    <a:pt x="403" y="170"/>
                  </a:cubicBezTo>
                  <a:cubicBezTo>
                    <a:pt x="407" y="119"/>
                    <a:pt x="417" y="52"/>
                    <a:pt x="350" y="26"/>
                  </a:cubicBezTo>
                  <a:cubicBezTo>
                    <a:pt x="283" y="0"/>
                    <a:pt x="73" y="18"/>
                    <a:pt x="0" y="16"/>
                  </a:cubicBezTo>
                </a:path>
              </a:pathLst>
            </a:custGeom>
            <a:noFill/>
            <a:ln w="1584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566040" y="5283360"/>
              <a:ext cx="1353960" cy="49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048280" y="5297400"/>
              <a:ext cx="723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380280" y="5543640"/>
              <a:ext cx="1449360" cy="24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licon substr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48200" y="5311800"/>
              <a:ext cx="150840" cy="318960"/>
            </a:xfrm>
            <a:prstGeom prst="rect">
              <a:avLst/>
            </a:prstGeom>
            <a:solidFill>
              <a:srgbClr val="c0c0c0"/>
            </a:solidFill>
            <a:ln cap="sq"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481CB-A2EF-4934-8589-C4BCDAEFB6B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905120" y="1676520"/>
            <a:ext cx="5105160" cy="3827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4F203-B8CF-432A-941A-7E012E1671A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20Ghz 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4104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FET has been manufactured to 18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ill acts as a very good transis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ation shown that it can be scaled to 10n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Quantum effect start to kick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duce mobility by ~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llistic transport become signific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crease current by about ~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53709" b="52389"/>
          <a:stretch/>
        </p:blipFill>
        <p:spPr>
          <a:xfrm>
            <a:off x="6095880" y="1600200"/>
            <a:ext cx="2819520" cy="1905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A798D-C393-4BA3-82B7-13D0225451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tal layers for routing (~1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MOS don’t lik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MOS don’t like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tick diagram form the basis for mask s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rcRect l="0" t="8833" r="2749" b="2938"/>
          <a:stretch/>
        </p:blipFill>
        <p:spPr>
          <a:xfrm>
            <a:off x="1371600" y="3733920"/>
            <a:ext cx="6629400" cy="2247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D327D-FFB7-4C6F-9FDB-40625A43959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licon manufacturing ste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6000"/>
          </a:bodyPr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pe 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nd design to manufactu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ne time through the manufacturing proc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-191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hotolithograp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-159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awing patterns by using photoresist to form barriers for de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1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613" t="11963" r="1742" b="4314"/>
          <a:stretch/>
        </p:blipFill>
        <p:spPr>
          <a:xfrm>
            <a:off x="1523880" y="3657600"/>
            <a:ext cx="6400800" cy="2239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F3B2-92A0-4D54-966C-CCC541451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l Cus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ery Large Scale Integration (VL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lace and orient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nect transis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ke fat, fast wires or thin, slow wi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y also need to size buff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” rules for correct circuit fun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al/metal spacing, min poly width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rcRect l="74961" t="11356" r="0" b="0"/>
          <a:stretch/>
        </p:blipFill>
        <p:spPr>
          <a:xfrm>
            <a:off x="7238880" y="1600200"/>
            <a:ext cx="1116000" cy="4267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DFE95-A4B0-4E3B-BB2F-4BDD411956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susanc</cp:lastModifiedBy>
  <cp:lastPrinted>2001-09-25T21:20:17Z</cp:lastPrinted>
  <dcterms:modified xsi:type="dcterms:W3CDTF">2004-01-27T00:19:18Z</dcterms:modified>
  <cp:revision>200</cp:revision>
  <dc:subject/>
  <dc:title>A “short list” of embedded system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599172768</vt:r8>
  </property>
  <property fmtid="{D5CDD505-2E9C-101B-9397-08002B2CF9AE}" pid="3" name="_AuthorEmail">
    <vt:lpwstr>harry@cs.ucr.edu</vt:lpwstr>
  </property>
  <property fmtid="{D5CDD505-2E9C-101B-9397-08002B2CF9AE}" pid="4" name="_AuthorEmailDisplayName">
    <vt:lpwstr>Harry C. Hsieh</vt:lpwstr>
  </property>
  <property fmtid="{D5CDD505-2E9C-101B-9397-08002B2CF9AE}" pid="5" name="_EmailSubject">
    <vt:lpwstr/>
  </property>
</Properties>
</file>