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3F0784-20C5-4EF7-A097-F88F549B8B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C972A-FEA4-4DD9-879E-A2BC526C51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430CE-DC96-48F2-8746-8B8C9F0398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FB6DC-722B-49D5-8C46-60C1CD0293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EA230B-1C31-46E2-8277-E2997D7E3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29AA4A-3996-4565-816D-AE8465DC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0DA6F3-D055-4655-8708-7821C6CD8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021610-6290-407B-AC9D-952B2E25E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82DD6-D4E8-4E1F-98F3-33282D9BF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516FC5-BC52-474D-A2FE-0EC8680B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0BE30C-7FDB-4CE4-BEB9-FCF94A8A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B17E5-BB0D-4F7B-B3C2-EE7FA30EB9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4A42ED-A62C-45A0-85A9-995C7CE5B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30064-A788-47C4-BE41-5245C8829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8AD758-8BF9-4C46-BCEB-133CFBDCB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B41ECC-4115-473A-8C51-849B7B282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5F297-D9C6-42D4-8B37-7E208D7BF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1D394B-30AB-48FA-9925-6BC5C74F0C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90639-89C3-4A73-BA4B-BF244000AD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822F4-9270-49EF-AEA6-035CE0E5EC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27017-EC8D-4022-AC0B-5505A76461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2DA5A-AF63-4394-A35E-689A99B27B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566F0-D2B5-40D9-AF5E-E5E29A06605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5E022-9397-4EDA-9017-016BA5F53D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918F-3C3F-412F-9275-6AAD4CF01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1295280"/>
            <a:ext cx="8686800" cy="1526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61722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mbedded Systems Design: A Unified Hardware/Software Introduct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) 2000 Vahid/Givarg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095880"/>
            <a:ext cx="8686800" cy="763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EBC77-5CFF-4FBF-8E38-F340FCAB4B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bedded Systems Design: A Unified Hardware/Software 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95280"/>
            <a:ext cx="8686800" cy="1526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095880"/>
            <a:ext cx="8686800" cy="763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1: Design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2B52CB-A1E5-44A1-843F-EB0CB89E9C8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gic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467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ic-level behavior to structural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ic equations and/or FSM to connected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binational logic 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-level minimization (Sum of products/product of sum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st possible 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ngest path = 2 gates (AND gate + OR gate/OR gate + AND ga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nimize s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mum c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nimum cover that is pr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level minim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e performance for s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reto-optimal 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ur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SM 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 minim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 enco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7653D-85C8-4350-939C-A6BDF77C5B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wo-level min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57247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resent logic function as sum of products (or product of sum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gate for each produ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gate for each s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s best possible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most 2 gate de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al: minimize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c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um # of AND gates (sum of produ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cover that is pr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um # of inputs to each AND gate (sum of produc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310440" y="2152800"/>
            <a:ext cx="2205000" cy="536400"/>
            <a:chOff x="6310440" y="2152800"/>
            <a:chExt cx="2205000" cy="536400"/>
          </a:xfrm>
        </p:grpSpPr>
        <p:sp>
          <p:nvSpPr>
            <p:cNvPr id="231" name=""/>
            <p:cNvSpPr/>
            <p:nvPr/>
          </p:nvSpPr>
          <p:spPr>
            <a:xfrm>
              <a:off x="6310440" y="2428920"/>
              <a:ext cx="2205000" cy="26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 = abc'd' + a'b'cd + a'bcd + ab'c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648480" y="2152800"/>
              <a:ext cx="1571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um of product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3" name=""/>
          <p:cNvGrpSpPr/>
          <p:nvPr/>
        </p:nvGrpSpPr>
        <p:grpSpPr>
          <a:xfrm>
            <a:off x="6534000" y="3314880"/>
            <a:ext cx="2174760" cy="2465280"/>
            <a:chOff x="6534000" y="3314880"/>
            <a:chExt cx="2174760" cy="2465280"/>
          </a:xfrm>
        </p:grpSpPr>
        <p:sp>
          <p:nvSpPr>
            <p:cNvPr id="234" name=""/>
            <p:cNvSpPr/>
            <p:nvPr/>
          </p:nvSpPr>
          <p:spPr>
            <a:xfrm>
              <a:off x="6730920" y="5129280"/>
              <a:ext cx="180360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 4-input AND gates and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 4-input OR ga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→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0 transis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5" name=""/>
            <p:cNvGrpSpPr/>
            <p:nvPr/>
          </p:nvGrpSpPr>
          <p:grpSpPr>
            <a:xfrm>
              <a:off x="6711840" y="3568680"/>
              <a:ext cx="1996920" cy="1388520"/>
              <a:chOff x="6711840" y="3568680"/>
              <a:chExt cx="1996920" cy="1388520"/>
            </a:xfrm>
          </p:grpSpPr>
          <p:sp>
            <p:nvSpPr>
              <p:cNvPr id="236" name=""/>
              <p:cNvSpPr/>
              <p:nvPr/>
            </p:nvSpPr>
            <p:spPr>
              <a:xfrm>
                <a:off x="7635600" y="4002480"/>
                <a:ext cx="231120" cy="28332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635600" y="3667680"/>
                <a:ext cx="231120" cy="28332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635600" y="4338360"/>
                <a:ext cx="231120" cy="28332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8101800" y="4170600"/>
                <a:ext cx="231120" cy="283320"/>
              </a:xfrm>
              <a:prstGeom prst="flowChartOnlineStorag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5600" y="4673880"/>
                <a:ext cx="231120" cy="28332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11840" y="3568680"/>
                <a:ext cx="168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11840" y="3844800"/>
                <a:ext cx="168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11840" y="4121280"/>
                <a:ext cx="168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400000">
                <a:off x="7457760" y="3800520"/>
                <a:ext cx="6876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521480" y="3808080"/>
                <a:ext cx="3384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6843960" y="3706560"/>
                <a:ext cx="795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848280" y="3760920"/>
                <a:ext cx="787320" cy="182880"/>
              </a:xfrm>
              <a:custGeom>
                <a:avLst/>
                <a:gdLst/>
                <a:ahLst/>
                <a:rect l="l" t="t" r="r" b="b"/>
                <a:pathLst>
                  <a:path w="980" h="185">
                    <a:moveTo>
                      <a:pt x="980" y="0"/>
                    </a:moveTo>
                    <a:lnTo>
                      <a:pt x="195" y="0"/>
                    </a:lnTo>
                    <a:lnTo>
                      <a:pt x="195" y="185"/>
                    </a:lnTo>
                    <a:lnTo>
                      <a:pt x="0" y="18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59640" y="383040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860160" y="3830400"/>
                <a:ext cx="602640" cy="399240"/>
              </a:xfrm>
              <a:custGeom>
                <a:avLst/>
                <a:gdLst/>
                <a:ahLst/>
                <a:rect l="l" t="t" r="r" b="b"/>
                <a:pathLst>
                  <a:path w="750" h="405">
                    <a:moveTo>
                      <a:pt x="750" y="0"/>
                    </a:moveTo>
                    <a:lnTo>
                      <a:pt x="400" y="0"/>
                    </a:lnTo>
                    <a:lnTo>
                      <a:pt x="400" y="405"/>
                    </a:lnTo>
                    <a:lnTo>
                      <a:pt x="0" y="40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559640" y="3914280"/>
                <a:ext cx="75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844320" y="3914280"/>
                <a:ext cx="622800" cy="670680"/>
              </a:xfrm>
              <a:custGeom>
                <a:avLst/>
                <a:gdLst/>
                <a:ahLst/>
                <a:rect l="l" t="t" r="r" b="b"/>
                <a:pathLst>
                  <a:path w="776" h="680">
                    <a:moveTo>
                      <a:pt x="776" y="0"/>
                    </a:moveTo>
                    <a:lnTo>
                      <a:pt x="590" y="0"/>
                    </a:lnTo>
                    <a:lnTo>
                      <a:pt x="590" y="680"/>
                    </a:lnTo>
                    <a:lnTo>
                      <a:pt x="0" y="6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5400000">
                <a:off x="7457760" y="3884400"/>
                <a:ext cx="6876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521480" y="3891960"/>
                <a:ext cx="3384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5400000">
                <a:off x="7461720" y="4007880"/>
                <a:ext cx="6912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525440" y="4015080"/>
                <a:ext cx="3384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5400000">
                <a:off x="7461720" y="4091760"/>
                <a:ext cx="6912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525440" y="4098960"/>
                <a:ext cx="3384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5400000">
                <a:off x="7461720" y="4353480"/>
                <a:ext cx="6876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525440" y="4360680"/>
                <a:ext cx="3384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5400000">
                <a:off x="7461720" y="4753080"/>
                <a:ext cx="69120" cy="583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525440" y="4759920"/>
                <a:ext cx="33840" cy="417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559640" y="4037400"/>
                <a:ext cx="68040" cy="360"/>
              </a:xfrm>
              <a:custGeom>
                <a:avLst/>
                <a:gdLst/>
                <a:ahLst/>
                <a:rect l="l" t="t" r="r" b="b"/>
                <a:pathLst>
                  <a:path w="85" h="1">
                    <a:moveTo>
                      <a:pt x="0" y="1"/>
                    </a:move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924600" y="3706560"/>
                <a:ext cx="711000" cy="1006200"/>
              </a:xfrm>
              <a:custGeom>
                <a:avLst/>
                <a:gdLst/>
                <a:ahLst/>
                <a:rect l="l" t="t" r="r" b="b"/>
                <a:pathLst>
                  <a:path w="885" h="1020">
                    <a:moveTo>
                      <a:pt x="0" y="0"/>
                    </a:moveTo>
                    <a:lnTo>
                      <a:pt x="0" y="1020"/>
                    </a:lnTo>
                    <a:lnTo>
                      <a:pt x="885" y="10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63600" y="4782600"/>
                <a:ext cx="68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H="1">
                <a:off x="6928560" y="4037400"/>
                <a:ext cx="5385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559640" y="4382280"/>
                <a:ext cx="72360" cy="360"/>
              </a:xfrm>
              <a:custGeom>
                <a:avLst/>
                <a:gdLst/>
                <a:ahLst/>
                <a:rect l="l" t="t" r="r" b="b"/>
                <a:pathLst>
                  <a:path w="90" h="1">
                    <a:moveTo>
                      <a:pt x="0" y="0"/>
                    </a:moveTo>
                    <a:lnTo>
                      <a:pt x="9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6928560" y="4382280"/>
                <a:ext cx="53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559640" y="4116240"/>
                <a:ext cx="6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005240" y="3938760"/>
                <a:ext cx="461880" cy="843480"/>
              </a:xfrm>
              <a:custGeom>
                <a:avLst/>
                <a:gdLst/>
                <a:ahLst/>
                <a:rect l="l" t="t" r="r" b="b"/>
                <a:pathLst>
                  <a:path w="575" h="855">
                    <a:moveTo>
                      <a:pt x="0" y="0"/>
                    </a:moveTo>
                    <a:lnTo>
                      <a:pt x="0" y="855"/>
                    </a:lnTo>
                    <a:lnTo>
                      <a:pt x="575" y="85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flipH="1">
                <a:off x="7185960" y="4170600"/>
                <a:ext cx="45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182000" y="4224600"/>
                <a:ext cx="453600" cy="636480"/>
              </a:xfrm>
              <a:custGeom>
                <a:avLst/>
                <a:gdLst/>
                <a:ahLst/>
                <a:rect l="l" t="t" r="r" b="b"/>
                <a:pathLst>
                  <a:path w="565" h="645">
                    <a:moveTo>
                      <a:pt x="0" y="0"/>
                    </a:moveTo>
                    <a:lnTo>
                      <a:pt x="0" y="645"/>
                    </a:lnTo>
                    <a:lnTo>
                      <a:pt x="565" y="64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318440" y="4491000"/>
                <a:ext cx="316800" cy="424440"/>
              </a:xfrm>
              <a:custGeom>
                <a:avLst/>
                <a:gdLst/>
                <a:ahLst/>
                <a:rect l="l" t="t" r="r" b="b"/>
                <a:pathLst>
                  <a:path w="395" h="430">
                    <a:moveTo>
                      <a:pt x="0" y="0"/>
                    </a:moveTo>
                    <a:lnTo>
                      <a:pt x="0" y="430"/>
                    </a:lnTo>
                    <a:lnTo>
                      <a:pt x="395" y="43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7318440" y="4234680"/>
                <a:ext cx="31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H="1">
                <a:off x="7004880" y="4446720"/>
                <a:ext cx="63036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173720" y="4506120"/>
                <a:ext cx="461880" cy="360"/>
              </a:xfrm>
              <a:custGeom>
                <a:avLst/>
                <a:gdLst/>
                <a:ahLst/>
                <a:rect l="l" t="t" r="r" b="b"/>
                <a:pathLst>
                  <a:path w="574" h="1">
                    <a:moveTo>
                      <a:pt x="574" y="1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322400" y="4584960"/>
                <a:ext cx="317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873200" y="4150800"/>
                <a:ext cx="256680" cy="122760"/>
              </a:xfrm>
              <a:custGeom>
                <a:avLst/>
                <a:gdLst/>
                <a:ahLst/>
                <a:rect l="l" t="t" r="r" b="b"/>
                <a:pathLst>
                  <a:path w="320" h="125">
                    <a:moveTo>
                      <a:pt x="320" y="125"/>
                    </a:moveTo>
                    <a:lnTo>
                      <a:pt x="140" y="125"/>
                    </a:lnTo>
                    <a:lnTo>
                      <a:pt x="14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868880" y="4343400"/>
                <a:ext cx="269280" cy="147600"/>
              </a:xfrm>
              <a:custGeom>
                <a:avLst/>
                <a:gdLst/>
                <a:ahLst/>
                <a:rect l="l" t="t" r="r" b="b"/>
                <a:pathLst>
                  <a:path w="336" h="150">
                    <a:moveTo>
                      <a:pt x="336" y="0"/>
                    </a:moveTo>
                    <a:lnTo>
                      <a:pt x="150" y="0"/>
                    </a:lnTo>
                    <a:lnTo>
                      <a:pt x="150" y="150"/>
                    </a:lnTo>
                    <a:lnTo>
                      <a:pt x="0" y="15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873200" y="3805560"/>
                <a:ext cx="249120" cy="399240"/>
              </a:xfrm>
              <a:custGeom>
                <a:avLst/>
                <a:gdLst/>
                <a:ahLst/>
                <a:rect l="l" t="t" r="r" b="b"/>
                <a:pathLst>
                  <a:path w="311" h="405">
                    <a:moveTo>
                      <a:pt x="311" y="405"/>
                    </a:moveTo>
                    <a:lnTo>
                      <a:pt x="210" y="405"/>
                    </a:lnTo>
                    <a:lnTo>
                      <a:pt x="21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873200" y="4412160"/>
                <a:ext cx="249120" cy="414360"/>
              </a:xfrm>
              <a:custGeom>
                <a:avLst/>
                <a:gdLst/>
                <a:ahLst/>
                <a:rect l="l" t="t" r="r" b="b"/>
                <a:pathLst>
                  <a:path w="310" h="420">
                    <a:moveTo>
                      <a:pt x="310" y="0"/>
                    </a:moveTo>
                    <a:lnTo>
                      <a:pt x="215" y="0"/>
                    </a:lnTo>
                    <a:lnTo>
                      <a:pt x="215" y="420"/>
                    </a:lnTo>
                    <a:lnTo>
                      <a:pt x="0" y="4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8343360" y="4313520"/>
                <a:ext cx="17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711840" y="4446720"/>
                <a:ext cx="168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8540280" y="4200120"/>
                <a:ext cx="168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986880" y="3914280"/>
                <a:ext cx="33840" cy="41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902640" y="3682080"/>
                <a:ext cx="33840" cy="41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904440" y="4017600"/>
                <a:ext cx="33840" cy="41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155360" y="4217400"/>
                <a:ext cx="33840" cy="41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992640" y="4424400"/>
                <a:ext cx="33840" cy="41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7155360" y="4140720"/>
                <a:ext cx="3384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7161840" y="4476600"/>
                <a:ext cx="35640" cy="41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986880" y="4096440"/>
                <a:ext cx="33840" cy="417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902640" y="4362840"/>
                <a:ext cx="33840" cy="44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7005240" y="4121280"/>
                <a:ext cx="46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300440" y="4555440"/>
                <a:ext cx="33840" cy="43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7300440" y="4215240"/>
                <a:ext cx="33840" cy="43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6" name=""/>
            <p:cNvSpPr/>
            <p:nvPr/>
          </p:nvSpPr>
          <p:spPr>
            <a:xfrm>
              <a:off x="6534000" y="3314880"/>
              <a:ext cx="1819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irect imple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86C5-CF7F-425C-AFD9-208D008B803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nimum co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4204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um # of AND gates (sum of produc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iter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variable or its complemen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or a’, b or b’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ter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product of liter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literal appears exactly o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c’d’, ab’cd, a’bcd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lican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product of liter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literal appears no more than o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bc’d’, a’cd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vers 1 or more minte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’cd covers a’bcd and a’b’c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set of implicants that covers all minterms of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inimum cover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over with minimum # of implic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6F0D00-FCD7-4515-B0B3-01707833EDC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nimum cover: K-map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43815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rnaugh map (K-m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represents minte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le represents impl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c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vering all 1’s with min # of cir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direct vs. min c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vs. 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transis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8 vs. 4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5130720" y="2035080"/>
            <a:ext cx="1291680" cy="1333080"/>
            <a:chOff x="5130720" y="2035080"/>
            <a:chExt cx="1291680" cy="1333080"/>
          </a:xfrm>
        </p:grpSpPr>
        <p:sp>
          <p:nvSpPr>
            <p:cNvPr id="302" name=""/>
            <p:cNvSpPr/>
            <p:nvPr/>
          </p:nvSpPr>
          <p:spPr>
            <a:xfrm>
              <a:off x="5972760" y="2206440"/>
              <a:ext cx="2012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54040" y="2395440"/>
              <a:ext cx="236520" cy="24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485680" y="2395440"/>
              <a:ext cx="234000" cy="24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721840" y="2395440"/>
              <a:ext cx="234000" cy="24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188400" y="2395440"/>
              <a:ext cx="234000" cy="243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485680" y="2640600"/>
              <a:ext cx="234000" cy="24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721840" y="2640600"/>
              <a:ext cx="234000" cy="24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954040" y="2640600"/>
              <a:ext cx="236520" cy="24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188400" y="2640600"/>
              <a:ext cx="234000" cy="24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5485680" y="2884320"/>
              <a:ext cx="234000" cy="24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721840" y="2884320"/>
              <a:ext cx="234000" cy="24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954040" y="2884320"/>
              <a:ext cx="236520" cy="24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188400" y="2884320"/>
              <a:ext cx="234000" cy="24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5485680" y="3127320"/>
              <a:ext cx="234000" cy="24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721840" y="3127320"/>
              <a:ext cx="234000" cy="24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188400" y="3127320"/>
              <a:ext cx="234000" cy="24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361120" y="2256840"/>
              <a:ext cx="121680" cy="138240"/>
            </a:xfrm>
            <a:custGeom>
              <a:avLst/>
              <a:gdLst/>
              <a:ahLst/>
              <a:rect l="l" t="t" r="r" b="b"/>
              <a:pathLst>
                <a:path w="150" h="165">
                  <a:moveTo>
                    <a:pt x="150" y="16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130720" y="2170800"/>
              <a:ext cx="201960" cy="20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71200" y="2035080"/>
              <a:ext cx="201240" cy="20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69320" y="2435400"/>
              <a:ext cx="2037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69320" y="2678400"/>
              <a:ext cx="2037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269320" y="2923560"/>
              <a:ext cx="2037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69320" y="3166920"/>
              <a:ext cx="203760" cy="15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510160" y="2206440"/>
              <a:ext cx="20124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740200" y="2206440"/>
              <a:ext cx="2019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4600" y="2206440"/>
              <a:ext cx="201960" cy="15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54040" y="3127320"/>
              <a:ext cx="236520" cy="24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7373880" y="2044800"/>
            <a:ext cx="1312560" cy="1323360"/>
            <a:chOff x="7373880" y="2044800"/>
            <a:chExt cx="1312560" cy="1323360"/>
          </a:xfrm>
        </p:grpSpPr>
        <p:sp>
          <p:nvSpPr>
            <p:cNvPr id="330" name=""/>
            <p:cNvSpPr/>
            <p:nvPr/>
          </p:nvSpPr>
          <p:spPr>
            <a:xfrm>
              <a:off x="8233920" y="3139200"/>
              <a:ext cx="191880" cy="205920"/>
            </a:xfrm>
            <a:prstGeom prst="ellipse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211240" y="2402640"/>
              <a:ext cx="237600" cy="24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733880" y="2402640"/>
              <a:ext cx="237600" cy="24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73280" y="2402640"/>
              <a:ext cx="237600" cy="24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8447040" y="2402640"/>
              <a:ext cx="239400" cy="2408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733880" y="2646360"/>
              <a:ext cx="237600" cy="23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73280" y="2646360"/>
              <a:ext cx="237600" cy="23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211240" y="2646360"/>
              <a:ext cx="237600" cy="23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8447040" y="2646360"/>
              <a:ext cx="239400" cy="23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733880" y="2887560"/>
              <a:ext cx="237600" cy="23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973280" y="2887560"/>
              <a:ext cx="237600" cy="23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211240" y="2887560"/>
              <a:ext cx="237600" cy="23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447040" y="2887560"/>
              <a:ext cx="239400" cy="239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733880" y="3129120"/>
              <a:ext cx="237600" cy="23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973280" y="3129120"/>
              <a:ext cx="237600" cy="23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447040" y="3129120"/>
              <a:ext cx="239400" cy="23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607520" y="2265480"/>
              <a:ext cx="123480" cy="137160"/>
            </a:xfrm>
            <a:custGeom>
              <a:avLst/>
              <a:gdLst/>
              <a:ahLst/>
              <a:rect l="l" t="t" r="r" b="b"/>
              <a:pathLst>
                <a:path w="150" h="165">
                  <a:moveTo>
                    <a:pt x="150" y="165"/>
                  </a:move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373880" y="2180160"/>
              <a:ext cx="20484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617960" y="2044800"/>
              <a:ext cx="204120" cy="20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516800" y="2442240"/>
              <a:ext cx="20412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516800" y="2683440"/>
              <a:ext cx="204120" cy="1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516800" y="2927160"/>
              <a:ext cx="20412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16800" y="3168720"/>
              <a:ext cx="20412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758000" y="2215440"/>
              <a:ext cx="204840" cy="1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992000" y="2215440"/>
              <a:ext cx="206640" cy="1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236080" y="2215440"/>
              <a:ext cx="204840" cy="1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463240" y="2215440"/>
              <a:ext cx="206640" cy="14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46160" y="2411280"/>
              <a:ext cx="175680" cy="453240"/>
            </a:xfrm>
            <a:prstGeom prst="ellipse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762320" y="2901960"/>
              <a:ext cx="175680" cy="197640"/>
            </a:xfrm>
            <a:prstGeom prst="ellipse">
              <a:avLst/>
            </a:prstGeom>
            <a:noFill/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8211240" y="3129120"/>
              <a:ext cx="237600" cy="239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000" bIns="9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5994360" y="4037040"/>
            <a:ext cx="16891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=abc'd' + a'cd + ab'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1" name=""/>
          <p:cNvGrpSpPr/>
          <p:nvPr/>
        </p:nvGrpSpPr>
        <p:grpSpPr>
          <a:xfrm>
            <a:off x="4964040" y="4768920"/>
            <a:ext cx="1987200" cy="1101240"/>
            <a:chOff x="4964040" y="4768920"/>
            <a:chExt cx="1987200" cy="1101240"/>
          </a:xfrm>
        </p:grpSpPr>
        <p:sp>
          <p:nvSpPr>
            <p:cNvPr id="362" name=""/>
            <p:cNvSpPr/>
            <p:nvPr/>
          </p:nvSpPr>
          <p:spPr>
            <a:xfrm>
              <a:off x="5181840" y="5535360"/>
              <a:ext cx="35640" cy="40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883840" y="5190480"/>
              <a:ext cx="229680" cy="27504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883840" y="4864680"/>
              <a:ext cx="229680" cy="27504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5883840" y="5508720"/>
              <a:ext cx="229680" cy="275040"/>
            </a:xfrm>
            <a:prstGeom prst="flowChartDelay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6347880" y="5192640"/>
              <a:ext cx="229680" cy="275040"/>
            </a:xfrm>
            <a:prstGeom prst="flowChartOnlineStorag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964040" y="4768920"/>
              <a:ext cx="1677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964040" y="5036760"/>
              <a:ext cx="1677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64040" y="5252400"/>
              <a:ext cx="1677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5400000">
              <a:off x="5706720" y="4993560"/>
              <a:ext cx="66960" cy="5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769720" y="5001120"/>
              <a:ext cx="33840" cy="40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5095440" y="4902840"/>
              <a:ext cx="791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099760" y="4955400"/>
              <a:ext cx="783720" cy="177480"/>
            </a:xfrm>
            <a:custGeom>
              <a:avLst/>
              <a:gdLst/>
              <a:ahLst/>
              <a:rect l="l" t="t" r="r" b="b"/>
              <a:pathLst>
                <a:path w="980" h="185">
                  <a:moveTo>
                    <a:pt x="980" y="0"/>
                  </a:moveTo>
                  <a:lnTo>
                    <a:pt x="195" y="0"/>
                  </a:lnTo>
                  <a:lnTo>
                    <a:pt x="195" y="185"/>
                  </a:lnTo>
                  <a:lnTo>
                    <a:pt x="0" y="18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807880" y="502272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18120" y="5022720"/>
              <a:ext cx="593280" cy="311040"/>
            </a:xfrm>
            <a:custGeom>
              <a:avLst/>
              <a:gdLst/>
              <a:ahLst/>
              <a:rect l="l" t="t" r="r" b="b"/>
              <a:pathLst>
                <a:path w="741" h="324">
                  <a:moveTo>
                    <a:pt x="741" y="0"/>
                  </a:moveTo>
                  <a:lnTo>
                    <a:pt x="391" y="0"/>
                  </a:lnTo>
                  <a:lnTo>
                    <a:pt x="390" y="324"/>
                  </a:lnTo>
                  <a:lnTo>
                    <a:pt x="0" y="31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807880" y="5104080"/>
              <a:ext cx="75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095800" y="5104080"/>
              <a:ext cx="619560" cy="650520"/>
            </a:xfrm>
            <a:custGeom>
              <a:avLst/>
              <a:gdLst/>
              <a:ahLst/>
              <a:rect l="l" t="t" r="r" b="b"/>
              <a:pathLst>
                <a:path w="776" h="680">
                  <a:moveTo>
                    <a:pt x="776" y="0"/>
                  </a:moveTo>
                  <a:lnTo>
                    <a:pt x="590" y="0"/>
                  </a:lnTo>
                  <a:lnTo>
                    <a:pt x="590" y="680"/>
                  </a:lnTo>
                  <a:lnTo>
                    <a:pt x="0" y="68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5400000">
              <a:off x="5706720" y="5074920"/>
              <a:ext cx="66960" cy="5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769720" y="5082480"/>
              <a:ext cx="33840" cy="40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5400000">
              <a:off x="5709960" y="5224680"/>
              <a:ext cx="68760" cy="5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773680" y="5233320"/>
              <a:ext cx="33840" cy="40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5400000">
              <a:off x="5709600" y="5583960"/>
              <a:ext cx="69480" cy="57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773680" y="5590080"/>
              <a:ext cx="33840" cy="42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809680" y="5255280"/>
              <a:ext cx="67680" cy="360"/>
            </a:xfrm>
            <a:custGeom>
              <a:avLst/>
              <a:gdLst/>
              <a:ahLst/>
              <a:rect l="l" t="t" r="r" b="b"/>
              <a:pathLst>
                <a:path w="85" h="1">
                  <a:moveTo>
                    <a:pt x="0" y="1"/>
                  </a:moveTo>
                  <a:lnTo>
                    <a:pt x="85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809680" y="5611680"/>
              <a:ext cx="72000" cy="2160"/>
            </a:xfrm>
            <a:custGeom>
              <a:avLst/>
              <a:gdLst/>
              <a:ahLst/>
              <a:rect l="l" t="t" r="r" b="b"/>
              <a:pathLst>
                <a:path w="90" h="1">
                  <a:moveTo>
                    <a:pt x="0" y="0"/>
                  </a:moveTo>
                  <a:lnTo>
                    <a:pt x="9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429880" y="5324760"/>
              <a:ext cx="443880" cy="9000"/>
            </a:xfrm>
            <a:custGeom>
              <a:avLst/>
              <a:gdLst/>
              <a:ahLst/>
              <a:rect l="l" t="t" r="r" b="b"/>
              <a:pathLst>
                <a:path w="553" h="9">
                  <a:moveTo>
                    <a:pt x="0" y="9"/>
                  </a:moveTo>
                  <a:lnTo>
                    <a:pt x="553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65600" y="5754960"/>
              <a:ext cx="31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119640" y="5333760"/>
              <a:ext cx="265680" cy="360"/>
            </a:xfrm>
            <a:custGeom>
              <a:avLst/>
              <a:gdLst/>
              <a:ahLst/>
              <a:rect l="l" t="t" r="r" b="b"/>
              <a:pathLst>
                <a:path w="332" h="1">
                  <a:moveTo>
                    <a:pt x="332" y="0"/>
                  </a:moveTo>
                  <a:lnTo>
                    <a:pt x="0" y="1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6115680" y="5389200"/>
              <a:ext cx="257760" cy="267480"/>
            </a:xfrm>
            <a:custGeom>
              <a:avLst/>
              <a:gdLst/>
              <a:ahLst/>
              <a:rect l="l" t="t" r="r" b="b"/>
              <a:pathLst>
                <a:path w="322" h="279">
                  <a:moveTo>
                    <a:pt x="322" y="0"/>
                  </a:moveTo>
                  <a:lnTo>
                    <a:pt x="224" y="8"/>
                  </a:lnTo>
                  <a:lnTo>
                    <a:pt x="224" y="270"/>
                  </a:lnTo>
                  <a:lnTo>
                    <a:pt x="0" y="279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119640" y="4998960"/>
              <a:ext cx="257760" cy="267840"/>
            </a:xfrm>
            <a:custGeom>
              <a:avLst/>
              <a:gdLst/>
              <a:ahLst/>
              <a:rect l="l" t="t" r="r" b="b"/>
              <a:pathLst>
                <a:path w="324" h="281">
                  <a:moveTo>
                    <a:pt x="324" y="281"/>
                  </a:moveTo>
                  <a:lnTo>
                    <a:pt x="204" y="274"/>
                  </a:lnTo>
                  <a:lnTo>
                    <a:pt x="21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6587640" y="5324760"/>
              <a:ext cx="17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964040" y="5621040"/>
              <a:ext cx="167760" cy="24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783480" y="5214240"/>
              <a:ext cx="167760" cy="24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62000" y="5403240"/>
              <a:ext cx="319680" cy="6840"/>
            </a:xfrm>
            <a:custGeom>
              <a:avLst/>
              <a:gdLst/>
              <a:ahLst/>
              <a:rect l="l" t="t" r="r" b="b"/>
              <a:pathLst>
                <a:path w="398" h="8">
                  <a:moveTo>
                    <a:pt x="398" y="0"/>
                  </a:moveTo>
                  <a:lnTo>
                    <a:pt x="0" y="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257800" y="5140080"/>
              <a:ext cx="447840" cy="473760"/>
            </a:xfrm>
            <a:custGeom>
              <a:avLst/>
              <a:gdLst/>
              <a:ahLst/>
              <a:rect l="l" t="t" r="r" b="b"/>
              <a:pathLst>
                <a:path w="562" h="495">
                  <a:moveTo>
                    <a:pt x="0" y="0"/>
                  </a:moveTo>
                  <a:lnTo>
                    <a:pt x="0" y="488"/>
                  </a:lnTo>
                  <a:lnTo>
                    <a:pt x="562" y="49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429880" y="5338800"/>
              <a:ext cx="451440" cy="337320"/>
            </a:xfrm>
            <a:custGeom>
              <a:avLst/>
              <a:gdLst/>
              <a:ahLst/>
              <a:rect l="l" t="t" r="r" b="b"/>
              <a:pathLst>
                <a:path w="563" h="353">
                  <a:moveTo>
                    <a:pt x="0" y="0"/>
                  </a:moveTo>
                  <a:lnTo>
                    <a:pt x="0" y="353"/>
                  </a:lnTo>
                  <a:lnTo>
                    <a:pt x="563" y="35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183640" y="4881600"/>
              <a:ext cx="33840" cy="40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51920" y="5734080"/>
              <a:ext cx="3384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5411880" y="5310000"/>
              <a:ext cx="3384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31880" y="5101560"/>
              <a:ext cx="33840" cy="40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49760" y="5381640"/>
              <a:ext cx="33840" cy="43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197680" y="4902840"/>
              <a:ext cx="515880" cy="349560"/>
            </a:xfrm>
            <a:custGeom>
              <a:avLst/>
              <a:gdLst/>
              <a:ahLst/>
              <a:rect l="l" t="t" r="r" b="b"/>
              <a:pathLst>
                <a:path w="645" h="367">
                  <a:moveTo>
                    <a:pt x="0" y="0"/>
                  </a:moveTo>
                  <a:lnTo>
                    <a:pt x="7" y="367"/>
                  </a:lnTo>
                  <a:lnTo>
                    <a:pt x="645" y="367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5202000" y="5238360"/>
              <a:ext cx="677880" cy="308520"/>
            </a:xfrm>
            <a:custGeom>
              <a:avLst/>
              <a:gdLst/>
              <a:ahLst/>
              <a:rect l="l" t="t" r="r" b="b"/>
              <a:pathLst>
                <a:path w="847" h="323">
                  <a:moveTo>
                    <a:pt x="0" y="0"/>
                  </a:moveTo>
                  <a:lnTo>
                    <a:pt x="0" y="323"/>
                  </a:lnTo>
                  <a:lnTo>
                    <a:pt x="847" y="323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4" name=""/>
          <p:cNvSpPr/>
          <p:nvPr/>
        </p:nvSpPr>
        <p:spPr>
          <a:xfrm>
            <a:off x="7256520" y="4976640"/>
            <a:ext cx="147780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 4-input AND g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3-input AND g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 4 input OR ga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8 transis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5010120" y="180036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K-map: sum of produc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162920" y="1800360"/>
            <a:ext cx="1752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K-map: minimum c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905440" y="3705120"/>
            <a:ext cx="171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inimum c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029200" y="4524480"/>
            <a:ext cx="346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Minimum cover 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55F83-90BD-4544-A236-A0464731F1A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nimum cover that is pr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76120" y="1523520"/>
            <a:ext cx="51436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# of inputs to AND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me implic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icant not covered by any other impl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-sized circle in K-m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nimum cover that is pr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vering with min # of prime implica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 # of max-sized cir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: prime cover vs. min co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me # of 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vs.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transis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6 vs. 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5800680" y="1752480"/>
            <a:ext cx="2752560" cy="1719000"/>
            <a:chOff x="5800680" y="1752480"/>
            <a:chExt cx="2752560" cy="1719000"/>
          </a:xfrm>
        </p:grpSpPr>
        <p:grpSp>
          <p:nvGrpSpPr>
            <p:cNvPr id="412" name=""/>
            <p:cNvGrpSpPr/>
            <p:nvPr/>
          </p:nvGrpSpPr>
          <p:grpSpPr>
            <a:xfrm>
              <a:off x="6387840" y="2025720"/>
              <a:ext cx="1520640" cy="1445760"/>
              <a:chOff x="6387840" y="2025720"/>
              <a:chExt cx="1520640" cy="1445760"/>
            </a:xfrm>
          </p:grpSpPr>
          <p:sp>
            <p:nvSpPr>
              <p:cNvPr id="413" name=""/>
              <p:cNvSpPr/>
              <p:nvPr/>
            </p:nvSpPr>
            <p:spPr>
              <a:xfrm>
                <a:off x="7385760" y="3066120"/>
                <a:ext cx="222840" cy="356040"/>
              </a:xfrm>
              <a:prstGeom prst="ellipse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383600" y="2199600"/>
                <a:ext cx="222840" cy="356040"/>
              </a:xfrm>
              <a:prstGeom prst="ellipse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356960" y="2365920"/>
                <a:ext cx="278280" cy="22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 flipV="1">
                <a:off x="7351920" y="2178000"/>
                <a:ext cx="295200" cy="183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805440" y="2365920"/>
                <a:ext cx="275760" cy="22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083360" y="2365920"/>
                <a:ext cx="275760" cy="22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720" y="2365920"/>
                <a:ext cx="275760" cy="228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6805440" y="2597400"/>
                <a:ext cx="275760" cy="22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083360" y="2597400"/>
                <a:ext cx="275760" cy="22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56960" y="2597400"/>
                <a:ext cx="278280" cy="22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632720" y="2597400"/>
                <a:ext cx="275760" cy="22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6805440" y="2826720"/>
                <a:ext cx="275760" cy="22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083360" y="2826720"/>
                <a:ext cx="275760" cy="22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356960" y="2826720"/>
                <a:ext cx="278280" cy="22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632720" y="2826720"/>
                <a:ext cx="275760" cy="22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6805440" y="3056400"/>
                <a:ext cx="275760" cy="22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083360" y="3056400"/>
                <a:ext cx="275760" cy="22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32720" y="3056400"/>
                <a:ext cx="275760" cy="22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658920" y="2235600"/>
                <a:ext cx="143280" cy="130320"/>
              </a:xfrm>
              <a:custGeom>
                <a:avLst/>
                <a:gdLst/>
                <a:ahLst/>
                <a:rect l="l" t="t" r="r" b="b"/>
                <a:pathLst>
                  <a:path w="150" h="165">
                    <a:moveTo>
                      <a:pt x="150" y="165"/>
                    </a:move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387840" y="2154240"/>
                <a:ext cx="23760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671160" y="2025720"/>
                <a:ext cx="236880" cy="19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550920" y="2403720"/>
                <a:ext cx="23976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6550920" y="2632680"/>
                <a:ext cx="239760" cy="14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6550920" y="2864160"/>
                <a:ext cx="239760" cy="14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550920" y="3093840"/>
                <a:ext cx="23976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834240" y="2188080"/>
                <a:ext cx="23688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0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7104960" y="2188080"/>
                <a:ext cx="23760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0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378560" y="2188080"/>
                <a:ext cx="23688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11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651800" y="2188080"/>
                <a:ext cx="237600" cy="141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Times New Roman"/>
                  </a:rPr>
                  <a:t>10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399800" y="2373480"/>
                <a:ext cx="201600" cy="431280"/>
              </a:xfrm>
              <a:prstGeom prst="ellipse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6839280" y="2840400"/>
                <a:ext cx="201240" cy="187920"/>
              </a:xfrm>
              <a:prstGeom prst="ellipse">
                <a:avLst/>
              </a:prstGeom>
              <a:noFill/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359120" y="3283560"/>
                <a:ext cx="261360" cy="187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356960" y="3056400"/>
                <a:ext cx="278280" cy="227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9000" bIns="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800680" y="1752480"/>
              <a:ext cx="2752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K-map: minimum cover that is pr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6124680" y="3666960"/>
            <a:ext cx="2219400" cy="547560"/>
            <a:chOff x="6124680" y="3666960"/>
            <a:chExt cx="2219400" cy="547560"/>
          </a:xfrm>
        </p:grpSpPr>
        <p:sp>
          <p:nvSpPr>
            <p:cNvPr id="448" name=""/>
            <p:cNvSpPr/>
            <p:nvPr/>
          </p:nvSpPr>
          <p:spPr>
            <a:xfrm>
              <a:off x="6124680" y="3666960"/>
              <a:ext cx="22194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inimum cover that is prim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80360" y="3966840"/>
              <a:ext cx="159372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=abc'd' + a'cd + b'c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5576760" y="4638600"/>
            <a:ext cx="3302280" cy="1329840"/>
            <a:chOff x="5576760" y="4638600"/>
            <a:chExt cx="3302280" cy="1329840"/>
          </a:xfrm>
        </p:grpSpPr>
        <p:sp>
          <p:nvSpPr>
            <p:cNvPr id="451" name=""/>
            <p:cNvSpPr/>
            <p:nvPr/>
          </p:nvSpPr>
          <p:spPr>
            <a:xfrm>
              <a:off x="7515360" y="5018040"/>
              <a:ext cx="1363680" cy="85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 4-input AND ga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 3-input AND g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 4 input OR gate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→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6 transis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2" name=""/>
            <p:cNvGrpSpPr/>
            <p:nvPr/>
          </p:nvGrpSpPr>
          <p:grpSpPr>
            <a:xfrm>
              <a:off x="5576760" y="4886280"/>
              <a:ext cx="1882440" cy="1082160"/>
              <a:chOff x="5576760" y="4886280"/>
              <a:chExt cx="1882440" cy="1082160"/>
            </a:xfrm>
          </p:grpSpPr>
          <p:sp>
            <p:nvSpPr>
              <p:cNvPr id="453" name=""/>
              <p:cNvSpPr/>
              <p:nvPr/>
            </p:nvSpPr>
            <p:spPr>
              <a:xfrm>
                <a:off x="6448320" y="5300280"/>
                <a:ext cx="217440" cy="27036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448320" y="4980240"/>
                <a:ext cx="217440" cy="27036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448320" y="5620320"/>
                <a:ext cx="217440" cy="2710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 flipH="1">
                <a:off x="6887520" y="5302440"/>
                <a:ext cx="217440" cy="270360"/>
              </a:xfrm>
              <a:prstGeom prst="flowChartOnlineStorag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rot="5400000">
                <a:off x="6278040" y="5108760"/>
                <a:ext cx="68040" cy="54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6339960" y="5114160"/>
                <a:ext cx="32040" cy="42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 flipH="1">
                <a:off x="5701680" y="5018040"/>
                <a:ext cx="75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705280" y="5069880"/>
                <a:ext cx="742680" cy="173880"/>
              </a:xfrm>
              <a:custGeom>
                <a:avLst/>
                <a:gdLst/>
                <a:ahLst/>
                <a:rect l="l" t="t" r="r" b="b"/>
                <a:pathLst>
                  <a:path w="980" h="185">
                    <a:moveTo>
                      <a:pt x="980" y="0"/>
                    </a:moveTo>
                    <a:lnTo>
                      <a:pt x="195" y="0"/>
                    </a:lnTo>
                    <a:lnTo>
                      <a:pt x="195" y="185"/>
                    </a:lnTo>
                    <a:lnTo>
                      <a:pt x="0" y="18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375960" y="5135400"/>
                <a:ext cx="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722560" y="5135400"/>
                <a:ext cx="561960" cy="305640"/>
              </a:xfrm>
              <a:custGeom>
                <a:avLst/>
                <a:gdLst/>
                <a:ahLst/>
                <a:rect l="l" t="t" r="r" b="b"/>
                <a:pathLst>
                  <a:path w="741" h="324">
                    <a:moveTo>
                      <a:pt x="741" y="0"/>
                    </a:moveTo>
                    <a:lnTo>
                      <a:pt x="391" y="0"/>
                    </a:lnTo>
                    <a:lnTo>
                      <a:pt x="390" y="324"/>
                    </a:lnTo>
                    <a:lnTo>
                      <a:pt x="0" y="31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375960" y="5215680"/>
                <a:ext cx="7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701680" y="5215680"/>
                <a:ext cx="587160" cy="640080"/>
              </a:xfrm>
              <a:custGeom>
                <a:avLst/>
                <a:gdLst/>
                <a:ahLst/>
                <a:rect l="l" t="t" r="r" b="b"/>
                <a:pathLst>
                  <a:path w="776" h="680">
                    <a:moveTo>
                      <a:pt x="776" y="0"/>
                    </a:moveTo>
                    <a:lnTo>
                      <a:pt x="590" y="0"/>
                    </a:lnTo>
                    <a:lnTo>
                      <a:pt x="590" y="680"/>
                    </a:lnTo>
                    <a:lnTo>
                      <a:pt x="0" y="68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400000">
                <a:off x="6278040" y="5189040"/>
                <a:ext cx="68040" cy="54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339960" y="5194080"/>
                <a:ext cx="32040" cy="424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rot="5400000">
                <a:off x="6283080" y="5336280"/>
                <a:ext cx="65880" cy="54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343920" y="5342400"/>
                <a:ext cx="32040" cy="39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 rot="5400000">
                <a:off x="6282000" y="5674320"/>
                <a:ext cx="68040" cy="5472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6343920" y="5679360"/>
                <a:ext cx="32040" cy="4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378120" y="5364000"/>
                <a:ext cx="63720" cy="360"/>
              </a:xfrm>
              <a:custGeom>
                <a:avLst/>
                <a:gdLst/>
                <a:ahLst/>
                <a:rect l="l" t="t" r="r" b="b"/>
                <a:pathLst>
                  <a:path w="85" h="1">
                    <a:moveTo>
                      <a:pt x="0" y="1"/>
                    </a:moveTo>
                    <a:lnTo>
                      <a:pt x="85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378120" y="5700240"/>
                <a:ext cx="67680" cy="2520"/>
              </a:xfrm>
              <a:custGeom>
                <a:avLst/>
                <a:gdLst/>
                <a:ahLst/>
                <a:rect l="l" t="t" r="r" b="b"/>
                <a:pathLst>
                  <a:path w="90" h="1">
                    <a:moveTo>
                      <a:pt x="0" y="0"/>
                    </a:moveTo>
                    <a:lnTo>
                      <a:pt x="9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018120" y="5432400"/>
                <a:ext cx="420480" cy="9000"/>
              </a:xfrm>
              <a:custGeom>
                <a:avLst/>
                <a:gdLst/>
                <a:ahLst/>
                <a:rect l="l" t="t" r="r" b="b"/>
                <a:pathLst>
                  <a:path w="553" h="9">
                    <a:moveTo>
                      <a:pt x="0" y="9"/>
                    </a:moveTo>
                    <a:lnTo>
                      <a:pt x="553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147000" y="5855760"/>
                <a:ext cx="298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671520" y="5441400"/>
                <a:ext cx="252000" cy="360"/>
              </a:xfrm>
              <a:custGeom>
                <a:avLst/>
                <a:gdLst/>
                <a:ahLst/>
                <a:rect l="l" t="t" r="r" b="b"/>
                <a:pathLst>
                  <a:path w="332" h="1">
                    <a:moveTo>
                      <a:pt x="332" y="0"/>
                    </a:moveTo>
                    <a:lnTo>
                      <a:pt x="0" y="1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667560" y="5504760"/>
                <a:ext cx="244080" cy="261360"/>
              </a:xfrm>
              <a:custGeom>
                <a:avLst/>
                <a:gdLst/>
                <a:ahLst/>
                <a:rect l="l" t="t" r="r" b="b"/>
                <a:pathLst>
                  <a:path w="322" h="279">
                    <a:moveTo>
                      <a:pt x="322" y="0"/>
                    </a:moveTo>
                    <a:lnTo>
                      <a:pt x="224" y="8"/>
                    </a:lnTo>
                    <a:lnTo>
                      <a:pt x="224" y="270"/>
                    </a:lnTo>
                    <a:lnTo>
                      <a:pt x="0" y="27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671520" y="5112000"/>
                <a:ext cx="244080" cy="265680"/>
              </a:xfrm>
              <a:custGeom>
                <a:avLst/>
                <a:gdLst/>
                <a:ahLst/>
                <a:rect l="l" t="t" r="r" b="b"/>
                <a:pathLst>
                  <a:path w="324" h="281">
                    <a:moveTo>
                      <a:pt x="324" y="281"/>
                    </a:moveTo>
                    <a:lnTo>
                      <a:pt x="204" y="274"/>
                    </a:lnTo>
                    <a:lnTo>
                      <a:pt x="210" y="0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114680" y="5432400"/>
                <a:ext cx="162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300440" y="5324040"/>
                <a:ext cx="15876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143040" y="5509800"/>
                <a:ext cx="302760" cy="9360"/>
              </a:xfrm>
              <a:custGeom>
                <a:avLst/>
                <a:gdLst/>
                <a:ahLst/>
                <a:rect l="l" t="t" r="r" b="b"/>
                <a:pathLst>
                  <a:path w="398" h="8">
                    <a:moveTo>
                      <a:pt x="398" y="0"/>
                    </a:move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855040" y="5236920"/>
                <a:ext cx="424080" cy="465840"/>
              </a:xfrm>
              <a:custGeom>
                <a:avLst/>
                <a:gdLst/>
                <a:ahLst/>
                <a:rect l="l" t="t" r="r" b="b"/>
                <a:pathLst>
                  <a:path w="562" h="495">
                    <a:moveTo>
                      <a:pt x="0" y="0"/>
                    </a:moveTo>
                    <a:lnTo>
                      <a:pt x="0" y="488"/>
                    </a:lnTo>
                    <a:lnTo>
                      <a:pt x="562" y="495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018120" y="5448960"/>
                <a:ext cx="427680" cy="331200"/>
              </a:xfrm>
              <a:custGeom>
                <a:avLst/>
                <a:gdLst/>
                <a:ahLst/>
                <a:rect l="l" t="t" r="r" b="b"/>
                <a:pathLst>
                  <a:path w="563" h="353">
                    <a:moveTo>
                      <a:pt x="0" y="0"/>
                    </a:moveTo>
                    <a:lnTo>
                      <a:pt x="0" y="353"/>
                    </a:lnTo>
                    <a:lnTo>
                      <a:pt x="563" y="353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784840" y="4996440"/>
                <a:ext cx="32040" cy="3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133680" y="5837040"/>
                <a:ext cx="32040" cy="3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000840" y="5420520"/>
                <a:ext cx="32040" cy="3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830560" y="5213520"/>
                <a:ext cx="32040" cy="3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131520" y="5491080"/>
                <a:ext cx="32040" cy="39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798160" y="5018040"/>
                <a:ext cx="488520" cy="345600"/>
              </a:xfrm>
              <a:custGeom>
                <a:avLst/>
                <a:gdLst/>
                <a:ahLst/>
                <a:rect l="l" t="t" r="r" b="b"/>
                <a:pathLst>
                  <a:path w="645" h="367">
                    <a:moveTo>
                      <a:pt x="0" y="0"/>
                    </a:moveTo>
                    <a:lnTo>
                      <a:pt x="7" y="367"/>
                    </a:lnTo>
                    <a:lnTo>
                      <a:pt x="645" y="367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576760" y="4886280"/>
                <a:ext cx="1591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576760" y="5149800"/>
                <a:ext cx="159120" cy="244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576760" y="5361120"/>
                <a:ext cx="159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576760" y="5723640"/>
                <a:ext cx="1591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93" name=""/>
            <p:cNvSpPr/>
            <p:nvPr/>
          </p:nvSpPr>
          <p:spPr>
            <a:xfrm>
              <a:off x="6305400" y="4638600"/>
              <a:ext cx="17146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mplementa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0339E-6857-45E4-BB40-77CA416547C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nimum cover: heurist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-maps give optimal solution every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nctions with &gt; 6 inputs too complic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computer-based tabular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s all prime implic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ds min cover that is pr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so optimal solution every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lem: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minterms for n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2 inputs = 4 billion minte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onential complex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ur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lution technique where optimal solution not guarante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pefully comes cl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FF5A2-FF23-417F-A30A-92F0DA30BCD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euristics: iterative improve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477280" cy="4552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with initial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.e., original logic eq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eatedly make modifications toward better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n modif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p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place each nonprime implicant with a prime implicant covering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lete all implicants covered by new prime implic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posite of exp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sha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pands one implicant while reducing an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intains total # of implica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redund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s min # of implicants that cover from existing implica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hesis tools differ in modifications used and the order they are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F1D5-FCBE-48B0-9879-EEFAE2A182B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ultilevel logic minimiz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50198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de performance for si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rease delay for lower # of g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ay area represents all possible solu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rcle with X represents ideal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nerally not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level gives best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 delay = 2 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lve for smallest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level gives pareto-optimal 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um delay for a given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nimum size for a given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5818320" y="2977920"/>
            <a:ext cx="0" cy="202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818320" y="4998960"/>
            <a:ext cx="299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389800" y="5060880"/>
            <a:ext cx="3146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z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5298120" y="3881520"/>
            <a:ext cx="64764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rot="-54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10800000">
            <a:off x="5923440" y="1323720"/>
            <a:ext cx="3253680" cy="355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 rot="19376400">
            <a:off x="6051600" y="3389040"/>
            <a:ext cx="1622520" cy="428400"/>
          </a:xfrm>
          <a:prstGeom prst="leftArrow">
            <a:avLst>
              <a:gd name="adj1" fmla="val 50000"/>
              <a:gd name="adj2" fmla="val 946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-level min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975280" y="4754520"/>
            <a:ext cx="152640" cy="14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951520" y="4711680"/>
            <a:ext cx="211320" cy="24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5951160" y="4702320"/>
            <a:ext cx="211320" cy="245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50280" y="3100320"/>
            <a:ext cx="1258920" cy="17766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416720" y="4651200"/>
            <a:ext cx="1363680" cy="428760"/>
          </a:xfrm>
          <a:prstGeom prst="leftArrow">
            <a:avLst>
              <a:gd name="adj1" fmla="val 50000"/>
              <a:gd name="adj2" fmla="val 7951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-level mini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B6C30-C6A7-45D6-AD2C-2BCD762FBED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545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nimized 2-level logic func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 = adef + bdef + cdef + 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5 gates with 18 total gate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 ANDS and 1 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fter algebraic manipul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 = (a + b + c)def + 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quires only 4 gates with 11 total gate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 ANDS and 2 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ss inputs per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sume gate inputs = 2 transis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duced by 14 transis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6 (18 * 2) down to 22 (11 * 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crifices performance for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puts a, b, and c now have 3-gate de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rative improvement heuristic commonly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348240" y="1809720"/>
            <a:ext cx="2502000" cy="2044800"/>
            <a:chOff x="6348240" y="1809720"/>
            <a:chExt cx="2502000" cy="2044800"/>
          </a:xfrm>
        </p:grpSpPr>
        <p:grpSp>
          <p:nvGrpSpPr>
            <p:cNvPr id="514" name=""/>
            <p:cNvGrpSpPr/>
            <p:nvPr/>
          </p:nvGrpSpPr>
          <p:grpSpPr>
            <a:xfrm>
              <a:off x="6348240" y="2103480"/>
              <a:ext cx="2502000" cy="1751040"/>
              <a:chOff x="6348240" y="2103480"/>
              <a:chExt cx="2502000" cy="1751040"/>
            </a:xfrm>
          </p:grpSpPr>
          <p:sp>
            <p:nvSpPr>
              <p:cNvPr id="515" name=""/>
              <p:cNvSpPr/>
              <p:nvPr/>
            </p:nvSpPr>
            <p:spPr>
              <a:xfrm>
                <a:off x="7502400" y="2593800"/>
                <a:ext cx="226800" cy="36864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492680" y="2178000"/>
                <a:ext cx="227160" cy="3682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502400" y="3029040"/>
                <a:ext cx="226800" cy="3682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685000" y="2863800"/>
                <a:ext cx="165240" cy="333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492680" y="3463920"/>
                <a:ext cx="227160" cy="36828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 flipH="1">
                <a:off x="8215920" y="2806560"/>
                <a:ext cx="227160" cy="368280"/>
              </a:xfrm>
              <a:prstGeom prst="flowChartOnlineStorag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443800" y="2982960"/>
                <a:ext cx="16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 flipV="1">
                <a:off x="8134200" y="2857680"/>
                <a:ext cx="1047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 flipV="1">
                <a:off x="8134200" y="3123720"/>
                <a:ext cx="10476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048520" y="2933640"/>
                <a:ext cx="20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048520" y="3048120"/>
                <a:ext cx="209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8143560" y="2371680"/>
                <a:ext cx="0" cy="48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 flipV="1">
                <a:off x="8134200" y="3133440"/>
                <a:ext cx="0" cy="48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 flipH="1">
                <a:off x="7724520" y="2371680"/>
                <a:ext cx="41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 flipH="1">
                <a:off x="7715160" y="3629160"/>
                <a:ext cx="419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8048520" y="2752200"/>
                <a:ext cx="0" cy="171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8048520" y="3048120"/>
                <a:ext cx="0" cy="17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H="1">
                <a:off x="7724520" y="275256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H="1">
                <a:off x="7724520" y="3228840"/>
                <a:ext cx="32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357600" y="2522520"/>
                <a:ext cx="17496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357600" y="2952720"/>
                <a:ext cx="174960" cy="228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357600" y="2789280"/>
                <a:ext cx="16524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357600" y="2103480"/>
                <a:ext cx="155880" cy="237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348240" y="2360520"/>
                <a:ext cx="16524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376680" y="3208320"/>
                <a:ext cx="16524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367320" y="3398760"/>
                <a:ext cx="16524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376680" y="3637080"/>
                <a:ext cx="16524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534000" y="3524400"/>
                <a:ext cx="96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534000" y="3753000"/>
                <a:ext cx="96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543360" y="3352680"/>
                <a:ext cx="96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34000" y="2219400"/>
                <a:ext cx="96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543360" y="2629080"/>
                <a:ext cx="96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543360" y="3076560"/>
                <a:ext cx="96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543360" y="2914560"/>
                <a:ext cx="96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534000" y="2495520"/>
                <a:ext cx="961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686280" y="2495520"/>
                <a:ext cx="0" cy="695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6686280" y="2714760"/>
                <a:ext cx="80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6670440" y="2475000"/>
                <a:ext cx="3348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6686280" y="3200400"/>
                <a:ext cx="80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6670440" y="2684520"/>
                <a:ext cx="3348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6858000" y="2286000"/>
                <a:ext cx="0" cy="9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858000" y="2276640"/>
                <a:ext cx="63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858000" y="3276720"/>
                <a:ext cx="63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6841800" y="2884320"/>
                <a:ext cx="3348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 flipH="1" flipV="1">
                <a:off x="7048440" y="2381400"/>
                <a:ext cx="9360" cy="971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048440" y="2381400"/>
                <a:ext cx="43812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048440" y="28195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032600" y="2789280"/>
                <a:ext cx="33120" cy="540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041960" y="3322800"/>
                <a:ext cx="33480" cy="536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6372360" y="1809720"/>
              <a:ext cx="22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2-level minimiz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362640" y="4143240"/>
            <a:ext cx="2286000" cy="1692000"/>
            <a:chOff x="6362640" y="4143240"/>
            <a:chExt cx="2286000" cy="1692000"/>
          </a:xfrm>
        </p:grpSpPr>
        <p:grpSp>
          <p:nvGrpSpPr>
            <p:cNvPr id="566" name=""/>
            <p:cNvGrpSpPr/>
            <p:nvPr/>
          </p:nvGrpSpPr>
          <p:grpSpPr>
            <a:xfrm>
              <a:off x="6386400" y="4389480"/>
              <a:ext cx="2054160" cy="1445760"/>
              <a:chOff x="6386400" y="4389480"/>
              <a:chExt cx="2054160" cy="1445760"/>
            </a:xfrm>
          </p:grpSpPr>
          <p:sp>
            <p:nvSpPr>
              <p:cNvPr id="567" name=""/>
              <p:cNvSpPr/>
              <p:nvPr/>
            </p:nvSpPr>
            <p:spPr>
              <a:xfrm>
                <a:off x="7311960" y="4978080"/>
                <a:ext cx="226800" cy="36792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flipH="1">
                <a:off x="6844320" y="4492440"/>
                <a:ext cx="227160" cy="367920"/>
              </a:xfrm>
              <a:prstGeom prst="flowChartOnlineStorag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294400" y="5311440"/>
                <a:ext cx="146160" cy="25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6386400" y="4541760"/>
                <a:ext cx="17460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6386400" y="4695480"/>
                <a:ext cx="146160" cy="16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6395760" y="5065560"/>
                <a:ext cx="174600" cy="188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6386400" y="4389480"/>
                <a:ext cx="165240" cy="180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6386400" y="4951080"/>
                <a:ext cx="16524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6405480" y="5208480"/>
                <a:ext cx="164880" cy="178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6395760" y="5379840"/>
                <a:ext cx="165240" cy="21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6405480" y="5617800"/>
                <a:ext cx="164880" cy="217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h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 flipH="1">
                <a:off x="7826400" y="5235480"/>
                <a:ext cx="226800" cy="367920"/>
              </a:xfrm>
              <a:prstGeom prst="flowChartOnlineStorag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321320" y="5454360"/>
                <a:ext cx="227160" cy="367920"/>
              </a:xfrm>
              <a:prstGeom prst="flowChartDelay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505560" y="4533840"/>
                <a:ext cx="35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6514920" y="4809960"/>
                <a:ext cx="352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505560" y="4667040"/>
                <a:ext cx="3808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 flipH="1">
                <a:off x="6505200" y="5076720"/>
                <a:ext cx="80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 flipH="1">
                <a:off x="6505200" y="5181480"/>
                <a:ext cx="80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 flipH="1">
                <a:off x="6505200" y="5305320"/>
                <a:ext cx="80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076880" y="4676760"/>
                <a:ext cx="9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172280" y="4676760"/>
                <a:ext cx="0" cy="34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172280" y="5028840"/>
                <a:ext cx="142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 flipH="1">
                <a:off x="6514560" y="5524200"/>
                <a:ext cx="80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flipH="1">
                <a:off x="6514560" y="5733720"/>
                <a:ext cx="80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7553160" y="563868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543800" y="5162400"/>
                <a:ext cx="133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V="1">
                <a:off x="7696080" y="550476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V="1">
                <a:off x="7686360" y="5162040"/>
                <a:ext cx="0" cy="12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696080" y="5505120"/>
                <a:ext cx="16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7686360" y="5286240"/>
                <a:ext cx="16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048520" y="5419440"/>
                <a:ext cx="162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98" name=""/>
            <p:cNvSpPr/>
            <p:nvPr/>
          </p:nvSpPr>
          <p:spPr>
            <a:xfrm>
              <a:off x="6362640" y="4143240"/>
              <a:ext cx="2286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multilevel minimiz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98C332-82B3-4C7D-9ED8-10A8EDDF83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SM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SM to g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minim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 # of st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y and merge equivalent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utputs, next states same for all possible inpu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bular method gives exact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ble of all possible state pai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n states, n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able en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us, heuristics used with large # of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te en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que bit sequence for each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n states, log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n) 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! possible encod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us, heuristics com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E590-EDDA-4038-B639-F6841136769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utomation: synthe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cation: hardware/software co-si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use: intellectual property c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process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9D85-398E-4D40-B0B1-21E6DCED7D5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chnology mapp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brary of gates available for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ly 2-input AND,OR 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ous-input AND,OR,NAND,NOR,etc. g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fficiently implemented meta-gates (i.e., AND-OR-INVERT,MU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al structure consists of specified library’s components on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technology mapping integrated with logic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efficient circu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complex 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uristics requi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84217-27EC-46B2-AAD3-C4A2A342AC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mplexity impact on us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59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complexity grows, heuristics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uristics differ tremendously among synthesis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utationally expens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igher quality 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ariable optimization effort sett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ng run times (hours, day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quires huge amounts of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ypically needs to run on servers, works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ast heuris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wer quality resul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horter run times (minutes, hour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maller amount of memory requir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uld run on 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er-linear-time (i.e. n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) heuristics usually u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r can partition large systems to reduce run times/si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&gt; 5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+ 50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,000,000 &gt; 250,00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9807E-EF5A-46A7-A94C-9B6243DD307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grating logic design and physical desig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896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e delay much greater than wire d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us, performance evaluated as # of levels of gates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ate delay shrinking as feature size shrin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ire delay increa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formance evaluation needs wire length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ansistor placement (needed for wire length) domain of physic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us, simultaneous logic synthesis and physical design required for efficient circu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487840" y="3135240"/>
            <a:ext cx="3341880" cy="1716120"/>
            <a:chOff x="5487840" y="3135240"/>
            <a:chExt cx="3341880" cy="1716120"/>
          </a:xfrm>
        </p:grpSpPr>
        <p:sp>
          <p:nvSpPr>
            <p:cNvPr id="608" name=""/>
            <p:cNvSpPr/>
            <p:nvPr/>
          </p:nvSpPr>
          <p:spPr>
            <a:xfrm>
              <a:off x="7893000" y="3281400"/>
              <a:ext cx="936720" cy="750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Wir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ansis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16200000">
              <a:off x="5141160" y="3731400"/>
              <a:ext cx="901440" cy="20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-54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ela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67560" y="3135240"/>
              <a:ext cx="0" cy="142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45240" y="4568760"/>
              <a:ext cx="176220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duced feature 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flipV="1">
              <a:off x="5767560" y="4563720"/>
              <a:ext cx="1874520" cy="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135840" y="3660840"/>
              <a:ext cx="442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288120" y="3801960"/>
              <a:ext cx="44280" cy="44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440400" y="3954600"/>
              <a:ext cx="4464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593040" y="4060800"/>
              <a:ext cx="442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45320" y="4140360"/>
              <a:ext cx="46080" cy="45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880320" y="419580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027920" y="42530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180200" y="428148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350120" y="4303800"/>
              <a:ext cx="442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987880" y="3373560"/>
              <a:ext cx="46080" cy="44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654960" y="4005360"/>
              <a:ext cx="58680" cy="730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69200" y="4133880"/>
              <a:ext cx="56880" cy="74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275520" y="4091040"/>
              <a:ext cx="58680" cy="730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140520" y="4025880"/>
              <a:ext cx="58680" cy="730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931000" y="3951360"/>
              <a:ext cx="58680" cy="74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75640" y="3886200"/>
              <a:ext cx="58680" cy="730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061040" y="3710160"/>
              <a:ext cx="57240" cy="727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184880" y="3489480"/>
              <a:ext cx="59040" cy="74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350120" y="3236760"/>
              <a:ext cx="57240" cy="7308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7829640" y="3349800"/>
              <a:ext cx="96840" cy="101520"/>
            </a:xfrm>
            <a:prstGeom prst="triangle">
              <a:avLst>
                <a:gd name="adj" fmla="val 50000"/>
              </a:avLst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7834320" y="3693960"/>
              <a:ext cx="74520" cy="74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DADC1-EA61-42A7-B8EB-84BAA204F23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gister-transfer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71160" y="1476000"/>
            <a:ext cx="8381880" cy="46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s FSMD to custom single-purpose process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gister units to store varia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x data ty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al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thmetic 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ses,  MUX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SM control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s data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sub probl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tiate storage, functional, connection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pping FSMD operations to specific un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202EC-AAF8-4AED-9520-B910FCE398C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havioral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-level synthe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s single sequential program to single-purpose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not require the program to schedule st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ey sub probl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lo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ign sequential program’s operations to st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version template given in Ch.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ations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il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stant propagation, dead-code elimination, loop unro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dvanced techniques for allocation, binding, schedu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DD62F-3C16-49D8-B674-F35D5074689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stem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 1 or more processes into 1 or more processors (syste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complex embedded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processes may provide better performance/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be better described using concurrent sequential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ns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merge 2 exclusive processes into 1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break 1 large process into separate pro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dure inl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p unrol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sentially design of system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lect processors to implement 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so select memories and bu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C231A-F1D7-42DE-8D71-F04F586C569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stem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sks 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tion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pping 1 or more processes to 1 or more process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riables among memo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unications among bu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chedu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ultiple processes on a single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y acc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s commun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sks performed in variety of ord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eration among tasks com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40B23-CA25-4D17-84D0-2F40F80831E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stem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hesis driven by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et performance requirements at minimum 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ocate as much behavior as possible to general-purpose process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w-cost/flexible 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nimum # of SPPs used to meet perform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synthesis for GPP only (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mon for dec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lti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rallel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-time schedu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/software co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ultaneous consideration of GPPs/SPPs during synthe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de possible by maturation of behavioral synthesis in 1990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CB56E-0FBC-4DA1-A16A-FA3381862009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mporal vs. spatial thin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thought process changed by evolution of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fore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ers worked primarily in structural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ng simpler components to build more complex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ng logic gates to build 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ng registers, MUXs, ALUs to build data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and simulate” 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pture using CAD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ulate to verify correctness before fabric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tial th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uctural dia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 she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BB880-13B8-47DC-AD13-A950AE2B0B1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emporal vs. spatial thin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synth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-and-synthesize” 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ers work primarily in behavioral doma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 and synthesize” 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be FSMDs or sequential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nthesize into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mporal thin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s or sequential statements have relationship over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ong understanding of hardware structure still importa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havioral description must synthesize to efficient structural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EA3EF-63BC-4F60-9A63-FFAACCB845C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ta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ine system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vert functionality to physical implementation wh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tisfying constrained 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ing other design 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ing embedded systems is h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x functiona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llions of possible environment scenar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ting, tightly constrained 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ivity g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low as 10 lines of code or 100 transistors produced per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FD4F1-6053-445E-9F25-1DA2758141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erificati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suring design is correct and comp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lements specification accurate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bes appropriate output to all relevant in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al verif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mall designs or verifying certain key properties 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common verification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820F5-18BD-48B6-A05F-BE84B16CC8F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mal verif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alyze design to prove or disprove certain prope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ness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e ALU structural implementation equivalent to behavioral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rive Boolean equations for out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truth table for equ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are to truth table from original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ness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mally prove elevator door can never open while elevator is mo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rive conditions for door being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how conditions conflict with conditions for elevator mo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178ED1-B5EC-4C59-81C1-03B62A7CFA2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computer model of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sample in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eck for acceptable out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ness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 all possible input 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 outputs for correc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ness exa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evator door closed when mov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de all possible input seque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eck door always closed when elevator mov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4FB34E-5BBF-4386-BC6B-F3D2017DAD4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reases confi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90240" y="1466640"/>
            <a:ext cx="8381880" cy="460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ng all possible input sequences impossible for most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32-bit A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*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6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possible input combin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1 million combinations/s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½ million years to simu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 circuits even wor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only simulate tiny subset of possible inpu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n boundary condi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32-bit 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th operands all 0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th operands all 1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ases confidence of correctness/complet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pr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2B54E9-D8E7-4064-A29F-14F3956C910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vantages over physical implement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rol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op/start simulation at any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rol data val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puts or internal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ine system/environment values at any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stop simulation at any point an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serve internal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ify system/environment values before restar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step through small intervals (i.e., 500 nanosecond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8DD8E-B89C-4286-8404-46CD7BCA103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advantag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429760" cy="452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ion setup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ften has complex external enviro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uld spend more time modeling environment tha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dels likely in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environment behavior undocumented if complex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not model behavior correct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ion speed much slower than actual exec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quentializing paralle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C: gates operate in parall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ulation: analyze inputs, generate outputs for each gate 1 at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ral programs added between simulated system and real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simulated operati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10 to 100 simulator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100 to 10,000 operating system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= 1,000 to 100,000 hardware 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2244600" y="2498760"/>
            <a:ext cx="450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F0F3B-62BD-425A-A72B-EB655A73369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mulation sp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10680" cy="22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lative speeds of different types of simulation/emul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hour actual execution of S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.2 years instruction-set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= 10,000,000 hours gate-level simul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947960" y="3921120"/>
            <a:ext cx="5095800" cy="2011320"/>
            <a:chOff x="1947960" y="3921120"/>
            <a:chExt cx="5095800" cy="2011320"/>
          </a:xfrm>
        </p:grpSpPr>
        <p:sp>
          <p:nvSpPr>
            <p:cNvPr id="664" name=""/>
            <p:cNvSpPr/>
            <p:nvPr/>
          </p:nvSpPr>
          <p:spPr>
            <a:xfrm>
              <a:off x="1947960" y="5705280"/>
              <a:ext cx="80964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,000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766960" y="3921120"/>
              <a:ext cx="3416400" cy="19764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928960" y="5705280"/>
              <a:ext cx="308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173400" y="5479920"/>
              <a:ext cx="258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3379680" y="5245200"/>
              <a:ext cx="217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586320" y="5010120"/>
              <a:ext cx="175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792600" y="4762440"/>
              <a:ext cx="1346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002120" y="4516200"/>
              <a:ext cx="9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208400" y="4267080"/>
              <a:ext cx="51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624120" y="5705280"/>
              <a:ext cx="166716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gate-level HDL sim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3173400" y="5479920"/>
              <a:ext cx="2587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register-transfer-level  HDL sim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3643200" y="5245200"/>
              <a:ext cx="16668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ycle-accurate sim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662280" y="5010120"/>
              <a:ext cx="163836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nstruction-set sim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3691080" y="4762440"/>
              <a:ext cx="15523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roughput mode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3709800" y="4554360"/>
              <a:ext cx="1552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ardware em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3691080" y="4267080"/>
              <a:ext cx="15523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FPG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5037120" y="4267080"/>
              <a:ext cx="5176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d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27600" y="4033800"/>
              <a:ext cx="51732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hou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5243400" y="4516200"/>
              <a:ext cx="5176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 day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716280" y="4033800"/>
              <a:ext cx="51768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495600" y="4267080"/>
              <a:ext cx="51912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274920" y="4516200"/>
              <a:ext cx="517680" cy="22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068640" y="4762440"/>
              <a:ext cx="5176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62360" y="5010120"/>
              <a:ext cx="51732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550960" y="5245200"/>
              <a:ext cx="62244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0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239920" y="5479920"/>
              <a:ext cx="7239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,000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103640" y="4033800"/>
              <a:ext cx="7239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I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5450040" y="4762440"/>
              <a:ext cx="7236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4 month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5630760" y="5010120"/>
              <a:ext cx="7254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.2 yea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5826240" y="5245200"/>
              <a:ext cx="723600" cy="22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2 yea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6084720" y="5479920"/>
              <a:ext cx="723960" cy="22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1 life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6291360" y="5705280"/>
              <a:ext cx="75240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millenniu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F0CA6-93DF-4FDC-B641-03FBB127595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vercoming long simulation ti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duce amount of real time simul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sec execution instead of 1 h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01sec * 10,000,000 = 10,000 sec = 3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duced 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msec of cruise controller operation tells us litt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ster simula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hardware for simu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 precise/accurate simul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change speed for observability/controlla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DDD21-E772-48DE-8B3C-986230E305F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ducing precision/accurac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’t need gate-level analysis for all simul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, cruise contro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n’t care what happens at every input/output of each logic g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ulating RT components ~10x 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ycle-based simulation ~100x fas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urate at clock boundaries on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information on signal changes between bound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ster simulator often combined with reduction in real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 willing to simulate for 10 ho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instruction-set si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l execution time simul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hours * 1 / 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0.001 h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= 3.6 seco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0A873-7D2D-40E3-BDB6-4F1DA910CB9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rdware/software co-simul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ety of simulation approaches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om very detai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gate-leve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very abstr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instruction-level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 tools evolved separately for hardware/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all separate design 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ftware (G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ically with instruction-set simulator (IS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 (S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ically with models in HDL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ion of GPP/SPP on single IC creating need for merging simulation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0E82B-2B95-4DEE-96EF-1E7B90F823E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mproving produ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7363080" cy="453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technologies developed to improve productiv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focus on technologies advancing hardware/software unified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utom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gram replaces manual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designed compon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neral-purpose and single-purpose processors on single 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if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suring correctness/completeness of each design ste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dware/software co-sim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4370400" y="2644920"/>
            <a:ext cx="4440240" cy="1524960"/>
            <a:chOff x="4370400" y="2644920"/>
            <a:chExt cx="4440240" cy="1524960"/>
          </a:xfrm>
        </p:grpSpPr>
        <p:sp>
          <p:nvSpPr>
            <p:cNvPr id="95" name=""/>
            <p:cNvSpPr/>
            <p:nvPr/>
          </p:nvSpPr>
          <p:spPr>
            <a:xfrm>
              <a:off x="7280280" y="3535200"/>
              <a:ext cx="8762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eu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43440" y="3279600"/>
              <a:ext cx="180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05520" y="2644920"/>
              <a:ext cx="1119240" cy="63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pec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05520" y="3598920"/>
              <a:ext cx="1119240" cy="57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21280" y="2898720"/>
              <a:ext cx="1440" cy="89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959360" y="2898720"/>
              <a:ext cx="981000" cy="25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utom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5514120" y="3279600"/>
              <a:ext cx="214200" cy="763200"/>
            </a:xfrm>
            <a:custGeom>
              <a:avLst/>
              <a:gdLst/>
              <a:ahLst/>
              <a:rect l="l" t="t" r="r" b="b"/>
              <a:pathLst>
                <a:path w="432" h="864">
                  <a:moveTo>
                    <a:pt x="0" y="864"/>
                  </a:moveTo>
                  <a:cubicBezTo>
                    <a:pt x="216" y="720"/>
                    <a:pt x="432" y="576"/>
                    <a:pt x="432" y="432"/>
                  </a:cubicBezTo>
                  <a:cubicBezTo>
                    <a:pt x="432" y="288"/>
                    <a:pt x="216" y="144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370400" y="3535200"/>
              <a:ext cx="1089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Verific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19800" y="3535200"/>
              <a:ext cx="2124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5419800" y="3535200"/>
              <a:ext cx="21240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 flipV="1">
              <a:off x="7195680" y="3916080"/>
              <a:ext cx="747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62920" y="3408480"/>
              <a:ext cx="747720" cy="7614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11960" y="3662280"/>
              <a:ext cx="212760" cy="12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501040" y="3662280"/>
              <a:ext cx="212760" cy="12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211960" y="3916440"/>
              <a:ext cx="212760" cy="12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501040" y="3916440"/>
              <a:ext cx="212760" cy="12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189480" y="3916440"/>
              <a:ext cx="212760" cy="12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78560" y="3916440"/>
              <a:ext cx="212760" cy="12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767280" y="3916440"/>
              <a:ext cx="212760" cy="12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0E18F-268C-4166-958E-C0F30CEF0CE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egrating GPP/SPP simul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/naïve 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DL model of micro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s system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uch slower than 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ess observable/controllable than I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DL models of SP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grate all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-software co-si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S for micro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DL model for SP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ate communication between simula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mulators run separately except when transferring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as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ugh, frequent communication between ISS and HDL model slows it d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9ECE6-F130-49E5-A93F-8DA9C07DFEA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inimizing communic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mory shared between GPP and SP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ere should memory go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I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DL simulator must stall for memory ac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HD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S must stall when fetching each instru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del memory in both ISS and H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accesses by each model unrelated to other’s acc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need to communicate these between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-simulator ensures consistency of shared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uge speedups (100x or more) reported with this techn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845D-2180-48A9-B636-5E1D56FDEF9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ulat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 physical device system mapped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croprocessor e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croprocessor IC with some monitoring, control circui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PP e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PGAs (10s to 100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ually supports debugging ta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ated to help solve simulation disadvant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pped relatively quick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urs, day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be placed in real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environment setup ti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 incomplete environ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ypically faster than simu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dwar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C3FA-3A44-40D6-9747-50C8A1D718F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isadvant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ill not as fast as real implement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emulated cruise-control may not respond fast enough to keep control of c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pping still time consu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mapping complex SOC to 10 FPG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ust partitioning into 10 parts could take wee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be very expens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-of-the-line FPGA-based emulator: $100,000 to $1mi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ds to resource bottlene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maybe only afford 1 emul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oups wait days, weeks for other group to finish us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91449-FE56-4A4B-A6E7-FD91EA369E16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use: intellectual property c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off-the-shelf (COTS)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designed, prepackaged 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mplements GPP or SP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duces design/debug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ve always been avail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-on-a-chip (SO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components of system implemented on single ch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de possible by increasing IC capac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ing the way COTS components so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s intellectual property (IP) rather than actual 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havioral, structural, or physical descri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cessor-level components known as 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C built by integrating multiple descri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AD63-F32E-4D6B-997E-F51362F8977B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486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nthesizable behavioral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 written in HDL (VHDL/Verilo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al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ically provided in H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ysical descri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d in variety of physical layout file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4" name=""/>
          <p:cNvGrpSpPr/>
          <p:nvPr/>
        </p:nvGrpSpPr>
        <p:grpSpPr>
          <a:xfrm>
            <a:off x="4255920" y="2376360"/>
            <a:ext cx="4773960" cy="3129120"/>
            <a:chOff x="4255920" y="2376360"/>
            <a:chExt cx="4773960" cy="3129120"/>
          </a:xfrm>
        </p:grpSpPr>
        <p:sp>
          <p:nvSpPr>
            <p:cNvPr id="715" name=""/>
            <p:cNvSpPr/>
            <p:nvPr/>
          </p:nvSpPr>
          <p:spPr>
            <a:xfrm>
              <a:off x="5678640" y="2633760"/>
              <a:ext cx="1962000" cy="1447560"/>
            </a:xfrm>
            <a:custGeom>
              <a:avLst/>
              <a:gdLst/>
              <a:ahLst/>
              <a:rect l="l" t="t" r="r" b="b"/>
              <a:pathLst>
                <a:path w="3090" h="2280">
                  <a:moveTo>
                    <a:pt x="0" y="0"/>
                  </a:moveTo>
                  <a:lnTo>
                    <a:pt x="1530" y="2280"/>
                  </a:lnTo>
                  <a:lnTo>
                    <a:pt x="3090" y="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297560" y="2376360"/>
              <a:ext cx="112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ehavi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656400" y="4086360"/>
              <a:ext cx="1440" cy="1152360"/>
            </a:xfrm>
            <a:custGeom>
              <a:avLst/>
              <a:gdLst/>
              <a:ahLst/>
              <a:rect l="l" t="t" r="r" b="b"/>
              <a:pathLst>
                <a:path w="1" h="1815">
                  <a:moveTo>
                    <a:pt x="0" y="0"/>
                  </a:moveTo>
                  <a:lnTo>
                    <a:pt x="0" y="18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313320" y="5343480"/>
              <a:ext cx="6764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5218200" y="2381400"/>
              <a:ext cx="9334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uctu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4255920" y="2724120"/>
              <a:ext cx="14004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cessors, memo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437000" y="3035160"/>
              <a:ext cx="14191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s, FUs, MUX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4932360" y="3346560"/>
              <a:ext cx="10954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tes, flip-fl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5580000" y="3676680"/>
              <a:ext cx="7048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nsis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751880" y="2724120"/>
              <a:ext cx="12780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quential progra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32640" y="3035160"/>
              <a:ext cx="1133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 transf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265880" y="3346560"/>
              <a:ext cx="1352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gic equations/F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027920" y="3676680"/>
              <a:ext cx="11620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nsfer fun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818400" y="4152960"/>
              <a:ext cx="8856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ell Lay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818400" y="4448160"/>
              <a:ext cx="5810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du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818400" y="4724280"/>
              <a:ext cx="46656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18400" y="5010120"/>
              <a:ext cx="5047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oar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561000" y="4219560"/>
              <a:ext cx="1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561000" y="4511520"/>
              <a:ext cx="181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561000" y="4794120"/>
              <a:ext cx="181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561000" y="5076720"/>
              <a:ext cx="181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5675400" y="2771640"/>
              <a:ext cx="180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5904000" y="3092400"/>
              <a:ext cx="180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6113520" y="3413160"/>
              <a:ext cx="1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6351480" y="3753000"/>
              <a:ext cx="1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465680" y="2771640"/>
              <a:ext cx="181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246440" y="3092400"/>
              <a:ext cx="181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027560" y="3413160"/>
              <a:ext cx="1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6789240" y="3753000"/>
              <a:ext cx="1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44" name=""/>
          <p:cNvSpPr/>
          <p:nvPr/>
        </p:nvSpPr>
        <p:spPr>
          <a:xfrm>
            <a:off x="5686560" y="1781280"/>
            <a:ext cx="1895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Times New Roman"/>
              </a:rPr>
              <a:t>Gajski’s Y-ch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A3DC8-2F3A-4A09-BCAA-6307742797BF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vantages/disadvantages of hard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e of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veloper already designed and tested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use right a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expect to work correct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, power, performance predicted accur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 easily mapped (retargeted) to different pro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core available for vendor X’s 0.25 micrometer CMOS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’t use with vendor X’s 0.18 micrometer 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’t use with vendor 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5644A-1E11-442E-BCEB-9273F5E88C4C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vantages/disadvantages of soft/firm cor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 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synthesized to nearly any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optimize for particular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delete unused portion of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wer power, smaller desig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ires more design eff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not work in technology not tested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as optimized as hard core for same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m c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romise between hard and soft c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me retargetab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mited optim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tter predictability/ease of u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7C449-2DB5-4B22-BF08-FF38B798FF6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challenges to processor provid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80880" y="1456920"/>
            <a:ext cx="8382240" cy="46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es have dramatically changed busines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icing mod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ndors sold product as IC to design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igners must buy any additional cop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uld not (economically) copy from orig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ndors can sell as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igners can make as many copies as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ndor can use different pricing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yalty-based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milar to old IC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signer pays for each additional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xed pr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ne price for IP and as many copies as nee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ny other models u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D1C6A-B4A7-4D3A-A1D9-86D824418F0E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P prote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llegally copying IC very diffic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erse engineering required tremendous, deliberate eff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cidental” copying not poss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d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es sold in electronic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iberate/accidental unauthorized copying eas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feguards greatly increas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acts to ensure no copying/distribu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cryption techniqu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imit actual exposure to 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atermarking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termines if particular instance of processor was copi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ether copy authoriz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A75D7-07CA-42D8-A173-2FEB55D914C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utomation: 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13920" y="1523880"/>
            <a:ext cx="4591080" cy="451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rly design mostly 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ftware complexity increased with advent of general-purpose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erent techniques for software design and hardware design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used division of the two fie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 tools evolve for higher levels of abstra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t rate in each fiel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ware/software design fields rejoin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th can start from behavioral description in sequential program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0 years longer for hardware design to reach this step in the lad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y more design dimen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ptimization criti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019840" y="2162160"/>
            <a:ext cx="3930480" cy="3502080"/>
            <a:chOff x="5019840" y="2162160"/>
            <a:chExt cx="3930480" cy="3502080"/>
          </a:xfrm>
        </p:grpSpPr>
        <p:grpSp>
          <p:nvGrpSpPr>
            <p:cNvPr id="117" name=""/>
            <p:cNvGrpSpPr/>
            <p:nvPr/>
          </p:nvGrpSpPr>
          <p:grpSpPr>
            <a:xfrm>
              <a:off x="5019840" y="2692440"/>
              <a:ext cx="3930480" cy="2971800"/>
              <a:chOff x="5019840" y="2692440"/>
              <a:chExt cx="3930480" cy="2971800"/>
            </a:xfrm>
          </p:grpSpPr>
          <p:sp>
            <p:nvSpPr>
              <p:cNvPr id="118" name=""/>
              <p:cNvSpPr/>
              <p:nvPr/>
            </p:nvSpPr>
            <p:spPr>
              <a:xfrm>
                <a:off x="5019840" y="5252760"/>
                <a:ext cx="3930480" cy="41148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Implement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019840" y="2966760"/>
                <a:ext cx="182520" cy="237744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213680" y="2966760"/>
                <a:ext cx="182520" cy="237744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157000" y="3881160"/>
                <a:ext cx="1508040" cy="22860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ssembly instruction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157000" y="4978440"/>
                <a:ext cx="1508040" cy="22860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Machine instruction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350840" y="4978440"/>
                <a:ext cx="1508040" cy="22860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Logic gat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350840" y="4246920"/>
                <a:ext cx="1508040" cy="22860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Logic equations / FSM'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350840" y="3515400"/>
                <a:ext cx="1508040" cy="22860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Register transfe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721720" y="2966760"/>
                <a:ext cx="182520" cy="237744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619320" y="2966760"/>
                <a:ext cx="182520" cy="237744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019840" y="2692440"/>
                <a:ext cx="3930480" cy="32004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Sequential program code (e.g., C, VHDL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339520" y="3332520"/>
                <a:ext cx="1096920" cy="411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ompile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(1960s,1970s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339520" y="4475520"/>
                <a:ext cx="1096920" cy="31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ssemblers, linke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(1950s, 1960s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7487640" y="3103920"/>
                <a:ext cx="1096920" cy="36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Behavioral synthesi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(1990s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487640" y="3835440"/>
                <a:ext cx="1096920" cy="31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RT synthesi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(1980s, 1990s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487640" y="4566960"/>
                <a:ext cx="1096920" cy="36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Logic synthesi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(1970s, 1980s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293800" y="5344200"/>
                <a:ext cx="10969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Microprocessor plus program bi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487640" y="5344200"/>
                <a:ext cx="10969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VLSI, ASIC, or PLD implement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5772240" y="2162160"/>
              <a:ext cx="242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he codesign l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A1E96-7A05-4993-9F18-129DA02744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challenges to processor us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censing arrang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as easy as purchasing 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re contracts enforcing pricing model and IP prot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ossibly requiring legal assist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tra design eff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specially for soft 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ust still be synthesized and tes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nor differences in synthesis tools can cause probl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ification requirements more diffic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ve testing for synthesized soft cores and soft/firm cores mapped to particular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nsure correct synthe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ing and power vary between implemen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rly verification crit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s buried within 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nnot simply replace bad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30D7B-192B-45D9-9C0B-F9BFF69783B5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process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390240" y="1476360"/>
            <a:ext cx="5429160" cy="461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cribes order that design steps are proces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havior description 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havior to structure conversion 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pping structure to physical implementation ste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aterfal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ed to next step only after current step comple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ral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ed through 3 steps in order but with less det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peat 3 steps gradually increasing det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repeating until desired system obta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coming extremely popular (hardware &amp; software developmen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6235560" y="1682640"/>
            <a:ext cx="2041200" cy="2049480"/>
            <a:chOff x="6235560" y="1682640"/>
            <a:chExt cx="2041200" cy="2049480"/>
          </a:xfrm>
        </p:grpSpPr>
        <p:grpSp>
          <p:nvGrpSpPr>
            <p:cNvPr id="758" name=""/>
            <p:cNvGrpSpPr/>
            <p:nvPr/>
          </p:nvGrpSpPr>
          <p:grpSpPr>
            <a:xfrm>
              <a:off x="6235560" y="2176560"/>
              <a:ext cx="2041200" cy="1555560"/>
              <a:chOff x="6235560" y="2176560"/>
              <a:chExt cx="2041200" cy="1555560"/>
            </a:xfrm>
          </p:grpSpPr>
          <p:sp>
            <p:nvSpPr>
              <p:cNvPr id="759" name=""/>
              <p:cNvSpPr/>
              <p:nvPr/>
            </p:nvSpPr>
            <p:spPr>
              <a:xfrm>
                <a:off x="6235560" y="2176560"/>
                <a:ext cx="1422360" cy="25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ehavior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6544800" y="2737800"/>
                <a:ext cx="1422360" cy="24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tructur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6854400" y="3296520"/>
                <a:ext cx="1422360" cy="248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ysic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7408800" y="2301480"/>
                <a:ext cx="498240" cy="87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7718400" y="2860560"/>
                <a:ext cx="498240" cy="871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64" name=""/>
            <p:cNvSpPr/>
            <p:nvPr/>
          </p:nvSpPr>
          <p:spPr>
            <a:xfrm>
              <a:off x="6280200" y="1682640"/>
              <a:ext cx="189684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aterfall design 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5" name=""/>
          <p:cNvGrpSpPr/>
          <p:nvPr/>
        </p:nvGrpSpPr>
        <p:grpSpPr>
          <a:xfrm>
            <a:off x="5905440" y="3940200"/>
            <a:ext cx="2877480" cy="1978920"/>
            <a:chOff x="5905440" y="3940200"/>
            <a:chExt cx="2877480" cy="1978920"/>
          </a:xfrm>
        </p:grpSpPr>
        <p:grpSp>
          <p:nvGrpSpPr>
            <p:cNvPr id="766" name=""/>
            <p:cNvGrpSpPr/>
            <p:nvPr/>
          </p:nvGrpSpPr>
          <p:grpSpPr>
            <a:xfrm>
              <a:off x="5905440" y="4379760"/>
              <a:ext cx="2877480" cy="1539360"/>
              <a:chOff x="5905440" y="4379760"/>
              <a:chExt cx="2877480" cy="1539360"/>
            </a:xfrm>
          </p:grpSpPr>
          <p:sp>
            <p:nvSpPr>
              <p:cNvPr id="767" name=""/>
              <p:cNvSpPr/>
              <p:nvPr/>
            </p:nvSpPr>
            <p:spPr>
              <a:xfrm>
                <a:off x="7902000" y="4384080"/>
                <a:ext cx="880920" cy="257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ehavior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905440" y="4384080"/>
                <a:ext cx="880920" cy="257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tructur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6962400" y="5664240"/>
                <a:ext cx="880920" cy="254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ysic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768360" y="4379760"/>
                <a:ext cx="1015560" cy="1140120"/>
              </a:xfrm>
              <a:custGeom>
                <a:avLst/>
                <a:gdLst/>
                <a:ahLst/>
                <a:rect l="l" t="t" r="r" b="b"/>
                <a:pathLst>
                  <a:path w="1244" h="1285">
                    <a:moveTo>
                      <a:pt x="1244" y="176"/>
                    </a:moveTo>
                    <a:cubicBezTo>
                      <a:pt x="1201" y="154"/>
                      <a:pt x="1101" y="73"/>
                      <a:pt x="1001" y="45"/>
                    </a:cubicBezTo>
                    <a:cubicBezTo>
                      <a:pt x="901" y="17"/>
                      <a:pt x="751" y="0"/>
                      <a:pt x="645" y="8"/>
                    </a:cubicBezTo>
                    <a:cubicBezTo>
                      <a:pt x="539" y="16"/>
                      <a:pt x="446" y="50"/>
                      <a:pt x="362" y="96"/>
                    </a:cubicBezTo>
                    <a:cubicBezTo>
                      <a:pt x="278" y="142"/>
                      <a:pt x="200" y="211"/>
                      <a:pt x="144" y="283"/>
                    </a:cubicBezTo>
                    <a:cubicBezTo>
                      <a:pt x="88" y="355"/>
                      <a:pt x="46" y="460"/>
                      <a:pt x="24" y="531"/>
                    </a:cubicBezTo>
                    <a:cubicBezTo>
                      <a:pt x="2" y="602"/>
                      <a:pt x="0" y="639"/>
                      <a:pt x="9" y="711"/>
                    </a:cubicBezTo>
                    <a:cubicBezTo>
                      <a:pt x="18" y="783"/>
                      <a:pt x="23" y="880"/>
                      <a:pt x="77" y="966"/>
                    </a:cubicBezTo>
                    <a:cubicBezTo>
                      <a:pt x="131" y="1052"/>
                      <a:pt x="216" y="1178"/>
                      <a:pt x="332" y="1228"/>
                    </a:cubicBezTo>
                    <a:cubicBezTo>
                      <a:pt x="448" y="1278"/>
                      <a:pt x="655" y="1285"/>
                      <a:pt x="774" y="1266"/>
                    </a:cubicBezTo>
                    <a:cubicBezTo>
                      <a:pt x="893" y="1247"/>
                      <a:pt x="971" y="1187"/>
                      <a:pt x="1044" y="1116"/>
                    </a:cubicBezTo>
                    <a:cubicBezTo>
                      <a:pt x="1117" y="1045"/>
                      <a:pt x="1185" y="938"/>
                      <a:pt x="1209" y="838"/>
                    </a:cubicBezTo>
                    <a:cubicBezTo>
                      <a:pt x="1233" y="738"/>
                      <a:pt x="1218" y="610"/>
                      <a:pt x="1187" y="516"/>
                    </a:cubicBezTo>
                    <a:cubicBezTo>
                      <a:pt x="1156" y="422"/>
                      <a:pt x="1094" y="336"/>
                      <a:pt x="1022" y="276"/>
                    </a:cubicBezTo>
                    <a:cubicBezTo>
                      <a:pt x="950" y="216"/>
                      <a:pt x="836" y="173"/>
                      <a:pt x="752" y="156"/>
                    </a:cubicBezTo>
                    <a:cubicBezTo>
                      <a:pt x="668" y="139"/>
                      <a:pt x="590" y="150"/>
                      <a:pt x="519" y="171"/>
                    </a:cubicBezTo>
                    <a:cubicBezTo>
                      <a:pt x="448" y="192"/>
                      <a:pt x="382" y="232"/>
                      <a:pt x="324" y="283"/>
                    </a:cubicBezTo>
                    <a:cubicBezTo>
                      <a:pt x="266" y="334"/>
                      <a:pt x="204" y="406"/>
                      <a:pt x="174" y="478"/>
                    </a:cubicBezTo>
                    <a:cubicBezTo>
                      <a:pt x="144" y="550"/>
                      <a:pt x="133" y="636"/>
                      <a:pt x="144" y="718"/>
                    </a:cubicBezTo>
                    <a:cubicBezTo>
                      <a:pt x="155" y="800"/>
                      <a:pt x="186" y="904"/>
                      <a:pt x="242" y="973"/>
                    </a:cubicBezTo>
                    <a:cubicBezTo>
                      <a:pt x="298" y="1042"/>
                      <a:pt x="391" y="1106"/>
                      <a:pt x="482" y="1131"/>
                    </a:cubicBezTo>
                    <a:cubicBezTo>
                      <a:pt x="573" y="1156"/>
                      <a:pt x="704" y="1149"/>
                      <a:pt x="789" y="1123"/>
                    </a:cubicBezTo>
                    <a:cubicBezTo>
                      <a:pt x="874" y="1097"/>
                      <a:pt x="945" y="1033"/>
                      <a:pt x="992" y="973"/>
                    </a:cubicBezTo>
                    <a:cubicBezTo>
                      <a:pt x="1039" y="913"/>
                      <a:pt x="1070" y="840"/>
                      <a:pt x="1074" y="763"/>
                    </a:cubicBezTo>
                    <a:cubicBezTo>
                      <a:pt x="1078" y="686"/>
                      <a:pt x="1055" y="578"/>
                      <a:pt x="1014" y="508"/>
                    </a:cubicBezTo>
                    <a:cubicBezTo>
                      <a:pt x="973" y="438"/>
                      <a:pt x="893" y="377"/>
                      <a:pt x="827" y="343"/>
                    </a:cubicBezTo>
                    <a:cubicBezTo>
                      <a:pt x="761" y="309"/>
                      <a:pt x="683" y="299"/>
                      <a:pt x="617" y="306"/>
                    </a:cubicBezTo>
                    <a:cubicBezTo>
                      <a:pt x="551" y="313"/>
                      <a:pt x="478" y="348"/>
                      <a:pt x="429" y="388"/>
                    </a:cubicBezTo>
                    <a:cubicBezTo>
                      <a:pt x="380" y="428"/>
                      <a:pt x="341" y="482"/>
                      <a:pt x="324" y="546"/>
                    </a:cubicBezTo>
                    <a:cubicBezTo>
                      <a:pt x="307" y="610"/>
                      <a:pt x="308" y="707"/>
                      <a:pt x="324" y="771"/>
                    </a:cubicBezTo>
                    <a:cubicBezTo>
                      <a:pt x="340" y="835"/>
                      <a:pt x="373" y="891"/>
                      <a:pt x="422" y="928"/>
                    </a:cubicBezTo>
                    <a:cubicBezTo>
                      <a:pt x="471" y="965"/>
                      <a:pt x="550" y="997"/>
                      <a:pt x="617" y="996"/>
                    </a:cubicBezTo>
                    <a:cubicBezTo>
                      <a:pt x="684" y="995"/>
                      <a:pt x="775" y="968"/>
                      <a:pt x="827" y="921"/>
                    </a:cubicBezTo>
                    <a:cubicBezTo>
                      <a:pt x="879" y="874"/>
                      <a:pt x="927" y="777"/>
                      <a:pt x="932" y="711"/>
                    </a:cubicBezTo>
                    <a:cubicBezTo>
                      <a:pt x="937" y="645"/>
                      <a:pt x="896" y="568"/>
                      <a:pt x="857" y="523"/>
                    </a:cubicBezTo>
                    <a:cubicBezTo>
                      <a:pt x="818" y="478"/>
                      <a:pt x="745" y="451"/>
                      <a:pt x="699" y="441"/>
                    </a:cubicBezTo>
                    <a:cubicBezTo>
                      <a:pt x="653" y="431"/>
                      <a:pt x="611" y="449"/>
                      <a:pt x="579" y="463"/>
                    </a:cubicBezTo>
                    <a:cubicBezTo>
                      <a:pt x="547" y="477"/>
                      <a:pt x="523" y="498"/>
                      <a:pt x="504" y="523"/>
                    </a:cubicBezTo>
                    <a:cubicBezTo>
                      <a:pt x="485" y="548"/>
                      <a:pt x="473" y="582"/>
                      <a:pt x="467" y="613"/>
                    </a:cubicBezTo>
                    <a:cubicBezTo>
                      <a:pt x="461" y="644"/>
                      <a:pt x="461" y="681"/>
                      <a:pt x="467" y="711"/>
                    </a:cubicBezTo>
                    <a:cubicBezTo>
                      <a:pt x="473" y="741"/>
                      <a:pt x="483" y="772"/>
                      <a:pt x="504" y="793"/>
                    </a:cubicBezTo>
                    <a:cubicBezTo>
                      <a:pt x="525" y="814"/>
                      <a:pt x="579" y="831"/>
                      <a:pt x="594" y="83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314840" y="5023080"/>
                <a:ext cx="0" cy="64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727320" y="4641120"/>
                <a:ext cx="587160" cy="38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7314480" y="4641120"/>
                <a:ext cx="587160" cy="38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4" name=""/>
            <p:cNvSpPr/>
            <p:nvPr/>
          </p:nvSpPr>
          <p:spPr>
            <a:xfrm>
              <a:off x="6470640" y="3940200"/>
              <a:ext cx="17161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piral design 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0943B-A460-4501-ABF2-818ADD5D3335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aterfall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380520" y="1467000"/>
            <a:ext cx="6410520" cy="46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very realist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gs often found in later steps that must be fixed in earlier st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forgot to handle certain input cond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totype often needed to know complete desired behavi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, customer adds features after product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ystem specifications commonly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to remain competitive by reducing power, siz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ertain features dropp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expected iterations back through 3 steps cause missed deadl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st 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never make it to 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7" name=""/>
          <p:cNvGrpSpPr/>
          <p:nvPr/>
        </p:nvGrpSpPr>
        <p:grpSpPr>
          <a:xfrm>
            <a:off x="6873840" y="3063960"/>
            <a:ext cx="2041200" cy="2048040"/>
            <a:chOff x="6873840" y="3063960"/>
            <a:chExt cx="2041200" cy="2048040"/>
          </a:xfrm>
        </p:grpSpPr>
        <p:grpSp>
          <p:nvGrpSpPr>
            <p:cNvPr id="778" name=""/>
            <p:cNvGrpSpPr/>
            <p:nvPr/>
          </p:nvGrpSpPr>
          <p:grpSpPr>
            <a:xfrm>
              <a:off x="6873840" y="3557520"/>
              <a:ext cx="2041200" cy="1554480"/>
              <a:chOff x="6873840" y="3557520"/>
              <a:chExt cx="2041200" cy="1554480"/>
            </a:xfrm>
          </p:grpSpPr>
          <p:sp>
            <p:nvSpPr>
              <p:cNvPr id="779" name=""/>
              <p:cNvSpPr/>
              <p:nvPr/>
            </p:nvSpPr>
            <p:spPr>
              <a:xfrm>
                <a:off x="6873840" y="3557520"/>
                <a:ext cx="1422360" cy="2502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ehavior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7183080" y="4118400"/>
                <a:ext cx="1422360" cy="24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tructur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7492680" y="4677120"/>
                <a:ext cx="1422360" cy="247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ysic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047080" y="3682440"/>
                <a:ext cx="498240" cy="87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8356680" y="4241160"/>
                <a:ext cx="498240" cy="870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84" name=""/>
            <p:cNvSpPr/>
            <p:nvPr/>
          </p:nvSpPr>
          <p:spPr>
            <a:xfrm>
              <a:off x="6918480" y="3063960"/>
              <a:ext cx="1896840" cy="23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Waterfall design 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CE2A7-2A61-4BD2-B303-966EF51045BD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iral meth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56581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iteration of 3 steps incomple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ch faster, thoug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d up with proto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Use to test basic fun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 idea of functions to add/rem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iteration experience helps in following iterations of 3 ste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st come up with ways to obtain structure and physical implementations quick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FPGAs for prototyp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licon for final produ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y have to use more to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ra effort/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uld require more time than waterfall metho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correct implementation first time with waterfa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"/>
          <p:cNvGrpSpPr/>
          <p:nvPr/>
        </p:nvGrpSpPr>
        <p:grpSpPr>
          <a:xfrm>
            <a:off x="6067440" y="2949480"/>
            <a:ext cx="2877480" cy="1978920"/>
            <a:chOff x="6067440" y="2949480"/>
            <a:chExt cx="2877480" cy="1978920"/>
          </a:xfrm>
        </p:grpSpPr>
        <p:grpSp>
          <p:nvGrpSpPr>
            <p:cNvPr id="788" name=""/>
            <p:cNvGrpSpPr/>
            <p:nvPr/>
          </p:nvGrpSpPr>
          <p:grpSpPr>
            <a:xfrm>
              <a:off x="6067440" y="3389040"/>
              <a:ext cx="2877480" cy="1539360"/>
              <a:chOff x="6067440" y="3389040"/>
              <a:chExt cx="2877480" cy="1539360"/>
            </a:xfrm>
          </p:grpSpPr>
          <p:sp>
            <p:nvSpPr>
              <p:cNvPr id="789" name=""/>
              <p:cNvSpPr/>
              <p:nvPr/>
            </p:nvSpPr>
            <p:spPr>
              <a:xfrm>
                <a:off x="8064000" y="3393360"/>
                <a:ext cx="880920" cy="257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Behavior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067440" y="3393360"/>
                <a:ext cx="880920" cy="2570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tructur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124400" y="4673520"/>
                <a:ext cx="880920" cy="254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Physical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6930360" y="3389040"/>
                <a:ext cx="1015560" cy="1140120"/>
              </a:xfrm>
              <a:custGeom>
                <a:avLst/>
                <a:gdLst/>
                <a:ahLst/>
                <a:rect l="l" t="t" r="r" b="b"/>
                <a:pathLst>
                  <a:path w="1244" h="1285">
                    <a:moveTo>
                      <a:pt x="1244" y="176"/>
                    </a:moveTo>
                    <a:cubicBezTo>
                      <a:pt x="1201" y="154"/>
                      <a:pt x="1101" y="73"/>
                      <a:pt x="1001" y="45"/>
                    </a:cubicBezTo>
                    <a:cubicBezTo>
                      <a:pt x="901" y="17"/>
                      <a:pt x="751" y="0"/>
                      <a:pt x="645" y="8"/>
                    </a:cubicBezTo>
                    <a:cubicBezTo>
                      <a:pt x="539" y="16"/>
                      <a:pt x="446" y="50"/>
                      <a:pt x="362" y="96"/>
                    </a:cubicBezTo>
                    <a:cubicBezTo>
                      <a:pt x="278" y="142"/>
                      <a:pt x="200" y="211"/>
                      <a:pt x="144" y="283"/>
                    </a:cubicBezTo>
                    <a:cubicBezTo>
                      <a:pt x="88" y="355"/>
                      <a:pt x="46" y="460"/>
                      <a:pt x="24" y="531"/>
                    </a:cubicBezTo>
                    <a:cubicBezTo>
                      <a:pt x="2" y="602"/>
                      <a:pt x="0" y="639"/>
                      <a:pt x="9" y="711"/>
                    </a:cubicBezTo>
                    <a:cubicBezTo>
                      <a:pt x="18" y="783"/>
                      <a:pt x="23" y="880"/>
                      <a:pt x="77" y="966"/>
                    </a:cubicBezTo>
                    <a:cubicBezTo>
                      <a:pt x="131" y="1052"/>
                      <a:pt x="216" y="1178"/>
                      <a:pt x="332" y="1228"/>
                    </a:cubicBezTo>
                    <a:cubicBezTo>
                      <a:pt x="448" y="1278"/>
                      <a:pt x="655" y="1285"/>
                      <a:pt x="774" y="1266"/>
                    </a:cubicBezTo>
                    <a:cubicBezTo>
                      <a:pt x="893" y="1247"/>
                      <a:pt x="971" y="1187"/>
                      <a:pt x="1044" y="1116"/>
                    </a:cubicBezTo>
                    <a:cubicBezTo>
                      <a:pt x="1117" y="1045"/>
                      <a:pt x="1185" y="938"/>
                      <a:pt x="1209" y="838"/>
                    </a:cubicBezTo>
                    <a:cubicBezTo>
                      <a:pt x="1233" y="738"/>
                      <a:pt x="1218" y="610"/>
                      <a:pt x="1187" y="516"/>
                    </a:cubicBezTo>
                    <a:cubicBezTo>
                      <a:pt x="1156" y="422"/>
                      <a:pt x="1094" y="336"/>
                      <a:pt x="1022" y="276"/>
                    </a:cubicBezTo>
                    <a:cubicBezTo>
                      <a:pt x="950" y="216"/>
                      <a:pt x="836" y="173"/>
                      <a:pt x="752" y="156"/>
                    </a:cubicBezTo>
                    <a:cubicBezTo>
                      <a:pt x="668" y="139"/>
                      <a:pt x="590" y="150"/>
                      <a:pt x="519" y="171"/>
                    </a:cubicBezTo>
                    <a:cubicBezTo>
                      <a:pt x="448" y="192"/>
                      <a:pt x="382" y="232"/>
                      <a:pt x="324" y="283"/>
                    </a:cubicBezTo>
                    <a:cubicBezTo>
                      <a:pt x="266" y="334"/>
                      <a:pt x="204" y="406"/>
                      <a:pt x="174" y="478"/>
                    </a:cubicBezTo>
                    <a:cubicBezTo>
                      <a:pt x="144" y="550"/>
                      <a:pt x="133" y="636"/>
                      <a:pt x="144" y="718"/>
                    </a:cubicBezTo>
                    <a:cubicBezTo>
                      <a:pt x="155" y="800"/>
                      <a:pt x="186" y="904"/>
                      <a:pt x="242" y="973"/>
                    </a:cubicBezTo>
                    <a:cubicBezTo>
                      <a:pt x="298" y="1042"/>
                      <a:pt x="391" y="1106"/>
                      <a:pt x="482" y="1131"/>
                    </a:cubicBezTo>
                    <a:cubicBezTo>
                      <a:pt x="573" y="1156"/>
                      <a:pt x="704" y="1149"/>
                      <a:pt x="789" y="1123"/>
                    </a:cubicBezTo>
                    <a:cubicBezTo>
                      <a:pt x="874" y="1097"/>
                      <a:pt x="945" y="1033"/>
                      <a:pt x="992" y="973"/>
                    </a:cubicBezTo>
                    <a:cubicBezTo>
                      <a:pt x="1039" y="913"/>
                      <a:pt x="1070" y="840"/>
                      <a:pt x="1074" y="763"/>
                    </a:cubicBezTo>
                    <a:cubicBezTo>
                      <a:pt x="1078" y="686"/>
                      <a:pt x="1055" y="578"/>
                      <a:pt x="1014" y="508"/>
                    </a:cubicBezTo>
                    <a:cubicBezTo>
                      <a:pt x="973" y="438"/>
                      <a:pt x="893" y="377"/>
                      <a:pt x="827" y="343"/>
                    </a:cubicBezTo>
                    <a:cubicBezTo>
                      <a:pt x="761" y="309"/>
                      <a:pt x="683" y="299"/>
                      <a:pt x="617" y="306"/>
                    </a:cubicBezTo>
                    <a:cubicBezTo>
                      <a:pt x="551" y="313"/>
                      <a:pt x="478" y="348"/>
                      <a:pt x="429" y="388"/>
                    </a:cubicBezTo>
                    <a:cubicBezTo>
                      <a:pt x="380" y="428"/>
                      <a:pt x="341" y="482"/>
                      <a:pt x="324" y="546"/>
                    </a:cubicBezTo>
                    <a:cubicBezTo>
                      <a:pt x="307" y="610"/>
                      <a:pt x="308" y="707"/>
                      <a:pt x="324" y="771"/>
                    </a:cubicBezTo>
                    <a:cubicBezTo>
                      <a:pt x="340" y="835"/>
                      <a:pt x="373" y="891"/>
                      <a:pt x="422" y="928"/>
                    </a:cubicBezTo>
                    <a:cubicBezTo>
                      <a:pt x="471" y="965"/>
                      <a:pt x="550" y="997"/>
                      <a:pt x="617" y="996"/>
                    </a:cubicBezTo>
                    <a:cubicBezTo>
                      <a:pt x="684" y="995"/>
                      <a:pt x="775" y="968"/>
                      <a:pt x="827" y="921"/>
                    </a:cubicBezTo>
                    <a:cubicBezTo>
                      <a:pt x="879" y="874"/>
                      <a:pt x="927" y="777"/>
                      <a:pt x="932" y="711"/>
                    </a:cubicBezTo>
                    <a:cubicBezTo>
                      <a:pt x="937" y="645"/>
                      <a:pt x="896" y="568"/>
                      <a:pt x="857" y="523"/>
                    </a:cubicBezTo>
                    <a:cubicBezTo>
                      <a:pt x="818" y="478"/>
                      <a:pt x="745" y="451"/>
                      <a:pt x="699" y="441"/>
                    </a:cubicBezTo>
                    <a:cubicBezTo>
                      <a:pt x="653" y="431"/>
                      <a:pt x="611" y="449"/>
                      <a:pt x="579" y="463"/>
                    </a:cubicBezTo>
                    <a:cubicBezTo>
                      <a:pt x="547" y="477"/>
                      <a:pt x="523" y="498"/>
                      <a:pt x="504" y="523"/>
                    </a:cubicBezTo>
                    <a:cubicBezTo>
                      <a:pt x="485" y="548"/>
                      <a:pt x="473" y="582"/>
                      <a:pt x="467" y="613"/>
                    </a:cubicBezTo>
                    <a:cubicBezTo>
                      <a:pt x="461" y="644"/>
                      <a:pt x="461" y="681"/>
                      <a:pt x="467" y="711"/>
                    </a:cubicBezTo>
                    <a:cubicBezTo>
                      <a:pt x="473" y="741"/>
                      <a:pt x="483" y="772"/>
                      <a:pt x="504" y="793"/>
                    </a:cubicBezTo>
                    <a:cubicBezTo>
                      <a:pt x="525" y="814"/>
                      <a:pt x="579" y="831"/>
                      <a:pt x="594" y="838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476840" y="4032360"/>
                <a:ext cx="0" cy="64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89320" y="3650400"/>
                <a:ext cx="587160" cy="38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7476480" y="3650400"/>
                <a:ext cx="587160" cy="38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>
              <a:off x="6632640" y="2949480"/>
              <a:ext cx="17161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Spiral design mode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90106-5BD7-468A-BA1A-97215477F117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-purpose processor design model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vious slides focused on S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apply equally to GP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terfal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ructure developed by particular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quired by embedded system design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er develops software (behavi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er maps application to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il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ual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iral-lik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ginning to be applied by embedded system design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9DDEB1-79E9-457B-8DFB-DA312F420960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piral-like mod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275760" y="1467000"/>
            <a:ext cx="5781960" cy="46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er develops or acquires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s application(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ps application to archite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alyzes design met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w makes cho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ify map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ify application(s) to better suit 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ify architecture to better suit application(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 as difficult n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turation of synthesis/compil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Ps can be tun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inue refining to lower abstraction level until particular implementation chos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"/>
          <p:cNvGrpSpPr/>
          <p:nvPr/>
        </p:nvGrpSpPr>
        <p:grpSpPr>
          <a:xfrm>
            <a:off x="6102360" y="2847960"/>
            <a:ext cx="2744280" cy="2066760"/>
            <a:chOff x="6102360" y="2847960"/>
            <a:chExt cx="2744280" cy="2066760"/>
          </a:xfrm>
        </p:grpSpPr>
        <p:grpSp>
          <p:nvGrpSpPr>
            <p:cNvPr id="802" name=""/>
            <p:cNvGrpSpPr/>
            <p:nvPr/>
          </p:nvGrpSpPr>
          <p:grpSpPr>
            <a:xfrm>
              <a:off x="6102360" y="3305160"/>
              <a:ext cx="2744280" cy="1609560"/>
              <a:chOff x="6102360" y="3305160"/>
              <a:chExt cx="2744280" cy="1609560"/>
            </a:xfrm>
          </p:grpSpPr>
          <p:sp>
            <p:nvSpPr>
              <p:cNvPr id="803" name=""/>
              <p:cNvSpPr/>
              <p:nvPr/>
            </p:nvSpPr>
            <p:spPr>
              <a:xfrm>
                <a:off x="6102360" y="3305160"/>
                <a:ext cx="1219680" cy="257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rchitectur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626960" y="3305160"/>
                <a:ext cx="1219680" cy="257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pplication(s)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6915600" y="3949200"/>
                <a:ext cx="1219680" cy="257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Mapping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6915600" y="4593240"/>
                <a:ext cx="1219680" cy="2574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Analysi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6712200" y="3562560"/>
                <a:ext cx="406440" cy="38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H="1">
                <a:off x="7932240" y="3562560"/>
                <a:ext cx="203040" cy="38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7525440" y="4206600"/>
                <a:ext cx="0" cy="38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559560" y="3562560"/>
                <a:ext cx="355680" cy="1352160"/>
              </a:xfrm>
              <a:custGeom>
                <a:avLst/>
                <a:gdLst/>
                <a:ahLst/>
                <a:rect l="l" t="t" r="r" b="b"/>
                <a:pathLst>
                  <a:path w="504" h="1512">
                    <a:moveTo>
                      <a:pt x="504" y="1296"/>
                    </a:moveTo>
                    <a:cubicBezTo>
                      <a:pt x="324" y="1404"/>
                      <a:pt x="144" y="1512"/>
                      <a:pt x="72" y="1296"/>
                    </a:cubicBezTo>
                    <a:cubicBezTo>
                      <a:pt x="0" y="1080"/>
                      <a:pt x="36" y="540"/>
                      <a:pt x="7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>
                <a:off x="8135280" y="3562560"/>
                <a:ext cx="355680" cy="1352160"/>
              </a:xfrm>
              <a:custGeom>
                <a:avLst/>
                <a:gdLst/>
                <a:ahLst/>
                <a:rect l="l" t="t" r="r" b="b"/>
                <a:pathLst>
                  <a:path w="504" h="1512">
                    <a:moveTo>
                      <a:pt x="504" y="1296"/>
                    </a:moveTo>
                    <a:cubicBezTo>
                      <a:pt x="324" y="1404"/>
                      <a:pt x="144" y="1512"/>
                      <a:pt x="72" y="1296"/>
                    </a:cubicBezTo>
                    <a:cubicBezTo>
                      <a:pt x="0" y="1080"/>
                      <a:pt x="36" y="540"/>
                      <a:pt x="72" y="0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8135280" y="3992040"/>
                <a:ext cx="237240" cy="686520"/>
              </a:xfrm>
              <a:custGeom>
                <a:avLst/>
                <a:gdLst/>
                <a:ahLst/>
                <a:rect l="l" t="t" r="r" b="b"/>
                <a:pathLst>
                  <a:path w="336" h="768">
                    <a:moveTo>
                      <a:pt x="0" y="672"/>
                    </a:moveTo>
                    <a:cubicBezTo>
                      <a:pt x="120" y="720"/>
                      <a:pt x="240" y="768"/>
                      <a:pt x="288" y="672"/>
                    </a:cubicBezTo>
                    <a:cubicBezTo>
                      <a:pt x="336" y="576"/>
                      <a:pt x="336" y="192"/>
                      <a:pt x="288" y="96"/>
                    </a:cubicBezTo>
                    <a:cubicBezTo>
                      <a:pt x="240" y="0"/>
                      <a:pt x="120" y="48"/>
                      <a:pt x="0" y="96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  <a:tailEnd len="med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3" name=""/>
            <p:cNvSpPr/>
            <p:nvPr/>
          </p:nvSpPr>
          <p:spPr>
            <a:xfrm>
              <a:off x="6819840" y="2847960"/>
              <a:ext cx="12956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Y-cha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81C2D-45C0-425B-94F8-DF9B34F22260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technology seeks to reduce gap between IC capacity growth and designer productivity grow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hesis has changed digital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creased IC capacity means sw/hw components coexist on one c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paradigm shift to core-based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ulation essential but 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iral design process is popu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3863A-0D52-43CC-BB70-8342C1FBE07A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ook 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mbedded systems are common and grow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uch systems are very different from in the past due to increased IC capacities and automation tool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dicator: National Science Foundation just created a separate program on Embedded Systems (2002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w view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mbedded computing systems are built from a collection of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rocessor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, some general-purpose (sw), some single-purpose (h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w/sw differ in design metrics, not in some fundamental 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emory and interfaces necessary to complete syst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ys of embedded system design as assembly-level programming of one microprocessor are fading a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eed to focus on higher-level issu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te machines, concurrent processes, control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C technologies, design techn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’s a growing, challenging and exciting world of embedded systems design out there. There’s also much more to learn. Enjo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254B1-9FB5-4EFC-9938-6FDE37A3CF09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ardware/software parallel evolu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466640"/>
            <a:ext cx="4562640" cy="46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oftware design 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chine instruc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embl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rt assembly programs into machine instr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iler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quential programs into assemb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dware design evolu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rconnected logic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gic synthes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rts logic equations or FSMs into ga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gister-transfer (RT) synthesi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rts FSMDs into FSMs, logic equations, predesigned RT components (registers, adders, etc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havioral synthe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verts sequential programs into FSM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019840" y="2162160"/>
            <a:ext cx="3930480" cy="3502080"/>
            <a:chOff x="5019840" y="2162160"/>
            <a:chExt cx="3930480" cy="3502080"/>
          </a:xfrm>
        </p:grpSpPr>
        <p:grpSp>
          <p:nvGrpSpPr>
            <p:cNvPr id="140" name=""/>
            <p:cNvGrpSpPr/>
            <p:nvPr/>
          </p:nvGrpSpPr>
          <p:grpSpPr>
            <a:xfrm>
              <a:off x="5019840" y="2692440"/>
              <a:ext cx="3930480" cy="2971800"/>
              <a:chOff x="5019840" y="2692440"/>
              <a:chExt cx="3930480" cy="2971800"/>
            </a:xfrm>
          </p:grpSpPr>
          <p:sp>
            <p:nvSpPr>
              <p:cNvPr id="141" name=""/>
              <p:cNvSpPr/>
              <p:nvPr/>
            </p:nvSpPr>
            <p:spPr>
              <a:xfrm>
                <a:off x="5019840" y="5252760"/>
                <a:ext cx="3930480" cy="41148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Implement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019840" y="2966760"/>
                <a:ext cx="182520" cy="237744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7213680" y="2966760"/>
                <a:ext cx="182520" cy="237744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157000" y="3881160"/>
                <a:ext cx="1508040" cy="22860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ssembly instruction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157000" y="4978440"/>
                <a:ext cx="1508040" cy="22860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Machine instruction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350840" y="4978440"/>
                <a:ext cx="1508040" cy="22860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Logic gate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350840" y="4246920"/>
                <a:ext cx="1508040" cy="22860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Logic equations / FSM'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7350840" y="3515400"/>
                <a:ext cx="1508040" cy="22860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Register transfe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8721720" y="2966760"/>
                <a:ext cx="182520" cy="237744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619320" y="2966760"/>
                <a:ext cx="182520" cy="237744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19840" y="2692440"/>
                <a:ext cx="3930480" cy="320040"/>
              </a:xfrm>
              <a:prstGeom prst="cube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Sequential program code (e.g., C, VHDL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339520" y="3332520"/>
                <a:ext cx="1096920" cy="411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ompile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(1960s,1970s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339520" y="4475520"/>
                <a:ext cx="1096920" cy="31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Assemblers, linker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(1950s, 1960s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487640" y="3103920"/>
                <a:ext cx="1096920" cy="36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Behavioral synthesi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(1990s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87640" y="3835440"/>
                <a:ext cx="1096920" cy="319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RT synthesi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(1980s, 1990s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487640" y="4566960"/>
                <a:ext cx="1096920" cy="36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Logic synthesi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(1970s, 1980s)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293800" y="5344200"/>
                <a:ext cx="10969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Microprocessor plus program bits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487640" y="5344200"/>
                <a:ext cx="109692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VLSI, ASIC, or PLD implementat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9" name=""/>
            <p:cNvSpPr/>
            <p:nvPr/>
          </p:nvSpPr>
          <p:spPr>
            <a:xfrm>
              <a:off x="5772240" y="2162160"/>
              <a:ext cx="2428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The codesign lad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3BE86-F2AC-4DA3-A887-0D0F7E0F14E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creasing abstraction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94840" y="1523880"/>
            <a:ext cx="8582040" cy="26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abstraction level focus of hardware/software design ev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cription smaller/easier to cap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, Line of sequential program code can translate to 1000 g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ny more possible implementations avail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) Like flashlight, the higher above the ground, the more ground illumina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quential program designs may differ in performance/transistor count by orders of magnitu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gic-level designs may differ by only power of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b) Design process proceeds to lower abstraction level, narrowing in on sing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3929040" y="4128840"/>
            <a:ext cx="4316400" cy="1892160"/>
            <a:chOff x="3929040" y="4128840"/>
            <a:chExt cx="4316400" cy="1892160"/>
          </a:xfrm>
        </p:grpSpPr>
        <p:sp>
          <p:nvSpPr>
            <p:cNvPr id="163" name=""/>
            <p:cNvSpPr/>
            <p:nvPr/>
          </p:nvSpPr>
          <p:spPr>
            <a:xfrm>
              <a:off x="5256000" y="5838840"/>
              <a:ext cx="41148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327800" y="5829120"/>
              <a:ext cx="411120" cy="15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(b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678200" y="4703760"/>
              <a:ext cx="1555920" cy="914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952880" y="4521240"/>
              <a:ext cx="10065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d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52880" y="5618160"/>
              <a:ext cx="10065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865840" y="4713120"/>
              <a:ext cx="118908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ack-of-the-envelop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71960" y="4895640"/>
              <a:ext cx="118764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equential progra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83120" y="5068800"/>
              <a:ext cx="118908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egister-transf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56120" y="5260680"/>
              <a:ext cx="118908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og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319720" y="488628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154480" y="5068800"/>
              <a:ext cx="622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022720" y="5251320"/>
              <a:ext cx="868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60720" y="543384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52880" y="5433840"/>
              <a:ext cx="182520" cy="18396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319720" y="5068800"/>
              <a:ext cx="639720" cy="54900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6200000">
              <a:off x="3286800" y="4770720"/>
              <a:ext cx="1773000" cy="48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rot="-5400000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deling cost increas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pportunities decrea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495680" y="4521240"/>
              <a:ext cx="0" cy="118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691320" y="4703760"/>
              <a:ext cx="1554120" cy="9140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964200" y="4521240"/>
              <a:ext cx="10065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d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964200" y="5618160"/>
              <a:ext cx="1006560" cy="18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31040" y="488628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65800" y="5068800"/>
              <a:ext cx="62244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34040" y="5251320"/>
              <a:ext cx="868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73840" y="5433840"/>
              <a:ext cx="11890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64200" y="5068800"/>
              <a:ext cx="641520" cy="54900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48520" y="5251320"/>
              <a:ext cx="365040" cy="36648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148520" y="5433840"/>
              <a:ext cx="274680" cy="183960"/>
            </a:xfrm>
            <a:prstGeom prst="triangle">
              <a:avLst>
                <a:gd name="adj" fmla="val 50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31040" y="5068800"/>
              <a:ext cx="182520" cy="18216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cubicBezTo>
                    <a:pt x="144" y="48"/>
                    <a:pt x="288" y="96"/>
                    <a:pt x="288" y="144"/>
                  </a:cubicBezTo>
                  <a:cubicBezTo>
                    <a:pt x="288" y="192"/>
                    <a:pt x="144" y="240"/>
                    <a:pt x="0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331040" y="5251320"/>
              <a:ext cx="182520" cy="182160"/>
            </a:xfrm>
            <a:custGeom>
              <a:avLst/>
              <a:gdLst/>
              <a:ahLst/>
              <a:rect l="l" t="t" r="r" b="b"/>
              <a:pathLst>
                <a:path w="288" h="288">
                  <a:moveTo>
                    <a:pt x="0" y="0"/>
                  </a:moveTo>
                  <a:cubicBezTo>
                    <a:pt x="144" y="48"/>
                    <a:pt x="288" y="96"/>
                    <a:pt x="288" y="144"/>
                  </a:cubicBezTo>
                  <a:cubicBezTo>
                    <a:pt x="288" y="192"/>
                    <a:pt x="144" y="240"/>
                    <a:pt x="0" y="2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1E6897-0064-46C8-93A6-3382F7DB71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ynthe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47728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ically converting system’s behavioral description to a structural implemen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lex whole formed by par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uctural implementation must optimize design metr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re expensive, complex than compil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 = $100s to $10,000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r controls 100s of synthesis op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ation critic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therwise could use 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ations different for each u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un time = hours, d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CD57E-5124-4AC0-B04D-8B9670622E5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ajski’s Y-cha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23840" y="1523520"/>
            <a:ext cx="44575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ch axis represents type of 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ehavio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fines outputs as function of inpu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gorithms but no implement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uctu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mplements behavior by connecting components with known behavi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hysi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ives size/locations of components and wires on chip/boa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ynthesis converts behavior at given level to structure at same level or l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S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gates, flip-flops (same 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SM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ransistors (lower 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SM X registers, FUs (higher 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SM X processors, memories (higher 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6" name=""/>
          <p:cNvGrpSpPr/>
          <p:nvPr/>
        </p:nvGrpSpPr>
        <p:grpSpPr>
          <a:xfrm>
            <a:off x="4255920" y="2376360"/>
            <a:ext cx="4773960" cy="3129120"/>
            <a:chOff x="4255920" y="2376360"/>
            <a:chExt cx="4773960" cy="3129120"/>
          </a:xfrm>
        </p:grpSpPr>
        <p:sp>
          <p:nvSpPr>
            <p:cNvPr id="197" name=""/>
            <p:cNvSpPr/>
            <p:nvPr/>
          </p:nvSpPr>
          <p:spPr>
            <a:xfrm>
              <a:off x="5678640" y="2633760"/>
              <a:ext cx="1962000" cy="1447560"/>
            </a:xfrm>
            <a:custGeom>
              <a:avLst/>
              <a:gdLst/>
              <a:ahLst/>
              <a:rect l="l" t="t" r="r" b="b"/>
              <a:pathLst>
                <a:path w="3090" h="2280">
                  <a:moveTo>
                    <a:pt x="0" y="0"/>
                  </a:moveTo>
                  <a:lnTo>
                    <a:pt x="1530" y="2280"/>
                  </a:lnTo>
                  <a:lnTo>
                    <a:pt x="3090" y="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triangle" w="med"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297560" y="2376360"/>
              <a:ext cx="112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Behavi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656400" y="4086360"/>
              <a:ext cx="1440" cy="1152360"/>
            </a:xfrm>
            <a:custGeom>
              <a:avLst/>
              <a:gdLst/>
              <a:ahLst/>
              <a:rect l="l" t="t" r="r" b="b"/>
              <a:pathLst>
                <a:path w="1" h="1815">
                  <a:moveTo>
                    <a:pt x="0" y="0"/>
                  </a:moveTo>
                  <a:lnTo>
                    <a:pt x="0" y="181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13320" y="5343480"/>
              <a:ext cx="67644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Physic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218200" y="2381400"/>
              <a:ext cx="933480" cy="18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uctu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255920" y="2724120"/>
              <a:ext cx="140040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rocessors, memor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437000" y="3035160"/>
              <a:ext cx="14191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s, FUs, MUX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932360" y="3346560"/>
              <a:ext cx="10954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ates, flip-flo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580000" y="3676680"/>
              <a:ext cx="704880" cy="21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nsisto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51880" y="2724120"/>
              <a:ext cx="127800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quential progra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532640" y="3035160"/>
              <a:ext cx="113364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 transf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265880" y="3346560"/>
              <a:ext cx="135252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gic equations/F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27920" y="3676680"/>
              <a:ext cx="1162080" cy="20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ransfer fun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818400" y="4152960"/>
              <a:ext cx="885600" cy="1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ell Lay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818400" y="4448160"/>
              <a:ext cx="581040" cy="18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odul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18400" y="4724280"/>
              <a:ext cx="466560" cy="19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hip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818400" y="5010120"/>
              <a:ext cx="50472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oard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61000" y="4219560"/>
              <a:ext cx="1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61000" y="4511520"/>
              <a:ext cx="181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561000" y="4794120"/>
              <a:ext cx="181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61000" y="5076720"/>
              <a:ext cx="181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75400" y="2771640"/>
              <a:ext cx="180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04000" y="3092400"/>
              <a:ext cx="180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113520" y="3413160"/>
              <a:ext cx="1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51480" y="3753000"/>
              <a:ext cx="1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465680" y="2771640"/>
              <a:ext cx="181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7246440" y="3092400"/>
              <a:ext cx="181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7027560" y="3413160"/>
              <a:ext cx="1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89240" y="3753000"/>
              <a:ext cx="181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997AD-4C46-4564-A58A-94FD79B5107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14:38:47Z</dcterms:created>
  <dc:creator>vahid</dc:creator>
  <dc:description/>
  <dc:language>en-US</dc:language>
  <cp:lastModifiedBy>F Vahid</cp:lastModifiedBy>
  <cp:lastPrinted>2001-11-01T23:39:18Z</cp:lastPrinted>
  <dcterms:modified xsi:type="dcterms:W3CDTF">2002-03-13T05:32:25Z</dcterms:modified>
  <cp:revision>670</cp:revision>
  <dc:subject/>
  <dc:title>A “short list” of embedded systems</dc:title>
</cp:coreProperties>
</file>