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C630A-CE60-4028-8E2D-EB160957A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A657C-246A-4547-AC04-B565F99241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32F1D-A3B4-44E2-9B6E-271FAE182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C01FD5-477A-4128-A05F-BBC0D40839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0B0F0-3227-41A7-910D-F89109BAC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F6889-F544-463C-8AC6-952A9D4EC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1D560-5A9A-4F0B-911E-F8DE85EF6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50234E-D4E3-46D9-8B66-8A9025D8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6C558-F208-468C-A7A7-1754A037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7040B0-C902-4E59-8193-B82547EB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D5A3B-C2C2-4036-BD85-0F13E49D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AB50B-8D03-44D1-875A-7C1DF24DCF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124317-D072-4E65-AD61-D8ED82A3A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84C73E-1A57-4E08-9EAF-89BEF33A8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849336-A899-44A3-9D7B-E190766A9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2A38FB-74E0-4AC0-AC5A-163BABB70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EABECF-91D3-4DE3-91A5-90417C4AA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4C09D-3677-42E5-A9AC-B334A7C980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069AC-2C76-4DAC-AB63-231C7A95FA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EF18FF-DCAC-45A5-A7CC-43EC41AED9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18776-91D3-489A-8D25-7B69FB45E6D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4BAAE-B340-44BC-9582-99E2378B00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F98BC-757A-4033-8B9B-75E47C155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1F94A-8896-406A-B31B-E8B942F57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47A23-F6A7-4015-8249-D1076E70B9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C6D64-8834-4F6C-8313-A72BFF882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09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2: Custom single-purpose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54F437-48E6-4662-AB91-501F622534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tial logic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254160" y="1635120"/>
            <a:ext cx="2369880" cy="128736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Problem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want to construct a clock divider.  Slow down your pre-existing clock so that you output a 1 for every four clock cy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263520" y="3341520"/>
            <a:ext cx="2889360" cy="2078280"/>
            <a:chOff x="263520" y="3341520"/>
            <a:chExt cx="2889360" cy="2078280"/>
          </a:xfrm>
        </p:grpSpPr>
        <p:grpSp>
          <p:nvGrpSpPr>
            <p:cNvPr id="1004" name=""/>
            <p:cNvGrpSpPr/>
            <p:nvPr/>
          </p:nvGrpSpPr>
          <p:grpSpPr>
            <a:xfrm>
              <a:off x="407880" y="3746520"/>
              <a:ext cx="2654280" cy="1492560"/>
              <a:chOff x="407880" y="3746520"/>
              <a:chExt cx="2654280" cy="1492560"/>
            </a:xfrm>
          </p:grpSpPr>
          <p:sp>
            <p:nvSpPr>
              <p:cNvPr id="1005" name=""/>
              <p:cNvSpPr/>
              <p:nvPr/>
            </p:nvSpPr>
            <p:spPr>
              <a:xfrm>
                <a:off x="911160" y="3929040"/>
                <a:ext cx="320760" cy="320760"/>
              </a:xfrm>
              <a:prstGeom prst="ellipse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911160" y="4732200"/>
                <a:ext cx="320760" cy="320760"/>
              </a:xfrm>
              <a:prstGeom prst="ellipse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2168640" y="4732200"/>
                <a:ext cx="320400" cy="320760"/>
              </a:xfrm>
              <a:prstGeom prst="ellipse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2168640" y="3929040"/>
                <a:ext cx="320400" cy="320760"/>
              </a:xfrm>
              <a:prstGeom prst="ellipse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1073160" y="4265640"/>
                <a:ext cx="0" cy="45576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2320920" y="4265640"/>
                <a:ext cx="0" cy="45576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H="1">
                <a:off x="1249200" y="4071960"/>
                <a:ext cx="91944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1249200" y="4898880"/>
                <a:ext cx="91944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642960" y="3765600"/>
                <a:ext cx="277920" cy="255600"/>
              </a:xfrm>
              <a:custGeom>
                <a:avLst/>
                <a:gdLst/>
                <a:ahLst/>
                <a:rect l="l" t="t" r="r" b="b"/>
                <a:pathLst>
                  <a:path w="175" h="161">
                    <a:moveTo>
                      <a:pt x="143" y="161"/>
                    </a:moveTo>
                    <a:cubicBezTo>
                      <a:pt x="123" y="156"/>
                      <a:pt x="42" y="153"/>
                      <a:pt x="21" y="135"/>
                    </a:cubicBezTo>
                    <a:cubicBezTo>
                      <a:pt x="0" y="117"/>
                      <a:pt x="5" y="76"/>
                      <a:pt x="16" y="55"/>
                    </a:cubicBezTo>
                    <a:cubicBezTo>
                      <a:pt x="27" y="34"/>
                      <a:pt x="59" y="0"/>
                      <a:pt x="85" y="7"/>
                    </a:cubicBezTo>
                    <a:cubicBezTo>
                      <a:pt x="111" y="14"/>
                      <a:pt x="156" y="79"/>
                      <a:pt x="175" y="98"/>
                    </a:cubicBez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692280" y="4965840"/>
                <a:ext cx="261720" cy="249120"/>
              </a:xfrm>
              <a:custGeom>
                <a:avLst/>
                <a:gdLst/>
                <a:ahLst/>
                <a:rect l="l" t="t" r="r" b="b"/>
                <a:pathLst>
                  <a:path w="165" h="157">
                    <a:moveTo>
                      <a:pt x="165" y="69"/>
                    </a:moveTo>
                    <a:cubicBezTo>
                      <a:pt x="153" y="82"/>
                      <a:pt x="116" y="141"/>
                      <a:pt x="91" y="149"/>
                    </a:cubicBezTo>
                    <a:cubicBezTo>
                      <a:pt x="66" y="157"/>
                      <a:pt x="29" y="137"/>
                      <a:pt x="17" y="117"/>
                    </a:cubicBezTo>
                    <a:cubicBezTo>
                      <a:pt x="5" y="97"/>
                      <a:pt x="0" y="46"/>
                      <a:pt x="17" y="27"/>
                    </a:cubicBezTo>
                    <a:cubicBezTo>
                      <a:pt x="34" y="8"/>
                      <a:pt x="96" y="6"/>
                      <a:pt x="117" y="0"/>
                    </a:cubicBez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2489040" y="3772080"/>
                <a:ext cx="258840" cy="263520"/>
              </a:xfrm>
              <a:custGeom>
                <a:avLst/>
                <a:gdLst/>
                <a:ahLst/>
                <a:rect l="l" t="t" r="r" b="b"/>
                <a:pathLst>
                  <a:path w="163" h="166">
                    <a:moveTo>
                      <a:pt x="0" y="113"/>
                    </a:moveTo>
                    <a:cubicBezTo>
                      <a:pt x="10" y="97"/>
                      <a:pt x="33" y="28"/>
                      <a:pt x="58" y="14"/>
                    </a:cubicBezTo>
                    <a:cubicBezTo>
                      <a:pt x="83" y="0"/>
                      <a:pt x="134" y="11"/>
                      <a:pt x="148" y="28"/>
                    </a:cubicBezTo>
                    <a:cubicBezTo>
                      <a:pt x="162" y="45"/>
                      <a:pt x="163" y="95"/>
                      <a:pt x="143" y="118"/>
                    </a:cubicBezTo>
                    <a:cubicBezTo>
                      <a:pt x="123" y="141"/>
                      <a:pt x="50" y="156"/>
                      <a:pt x="26" y="166"/>
                    </a:cubicBez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2496960" y="4938840"/>
                <a:ext cx="250920" cy="241200"/>
              </a:xfrm>
              <a:custGeom>
                <a:avLst/>
                <a:gdLst/>
                <a:ahLst/>
                <a:rect l="l" t="t" r="r" b="b"/>
                <a:pathLst>
                  <a:path w="158" h="152">
                    <a:moveTo>
                      <a:pt x="21" y="12"/>
                    </a:moveTo>
                    <a:cubicBezTo>
                      <a:pt x="36" y="12"/>
                      <a:pt x="89" y="0"/>
                      <a:pt x="111" y="12"/>
                    </a:cubicBezTo>
                    <a:cubicBezTo>
                      <a:pt x="133" y="24"/>
                      <a:pt x="158" y="63"/>
                      <a:pt x="154" y="86"/>
                    </a:cubicBezTo>
                    <a:cubicBezTo>
                      <a:pt x="150" y="109"/>
                      <a:pt x="111" y="152"/>
                      <a:pt x="85" y="150"/>
                    </a:cubicBezTo>
                    <a:cubicBezTo>
                      <a:pt x="59" y="148"/>
                      <a:pt x="18" y="91"/>
                      <a:pt x="0" y="75"/>
                    </a:cubicBez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2103480" y="504180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2103480" y="374652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1085760" y="375444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1085760" y="505620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1095480" y="4330800"/>
                <a:ext cx="28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2343240" y="434016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1593720" y="488484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1558800" y="404172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2774880" y="498168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2776680" y="3760920"/>
                <a:ext cx="28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433440" y="499284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407880" y="3762360"/>
                <a:ext cx="285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=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263520" y="3341520"/>
              <a:ext cx="2889360" cy="20782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 State Diag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3379680" y="1635120"/>
            <a:ext cx="2703600" cy="2801880"/>
            <a:chOff x="3379680" y="1635120"/>
            <a:chExt cx="2703600" cy="2801880"/>
          </a:xfrm>
        </p:grpSpPr>
        <p:sp>
          <p:nvSpPr>
            <p:cNvPr id="1031" name=""/>
            <p:cNvSpPr/>
            <p:nvPr/>
          </p:nvSpPr>
          <p:spPr>
            <a:xfrm>
              <a:off x="3379680" y="1635120"/>
              <a:ext cx="2703600" cy="28018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) Implementation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882960" y="2198520"/>
              <a:ext cx="1535040" cy="8301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binational 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3882960" y="3462120"/>
              <a:ext cx="1550880" cy="3747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te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 flipV="1">
              <a:off x="4313160" y="3023640"/>
              <a:ext cx="0" cy="430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5037120" y="3025440"/>
              <a:ext cx="0" cy="43020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3504960" y="2392200"/>
              <a:ext cx="37008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418000" y="2315880"/>
              <a:ext cx="471600" cy="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313160" y="2550960"/>
              <a:ext cx="1535040" cy="1754280"/>
            </a:xfrm>
            <a:custGeom>
              <a:avLst/>
              <a:gdLst/>
              <a:ahLst/>
              <a:rect l="l" t="t" r="r" b="b"/>
              <a:pathLst>
                <a:path w="967" h="1105">
                  <a:moveTo>
                    <a:pt x="701" y="0"/>
                  </a:moveTo>
                  <a:lnTo>
                    <a:pt x="967" y="0"/>
                  </a:lnTo>
                  <a:lnTo>
                    <a:pt x="967" y="1105"/>
                  </a:lnTo>
                  <a:lnTo>
                    <a:pt x="0" y="1105"/>
                  </a:lnTo>
                  <a:lnTo>
                    <a:pt x="0" y="808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046480" y="2814480"/>
              <a:ext cx="623880" cy="1246320"/>
            </a:xfrm>
            <a:custGeom>
              <a:avLst/>
              <a:gdLst/>
              <a:ahLst/>
              <a:rect l="l" t="t" r="r" b="b"/>
              <a:pathLst>
                <a:path w="393" h="785">
                  <a:moveTo>
                    <a:pt x="240" y="0"/>
                  </a:moveTo>
                  <a:lnTo>
                    <a:pt x="393" y="0"/>
                  </a:lnTo>
                  <a:lnTo>
                    <a:pt x="393" y="785"/>
                  </a:lnTo>
                  <a:lnTo>
                    <a:pt x="0" y="785"/>
                  </a:lnTo>
                  <a:lnTo>
                    <a:pt x="0" y="64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3512880" y="2173320"/>
              <a:ext cx="1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489640" y="2090520"/>
              <a:ext cx="1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508720" y="2617560"/>
              <a:ext cx="15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817880" y="3849480"/>
              <a:ext cx="1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506920" y="2361960"/>
              <a:ext cx="1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092480" y="3854160"/>
              <a:ext cx="150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060800" y="3031920"/>
              <a:ext cx="2347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4786200" y="3049560"/>
              <a:ext cx="227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8" name=""/>
          <p:cNvGrpSpPr/>
          <p:nvPr/>
        </p:nvGrpSpPr>
        <p:grpSpPr>
          <a:xfrm>
            <a:off x="6288120" y="1635120"/>
            <a:ext cx="2494080" cy="2792520"/>
            <a:chOff x="6288120" y="1635120"/>
            <a:chExt cx="2494080" cy="2792520"/>
          </a:xfrm>
        </p:grpSpPr>
        <p:sp>
          <p:nvSpPr>
            <p:cNvPr id="1049" name=""/>
            <p:cNvSpPr/>
            <p:nvPr/>
          </p:nvSpPr>
          <p:spPr>
            <a:xfrm>
              <a:off x="6288120" y="1635120"/>
              <a:ext cx="2494080" cy="2792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) State Table (Moore-type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50" name=""/>
            <p:cNvGrpSpPr/>
            <p:nvPr/>
          </p:nvGrpSpPr>
          <p:grpSpPr>
            <a:xfrm>
              <a:off x="6424560" y="2173320"/>
              <a:ext cx="2212560" cy="1795320"/>
              <a:chOff x="6424560" y="2173320"/>
              <a:chExt cx="2212560" cy="1795320"/>
            </a:xfrm>
          </p:grpSpPr>
          <p:sp>
            <p:nvSpPr>
              <p:cNvPr id="1051" name=""/>
              <p:cNvSpPr/>
              <p:nvPr/>
            </p:nvSpPr>
            <p:spPr>
              <a:xfrm>
                <a:off x="6457680" y="342720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6811560" y="34272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7167240" y="342720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513200" y="34272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7892640" y="34272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6457680" y="360360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6811560" y="36036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7167240" y="360360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7513200" y="36036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892640" y="360360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6457680" y="37796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811560" y="3779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7167240" y="37796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7513200" y="3779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7892640" y="3779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6459120" y="273852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813360" y="27385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7169040" y="27385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7515000" y="27385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7894440" y="27385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457680" y="29066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6811560" y="2906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7167240" y="29066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7513200" y="2906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7892640" y="29066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6457680" y="3082680"/>
                <a:ext cx="36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6811560" y="308268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7167240" y="3082680"/>
                <a:ext cx="36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7513200" y="308268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7892640" y="3082680"/>
                <a:ext cx="365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6457680" y="32432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811560" y="32432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7167240" y="32432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7513200" y="32432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7892640" y="324324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7892640" y="256212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457680" y="25621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6811560" y="256212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7167240" y="25621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7513200" y="256212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424560" y="2173320"/>
                <a:ext cx="2199960" cy="1795320"/>
              </a:xfrm>
              <a:prstGeom prst="rect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6491160" y="2178000"/>
                <a:ext cx="9518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30680" y="235728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6794280" y="235728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7156080" y="235728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7759440" y="2173320"/>
                <a:ext cx="597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7519680" y="235728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881840" y="235728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7515000" y="2174760"/>
                <a:ext cx="2880" cy="1793880"/>
              </a:xfrm>
              <a:custGeom>
                <a:avLst/>
                <a:gdLst/>
                <a:ahLst/>
                <a:rect l="l" t="t" r="r" b="b"/>
                <a:pathLst>
                  <a:path w="2" h="1130">
                    <a:moveTo>
                      <a:pt x="2" y="0"/>
                    </a:moveTo>
                    <a:lnTo>
                      <a:pt x="0" y="113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6426000" y="2560680"/>
                <a:ext cx="2184120" cy="2880"/>
              </a:xfrm>
              <a:custGeom>
                <a:avLst/>
                <a:gdLst/>
                <a:ahLst/>
                <a:rect l="l" t="t" r="r" b="b"/>
                <a:pathLst>
                  <a:path w="1376" h="2">
                    <a:moveTo>
                      <a:pt x="1376" y="0"/>
                    </a:moveTo>
                    <a:lnTo>
                      <a:pt x="0" y="2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6786360" y="2562120"/>
                <a:ext cx="4320" cy="1406520"/>
              </a:xfrm>
              <a:custGeom>
                <a:avLst/>
                <a:gdLst/>
                <a:ahLst/>
                <a:rect l="l" t="t" r="r" b="b"/>
                <a:pathLst>
                  <a:path w="3" h="886">
                    <a:moveTo>
                      <a:pt x="3" y="886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161120" y="2570040"/>
                <a:ext cx="1080" cy="1398600"/>
              </a:xfrm>
              <a:custGeom>
                <a:avLst/>
                <a:gdLst/>
                <a:ahLst/>
                <a:rect l="l" t="t" r="r" b="b"/>
                <a:pathLst>
                  <a:path w="1" h="881">
                    <a:moveTo>
                      <a:pt x="0" y="881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7884720" y="2563560"/>
                <a:ext cx="1440" cy="1405080"/>
              </a:xfrm>
              <a:custGeom>
                <a:avLst/>
                <a:gdLst/>
                <a:ahLst/>
                <a:rect l="l" t="t" r="r" b="b"/>
                <a:pathLst>
                  <a:path w="1" h="885">
                    <a:moveTo>
                      <a:pt x="1" y="885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6426000" y="2746440"/>
                <a:ext cx="1821960" cy="2880"/>
              </a:xfrm>
              <a:custGeom>
                <a:avLst/>
                <a:gdLst/>
                <a:ahLst/>
                <a:rect l="l" t="t" r="r" b="b"/>
                <a:pathLst>
                  <a:path w="1148" h="2">
                    <a:moveTo>
                      <a:pt x="1148" y="0"/>
                    </a:moveTo>
                    <a:lnTo>
                      <a:pt x="0" y="2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426000" y="2914560"/>
                <a:ext cx="2201400" cy="1440"/>
              </a:xfrm>
              <a:custGeom>
                <a:avLst/>
                <a:gdLst/>
                <a:ahLst/>
                <a:rect l="l" t="t" r="r" b="b"/>
                <a:pathLst>
                  <a:path w="1387" h="1">
                    <a:moveTo>
                      <a:pt x="1387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6426000" y="3082680"/>
                <a:ext cx="1829880" cy="1800"/>
              </a:xfrm>
              <a:custGeom>
                <a:avLst/>
                <a:gdLst/>
                <a:ahLst/>
                <a:rect l="l" t="t" r="r" b="b"/>
                <a:pathLst>
                  <a:path w="1153" h="1">
                    <a:moveTo>
                      <a:pt x="1153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426000" y="3251160"/>
                <a:ext cx="2201400" cy="1440"/>
              </a:xfrm>
              <a:custGeom>
                <a:avLst/>
                <a:gdLst/>
                <a:ahLst/>
                <a:rect l="l" t="t" r="r" b="b"/>
                <a:pathLst>
                  <a:path w="1387" h="1">
                    <a:moveTo>
                      <a:pt x="1387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6426000" y="3411360"/>
                <a:ext cx="1829880" cy="1800"/>
              </a:xfrm>
              <a:custGeom>
                <a:avLst/>
                <a:gdLst/>
                <a:ahLst/>
                <a:rect l="l" t="t" r="r" b="b"/>
                <a:pathLst>
                  <a:path w="1153" h="1">
                    <a:moveTo>
                      <a:pt x="1153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6426000" y="3603600"/>
                <a:ext cx="2201400" cy="1440"/>
              </a:xfrm>
              <a:custGeom>
                <a:avLst/>
                <a:gdLst/>
                <a:ahLst/>
                <a:rect l="l" t="t" r="r" b="b"/>
                <a:pathLst>
                  <a:path w="1387" h="1">
                    <a:moveTo>
                      <a:pt x="1387" y="1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6426000" y="3779640"/>
                <a:ext cx="1829880" cy="3240"/>
              </a:xfrm>
              <a:custGeom>
                <a:avLst/>
                <a:gdLst/>
                <a:ahLst/>
                <a:rect l="l" t="t" r="r" b="b"/>
                <a:pathLst>
                  <a:path w="1153" h="2">
                    <a:moveTo>
                      <a:pt x="1153" y="2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8256240" y="2560680"/>
                <a:ext cx="1440" cy="1398600"/>
              </a:xfrm>
              <a:custGeom>
                <a:avLst/>
                <a:gdLst/>
                <a:ahLst/>
                <a:rect l="l" t="t" r="r" b="b"/>
                <a:pathLst>
                  <a:path w="1" h="881">
                    <a:moveTo>
                      <a:pt x="0" y="0"/>
                    </a:moveTo>
                    <a:lnTo>
                      <a:pt x="0" y="881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8267400" y="368604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8269200" y="2652480"/>
                <a:ext cx="36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8267400" y="298116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8267400" y="3316320"/>
                <a:ext cx="36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8272080" y="2374920"/>
                <a:ext cx="3650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398760" y="4705200"/>
            <a:ext cx="53863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his implementation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quential logic design quickly reduces to combinational logic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908520" y="3629160"/>
            <a:ext cx="75960" cy="75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flipH="1">
            <a:off x="3889080" y="3705120"/>
            <a:ext cx="82440" cy="69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158F1-56B4-447B-92B1-E22C4D32959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tial logic design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484200" y="1600200"/>
            <a:ext cx="3749400" cy="4338720"/>
            <a:chOff x="484200" y="1600200"/>
            <a:chExt cx="3749400" cy="4338720"/>
          </a:xfrm>
        </p:grpSpPr>
        <p:grpSp>
          <p:nvGrpSpPr>
            <p:cNvPr id="1122" name=""/>
            <p:cNvGrpSpPr/>
            <p:nvPr/>
          </p:nvGrpSpPr>
          <p:grpSpPr>
            <a:xfrm>
              <a:off x="566640" y="1868400"/>
              <a:ext cx="3568680" cy="1101600"/>
              <a:chOff x="566640" y="1868400"/>
              <a:chExt cx="3568680" cy="1101600"/>
            </a:xfrm>
          </p:grpSpPr>
          <p:sp>
            <p:nvSpPr>
              <p:cNvPr id="1123" name=""/>
              <p:cNvSpPr/>
              <p:nvPr/>
            </p:nvSpPr>
            <p:spPr>
              <a:xfrm>
                <a:off x="873000" y="2208240"/>
                <a:ext cx="365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749160" y="2300040"/>
                <a:ext cx="92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749160" y="2665440"/>
                <a:ext cx="9216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650880" y="1868400"/>
                <a:ext cx="603000" cy="216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1Q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66640" y="1890720"/>
                <a:ext cx="182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2512800" y="2425680"/>
                <a:ext cx="1622520" cy="54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1 = Q1’Q0a + Q1a’ + Q1Q0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1238040" y="2208240"/>
                <a:ext cx="3668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1604880" y="2208240"/>
                <a:ext cx="365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1969920" y="2574720"/>
                <a:ext cx="3650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1969920" y="2208240"/>
                <a:ext cx="365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1604880" y="2574720"/>
                <a:ext cx="3650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1238040" y="2574720"/>
                <a:ext cx="3668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873000" y="2574720"/>
                <a:ext cx="3650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963360" y="2025720"/>
                <a:ext cx="27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695240" y="2025720"/>
                <a:ext cx="182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1966680" y="2025720"/>
                <a:ext cx="2732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606240" y="2081160"/>
                <a:ext cx="17460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rot="5400000">
                <a:off x="1884600" y="2115000"/>
                <a:ext cx="210960" cy="59076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1330200" y="2674800"/>
                <a:ext cx="182520" cy="24624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1330200" y="2025720"/>
                <a:ext cx="182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761760" y="2087640"/>
                <a:ext cx="101880" cy="118800"/>
              </a:xfrm>
              <a:custGeom>
                <a:avLst/>
                <a:gdLst/>
                <a:ahLst/>
                <a:rect l="l" t="t" r="r" b="b"/>
                <a:pathLst>
                  <a:path w="64" h="75">
                    <a:moveTo>
                      <a:pt x="64" y="75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2062080" y="2300040"/>
                <a:ext cx="233280" cy="590760"/>
              </a:xfrm>
              <a:custGeom>
                <a:avLst/>
                <a:gdLst>
                  <a:gd name="textAreaLeft" fmla="*/ 11160 w 233280"/>
                  <a:gd name="textAreaRight" fmla="*/ 222120 w 233280"/>
                  <a:gd name="textAreaTop" fmla="*/ 11160 h 590760"/>
                  <a:gd name="textAreaBottom" fmla="*/ 579600 h 590760"/>
                </a:gdLst>
                <a:ahLst/>
                <a:rect l="textAreaLeft" t="textAreaTop" r="textAreaRight" b="textAreaBottom"/>
                <a:pathLst>
                  <a:path w="21600" h="54649">
                    <a:moveTo>
                      <a:pt x="3600" y="0"/>
                    </a:moveTo>
                    <a:arcTo wR="3600" hR="3600" stAng="16200000" swAng="-5400000"/>
                    <a:lnTo>
                      <a:pt x="0" y="51049"/>
                    </a:lnTo>
                    <a:arcTo wR="3600" hR="3600" stAng="10800000" swAng="-5400000"/>
                    <a:lnTo>
                      <a:pt x="18000" y="54649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45" name=""/>
            <p:cNvGrpSpPr/>
            <p:nvPr/>
          </p:nvGrpSpPr>
          <p:grpSpPr>
            <a:xfrm>
              <a:off x="609480" y="3235320"/>
              <a:ext cx="3424320" cy="1052640"/>
              <a:chOff x="609480" y="3235320"/>
              <a:chExt cx="3424320" cy="1052640"/>
            </a:xfrm>
          </p:grpSpPr>
          <p:sp>
            <p:nvSpPr>
              <p:cNvPr id="1146" name=""/>
              <p:cNvSpPr/>
              <p:nvPr/>
            </p:nvSpPr>
            <p:spPr>
              <a:xfrm>
                <a:off x="915840" y="3556080"/>
                <a:ext cx="365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1647720" y="3922560"/>
                <a:ext cx="3650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2012760" y="3556080"/>
                <a:ext cx="36540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915840" y="3922560"/>
                <a:ext cx="3650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1280880" y="3922560"/>
                <a:ext cx="36684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2012760" y="3922560"/>
                <a:ext cx="365400" cy="365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1647720" y="3556080"/>
                <a:ext cx="3650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966600" y="3357360"/>
                <a:ext cx="23508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1249200" y="3373560"/>
                <a:ext cx="3510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1643040" y="3373560"/>
                <a:ext cx="27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631800" y="3444840"/>
                <a:ext cx="1918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1280880" y="3556080"/>
                <a:ext cx="366840" cy="366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1909800" y="3373560"/>
                <a:ext cx="3841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823680" y="3465360"/>
                <a:ext cx="90720" cy="82800"/>
              </a:xfrm>
              <a:custGeom>
                <a:avLst/>
                <a:gdLst/>
                <a:ahLst/>
                <a:rect l="l" t="t" r="r" b="b"/>
                <a:pathLst>
                  <a:path w="143" h="131">
                    <a:moveTo>
                      <a:pt x="143" y="13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37080" bIns="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609480" y="3281400"/>
                <a:ext cx="182520" cy="183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733320" y="3235320"/>
                <a:ext cx="44136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1Q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2589120" y="3697200"/>
                <a:ext cx="1444680" cy="442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I0 = Q0a’ + Q0’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923760" y="3998880"/>
                <a:ext cx="290520" cy="25704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807840" y="3674880"/>
                <a:ext cx="9216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799920" y="4013280"/>
                <a:ext cx="921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2104920" y="4013280"/>
                <a:ext cx="273240" cy="24120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1373040" y="3647880"/>
                <a:ext cx="547920" cy="24948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8" name=""/>
            <p:cNvGrpSpPr/>
            <p:nvPr/>
          </p:nvGrpSpPr>
          <p:grpSpPr>
            <a:xfrm>
              <a:off x="585720" y="4554360"/>
              <a:ext cx="3494160" cy="1090800"/>
              <a:chOff x="585720" y="4554360"/>
              <a:chExt cx="3494160" cy="1090800"/>
            </a:xfrm>
          </p:grpSpPr>
          <p:sp>
            <p:nvSpPr>
              <p:cNvPr id="1169" name=""/>
              <p:cNvSpPr/>
              <p:nvPr/>
            </p:nvSpPr>
            <p:spPr>
              <a:xfrm>
                <a:off x="849240" y="4635360"/>
                <a:ext cx="27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1747800" y="5005440"/>
                <a:ext cx="208080" cy="600120"/>
              </a:xfrm>
              <a:prstGeom prst="flowChartAlternateProcess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941400" y="528012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1306440" y="5280120"/>
                <a:ext cx="3668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1306440" y="4915080"/>
                <a:ext cx="3668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1673280" y="528012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1673280" y="491508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2038320" y="528012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2038320" y="491508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1023840" y="4730760"/>
                <a:ext cx="24300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1374840" y="4730760"/>
                <a:ext cx="25848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1739880" y="4730760"/>
                <a:ext cx="25884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1982520" y="4730760"/>
                <a:ext cx="35892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2589120" y="4987800"/>
                <a:ext cx="1490760" cy="57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 = Q1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5720" y="4554360"/>
                <a:ext cx="182520" cy="18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849240" y="5005440"/>
                <a:ext cx="921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849240" y="5372280"/>
                <a:ext cx="1825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941400" y="4915080"/>
                <a:ext cx="365040" cy="365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37160" rIns="90000" tIns="13716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771480" y="4778280"/>
                <a:ext cx="169920" cy="136800"/>
              </a:xfrm>
              <a:custGeom>
                <a:avLst/>
                <a:gdLst/>
                <a:ahLst/>
                <a:rect l="l" t="t" r="r" b="b"/>
                <a:pathLst>
                  <a:path w="107" h="86">
                    <a:moveTo>
                      <a:pt x="107" y="86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650880" y="4795920"/>
                <a:ext cx="15084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826920" y="4578480"/>
                <a:ext cx="461880" cy="15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Q1Q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0" name=""/>
            <p:cNvSpPr/>
            <p:nvPr/>
          </p:nvSpPr>
          <p:spPr>
            <a:xfrm>
              <a:off x="484200" y="1600200"/>
              <a:ext cx="3749400" cy="43387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) Minimized Output Equ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1" name=""/>
          <p:cNvGrpSpPr/>
          <p:nvPr/>
        </p:nvGrpSpPr>
        <p:grpSpPr>
          <a:xfrm>
            <a:off x="4896000" y="1569960"/>
            <a:ext cx="3487680" cy="4311720"/>
            <a:chOff x="4896000" y="1569960"/>
            <a:chExt cx="3487680" cy="4311720"/>
          </a:xfrm>
        </p:grpSpPr>
        <p:sp>
          <p:nvSpPr>
            <p:cNvPr id="1192" name=""/>
            <p:cNvSpPr/>
            <p:nvPr/>
          </p:nvSpPr>
          <p:spPr>
            <a:xfrm>
              <a:off x="4896000" y="1569960"/>
              <a:ext cx="3487680" cy="43117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) Combinational 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3" name=""/>
            <p:cNvGrpSpPr/>
            <p:nvPr/>
          </p:nvGrpSpPr>
          <p:grpSpPr>
            <a:xfrm>
              <a:off x="5158080" y="2205000"/>
              <a:ext cx="3090240" cy="3308400"/>
              <a:chOff x="5158080" y="2205000"/>
              <a:chExt cx="3090240" cy="3308400"/>
            </a:xfrm>
          </p:grpSpPr>
          <p:sp>
            <p:nvSpPr>
              <p:cNvPr id="1194" name=""/>
              <p:cNvSpPr/>
              <p:nvPr/>
            </p:nvSpPr>
            <p:spPr>
              <a:xfrm>
                <a:off x="6269040" y="4384440"/>
                <a:ext cx="6480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269040" y="4736880"/>
                <a:ext cx="64800" cy="59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648400" y="4933800"/>
                <a:ext cx="747360" cy="360"/>
              </a:xfrm>
              <a:custGeom>
                <a:avLst/>
                <a:gdLst/>
                <a:ahLst/>
                <a:rect l="l" t="t" r="r" b="b"/>
                <a:pathLst>
                  <a:path w="800" h="1">
                    <a:moveTo>
                      <a:pt x="0" y="0"/>
                    </a:moveTo>
                    <a:lnTo>
                      <a:pt x="80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810480" y="4859280"/>
                <a:ext cx="105840" cy="1440"/>
              </a:xfrm>
              <a:custGeom>
                <a:avLst/>
                <a:gdLst/>
                <a:ahLst/>
                <a:rect l="l" t="t" r="r" b="b"/>
                <a:pathLst>
                  <a:path w="67" h="1">
                    <a:moveTo>
                      <a:pt x="0" y="1"/>
                    </a:moveTo>
                    <a:lnTo>
                      <a:pt x="6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916680" y="4724280"/>
                <a:ext cx="1440" cy="135000"/>
              </a:xfrm>
              <a:custGeom>
                <a:avLst/>
                <a:gdLst/>
                <a:ahLst/>
                <a:rect l="l" t="t" r="r" b="b"/>
                <a:pathLst>
                  <a:path w="1" h="85">
                    <a:moveTo>
                      <a:pt x="0" y="0"/>
                    </a:moveTo>
                    <a:lnTo>
                      <a:pt x="0" y="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916680" y="4724280"/>
                <a:ext cx="210960" cy="3240"/>
              </a:xfrm>
              <a:custGeom>
                <a:avLst/>
                <a:gdLst/>
                <a:ahLst/>
                <a:rect l="l" t="t" r="r" b="b"/>
                <a:pathLst>
                  <a:path w="133" h="2">
                    <a:moveTo>
                      <a:pt x="0" y="0"/>
                    </a:moveTo>
                    <a:lnTo>
                      <a:pt x="133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402600" y="4680000"/>
                <a:ext cx="402840" cy="35064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6402600" y="4209840"/>
                <a:ext cx="402840" cy="35100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 rot="5400000">
                <a:off x="6113160" y="4348080"/>
                <a:ext cx="176040" cy="134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5400000">
                <a:off x="6113880" y="4699800"/>
                <a:ext cx="174600" cy="134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0800000">
                <a:off x="7073640" y="4443120"/>
                <a:ext cx="404280" cy="352440"/>
              </a:xfrm>
              <a:prstGeom prst="flowChartOnlineStora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6805800" y="4392720"/>
                <a:ext cx="117000" cy="360"/>
              </a:xfrm>
              <a:custGeom>
                <a:avLst/>
                <a:gdLst/>
                <a:ahLst/>
                <a:rect l="l" t="t" r="r" b="b"/>
                <a:pathLst>
                  <a:path w="127" h="1">
                    <a:moveTo>
                      <a:pt x="127" y="0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6927840" y="4397400"/>
                <a:ext cx="1440" cy="190440"/>
              </a:xfrm>
              <a:custGeom>
                <a:avLst/>
                <a:gdLst/>
                <a:ahLst/>
                <a:rect l="l" t="t" r="r" b="b"/>
                <a:pathLst>
                  <a:path w="1" h="235">
                    <a:moveTo>
                      <a:pt x="0" y="0"/>
                    </a:moveTo>
                    <a:lnTo>
                      <a:pt x="0" y="23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6927840" y="4587840"/>
                <a:ext cx="209160" cy="3240"/>
              </a:xfrm>
              <a:custGeom>
                <a:avLst/>
                <a:gdLst/>
                <a:ahLst/>
                <a:rect l="l" t="t" r="r" b="b"/>
                <a:pathLst>
                  <a:path w="225" h="1">
                    <a:moveTo>
                      <a:pt x="0" y="0"/>
                    </a:moveTo>
                    <a:lnTo>
                      <a:pt x="22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7478640" y="4621320"/>
                <a:ext cx="339480" cy="1440"/>
              </a:xfrm>
              <a:custGeom>
                <a:avLst/>
                <a:gdLst/>
                <a:ahLst/>
                <a:rect l="l" t="t" r="r" b="b"/>
                <a:pathLst>
                  <a:path w="214" h="1">
                    <a:moveTo>
                      <a:pt x="0" y="0"/>
                    </a:moveTo>
                    <a:lnTo>
                      <a:pt x="214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38880" y="4408560"/>
                <a:ext cx="56880" cy="1440"/>
              </a:xfrm>
              <a:custGeom>
                <a:avLst/>
                <a:gdLst/>
                <a:ahLst/>
                <a:rect l="l" t="t" r="r" b="b"/>
                <a:pathLst>
                  <a:path w="60" h="1">
                    <a:moveTo>
                      <a:pt x="0" y="0"/>
                    </a:move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659560" y="4414680"/>
                <a:ext cx="461520" cy="360"/>
              </a:xfrm>
              <a:custGeom>
                <a:avLst/>
                <a:gdLst/>
                <a:ahLst/>
                <a:rect l="l" t="t" r="r" b="b"/>
                <a:pathLst>
                  <a:path w="495" h="1">
                    <a:moveTo>
                      <a:pt x="0" y="0"/>
                    </a:moveTo>
                    <a:lnTo>
                      <a:pt x="49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56480" y="4275000"/>
                <a:ext cx="545760" cy="360"/>
              </a:xfrm>
              <a:custGeom>
                <a:avLst/>
                <a:gdLst/>
                <a:ahLst/>
                <a:rect l="l" t="t" r="r" b="b"/>
                <a:pathLst>
                  <a:path w="585" h="1">
                    <a:moveTo>
                      <a:pt x="0" y="0"/>
                    </a:moveTo>
                    <a:lnTo>
                      <a:pt x="5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53240" y="4768920"/>
                <a:ext cx="275760" cy="360"/>
              </a:xfrm>
              <a:custGeom>
                <a:avLst/>
                <a:gdLst/>
                <a:ahLst/>
                <a:rect l="l" t="t" r="r" b="b"/>
                <a:pathLst>
                  <a:path w="295" h="1">
                    <a:moveTo>
                      <a:pt x="0" y="0"/>
                    </a:moveTo>
                    <a:lnTo>
                      <a:pt x="29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6338880" y="4768920"/>
                <a:ext cx="56880" cy="360"/>
              </a:xfrm>
              <a:custGeom>
                <a:avLst/>
                <a:gdLst/>
                <a:ahLst/>
                <a:rect l="l" t="t" r="r" b="b"/>
                <a:pathLst>
                  <a:path w="60" h="1">
                    <a:moveTo>
                      <a:pt x="0" y="0"/>
                    </a:moveTo>
                    <a:lnTo>
                      <a:pt x="6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983640" y="3341520"/>
                <a:ext cx="144000" cy="3240"/>
              </a:xfrm>
              <a:custGeom>
                <a:avLst/>
                <a:gdLst/>
                <a:ahLst/>
                <a:rect l="l" t="t" r="r" b="b"/>
                <a:pathLst>
                  <a:path w="91" h="2">
                    <a:moveTo>
                      <a:pt x="91" y="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977160" y="3502080"/>
                <a:ext cx="166320" cy="3240"/>
              </a:xfrm>
              <a:custGeom>
                <a:avLst/>
                <a:gdLst/>
                <a:ahLst/>
                <a:rect l="l" t="t" r="r" b="b"/>
                <a:pathLst>
                  <a:path w="105" h="2">
                    <a:moveTo>
                      <a:pt x="105" y="0"/>
                    </a:moveTo>
                    <a:lnTo>
                      <a:pt x="0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rot="10800000">
                <a:off x="7073640" y="3271320"/>
                <a:ext cx="404280" cy="335160"/>
              </a:xfrm>
              <a:prstGeom prst="flowChartOnlineStorag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6402600" y="2784240"/>
                <a:ext cx="402840" cy="35244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402600" y="3254400"/>
                <a:ext cx="402840" cy="35244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6402600" y="3716280"/>
                <a:ext cx="402840" cy="352440"/>
              </a:xfrm>
              <a:prstGeom prst="flowChartDelay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rot="5400000">
                <a:off x="6113880" y="2782080"/>
                <a:ext cx="174600" cy="134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rot="5400000">
                <a:off x="6113160" y="3451320"/>
                <a:ext cx="176400" cy="134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rot="5400000">
                <a:off x="6113160" y="3895560"/>
                <a:ext cx="176040" cy="134640"/>
              </a:xfrm>
              <a:prstGeom prst="flowChartExtra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6000840" y="3830400"/>
                <a:ext cx="401400" cy="360"/>
              </a:xfrm>
              <a:custGeom>
                <a:avLst/>
                <a:gdLst/>
                <a:ahLst/>
                <a:rect l="l" t="t" r="r" b="b"/>
                <a:pathLst>
                  <a:path w="430" h="1">
                    <a:moveTo>
                      <a:pt x="0" y="0"/>
                    </a:moveTo>
                    <a:lnTo>
                      <a:pt x="4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1160" y="3962520"/>
                <a:ext cx="269280" cy="360"/>
              </a:xfrm>
              <a:custGeom>
                <a:avLst/>
                <a:gdLst/>
                <a:ahLst/>
                <a:rect l="l" t="t" r="r" b="b"/>
                <a:pathLst>
                  <a:path w="290" h="1">
                    <a:moveTo>
                      <a:pt x="0" y="0"/>
                    </a:moveTo>
                    <a:lnTo>
                      <a:pt x="29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6327720" y="3962520"/>
                <a:ext cx="82440" cy="2880"/>
              </a:xfrm>
              <a:custGeom>
                <a:avLst/>
                <a:gdLst/>
                <a:ahLst/>
                <a:rect l="l" t="t" r="r" b="b"/>
                <a:pathLst>
                  <a:path w="52" h="2">
                    <a:moveTo>
                      <a:pt x="52" y="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6332760" y="3517920"/>
                <a:ext cx="64440" cy="360"/>
              </a:xfrm>
              <a:custGeom>
                <a:avLst/>
                <a:gdLst/>
                <a:ahLst/>
                <a:rect l="l" t="t" r="r" b="b"/>
                <a:pathLst>
                  <a:path w="70" h="1">
                    <a:moveTo>
                      <a:pt x="0" y="0"/>
                    </a:moveTo>
                    <a:lnTo>
                      <a:pt x="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59560" y="3521160"/>
                <a:ext cx="470880" cy="360"/>
              </a:xfrm>
              <a:custGeom>
                <a:avLst/>
                <a:gdLst/>
                <a:ahLst/>
                <a:rect l="l" t="t" r="r" b="b"/>
                <a:pathLst>
                  <a:path w="505" h="1">
                    <a:moveTo>
                      <a:pt x="505" y="0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005520" y="3362400"/>
                <a:ext cx="391680" cy="360"/>
              </a:xfrm>
              <a:custGeom>
                <a:avLst/>
                <a:gdLst/>
                <a:ahLst/>
                <a:rect l="l" t="t" r="r" b="b"/>
                <a:pathLst>
                  <a:path w="420" h="1">
                    <a:moveTo>
                      <a:pt x="0" y="0"/>
                    </a:moveTo>
                    <a:lnTo>
                      <a:pt x="42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323040" y="2847960"/>
                <a:ext cx="69480" cy="360"/>
              </a:xfrm>
              <a:custGeom>
                <a:avLst/>
                <a:gdLst/>
                <a:ahLst/>
                <a:rect l="l" t="t" r="r" b="b"/>
                <a:pathLst>
                  <a:path w="75" h="1">
                    <a:moveTo>
                      <a:pt x="0" y="0"/>
                    </a:moveTo>
                    <a:lnTo>
                      <a:pt x="7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005520" y="2844720"/>
                <a:ext cx="120240" cy="360"/>
              </a:xfrm>
              <a:custGeom>
                <a:avLst/>
                <a:gdLst/>
                <a:ahLst/>
                <a:rect l="l" t="t" r="r" b="b"/>
                <a:pathLst>
                  <a:path w="130" h="1">
                    <a:moveTo>
                      <a:pt x="130" y="0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1160" y="2960640"/>
                <a:ext cx="541080" cy="360"/>
              </a:xfrm>
              <a:custGeom>
                <a:avLst/>
                <a:gdLst/>
                <a:ahLst/>
                <a:rect l="l" t="t" r="r" b="b"/>
                <a:pathLst>
                  <a:path w="580" h="1">
                    <a:moveTo>
                      <a:pt x="0" y="0"/>
                    </a:moveTo>
                    <a:lnTo>
                      <a:pt x="58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662800" y="3049560"/>
                <a:ext cx="729720" cy="360"/>
              </a:xfrm>
              <a:custGeom>
                <a:avLst/>
                <a:gdLst/>
                <a:ahLst/>
                <a:rect l="l" t="t" r="r" b="b"/>
                <a:pathLst>
                  <a:path w="783" h="1">
                    <a:moveTo>
                      <a:pt x="0" y="0"/>
                    </a:moveTo>
                    <a:lnTo>
                      <a:pt x="78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799320" y="3425760"/>
                <a:ext cx="344160" cy="3240"/>
              </a:xfrm>
              <a:custGeom>
                <a:avLst/>
                <a:gdLst/>
                <a:ahLst/>
                <a:rect l="l" t="t" r="r" b="b"/>
                <a:pathLst>
                  <a:path w="217" h="2">
                    <a:moveTo>
                      <a:pt x="0" y="2"/>
                    </a:moveTo>
                    <a:lnTo>
                      <a:pt x="217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6972480" y="3505320"/>
                <a:ext cx="1080" cy="403200"/>
              </a:xfrm>
              <a:custGeom>
                <a:avLst/>
                <a:gdLst/>
                <a:ahLst/>
                <a:rect l="l" t="t" r="r" b="b"/>
                <a:pathLst>
                  <a:path w="1" h="520">
                    <a:moveTo>
                      <a:pt x="0" y="0"/>
                    </a:moveTo>
                    <a:lnTo>
                      <a:pt x="0" y="5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6808680" y="3903480"/>
                <a:ext cx="158400" cy="360"/>
              </a:xfrm>
              <a:custGeom>
                <a:avLst/>
                <a:gdLst/>
                <a:ahLst/>
                <a:rect l="l" t="t" r="r" b="b"/>
                <a:pathLst>
                  <a:path w="170" h="1">
                    <a:moveTo>
                      <a:pt x="0" y="0"/>
                    </a:moveTo>
                    <a:lnTo>
                      <a:pt x="17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6972480" y="2968560"/>
                <a:ext cx="1080" cy="374760"/>
              </a:xfrm>
              <a:custGeom>
                <a:avLst/>
                <a:gdLst/>
                <a:ahLst/>
                <a:rect l="l" t="t" r="r" b="b"/>
                <a:pathLst>
                  <a:path w="1" h="485">
                    <a:moveTo>
                      <a:pt x="0" y="485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6808680" y="2971800"/>
                <a:ext cx="163440" cy="360"/>
              </a:xfrm>
              <a:custGeom>
                <a:avLst/>
                <a:gdLst/>
                <a:ahLst/>
                <a:rect l="l" t="t" r="r" b="b"/>
                <a:pathLst>
                  <a:path w="175" h="1">
                    <a:moveTo>
                      <a:pt x="0" y="0"/>
                    </a:moveTo>
                    <a:lnTo>
                      <a:pt x="17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485120" y="3443400"/>
                <a:ext cx="350640" cy="1440"/>
              </a:xfrm>
              <a:custGeom>
                <a:avLst/>
                <a:gdLst/>
                <a:ahLst/>
                <a:rect l="l" t="t" r="r" b="b"/>
                <a:pathLst>
                  <a:path w="221" h="1">
                    <a:moveTo>
                      <a:pt x="221" y="0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6267600" y="2827440"/>
                <a:ext cx="66240" cy="58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6267600" y="3494160"/>
                <a:ext cx="66240" cy="60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267600" y="3940200"/>
                <a:ext cx="66240" cy="58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459400" y="2205000"/>
                <a:ext cx="2152440" cy="28954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158080" y="2217600"/>
                <a:ext cx="23616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6399360" y="2317680"/>
                <a:ext cx="404280" cy="35100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994360" y="2433600"/>
                <a:ext cx="404640" cy="1440"/>
              </a:xfrm>
              <a:custGeom>
                <a:avLst/>
                <a:gdLst/>
                <a:ahLst/>
                <a:rect l="l" t="t" r="r" b="b"/>
                <a:pathLst>
                  <a:path w="437" h="2">
                    <a:moveTo>
                      <a:pt x="437" y="2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53240" y="2549520"/>
                <a:ext cx="549000" cy="3240"/>
              </a:xfrm>
              <a:custGeom>
                <a:avLst/>
                <a:gdLst/>
                <a:ahLst/>
                <a:rect l="l" t="t" r="r" b="b"/>
                <a:pathLst>
                  <a:path w="346" h="2">
                    <a:moveTo>
                      <a:pt x="0" y="2"/>
                    </a:moveTo>
                    <a:lnTo>
                      <a:pt x="346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804000" y="2487600"/>
                <a:ext cx="996840" cy="3240"/>
              </a:xfrm>
              <a:custGeom>
                <a:avLst/>
                <a:gdLst/>
                <a:ahLst/>
                <a:rect l="l" t="t" r="r" b="b"/>
                <a:pathLst>
                  <a:path w="628" h="2">
                    <a:moveTo>
                      <a:pt x="0" y="0"/>
                    </a:moveTo>
                    <a:lnTo>
                      <a:pt x="628" y="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340240" y="2320920"/>
                <a:ext cx="298080" cy="1440"/>
              </a:xfrm>
              <a:custGeom>
                <a:avLst/>
                <a:gdLst/>
                <a:ahLst/>
                <a:rect l="l" t="t" r="r" b="b"/>
                <a:pathLst>
                  <a:path w="188" h="1">
                    <a:moveTo>
                      <a:pt x="0" y="1"/>
                    </a:moveTo>
                    <a:lnTo>
                      <a:pt x="18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989680" y="2433600"/>
                <a:ext cx="1080" cy="2830320"/>
              </a:xfrm>
              <a:custGeom>
                <a:avLst/>
                <a:gdLst/>
                <a:ahLst/>
                <a:rect l="l" t="t" r="r" b="b"/>
                <a:pathLst>
                  <a:path w="1" h="1783">
                    <a:moveTo>
                      <a:pt x="0" y="0"/>
                    </a:moveTo>
                    <a:lnTo>
                      <a:pt x="0" y="178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46760" y="2541600"/>
                <a:ext cx="1440" cy="2730600"/>
              </a:xfrm>
              <a:custGeom>
                <a:avLst/>
                <a:gdLst/>
                <a:ahLst/>
                <a:rect l="l" t="t" r="r" b="b"/>
                <a:pathLst>
                  <a:path w="1" h="1720">
                    <a:moveTo>
                      <a:pt x="0" y="0"/>
                    </a:moveTo>
                    <a:lnTo>
                      <a:pt x="0" y="17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635800" y="2320920"/>
                <a:ext cx="2520" cy="2604960"/>
              </a:xfrm>
              <a:custGeom>
                <a:avLst/>
                <a:gdLst/>
                <a:ahLst/>
                <a:rect l="l" t="t" r="r" b="b"/>
                <a:pathLst>
                  <a:path w="2" h="1641">
                    <a:moveTo>
                      <a:pt x="2" y="0"/>
                    </a:moveTo>
                    <a:lnTo>
                      <a:pt x="0" y="164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707080" y="5290920"/>
                <a:ext cx="267840" cy="2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927760" y="5290920"/>
                <a:ext cx="271080" cy="22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Q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7845480" y="4525920"/>
                <a:ext cx="402840" cy="27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7837560" y="3348000"/>
                <a:ext cx="352080" cy="25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7912080" y="2379600"/>
                <a:ext cx="220320" cy="222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83895-BA18-4BDD-B0DB-230680D421C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stom single-purpose processor basic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58" name=""/>
          <p:cNvGrpSpPr/>
          <p:nvPr/>
        </p:nvGrpSpPr>
        <p:grpSpPr>
          <a:xfrm>
            <a:off x="711360" y="2046240"/>
            <a:ext cx="2473200" cy="3756240"/>
            <a:chOff x="711360" y="2046240"/>
            <a:chExt cx="2473200" cy="3756240"/>
          </a:xfrm>
        </p:grpSpPr>
        <p:sp>
          <p:nvSpPr>
            <p:cNvPr id="1259" name=""/>
            <p:cNvSpPr/>
            <p:nvPr/>
          </p:nvSpPr>
          <p:spPr>
            <a:xfrm>
              <a:off x="936720" y="5545080"/>
              <a:ext cx="191772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 and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11360" y="3092400"/>
              <a:ext cx="823680" cy="10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2360520" y="3092400"/>
              <a:ext cx="824040" cy="10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1535040" y="3435480"/>
              <a:ext cx="827280" cy="2880"/>
            </a:xfrm>
            <a:custGeom>
              <a:avLst/>
              <a:gdLst/>
              <a:ahLst/>
              <a:rect l="l" t="t" r="r" b="b"/>
              <a:pathLst>
                <a:path w="521" h="2">
                  <a:moveTo>
                    <a:pt x="0" y="0"/>
                  </a:moveTo>
                  <a:lnTo>
                    <a:pt x="521" y="2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1552680" y="3686040"/>
              <a:ext cx="807840" cy="6480"/>
            </a:xfrm>
            <a:custGeom>
              <a:avLst/>
              <a:gdLst/>
              <a:ahLst/>
              <a:rect l="l" t="t" r="r" b="b"/>
              <a:pathLst>
                <a:path w="509" h="4">
                  <a:moveTo>
                    <a:pt x="509" y="4"/>
                  </a:move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985680" y="274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1260360" y="2749680"/>
              <a:ext cx="0" cy="34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985680" y="41194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1260360" y="41194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985680" y="257796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985680" y="420516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11360" y="2046240"/>
              <a:ext cx="8236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11360" y="4462560"/>
              <a:ext cx="82368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 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2635200" y="274968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2909880" y="274968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635200" y="257796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360520" y="2079720"/>
              <a:ext cx="824040" cy="58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2635200" y="411948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2909880" y="4119480"/>
              <a:ext cx="0" cy="343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2635200" y="420516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2360520" y="4462560"/>
              <a:ext cx="8240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xter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535040" y="2755800"/>
              <a:ext cx="8254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535040" y="3768840"/>
              <a:ext cx="825480" cy="84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2" name=""/>
          <p:cNvGrpSpPr/>
          <p:nvPr/>
        </p:nvGrpSpPr>
        <p:grpSpPr>
          <a:xfrm>
            <a:off x="4329000" y="1736640"/>
            <a:ext cx="3846600" cy="4183200"/>
            <a:chOff x="4329000" y="1736640"/>
            <a:chExt cx="3846600" cy="4183200"/>
          </a:xfrm>
        </p:grpSpPr>
        <p:sp>
          <p:nvSpPr>
            <p:cNvPr id="1283" name=""/>
            <p:cNvSpPr/>
            <p:nvPr/>
          </p:nvSpPr>
          <p:spPr>
            <a:xfrm>
              <a:off x="5560920" y="176832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7721640" y="173664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402080" y="5527800"/>
              <a:ext cx="3773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ew inside the controller and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329000" y="2236680"/>
              <a:ext cx="1648080" cy="27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253200" y="2236680"/>
              <a:ext cx="1919160" cy="27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5427720" y="309240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 flipH="1">
              <a:off x="5427360" y="326556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5565600" y="19288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5840280" y="192888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5565600" y="49766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5840280" y="497664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565600" y="5062680"/>
              <a:ext cx="274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7748640" y="190980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8023320" y="190980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7748640" y="495936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8023320" y="495936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7748640" y="5045040"/>
              <a:ext cx="274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603680" y="3949560"/>
              <a:ext cx="82404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603680" y="2759040"/>
              <a:ext cx="824040" cy="10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-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014800" y="3606840"/>
              <a:ext cx="550800" cy="119844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432" y="0"/>
                  </a:moveTo>
                  <a:lnTo>
                    <a:pt x="576" y="0"/>
                  </a:lnTo>
                  <a:lnTo>
                    <a:pt x="576" y="1008"/>
                  </a:lnTo>
                  <a:lnTo>
                    <a:pt x="0" y="1008"/>
                  </a:lnTo>
                  <a:lnTo>
                    <a:pt x="0" y="7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427720" y="3444840"/>
              <a:ext cx="274680" cy="1360440"/>
            </a:xfrm>
            <a:custGeom>
              <a:avLst/>
              <a:gdLst/>
              <a:ahLst/>
              <a:rect l="l" t="t" r="r" b="b"/>
              <a:pathLst>
                <a:path w="288" h="1145">
                  <a:moveTo>
                    <a:pt x="0" y="0"/>
                  </a:moveTo>
                  <a:lnTo>
                    <a:pt x="288" y="0"/>
                  </a:lnTo>
                  <a:lnTo>
                    <a:pt x="288" y="11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 flipH="1">
              <a:off x="5565600" y="4805280"/>
              <a:ext cx="13680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702400" y="4805280"/>
              <a:ext cx="1378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565600" y="2270160"/>
              <a:ext cx="136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 flipH="1">
              <a:off x="5702040" y="2270160"/>
              <a:ext cx="1378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27720" y="2433600"/>
              <a:ext cx="274680" cy="488880"/>
            </a:xfrm>
            <a:custGeom>
              <a:avLst/>
              <a:gdLst/>
              <a:ahLst/>
              <a:rect l="l" t="t" r="r" b="b"/>
              <a:pathLst>
                <a:path w="288" h="281">
                  <a:moveTo>
                    <a:pt x="288" y="0"/>
                  </a:moveTo>
                  <a:lnTo>
                    <a:pt x="288" y="281"/>
                  </a:lnTo>
                  <a:lnTo>
                    <a:pt x="0" y="2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805440" y="2741760"/>
              <a:ext cx="8258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805440" y="3932280"/>
              <a:ext cx="8258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un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7080120" y="324648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 flipV="1">
              <a:off x="7354800" y="323820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7748640" y="2252520"/>
              <a:ext cx="13824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 flipH="1">
              <a:off x="7886520" y="2252520"/>
              <a:ext cx="13644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631280" y="2416320"/>
              <a:ext cx="255600" cy="488880"/>
            </a:xfrm>
            <a:custGeom>
              <a:avLst/>
              <a:gdLst/>
              <a:ahLst/>
              <a:rect l="l" t="t" r="r" b="b"/>
              <a:pathLst>
                <a:path w="268" h="411">
                  <a:moveTo>
                    <a:pt x="268" y="0"/>
                  </a:moveTo>
                  <a:lnTo>
                    <a:pt x="268" y="411"/>
                  </a:lnTo>
                  <a:lnTo>
                    <a:pt x="0" y="4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631280" y="3075120"/>
              <a:ext cx="255600" cy="1712880"/>
            </a:xfrm>
            <a:custGeom>
              <a:avLst/>
              <a:gdLst/>
              <a:ahLst/>
              <a:rect l="l" t="t" r="r" b="b"/>
              <a:pathLst>
                <a:path w="268" h="1441">
                  <a:moveTo>
                    <a:pt x="0" y="0"/>
                  </a:moveTo>
                  <a:lnTo>
                    <a:pt x="268" y="0"/>
                  </a:lnTo>
                  <a:lnTo>
                    <a:pt x="268" y="14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 flipH="1">
              <a:off x="7748640" y="4788000"/>
              <a:ext cx="1382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886880" y="4788000"/>
              <a:ext cx="136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 flipV="1">
              <a:off x="6253200" y="2922480"/>
              <a:ext cx="1522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6253200" y="3092400"/>
              <a:ext cx="2700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6405480" y="292248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6523200" y="3246480"/>
              <a:ext cx="282240" cy="855720"/>
            </a:xfrm>
            <a:custGeom>
              <a:avLst/>
              <a:gdLst/>
              <a:ahLst/>
              <a:rect l="l" t="t" r="r" b="b"/>
              <a:pathLst>
                <a:path w="148" h="719">
                  <a:moveTo>
                    <a:pt x="0" y="0"/>
                  </a:moveTo>
                  <a:lnTo>
                    <a:pt x="0" y="719"/>
                  </a:lnTo>
                  <a:lnTo>
                    <a:pt x="148" y="7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6405480" y="3425760"/>
              <a:ext cx="399960" cy="857160"/>
            </a:xfrm>
            <a:custGeom>
              <a:avLst/>
              <a:gdLst/>
              <a:ahLst/>
              <a:rect l="l" t="t" r="r" b="b"/>
              <a:pathLst>
                <a:path w="272" h="720">
                  <a:moveTo>
                    <a:pt x="272" y="720"/>
                  </a:move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 flipH="1" flipV="1">
              <a:off x="6252840" y="3265560"/>
              <a:ext cx="152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 flipV="1">
              <a:off x="5008680" y="3779640"/>
              <a:ext cx="0" cy="1825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"/>
          <p:cNvSpPr/>
          <p:nvPr/>
        </p:nvSpPr>
        <p:spPr>
          <a:xfrm>
            <a:off x="4622760" y="4114800"/>
            <a:ext cx="76320" cy="7632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 flipH="1">
            <a:off x="4603680" y="4191120"/>
            <a:ext cx="82800" cy="69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832440" y="3029040"/>
            <a:ext cx="76320" cy="75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 flipH="1">
            <a:off x="6813360" y="3105000"/>
            <a:ext cx="82440" cy="69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144EC-3B41-4AE4-8095-3F4A27DCF0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: greatest common divis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1" name=""/>
          <p:cNvGrpSpPr/>
          <p:nvPr/>
        </p:nvGrpSpPr>
        <p:grpSpPr>
          <a:xfrm>
            <a:off x="4673520" y="1569960"/>
            <a:ext cx="1177920" cy="1650960"/>
            <a:chOff x="4673520" y="1569960"/>
            <a:chExt cx="1177920" cy="1650960"/>
          </a:xfrm>
        </p:grpSpPr>
        <p:sp>
          <p:nvSpPr>
            <p:cNvPr id="1332" name=""/>
            <p:cNvSpPr/>
            <p:nvPr/>
          </p:nvSpPr>
          <p:spPr>
            <a:xfrm>
              <a:off x="4692600" y="2173320"/>
              <a:ext cx="1101960" cy="868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0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692600" y="1569960"/>
              <a:ext cx="110016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a) black-box 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97600" y="2168280"/>
              <a:ext cx="31752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_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483160" y="2184120"/>
              <a:ext cx="368280" cy="17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_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72040" y="2816280"/>
              <a:ext cx="376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_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267520" y="30384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251680" y="199224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648400" y="199224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834080" y="199224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673520" y="2176200"/>
              <a:ext cx="385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o_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2" name=""/>
          <p:cNvSpPr/>
          <p:nvPr/>
        </p:nvSpPr>
        <p:spPr>
          <a:xfrm>
            <a:off x="4373640" y="3611520"/>
            <a:ext cx="19368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int  x,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while (1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  while (!go_i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  x = x_i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  y = y_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  while  (x != y)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      if  (x &lt; y)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         y = y -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         x = x -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   d_o =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4554360" y="3405240"/>
            <a:ext cx="1578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 desired functional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4" name=""/>
          <p:cNvGrpSpPr/>
          <p:nvPr/>
        </p:nvGrpSpPr>
        <p:grpSpPr>
          <a:xfrm>
            <a:off x="6053040" y="1486080"/>
            <a:ext cx="1789200" cy="4475160"/>
            <a:chOff x="6053040" y="1486080"/>
            <a:chExt cx="1789200" cy="4475160"/>
          </a:xfrm>
        </p:grpSpPr>
        <p:sp>
          <p:nvSpPr>
            <p:cNvPr id="1345" name=""/>
            <p:cNvSpPr/>
            <p:nvPr/>
          </p:nvSpPr>
          <p:spPr>
            <a:xfrm>
              <a:off x="7196040" y="361332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H="1">
              <a:off x="7195680" y="171936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 flipH="1">
              <a:off x="7196040" y="370512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7196040" y="20145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H="1">
              <a:off x="7195680" y="285444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 flipV="1">
              <a:off x="7470720" y="213048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 flipH="1">
              <a:off x="7195680" y="21225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6237360" y="4344840"/>
              <a:ext cx="59364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 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6053040" y="4390920"/>
              <a:ext cx="1843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7013520" y="434484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 -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831000" y="439092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6648480" y="47005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6281640" y="4700520"/>
              <a:ext cx="3668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7013520" y="375120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6648480" y="3521160"/>
              <a:ext cx="547560" cy="23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6465960" y="3521160"/>
              <a:ext cx="136440" cy="18396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83960"/>
                <a:gd name="textAreaBottom" fmla="*/ 177480 h 183960"/>
              </a:gdLst>
              <a:ahLst/>
              <a:rect l="textAreaLeft" t="textAreaTop" r="textAreaRight" b="textAreaBottom"/>
              <a:pathLst>
                <a:path w="21600" h="29103">
                  <a:moveTo>
                    <a:pt x="3600" y="0"/>
                  </a:moveTo>
                  <a:arcTo wR="3600" hR="3600" stAng="16200000" swAng="-5400000"/>
                  <a:lnTo>
                    <a:pt x="0" y="25503"/>
                  </a:lnTo>
                  <a:arcTo wR="3600" hR="3600" stAng="10800000" swAng="-5400000"/>
                  <a:lnTo>
                    <a:pt x="18000" y="29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242120" y="3476520"/>
              <a:ext cx="3650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!=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6784920" y="4162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831000" y="4162320"/>
              <a:ext cx="318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648480" y="39337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7196040" y="4162320"/>
              <a:ext cx="320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&lt;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373800" y="3933720"/>
              <a:ext cx="22860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7149960" y="4162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6784920" y="45734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7149960" y="457344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6648480" y="50720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281640" y="5095800"/>
              <a:ext cx="36684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23160" y="493704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648480" y="155880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419880" y="1590840"/>
              <a:ext cx="182520" cy="183960"/>
            </a:xfrm>
            <a:custGeom>
              <a:avLst/>
              <a:gdLst>
                <a:gd name="textAreaLeft" fmla="*/ 8640 w 182520"/>
                <a:gd name="textAreaRight" fmla="*/ 173880 w 182520"/>
                <a:gd name="textAreaTop" fmla="*/ 8640 h 183960"/>
                <a:gd name="textAreaBottom" fmla="*/ 175320 h 183960"/>
              </a:gdLst>
              <a:ahLst/>
              <a:rect l="textAreaLeft" t="textAreaTop" r="textAreaRight" b="textAreaBottom"/>
              <a:pathLst>
                <a:path w="21600" h="21770">
                  <a:moveTo>
                    <a:pt x="3600" y="0"/>
                  </a:moveTo>
                  <a:arcTo wR="3600" hR="3600" stAng="16200000" swAng="-5400000"/>
                  <a:lnTo>
                    <a:pt x="0" y="18170"/>
                  </a:lnTo>
                  <a:arcTo wR="3600" hR="3600" stAng="10800000" swAng="-5400000"/>
                  <a:lnTo>
                    <a:pt x="18000" y="21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7013520" y="1833480"/>
              <a:ext cx="136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7196040" y="16365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7242120" y="1486080"/>
              <a:ext cx="136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6651720" y="26989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6419880" y="269892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6648480" y="31100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6419880" y="311004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6923160" y="178740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6923160" y="29275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6923160" y="3338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6923160" y="37512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196040" y="519444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607160" y="3705120"/>
              <a:ext cx="1800" cy="1487520"/>
            </a:xfrm>
            <a:custGeom>
              <a:avLst/>
              <a:gdLst/>
              <a:ahLst/>
              <a:rect l="l" t="t" r="r" b="b"/>
              <a:pathLst>
                <a:path w="1" h="937">
                  <a:moveTo>
                    <a:pt x="0" y="937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6648480" y="19717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6648480" y="23828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6923160" y="2200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419880" y="201132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334200" y="2414520"/>
              <a:ext cx="274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967440" y="220032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7248600" y="184788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!go_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7562880" y="203040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7196040" y="245736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7750080" y="3613320"/>
              <a:ext cx="1800" cy="1890720"/>
            </a:xfrm>
            <a:custGeom>
              <a:avLst/>
              <a:gdLst/>
              <a:ahLst/>
              <a:rect l="l" t="t" r="r" b="b"/>
              <a:pathLst>
                <a:path w="1" h="1191">
                  <a:moveTo>
                    <a:pt x="1" y="0"/>
                  </a:moveTo>
                  <a:lnTo>
                    <a:pt x="0" y="1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161120" y="5500800"/>
              <a:ext cx="590760" cy="4680"/>
            </a:xfrm>
            <a:custGeom>
              <a:avLst/>
              <a:gdLst/>
              <a:ahLst/>
              <a:rect l="l" t="t" r="r" b="b"/>
              <a:pathLst>
                <a:path w="930" h="8">
                  <a:moveTo>
                    <a:pt x="930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629400" y="537516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64360" y="5745240"/>
              <a:ext cx="27468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70840" y="5861160"/>
              <a:ext cx="671400" cy="1440"/>
            </a:xfrm>
            <a:custGeom>
              <a:avLst/>
              <a:gdLst/>
              <a:ahLst/>
              <a:rect l="l" t="t" r="r" b="b"/>
              <a:pathLst>
                <a:path w="1058" h="1">
                  <a:moveTo>
                    <a:pt x="0" y="0"/>
                  </a:moveTo>
                  <a:lnTo>
                    <a:pt x="10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7834320" y="1722600"/>
              <a:ext cx="7920" cy="4135320"/>
            </a:xfrm>
            <a:custGeom>
              <a:avLst/>
              <a:gdLst/>
              <a:ahLst/>
              <a:rect l="l" t="t" r="r" b="b"/>
              <a:pathLst>
                <a:path w="5" h="2605">
                  <a:moveTo>
                    <a:pt x="5" y="260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629400" y="573264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923160" y="5613480"/>
              <a:ext cx="360" cy="133200"/>
            </a:xfrm>
            <a:custGeom>
              <a:avLst/>
              <a:gdLst/>
              <a:ahLst/>
              <a:rect l="l" t="t" r="r" b="b"/>
              <a:pathLst>
                <a:path w="1" h="210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243480" y="5386320"/>
              <a:ext cx="36540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6" name=""/>
          <p:cNvSpPr/>
          <p:nvPr/>
        </p:nvSpPr>
        <p:spPr>
          <a:xfrm>
            <a:off x="7870680" y="1638360"/>
            <a:ext cx="101124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 state dia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239400" y="1614600"/>
            <a:ext cx="3824280" cy="43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create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algorithm to “complex”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as FSMD: finite-state machine with data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templates to perform such conver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708440" y="2800440"/>
            <a:ext cx="76320" cy="759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 flipH="1">
            <a:off x="4689360" y="2876400"/>
            <a:ext cx="82800" cy="69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B1FF6-3AB3-48D4-A1EB-0BA6B5243F3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te diagram templ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1" name=""/>
          <p:cNvGrpSpPr/>
          <p:nvPr/>
        </p:nvGrpSpPr>
        <p:grpSpPr>
          <a:xfrm>
            <a:off x="304920" y="1641600"/>
            <a:ext cx="2690640" cy="3127320"/>
            <a:chOff x="304920" y="1641600"/>
            <a:chExt cx="2690640" cy="3127320"/>
          </a:xfrm>
        </p:grpSpPr>
        <p:sp>
          <p:nvSpPr>
            <p:cNvPr id="1412" name=""/>
            <p:cNvSpPr/>
            <p:nvPr/>
          </p:nvSpPr>
          <p:spPr>
            <a:xfrm>
              <a:off x="304920" y="1641600"/>
              <a:ext cx="269064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signmen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1006560" y="1974960"/>
              <a:ext cx="110808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a = 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x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4" name=""/>
            <p:cNvGrpSpPr/>
            <p:nvPr/>
          </p:nvGrpSpPr>
          <p:grpSpPr>
            <a:xfrm>
              <a:off x="1063800" y="3745080"/>
              <a:ext cx="880920" cy="1023840"/>
              <a:chOff x="1063800" y="3745080"/>
              <a:chExt cx="880920" cy="1023840"/>
            </a:xfrm>
          </p:grpSpPr>
          <p:sp>
            <p:nvSpPr>
              <p:cNvPr id="1415" name=""/>
              <p:cNvSpPr/>
              <p:nvPr/>
            </p:nvSpPr>
            <p:spPr>
              <a:xfrm>
                <a:off x="1063800" y="3745080"/>
                <a:ext cx="8712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a = 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1514520" y="3973680"/>
                <a:ext cx="0" cy="27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1063800" y="4248000"/>
                <a:ext cx="880920" cy="5209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ext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18" name=""/>
          <p:cNvGrpSpPr/>
          <p:nvPr/>
        </p:nvGrpSpPr>
        <p:grpSpPr>
          <a:xfrm>
            <a:off x="3084480" y="1641600"/>
            <a:ext cx="2718000" cy="4149720"/>
            <a:chOff x="3084480" y="1641600"/>
            <a:chExt cx="2718000" cy="4149720"/>
          </a:xfrm>
        </p:grpSpPr>
        <p:sp>
          <p:nvSpPr>
            <p:cNvPr id="1419" name=""/>
            <p:cNvSpPr/>
            <p:nvPr/>
          </p:nvSpPr>
          <p:spPr>
            <a:xfrm>
              <a:off x="3084480" y="1641600"/>
              <a:ext cx="27180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op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983040" y="1974960"/>
              <a:ext cx="1338120" cy="96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while (cond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{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op-body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temen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}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x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1" name=""/>
            <p:cNvGrpSpPr/>
            <p:nvPr/>
          </p:nvGrpSpPr>
          <p:grpSpPr>
            <a:xfrm>
              <a:off x="3679920" y="3641760"/>
              <a:ext cx="1676160" cy="2149560"/>
              <a:chOff x="3679920" y="3641760"/>
              <a:chExt cx="1676160" cy="2149560"/>
            </a:xfrm>
          </p:grpSpPr>
          <p:sp>
            <p:nvSpPr>
              <p:cNvPr id="1422" name=""/>
              <p:cNvSpPr/>
              <p:nvPr/>
            </p:nvSpPr>
            <p:spPr>
              <a:xfrm>
                <a:off x="4029120" y="3741840"/>
                <a:ext cx="90648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4524480" y="397044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4029120" y="4245120"/>
                <a:ext cx="90648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op-body-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statemen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4614840" y="4016520"/>
                <a:ext cx="41760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4524480" y="4656240"/>
                <a:ext cx="0" cy="27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4019400" y="4930920"/>
                <a:ext cx="916200" cy="2286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4935600" y="5064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 flipV="1">
                <a:off x="5164200" y="3921120"/>
                <a:ext cx="0" cy="1143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 flipH="1">
                <a:off x="4935240" y="3921480"/>
                <a:ext cx="228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4038480" y="5380200"/>
                <a:ext cx="897120" cy="41112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next stat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4935600" y="3832560"/>
                <a:ext cx="3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54560" y="3832560"/>
                <a:ext cx="0" cy="168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 flipH="1">
                <a:off x="4935600" y="5521680"/>
                <a:ext cx="318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4981680" y="3641760"/>
                <a:ext cx="374400" cy="19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!cond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3679920" y="4972320"/>
                <a:ext cx="27432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36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J: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3679920" y="3741840"/>
                <a:ext cx="274320" cy="22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18360" tIns="0" bIns="0" anchor="t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: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38" name=""/>
          <p:cNvGrpSpPr/>
          <p:nvPr/>
        </p:nvGrpSpPr>
        <p:grpSpPr>
          <a:xfrm>
            <a:off x="6108840" y="1641600"/>
            <a:ext cx="2685960" cy="4206600"/>
            <a:chOff x="6108840" y="1641600"/>
            <a:chExt cx="2685960" cy="4206600"/>
          </a:xfrm>
        </p:grpSpPr>
        <p:sp>
          <p:nvSpPr>
            <p:cNvPr id="1439" name=""/>
            <p:cNvSpPr/>
            <p:nvPr/>
          </p:nvSpPr>
          <p:spPr>
            <a:xfrm>
              <a:off x="6108840" y="1641600"/>
              <a:ext cx="2682720" cy="30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6942240" y="1974960"/>
              <a:ext cx="13269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if (c1)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1 st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lse if 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2 st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el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ther stm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ext statemen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994440" y="3745080"/>
              <a:ext cx="10051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7021440" y="397368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7085160" y="4338720"/>
              <a:ext cx="7491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2 st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7518240" y="3981600"/>
              <a:ext cx="455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!c1*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8193240" y="3973680"/>
              <a:ext cx="601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!c1*!c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6994440" y="4933800"/>
              <a:ext cx="10051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6994440" y="5437080"/>
              <a:ext cx="1005120" cy="4111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 statem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7469280" y="516240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469280" y="3981600"/>
              <a:ext cx="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967520" y="4338720"/>
              <a:ext cx="7495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th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6172200" y="4338720"/>
              <a:ext cx="7491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1 st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53480" y="3973680"/>
              <a:ext cx="36504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 flipH="1">
              <a:off x="6586560" y="3981600"/>
              <a:ext cx="411120" cy="35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7469280" y="4567320"/>
              <a:ext cx="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586560" y="4567320"/>
              <a:ext cx="4111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 flipH="1">
              <a:off x="7929720" y="4567320"/>
              <a:ext cx="36504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564240" y="4940280"/>
              <a:ext cx="366840" cy="17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J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564240" y="3753000"/>
              <a:ext cx="366840" cy="22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836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54B25-C18D-4A6C-BA05-46B1BAE462C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the data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258480" y="1442520"/>
            <a:ext cx="39020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register for any declared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functional unit for each arithmetic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the ports, registers and functional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sed on reads and wr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multiplexors for multiple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unique identifi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each datapath component control input and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1" name=""/>
          <p:cNvGrpSpPr/>
          <p:nvPr/>
        </p:nvGrpSpPr>
        <p:grpSpPr>
          <a:xfrm>
            <a:off x="3868560" y="1546200"/>
            <a:ext cx="1789200" cy="4475160"/>
            <a:chOff x="3868560" y="1546200"/>
            <a:chExt cx="1789200" cy="4475160"/>
          </a:xfrm>
        </p:grpSpPr>
        <p:sp>
          <p:nvSpPr>
            <p:cNvPr id="1462" name=""/>
            <p:cNvSpPr/>
            <p:nvPr/>
          </p:nvSpPr>
          <p:spPr>
            <a:xfrm>
              <a:off x="5011560" y="367344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 flipH="1">
              <a:off x="5011200" y="177948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 flipH="1">
              <a:off x="5011560" y="376524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5011560" y="207468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5011200" y="291456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V="1">
              <a:off x="5286240" y="219060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5011200" y="21826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052880" y="4404960"/>
              <a:ext cx="59364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 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3868560" y="4451040"/>
              <a:ext cx="1843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829040" y="440496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 -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646520" y="445104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464000" y="47606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097160" y="4760640"/>
              <a:ext cx="3668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29040" y="381132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464000" y="3581280"/>
              <a:ext cx="547560" cy="23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4281480" y="3581280"/>
              <a:ext cx="136440" cy="18396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83960"/>
                <a:gd name="textAreaBottom" fmla="*/ 177480 h 183960"/>
              </a:gdLst>
              <a:ahLst/>
              <a:rect l="textAreaLeft" t="textAreaTop" r="textAreaRight" b="textAreaBottom"/>
              <a:pathLst>
                <a:path w="21600" h="29103">
                  <a:moveTo>
                    <a:pt x="3600" y="0"/>
                  </a:moveTo>
                  <a:arcTo wR="3600" hR="3600" stAng="16200000" swAng="-5400000"/>
                  <a:lnTo>
                    <a:pt x="0" y="25503"/>
                  </a:lnTo>
                  <a:arcTo wR="3600" hR="3600" stAng="10800000" swAng="-5400000"/>
                  <a:lnTo>
                    <a:pt x="18000" y="29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057640" y="3536640"/>
              <a:ext cx="3650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!=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600440" y="4222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646520" y="4222440"/>
              <a:ext cx="318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4464000" y="39938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011560" y="4222440"/>
              <a:ext cx="320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&lt;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189320" y="3993840"/>
              <a:ext cx="22860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965480" y="4222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600440" y="46335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965480" y="46335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4464000" y="513216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4097160" y="5155920"/>
              <a:ext cx="36684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38680" y="49971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4464000" y="16189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4235400" y="1650960"/>
              <a:ext cx="182520" cy="183960"/>
            </a:xfrm>
            <a:custGeom>
              <a:avLst/>
              <a:gdLst>
                <a:gd name="textAreaLeft" fmla="*/ 8640 w 182520"/>
                <a:gd name="textAreaRight" fmla="*/ 173880 w 182520"/>
                <a:gd name="textAreaTop" fmla="*/ 8640 h 183960"/>
                <a:gd name="textAreaBottom" fmla="*/ 175320 h 183960"/>
              </a:gdLst>
              <a:ahLst/>
              <a:rect l="textAreaLeft" t="textAreaTop" r="textAreaRight" b="textAreaBottom"/>
              <a:pathLst>
                <a:path w="21600" h="21770">
                  <a:moveTo>
                    <a:pt x="3600" y="0"/>
                  </a:moveTo>
                  <a:arcTo wR="3600" hR="3600" stAng="16200000" swAng="-5400000"/>
                  <a:lnTo>
                    <a:pt x="0" y="18170"/>
                  </a:lnTo>
                  <a:arcTo wR="3600" hR="3600" stAng="10800000" swAng="-5400000"/>
                  <a:lnTo>
                    <a:pt x="18000" y="21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4829040" y="1893600"/>
              <a:ext cx="136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5011560" y="16966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5057640" y="1546200"/>
              <a:ext cx="136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4467240" y="27590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4235400" y="275904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4464000" y="317016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4235400" y="317016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38680" y="184752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4738680" y="29876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4738680" y="33987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4738680" y="381132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5011560" y="525456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422680" y="3765240"/>
              <a:ext cx="1800" cy="1487520"/>
            </a:xfrm>
            <a:custGeom>
              <a:avLst/>
              <a:gdLst/>
              <a:ahLst/>
              <a:rect l="l" t="t" r="r" b="b"/>
              <a:pathLst>
                <a:path w="1" h="937">
                  <a:moveTo>
                    <a:pt x="0" y="937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464000" y="203184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464000" y="244296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38680" y="2260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4235400" y="207144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4149720" y="2474640"/>
              <a:ext cx="274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4782960" y="226044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5064120" y="19080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!go_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5378400" y="209052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5011560" y="25174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5565600" y="3673440"/>
              <a:ext cx="1800" cy="1890720"/>
            </a:xfrm>
            <a:custGeom>
              <a:avLst/>
              <a:gdLst/>
              <a:ahLst/>
              <a:rect l="l" t="t" r="r" b="b"/>
              <a:pathLst>
                <a:path w="1" h="1191">
                  <a:moveTo>
                    <a:pt x="1" y="0"/>
                  </a:moveTo>
                  <a:lnTo>
                    <a:pt x="0" y="1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4976640" y="5560920"/>
              <a:ext cx="590760" cy="4680"/>
            </a:xfrm>
            <a:custGeom>
              <a:avLst/>
              <a:gdLst/>
              <a:ahLst/>
              <a:rect l="l" t="t" r="r" b="b"/>
              <a:pathLst>
                <a:path w="930" h="8">
                  <a:moveTo>
                    <a:pt x="930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4444920" y="543528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4079880" y="5805360"/>
              <a:ext cx="27468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4986360" y="5921280"/>
              <a:ext cx="671400" cy="1440"/>
            </a:xfrm>
            <a:custGeom>
              <a:avLst/>
              <a:gdLst/>
              <a:ahLst/>
              <a:rect l="l" t="t" r="r" b="b"/>
              <a:pathLst>
                <a:path w="1058" h="1">
                  <a:moveTo>
                    <a:pt x="0" y="0"/>
                  </a:moveTo>
                  <a:lnTo>
                    <a:pt x="10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5649840" y="1782720"/>
              <a:ext cx="7920" cy="4135320"/>
            </a:xfrm>
            <a:custGeom>
              <a:avLst/>
              <a:gdLst/>
              <a:ahLst/>
              <a:rect l="l" t="t" r="r" b="b"/>
              <a:pathLst>
                <a:path w="5" h="2605">
                  <a:moveTo>
                    <a:pt x="5" y="260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4444920" y="579276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4738680" y="5673600"/>
              <a:ext cx="360" cy="133200"/>
            </a:xfrm>
            <a:custGeom>
              <a:avLst/>
              <a:gdLst/>
              <a:ahLst/>
              <a:rect l="l" t="t" r="r" b="b"/>
              <a:pathLst>
                <a:path w="1" h="210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4059000" y="5446440"/>
              <a:ext cx="36540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840280" y="2166840"/>
            <a:ext cx="3063960" cy="2697120"/>
            <a:chOff x="5840280" y="2166840"/>
            <a:chExt cx="3063960" cy="2697120"/>
          </a:xfrm>
        </p:grpSpPr>
        <p:sp>
          <p:nvSpPr>
            <p:cNvPr id="1524" name=""/>
            <p:cNvSpPr/>
            <p:nvPr/>
          </p:nvSpPr>
          <p:spPr>
            <a:xfrm>
              <a:off x="6227640" y="2349360"/>
              <a:ext cx="267660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7445520" y="3675240"/>
              <a:ext cx="593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8177040" y="3675240"/>
              <a:ext cx="594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7726320" y="39038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8502480" y="390384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 y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770960" y="390384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 x-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8456760" y="39038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740640" y="3897360"/>
              <a:ext cx="3240" cy="293760"/>
            </a:xfrm>
            <a:custGeom>
              <a:avLst/>
              <a:gdLst/>
              <a:ahLst/>
              <a:rect l="l" t="t" r="r" b="b"/>
              <a:pathLst>
                <a:path w="2" h="185">
                  <a:moveTo>
                    <a:pt x="0" y="0"/>
                  </a:moveTo>
                  <a:lnTo>
                    <a:pt x="2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7027920" y="3995640"/>
              <a:ext cx="222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7250040" y="390384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354720" y="390384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0080" y="390384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 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27960" y="2166840"/>
              <a:ext cx="183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365960" y="216684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8521560" y="4681440"/>
              <a:ext cx="182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8458200" y="4497480"/>
              <a:ext cx="1440" cy="322200"/>
            </a:xfrm>
            <a:custGeom>
              <a:avLst/>
              <a:gdLst/>
              <a:ahLst/>
              <a:rect l="l" t="t" r="r" b="b"/>
              <a:pathLst>
                <a:path w="1" h="203">
                  <a:moveTo>
                    <a:pt x="0" y="0"/>
                  </a:moveTo>
                  <a:lnTo>
                    <a:pt x="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831000" y="225756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7615080" y="225756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3640" y="308124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7445520" y="308124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8183520" y="426888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7908840" y="330984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 flipH="1">
              <a:off x="6752880" y="3492360"/>
              <a:ext cx="14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8228160" y="3492360"/>
              <a:ext cx="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573960" y="3400560"/>
              <a:ext cx="228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8685360" y="340056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7548480" y="340056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881840" y="346536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13640" y="266868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40520" y="289728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7445520" y="266868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726320" y="289728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 flipH="1">
              <a:off x="7365600" y="4086360"/>
              <a:ext cx="3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V="1">
              <a:off x="7359480" y="24858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7216920" y="248616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 flipH="1">
              <a:off x="7216920" y="248616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8091000" y="4086360"/>
              <a:ext cx="36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V="1">
              <a:off x="8091360" y="248580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>
              <a:off x="7954560" y="248616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7961400" y="248616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7359120" y="2852640"/>
              <a:ext cx="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 flipH="1">
              <a:off x="6627960" y="2852640"/>
              <a:ext cx="731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305400" y="262404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305400" y="285264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305400" y="303516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7359120" y="3263760"/>
              <a:ext cx="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 flipH="1">
              <a:off x="6633720" y="3263760"/>
              <a:ext cx="725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6305400" y="326376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292800" y="4040280"/>
              <a:ext cx="405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292800" y="4268880"/>
              <a:ext cx="405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292800" y="4452840"/>
              <a:ext cx="40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8862840" y="340056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685360" y="408636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 flipH="1">
              <a:off x="8685000" y="4086360"/>
              <a:ext cx="17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6964200" y="3675240"/>
              <a:ext cx="343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6354720" y="390384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6850080" y="390384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216920" y="3492360"/>
              <a:ext cx="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6488280" y="367524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40520" y="330984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6573960" y="340056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6753240" y="3492360"/>
              <a:ext cx="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13520" y="337644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767720" y="2371680"/>
              <a:ext cx="11048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5840280" y="2852640"/>
              <a:ext cx="768600" cy="1800"/>
            </a:xfrm>
            <a:custGeom>
              <a:avLst/>
              <a:gdLst/>
              <a:ahLst/>
              <a:rect l="l" t="t" r="r" b="b"/>
              <a:pathLst>
                <a:path w="484" h="1">
                  <a:moveTo>
                    <a:pt x="48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5840280" y="2760840"/>
              <a:ext cx="85428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53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5850000" y="3171960"/>
              <a:ext cx="844560" cy="1440"/>
            </a:xfrm>
            <a:custGeom>
              <a:avLst/>
              <a:gdLst/>
              <a:ahLst/>
              <a:rect l="l" t="t" r="r" b="b"/>
              <a:pathLst>
                <a:path w="532" h="1">
                  <a:moveTo>
                    <a:pt x="53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5850000" y="3263760"/>
              <a:ext cx="765000" cy="1800"/>
            </a:xfrm>
            <a:custGeom>
              <a:avLst/>
              <a:gdLst/>
              <a:ahLst/>
              <a:rect l="l" t="t" r="r" b="b"/>
              <a:pathLst>
                <a:path w="482" h="1">
                  <a:moveTo>
                    <a:pt x="48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5850000" y="4199040"/>
              <a:ext cx="885600" cy="1440"/>
            </a:xfrm>
            <a:custGeom>
              <a:avLst/>
              <a:gdLst/>
              <a:ahLst/>
              <a:rect l="l" t="t" r="r" b="b"/>
              <a:pathLst>
                <a:path w="558" h="1">
                  <a:moveTo>
                    <a:pt x="558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850000" y="4268880"/>
              <a:ext cx="1380960" cy="1440"/>
            </a:xfrm>
            <a:custGeom>
              <a:avLst/>
              <a:gdLst/>
              <a:ahLst/>
              <a:rect l="l" t="t" r="r" b="b"/>
              <a:pathLst>
                <a:path w="870" h="1">
                  <a:moveTo>
                    <a:pt x="87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5850000" y="4452840"/>
              <a:ext cx="2314440" cy="1800"/>
            </a:xfrm>
            <a:custGeom>
              <a:avLst/>
              <a:gdLst/>
              <a:ahLst/>
              <a:rect l="l" t="t" r="r" b="b"/>
              <a:pathLst>
                <a:path w="1458" h="1">
                  <a:moveTo>
                    <a:pt x="1458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94600" y="347508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526160" y="337644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8656560" y="337968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 rot="16200000">
              <a:off x="7213680" y="3152880"/>
              <a:ext cx="95040" cy="950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 rot="16200000">
              <a:off x="7943760" y="3152520"/>
              <a:ext cx="95040" cy="954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 rot="16200000">
              <a:off x="8680320" y="4339800"/>
              <a:ext cx="95400" cy="954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B624-724C-40B2-991C-1AC40AEED4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reating the controller’s F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5114520" y="1534680"/>
            <a:ext cx="3892680" cy="20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e structure as FS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lace complex actions/conditions with datapath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3" name=""/>
          <p:cNvGrpSpPr/>
          <p:nvPr/>
        </p:nvGrpSpPr>
        <p:grpSpPr>
          <a:xfrm>
            <a:off x="222120" y="1549440"/>
            <a:ext cx="1789200" cy="4475160"/>
            <a:chOff x="222120" y="1549440"/>
            <a:chExt cx="1789200" cy="4475160"/>
          </a:xfrm>
        </p:grpSpPr>
        <p:sp>
          <p:nvSpPr>
            <p:cNvPr id="1604" name=""/>
            <p:cNvSpPr/>
            <p:nvPr/>
          </p:nvSpPr>
          <p:spPr>
            <a:xfrm>
              <a:off x="1365120" y="367668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>
              <a:off x="1364760" y="1782720"/>
              <a:ext cx="639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H="1">
              <a:off x="1365120" y="376848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365120" y="207792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H="1">
              <a:off x="1364760" y="2917800"/>
              <a:ext cx="366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1639800" y="219384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1364760" y="2185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406440" y="4408200"/>
              <a:ext cx="59364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 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22120" y="4454280"/>
              <a:ext cx="1843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182600" y="440820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 -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000080" y="445428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817560" y="476388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50720" y="4763880"/>
              <a:ext cx="3668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182600" y="381456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817560" y="3584520"/>
              <a:ext cx="547560" cy="2300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35040" y="3584520"/>
              <a:ext cx="136440" cy="183960"/>
            </a:xfrm>
            <a:custGeom>
              <a:avLst/>
              <a:gdLst>
                <a:gd name="textAreaLeft" fmla="*/ 6480 w 136440"/>
                <a:gd name="textAreaRight" fmla="*/ 129960 w 136440"/>
                <a:gd name="textAreaTop" fmla="*/ 6480 h 183960"/>
                <a:gd name="textAreaBottom" fmla="*/ 177480 h 183960"/>
              </a:gdLst>
              <a:ahLst/>
              <a:rect l="textAreaLeft" t="textAreaTop" r="textAreaRight" b="textAreaBottom"/>
              <a:pathLst>
                <a:path w="21600" h="29103">
                  <a:moveTo>
                    <a:pt x="3600" y="0"/>
                  </a:moveTo>
                  <a:arcTo wR="3600" hR="3600" stAng="16200000" swAng="-5400000"/>
                  <a:lnTo>
                    <a:pt x="0" y="25503"/>
                  </a:lnTo>
                  <a:arcTo wR="3600" hR="3600" stAng="10800000" swAng="-5400000"/>
                  <a:lnTo>
                    <a:pt x="18000" y="291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411200" y="3539880"/>
              <a:ext cx="3650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!=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954000" y="42256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1000080" y="4225680"/>
              <a:ext cx="318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817560" y="399708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1365120" y="4225680"/>
              <a:ext cx="3207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x&lt;y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542880" y="3997080"/>
              <a:ext cx="22860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1319040" y="42256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954000" y="463680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1319040" y="463680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817560" y="513540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450720" y="5159160"/>
              <a:ext cx="36684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1092240" y="50004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817560" y="162216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588960" y="1654200"/>
              <a:ext cx="182520" cy="183960"/>
            </a:xfrm>
            <a:custGeom>
              <a:avLst/>
              <a:gdLst>
                <a:gd name="textAreaLeft" fmla="*/ 8640 w 182520"/>
                <a:gd name="textAreaRight" fmla="*/ 173880 w 182520"/>
                <a:gd name="textAreaTop" fmla="*/ 8640 h 183960"/>
                <a:gd name="textAreaBottom" fmla="*/ 175320 h 183960"/>
              </a:gdLst>
              <a:ahLst/>
              <a:rect l="textAreaLeft" t="textAreaTop" r="textAreaRight" b="textAreaBottom"/>
              <a:pathLst>
                <a:path w="21600" h="21770">
                  <a:moveTo>
                    <a:pt x="3600" y="0"/>
                  </a:moveTo>
                  <a:arcTo wR="3600" hR="3600" stAng="16200000" swAng="-5400000"/>
                  <a:lnTo>
                    <a:pt x="0" y="18170"/>
                  </a:lnTo>
                  <a:arcTo wR="3600" hR="3600" stAng="10800000" swAng="-5400000"/>
                  <a:lnTo>
                    <a:pt x="18000" y="2177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1182600" y="1896840"/>
              <a:ext cx="13644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365120" y="16999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1411200" y="1549440"/>
              <a:ext cx="13644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820800" y="276228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 = 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588960" y="276228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817560" y="317340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 = 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588960" y="317340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1092240" y="18507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1092240" y="29908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1092240" y="340200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092240" y="381456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1365120" y="5257800"/>
              <a:ext cx="4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1776240" y="3768480"/>
              <a:ext cx="1800" cy="1487520"/>
            </a:xfrm>
            <a:custGeom>
              <a:avLst/>
              <a:gdLst/>
              <a:ahLst/>
              <a:rect l="l" t="t" r="r" b="b"/>
              <a:pathLst>
                <a:path w="1" h="937">
                  <a:moveTo>
                    <a:pt x="0" y="937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817560" y="203508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817560" y="244620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1092240" y="226368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588960" y="207468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503280" y="2477880"/>
              <a:ext cx="274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1136520" y="2263680"/>
              <a:ext cx="2746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1417680" y="191124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!go_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731960" y="2093760"/>
              <a:ext cx="0" cy="82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65120" y="252072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19160" y="3676680"/>
              <a:ext cx="1800" cy="1890720"/>
            </a:xfrm>
            <a:custGeom>
              <a:avLst/>
              <a:gdLst/>
              <a:ahLst/>
              <a:rect l="l" t="t" r="r" b="b"/>
              <a:pathLst>
                <a:path w="1" h="1191">
                  <a:moveTo>
                    <a:pt x="1" y="0"/>
                  </a:moveTo>
                  <a:lnTo>
                    <a:pt x="0" y="119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330200" y="5564160"/>
              <a:ext cx="590760" cy="4680"/>
            </a:xfrm>
            <a:custGeom>
              <a:avLst/>
              <a:gdLst/>
              <a:ahLst/>
              <a:rect l="l" t="t" r="r" b="b"/>
              <a:pathLst>
                <a:path w="930" h="8">
                  <a:moveTo>
                    <a:pt x="930" y="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98480" y="543852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 =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33440" y="5808600"/>
              <a:ext cx="27468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339920" y="5924520"/>
              <a:ext cx="671400" cy="1440"/>
            </a:xfrm>
            <a:custGeom>
              <a:avLst/>
              <a:gdLst/>
              <a:ahLst/>
              <a:rect l="l" t="t" r="r" b="b"/>
              <a:pathLst>
                <a:path w="1058" h="1">
                  <a:moveTo>
                    <a:pt x="0" y="0"/>
                  </a:moveTo>
                  <a:lnTo>
                    <a:pt x="10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03400" y="1785960"/>
              <a:ext cx="7920" cy="4135320"/>
            </a:xfrm>
            <a:custGeom>
              <a:avLst/>
              <a:gdLst/>
              <a:ahLst/>
              <a:rect l="l" t="t" r="r" b="b"/>
              <a:pathLst>
                <a:path w="5" h="2605">
                  <a:moveTo>
                    <a:pt x="5" y="260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98480" y="5796000"/>
              <a:ext cx="5493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092240" y="5676840"/>
              <a:ext cx="360" cy="133200"/>
            </a:xfrm>
            <a:custGeom>
              <a:avLst/>
              <a:gdLst/>
              <a:ahLst/>
              <a:rect l="l" t="t" r="r" b="b"/>
              <a:pathLst>
                <a:path w="1" h="210">
                  <a:moveTo>
                    <a:pt x="0" y="0"/>
                  </a:moveTo>
                  <a:lnTo>
                    <a:pt x="0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12560" y="5449680"/>
              <a:ext cx="36540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2590920" y="1538280"/>
            <a:ext cx="2390760" cy="4476600"/>
            <a:chOff x="2590920" y="1538280"/>
            <a:chExt cx="2390760" cy="4476600"/>
          </a:xfrm>
        </p:grpSpPr>
        <p:sp>
          <p:nvSpPr>
            <p:cNvPr id="1666" name=""/>
            <p:cNvSpPr/>
            <p:nvPr/>
          </p:nvSpPr>
          <p:spPr>
            <a:xfrm>
              <a:off x="2590920" y="1701720"/>
              <a:ext cx="2390760" cy="4313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2976840" y="4379760"/>
              <a:ext cx="593640" cy="32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2792520" y="4425840"/>
              <a:ext cx="1843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3753000" y="4379760"/>
              <a:ext cx="549360" cy="32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570480" y="442584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3381480" y="4886280"/>
              <a:ext cx="547920" cy="16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015000" y="4898880"/>
              <a:ext cx="36648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3753000" y="3921120"/>
              <a:ext cx="549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3387960" y="3692520"/>
              <a:ext cx="54756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3232440" y="3692520"/>
              <a:ext cx="137880" cy="182520"/>
            </a:xfrm>
            <a:custGeom>
              <a:avLst/>
              <a:gdLst>
                <a:gd name="textAreaLeft" fmla="*/ 6480 w 137880"/>
                <a:gd name="textAreaRight" fmla="*/ 131400 w 137880"/>
                <a:gd name="textAreaTop" fmla="*/ 6480 h 182520"/>
                <a:gd name="textAreaBottom" fmla="*/ 176040 h 182520"/>
              </a:gdLst>
              <a:ahLst/>
              <a:rect l="textAreaLeft" t="textAreaTop" r="textAreaRight" b="textAreaBottom"/>
              <a:pathLst>
                <a:path w="21600" h="28575">
                  <a:moveTo>
                    <a:pt x="3600" y="0"/>
                  </a:moveTo>
                  <a:arcTo wR="3600" hR="3600" stAng="16200000" swAng="-5400000"/>
                  <a:lnTo>
                    <a:pt x="0" y="24975"/>
                  </a:lnTo>
                  <a:arcTo wR="3600" hR="3600" stAng="10800000" swAng="-5400000"/>
                  <a:lnTo>
                    <a:pt x="18000" y="2857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3981600" y="3616200"/>
              <a:ext cx="5954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3468960" y="4244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976840" y="4236840"/>
              <a:ext cx="5014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3387960" y="4051080"/>
              <a:ext cx="547560" cy="185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935520" y="4236840"/>
              <a:ext cx="425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3141720" y="4008240"/>
              <a:ext cx="22860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3859560" y="4244760"/>
              <a:ext cx="0" cy="13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3935520" y="3784680"/>
              <a:ext cx="55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3486240" y="4708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853080" y="4708440"/>
              <a:ext cx="0" cy="182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489560" y="3784680"/>
              <a:ext cx="1800" cy="1747800"/>
            </a:xfrm>
            <a:custGeom>
              <a:avLst/>
              <a:gdLst/>
              <a:ahLst/>
              <a:rect l="l" t="t" r="r" b="b"/>
              <a:pathLst>
                <a:path w="1" h="1101">
                  <a:moveTo>
                    <a:pt x="1" y="0"/>
                  </a:moveTo>
                  <a:lnTo>
                    <a:pt x="0" y="110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 flipH="1">
              <a:off x="3929040" y="5533920"/>
              <a:ext cx="55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3381480" y="5194080"/>
              <a:ext cx="547920" cy="1620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3015000" y="5191200"/>
              <a:ext cx="366480" cy="1839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3656160" y="50641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3381480" y="5421240"/>
              <a:ext cx="547920" cy="2286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ld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3015000" y="5784840"/>
              <a:ext cx="36648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3929400" y="586908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4573800" y="1987560"/>
              <a:ext cx="1440" cy="3881520"/>
            </a:xfrm>
            <a:custGeom>
              <a:avLst/>
              <a:gdLst/>
              <a:ahLst/>
              <a:rect l="l" t="t" r="r" b="b"/>
              <a:pathLst>
                <a:path w="1" h="2445">
                  <a:moveTo>
                    <a:pt x="0" y="24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3381480" y="5784840"/>
              <a:ext cx="547920" cy="1778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3656160" y="565776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76840" y="5465520"/>
              <a:ext cx="36504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3387960" y="2757240"/>
              <a:ext cx="547560" cy="32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3205440" y="2849400"/>
              <a:ext cx="18252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3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3387960" y="3228840"/>
              <a:ext cx="547560" cy="32076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 = 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 = 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3186360" y="3321000"/>
              <a:ext cx="18396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4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3662640" y="307800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662640" y="35575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662640" y="392112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926160" y="5283000"/>
              <a:ext cx="453960" cy="5040"/>
            </a:xfrm>
            <a:custGeom>
              <a:avLst/>
              <a:gdLst/>
              <a:ahLst/>
              <a:rect l="l" t="t" r="r" b="b"/>
              <a:pathLst>
                <a:path w="286" h="3">
                  <a:moveTo>
                    <a:pt x="0" y="0"/>
                  </a:moveTo>
                  <a:lnTo>
                    <a:pt x="286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389480" y="3875040"/>
              <a:ext cx="1800" cy="1413000"/>
            </a:xfrm>
            <a:custGeom>
              <a:avLst/>
              <a:gdLst/>
              <a:ahLst/>
              <a:rect l="l" t="t" r="r" b="b"/>
              <a:pathLst>
                <a:path w="1" h="890">
                  <a:moveTo>
                    <a:pt x="0" y="890"/>
                  </a:move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942000" y="3873600"/>
              <a:ext cx="455400" cy="2880"/>
            </a:xfrm>
            <a:custGeom>
              <a:avLst/>
              <a:gdLst/>
              <a:ahLst/>
              <a:rect l="l" t="t" r="r" b="b"/>
              <a:pathLst>
                <a:path w="287" h="2">
                  <a:moveTo>
                    <a:pt x="287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 flipH="1">
              <a:off x="3929040" y="1976400"/>
              <a:ext cx="641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3381480" y="1892160"/>
              <a:ext cx="547920" cy="16992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3186360" y="1896840"/>
              <a:ext cx="183960" cy="182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746520" y="2060640"/>
              <a:ext cx="13824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929400" y="192708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975120" y="1782720"/>
              <a:ext cx="13824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3656160" y="2062080"/>
              <a:ext cx="0" cy="13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3381480" y="2197080"/>
              <a:ext cx="547920" cy="1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3381480" y="2544840"/>
              <a:ext cx="547920" cy="1602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656160" y="2360520"/>
              <a:ext cx="1440" cy="177840"/>
            </a:xfrm>
            <a:custGeom>
              <a:avLst/>
              <a:gdLst/>
              <a:ahLst/>
              <a:rect l="l" t="t" r="r" b="b"/>
              <a:pathLst>
                <a:path w="1" h="112">
                  <a:moveTo>
                    <a:pt x="0" y="0"/>
                  </a:moveTo>
                  <a:lnTo>
                    <a:pt x="1" y="1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186360" y="2197080"/>
              <a:ext cx="18396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095640" y="2568600"/>
              <a:ext cx="274680" cy="22860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2-J: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700800" y="2361960"/>
              <a:ext cx="274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3929400" y="223344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3981600" y="2081160"/>
              <a:ext cx="4572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(!go_i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295880" y="2232000"/>
              <a:ext cx="1800" cy="681120"/>
            </a:xfrm>
            <a:custGeom>
              <a:avLst/>
              <a:gdLst/>
              <a:ahLst/>
              <a:rect l="l" t="t" r="r" b="b"/>
              <a:pathLst>
                <a:path w="1" h="429">
                  <a:moveTo>
                    <a:pt x="0" y="0"/>
                  </a:moveTo>
                  <a:lnTo>
                    <a:pt x="1" y="42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 flipH="1">
              <a:off x="3929400" y="2913120"/>
              <a:ext cx="366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929400" y="262080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 flipV="1">
              <a:off x="4203720" y="2299680"/>
              <a:ext cx="0" cy="32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 flipH="1">
              <a:off x="3929400" y="2300040"/>
              <a:ext cx="274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4324680" y="1538280"/>
              <a:ext cx="271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4624560" y="1541520"/>
              <a:ext cx="4680" cy="163440"/>
            </a:xfrm>
            <a:custGeom>
              <a:avLst/>
              <a:gdLst/>
              <a:ahLst/>
              <a:rect l="l" t="t" r="r" b="b"/>
              <a:pathLst>
                <a:path w="3" h="103">
                  <a:moveTo>
                    <a:pt x="0" y="0"/>
                  </a:moveTo>
                  <a:lnTo>
                    <a:pt x="3" y="1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907000" y="1904760"/>
              <a:ext cx="325440" cy="18288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907000" y="219708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907000" y="256860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907000" y="284940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0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907000" y="332100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907000" y="369252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2907000" y="400824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2878200" y="4708440"/>
              <a:ext cx="3272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1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4035600" y="4708440"/>
              <a:ext cx="3254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878200" y="4894200"/>
              <a:ext cx="3272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878200" y="5191200"/>
              <a:ext cx="327240" cy="18396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1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2878200" y="5465520"/>
              <a:ext cx="327240" cy="1843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878200" y="5784840"/>
              <a:ext cx="327240" cy="18252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1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662560" y="1703160"/>
              <a:ext cx="11048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5316480" y="3262320"/>
            <a:ext cx="3063960" cy="2697120"/>
            <a:chOff x="5316480" y="3262320"/>
            <a:chExt cx="3063960" cy="2697120"/>
          </a:xfrm>
        </p:grpSpPr>
        <p:sp>
          <p:nvSpPr>
            <p:cNvPr id="1745" name=""/>
            <p:cNvSpPr/>
            <p:nvPr/>
          </p:nvSpPr>
          <p:spPr>
            <a:xfrm>
              <a:off x="5703840" y="3444840"/>
              <a:ext cx="267660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921720" y="4770720"/>
              <a:ext cx="593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7653240" y="4770720"/>
              <a:ext cx="59400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7202520" y="499932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7978680" y="499932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 y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7247160" y="499932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 x-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7932960" y="499932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6216840" y="4992840"/>
              <a:ext cx="3240" cy="293760"/>
            </a:xfrm>
            <a:custGeom>
              <a:avLst/>
              <a:gdLst/>
              <a:ahLst/>
              <a:rect l="l" t="t" r="r" b="b"/>
              <a:pathLst>
                <a:path w="2" h="185">
                  <a:moveTo>
                    <a:pt x="0" y="0"/>
                  </a:moveTo>
                  <a:lnTo>
                    <a:pt x="2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504120" y="5091120"/>
              <a:ext cx="222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26240" y="499932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5830920" y="499932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326280" y="499932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 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6104160" y="3262320"/>
              <a:ext cx="183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6842160" y="32623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7997760" y="5776920"/>
              <a:ext cx="182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7934400" y="5592960"/>
              <a:ext cx="1440" cy="322200"/>
            </a:xfrm>
            <a:custGeom>
              <a:avLst/>
              <a:gdLst/>
              <a:ahLst/>
              <a:rect l="l" t="t" r="r" b="b"/>
              <a:pathLst>
                <a:path w="1" h="203">
                  <a:moveTo>
                    <a:pt x="0" y="0"/>
                  </a:moveTo>
                  <a:lnTo>
                    <a:pt x="0" y="20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6307200" y="335304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7091280" y="335304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6189840" y="417672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6921720" y="417672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7659720" y="536436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7385040" y="44053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 flipH="1">
              <a:off x="6229080" y="4587840"/>
              <a:ext cx="14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7704360" y="4587840"/>
              <a:ext cx="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050160" y="4496040"/>
              <a:ext cx="2288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8161560" y="449604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7024680" y="449604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7358040" y="456084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6189840" y="376416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6516720" y="399276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6921720" y="376416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7202520" y="3992760"/>
              <a:ext cx="0" cy="183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 flipH="1">
              <a:off x="6841800" y="5181840"/>
              <a:ext cx="366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 flipV="1">
              <a:off x="6835680" y="358128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6693120" y="35816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 flipH="1">
              <a:off x="6693120" y="3581640"/>
              <a:ext cx="142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 flipH="1">
              <a:off x="7567200" y="5181840"/>
              <a:ext cx="365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 flipV="1">
              <a:off x="7567560" y="358128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 flipH="1">
              <a:off x="7430760" y="358164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7437600" y="35816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H="1">
              <a:off x="6835320" y="3948120"/>
              <a:ext cx="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H="1">
              <a:off x="6104160" y="3948120"/>
              <a:ext cx="73152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5781600" y="371952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5781600" y="394812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5781600" y="413064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 flipH="1">
              <a:off x="6835320" y="4359240"/>
              <a:ext cx="8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 flipH="1">
              <a:off x="6109920" y="4359240"/>
              <a:ext cx="72540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5781600" y="435924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5769000" y="5135760"/>
              <a:ext cx="405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5769000" y="5364360"/>
              <a:ext cx="405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5769000" y="5548320"/>
              <a:ext cx="4050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8339040" y="449604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8161560" y="51818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 flipH="1">
              <a:off x="8161200" y="5181840"/>
              <a:ext cx="177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440400" y="4770720"/>
              <a:ext cx="34308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5830920" y="499932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326280" y="499932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6693120" y="4587840"/>
              <a:ext cx="0" cy="18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5964480" y="477072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6516720" y="4405320"/>
              <a:ext cx="0" cy="365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6050160" y="449604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6229440" y="4587840"/>
              <a:ext cx="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6489720" y="447192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243920" y="3467160"/>
              <a:ext cx="11048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5316480" y="3948120"/>
              <a:ext cx="768600" cy="1800"/>
            </a:xfrm>
            <a:custGeom>
              <a:avLst/>
              <a:gdLst/>
              <a:ahLst/>
              <a:rect l="l" t="t" r="r" b="b"/>
              <a:pathLst>
                <a:path w="484" h="1">
                  <a:moveTo>
                    <a:pt x="48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5316480" y="3856320"/>
              <a:ext cx="85428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53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5326200" y="4267440"/>
              <a:ext cx="844560" cy="1440"/>
            </a:xfrm>
            <a:custGeom>
              <a:avLst/>
              <a:gdLst/>
              <a:ahLst/>
              <a:rect l="l" t="t" r="r" b="b"/>
              <a:pathLst>
                <a:path w="532" h="1">
                  <a:moveTo>
                    <a:pt x="53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5326200" y="4359240"/>
              <a:ext cx="765000" cy="1800"/>
            </a:xfrm>
            <a:custGeom>
              <a:avLst/>
              <a:gdLst/>
              <a:ahLst/>
              <a:rect l="l" t="t" r="r" b="b"/>
              <a:pathLst>
                <a:path w="482" h="1">
                  <a:moveTo>
                    <a:pt x="48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5326200" y="5294520"/>
              <a:ext cx="885600" cy="1440"/>
            </a:xfrm>
            <a:custGeom>
              <a:avLst/>
              <a:gdLst/>
              <a:ahLst/>
              <a:rect l="l" t="t" r="r" b="b"/>
              <a:pathLst>
                <a:path w="558" h="1">
                  <a:moveTo>
                    <a:pt x="558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5326200" y="5364360"/>
              <a:ext cx="1380960" cy="1440"/>
            </a:xfrm>
            <a:custGeom>
              <a:avLst/>
              <a:gdLst/>
              <a:ahLst/>
              <a:rect l="l" t="t" r="r" b="b"/>
              <a:pathLst>
                <a:path w="870" h="1">
                  <a:moveTo>
                    <a:pt x="87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5326200" y="5548320"/>
              <a:ext cx="2314440" cy="1800"/>
            </a:xfrm>
            <a:custGeom>
              <a:avLst/>
              <a:gdLst/>
              <a:ahLst/>
              <a:rect l="l" t="t" r="r" b="b"/>
              <a:pathLst>
                <a:path w="1458" h="1">
                  <a:moveTo>
                    <a:pt x="1458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6670800" y="457056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7002360" y="447192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8132760" y="447516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 rot="16200000">
              <a:off x="6689880" y="4248360"/>
              <a:ext cx="95040" cy="950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 rot="16200000">
              <a:off x="7419960" y="4248000"/>
              <a:ext cx="95040" cy="954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 rot="16200000">
              <a:off x="8156520" y="5435280"/>
              <a:ext cx="95400" cy="9540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A5770-8BCE-4301-B7E1-9D72CF60067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litting into a controller and data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2787480" y="2975040"/>
            <a:ext cx="471600" cy="1440"/>
          </a:xfrm>
          <a:custGeom>
            <a:avLst/>
            <a:gdLst/>
            <a:ahLst/>
            <a:rect l="l" t="t" r="r" b="b"/>
            <a:pathLst>
              <a:path w="297" h="1">
                <a:moveTo>
                  <a:pt x="0" y="0"/>
                </a:moveTo>
                <a:lnTo>
                  <a:pt x="297" y="0"/>
                </a:lnTo>
              </a:path>
            </a:pathLst>
          </a:custGeom>
          <a:noFill/>
          <a:ln w="9360">
            <a:solidFill>
              <a:srgbClr val="969696"/>
            </a:solidFill>
            <a:prstDash val="lgDashDot"/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3309840" y="1660680"/>
            <a:ext cx="2390760" cy="4313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3695760" y="4338720"/>
            <a:ext cx="593640" cy="32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_sel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_ld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3511440" y="4384800"/>
            <a:ext cx="1843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4471920" y="4338720"/>
            <a:ext cx="549360" cy="32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sel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ld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4289400" y="438480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4100400" y="4844880"/>
            <a:ext cx="547920" cy="1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3733920" y="4857840"/>
            <a:ext cx="36648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4471920" y="3879720"/>
            <a:ext cx="54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neq_y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4106880" y="3651120"/>
            <a:ext cx="54756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951360" y="3651120"/>
            <a:ext cx="137880" cy="182520"/>
          </a:xfrm>
          <a:custGeom>
            <a:avLst/>
            <a:gdLst>
              <a:gd name="textAreaLeft" fmla="*/ 6480 w 137880"/>
              <a:gd name="textAreaRight" fmla="*/ 131400 w 137880"/>
              <a:gd name="textAreaTop" fmla="*/ 6480 h 182520"/>
              <a:gd name="textAreaBottom" fmla="*/ 176040 h 182520"/>
            </a:gdLst>
            <a:ahLst/>
            <a:rect l="textAreaLeft" t="textAreaTop" r="textAreaRight" b="textAreaBottom"/>
            <a:pathLst>
              <a:path w="21600" h="28575">
                <a:moveTo>
                  <a:pt x="3600" y="0"/>
                </a:moveTo>
                <a:arcTo wR="3600" hR="3600" stAng="16200000" swAng="-5400000"/>
                <a:lnTo>
                  <a:pt x="0" y="24975"/>
                </a:lnTo>
                <a:arcTo wR="3600" hR="3600" stAng="10800000" swAng="-5400000"/>
                <a:lnTo>
                  <a:pt x="18000" y="28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700520" y="3575160"/>
            <a:ext cx="595440" cy="1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neq_y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4187880" y="420372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3695760" y="4195800"/>
            <a:ext cx="501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lt_y=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4106880" y="4010040"/>
            <a:ext cx="547560" cy="185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4654440" y="4195800"/>
            <a:ext cx="42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lt_y=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3860640" y="3967200"/>
            <a:ext cx="22860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6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4578480" y="420372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>
            <a:off x="4654440" y="3743280"/>
            <a:ext cx="55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>
            <a:off x="4205160" y="4667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>
            <a:off x="4572000" y="46674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5208480" y="3743280"/>
            <a:ext cx="1800" cy="1747800"/>
          </a:xfrm>
          <a:custGeom>
            <a:avLst/>
            <a:gdLst/>
            <a:ahLst/>
            <a:rect l="l" t="t" r="r" b="b"/>
            <a:pathLst>
              <a:path w="1" h="1101">
                <a:moveTo>
                  <a:pt x="1" y="0"/>
                </a:moveTo>
                <a:lnTo>
                  <a:pt x="0" y="1101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 flipH="1">
            <a:off x="4647960" y="549288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4100400" y="5153040"/>
            <a:ext cx="547920" cy="16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733920" y="5149800"/>
            <a:ext cx="366480" cy="184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>
            <a:off x="4375080" y="502272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>
            <a:off x="4100400" y="5380200"/>
            <a:ext cx="547920" cy="2286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_ld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733920" y="5743440"/>
            <a:ext cx="36648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4648320" y="582768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5292720" y="1946160"/>
            <a:ext cx="1440" cy="3881520"/>
          </a:xfrm>
          <a:custGeom>
            <a:avLst/>
            <a:gdLst/>
            <a:ahLst/>
            <a:rect l="l" t="t" r="r" b="b"/>
            <a:pathLst>
              <a:path w="1" h="2445">
                <a:moveTo>
                  <a:pt x="0" y="2445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4100400" y="5743440"/>
            <a:ext cx="547920" cy="177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>
            <a:off x="4375080" y="561672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3695760" y="5424480"/>
            <a:ext cx="365040" cy="184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4106880" y="2716200"/>
            <a:ext cx="547560" cy="320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sel =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_ld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3924360" y="280836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4106880" y="3187800"/>
            <a:ext cx="547560" cy="320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_sel = 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_ld = 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3905280" y="3279600"/>
            <a:ext cx="183960" cy="1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4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4381560" y="303696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4381560" y="351648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381560" y="3879720"/>
            <a:ext cx="0" cy="136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>
            <a:off x="4645080" y="5241960"/>
            <a:ext cx="453960" cy="4680"/>
          </a:xfrm>
          <a:custGeom>
            <a:avLst/>
            <a:gdLst/>
            <a:ahLst/>
            <a:rect l="l" t="t" r="r" b="b"/>
            <a:pathLst>
              <a:path w="286" h="3">
                <a:moveTo>
                  <a:pt x="0" y="0"/>
                </a:moveTo>
                <a:lnTo>
                  <a:pt x="286" y="3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>
            <a:off x="5108400" y="3833640"/>
            <a:ext cx="1800" cy="1413000"/>
          </a:xfrm>
          <a:custGeom>
            <a:avLst/>
            <a:gdLst/>
            <a:ahLst/>
            <a:rect l="l" t="t" r="r" b="b"/>
            <a:pathLst>
              <a:path w="1" h="890">
                <a:moveTo>
                  <a:pt x="0" y="890"/>
                </a:moveTo>
                <a:lnTo>
                  <a:pt x="1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4660920" y="3832200"/>
            <a:ext cx="455760" cy="3240"/>
          </a:xfrm>
          <a:custGeom>
            <a:avLst/>
            <a:gdLst/>
            <a:ahLst/>
            <a:rect l="l" t="t" r="r" b="b"/>
            <a:pathLst>
              <a:path w="287" h="2">
                <a:moveTo>
                  <a:pt x="287" y="0"/>
                </a:moveTo>
                <a:lnTo>
                  <a:pt x="0" y="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 flipH="1">
            <a:off x="4647960" y="1935000"/>
            <a:ext cx="641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4100400" y="1851120"/>
            <a:ext cx="547920" cy="169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3905280" y="1855800"/>
            <a:ext cx="18396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4465800" y="2019240"/>
            <a:ext cx="137880" cy="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4648320" y="188604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4694400" y="1741320"/>
            <a:ext cx="137880" cy="1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4375080" y="20210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>
            <a:off x="4100400" y="2155680"/>
            <a:ext cx="547920" cy="1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4100400" y="2503440"/>
            <a:ext cx="547920" cy="160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>
            <a:off x="4375080" y="2319480"/>
            <a:ext cx="1800" cy="177480"/>
          </a:xfrm>
          <a:custGeom>
            <a:avLst/>
            <a:gdLst/>
            <a:ahLst/>
            <a:rect l="l" t="t" r="r" b="b"/>
            <a:pathLst>
              <a:path w="1" h="112">
                <a:moveTo>
                  <a:pt x="0" y="0"/>
                </a:moveTo>
                <a:lnTo>
                  <a:pt x="1" y="112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>
            <a:off x="3905280" y="2155680"/>
            <a:ext cx="183960" cy="1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3814920" y="2527200"/>
            <a:ext cx="274320" cy="2286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4419720" y="2320920"/>
            <a:ext cx="2746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go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9" name=""/>
          <p:cNvSpPr/>
          <p:nvPr/>
        </p:nvSpPr>
        <p:spPr>
          <a:xfrm>
            <a:off x="4648320" y="219240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"/>
          <p:cNvSpPr/>
          <p:nvPr/>
        </p:nvSpPr>
        <p:spPr>
          <a:xfrm>
            <a:off x="4700520" y="2039760"/>
            <a:ext cx="4572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(!go_i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"/>
          <p:cNvSpPr/>
          <p:nvPr/>
        </p:nvSpPr>
        <p:spPr>
          <a:xfrm>
            <a:off x="5014800" y="2190600"/>
            <a:ext cx="1800" cy="681120"/>
          </a:xfrm>
          <a:custGeom>
            <a:avLst/>
            <a:gdLst/>
            <a:ahLst/>
            <a:rect l="l" t="t" r="r" b="b"/>
            <a:pathLst>
              <a:path w="1" h="429">
                <a:moveTo>
                  <a:pt x="0" y="0"/>
                </a:moveTo>
                <a:lnTo>
                  <a:pt x="1" y="429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"/>
          <p:cNvSpPr/>
          <p:nvPr/>
        </p:nvSpPr>
        <p:spPr>
          <a:xfrm flipH="1">
            <a:off x="4648320" y="2871720"/>
            <a:ext cx="36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"/>
          <p:cNvSpPr/>
          <p:nvPr/>
        </p:nvSpPr>
        <p:spPr>
          <a:xfrm>
            <a:off x="4648320" y="25797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"/>
          <p:cNvSpPr/>
          <p:nvPr/>
        </p:nvSpPr>
        <p:spPr>
          <a:xfrm flipV="1">
            <a:off x="4923000" y="2258640"/>
            <a:ext cx="0" cy="320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"/>
          <p:cNvSpPr/>
          <p:nvPr/>
        </p:nvSpPr>
        <p:spPr>
          <a:xfrm flipH="1">
            <a:off x="4647960" y="225900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"/>
          <p:cNvSpPr/>
          <p:nvPr/>
        </p:nvSpPr>
        <p:spPr>
          <a:xfrm>
            <a:off x="5043600" y="1496880"/>
            <a:ext cx="2714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"/>
          <p:cNvSpPr/>
          <p:nvPr/>
        </p:nvSpPr>
        <p:spPr>
          <a:xfrm>
            <a:off x="5343480" y="1500120"/>
            <a:ext cx="4680" cy="163440"/>
          </a:xfrm>
          <a:custGeom>
            <a:avLst/>
            <a:gdLst/>
            <a:ahLst/>
            <a:rect l="l" t="t" r="r" b="b"/>
            <a:pathLst>
              <a:path w="3" h="103">
                <a:moveTo>
                  <a:pt x="0" y="0"/>
                </a:moveTo>
                <a:lnTo>
                  <a:pt x="3" y="10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"/>
          <p:cNvSpPr/>
          <p:nvPr/>
        </p:nvSpPr>
        <p:spPr>
          <a:xfrm>
            <a:off x="3625920" y="186372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"/>
          <p:cNvSpPr/>
          <p:nvPr/>
        </p:nvSpPr>
        <p:spPr>
          <a:xfrm>
            <a:off x="3625920" y="2155680"/>
            <a:ext cx="325440" cy="1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"/>
          <p:cNvSpPr/>
          <p:nvPr/>
        </p:nvSpPr>
        <p:spPr>
          <a:xfrm>
            <a:off x="3625920" y="252720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"/>
          <p:cNvSpPr/>
          <p:nvPr/>
        </p:nvSpPr>
        <p:spPr>
          <a:xfrm>
            <a:off x="3625920" y="280836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0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"/>
          <p:cNvSpPr/>
          <p:nvPr/>
        </p:nvSpPr>
        <p:spPr>
          <a:xfrm>
            <a:off x="3625920" y="3279600"/>
            <a:ext cx="325440" cy="182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"/>
          <p:cNvSpPr/>
          <p:nvPr/>
        </p:nvSpPr>
        <p:spPr>
          <a:xfrm>
            <a:off x="3625920" y="365112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"/>
          <p:cNvSpPr/>
          <p:nvPr/>
        </p:nvSpPr>
        <p:spPr>
          <a:xfrm>
            <a:off x="3625920" y="396720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"/>
          <p:cNvSpPr/>
          <p:nvPr/>
        </p:nvSpPr>
        <p:spPr>
          <a:xfrm>
            <a:off x="3597120" y="4667400"/>
            <a:ext cx="3272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01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"/>
          <p:cNvSpPr/>
          <p:nvPr/>
        </p:nvSpPr>
        <p:spPr>
          <a:xfrm>
            <a:off x="4754520" y="4667400"/>
            <a:ext cx="3254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"/>
          <p:cNvSpPr/>
          <p:nvPr/>
        </p:nvSpPr>
        <p:spPr>
          <a:xfrm>
            <a:off x="3597120" y="4853160"/>
            <a:ext cx="3272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0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3597120" y="5149800"/>
            <a:ext cx="327240" cy="184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1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3597120" y="5424480"/>
            <a:ext cx="327240" cy="184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01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3597120" y="5743440"/>
            <a:ext cx="3272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11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3381480" y="1662120"/>
            <a:ext cx="1104840" cy="1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2" name=""/>
          <p:cNvGrpSpPr/>
          <p:nvPr/>
        </p:nvGrpSpPr>
        <p:grpSpPr>
          <a:xfrm>
            <a:off x="244440" y="1660680"/>
            <a:ext cx="2476440" cy="3108240"/>
            <a:chOff x="244440" y="1660680"/>
            <a:chExt cx="2476440" cy="3108240"/>
          </a:xfrm>
        </p:grpSpPr>
        <p:sp>
          <p:nvSpPr>
            <p:cNvPr id="1903" name=""/>
            <p:cNvSpPr/>
            <p:nvPr/>
          </p:nvSpPr>
          <p:spPr>
            <a:xfrm>
              <a:off x="244440" y="1660680"/>
              <a:ext cx="2476440" cy="31082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 implementation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820880" y="2208600"/>
              <a:ext cx="434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820880" y="2025720"/>
              <a:ext cx="43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01640" y="2117880"/>
              <a:ext cx="1096920" cy="172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mbinational logi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 flipV="1">
              <a:off x="984240" y="385452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 flipV="1">
              <a:off x="1697040" y="385452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774720" y="3854520"/>
              <a:ext cx="18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487520" y="38545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774720" y="4037400"/>
              <a:ext cx="10220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tate regist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170000" y="1933920"/>
              <a:ext cx="35388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o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796760" y="2198880"/>
              <a:ext cx="435240" cy="1800"/>
            </a:xfrm>
            <a:custGeom>
              <a:avLst/>
              <a:gdLst/>
              <a:ahLst/>
              <a:rect l="l" t="t" r="r" b="b"/>
              <a:pathLst>
                <a:path w="685" h="1">
                  <a:moveTo>
                    <a:pt x="0" y="0"/>
                  </a:moveTo>
                  <a:lnTo>
                    <a:pt x="6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571400" y="1928880"/>
              <a:ext cx="3240" cy="187560"/>
            </a:xfrm>
            <a:custGeom>
              <a:avLst/>
              <a:gdLst/>
              <a:ahLst/>
              <a:rect l="l" t="t" r="r" b="b"/>
              <a:pathLst>
                <a:path w="5" h="295">
                  <a:moveTo>
                    <a:pt x="0" y="0"/>
                  </a:moveTo>
                  <a:lnTo>
                    <a:pt x="5" y="2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796760" y="2938680"/>
              <a:ext cx="387360" cy="1440"/>
            </a:xfrm>
            <a:custGeom>
              <a:avLst/>
              <a:gdLst/>
              <a:ahLst/>
              <a:rect l="l" t="t" r="r" b="b"/>
              <a:pathLst>
                <a:path w="609" h="2">
                  <a:moveTo>
                    <a:pt x="609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96760" y="3123000"/>
              <a:ext cx="384480" cy="1440"/>
            </a:xfrm>
            <a:custGeom>
              <a:avLst/>
              <a:gdLst/>
              <a:ahLst/>
              <a:rect l="l" t="t" r="r" b="b"/>
              <a:pathLst>
                <a:path w="604" h="1">
                  <a:moveTo>
                    <a:pt x="60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820880" y="2757600"/>
              <a:ext cx="574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820880" y="2940120"/>
              <a:ext cx="574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820880" y="2391120"/>
              <a:ext cx="434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820880" y="2575080"/>
              <a:ext cx="434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820880" y="3123000"/>
              <a:ext cx="4348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836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803240" y="2376720"/>
              <a:ext cx="415800" cy="1440"/>
            </a:xfrm>
            <a:custGeom>
              <a:avLst/>
              <a:gdLst/>
              <a:ahLst/>
              <a:rect l="l" t="t" r="r" b="b"/>
              <a:pathLst>
                <a:path w="655" h="1">
                  <a:moveTo>
                    <a:pt x="0" y="0"/>
                  </a:moveTo>
                  <a:lnTo>
                    <a:pt x="65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798560" y="2573640"/>
              <a:ext cx="417600" cy="1440"/>
            </a:xfrm>
            <a:custGeom>
              <a:avLst/>
              <a:gdLst/>
              <a:ahLst/>
              <a:rect l="l" t="t" r="r" b="b"/>
              <a:pathLst>
                <a:path w="658" h="1">
                  <a:moveTo>
                    <a:pt x="0" y="1"/>
                  </a:moveTo>
                  <a:lnTo>
                    <a:pt x="65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798560" y="3305520"/>
              <a:ext cx="385560" cy="1440"/>
            </a:xfrm>
            <a:custGeom>
              <a:avLst/>
              <a:gdLst/>
              <a:ahLst/>
              <a:rect l="l" t="t" r="r" b="b"/>
              <a:pathLst>
                <a:path w="608" h="2">
                  <a:moveTo>
                    <a:pt x="0" y="0"/>
                  </a:moveTo>
                  <a:lnTo>
                    <a:pt x="608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798560" y="2757600"/>
              <a:ext cx="407880" cy="360"/>
            </a:xfrm>
            <a:custGeom>
              <a:avLst/>
              <a:gdLst/>
              <a:ahLst/>
              <a:rect l="l" t="t" r="r" b="b"/>
              <a:pathLst>
                <a:path w="643" h="1">
                  <a:moveTo>
                    <a:pt x="0" y="0"/>
                  </a:moveTo>
                  <a:lnTo>
                    <a:pt x="643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012680" y="38545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1222200" y="385452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1460520" y="385452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249200" y="38545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 flipV="1">
              <a:off x="984240" y="4311360"/>
              <a:ext cx="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 flipV="1">
              <a:off x="1697040" y="4311720"/>
              <a:ext cx="0" cy="18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774720" y="4311720"/>
              <a:ext cx="18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3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487520" y="43117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012680" y="43117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2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V="1">
              <a:off x="1222200" y="4311360"/>
              <a:ext cx="0" cy="33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V="1">
              <a:off x="1460520" y="4311720"/>
              <a:ext cx="0" cy="24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249200" y="4311720"/>
              <a:ext cx="182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697040" y="4494600"/>
              <a:ext cx="166680" cy="1440"/>
            </a:xfrm>
            <a:custGeom>
              <a:avLst/>
              <a:gdLst/>
              <a:ahLst/>
              <a:rect l="l" t="t" r="r" b="b"/>
              <a:pathLst>
                <a:path w="262" h="1">
                  <a:moveTo>
                    <a:pt x="0" y="0"/>
                  </a:moveTo>
                  <a:lnTo>
                    <a:pt x="26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866600" y="3767400"/>
              <a:ext cx="360" cy="727200"/>
            </a:xfrm>
            <a:custGeom>
              <a:avLst/>
              <a:gdLst/>
              <a:ahLst/>
              <a:rect l="l" t="t" r="r" b="b"/>
              <a:pathLst>
                <a:path w="1" h="1145">
                  <a:moveTo>
                    <a:pt x="0" y="114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>
              <a:off x="1798560" y="3762720"/>
              <a:ext cx="63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466640" y="4557960"/>
              <a:ext cx="492120" cy="360"/>
            </a:xfrm>
            <a:custGeom>
              <a:avLst/>
              <a:gdLst/>
              <a:ahLst/>
              <a:rect l="l" t="t" r="r" b="b"/>
              <a:pathLst>
                <a:path w="776" h="1">
                  <a:moveTo>
                    <a:pt x="0" y="0"/>
                  </a:moveTo>
                  <a:lnTo>
                    <a:pt x="776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798560" y="3672000"/>
              <a:ext cx="154080" cy="1800"/>
            </a:xfrm>
            <a:custGeom>
              <a:avLst/>
              <a:gdLst/>
              <a:ahLst/>
              <a:rect l="l" t="t" r="r" b="b"/>
              <a:pathLst>
                <a:path w="243" h="1">
                  <a:moveTo>
                    <a:pt x="243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222200" y="4648320"/>
              <a:ext cx="812880" cy="1800"/>
            </a:xfrm>
            <a:custGeom>
              <a:avLst/>
              <a:gdLst/>
              <a:ahLst/>
              <a:rect l="l" t="t" r="r" b="b"/>
              <a:pathLst>
                <a:path w="1280" h="2">
                  <a:moveTo>
                    <a:pt x="0" y="0"/>
                  </a:moveTo>
                  <a:lnTo>
                    <a:pt x="128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798560" y="3580200"/>
              <a:ext cx="239760" cy="1440"/>
            </a:xfrm>
            <a:custGeom>
              <a:avLst/>
              <a:gdLst/>
              <a:ahLst/>
              <a:rect l="l" t="t" r="r" b="b"/>
              <a:pathLst>
                <a:path w="378" h="1">
                  <a:moveTo>
                    <a:pt x="378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984240" y="4685040"/>
              <a:ext cx="1180800" cy="1440"/>
            </a:xfrm>
            <a:custGeom>
              <a:avLst/>
              <a:gdLst/>
              <a:ahLst/>
              <a:rect l="l" t="t" r="r" b="b"/>
              <a:pathLst>
                <a:path w="1859" h="2">
                  <a:moveTo>
                    <a:pt x="0" y="2"/>
                  </a:moveTo>
                  <a:lnTo>
                    <a:pt x="18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165040" y="3489480"/>
              <a:ext cx="360" cy="1192320"/>
            </a:xfrm>
            <a:custGeom>
              <a:avLst/>
              <a:gdLst/>
              <a:ahLst/>
              <a:rect l="l" t="t" r="r" b="b"/>
              <a:pathLst>
                <a:path w="1" h="1878">
                  <a:moveTo>
                    <a:pt x="1" y="1878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798560" y="3488040"/>
              <a:ext cx="366480" cy="1440"/>
            </a:xfrm>
            <a:custGeom>
              <a:avLst/>
              <a:gdLst/>
              <a:ahLst/>
              <a:rect l="l" t="t" r="r" b="b"/>
              <a:pathLst>
                <a:path w="578" h="2">
                  <a:moveTo>
                    <a:pt x="578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038320" y="3580200"/>
              <a:ext cx="360" cy="1069920"/>
            </a:xfrm>
            <a:custGeom>
              <a:avLst/>
              <a:gdLst/>
              <a:ahLst/>
              <a:rect l="l" t="t" r="r" b="b"/>
              <a:pathLst>
                <a:path w="1" h="1685">
                  <a:moveTo>
                    <a:pt x="0" y="0"/>
                  </a:moveTo>
                  <a:lnTo>
                    <a:pt x="0" y="16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955520" y="3675240"/>
              <a:ext cx="360" cy="882720"/>
            </a:xfrm>
            <a:custGeom>
              <a:avLst/>
              <a:gdLst/>
              <a:ahLst/>
              <a:rect l="l" t="t" r="r" b="b"/>
              <a:pathLst>
                <a:path w="1" h="1390">
                  <a:moveTo>
                    <a:pt x="0" y="0"/>
                  </a:moveTo>
                  <a:lnTo>
                    <a:pt x="0" y="1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0" name=""/>
          <p:cNvGrpSpPr/>
          <p:nvPr/>
        </p:nvGrpSpPr>
        <p:grpSpPr>
          <a:xfrm>
            <a:off x="5697360" y="1851120"/>
            <a:ext cx="3044880" cy="2697120"/>
            <a:chOff x="5697360" y="1851120"/>
            <a:chExt cx="3044880" cy="2697120"/>
          </a:xfrm>
        </p:grpSpPr>
        <p:sp>
          <p:nvSpPr>
            <p:cNvPr id="1951" name=""/>
            <p:cNvSpPr/>
            <p:nvPr/>
          </p:nvSpPr>
          <p:spPr>
            <a:xfrm>
              <a:off x="6066000" y="2033640"/>
              <a:ext cx="2676240" cy="228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7283520" y="3359160"/>
              <a:ext cx="593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8015400" y="3359160"/>
              <a:ext cx="59364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ubtracto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7564320" y="358776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8340840" y="358776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7: y-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7608960" y="3587760"/>
              <a:ext cx="3603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8: x-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8294760" y="358776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6591240" y="3587760"/>
              <a:ext cx="0" cy="2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6865920" y="3679920"/>
              <a:ext cx="2221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7088040" y="3587760"/>
              <a:ext cx="0" cy="3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6192720" y="358776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6688080" y="358776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6: x&lt;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6465960" y="1851120"/>
              <a:ext cx="1839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7203960" y="18511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8340840" y="4365720"/>
              <a:ext cx="1825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8291520" y="4181400"/>
              <a:ext cx="4680" cy="312840"/>
            </a:xfrm>
            <a:custGeom>
              <a:avLst/>
              <a:gdLst/>
              <a:ahLst/>
              <a:rect l="l" t="t" r="r" b="b"/>
              <a:pathLst>
                <a:path w="7" h="493">
                  <a:moveTo>
                    <a:pt x="7" y="0"/>
                  </a:moveTo>
                  <a:lnTo>
                    <a:pt x="0" y="4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669000" y="194148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453440" y="1941480"/>
              <a:ext cx="0" cy="41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6551640" y="276552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7283520" y="2765520"/>
              <a:ext cx="59364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0: 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8021520" y="3952800"/>
              <a:ext cx="594000" cy="2286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9: 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7746840" y="299412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H="1">
              <a:off x="6590880" y="3176640"/>
              <a:ext cx="1474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8066160" y="31766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6411960" y="3084480"/>
              <a:ext cx="22892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8523360" y="308448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7386480" y="308448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7713720" y="313992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6551640" y="235260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878520" y="2581200"/>
              <a:ext cx="0" cy="18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7283520" y="2352600"/>
              <a:ext cx="593640" cy="22860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n-bit 2x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7564320" y="2581200"/>
              <a:ext cx="0" cy="184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 flipH="1">
              <a:off x="7197840" y="3770280"/>
              <a:ext cx="366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 flipV="1">
              <a:off x="7197840" y="216972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7054920" y="217008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 flipH="1">
              <a:off x="7054560" y="21700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 flipH="1">
              <a:off x="7929720" y="3770280"/>
              <a:ext cx="365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 flipV="1">
              <a:off x="7929720" y="2169720"/>
              <a:ext cx="0" cy="1600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 flipH="1">
              <a:off x="7792560" y="2170080"/>
              <a:ext cx="1429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7799400" y="217008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 flipH="1">
              <a:off x="7197840" y="253692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 flipH="1">
              <a:off x="6465600" y="2536920"/>
              <a:ext cx="73188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143760" y="2298600"/>
              <a:ext cx="2682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143760" y="2536920"/>
              <a:ext cx="268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se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6143760" y="2709720"/>
              <a:ext cx="2682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 flipH="1">
              <a:off x="7197840" y="2948040"/>
              <a:ext cx="8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 flipH="1">
              <a:off x="6472080" y="2948040"/>
              <a:ext cx="725760" cy="0"/>
            </a:xfrm>
            <a:prstGeom prst="line">
              <a:avLst/>
            </a:prstGeom>
            <a:ln cap="rnd" w="936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6143760" y="2948040"/>
              <a:ext cx="268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y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6130800" y="3714840"/>
              <a:ext cx="405000" cy="13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neq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6130800" y="3952800"/>
              <a:ext cx="4050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x_lt_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5697360" y="2536920"/>
              <a:ext cx="768600" cy="1440"/>
            </a:xfrm>
            <a:custGeom>
              <a:avLst/>
              <a:gdLst/>
              <a:ahLst/>
              <a:rect l="l" t="t" r="r" b="b"/>
              <a:pathLst>
                <a:path w="484" h="1">
                  <a:moveTo>
                    <a:pt x="484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5697360" y="2444760"/>
              <a:ext cx="854280" cy="1440"/>
            </a:xfrm>
            <a:custGeom>
              <a:avLst/>
              <a:gdLst/>
              <a:ahLst/>
              <a:rect l="l" t="t" r="r" b="b"/>
              <a:pathLst>
                <a:path w="538" h="1">
                  <a:moveTo>
                    <a:pt x="53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5707080" y="2855880"/>
              <a:ext cx="844560" cy="1800"/>
            </a:xfrm>
            <a:custGeom>
              <a:avLst/>
              <a:gdLst/>
              <a:ahLst/>
              <a:rect l="l" t="t" r="r" b="b"/>
              <a:pathLst>
                <a:path w="532" h="1">
                  <a:moveTo>
                    <a:pt x="53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5724360" y="2943360"/>
              <a:ext cx="747720" cy="4680"/>
            </a:xfrm>
            <a:custGeom>
              <a:avLst/>
              <a:gdLst/>
              <a:ahLst/>
              <a:rect l="l" t="t" r="r" b="b"/>
              <a:pathLst>
                <a:path w="471" h="3">
                  <a:moveTo>
                    <a:pt x="471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5707080" y="3860640"/>
              <a:ext cx="885960" cy="1800"/>
            </a:xfrm>
            <a:custGeom>
              <a:avLst/>
              <a:gdLst/>
              <a:ahLst/>
              <a:rect l="l" t="t" r="r" b="b"/>
              <a:pathLst>
                <a:path w="558" h="1">
                  <a:moveTo>
                    <a:pt x="558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5707080" y="3952800"/>
              <a:ext cx="1380960" cy="1800"/>
            </a:xfrm>
            <a:custGeom>
              <a:avLst/>
              <a:gdLst/>
              <a:ahLst/>
              <a:rect l="l" t="t" r="r" b="b"/>
              <a:pathLst>
                <a:path w="870" h="1">
                  <a:moveTo>
                    <a:pt x="870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5707080" y="4137120"/>
              <a:ext cx="2314440" cy="1440"/>
            </a:xfrm>
            <a:custGeom>
              <a:avLst/>
              <a:gdLst/>
              <a:ahLst/>
              <a:rect l="l" t="t" r="r" b="b"/>
              <a:pathLst>
                <a:path w="1458" h="1">
                  <a:moveTo>
                    <a:pt x="1458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6130800" y="4137120"/>
              <a:ext cx="4050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_l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8701200" y="308448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8523360" y="377028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 flipH="1">
              <a:off x="8523360" y="3770280"/>
              <a:ext cx="177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6802560" y="335916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lt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6192720" y="3587760"/>
              <a:ext cx="35892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5: x!=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6688080" y="3587760"/>
              <a:ext cx="3668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7054920" y="3176640"/>
              <a:ext cx="0" cy="18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6326280" y="3359160"/>
              <a:ext cx="342720" cy="2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!=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6878520" y="2994120"/>
              <a:ext cx="0" cy="36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6411960" y="3084480"/>
              <a:ext cx="0" cy="27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6591240" y="3176640"/>
              <a:ext cx="0" cy="201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7032600" y="3149640"/>
              <a:ext cx="5256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7605720" y="2055960"/>
              <a:ext cx="110484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(b)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6842160" y="305424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7356600" y="306396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8499600" y="3063960"/>
              <a:ext cx="5220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18FE4-7DC9-49CC-8392-FB01DC3D9B5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troller state table for the GCD 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6" name=""/>
          <p:cNvGrpSpPr/>
          <p:nvPr/>
        </p:nvGrpSpPr>
        <p:grpSpPr>
          <a:xfrm>
            <a:off x="465120" y="1670040"/>
            <a:ext cx="7108560" cy="4191120"/>
            <a:chOff x="465120" y="1670040"/>
            <a:chExt cx="7108560" cy="4191120"/>
          </a:xfrm>
        </p:grpSpPr>
        <p:grpSp>
          <p:nvGrpSpPr>
            <p:cNvPr id="2027" name=""/>
            <p:cNvGrpSpPr/>
            <p:nvPr/>
          </p:nvGrpSpPr>
          <p:grpSpPr>
            <a:xfrm>
              <a:off x="470520" y="1671840"/>
              <a:ext cx="7097040" cy="4187160"/>
              <a:chOff x="470520" y="1671840"/>
              <a:chExt cx="7097040" cy="4187160"/>
            </a:xfrm>
          </p:grpSpPr>
          <p:grpSp>
            <p:nvGrpSpPr>
              <p:cNvPr id="2028" name=""/>
              <p:cNvGrpSpPr/>
              <p:nvPr/>
            </p:nvGrpSpPr>
            <p:grpSpPr>
              <a:xfrm>
                <a:off x="470520" y="1671840"/>
                <a:ext cx="3104640" cy="196560"/>
                <a:chOff x="470520" y="1671840"/>
                <a:chExt cx="3104640" cy="196560"/>
              </a:xfrm>
            </p:grpSpPr>
            <p:sp>
              <p:nvSpPr>
                <p:cNvPr id="2029" name=""/>
                <p:cNvSpPr/>
                <p:nvPr/>
              </p:nvSpPr>
              <p:spPr>
                <a:xfrm>
                  <a:off x="551160" y="1671840"/>
                  <a:ext cx="294264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pu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470520" y="1671840"/>
                  <a:ext cx="310464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1" name=""/>
              <p:cNvGrpSpPr/>
              <p:nvPr/>
            </p:nvGrpSpPr>
            <p:grpSpPr>
              <a:xfrm>
                <a:off x="3575520" y="1671840"/>
                <a:ext cx="3991680" cy="196560"/>
                <a:chOff x="3575520" y="1671840"/>
                <a:chExt cx="3991680" cy="196560"/>
              </a:xfrm>
            </p:grpSpPr>
            <p:sp>
              <p:nvSpPr>
                <p:cNvPr id="2032" name=""/>
                <p:cNvSpPr/>
                <p:nvPr/>
              </p:nvSpPr>
              <p:spPr>
                <a:xfrm>
                  <a:off x="3655800" y="1671840"/>
                  <a:ext cx="383040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Outputs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3575520" y="1671840"/>
                  <a:ext cx="399168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4" name=""/>
              <p:cNvGrpSpPr/>
              <p:nvPr/>
            </p:nvGrpSpPr>
            <p:grpSpPr>
              <a:xfrm>
                <a:off x="470520" y="1868400"/>
                <a:ext cx="443160" cy="250200"/>
                <a:chOff x="470520" y="1868400"/>
                <a:chExt cx="443160" cy="250200"/>
              </a:xfrm>
            </p:grpSpPr>
            <p:sp>
              <p:nvSpPr>
                <p:cNvPr id="2035" name=""/>
                <p:cNvSpPr/>
                <p:nvPr/>
              </p:nvSpPr>
              <p:spPr>
                <a:xfrm>
                  <a:off x="55116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47052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37" name=""/>
              <p:cNvGrpSpPr/>
              <p:nvPr/>
            </p:nvGrpSpPr>
            <p:grpSpPr>
              <a:xfrm>
                <a:off x="914040" y="1868400"/>
                <a:ext cx="442800" cy="250200"/>
                <a:chOff x="914040" y="1868400"/>
                <a:chExt cx="442800" cy="250200"/>
              </a:xfrm>
            </p:grpSpPr>
            <p:sp>
              <p:nvSpPr>
                <p:cNvPr id="2038" name=""/>
                <p:cNvSpPr/>
                <p:nvPr/>
              </p:nvSpPr>
              <p:spPr>
                <a:xfrm>
                  <a:off x="99432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914040" y="1868400"/>
                  <a:ext cx="44280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0" name=""/>
              <p:cNvGrpSpPr/>
              <p:nvPr/>
            </p:nvGrpSpPr>
            <p:grpSpPr>
              <a:xfrm>
                <a:off x="1357560" y="1868400"/>
                <a:ext cx="443160" cy="250200"/>
                <a:chOff x="1357560" y="1868400"/>
                <a:chExt cx="443160" cy="250200"/>
              </a:xfrm>
            </p:grpSpPr>
            <p:sp>
              <p:nvSpPr>
                <p:cNvPr id="2041" name=""/>
                <p:cNvSpPr/>
                <p:nvPr/>
              </p:nvSpPr>
              <p:spPr>
                <a:xfrm>
                  <a:off x="143820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35756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3" name=""/>
              <p:cNvGrpSpPr/>
              <p:nvPr/>
            </p:nvGrpSpPr>
            <p:grpSpPr>
              <a:xfrm>
                <a:off x="1801080" y="1868400"/>
                <a:ext cx="443160" cy="250200"/>
                <a:chOff x="1801080" y="1868400"/>
                <a:chExt cx="443160" cy="250200"/>
              </a:xfrm>
            </p:grpSpPr>
            <p:sp>
              <p:nvSpPr>
                <p:cNvPr id="2044" name=""/>
                <p:cNvSpPr/>
                <p:nvPr/>
              </p:nvSpPr>
              <p:spPr>
                <a:xfrm>
                  <a:off x="188172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80108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6" name=""/>
              <p:cNvGrpSpPr/>
              <p:nvPr/>
            </p:nvGrpSpPr>
            <p:grpSpPr>
              <a:xfrm>
                <a:off x="2244960" y="1868400"/>
                <a:ext cx="442800" cy="250200"/>
                <a:chOff x="2244960" y="1868400"/>
                <a:chExt cx="442800" cy="250200"/>
              </a:xfrm>
            </p:grpSpPr>
            <p:sp>
              <p:nvSpPr>
                <p:cNvPr id="2047" name=""/>
                <p:cNvSpPr/>
                <p:nvPr/>
              </p:nvSpPr>
              <p:spPr>
                <a:xfrm>
                  <a:off x="232524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_neq_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2244960" y="1868400"/>
                  <a:ext cx="44280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9" name=""/>
              <p:cNvGrpSpPr/>
              <p:nvPr/>
            </p:nvGrpSpPr>
            <p:grpSpPr>
              <a:xfrm>
                <a:off x="2688120" y="1868400"/>
                <a:ext cx="443160" cy="250200"/>
                <a:chOff x="2688120" y="1868400"/>
                <a:chExt cx="443160" cy="250200"/>
              </a:xfrm>
            </p:grpSpPr>
            <p:sp>
              <p:nvSpPr>
                <p:cNvPr id="2050" name=""/>
                <p:cNvSpPr/>
                <p:nvPr/>
              </p:nvSpPr>
              <p:spPr>
                <a:xfrm>
                  <a:off x="276876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_lt_y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>
                  <a:off x="268812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2" name=""/>
              <p:cNvGrpSpPr/>
              <p:nvPr/>
            </p:nvGrpSpPr>
            <p:grpSpPr>
              <a:xfrm>
                <a:off x="3132000" y="1868400"/>
                <a:ext cx="443160" cy="250200"/>
                <a:chOff x="3132000" y="1868400"/>
                <a:chExt cx="443160" cy="250200"/>
              </a:xfrm>
            </p:grpSpPr>
            <p:sp>
              <p:nvSpPr>
                <p:cNvPr id="2053" name=""/>
                <p:cNvSpPr/>
                <p:nvPr/>
              </p:nvSpPr>
              <p:spPr>
                <a:xfrm>
                  <a:off x="321264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go_i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>
                  <a:off x="313200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5" name=""/>
              <p:cNvGrpSpPr/>
              <p:nvPr/>
            </p:nvGrpSpPr>
            <p:grpSpPr>
              <a:xfrm>
                <a:off x="3575520" y="1868400"/>
                <a:ext cx="443160" cy="250200"/>
                <a:chOff x="3575520" y="1868400"/>
                <a:chExt cx="443160" cy="250200"/>
              </a:xfrm>
            </p:grpSpPr>
            <p:sp>
              <p:nvSpPr>
                <p:cNvPr id="2056" name=""/>
                <p:cNvSpPr/>
                <p:nvPr/>
              </p:nvSpPr>
              <p:spPr>
                <a:xfrm>
                  <a:off x="365580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3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>
                  <a:off x="357552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58" name=""/>
              <p:cNvGrpSpPr/>
              <p:nvPr/>
            </p:nvGrpSpPr>
            <p:grpSpPr>
              <a:xfrm>
                <a:off x="4019400" y="1868400"/>
                <a:ext cx="442800" cy="250200"/>
                <a:chOff x="4019400" y="1868400"/>
                <a:chExt cx="442800" cy="250200"/>
              </a:xfrm>
            </p:grpSpPr>
            <p:sp>
              <p:nvSpPr>
                <p:cNvPr id="2059" name=""/>
                <p:cNvSpPr/>
                <p:nvPr/>
              </p:nvSpPr>
              <p:spPr>
                <a:xfrm>
                  <a:off x="409968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2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>
                  <a:off x="4019400" y="1868400"/>
                  <a:ext cx="44280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1" name=""/>
              <p:cNvGrpSpPr/>
              <p:nvPr/>
            </p:nvGrpSpPr>
            <p:grpSpPr>
              <a:xfrm>
                <a:off x="4462560" y="1868400"/>
                <a:ext cx="443160" cy="250200"/>
                <a:chOff x="4462560" y="1868400"/>
                <a:chExt cx="443160" cy="250200"/>
              </a:xfrm>
            </p:grpSpPr>
            <p:sp>
              <p:nvSpPr>
                <p:cNvPr id="2062" name=""/>
                <p:cNvSpPr/>
                <p:nvPr/>
              </p:nvSpPr>
              <p:spPr>
                <a:xfrm>
                  <a:off x="454320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>
                  <a:off x="446256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4" name=""/>
              <p:cNvGrpSpPr/>
              <p:nvPr/>
            </p:nvGrpSpPr>
            <p:grpSpPr>
              <a:xfrm>
                <a:off x="4906440" y="1868400"/>
                <a:ext cx="443160" cy="250200"/>
                <a:chOff x="4906440" y="1868400"/>
                <a:chExt cx="443160" cy="250200"/>
              </a:xfrm>
            </p:grpSpPr>
            <p:sp>
              <p:nvSpPr>
                <p:cNvPr id="2065" name=""/>
                <p:cNvSpPr/>
                <p:nvPr/>
              </p:nvSpPr>
              <p:spPr>
                <a:xfrm>
                  <a:off x="498708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>
                  <a:off x="490644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7" name=""/>
              <p:cNvGrpSpPr/>
              <p:nvPr/>
            </p:nvGrpSpPr>
            <p:grpSpPr>
              <a:xfrm>
                <a:off x="5350320" y="1868400"/>
                <a:ext cx="442800" cy="250200"/>
                <a:chOff x="5350320" y="1868400"/>
                <a:chExt cx="442800" cy="250200"/>
              </a:xfrm>
            </p:grpSpPr>
            <p:sp>
              <p:nvSpPr>
                <p:cNvPr id="2068" name=""/>
                <p:cNvSpPr/>
                <p:nvPr/>
              </p:nvSpPr>
              <p:spPr>
                <a:xfrm>
                  <a:off x="543060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_se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>
                  <a:off x="5350320" y="1868400"/>
                  <a:ext cx="44280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0" name=""/>
              <p:cNvGrpSpPr/>
              <p:nvPr/>
            </p:nvGrpSpPr>
            <p:grpSpPr>
              <a:xfrm>
                <a:off x="5793480" y="1868400"/>
                <a:ext cx="443160" cy="250200"/>
                <a:chOff x="5793480" y="1868400"/>
                <a:chExt cx="443160" cy="250200"/>
              </a:xfrm>
            </p:grpSpPr>
            <p:sp>
              <p:nvSpPr>
                <p:cNvPr id="2071" name=""/>
                <p:cNvSpPr/>
                <p:nvPr/>
              </p:nvSpPr>
              <p:spPr>
                <a:xfrm>
                  <a:off x="587412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_sel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>
                  <a:off x="579348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3" name=""/>
              <p:cNvGrpSpPr/>
              <p:nvPr/>
            </p:nvGrpSpPr>
            <p:grpSpPr>
              <a:xfrm>
                <a:off x="6237360" y="1868400"/>
                <a:ext cx="443160" cy="250200"/>
                <a:chOff x="6237360" y="1868400"/>
                <a:chExt cx="443160" cy="250200"/>
              </a:xfrm>
            </p:grpSpPr>
            <p:sp>
              <p:nvSpPr>
                <p:cNvPr id="2074" name=""/>
                <p:cNvSpPr/>
                <p:nvPr/>
              </p:nvSpPr>
              <p:spPr>
                <a:xfrm>
                  <a:off x="631800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_l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>
                  <a:off x="623736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6" name=""/>
              <p:cNvGrpSpPr/>
              <p:nvPr/>
            </p:nvGrpSpPr>
            <p:grpSpPr>
              <a:xfrm>
                <a:off x="6680880" y="1868400"/>
                <a:ext cx="442800" cy="250200"/>
                <a:chOff x="6680880" y="1868400"/>
                <a:chExt cx="442800" cy="250200"/>
              </a:xfrm>
            </p:grpSpPr>
            <p:sp>
              <p:nvSpPr>
                <p:cNvPr id="2077" name=""/>
                <p:cNvSpPr/>
                <p:nvPr/>
              </p:nvSpPr>
              <p:spPr>
                <a:xfrm>
                  <a:off x="6761160" y="1868400"/>
                  <a:ext cx="28188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y_l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>
                  <a:off x="6680880" y="1868400"/>
                  <a:ext cx="44280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9" name=""/>
              <p:cNvGrpSpPr/>
              <p:nvPr/>
            </p:nvGrpSpPr>
            <p:grpSpPr>
              <a:xfrm>
                <a:off x="7124400" y="1868400"/>
                <a:ext cx="443160" cy="250200"/>
                <a:chOff x="7124400" y="1868400"/>
                <a:chExt cx="443160" cy="250200"/>
              </a:xfrm>
            </p:grpSpPr>
            <p:sp>
              <p:nvSpPr>
                <p:cNvPr id="2080" name=""/>
                <p:cNvSpPr/>
                <p:nvPr/>
              </p:nvSpPr>
              <p:spPr>
                <a:xfrm>
                  <a:off x="7205040" y="1868400"/>
                  <a:ext cx="281520" cy="25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_ld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>
                  <a:off x="7124400" y="1868400"/>
                  <a:ext cx="443160" cy="25020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2" name=""/>
              <p:cNvGrpSpPr/>
              <p:nvPr/>
            </p:nvGrpSpPr>
            <p:grpSpPr>
              <a:xfrm>
                <a:off x="470520" y="2118960"/>
                <a:ext cx="443160" cy="196920"/>
                <a:chOff x="470520" y="2118960"/>
                <a:chExt cx="443160" cy="196920"/>
              </a:xfrm>
            </p:grpSpPr>
            <p:sp>
              <p:nvSpPr>
                <p:cNvPr id="2083" name=""/>
                <p:cNvSpPr/>
                <p:nvPr/>
              </p:nvSpPr>
              <p:spPr>
                <a:xfrm>
                  <a:off x="55116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>
                  <a:off x="47052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5" name=""/>
              <p:cNvGrpSpPr/>
              <p:nvPr/>
            </p:nvGrpSpPr>
            <p:grpSpPr>
              <a:xfrm>
                <a:off x="914040" y="2118960"/>
                <a:ext cx="442800" cy="196920"/>
                <a:chOff x="914040" y="2118960"/>
                <a:chExt cx="442800" cy="196920"/>
              </a:xfrm>
            </p:grpSpPr>
            <p:sp>
              <p:nvSpPr>
                <p:cNvPr id="2086" name=""/>
                <p:cNvSpPr/>
                <p:nvPr/>
              </p:nvSpPr>
              <p:spPr>
                <a:xfrm>
                  <a:off x="99432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>
                  <a:off x="914040" y="21189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88" name=""/>
              <p:cNvGrpSpPr/>
              <p:nvPr/>
            </p:nvGrpSpPr>
            <p:grpSpPr>
              <a:xfrm>
                <a:off x="1357560" y="2118960"/>
                <a:ext cx="443160" cy="196920"/>
                <a:chOff x="1357560" y="2118960"/>
                <a:chExt cx="443160" cy="196920"/>
              </a:xfrm>
            </p:grpSpPr>
            <p:sp>
              <p:nvSpPr>
                <p:cNvPr id="2089" name=""/>
                <p:cNvSpPr/>
                <p:nvPr/>
              </p:nvSpPr>
              <p:spPr>
                <a:xfrm>
                  <a:off x="143820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>
                  <a:off x="135756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1" name=""/>
              <p:cNvGrpSpPr/>
              <p:nvPr/>
            </p:nvGrpSpPr>
            <p:grpSpPr>
              <a:xfrm>
                <a:off x="1801080" y="2118960"/>
                <a:ext cx="443160" cy="196920"/>
                <a:chOff x="1801080" y="2118960"/>
                <a:chExt cx="443160" cy="196920"/>
              </a:xfrm>
            </p:grpSpPr>
            <p:sp>
              <p:nvSpPr>
                <p:cNvPr id="2092" name=""/>
                <p:cNvSpPr/>
                <p:nvPr/>
              </p:nvSpPr>
              <p:spPr>
                <a:xfrm>
                  <a:off x="188172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>
                  <a:off x="180108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4" name=""/>
              <p:cNvGrpSpPr/>
              <p:nvPr/>
            </p:nvGrpSpPr>
            <p:grpSpPr>
              <a:xfrm>
                <a:off x="2244960" y="2118960"/>
                <a:ext cx="442800" cy="196920"/>
                <a:chOff x="2244960" y="2118960"/>
                <a:chExt cx="442800" cy="196920"/>
              </a:xfrm>
            </p:grpSpPr>
            <p:sp>
              <p:nvSpPr>
                <p:cNvPr id="2095" name=""/>
                <p:cNvSpPr/>
                <p:nvPr/>
              </p:nvSpPr>
              <p:spPr>
                <a:xfrm>
                  <a:off x="232524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>
                  <a:off x="2244960" y="21189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7" name=""/>
              <p:cNvGrpSpPr/>
              <p:nvPr/>
            </p:nvGrpSpPr>
            <p:grpSpPr>
              <a:xfrm>
                <a:off x="2688120" y="2118960"/>
                <a:ext cx="443160" cy="196920"/>
                <a:chOff x="2688120" y="2118960"/>
                <a:chExt cx="443160" cy="196920"/>
              </a:xfrm>
            </p:grpSpPr>
            <p:sp>
              <p:nvSpPr>
                <p:cNvPr id="2098" name=""/>
                <p:cNvSpPr/>
                <p:nvPr/>
              </p:nvSpPr>
              <p:spPr>
                <a:xfrm>
                  <a:off x="276876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>
                  <a:off x="268812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0" name=""/>
              <p:cNvGrpSpPr/>
              <p:nvPr/>
            </p:nvGrpSpPr>
            <p:grpSpPr>
              <a:xfrm>
                <a:off x="3132000" y="2118960"/>
                <a:ext cx="443160" cy="196920"/>
                <a:chOff x="3132000" y="2118960"/>
                <a:chExt cx="443160" cy="196920"/>
              </a:xfrm>
            </p:grpSpPr>
            <p:sp>
              <p:nvSpPr>
                <p:cNvPr id="2101" name=""/>
                <p:cNvSpPr/>
                <p:nvPr/>
              </p:nvSpPr>
              <p:spPr>
                <a:xfrm>
                  <a:off x="321264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>
                  <a:off x="313200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3" name=""/>
              <p:cNvGrpSpPr/>
              <p:nvPr/>
            </p:nvGrpSpPr>
            <p:grpSpPr>
              <a:xfrm>
                <a:off x="3575520" y="2118960"/>
                <a:ext cx="443160" cy="196920"/>
                <a:chOff x="3575520" y="2118960"/>
                <a:chExt cx="443160" cy="196920"/>
              </a:xfrm>
            </p:grpSpPr>
            <p:sp>
              <p:nvSpPr>
                <p:cNvPr id="2104" name=""/>
                <p:cNvSpPr/>
                <p:nvPr/>
              </p:nvSpPr>
              <p:spPr>
                <a:xfrm>
                  <a:off x="365580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357552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6" name=""/>
              <p:cNvGrpSpPr/>
              <p:nvPr/>
            </p:nvGrpSpPr>
            <p:grpSpPr>
              <a:xfrm>
                <a:off x="4019400" y="2118960"/>
                <a:ext cx="442800" cy="196920"/>
                <a:chOff x="4019400" y="2118960"/>
                <a:chExt cx="442800" cy="196920"/>
              </a:xfrm>
            </p:grpSpPr>
            <p:sp>
              <p:nvSpPr>
                <p:cNvPr id="2107" name=""/>
                <p:cNvSpPr/>
                <p:nvPr/>
              </p:nvSpPr>
              <p:spPr>
                <a:xfrm>
                  <a:off x="409968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4019400" y="21189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9" name=""/>
              <p:cNvGrpSpPr/>
              <p:nvPr/>
            </p:nvGrpSpPr>
            <p:grpSpPr>
              <a:xfrm>
                <a:off x="4462560" y="2118960"/>
                <a:ext cx="443160" cy="196920"/>
                <a:chOff x="4462560" y="2118960"/>
                <a:chExt cx="443160" cy="196920"/>
              </a:xfrm>
            </p:grpSpPr>
            <p:sp>
              <p:nvSpPr>
                <p:cNvPr id="2110" name=""/>
                <p:cNvSpPr/>
                <p:nvPr/>
              </p:nvSpPr>
              <p:spPr>
                <a:xfrm>
                  <a:off x="454320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446256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2" name=""/>
              <p:cNvGrpSpPr/>
              <p:nvPr/>
            </p:nvGrpSpPr>
            <p:grpSpPr>
              <a:xfrm>
                <a:off x="4906440" y="2118960"/>
                <a:ext cx="443160" cy="196920"/>
                <a:chOff x="4906440" y="2118960"/>
                <a:chExt cx="443160" cy="196920"/>
              </a:xfrm>
            </p:grpSpPr>
            <p:sp>
              <p:nvSpPr>
                <p:cNvPr id="2113" name=""/>
                <p:cNvSpPr/>
                <p:nvPr/>
              </p:nvSpPr>
              <p:spPr>
                <a:xfrm>
                  <a:off x="498708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490644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5" name=""/>
              <p:cNvGrpSpPr/>
              <p:nvPr/>
            </p:nvGrpSpPr>
            <p:grpSpPr>
              <a:xfrm>
                <a:off x="5350320" y="2118960"/>
                <a:ext cx="442800" cy="196920"/>
                <a:chOff x="5350320" y="2118960"/>
                <a:chExt cx="442800" cy="196920"/>
              </a:xfrm>
            </p:grpSpPr>
            <p:sp>
              <p:nvSpPr>
                <p:cNvPr id="2116" name=""/>
                <p:cNvSpPr/>
                <p:nvPr/>
              </p:nvSpPr>
              <p:spPr>
                <a:xfrm>
                  <a:off x="543060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5350320" y="21189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18" name=""/>
              <p:cNvGrpSpPr/>
              <p:nvPr/>
            </p:nvGrpSpPr>
            <p:grpSpPr>
              <a:xfrm>
                <a:off x="5793480" y="2118960"/>
                <a:ext cx="443160" cy="196920"/>
                <a:chOff x="5793480" y="2118960"/>
                <a:chExt cx="443160" cy="196920"/>
              </a:xfrm>
            </p:grpSpPr>
            <p:sp>
              <p:nvSpPr>
                <p:cNvPr id="2119" name=""/>
                <p:cNvSpPr/>
                <p:nvPr/>
              </p:nvSpPr>
              <p:spPr>
                <a:xfrm>
                  <a:off x="587412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579348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1" name=""/>
              <p:cNvGrpSpPr/>
              <p:nvPr/>
            </p:nvGrpSpPr>
            <p:grpSpPr>
              <a:xfrm>
                <a:off x="6237360" y="2118960"/>
                <a:ext cx="443160" cy="196920"/>
                <a:chOff x="6237360" y="2118960"/>
                <a:chExt cx="443160" cy="196920"/>
              </a:xfrm>
            </p:grpSpPr>
            <p:sp>
              <p:nvSpPr>
                <p:cNvPr id="2122" name=""/>
                <p:cNvSpPr/>
                <p:nvPr/>
              </p:nvSpPr>
              <p:spPr>
                <a:xfrm>
                  <a:off x="631800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623736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4" name=""/>
              <p:cNvGrpSpPr/>
              <p:nvPr/>
            </p:nvGrpSpPr>
            <p:grpSpPr>
              <a:xfrm>
                <a:off x="6680880" y="2118960"/>
                <a:ext cx="442800" cy="196920"/>
                <a:chOff x="6680880" y="2118960"/>
                <a:chExt cx="442800" cy="196920"/>
              </a:xfrm>
            </p:grpSpPr>
            <p:sp>
              <p:nvSpPr>
                <p:cNvPr id="2125" name=""/>
                <p:cNvSpPr/>
                <p:nvPr/>
              </p:nvSpPr>
              <p:spPr>
                <a:xfrm>
                  <a:off x="6761160" y="21189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6680880" y="21189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7" name=""/>
              <p:cNvGrpSpPr/>
              <p:nvPr/>
            </p:nvGrpSpPr>
            <p:grpSpPr>
              <a:xfrm>
                <a:off x="7124400" y="2118960"/>
                <a:ext cx="443160" cy="196920"/>
                <a:chOff x="7124400" y="2118960"/>
                <a:chExt cx="443160" cy="196920"/>
              </a:xfrm>
            </p:grpSpPr>
            <p:sp>
              <p:nvSpPr>
                <p:cNvPr id="2128" name=""/>
                <p:cNvSpPr/>
                <p:nvPr/>
              </p:nvSpPr>
              <p:spPr>
                <a:xfrm>
                  <a:off x="7205040" y="21189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7124400" y="21189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0" name=""/>
              <p:cNvGrpSpPr/>
              <p:nvPr/>
            </p:nvGrpSpPr>
            <p:grpSpPr>
              <a:xfrm>
                <a:off x="470520" y="2315880"/>
                <a:ext cx="443160" cy="196560"/>
                <a:chOff x="470520" y="2315880"/>
                <a:chExt cx="443160" cy="196560"/>
              </a:xfrm>
            </p:grpSpPr>
            <p:sp>
              <p:nvSpPr>
                <p:cNvPr id="2131" name=""/>
                <p:cNvSpPr/>
                <p:nvPr/>
              </p:nvSpPr>
              <p:spPr>
                <a:xfrm>
                  <a:off x="55116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47052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3" name=""/>
              <p:cNvGrpSpPr/>
              <p:nvPr/>
            </p:nvGrpSpPr>
            <p:grpSpPr>
              <a:xfrm>
                <a:off x="914040" y="2315880"/>
                <a:ext cx="442800" cy="196560"/>
                <a:chOff x="914040" y="2315880"/>
                <a:chExt cx="442800" cy="196560"/>
              </a:xfrm>
            </p:grpSpPr>
            <p:sp>
              <p:nvSpPr>
                <p:cNvPr id="2134" name=""/>
                <p:cNvSpPr/>
                <p:nvPr/>
              </p:nvSpPr>
              <p:spPr>
                <a:xfrm>
                  <a:off x="99432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914040" y="23158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6" name=""/>
              <p:cNvGrpSpPr/>
              <p:nvPr/>
            </p:nvGrpSpPr>
            <p:grpSpPr>
              <a:xfrm>
                <a:off x="1357560" y="2315880"/>
                <a:ext cx="443160" cy="196560"/>
                <a:chOff x="1357560" y="2315880"/>
                <a:chExt cx="443160" cy="196560"/>
              </a:xfrm>
            </p:grpSpPr>
            <p:sp>
              <p:nvSpPr>
                <p:cNvPr id="2137" name=""/>
                <p:cNvSpPr/>
                <p:nvPr/>
              </p:nvSpPr>
              <p:spPr>
                <a:xfrm>
                  <a:off x="143820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135756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9" name=""/>
              <p:cNvGrpSpPr/>
              <p:nvPr/>
            </p:nvGrpSpPr>
            <p:grpSpPr>
              <a:xfrm>
                <a:off x="1801080" y="2315880"/>
                <a:ext cx="443160" cy="196560"/>
                <a:chOff x="1801080" y="2315880"/>
                <a:chExt cx="443160" cy="196560"/>
              </a:xfrm>
            </p:grpSpPr>
            <p:sp>
              <p:nvSpPr>
                <p:cNvPr id="2140" name=""/>
                <p:cNvSpPr/>
                <p:nvPr/>
              </p:nvSpPr>
              <p:spPr>
                <a:xfrm>
                  <a:off x="188172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180108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2" name=""/>
              <p:cNvGrpSpPr/>
              <p:nvPr/>
            </p:nvGrpSpPr>
            <p:grpSpPr>
              <a:xfrm>
                <a:off x="2244960" y="2315880"/>
                <a:ext cx="442800" cy="196560"/>
                <a:chOff x="2244960" y="2315880"/>
                <a:chExt cx="442800" cy="196560"/>
              </a:xfrm>
            </p:grpSpPr>
            <p:sp>
              <p:nvSpPr>
                <p:cNvPr id="2143" name=""/>
                <p:cNvSpPr/>
                <p:nvPr/>
              </p:nvSpPr>
              <p:spPr>
                <a:xfrm>
                  <a:off x="232524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244960" y="23158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5" name=""/>
              <p:cNvGrpSpPr/>
              <p:nvPr/>
            </p:nvGrpSpPr>
            <p:grpSpPr>
              <a:xfrm>
                <a:off x="2688120" y="2315880"/>
                <a:ext cx="443160" cy="196560"/>
                <a:chOff x="2688120" y="2315880"/>
                <a:chExt cx="443160" cy="196560"/>
              </a:xfrm>
            </p:grpSpPr>
            <p:sp>
              <p:nvSpPr>
                <p:cNvPr id="2146" name=""/>
                <p:cNvSpPr/>
                <p:nvPr/>
              </p:nvSpPr>
              <p:spPr>
                <a:xfrm>
                  <a:off x="276876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68812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8" name=""/>
              <p:cNvGrpSpPr/>
              <p:nvPr/>
            </p:nvGrpSpPr>
            <p:grpSpPr>
              <a:xfrm>
                <a:off x="3132000" y="2315880"/>
                <a:ext cx="443160" cy="196560"/>
                <a:chOff x="3132000" y="2315880"/>
                <a:chExt cx="443160" cy="196560"/>
              </a:xfrm>
            </p:grpSpPr>
            <p:sp>
              <p:nvSpPr>
                <p:cNvPr id="2149" name=""/>
                <p:cNvSpPr/>
                <p:nvPr/>
              </p:nvSpPr>
              <p:spPr>
                <a:xfrm>
                  <a:off x="321264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13200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1" name=""/>
              <p:cNvGrpSpPr/>
              <p:nvPr/>
            </p:nvGrpSpPr>
            <p:grpSpPr>
              <a:xfrm>
                <a:off x="3575520" y="2315880"/>
                <a:ext cx="443160" cy="196560"/>
                <a:chOff x="3575520" y="2315880"/>
                <a:chExt cx="443160" cy="196560"/>
              </a:xfrm>
            </p:grpSpPr>
            <p:sp>
              <p:nvSpPr>
                <p:cNvPr id="2152" name=""/>
                <p:cNvSpPr/>
                <p:nvPr/>
              </p:nvSpPr>
              <p:spPr>
                <a:xfrm>
                  <a:off x="365580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57552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4" name=""/>
              <p:cNvGrpSpPr/>
              <p:nvPr/>
            </p:nvGrpSpPr>
            <p:grpSpPr>
              <a:xfrm>
                <a:off x="4019400" y="2315880"/>
                <a:ext cx="442800" cy="196560"/>
                <a:chOff x="4019400" y="2315880"/>
                <a:chExt cx="442800" cy="196560"/>
              </a:xfrm>
            </p:grpSpPr>
            <p:sp>
              <p:nvSpPr>
                <p:cNvPr id="2155" name=""/>
                <p:cNvSpPr/>
                <p:nvPr/>
              </p:nvSpPr>
              <p:spPr>
                <a:xfrm>
                  <a:off x="409968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4019400" y="23158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7" name=""/>
              <p:cNvGrpSpPr/>
              <p:nvPr/>
            </p:nvGrpSpPr>
            <p:grpSpPr>
              <a:xfrm>
                <a:off x="4462560" y="2315880"/>
                <a:ext cx="443160" cy="196560"/>
                <a:chOff x="4462560" y="2315880"/>
                <a:chExt cx="443160" cy="196560"/>
              </a:xfrm>
            </p:grpSpPr>
            <p:sp>
              <p:nvSpPr>
                <p:cNvPr id="2158" name=""/>
                <p:cNvSpPr/>
                <p:nvPr/>
              </p:nvSpPr>
              <p:spPr>
                <a:xfrm>
                  <a:off x="454320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446256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0" name=""/>
              <p:cNvGrpSpPr/>
              <p:nvPr/>
            </p:nvGrpSpPr>
            <p:grpSpPr>
              <a:xfrm>
                <a:off x="4906440" y="2315880"/>
                <a:ext cx="443160" cy="196560"/>
                <a:chOff x="4906440" y="2315880"/>
                <a:chExt cx="443160" cy="196560"/>
              </a:xfrm>
            </p:grpSpPr>
            <p:sp>
              <p:nvSpPr>
                <p:cNvPr id="2161" name=""/>
                <p:cNvSpPr/>
                <p:nvPr/>
              </p:nvSpPr>
              <p:spPr>
                <a:xfrm>
                  <a:off x="498708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490644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3" name=""/>
              <p:cNvGrpSpPr/>
              <p:nvPr/>
            </p:nvGrpSpPr>
            <p:grpSpPr>
              <a:xfrm>
                <a:off x="5350320" y="2315880"/>
                <a:ext cx="442800" cy="196560"/>
                <a:chOff x="5350320" y="2315880"/>
                <a:chExt cx="442800" cy="196560"/>
              </a:xfrm>
            </p:grpSpPr>
            <p:sp>
              <p:nvSpPr>
                <p:cNvPr id="2164" name=""/>
                <p:cNvSpPr/>
                <p:nvPr/>
              </p:nvSpPr>
              <p:spPr>
                <a:xfrm>
                  <a:off x="543060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5350320" y="23158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6" name=""/>
              <p:cNvGrpSpPr/>
              <p:nvPr/>
            </p:nvGrpSpPr>
            <p:grpSpPr>
              <a:xfrm>
                <a:off x="5793480" y="2315880"/>
                <a:ext cx="443160" cy="196560"/>
                <a:chOff x="5793480" y="2315880"/>
                <a:chExt cx="443160" cy="196560"/>
              </a:xfrm>
            </p:grpSpPr>
            <p:sp>
              <p:nvSpPr>
                <p:cNvPr id="2167" name=""/>
                <p:cNvSpPr/>
                <p:nvPr/>
              </p:nvSpPr>
              <p:spPr>
                <a:xfrm>
                  <a:off x="587412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579348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9" name=""/>
              <p:cNvGrpSpPr/>
              <p:nvPr/>
            </p:nvGrpSpPr>
            <p:grpSpPr>
              <a:xfrm>
                <a:off x="6237360" y="2315880"/>
                <a:ext cx="443160" cy="196560"/>
                <a:chOff x="6237360" y="2315880"/>
                <a:chExt cx="443160" cy="196560"/>
              </a:xfrm>
            </p:grpSpPr>
            <p:sp>
              <p:nvSpPr>
                <p:cNvPr id="2170" name=""/>
                <p:cNvSpPr/>
                <p:nvPr/>
              </p:nvSpPr>
              <p:spPr>
                <a:xfrm>
                  <a:off x="631800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623736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2" name=""/>
              <p:cNvGrpSpPr/>
              <p:nvPr/>
            </p:nvGrpSpPr>
            <p:grpSpPr>
              <a:xfrm>
                <a:off x="6680880" y="2315880"/>
                <a:ext cx="442800" cy="196560"/>
                <a:chOff x="6680880" y="2315880"/>
                <a:chExt cx="442800" cy="196560"/>
              </a:xfrm>
            </p:grpSpPr>
            <p:sp>
              <p:nvSpPr>
                <p:cNvPr id="2173" name=""/>
                <p:cNvSpPr/>
                <p:nvPr/>
              </p:nvSpPr>
              <p:spPr>
                <a:xfrm>
                  <a:off x="6761160" y="23158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6680880" y="23158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5" name=""/>
              <p:cNvGrpSpPr/>
              <p:nvPr/>
            </p:nvGrpSpPr>
            <p:grpSpPr>
              <a:xfrm>
                <a:off x="7124400" y="2315880"/>
                <a:ext cx="443160" cy="196560"/>
                <a:chOff x="7124400" y="2315880"/>
                <a:chExt cx="443160" cy="196560"/>
              </a:xfrm>
            </p:grpSpPr>
            <p:sp>
              <p:nvSpPr>
                <p:cNvPr id="2176" name=""/>
                <p:cNvSpPr/>
                <p:nvPr/>
              </p:nvSpPr>
              <p:spPr>
                <a:xfrm>
                  <a:off x="7205040" y="23158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7124400" y="23158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78" name=""/>
              <p:cNvGrpSpPr/>
              <p:nvPr/>
            </p:nvGrpSpPr>
            <p:grpSpPr>
              <a:xfrm>
                <a:off x="470520" y="2512800"/>
                <a:ext cx="443160" cy="196920"/>
                <a:chOff x="470520" y="2512800"/>
                <a:chExt cx="443160" cy="196920"/>
              </a:xfrm>
            </p:grpSpPr>
            <p:sp>
              <p:nvSpPr>
                <p:cNvPr id="2179" name=""/>
                <p:cNvSpPr/>
                <p:nvPr/>
              </p:nvSpPr>
              <p:spPr>
                <a:xfrm>
                  <a:off x="55116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7052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1" name=""/>
              <p:cNvGrpSpPr/>
              <p:nvPr/>
            </p:nvGrpSpPr>
            <p:grpSpPr>
              <a:xfrm>
                <a:off x="914040" y="2512800"/>
                <a:ext cx="442800" cy="196920"/>
                <a:chOff x="914040" y="2512800"/>
                <a:chExt cx="442800" cy="196920"/>
              </a:xfrm>
            </p:grpSpPr>
            <p:sp>
              <p:nvSpPr>
                <p:cNvPr id="2182" name=""/>
                <p:cNvSpPr/>
                <p:nvPr/>
              </p:nvSpPr>
              <p:spPr>
                <a:xfrm>
                  <a:off x="99432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914040" y="25128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4" name=""/>
              <p:cNvGrpSpPr/>
              <p:nvPr/>
            </p:nvGrpSpPr>
            <p:grpSpPr>
              <a:xfrm>
                <a:off x="1357560" y="2512800"/>
                <a:ext cx="443160" cy="196920"/>
                <a:chOff x="1357560" y="2512800"/>
                <a:chExt cx="443160" cy="196920"/>
              </a:xfrm>
            </p:grpSpPr>
            <p:sp>
              <p:nvSpPr>
                <p:cNvPr id="2185" name=""/>
                <p:cNvSpPr/>
                <p:nvPr/>
              </p:nvSpPr>
              <p:spPr>
                <a:xfrm>
                  <a:off x="143820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6" name=""/>
                <p:cNvSpPr/>
                <p:nvPr/>
              </p:nvSpPr>
              <p:spPr>
                <a:xfrm>
                  <a:off x="135756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7" name=""/>
              <p:cNvGrpSpPr/>
              <p:nvPr/>
            </p:nvGrpSpPr>
            <p:grpSpPr>
              <a:xfrm>
                <a:off x="1801080" y="2512800"/>
                <a:ext cx="443160" cy="196920"/>
                <a:chOff x="1801080" y="2512800"/>
                <a:chExt cx="443160" cy="196920"/>
              </a:xfrm>
            </p:grpSpPr>
            <p:sp>
              <p:nvSpPr>
                <p:cNvPr id="2188" name=""/>
                <p:cNvSpPr/>
                <p:nvPr/>
              </p:nvSpPr>
              <p:spPr>
                <a:xfrm>
                  <a:off x="188172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9" name=""/>
                <p:cNvSpPr/>
                <p:nvPr/>
              </p:nvSpPr>
              <p:spPr>
                <a:xfrm>
                  <a:off x="180108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0" name=""/>
              <p:cNvGrpSpPr/>
              <p:nvPr/>
            </p:nvGrpSpPr>
            <p:grpSpPr>
              <a:xfrm>
                <a:off x="2244960" y="2512800"/>
                <a:ext cx="442800" cy="196920"/>
                <a:chOff x="2244960" y="2512800"/>
                <a:chExt cx="442800" cy="196920"/>
              </a:xfrm>
            </p:grpSpPr>
            <p:sp>
              <p:nvSpPr>
                <p:cNvPr id="2191" name=""/>
                <p:cNvSpPr/>
                <p:nvPr/>
              </p:nvSpPr>
              <p:spPr>
                <a:xfrm>
                  <a:off x="232524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2" name=""/>
                <p:cNvSpPr/>
                <p:nvPr/>
              </p:nvSpPr>
              <p:spPr>
                <a:xfrm>
                  <a:off x="2244960" y="25128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3" name=""/>
              <p:cNvGrpSpPr/>
              <p:nvPr/>
            </p:nvGrpSpPr>
            <p:grpSpPr>
              <a:xfrm>
                <a:off x="2688120" y="2512800"/>
                <a:ext cx="443160" cy="196920"/>
                <a:chOff x="2688120" y="2512800"/>
                <a:chExt cx="443160" cy="196920"/>
              </a:xfrm>
            </p:grpSpPr>
            <p:sp>
              <p:nvSpPr>
                <p:cNvPr id="2194" name=""/>
                <p:cNvSpPr/>
                <p:nvPr/>
              </p:nvSpPr>
              <p:spPr>
                <a:xfrm>
                  <a:off x="276876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5" name=""/>
                <p:cNvSpPr/>
                <p:nvPr/>
              </p:nvSpPr>
              <p:spPr>
                <a:xfrm>
                  <a:off x="268812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6" name=""/>
              <p:cNvGrpSpPr/>
              <p:nvPr/>
            </p:nvGrpSpPr>
            <p:grpSpPr>
              <a:xfrm>
                <a:off x="3132000" y="2512800"/>
                <a:ext cx="443160" cy="196920"/>
                <a:chOff x="3132000" y="2512800"/>
                <a:chExt cx="443160" cy="196920"/>
              </a:xfrm>
            </p:grpSpPr>
            <p:sp>
              <p:nvSpPr>
                <p:cNvPr id="2197" name=""/>
                <p:cNvSpPr/>
                <p:nvPr/>
              </p:nvSpPr>
              <p:spPr>
                <a:xfrm>
                  <a:off x="321264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98" name=""/>
                <p:cNvSpPr/>
                <p:nvPr/>
              </p:nvSpPr>
              <p:spPr>
                <a:xfrm>
                  <a:off x="313200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9" name=""/>
              <p:cNvGrpSpPr/>
              <p:nvPr/>
            </p:nvGrpSpPr>
            <p:grpSpPr>
              <a:xfrm>
                <a:off x="3575520" y="2512800"/>
                <a:ext cx="443160" cy="196920"/>
                <a:chOff x="3575520" y="2512800"/>
                <a:chExt cx="443160" cy="196920"/>
              </a:xfrm>
            </p:grpSpPr>
            <p:sp>
              <p:nvSpPr>
                <p:cNvPr id="2200" name=""/>
                <p:cNvSpPr/>
                <p:nvPr/>
              </p:nvSpPr>
              <p:spPr>
                <a:xfrm>
                  <a:off x="365580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1" name=""/>
                <p:cNvSpPr/>
                <p:nvPr/>
              </p:nvSpPr>
              <p:spPr>
                <a:xfrm>
                  <a:off x="357552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2" name=""/>
              <p:cNvGrpSpPr/>
              <p:nvPr/>
            </p:nvGrpSpPr>
            <p:grpSpPr>
              <a:xfrm>
                <a:off x="4019400" y="2512800"/>
                <a:ext cx="442800" cy="196920"/>
                <a:chOff x="4019400" y="2512800"/>
                <a:chExt cx="442800" cy="196920"/>
              </a:xfrm>
            </p:grpSpPr>
            <p:sp>
              <p:nvSpPr>
                <p:cNvPr id="2203" name=""/>
                <p:cNvSpPr/>
                <p:nvPr/>
              </p:nvSpPr>
              <p:spPr>
                <a:xfrm>
                  <a:off x="409968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4" name=""/>
                <p:cNvSpPr/>
                <p:nvPr/>
              </p:nvSpPr>
              <p:spPr>
                <a:xfrm>
                  <a:off x="4019400" y="25128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5" name=""/>
              <p:cNvGrpSpPr/>
              <p:nvPr/>
            </p:nvGrpSpPr>
            <p:grpSpPr>
              <a:xfrm>
                <a:off x="4462560" y="2512800"/>
                <a:ext cx="443160" cy="196920"/>
                <a:chOff x="4462560" y="2512800"/>
                <a:chExt cx="443160" cy="196920"/>
              </a:xfrm>
            </p:grpSpPr>
            <p:sp>
              <p:nvSpPr>
                <p:cNvPr id="2206" name=""/>
                <p:cNvSpPr/>
                <p:nvPr/>
              </p:nvSpPr>
              <p:spPr>
                <a:xfrm>
                  <a:off x="454320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7" name=""/>
                <p:cNvSpPr/>
                <p:nvPr/>
              </p:nvSpPr>
              <p:spPr>
                <a:xfrm>
                  <a:off x="446256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08" name=""/>
              <p:cNvGrpSpPr/>
              <p:nvPr/>
            </p:nvGrpSpPr>
            <p:grpSpPr>
              <a:xfrm>
                <a:off x="4906440" y="2512800"/>
                <a:ext cx="443160" cy="196920"/>
                <a:chOff x="4906440" y="2512800"/>
                <a:chExt cx="443160" cy="196920"/>
              </a:xfrm>
            </p:grpSpPr>
            <p:sp>
              <p:nvSpPr>
                <p:cNvPr id="2209" name=""/>
                <p:cNvSpPr/>
                <p:nvPr/>
              </p:nvSpPr>
              <p:spPr>
                <a:xfrm>
                  <a:off x="498708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0" name=""/>
                <p:cNvSpPr/>
                <p:nvPr/>
              </p:nvSpPr>
              <p:spPr>
                <a:xfrm>
                  <a:off x="490644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1" name=""/>
              <p:cNvGrpSpPr/>
              <p:nvPr/>
            </p:nvGrpSpPr>
            <p:grpSpPr>
              <a:xfrm>
                <a:off x="5350320" y="2512800"/>
                <a:ext cx="442800" cy="196920"/>
                <a:chOff x="5350320" y="2512800"/>
                <a:chExt cx="442800" cy="196920"/>
              </a:xfrm>
            </p:grpSpPr>
            <p:sp>
              <p:nvSpPr>
                <p:cNvPr id="2212" name=""/>
                <p:cNvSpPr/>
                <p:nvPr/>
              </p:nvSpPr>
              <p:spPr>
                <a:xfrm>
                  <a:off x="543060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3" name=""/>
                <p:cNvSpPr/>
                <p:nvPr/>
              </p:nvSpPr>
              <p:spPr>
                <a:xfrm>
                  <a:off x="5350320" y="25128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4" name=""/>
              <p:cNvGrpSpPr/>
              <p:nvPr/>
            </p:nvGrpSpPr>
            <p:grpSpPr>
              <a:xfrm>
                <a:off x="5793480" y="2512800"/>
                <a:ext cx="443160" cy="196920"/>
                <a:chOff x="5793480" y="2512800"/>
                <a:chExt cx="443160" cy="196920"/>
              </a:xfrm>
            </p:grpSpPr>
            <p:sp>
              <p:nvSpPr>
                <p:cNvPr id="2215" name=""/>
                <p:cNvSpPr/>
                <p:nvPr/>
              </p:nvSpPr>
              <p:spPr>
                <a:xfrm>
                  <a:off x="587412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6" name=""/>
                <p:cNvSpPr/>
                <p:nvPr/>
              </p:nvSpPr>
              <p:spPr>
                <a:xfrm>
                  <a:off x="579348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7" name=""/>
              <p:cNvGrpSpPr/>
              <p:nvPr/>
            </p:nvGrpSpPr>
            <p:grpSpPr>
              <a:xfrm>
                <a:off x="6237360" y="2512800"/>
                <a:ext cx="443160" cy="196920"/>
                <a:chOff x="6237360" y="2512800"/>
                <a:chExt cx="443160" cy="196920"/>
              </a:xfrm>
            </p:grpSpPr>
            <p:sp>
              <p:nvSpPr>
                <p:cNvPr id="2218" name=""/>
                <p:cNvSpPr/>
                <p:nvPr/>
              </p:nvSpPr>
              <p:spPr>
                <a:xfrm>
                  <a:off x="631800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9" name=""/>
                <p:cNvSpPr/>
                <p:nvPr/>
              </p:nvSpPr>
              <p:spPr>
                <a:xfrm>
                  <a:off x="623736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0" name=""/>
              <p:cNvGrpSpPr/>
              <p:nvPr/>
            </p:nvGrpSpPr>
            <p:grpSpPr>
              <a:xfrm>
                <a:off x="6680880" y="2512800"/>
                <a:ext cx="442800" cy="196920"/>
                <a:chOff x="6680880" y="2512800"/>
                <a:chExt cx="442800" cy="196920"/>
              </a:xfrm>
            </p:grpSpPr>
            <p:sp>
              <p:nvSpPr>
                <p:cNvPr id="2221" name=""/>
                <p:cNvSpPr/>
                <p:nvPr/>
              </p:nvSpPr>
              <p:spPr>
                <a:xfrm>
                  <a:off x="6761160" y="25128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2" name=""/>
                <p:cNvSpPr/>
                <p:nvPr/>
              </p:nvSpPr>
              <p:spPr>
                <a:xfrm>
                  <a:off x="6680880" y="25128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3" name=""/>
              <p:cNvGrpSpPr/>
              <p:nvPr/>
            </p:nvGrpSpPr>
            <p:grpSpPr>
              <a:xfrm>
                <a:off x="7124400" y="2512800"/>
                <a:ext cx="443160" cy="196920"/>
                <a:chOff x="7124400" y="2512800"/>
                <a:chExt cx="443160" cy="196920"/>
              </a:xfrm>
            </p:grpSpPr>
            <p:sp>
              <p:nvSpPr>
                <p:cNvPr id="2224" name=""/>
                <p:cNvSpPr/>
                <p:nvPr/>
              </p:nvSpPr>
              <p:spPr>
                <a:xfrm>
                  <a:off x="7205040" y="25128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5" name=""/>
                <p:cNvSpPr/>
                <p:nvPr/>
              </p:nvSpPr>
              <p:spPr>
                <a:xfrm>
                  <a:off x="7124400" y="25128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6" name=""/>
              <p:cNvGrpSpPr/>
              <p:nvPr/>
            </p:nvGrpSpPr>
            <p:grpSpPr>
              <a:xfrm>
                <a:off x="470520" y="2709720"/>
                <a:ext cx="443160" cy="196560"/>
                <a:chOff x="470520" y="2709720"/>
                <a:chExt cx="443160" cy="196560"/>
              </a:xfrm>
            </p:grpSpPr>
            <p:sp>
              <p:nvSpPr>
                <p:cNvPr id="2227" name=""/>
                <p:cNvSpPr/>
                <p:nvPr/>
              </p:nvSpPr>
              <p:spPr>
                <a:xfrm>
                  <a:off x="55116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28" name=""/>
                <p:cNvSpPr/>
                <p:nvPr/>
              </p:nvSpPr>
              <p:spPr>
                <a:xfrm>
                  <a:off x="47052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9" name=""/>
              <p:cNvGrpSpPr/>
              <p:nvPr/>
            </p:nvGrpSpPr>
            <p:grpSpPr>
              <a:xfrm>
                <a:off x="914040" y="2709720"/>
                <a:ext cx="442800" cy="196560"/>
                <a:chOff x="914040" y="2709720"/>
                <a:chExt cx="442800" cy="196560"/>
              </a:xfrm>
            </p:grpSpPr>
            <p:sp>
              <p:nvSpPr>
                <p:cNvPr id="2230" name=""/>
                <p:cNvSpPr/>
                <p:nvPr/>
              </p:nvSpPr>
              <p:spPr>
                <a:xfrm>
                  <a:off x="99432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1" name=""/>
                <p:cNvSpPr/>
                <p:nvPr/>
              </p:nvSpPr>
              <p:spPr>
                <a:xfrm>
                  <a:off x="914040" y="27097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2" name=""/>
              <p:cNvGrpSpPr/>
              <p:nvPr/>
            </p:nvGrpSpPr>
            <p:grpSpPr>
              <a:xfrm>
                <a:off x="1357560" y="2709720"/>
                <a:ext cx="443160" cy="196560"/>
                <a:chOff x="1357560" y="2709720"/>
                <a:chExt cx="443160" cy="196560"/>
              </a:xfrm>
            </p:grpSpPr>
            <p:sp>
              <p:nvSpPr>
                <p:cNvPr id="2233" name=""/>
                <p:cNvSpPr/>
                <p:nvPr/>
              </p:nvSpPr>
              <p:spPr>
                <a:xfrm>
                  <a:off x="143820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4" name=""/>
                <p:cNvSpPr/>
                <p:nvPr/>
              </p:nvSpPr>
              <p:spPr>
                <a:xfrm>
                  <a:off x="135756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5" name=""/>
              <p:cNvGrpSpPr/>
              <p:nvPr/>
            </p:nvGrpSpPr>
            <p:grpSpPr>
              <a:xfrm>
                <a:off x="1801080" y="2709720"/>
                <a:ext cx="443160" cy="196560"/>
                <a:chOff x="1801080" y="2709720"/>
                <a:chExt cx="443160" cy="196560"/>
              </a:xfrm>
            </p:grpSpPr>
            <p:sp>
              <p:nvSpPr>
                <p:cNvPr id="2236" name=""/>
                <p:cNvSpPr/>
                <p:nvPr/>
              </p:nvSpPr>
              <p:spPr>
                <a:xfrm>
                  <a:off x="188172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7" name=""/>
                <p:cNvSpPr/>
                <p:nvPr/>
              </p:nvSpPr>
              <p:spPr>
                <a:xfrm>
                  <a:off x="180108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38" name=""/>
              <p:cNvGrpSpPr/>
              <p:nvPr/>
            </p:nvGrpSpPr>
            <p:grpSpPr>
              <a:xfrm>
                <a:off x="2244960" y="2709720"/>
                <a:ext cx="442800" cy="196560"/>
                <a:chOff x="2244960" y="2709720"/>
                <a:chExt cx="442800" cy="196560"/>
              </a:xfrm>
            </p:grpSpPr>
            <p:sp>
              <p:nvSpPr>
                <p:cNvPr id="2239" name=""/>
                <p:cNvSpPr/>
                <p:nvPr/>
              </p:nvSpPr>
              <p:spPr>
                <a:xfrm>
                  <a:off x="232524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0" name=""/>
                <p:cNvSpPr/>
                <p:nvPr/>
              </p:nvSpPr>
              <p:spPr>
                <a:xfrm>
                  <a:off x="2244960" y="27097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1" name=""/>
              <p:cNvGrpSpPr/>
              <p:nvPr/>
            </p:nvGrpSpPr>
            <p:grpSpPr>
              <a:xfrm>
                <a:off x="2688120" y="2709720"/>
                <a:ext cx="443160" cy="196560"/>
                <a:chOff x="2688120" y="2709720"/>
                <a:chExt cx="443160" cy="196560"/>
              </a:xfrm>
            </p:grpSpPr>
            <p:sp>
              <p:nvSpPr>
                <p:cNvPr id="2242" name=""/>
                <p:cNvSpPr/>
                <p:nvPr/>
              </p:nvSpPr>
              <p:spPr>
                <a:xfrm>
                  <a:off x="276876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3" name=""/>
                <p:cNvSpPr/>
                <p:nvPr/>
              </p:nvSpPr>
              <p:spPr>
                <a:xfrm>
                  <a:off x="268812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4" name=""/>
              <p:cNvGrpSpPr/>
              <p:nvPr/>
            </p:nvGrpSpPr>
            <p:grpSpPr>
              <a:xfrm>
                <a:off x="3132000" y="2709720"/>
                <a:ext cx="443160" cy="196560"/>
                <a:chOff x="3132000" y="2709720"/>
                <a:chExt cx="443160" cy="196560"/>
              </a:xfrm>
            </p:grpSpPr>
            <p:sp>
              <p:nvSpPr>
                <p:cNvPr id="2245" name=""/>
                <p:cNvSpPr/>
                <p:nvPr/>
              </p:nvSpPr>
              <p:spPr>
                <a:xfrm>
                  <a:off x="321264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6" name=""/>
                <p:cNvSpPr/>
                <p:nvPr/>
              </p:nvSpPr>
              <p:spPr>
                <a:xfrm>
                  <a:off x="313200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7" name=""/>
              <p:cNvGrpSpPr/>
              <p:nvPr/>
            </p:nvGrpSpPr>
            <p:grpSpPr>
              <a:xfrm>
                <a:off x="3575520" y="2709720"/>
                <a:ext cx="443160" cy="196560"/>
                <a:chOff x="3575520" y="2709720"/>
                <a:chExt cx="443160" cy="196560"/>
              </a:xfrm>
            </p:grpSpPr>
            <p:sp>
              <p:nvSpPr>
                <p:cNvPr id="2248" name=""/>
                <p:cNvSpPr/>
                <p:nvPr/>
              </p:nvSpPr>
              <p:spPr>
                <a:xfrm>
                  <a:off x="365580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9" name=""/>
                <p:cNvSpPr/>
                <p:nvPr/>
              </p:nvSpPr>
              <p:spPr>
                <a:xfrm>
                  <a:off x="357552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0" name=""/>
              <p:cNvGrpSpPr/>
              <p:nvPr/>
            </p:nvGrpSpPr>
            <p:grpSpPr>
              <a:xfrm>
                <a:off x="4019400" y="2709720"/>
                <a:ext cx="442800" cy="196560"/>
                <a:chOff x="4019400" y="2709720"/>
                <a:chExt cx="442800" cy="196560"/>
              </a:xfrm>
            </p:grpSpPr>
            <p:sp>
              <p:nvSpPr>
                <p:cNvPr id="2251" name=""/>
                <p:cNvSpPr/>
                <p:nvPr/>
              </p:nvSpPr>
              <p:spPr>
                <a:xfrm>
                  <a:off x="409968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2" name=""/>
                <p:cNvSpPr/>
                <p:nvPr/>
              </p:nvSpPr>
              <p:spPr>
                <a:xfrm>
                  <a:off x="4019400" y="27097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3" name=""/>
              <p:cNvGrpSpPr/>
              <p:nvPr/>
            </p:nvGrpSpPr>
            <p:grpSpPr>
              <a:xfrm>
                <a:off x="4462560" y="2709720"/>
                <a:ext cx="443160" cy="196560"/>
                <a:chOff x="4462560" y="2709720"/>
                <a:chExt cx="443160" cy="196560"/>
              </a:xfrm>
            </p:grpSpPr>
            <p:sp>
              <p:nvSpPr>
                <p:cNvPr id="2254" name=""/>
                <p:cNvSpPr/>
                <p:nvPr/>
              </p:nvSpPr>
              <p:spPr>
                <a:xfrm>
                  <a:off x="454320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5" name=""/>
                <p:cNvSpPr/>
                <p:nvPr/>
              </p:nvSpPr>
              <p:spPr>
                <a:xfrm>
                  <a:off x="446256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6" name=""/>
              <p:cNvGrpSpPr/>
              <p:nvPr/>
            </p:nvGrpSpPr>
            <p:grpSpPr>
              <a:xfrm>
                <a:off x="4906440" y="2709720"/>
                <a:ext cx="443160" cy="196560"/>
                <a:chOff x="4906440" y="2709720"/>
                <a:chExt cx="443160" cy="196560"/>
              </a:xfrm>
            </p:grpSpPr>
            <p:sp>
              <p:nvSpPr>
                <p:cNvPr id="2257" name=""/>
                <p:cNvSpPr/>
                <p:nvPr/>
              </p:nvSpPr>
              <p:spPr>
                <a:xfrm>
                  <a:off x="498708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58" name=""/>
                <p:cNvSpPr/>
                <p:nvPr/>
              </p:nvSpPr>
              <p:spPr>
                <a:xfrm>
                  <a:off x="490644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9" name=""/>
              <p:cNvGrpSpPr/>
              <p:nvPr/>
            </p:nvGrpSpPr>
            <p:grpSpPr>
              <a:xfrm>
                <a:off x="5350320" y="2709720"/>
                <a:ext cx="442800" cy="196560"/>
                <a:chOff x="5350320" y="2709720"/>
                <a:chExt cx="442800" cy="196560"/>
              </a:xfrm>
            </p:grpSpPr>
            <p:sp>
              <p:nvSpPr>
                <p:cNvPr id="2260" name=""/>
                <p:cNvSpPr/>
                <p:nvPr/>
              </p:nvSpPr>
              <p:spPr>
                <a:xfrm>
                  <a:off x="543060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1" name=""/>
                <p:cNvSpPr/>
                <p:nvPr/>
              </p:nvSpPr>
              <p:spPr>
                <a:xfrm>
                  <a:off x="5350320" y="27097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2" name=""/>
              <p:cNvGrpSpPr/>
              <p:nvPr/>
            </p:nvGrpSpPr>
            <p:grpSpPr>
              <a:xfrm>
                <a:off x="5793480" y="2709720"/>
                <a:ext cx="443160" cy="196560"/>
                <a:chOff x="5793480" y="2709720"/>
                <a:chExt cx="443160" cy="196560"/>
              </a:xfrm>
            </p:grpSpPr>
            <p:sp>
              <p:nvSpPr>
                <p:cNvPr id="2263" name=""/>
                <p:cNvSpPr/>
                <p:nvPr/>
              </p:nvSpPr>
              <p:spPr>
                <a:xfrm>
                  <a:off x="587412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4" name=""/>
                <p:cNvSpPr/>
                <p:nvPr/>
              </p:nvSpPr>
              <p:spPr>
                <a:xfrm>
                  <a:off x="579348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5" name=""/>
              <p:cNvGrpSpPr/>
              <p:nvPr/>
            </p:nvGrpSpPr>
            <p:grpSpPr>
              <a:xfrm>
                <a:off x="6237360" y="2709720"/>
                <a:ext cx="443160" cy="196560"/>
                <a:chOff x="6237360" y="2709720"/>
                <a:chExt cx="443160" cy="196560"/>
              </a:xfrm>
            </p:grpSpPr>
            <p:sp>
              <p:nvSpPr>
                <p:cNvPr id="2266" name=""/>
                <p:cNvSpPr/>
                <p:nvPr/>
              </p:nvSpPr>
              <p:spPr>
                <a:xfrm>
                  <a:off x="631800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7" name=""/>
                <p:cNvSpPr/>
                <p:nvPr/>
              </p:nvSpPr>
              <p:spPr>
                <a:xfrm>
                  <a:off x="623736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68" name=""/>
              <p:cNvGrpSpPr/>
              <p:nvPr/>
            </p:nvGrpSpPr>
            <p:grpSpPr>
              <a:xfrm>
                <a:off x="6680880" y="2709720"/>
                <a:ext cx="442800" cy="196560"/>
                <a:chOff x="6680880" y="2709720"/>
                <a:chExt cx="442800" cy="196560"/>
              </a:xfrm>
            </p:grpSpPr>
            <p:sp>
              <p:nvSpPr>
                <p:cNvPr id="2269" name=""/>
                <p:cNvSpPr/>
                <p:nvPr/>
              </p:nvSpPr>
              <p:spPr>
                <a:xfrm>
                  <a:off x="6761160" y="27097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0" name=""/>
                <p:cNvSpPr/>
                <p:nvPr/>
              </p:nvSpPr>
              <p:spPr>
                <a:xfrm>
                  <a:off x="6680880" y="27097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1" name=""/>
              <p:cNvGrpSpPr/>
              <p:nvPr/>
            </p:nvGrpSpPr>
            <p:grpSpPr>
              <a:xfrm>
                <a:off x="7124400" y="2709720"/>
                <a:ext cx="443160" cy="196560"/>
                <a:chOff x="7124400" y="2709720"/>
                <a:chExt cx="443160" cy="196560"/>
              </a:xfrm>
            </p:grpSpPr>
            <p:sp>
              <p:nvSpPr>
                <p:cNvPr id="2272" name=""/>
                <p:cNvSpPr/>
                <p:nvPr/>
              </p:nvSpPr>
              <p:spPr>
                <a:xfrm>
                  <a:off x="7205040" y="27097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3" name=""/>
                <p:cNvSpPr/>
                <p:nvPr/>
              </p:nvSpPr>
              <p:spPr>
                <a:xfrm>
                  <a:off x="7124400" y="27097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4" name=""/>
              <p:cNvGrpSpPr/>
              <p:nvPr/>
            </p:nvGrpSpPr>
            <p:grpSpPr>
              <a:xfrm>
                <a:off x="470520" y="2906280"/>
                <a:ext cx="443160" cy="196920"/>
                <a:chOff x="470520" y="2906280"/>
                <a:chExt cx="443160" cy="196920"/>
              </a:xfrm>
            </p:grpSpPr>
            <p:sp>
              <p:nvSpPr>
                <p:cNvPr id="2275" name=""/>
                <p:cNvSpPr/>
                <p:nvPr/>
              </p:nvSpPr>
              <p:spPr>
                <a:xfrm>
                  <a:off x="55116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6" name=""/>
                <p:cNvSpPr/>
                <p:nvPr/>
              </p:nvSpPr>
              <p:spPr>
                <a:xfrm>
                  <a:off x="47052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7" name=""/>
              <p:cNvGrpSpPr/>
              <p:nvPr/>
            </p:nvGrpSpPr>
            <p:grpSpPr>
              <a:xfrm>
                <a:off x="914040" y="2906280"/>
                <a:ext cx="442800" cy="196920"/>
                <a:chOff x="914040" y="2906280"/>
                <a:chExt cx="442800" cy="19692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99432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914040" y="29062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0" name=""/>
              <p:cNvGrpSpPr/>
              <p:nvPr/>
            </p:nvGrpSpPr>
            <p:grpSpPr>
              <a:xfrm>
                <a:off x="1357560" y="2906280"/>
                <a:ext cx="443160" cy="196920"/>
                <a:chOff x="1357560" y="2906280"/>
                <a:chExt cx="443160" cy="196920"/>
              </a:xfrm>
            </p:grpSpPr>
            <p:sp>
              <p:nvSpPr>
                <p:cNvPr id="2281" name=""/>
                <p:cNvSpPr/>
                <p:nvPr/>
              </p:nvSpPr>
              <p:spPr>
                <a:xfrm>
                  <a:off x="143820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2" name=""/>
                <p:cNvSpPr/>
                <p:nvPr/>
              </p:nvSpPr>
              <p:spPr>
                <a:xfrm>
                  <a:off x="135756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3" name=""/>
              <p:cNvGrpSpPr/>
              <p:nvPr/>
            </p:nvGrpSpPr>
            <p:grpSpPr>
              <a:xfrm>
                <a:off x="1801080" y="2906280"/>
                <a:ext cx="443160" cy="196920"/>
                <a:chOff x="1801080" y="2906280"/>
                <a:chExt cx="443160" cy="196920"/>
              </a:xfrm>
            </p:grpSpPr>
            <p:sp>
              <p:nvSpPr>
                <p:cNvPr id="2284" name=""/>
                <p:cNvSpPr/>
                <p:nvPr/>
              </p:nvSpPr>
              <p:spPr>
                <a:xfrm>
                  <a:off x="188172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5" name=""/>
                <p:cNvSpPr/>
                <p:nvPr/>
              </p:nvSpPr>
              <p:spPr>
                <a:xfrm>
                  <a:off x="180108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6" name=""/>
              <p:cNvGrpSpPr/>
              <p:nvPr/>
            </p:nvGrpSpPr>
            <p:grpSpPr>
              <a:xfrm>
                <a:off x="2244960" y="2906280"/>
                <a:ext cx="442800" cy="196920"/>
                <a:chOff x="2244960" y="2906280"/>
                <a:chExt cx="442800" cy="19692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232524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8" name=""/>
                <p:cNvSpPr/>
                <p:nvPr/>
              </p:nvSpPr>
              <p:spPr>
                <a:xfrm>
                  <a:off x="2244960" y="29062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9" name=""/>
              <p:cNvGrpSpPr/>
              <p:nvPr/>
            </p:nvGrpSpPr>
            <p:grpSpPr>
              <a:xfrm>
                <a:off x="2688120" y="2906280"/>
                <a:ext cx="443160" cy="196920"/>
                <a:chOff x="2688120" y="2906280"/>
                <a:chExt cx="443160" cy="196920"/>
              </a:xfrm>
            </p:grpSpPr>
            <p:sp>
              <p:nvSpPr>
                <p:cNvPr id="2290" name=""/>
                <p:cNvSpPr/>
                <p:nvPr/>
              </p:nvSpPr>
              <p:spPr>
                <a:xfrm>
                  <a:off x="276876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1" name=""/>
                <p:cNvSpPr/>
                <p:nvPr/>
              </p:nvSpPr>
              <p:spPr>
                <a:xfrm>
                  <a:off x="268812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2" name=""/>
              <p:cNvGrpSpPr/>
              <p:nvPr/>
            </p:nvGrpSpPr>
            <p:grpSpPr>
              <a:xfrm>
                <a:off x="3132000" y="2906280"/>
                <a:ext cx="443160" cy="196920"/>
                <a:chOff x="3132000" y="2906280"/>
                <a:chExt cx="443160" cy="196920"/>
              </a:xfrm>
            </p:grpSpPr>
            <p:sp>
              <p:nvSpPr>
                <p:cNvPr id="2293" name=""/>
                <p:cNvSpPr/>
                <p:nvPr/>
              </p:nvSpPr>
              <p:spPr>
                <a:xfrm>
                  <a:off x="321264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4" name=""/>
                <p:cNvSpPr/>
                <p:nvPr/>
              </p:nvSpPr>
              <p:spPr>
                <a:xfrm>
                  <a:off x="313200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5" name=""/>
              <p:cNvGrpSpPr/>
              <p:nvPr/>
            </p:nvGrpSpPr>
            <p:grpSpPr>
              <a:xfrm>
                <a:off x="3575520" y="2906280"/>
                <a:ext cx="443160" cy="196920"/>
                <a:chOff x="3575520" y="2906280"/>
                <a:chExt cx="443160" cy="196920"/>
              </a:xfrm>
            </p:grpSpPr>
            <p:sp>
              <p:nvSpPr>
                <p:cNvPr id="2296" name=""/>
                <p:cNvSpPr/>
                <p:nvPr/>
              </p:nvSpPr>
              <p:spPr>
                <a:xfrm>
                  <a:off x="365580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7" name=""/>
                <p:cNvSpPr/>
                <p:nvPr/>
              </p:nvSpPr>
              <p:spPr>
                <a:xfrm>
                  <a:off x="357552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8" name=""/>
              <p:cNvGrpSpPr/>
              <p:nvPr/>
            </p:nvGrpSpPr>
            <p:grpSpPr>
              <a:xfrm>
                <a:off x="4019400" y="2906280"/>
                <a:ext cx="442800" cy="196920"/>
                <a:chOff x="4019400" y="2906280"/>
                <a:chExt cx="442800" cy="196920"/>
              </a:xfrm>
            </p:grpSpPr>
            <p:sp>
              <p:nvSpPr>
                <p:cNvPr id="2299" name=""/>
                <p:cNvSpPr/>
                <p:nvPr/>
              </p:nvSpPr>
              <p:spPr>
                <a:xfrm>
                  <a:off x="409968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0" name=""/>
                <p:cNvSpPr/>
                <p:nvPr/>
              </p:nvSpPr>
              <p:spPr>
                <a:xfrm>
                  <a:off x="4019400" y="29062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1" name=""/>
              <p:cNvGrpSpPr/>
              <p:nvPr/>
            </p:nvGrpSpPr>
            <p:grpSpPr>
              <a:xfrm>
                <a:off x="4462560" y="2906280"/>
                <a:ext cx="443160" cy="196920"/>
                <a:chOff x="4462560" y="2906280"/>
                <a:chExt cx="443160" cy="196920"/>
              </a:xfrm>
            </p:grpSpPr>
            <p:sp>
              <p:nvSpPr>
                <p:cNvPr id="2302" name=""/>
                <p:cNvSpPr/>
                <p:nvPr/>
              </p:nvSpPr>
              <p:spPr>
                <a:xfrm>
                  <a:off x="454320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3" name=""/>
                <p:cNvSpPr/>
                <p:nvPr/>
              </p:nvSpPr>
              <p:spPr>
                <a:xfrm>
                  <a:off x="446256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4" name=""/>
              <p:cNvGrpSpPr/>
              <p:nvPr/>
            </p:nvGrpSpPr>
            <p:grpSpPr>
              <a:xfrm>
                <a:off x="4906440" y="2906280"/>
                <a:ext cx="443160" cy="196920"/>
                <a:chOff x="4906440" y="2906280"/>
                <a:chExt cx="443160" cy="196920"/>
              </a:xfrm>
            </p:grpSpPr>
            <p:sp>
              <p:nvSpPr>
                <p:cNvPr id="2305" name=""/>
                <p:cNvSpPr/>
                <p:nvPr/>
              </p:nvSpPr>
              <p:spPr>
                <a:xfrm>
                  <a:off x="498708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6" name=""/>
                <p:cNvSpPr/>
                <p:nvPr/>
              </p:nvSpPr>
              <p:spPr>
                <a:xfrm>
                  <a:off x="490644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7" name=""/>
              <p:cNvGrpSpPr/>
              <p:nvPr/>
            </p:nvGrpSpPr>
            <p:grpSpPr>
              <a:xfrm>
                <a:off x="5350320" y="2906280"/>
                <a:ext cx="442800" cy="196920"/>
                <a:chOff x="5350320" y="2906280"/>
                <a:chExt cx="442800" cy="196920"/>
              </a:xfrm>
            </p:grpSpPr>
            <p:sp>
              <p:nvSpPr>
                <p:cNvPr id="2308" name=""/>
                <p:cNvSpPr/>
                <p:nvPr/>
              </p:nvSpPr>
              <p:spPr>
                <a:xfrm>
                  <a:off x="543060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9" name=""/>
                <p:cNvSpPr/>
                <p:nvPr/>
              </p:nvSpPr>
              <p:spPr>
                <a:xfrm>
                  <a:off x="5350320" y="29062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0" name=""/>
              <p:cNvGrpSpPr/>
              <p:nvPr/>
            </p:nvGrpSpPr>
            <p:grpSpPr>
              <a:xfrm>
                <a:off x="5793480" y="2906280"/>
                <a:ext cx="443160" cy="196920"/>
                <a:chOff x="5793480" y="2906280"/>
                <a:chExt cx="443160" cy="196920"/>
              </a:xfrm>
            </p:grpSpPr>
            <p:sp>
              <p:nvSpPr>
                <p:cNvPr id="2311" name=""/>
                <p:cNvSpPr/>
                <p:nvPr/>
              </p:nvSpPr>
              <p:spPr>
                <a:xfrm>
                  <a:off x="587412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2" name=""/>
                <p:cNvSpPr/>
                <p:nvPr/>
              </p:nvSpPr>
              <p:spPr>
                <a:xfrm>
                  <a:off x="579348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3" name=""/>
              <p:cNvGrpSpPr/>
              <p:nvPr/>
            </p:nvGrpSpPr>
            <p:grpSpPr>
              <a:xfrm>
                <a:off x="6237360" y="2906280"/>
                <a:ext cx="443160" cy="196920"/>
                <a:chOff x="6237360" y="2906280"/>
                <a:chExt cx="443160" cy="19692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631800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623736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6" name=""/>
              <p:cNvGrpSpPr/>
              <p:nvPr/>
            </p:nvGrpSpPr>
            <p:grpSpPr>
              <a:xfrm>
                <a:off x="6680880" y="2906280"/>
                <a:ext cx="442800" cy="196920"/>
                <a:chOff x="6680880" y="2906280"/>
                <a:chExt cx="442800" cy="196920"/>
              </a:xfrm>
            </p:grpSpPr>
            <p:sp>
              <p:nvSpPr>
                <p:cNvPr id="2317" name=""/>
                <p:cNvSpPr/>
                <p:nvPr/>
              </p:nvSpPr>
              <p:spPr>
                <a:xfrm>
                  <a:off x="6761160" y="29062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8" name=""/>
                <p:cNvSpPr/>
                <p:nvPr/>
              </p:nvSpPr>
              <p:spPr>
                <a:xfrm>
                  <a:off x="6680880" y="29062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9" name=""/>
              <p:cNvGrpSpPr/>
              <p:nvPr/>
            </p:nvGrpSpPr>
            <p:grpSpPr>
              <a:xfrm>
                <a:off x="7124400" y="2906280"/>
                <a:ext cx="443160" cy="196920"/>
                <a:chOff x="7124400" y="2906280"/>
                <a:chExt cx="443160" cy="196920"/>
              </a:xfrm>
            </p:grpSpPr>
            <p:sp>
              <p:nvSpPr>
                <p:cNvPr id="2320" name=""/>
                <p:cNvSpPr/>
                <p:nvPr/>
              </p:nvSpPr>
              <p:spPr>
                <a:xfrm>
                  <a:off x="7205040" y="29062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1" name=""/>
                <p:cNvSpPr/>
                <p:nvPr/>
              </p:nvSpPr>
              <p:spPr>
                <a:xfrm>
                  <a:off x="7124400" y="29062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2" name=""/>
              <p:cNvGrpSpPr/>
              <p:nvPr/>
            </p:nvGrpSpPr>
            <p:grpSpPr>
              <a:xfrm>
                <a:off x="470520" y="3103200"/>
                <a:ext cx="443160" cy="196560"/>
                <a:chOff x="470520" y="3103200"/>
                <a:chExt cx="443160" cy="196560"/>
              </a:xfrm>
            </p:grpSpPr>
            <p:sp>
              <p:nvSpPr>
                <p:cNvPr id="2323" name=""/>
                <p:cNvSpPr/>
                <p:nvPr/>
              </p:nvSpPr>
              <p:spPr>
                <a:xfrm>
                  <a:off x="55116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4" name=""/>
                <p:cNvSpPr/>
                <p:nvPr/>
              </p:nvSpPr>
              <p:spPr>
                <a:xfrm>
                  <a:off x="47052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5" name=""/>
              <p:cNvGrpSpPr/>
              <p:nvPr/>
            </p:nvGrpSpPr>
            <p:grpSpPr>
              <a:xfrm>
                <a:off x="914040" y="3103200"/>
                <a:ext cx="442800" cy="196560"/>
                <a:chOff x="914040" y="3103200"/>
                <a:chExt cx="442800" cy="196560"/>
              </a:xfrm>
            </p:grpSpPr>
            <p:sp>
              <p:nvSpPr>
                <p:cNvPr id="2326" name=""/>
                <p:cNvSpPr/>
                <p:nvPr/>
              </p:nvSpPr>
              <p:spPr>
                <a:xfrm>
                  <a:off x="99432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7" name=""/>
                <p:cNvSpPr/>
                <p:nvPr/>
              </p:nvSpPr>
              <p:spPr>
                <a:xfrm>
                  <a:off x="914040" y="31032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28" name=""/>
              <p:cNvGrpSpPr/>
              <p:nvPr/>
            </p:nvGrpSpPr>
            <p:grpSpPr>
              <a:xfrm>
                <a:off x="1357560" y="3103200"/>
                <a:ext cx="443160" cy="196560"/>
                <a:chOff x="1357560" y="3103200"/>
                <a:chExt cx="443160" cy="196560"/>
              </a:xfrm>
            </p:grpSpPr>
            <p:sp>
              <p:nvSpPr>
                <p:cNvPr id="2329" name=""/>
                <p:cNvSpPr/>
                <p:nvPr/>
              </p:nvSpPr>
              <p:spPr>
                <a:xfrm>
                  <a:off x="143820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0" name=""/>
                <p:cNvSpPr/>
                <p:nvPr/>
              </p:nvSpPr>
              <p:spPr>
                <a:xfrm>
                  <a:off x="135756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1" name=""/>
              <p:cNvGrpSpPr/>
              <p:nvPr/>
            </p:nvGrpSpPr>
            <p:grpSpPr>
              <a:xfrm>
                <a:off x="1801080" y="3103200"/>
                <a:ext cx="443160" cy="196560"/>
                <a:chOff x="1801080" y="3103200"/>
                <a:chExt cx="443160" cy="196560"/>
              </a:xfrm>
            </p:grpSpPr>
            <p:sp>
              <p:nvSpPr>
                <p:cNvPr id="2332" name=""/>
                <p:cNvSpPr/>
                <p:nvPr/>
              </p:nvSpPr>
              <p:spPr>
                <a:xfrm>
                  <a:off x="188172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3" name=""/>
                <p:cNvSpPr/>
                <p:nvPr/>
              </p:nvSpPr>
              <p:spPr>
                <a:xfrm>
                  <a:off x="180108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4" name=""/>
              <p:cNvGrpSpPr/>
              <p:nvPr/>
            </p:nvGrpSpPr>
            <p:grpSpPr>
              <a:xfrm>
                <a:off x="2244960" y="3103200"/>
                <a:ext cx="442800" cy="196560"/>
                <a:chOff x="2244960" y="3103200"/>
                <a:chExt cx="442800" cy="196560"/>
              </a:xfrm>
            </p:grpSpPr>
            <p:sp>
              <p:nvSpPr>
                <p:cNvPr id="2335" name=""/>
                <p:cNvSpPr/>
                <p:nvPr/>
              </p:nvSpPr>
              <p:spPr>
                <a:xfrm>
                  <a:off x="232524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6" name=""/>
                <p:cNvSpPr/>
                <p:nvPr/>
              </p:nvSpPr>
              <p:spPr>
                <a:xfrm>
                  <a:off x="2244960" y="31032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7" name=""/>
              <p:cNvGrpSpPr/>
              <p:nvPr/>
            </p:nvGrpSpPr>
            <p:grpSpPr>
              <a:xfrm>
                <a:off x="2688120" y="3103200"/>
                <a:ext cx="443160" cy="196560"/>
                <a:chOff x="2688120" y="3103200"/>
                <a:chExt cx="443160" cy="196560"/>
              </a:xfrm>
            </p:grpSpPr>
            <p:sp>
              <p:nvSpPr>
                <p:cNvPr id="2338" name=""/>
                <p:cNvSpPr/>
                <p:nvPr/>
              </p:nvSpPr>
              <p:spPr>
                <a:xfrm>
                  <a:off x="276876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9" name=""/>
                <p:cNvSpPr/>
                <p:nvPr/>
              </p:nvSpPr>
              <p:spPr>
                <a:xfrm>
                  <a:off x="268812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0" name=""/>
              <p:cNvGrpSpPr/>
              <p:nvPr/>
            </p:nvGrpSpPr>
            <p:grpSpPr>
              <a:xfrm>
                <a:off x="3132000" y="3103200"/>
                <a:ext cx="443160" cy="196560"/>
                <a:chOff x="3132000" y="3103200"/>
                <a:chExt cx="443160" cy="196560"/>
              </a:xfrm>
            </p:grpSpPr>
            <p:sp>
              <p:nvSpPr>
                <p:cNvPr id="2341" name=""/>
                <p:cNvSpPr/>
                <p:nvPr/>
              </p:nvSpPr>
              <p:spPr>
                <a:xfrm>
                  <a:off x="321264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2" name=""/>
                <p:cNvSpPr/>
                <p:nvPr/>
              </p:nvSpPr>
              <p:spPr>
                <a:xfrm>
                  <a:off x="313200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3" name=""/>
              <p:cNvGrpSpPr/>
              <p:nvPr/>
            </p:nvGrpSpPr>
            <p:grpSpPr>
              <a:xfrm>
                <a:off x="3575520" y="3103200"/>
                <a:ext cx="443160" cy="196560"/>
                <a:chOff x="3575520" y="3103200"/>
                <a:chExt cx="443160" cy="196560"/>
              </a:xfrm>
            </p:grpSpPr>
            <p:sp>
              <p:nvSpPr>
                <p:cNvPr id="2344" name=""/>
                <p:cNvSpPr/>
                <p:nvPr/>
              </p:nvSpPr>
              <p:spPr>
                <a:xfrm>
                  <a:off x="365580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5" name=""/>
                <p:cNvSpPr/>
                <p:nvPr/>
              </p:nvSpPr>
              <p:spPr>
                <a:xfrm>
                  <a:off x="357552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6" name=""/>
              <p:cNvGrpSpPr/>
              <p:nvPr/>
            </p:nvGrpSpPr>
            <p:grpSpPr>
              <a:xfrm>
                <a:off x="4019400" y="3103200"/>
                <a:ext cx="442800" cy="196560"/>
                <a:chOff x="4019400" y="3103200"/>
                <a:chExt cx="442800" cy="196560"/>
              </a:xfrm>
            </p:grpSpPr>
            <p:sp>
              <p:nvSpPr>
                <p:cNvPr id="2347" name=""/>
                <p:cNvSpPr/>
                <p:nvPr/>
              </p:nvSpPr>
              <p:spPr>
                <a:xfrm>
                  <a:off x="409968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48" name=""/>
                <p:cNvSpPr/>
                <p:nvPr/>
              </p:nvSpPr>
              <p:spPr>
                <a:xfrm>
                  <a:off x="4019400" y="31032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9" name=""/>
              <p:cNvGrpSpPr/>
              <p:nvPr/>
            </p:nvGrpSpPr>
            <p:grpSpPr>
              <a:xfrm>
                <a:off x="4462560" y="3103200"/>
                <a:ext cx="443160" cy="196560"/>
                <a:chOff x="4462560" y="3103200"/>
                <a:chExt cx="443160" cy="196560"/>
              </a:xfrm>
            </p:grpSpPr>
            <p:sp>
              <p:nvSpPr>
                <p:cNvPr id="2350" name=""/>
                <p:cNvSpPr/>
                <p:nvPr/>
              </p:nvSpPr>
              <p:spPr>
                <a:xfrm>
                  <a:off x="454320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1" name=""/>
                <p:cNvSpPr/>
                <p:nvPr/>
              </p:nvSpPr>
              <p:spPr>
                <a:xfrm>
                  <a:off x="446256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2" name=""/>
              <p:cNvGrpSpPr/>
              <p:nvPr/>
            </p:nvGrpSpPr>
            <p:grpSpPr>
              <a:xfrm>
                <a:off x="4906440" y="3103200"/>
                <a:ext cx="443160" cy="196560"/>
                <a:chOff x="4906440" y="3103200"/>
                <a:chExt cx="443160" cy="196560"/>
              </a:xfrm>
            </p:grpSpPr>
            <p:sp>
              <p:nvSpPr>
                <p:cNvPr id="2353" name=""/>
                <p:cNvSpPr/>
                <p:nvPr/>
              </p:nvSpPr>
              <p:spPr>
                <a:xfrm>
                  <a:off x="498708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4" name=""/>
                <p:cNvSpPr/>
                <p:nvPr/>
              </p:nvSpPr>
              <p:spPr>
                <a:xfrm>
                  <a:off x="490644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5" name=""/>
              <p:cNvGrpSpPr/>
              <p:nvPr/>
            </p:nvGrpSpPr>
            <p:grpSpPr>
              <a:xfrm>
                <a:off x="5350320" y="3103200"/>
                <a:ext cx="442800" cy="196560"/>
                <a:chOff x="5350320" y="3103200"/>
                <a:chExt cx="442800" cy="196560"/>
              </a:xfrm>
            </p:grpSpPr>
            <p:sp>
              <p:nvSpPr>
                <p:cNvPr id="2356" name=""/>
                <p:cNvSpPr/>
                <p:nvPr/>
              </p:nvSpPr>
              <p:spPr>
                <a:xfrm>
                  <a:off x="543060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7" name=""/>
                <p:cNvSpPr/>
                <p:nvPr/>
              </p:nvSpPr>
              <p:spPr>
                <a:xfrm>
                  <a:off x="5350320" y="31032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58" name=""/>
              <p:cNvGrpSpPr/>
              <p:nvPr/>
            </p:nvGrpSpPr>
            <p:grpSpPr>
              <a:xfrm>
                <a:off x="5793480" y="3103200"/>
                <a:ext cx="443160" cy="196560"/>
                <a:chOff x="5793480" y="3103200"/>
                <a:chExt cx="443160" cy="196560"/>
              </a:xfrm>
            </p:grpSpPr>
            <p:sp>
              <p:nvSpPr>
                <p:cNvPr id="2359" name=""/>
                <p:cNvSpPr/>
                <p:nvPr/>
              </p:nvSpPr>
              <p:spPr>
                <a:xfrm>
                  <a:off x="587412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0" name=""/>
                <p:cNvSpPr/>
                <p:nvPr/>
              </p:nvSpPr>
              <p:spPr>
                <a:xfrm>
                  <a:off x="579348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1" name=""/>
              <p:cNvGrpSpPr/>
              <p:nvPr/>
            </p:nvGrpSpPr>
            <p:grpSpPr>
              <a:xfrm>
                <a:off x="6237360" y="3103200"/>
                <a:ext cx="443160" cy="196560"/>
                <a:chOff x="6237360" y="3103200"/>
                <a:chExt cx="443160" cy="196560"/>
              </a:xfrm>
            </p:grpSpPr>
            <p:sp>
              <p:nvSpPr>
                <p:cNvPr id="2362" name=""/>
                <p:cNvSpPr/>
                <p:nvPr/>
              </p:nvSpPr>
              <p:spPr>
                <a:xfrm>
                  <a:off x="631800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3" name=""/>
                <p:cNvSpPr/>
                <p:nvPr/>
              </p:nvSpPr>
              <p:spPr>
                <a:xfrm>
                  <a:off x="623736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4" name=""/>
              <p:cNvGrpSpPr/>
              <p:nvPr/>
            </p:nvGrpSpPr>
            <p:grpSpPr>
              <a:xfrm>
                <a:off x="6680880" y="3103200"/>
                <a:ext cx="442800" cy="196560"/>
                <a:chOff x="6680880" y="3103200"/>
                <a:chExt cx="442800" cy="196560"/>
              </a:xfrm>
            </p:grpSpPr>
            <p:sp>
              <p:nvSpPr>
                <p:cNvPr id="2365" name=""/>
                <p:cNvSpPr/>
                <p:nvPr/>
              </p:nvSpPr>
              <p:spPr>
                <a:xfrm>
                  <a:off x="6761160" y="31032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6" name=""/>
                <p:cNvSpPr/>
                <p:nvPr/>
              </p:nvSpPr>
              <p:spPr>
                <a:xfrm>
                  <a:off x="6680880" y="31032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7" name=""/>
              <p:cNvGrpSpPr/>
              <p:nvPr/>
            </p:nvGrpSpPr>
            <p:grpSpPr>
              <a:xfrm>
                <a:off x="7124400" y="3103200"/>
                <a:ext cx="443160" cy="196560"/>
                <a:chOff x="7124400" y="3103200"/>
                <a:chExt cx="443160" cy="196560"/>
              </a:xfrm>
            </p:grpSpPr>
            <p:sp>
              <p:nvSpPr>
                <p:cNvPr id="2368" name=""/>
                <p:cNvSpPr/>
                <p:nvPr/>
              </p:nvSpPr>
              <p:spPr>
                <a:xfrm>
                  <a:off x="7205040" y="31032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9" name=""/>
                <p:cNvSpPr/>
                <p:nvPr/>
              </p:nvSpPr>
              <p:spPr>
                <a:xfrm>
                  <a:off x="7124400" y="31032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0" name=""/>
              <p:cNvGrpSpPr/>
              <p:nvPr/>
            </p:nvGrpSpPr>
            <p:grpSpPr>
              <a:xfrm>
                <a:off x="470520" y="3300120"/>
                <a:ext cx="443160" cy="196560"/>
                <a:chOff x="470520" y="3300120"/>
                <a:chExt cx="443160" cy="196560"/>
              </a:xfrm>
            </p:grpSpPr>
            <p:sp>
              <p:nvSpPr>
                <p:cNvPr id="2371" name=""/>
                <p:cNvSpPr/>
                <p:nvPr/>
              </p:nvSpPr>
              <p:spPr>
                <a:xfrm>
                  <a:off x="55116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2" name=""/>
                <p:cNvSpPr/>
                <p:nvPr/>
              </p:nvSpPr>
              <p:spPr>
                <a:xfrm>
                  <a:off x="47052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3" name=""/>
              <p:cNvGrpSpPr/>
              <p:nvPr/>
            </p:nvGrpSpPr>
            <p:grpSpPr>
              <a:xfrm>
                <a:off x="914040" y="3300120"/>
                <a:ext cx="442800" cy="196560"/>
                <a:chOff x="914040" y="3300120"/>
                <a:chExt cx="442800" cy="196560"/>
              </a:xfrm>
            </p:grpSpPr>
            <p:sp>
              <p:nvSpPr>
                <p:cNvPr id="2374" name=""/>
                <p:cNvSpPr/>
                <p:nvPr/>
              </p:nvSpPr>
              <p:spPr>
                <a:xfrm>
                  <a:off x="99432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5" name=""/>
                <p:cNvSpPr/>
                <p:nvPr/>
              </p:nvSpPr>
              <p:spPr>
                <a:xfrm>
                  <a:off x="914040" y="3300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6" name=""/>
              <p:cNvGrpSpPr/>
              <p:nvPr/>
            </p:nvGrpSpPr>
            <p:grpSpPr>
              <a:xfrm>
                <a:off x="1357560" y="3300120"/>
                <a:ext cx="443160" cy="196560"/>
                <a:chOff x="1357560" y="3300120"/>
                <a:chExt cx="443160" cy="196560"/>
              </a:xfrm>
            </p:grpSpPr>
            <p:sp>
              <p:nvSpPr>
                <p:cNvPr id="2377" name=""/>
                <p:cNvSpPr/>
                <p:nvPr/>
              </p:nvSpPr>
              <p:spPr>
                <a:xfrm>
                  <a:off x="143820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8" name=""/>
                <p:cNvSpPr/>
                <p:nvPr/>
              </p:nvSpPr>
              <p:spPr>
                <a:xfrm>
                  <a:off x="135756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9" name=""/>
              <p:cNvGrpSpPr/>
              <p:nvPr/>
            </p:nvGrpSpPr>
            <p:grpSpPr>
              <a:xfrm>
                <a:off x="1801080" y="3300120"/>
                <a:ext cx="443160" cy="196560"/>
                <a:chOff x="1801080" y="3300120"/>
                <a:chExt cx="443160" cy="196560"/>
              </a:xfrm>
            </p:grpSpPr>
            <p:sp>
              <p:nvSpPr>
                <p:cNvPr id="2380" name=""/>
                <p:cNvSpPr/>
                <p:nvPr/>
              </p:nvSpPr>
              <p:spPr>
                <a:xfrm>
                  <a:off x="188172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1" name=""/>
                <p:cNvSpPr/>
                <p:nvPr/>
              </p:nvSpPr>
              <p:spPr>
                <a:xfrm>
                  <a:off x="180108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2" name=""/>
              <p:cNvGrpSpPr/>
              <p:nvPr/>
            </p:nvGrpSpPr>
            <p:grpSpPr>
              <a:xfrm>
                <a:off x="2244960" y="3300120"/>
                <a:ext cx="442800" cy="196560"/>
                <a:chOff x="2244960" y="3300120"/>
                <a:chExt cx="442800" cy="196560"/>
              </a:xfrm>
            </p:grpSpPr>
            <p:sp>
              <p:nvSpPr>
                <p:cNvPr id="2383" name=""/>
                <p:cNvSpPr/>
                <p:nvPr/>
              </p:nvSpPr>
              <p:spPr>
                <a:xfrm>
                  <a:off x="232524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4" name=""/>
                <p:cNvSpPr/>
                <p:nvPr/>
              </p:nvSpPr>
              <p:spPr>
                <a:xfrm>
                  <a:off x="2244960" y="3300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5" name=""/>
              <p:cNvGrpSpPr/>
              <p:nvPr/>
            </p:nvGrpSpPr>
            <p:grpSpPr>
              <a:xfrm>
                <a:off x="2688120" y="3300120"/>
                <a:ext cx="443160" cy="196560"/>
                <a:chOff x="2688120" y="3300120"/>
                <a:chExt cx="443160" cy="196560"/>
              </a:xfrm>
            </p:grpSpPr>
            <p:sp>
              <p:nvSpPr>
                <p:cNvPr id="2386" name=""/>
                <p:cNvSpPr/>
                <p:nvPr/>
              </p:nvSpPr>
              <p:spPr>
                <a:xfrm>
                  <a:off x="276876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7" name=""/>
                <p:cNvSpPr/>
                <p:nvPr/>
              </p:nvSpPr>
              <p:spPr>
                <a:xfrm>
                  <a:off x="268812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88" name=""/>
              <p:cNvGrpSpPr/>
              <p:nvPr/>
            </p:nvGrpSpPr>
            <p:grpSpPr>
              <a:xfrm>
                <a:off x="3132000" y="3300120"/>
                <a:ext cx="443160" cy="196560"/>
                <a:chOff x="3132000" y="3300120"/>
                <a:chExt cx="443160" cy="196560"/>
              </a:xfrm>
            </p:grpSpPr>
            <p:sp>
              <p:nvSpPr>
                <p:cNvPr id="2389" name=""/>
                <p:cNvSpPr/>
                <p:nvPr/>
              </p:nvSpPr>
              <p:spPr>
                <a:xfrm>
                  <a:off x="321264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0" name=""/>
                <p:cNvSpPr/>
                <p:nvPr/>
              </p:nvSpPr>
              <p:spPr>
                <a:xfrm>
                  <a:off x="313200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1" name=""/>
              <p:cNvGrpSpPr/>
              <p:nvPr/>
            </p:nvGrpSpPr>
            <p:grpSpPr>
              <a:xfrm>
                <a:off x="3575520" y="3300120"/>
                <a:ext cx="443160" cy="196560"/>
                <a:chOff x="3575520" y="3300120"/>
                <a:chExt cx="443160" cy="196560"/>
              </a:xfrm>
            </p:grpSpPr>
            <p:sp>
              <p:nvSpPr>
                <p:cNvPr id="2392" name=""/>
                <p:cNvSpPr/>
                <p:nvPr/>
              </p:nvSpPr>
              <p:spPr>
                <a:xfrm>
                  <a:off x="365580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3" name=""/>
                <p:cNvSpPr/>
                <p:nvPr/>
              </p:nvSpPr>
              <p:spPr>
                <a:xfrm>
                  <a:off x="357552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4" name=""/>
              <p:cNvGrpSpPr/>
              <p:nvPr/>
            </p:nvGrpSpPr>
            <p:grpSpPr>
              <a:xfrm>
                <a:off x="4019400" y="3300120"/>
                <a:ext cx="442800" cy="196560"/>
                <a:chOff x="4019400" y="3300120"/>
                <a:chExt cx="442800" cy="196560"/>
              </a:xfrm>
            </p:grpSpPr>
            <p:sp>
              <p:nvSpPr>
                <p:cNvPr id="2395" name=""/>
                <p:cNvSpPr/>
                <p:nvPr/>
              </p:nvSpPr>
              <p:spPr>
                <a:xfrm>
                  <a:off x="409968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6" name=""/>
                <p:cNvSpPr/>
                <p:nvPr/>
              </p:nvSpPr>
              <p:spPr>
                <a:xfrm>
                  <a:off x="4019400" y="3300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7" name=""/>
              <p:cNvGrpSpPr/>
              <p:nvPr/>
            </p:nvGrpSpPr>
            <p:grpSpPr>
              <a:xfrm>
                <a:off x="4462560" y="3300120"/>
                <a:ext cx="443160" cy="196560"/>
                <a:chOff x="4462560" y="3300120"/>
                <a:chExt cx="443160" cy="196560"/>
              </a:xfrm>
            </p:grpSpPr>
            <p:sp>
              <p:nvSpPr>
                <p:cNvPr id="2398" name=""/>
                <p:cNvSpPr/>
                <p:nvPr/>
              </p:nvSpPr>
              <p:spPr>
                <a:xfrm>
                  <a:off x="454320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9" name=""/>
                <p:cNvSpPr/>
                <p:nvPr/>
              </p:nvSpPr>
              <p:spPr>
                <a:xfrm>
                  <a:off x="446256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0" name=""/>
              <p:cNvGrpSpPr/>
              <p:nvPr/>
            </p:nvGrpSpPr>
            <p:grpSpPr>
              <a:xfrm>
                <a:off x="4906440" y="3300120"/>
                <a:ext cx="443160" cy="196560"/>
                <a:chOff x="4906440" y="3300120"/>
                <a:chExt cx="443160" cy="196560"/>
              </a:xfrm>
            </p:grpSpPr>
            <p:sp>
              <p:nvSpPr>
                <p:cNvPr id="2401" name=""/>
                <p:cNvSpPr/>
                <p:nvPr/>
              </p:nvSpPr>
              <p:spPr>
                <a:xfrm>
                  <a:off x="498708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2" name=""/>
                <p:cNvSpPr/>
                <p:nvPr/>
              </p:nvSpPr>
              <p:spPr>
                <a:xfrm>
                  <a:off x="490644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3" name=""/>
              <p:cNvGrpSpPr/>
              <p:nvPr/>
            </p:nvGrpSpPr>
            <p:grpSpPr>
              <a:xfrm>
                <a:off x="5350320" y="3300120"/>
                <a:ext cx="442800" cy="196560"/>
                <a:chOff x="5350320" y="3300120"/>
                <a:chExt cx="442800" cy="196560"/>
              </a:xfrm>
            </p:grpSpPr>
            <p:sp>
              <p:nvSpPr>
                <p:cNvPr id="2404" name=""/>
                <p:cNvSpPr/>
                <p:nvPr/>
              </p:nvSpPr>
              <p:spPr>
                <a:xfrm>
                  <a:off x="543060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5" name=""/>
                <p:cNvSpPr/>
                <p:nvPr/>
              </p:nvSpPr>
              <p:spPr>
                <a:xfrm>
                  <a:off x="5350320" y="3300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6" name=""/>
              <p:cNvGrpSpPr/>
              <p:nvPr/>
            </p:nvGrpSpPr>
            <p:grpSpPr>
              <a:xfrm>
                <a:off x="5793480" y="3300120"/>
                <a:ext cx="443160" cy="196560"/>
                <a:chOff x="5793480" y="3300120"/>
                <a:chExt cx="443160" cy="196560"/>
              </a:xfrm>
            </p:grpSpPr>
            <p:sp>
              <p:nvSpPr>
                <p:cNvPr id="2407" name=""/>
                <p:cNvSpPr/>
                <p:nvPr/>
              </p:nvSpPr>
              <p:spPr>
                <a:xfrm>
                  <a:off x="587412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8" name=""/>
                <p:cNvSpPr/>
                <p:nvPr/>
              </p:nvSpPr>
              <p:spPr>
                <a:xfrm>
                  <a:off x="579348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9" name=""/>
              <p:cNvGrpSpPr/>
              <p:nvPr/>
            </p:nvGrpSpPr>
            <p:grpSpPr>
              <a:xfrm>
                <a:off x="6237360" y="3300120"/>
                <a:ext cx="443160" cy="196560"/>
                <a:chOff x="6237360" y="3300120"/>
                <a:chExt cx="443160" cy="196560"/>
              </a:xfrm>
            </p:grpSpPr>
            <p:sp>
              <p:nvSpPr>
                <p:cNvPr id="2410" name=""/>
                <p:cNvSpPr/>
                <p:nvPr/>
              </p:nvSpPr>
              <p:spPr>
                <a:xfrm>
                  <a:off x="631800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1" name=""/>
                <p:cNvSpPr/>
                <p:nvPr/>
              </p:nvSpPr>
              <p:spPr>
                <a:xfrm>
                  <a:off x="623736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2" name=""/>
              <p:cNvGrpSpPr/>
              <p:nvPr/>
            </p:nvGrpSpPr>
            <p:grpSpPr>
              <a:xfrm>
                <a:off x="6680880" y="3300120"/>
                <a:ext cx="442800" cy="196560"/>
                <a:chOff x="6680880" y="3300120"/>
                <a:chExt cx="442800" cy="196560"/>
              </a:xfrm>
            </p:grpSpPr>
            <p:sp>
              <p:nvSpPr>
                <p:cNvPr id="2413" name=""/>
                <p:cNvSpPr/>
                <p:nvPr/>
              </p:nvSpPr>
              <p:spPr>
                <a:xfrm>
                  <a:off x="6761160" y="3300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4" name=""/>
                <p:cNvSpPr/>
                <p:nvPr/>
              </p:nvSpPr>
              <p:spPr>
                <a:xfrm>
                  <a:off x="6680880" y="3300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5" name=""/>
              <p:cNvGrpSpPr/>
              <p:nvPr/>
            </p:nvGrpSpPr>
            <p:grpSpPr>
              <a:xfrm>
                <a:off x="7124400" y="3300120"/>
                <a:ext cx="443160" cy="196560"/>
                <a:chOff x="7124400" y="3300120"/>
                <a:chExt cx="443160" cy="196560"/>
              </a:xfrm>
            </p:grpSpPr>
            <p:sp>
              <p:nvSpPr>
                <p:cNvPr id="2416" name=""/>
                <p:cNvSpPr/>
                <p:nvPr/>
              </p:nvSpPr>
              <p:spPr>
                <a:xfrm>
                  <a:off x="7205040" y="3300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7" name=""/>
                <p:cNvSpPr/>
                <p:nvPr/>
              </p:nvSpPr>
              <p:spPr>
                <a:xfrm>
                  <a:off x="7124400" y="3300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8" name=""/>
              <p:cNvGrpSpPr/>
              <p:nvPr/>
            </p:nvGrpSpPr>
            <p:grpSpPr>
              <a:xfrm>
                <a:off x="470520" y="3497040"/>
                <a:ext cx="443160" cy="196920"/>
                <a:chOff x="470520" y="3497040"/>
                <a:chExt cx="443160" cy="196920"/>
              </a:xfrm>
            </p:grpSpPr>
            <p:sp>
              <p:nvSpPr>
                <p:cNvPr id="2419" name=""/>
                <p:cNvSpPr/>
                <p:nvPr/>
              </p:nvSpPr>
              <p:spPr>
                <a:xfrm>
                  <a:off x="55116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0" name=""/>
                <p:cNvSpPr/>
                <p:nvPr/>
              </p:nvSpPr>
              <p:spPr>
                <a:xfrm>
                  <a:off x="47052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1" name=""/>
              <p:cNvGrpSpPr/>
              <p:nvPr/>
            </p:nvGrpSpPr>
            <p:grpSpPr>
              <a:xfrm>
                <a:off x="914040" y="3497040"/>
                <a:ext cx="442800" cy="196920"/>
                <a:chOff x="914040" y="3497040"/>
                <a:chExt cx="442800" cy="196920"/>
              </a:xfrm>
            </p:grpSpPr>
            <p:sp>
              <p:nvSpPr>
                <p:cNvPr id="2422" name=""/>
                <p:cNvSpPr/>
                <p:nvPr/>
              </p:nvSpPr>
              <p:spPr>
                <a:xfrm>
                  <a:off x="99432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3" name=""/>
                <p:cNvSpPr/>
                <p:nvPr/>
              </p:nvSpPr>
              <p:spPr>
                <a:xfrm>
                  <a:off x="914040" y="3497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4" name=""/>
              <p:cNvGrpSpPr/>
              <p:nvPr/>
            </p:nvGrpSpPr>
            <p:grpSpPr>
              <a:xfrm>
                <a:off x="1357560" y="3497040"/>
                <a:ext cx="443160" cy="196920"/>
                <a:chOff x="1357560" y="3497040"/>
                <a:chExt cx="443160" cy="196920"/>
              </a:xfrm>
            </p:grpSpPr>
            <p:sp>
              <p:nvSpPr>
                <p:cNvPr id="2425" name=""/>
                <p:cNvSpPr/>
                <p:nvPr/>
              </p:nvSpPr>
              <p:spPr>
                <a:xfrm>
                  <a:off x="143820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6" name=""/>
                <p:cNvSpPr/>
                <p:nvPr/>
              </p:nvSpPr>
              <p:spPr>
                <a:xfrm>
                  <a:off x="135756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7" name=""/>
              <p:cNvGrpSpPr/>
              <p:nvPr/>
            </p:nvGrpSpPr>
            <p:grpSpPr>
              <a:xfrm>
                <a:off x="1801080" y="3497040"/>
                <a:ext cx="443160" cy="196920"/>
                <a:chOff x="1801080" y="3497040"/>
                <a:chExt cx="443160" cy="196920"/>
              </a:xfrm>
            </p:grpSpPr>
            <p:sp>
              <p:nvSpPr>
                <p:cNvPr id="2428" name=""/>
                <p:cNvSpPr/>
                <p:nvPr/>
              </p:nvSpPr>
              <p:spPr>
                <a:xfrm>
                  <a:off x="188172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9" name=""/>
                <p:cNvSpPr/>
                <p:nvPr/>
              </p:nvSpPr>
              <p:spPr>
                <a:xfrm>
                  <a:off x="180108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0" name=""/>
              <p:cNvGrpSpPr/>
              <p:nvPr/>
            </p:nvGrpSpPr>
            <p:grpSpPr>
              <a:xfrm>
                <a:off x="2244960" y="3497040"/>
                <a:ext cx="442800" cy="196920"/>
                <a:chOff x="2244960" y="3497040"/>
                <a:chExt cx="442800" cy="196920"/>
              </a:xfrm>
            </p:grpSpPr>
            <p:sp>
              <p:nvSpPr>
                <p:cNvPr id="2431" name=""/>
                <p:cNvSpPr/>
                <p:nvPr/>
              </p:nvSpPr>
              <p:spPr>
                <a:xfrm>
                  <a:off x="232524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2" name=""/>
                <p:cNvSpPr/>
                <p:nvPr/>
              </p:nvSpPr>
              <p:spPr>
                <a:xfrm>
                  <a:off x="2244960" y="3497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3" name=""/>
              <p:cNvGrpSpPr/>
              <p:nvPr/>
            </p:nvGrpSpPr>
            <p:grpSpPr>
              <a:xfrm>
                <a:off x="2688120" y="3497040"/>
                <a:ext cx="443160" cy="196920"/>
                <a:chOff x="2688120" y="3497040"/>
                <a:chExt cx="443160" cy="196920"/>
              </a:xfrm>
            </p:grpSpPr>
            <p:sp>
              <p:nvSpPr>
                <p:cNvPr id="2434" name=""/>
                <p:cNvSpPr/>
                <p:nvPr/>
              </p:nvSpPr>
              <p:spPr>
                <a:xfrm>
                  <a:off x="276876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5" name=""/>
                <p:cNvSpPr/>
                <p:nvPr/>
              </p:nvSpPr>
              <p:spPr>
                <a:xfrm>
                  <a:off x="268812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6" name=""/>
              <p:cNvGrpSpPr/>
              <p:nvPr/>
            </p:nvGrpSpPr>
            <p:grpSpPr>
              <a:xfrm>
                <a:off x="3132000" y="3497040"/>
                <a:ext cx="443160" cy="196920"/>
                <a:chOff x="3132000" y="3497040"/>
                <a:chExt cx="443160" cy="196920"/>
              </a:xfrm>
            </p:grpSpPr>
            <p:sp>
              <p:nvSpPr>
                <p:cNvPr id="2437" name=""/>
                <p:cNvSpPr/>
                <p:nvPr/>
              </p:nvSpPr>
              <p:spPr>
                <a:xfrm>
                  <a:off x="321264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8" name=""/>
                <p:cNvSpPr/>
                <p:nvPr/>
              </p:nvSpPr>
              <p:spPr>
                <a:xfrm>
                  <a:off x="313200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9" name=""/>
              <p:cNvGrpSpPr/>
              <p:nvPr/>
            </p:nvGrpSpPr>
            <p:grpSpPr>
              <a:xfrm>
                <a:off x="3575520" y="3497040"/>
                <a:ext cx="443160" cy="196920"/>
                <a:chOff x="3575520" y="3497040"/>
                <a:chExt cx="443160" cy="196920"/>
              </a:xfrm>
            </p:grpSpPr>
            <p:sp>
              <p:nvSpPr>
                <p:cNvPr id="2440" name=""/>
                <p:cNvSpPr/>
                <p:nvPr/>
              </p:nvSpPr>
              <p:spPr>
                <a:xfrm>
                  <a:off x="365580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1" name=""/>
                <p:cNvSpPr/>
                <p:nvPr/>
              </p:nvSpPr>
              <p:spPr>
                <a:xfrm>
                  <a:off x="357552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2" name=""/>
              <p:cNvGrpSpPr/>
              <p:nvPr/>
            </p:nvGrpSpPr>
            <p:grpSpPr>
              <a:xfrm>
                <a:off x="4019400" y="3497040"/>
                <a:ext cx="442800" cy="196920"/>
                <a:chOff x="4019400" y="3497040"/>
                <a:chExt cx="442800" cy="196920"/>
              </a:xfrm>
            </p:grpSpPr>
            <p:sp>
              <p:nvSpPr>
                <p:cNvPr id="2443" name=""/>
                <p:cNvSpPr/>
                <p:nvPr/>
              </p:nvSpPr>
              <p:spPr>
                <a:xfrm>
                  <a:off x="409968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4" name=""/>
                <p:cNvSpPr/>
                <p:nvPr/>
              </p:nvSpPr>
              <p:spPr>
                <a:xfrm>
                  <a:off x="4019400" y="3497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5" name=""/>
              <p:cNvGrpSpPr/>
              <p:nvPr/>
            </p:nvGrpSpPr>
            <p:grpSpPr>
              <a:xfrm>
                <a:off x="4462560" y="3497040"/>
                <a:ext cx="443160" cy="196920"/>
                <a:chOff x="4462560" y="3497040"/>
                <a:chExt cx="443160" cy="196920"/>
              </a:xfrm>
            </p:grpSpPr>
            <p:sp>
              <p:nvSpPr>
                <p:cNvPr id="2446" name=""/>
                <p:cNvSpPr/>
                <p:nvPr/>
              </p:nvSpPr>
              <p:spPr>
                <a:xfrm>
                  <a:off x="454320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7" name=""/>
                <p:cNvSpPr/>
                <p:nvPr/>
              </p:nvSpPr>
              <p:spPr>
                <a:xfrm>
                  <a:off x="446256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8" name=""/>
              <p:cNvGrpSpPr/>
              <p:nvPr/>
            </p:nvGrpSpPr>
            <p:grpSpPr>
              <a:xfrm>
                <a:off x="4906440" y="3497040"/>
                <a:ext cx="443160" cy="196920"/>
                <a:chOff x="4906440" y="3497040"/>
                <a:chExt cx="443160" cy="196920"/>
              </a:xfrm>
            </p:grpSpPr>
            <p:sp>
              <p:nvSpPr>
                <p:cNvPr id="2449" name=""/>
                <p:cNvSpPr/>
                <p:nvPr/>
              </p:nvSpPr>
              <p:spPr>
                <a:xfrm>
                  <a:off x="498708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0" name=""/>
                <p:cNvSpPr/>
                <p:nvPr/>
              </p:nvSpPr>
              <p:spPr>
                <a:xfrm>
                  <a:off x="490644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1" name=""/>
              <p:cNvGrpSpPr/>
              <p:nvPr/>
            </p:nvGrpSpPr>
            <p:grpSpPr>
              <a:xfrm>
                <a:off x="5350320" y="3497040"/>
                <a:ext cx="442800" cy="196920"/>
                <a:chOff x="5350320" y="3497040"/>
                <a:chExt cx="442800" cy="196920"/>
              </a:xfrm>
            </p:grpSpPr>
            <p:sp>
              <p:nvSpPr>
                <p:cNvPr id="2452" name=""/>
                <p:cNvSpPr/>
                <p:nvPr/>
              </p:nvSpPr>
              <p:spPr>
                <a:xfrm>
                  <a:off x="543060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3" name=""/>
                <p:cNvSpPr/>
                <p:nvPr/>
              </p:nvSpPr>
              <p:spPr>
                <a:xfrm>
                  <a:off x="5350320" y="3497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4" name=""/>
              <p:cNvGrpSpPr/>
              <p:nvPr/>
            </p:nvGrpSpPr>
            <p:grpSpPr>
              <a:xfrm>
                <a:off x="5793480" y="3497040"/>
                <a:ext cx="443160" cy="196920"/>
                <a:chOff x="5793480" y="3497040"/>
                <a:chExt cx="443160" cy="196920"/>
              </a:xfrm>
            </p:grpSpPr>
            <p:sp>
              <p:nvSpPr>
                <p:cNvPr id="2455" name=""/>
                <p:cNvSpPr/>
                <p:nvPr/>
              </p:nvSpPr>
              <p:spPr>
                <a:xfrm>
                  <a:off x="587412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6" name=""/>
                <p:cNvSpPr/>
                <p:nvPr/>
              </p:nvSpPr>
              <p:spPr>
                <a:xfrm>
                  <a:off x="579348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7" name=""/>
              <p:cNvGrpSpPr/>
              <p:nvPr/>
            </p:nvGrpSpPr>
            <p:grpSpPr>
              <a:xfrm>
                <a:off x="6237360" y="3497040"/>
                <a:ext cx="443160" cy="196920"/>
                <a:chOff x="6237360" y="3497040"/>
                <a:chExt cx="443160" cy="196920"/>
              </a:xfrm>
            </p:grpSpPr>
            <p:sp>
              <p:nvSpPr>
                <p:cNvPr id="2458" name=""/>
                <p:cNvSpPr/>
                <p:nvPr/>
              </p:nvSpPr>
              <p:spPr>
                <a:xfrm>
                  <a:off x="631800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9" name=""/>
                <p:cNvSpPr/>
                <p:nvPr/>
              </p:nvSpPr>
              <p:spPr>
                <a:xfrm>
                  <a:off x="623736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0" name=""/>
              <p:cNvGrpSpPr/>
              <p:nvPr/>
            </p:nvGrpSpPr>
            <p:grpSpPr>
              <a:xfrm>
                <a:off x="6680880" y="3497040"/>
                <a:ext cx="442800" cy="196920"/>
                <a:chOff x="6680880" y="3497040"/>
                <a:chExt cx="442800" cy="196920"/>
              </a:xfrm>
            </p:grpSpPr>
            <p:sp>
              <p:nvSpPr>
                <p:cNvPr id="2461" name=""/>
                <p:cNvSpPr/>
                <p:nvPr/>
              </p:nvSpPr>
              <p:spPr>
                <a:xfrm>
                  <a:off x="6761160" y="3497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2" name=""/>
                <p:cNvSpPr/>
                <p:nvPr/>
              </p:nvSpPr>
              <p:spPr>
                <a:xfrm>
                  <a:off x="6680880" y="3497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3" name=""/>
              <p:cNvGrpSpPr/>
              <p:nvPr/>
            </p:nvGrpSpPr>
            <p:grpSpPr>
              <a:xfrm>
                <a:off x="7124400" y="3497040"/>
                <a:ext cx="443160" cy="196920"/>
                <a:chOff x="7124400" y="3497040"/>
                <a:chExt cx="443160" cy="196920"/>
              </a:xfrm>
            </p:grpSpPr>
            <p:sp>
              <p:nvSpPr>
                <p:cNvPr id="2464" name=""/>
                <p:cNvSpPr/>
                <p:nvPr/>
              </p:nvSpPr>
              <p:spPr>
                <a:xfrm>
                  <a:off x="7205040" y="3497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5" name=""/>
                <p:cNvSpPr/>
                <p:nvPr/>
              </p:nvSpPr>
              <p:spPr>
                <a:xfrm>
                  <a:off x="7124400" y="3497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6" name=""/>
              <p:cNvGrpSpPr/>
              <p:nvPr/>
            </p:nvGrpSpPr>
            <p:grpSpPr>
              <a:xfrm>
                <a:off x="470520" y="3693960"/>
                <a:ext cx="443160" cy="196560"/>
                <a:chOff x="470520" y="3693960"/>
                <a:chExt cx="443160" cy="196560"/>
              </a:xfrm>
            </p:grpSpPr>
            <p:sp>
              <p:nvSpPr>
                <p:cNvPr id="2467" name=""/>
                <p:cNvSpPr/>
                <p:nvPr/>
              </p:nvSpPr>
              <p:spPr>
                <a:xfrm>
                  <a:off x="55116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8" name=""/>
                <p:cNvSpPr/>
                <p:nvPr/>
              </p:nvSpPr>
              <p:spPr>
                <a:xfrm>
                  <a:off x="47052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9" name=""/>
              <p:cNvGrpSpPr/>
              <p:nvPr/>
            </p:nvGrpSpPr>
            <p:grpSpPr>
              <a:xfrm>
                <a:off x="914040" y="3693960"/>
                <a:ext cx="442800" cy="196560"/>
                <a:chOff x="914040" y="3693960"/>
                <a:chExt cx="442800" cy="196560"/>
              </a:xfrm>
            </p:grpSpPr>
            <p:sp>
              <p:nvSpPr>
                <p:cNvPr id="2470" name=""/>
                <p:cNvSpPr/>
                <p:nvPr/>
              </p:nvSpPr>
              <p:spPr>
                <a:xfrm>
                  <a:off x="99432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914040" y="3693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2" name=""/>
              <p:cNvGrpSpPr/>
              <p:nvPr/>
            </p:nvGrpSpPr>
            <p:grpSpPr>
              <a:xfrm>
                <a:off x="1357560" y="3693960"/>
                <a:ext cx="443160" cy="196560"/>
                <a:chOff x="1357560" y="3693960"/>
                <a:chExt cx="443160" cy="196560"/>
              </a:xfrm>
            </p:grpSpPr>
            <p:sp>
              <p:nvSpPr>
                <p:cNvPr id="2473" name=""/>
                <p:cNvSpPr/>
                <p:nvPr/>
              </p:nvSpPr>
              <p:spPr>
                <a:xfrm>
                  <a:off x="143820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4" name=""/>
                <p:cNvSpPr/>
                <p:nvPr/>
              </p:nvSpPr>
              <p:spPr>
                <a:xfrm>
                  <a:off x="135756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5" name=""/>
              <p:cNvGrpSpPr/>
              <p:nvPr/>
            </p:nvGrpSpPr>
            <p:grpSpPr>
              <a:xfrm>
                <a:off x="1801080" y="3693960"/>
                <a:ext cx="443160" cy="196560"/>
                <a:chOff x="1801080" y="3693960"/>
                <a:chExt cx="443160" cy="196560"/>
              </a:xfrm>
            </p:grpSpPr>
            <p:sp>
              <p:nvSpPr>
                <p:cNvPr id="2476" name=""/>
                <p:cNvSpPr/>
                <p:nvPr/>
              </p:nvSpPr>
              <p:spPr>
                <a:xfrm>
                  <a:off x="188172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7" name=""/>
                <p:cNvSpPr/>
                <p:nvPr/>
              </p:nvSpPr>
              <p:spPr>
                <a:xfrm>
                  <a:off x="180108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78" name=""/>
              <p:cNvGrpSpPr/>
              <p:nvPr/>
            </p:nvGrpSpPr>
            <p:grpSpPr>
              <a:xfrm>
                <a:off x="2244960" y="3693960"/>
                <a:ext cx="442800" cy="196560"/>
                <a:chOff x="2244960" y="3693960"/>
                <a:chExt cx="442800" cy="196560"/>
              </a:xfrm>
            </p:grpSpPr>
            <p:sp>
              <p:nvSpPr>
                <p:cNvPr id="2479" name=""/>
                <p:cNvSpPr/>
                <p:nvPr/>
              </p:nvSpPr>
              <p:spPr>
                <a:xfrm>
                  <a:off x="232524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0" name=""/>
                <p:cNvSpPr/>
                <p:nvPr/>
              </p:nvSpPr>
              <p:spPr>
                <a:xfrm>
                  <a:off x="2244960" y="3693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1" name=""/>
              <p:cNvGrpSpPr/>
              <p:nvPr/>
            </p:nvGrpSpPr>
            <p:grpSpPr>
              <a:xfrm>
                <a:off x="2688120" y="3693960"/>
                <a:ext cx="443160" cy="196560"/>
                <a:chOff x="2688120" y="3693960"/>
                <a:chExt cx="443160" cy="196560"/>
              </a:xfrm>
            </p:grpSpPr>
            <p:sp>
              <p:nvSpPr>
                <p:cNvPr id="2482" name=""/>
                <p:cNvSpPr/>
                <p:nvPr/>
              </p:nvSpPr>
              <p:spPr>
                <a:xfrm>
                  <a:off x="276876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3" name=""/>
                <p:cNvSpPr/>
                <p:nvPr/>
              </p:nvSpPr>
              <p:spPr>
                <a:xfrm>
                  <a:off x="268812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4" name=""/>
              <p:cNvGrpSpPr/>
              <p:nvPr/>
            </p:nvGrpSpPr>
            <p:grpSpPr>
              <a:xfrm>
                <a:off x="3132000" y="3693960"/>
                <a:ext cx="443160" cy="196560"/>
                <a:chOff x="3132000" y="3693960"/>
                <a:chExt cx="443160" cy="196560"/>
              </a:xfrm>
            </p:grpSpPr>
            <p:sp>
              <p:nvSpPr>
                <p:cNvPr id="2485" name=""/>
                <p:cNvSpPr/>
                <p:nvPr/>
              </p:nvSpPr>
              <p:spPr>
                <a:xfrm>
                  <a:off x="321264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6" name=""/>
                <p:cNvSpPr/>
                <p:nvPr/>
              </p:nvSpPr>
              <p:spPr>
                <a:xfrm>
                  <a:off x="313200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7" name=""/>
              <p:cNvGrpSpPr/>
              <p:nvPr/>
            </p:nvGrpSpPr>
            <p:grpSpPr>
              <a:xfrm>
                <a:off x="3575520" y="3693960"/>
                <a:ext cx="443160" cy="196560"/>
                <a:chOff x="3575520" y="3693960"/>
                <a:chExt cx="443160" cy="196560"/>
              </a:xfrm>
            </p:grpSpPr>
            <p:sp>
              <p:nvSpPr>
                <p:cNvPr id="2488" name=""/>
                <p:cNvSpPr/>
                <p:nvPr/>
              </p:nvSpPr>
              <p:spPr>
                <a:xfrm>
                  <a:off x="365580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9" name=""/>
                <p:cNvSpPr/>
                <p:nvPr/>
              </p:nvSpPr>
              <p:spPr>
                <a:xfrm>
                  <a:off x="357552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0" name=""/>
              <p:cNvGrpSpPr/>
              <p:nvPr/>
            </p:nvGrpSpPr>
            <p:grpSpPr>
              <a:xfrm>
                <a:off x="4019400" y="3693960"/>
                <a:ext cx="442800" cy="196560"/>
                <a:chOff x="4019400" y="3693960"/>
                <a:chExt cx="442800" cy="196560"/>
              </a:xfrm>
            </p:grpSpPr>
            <p:sp>
              <p:nvSpPr>
                <p:cNvPr id="2491" name=""/>
                <p:cNvSpPr/>
                <p:nvPr/>
              </p:nvSpPr>
              <p:spPr>
                <a:xfrm>
                  <a:off x="409968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2" name=""/>
                <p:cNvSpPr/>
                <p:nvPr/>
              </p:nvSpPr>
              <p:spPr>
                <a:xfrm>
                  <a:off x="4019400" y="3693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3" name=""/>
              <p:cNvGrpSpPr/>
              <p:nvPr/>
            </p:nvGrpSpPr>
            <p:grpSpPr>
              <a:xfrm>
                <a:off x="4462560" y="3693960"/>
                <a:ext cx="443160" cy="196560"/>
                <a:chOff x="4462560" y="3693960"/>
                <a:chExt cx="443160" cy="196560"/>
              </a:xfrm>
            </p:grpSpPr>
            <p:sp>
              <p:nvSpPr>
                <p:cNvPr id="2494" name=""/>
                <p:cNvSpPr/>
                <p:nvPr/>
              </p:nvSpPr>
              <p:spPr>
                <a:xfrm>
                  <a:off x="454320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5" name=""/>
                <p:cNvSpPr/>
                <p:nvPr/>
              </p:nvSpPr>
              <p:spPr>
                <a:xfrm>
                  <a:off x="446256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6" name=""/>
              <p:cNvGrpSpPr/>
              <p:nvPr/>
            </p:nvGrpSpPr>
            <p:grpSpPr>
              <a:xfrm>
                <a:off x="4906440" y="3693960"/>
                <a:ext cx="443160" cy="196560"/>
                <a:chOff x="4906440" y="3693960"/>
                <a:chExt cx="443160" cy="196560"/>
              </a:xfrm>
            </p:grpSpPr>
            <p:sp>
              <p:nvSpPr>
                <p:cNvPr id="2497" name=""/>
                <p:cNvSpPr/>
                <p:nvPr/>
              </p:nvSpPr>
              <p:spPr>
                <a:xfrm>
                  <a:off x="498708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90644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9" name=""/>
              <p:cNvGrpSpPr/>
              <p:nvPr/>
            </p:nvGrpSpPr>
            <p:grpSpPr>
              <a:xfrm>
                <a:off x="5350320" y="3693960"/>
                <a:ext cx="442800" cy="196560"/>
                <a:chOff x="5350320" y="3693960"/>
                <a:chExt cx="442800" cy="196560"/>
              </a:xfrm>
            </p:grpSpPr>
            <p:sp>
              <p:nvSpPr>
                <p:cNvPr id="2500" name=""/>
                <p:cNvSpPr/>
                <p:nvPr/>
              </p:nvSpPr>
              <p:spPr>
                <a:xfrm>
                  <a:off x="543060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1" name=""/>
                <p:cNvSpPr/>
                <p:nvPr/>
              </p:nvSpPr>
              <p:spPr>
                <a:xfrm>
                  <a:off x="5350320" y="3693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2" name=""/>
              <p:cNvGrpSpPr/>
              <p:nvPr/>
            </p:nvGrpSpPr>
            <p:grpSpPr>
              <a:xfrm>
                <a:off x="5793480" y="3693960"/>
                <a:ext cx="443160" cy="196560"/>
                <a:chOff x="5793480" y="3693960"/>
                <a:chExt cx="443160" cy="196560"/>
              </a:xfrm>
            </p:grpSpPr>
            <p:sp>
              <p:nvSpPr>
                <p:cNvPr id="2503" name=""/>
                <p:cNvSpPr/>
                <p:nvPr/>
              </p:nvSpPr>
              <p:spPr>
                <a:xfrm>
                  <a:off x="587412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4" name=""/>
                <p:cNvSpPr/>
                <p:nvPr/>
              </p:nvSpPr>
              <p:spPr>
                <a:xfrm>
                  <a:off x="579348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5" name=""/>
              <p:cNvGrpSpPr/>
              <p:nvPr/>
            </p:nvGrpSpPr>
            <p:grpSpPr>
              <a:xfrm>
                <a:off x="6237360" y="3693960"/>
                <a:ext cx="443160" cy="196560"/>
                <a:chOff x="6237360" y="3693960"/>
                <a:chExt cx="443160" cy="196560"/>
              </a:xfrm>
            </p:grpSpPr>
            <p:sp>
              <p:nvSpPr>
                <p:cNvPr id="2506" name=""/>
                <p:cNvSpPr/>
                <p:nvPr/>
              </p:nvSpPr>
              <p:spPr>
                <a:xfrm>
                  <a:off x="631800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7" name=""/>
                <p:cNvSpPr/>
                <p:nvPr/>
              </p:nvSpPr>
              <p:spPr>
                <a:xfrm>
                  <a:off x="623736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08" name=""/>
              <p:cNvGrpSpPr/>
              <p:nvPr/>
            </p:nvGrpSpPr>
            <p:grpSpPr>
              <a:xfrm>
                <a:off x="6680880" y="3693960"/>
                <a:ext cx="442800" cy="196560"/>
                <a:chOff x="6680880" y="3693960"/>
                <a:chExt cx="442800" cy="196560"/>
              </a:xfrm>
            </p:grpSpPr>
            <p:sp>
              <p:nvSpPr>
                <p:cNvPr id="2509" name=""/>
                <p:cNvSpPr/>
                <p:nvPr/>
              </p:nvSpPr>
              <p:spPr>
                <a:xfrm>
                  <a:off x="6761160" y="3693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0" name=""/>
                <p:cNvSpPr/>
                <p:nvPr/>
              </p:nvSpPr>
              <p:spPr>
                <a:xfrm>
                  <a:off x="6680880" y="3693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1" name=""/>
              <p:cNvGrpSpPr/>
              <p:nvPr/>
            </p:nvGrpSpPr>
            <p:grpSpPr>
              <a:xfrm>
                <a:off x="7124400" y="3693960"/>
                <a:ext cx="443160" cy="196560"/>
                <a:chOff x="7124400" y="3693960"/>
                <a:chExt cx="443160" cy="196560"/>
              </a:xfrm>
            </p:grpSpPr>
            <p:sp>
              <p:nvSpPr>
                <p:cNvPr id="2512" name=""/>
                <p:cNvSpPr/>
                <p:nvPr/>
              </p:nvSpPr>
              <p:spPr>
                <a:xfrm>
                  <a:off x="7205040" y="3693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3" name=""/>
                <p:cNvSpPr/>
                <p:nvPr/>
              </p:nvSpPr>
              <p:spPr>
                <a:xfrm>
                  <a:off x="7124400" y="3693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4" name=""/>
              <p:cNvGrpSpPr/>
              <p:nvPr/>
            </p:nvGrpSpPr>
            <p:grpSpPr>
              <a:xfrm>
                <a:off x="470520" y="3890880"/>
                <a:ext cx="443160" cy="196920"/>
                <a:chOff x="470520" y="3890880"/>
                <a:chExt cx="443160" cy="196920"/>
              </a:xfrm>
            </p:grpSpPr>
            <p:sp>
              <p:nvSpPr>
                <p:cNvPr id="2515" name=""/>
                <p:cNvSpPr/>
                <p:nvPr/>
              </p:nvSpPr>
              <p:spPr>
                <a:xfrm>
                  <a:off x="55116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6" name=""/>
                <p:cNvSpPr/>
                <p:nvPr/>
              </p:nvSpPr>
              <p:spPr>
                <a:xfrm>
                  <a:off x="47052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7" name=""/>
              <p:cNvGrpSpPr/>
              <p:nvPr/>
            </p:nvGrpSpPr>
            <p:grpSpPr>
              <a:xfrm>
                <a:off x="914040" y="3890880"/>
                <a:ext cx="442800" cy="196920"/>
                <a:chOff x="914040" y="3890880"/>
                <a:chExt cx="442800" cy="196920"/>
              </a:xfrm>
            </p:grpSpPr>
            <p:sp>
              <p:nvSpPr>
                <p:cNvPr id="2518" name=""/>
                <p:cNvSpPr/>
                <p:nvPr/>
              </p:nvSpPr>
              <p:spPr>
                <a:xfrm>
                  <a:off x="99432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914040" y="38908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0" name=""/>
              <p:cNvGrpSpPr/>
              <p:nvPr/>
            </p:nvGrpSpPr>
            <p:grpSpPr>
              <a:xfrm>
                <a:off x="1357560" y="3890880"/>
                <a:ext cx="443160" cy="196920"/>
                <a:chOff x="1357560" y="3890880"/>
                <a:chExt cx="443160" cy="196920"/>
              </a:xfrm>
            </p:grpSpPr>
            <p:sp>
              <p:nvSpPr>
                <p:cNvPr id="2521" name=""/>
                <p:cNvSpPr/>
                <p:nvPr/>
              </p:nvSpPr>
              <p:spPr>
                <a:xfrm>
                  <a:off x="143820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2" name=""/>
                <p:cNvSpPr/>
                <p:nvPr/>
              </p:nvSpPr>
              <p:spPr>
                <a:xfrm>
                  <a:off x="135756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3" name=""/>
              <p:cNvGrpSpPr/>
              <p:nvPr/>
            </p:nvGrpSpPr>
            <p:grpSpPr>
              <a:xfrm>
                <a:off x="1801080" y="3890880"/>
                <a:ext cx="443160" cy="196920"/>
                <a:chOff x="1801080" y="3890880"/>
                <a:chExt cx="443160" cy="196920"/>
              </a:xfrm>
            </p:grpSpPr>
            <p:sp>
              <p:nvSpPr>
                <p:cNvPr id="2524" name=""/>
                <p:cNvSpPr/>
                <p:nvPr/>
              </p:nvSpPr>
              <p:spPr>
                <a:xfrm>
                  <a:off x="188172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180108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6" name=""/>
              <p:cNvGrpSpPr/>
              <p:nvPr/>
            </p:nvGrpSpPr>
            <p:grpSpPr>
              <a:xfrm>
                <a:off x="2244960" y="3890880"/>
                <a:ext cx="442800" cy="196920"/>
                <a:chOff x="2244960" y="3890880"/>
                <a:chExt cx="442800" cy="196920"/>
              </a:xfrm>
            </p:grpSpPr>
            <p:sp>
              <p:nvSpPr>
                <p:cNvPr id="2527" name=""/>
                <p:cNvSpPr/>
                <p:nvPr/>
              </p:nvSpPr>
              <p:spPr>
                <a:xfrm>
                  <a:off x="232524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28" name=""/>
                <p:cNvSpPr/>
                <p:nvPr/>
              </p:nvSpPr>
              <p:spPr>
                <a:xfrm>
                  <a:off x="2244960" y="38908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9" name=""/>
              <p:cNvGrpSpPr/>
              <p:nvPr/>
            </p:nvGrpSpPr>
            <p:grpSpPr>
              <a:xfrm>
                <a:off x="2688120" y="3890880"/>
                <a:ext cx="443160" cy="196920"/>
                <a:chOff x="2688120" y="3890880"/>
                <a:chExt cx="443160" cy="196920"/>
              </a:xfrm>
            </p:grpSpPr>
            <p:sp>
              <p:nvSpPr>
                <p:cNvPr id="2530" name=""/>
                <p:cNvSpPr/>
                <p:nvPr/>
              </p:nvSpPr>
              <p:spPr>
                <a:xfrm>
                  <a:off x="276876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1" name=""/>
                <p:cNvSpPr/>
                <p:nvPr/>
              </p:nvSpPr>
              <p:spPr>
                <a:xfrm>
                  <a:off x="268812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2" name=""/>
              <p:cNvGrpSpPr/>
              <p:nvPr/>
            </p:nvGrpSpPr>
            <p:grpSpPr>
              <a:xfrm>
                <a:off x="3132000" y="3890880"/>
                <a:ext cx="443160" cy="196920"/>
                <a:chOff x="3132000" y="3890880"/>
                <a:chExt cx="443160" cy="196920"/>
              </a:xfrm>
            </p:grpSpPr>
            <p:sp>
              <p:nvSpPr>
                <p:cNvPr id="2533" name=""/>
                <p:cNvSpPr/>
                <p:nvPr/>
              </p:nvSpPr>
              <p:spPr>
                <a:xfrm>
                  <a:off x="321264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4" name=""/>
                <p:cNvSpPr/>
                <p:nvPr/>
              </p:nvSpPr>
              <p:spPr>
                <a:xfrm>
                  <a:off x="313200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5" name=""/>
              <p:cNvGrpSpPr/>
              <p:nvPr/>
            </p:nvGrpSpPr>
            <p:grpSpPr>
              <a:xfrm>
                <a:off x="3575520" y="3890880"/>
                <a:ext cx="443160" cy="196920"/>
                <a:chOff x="3575520" y="3890880"/>
                <a:chExt cx="443160" cy="196920"/>
              </a:xfrm>
            </p:grpSpPr>
            <p:sp>
              <p:nvSpPr>
                <p:cNvPr id="2536" name=""/>
                <p:cNvSpPr/>
                <p:nvPr/>
              </p:nvSpPr>
              <p:spPr>
                <a:xfrm>
                  <a:off x="365580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7" name=""/>
                <p:cNvSpPr/>
                <p:nvPr/>
              </p:nvSpPr>
              <p:spPr>
                <a:xfrm>
                  <a:off x="357552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38" name=""/>
              <p:cNvGrpSpPr/>
              <p:nvPr/>
            </p:nvGrpSpPr>
            <p:grpSpPr>
              <a:xfrm>
                <a:off x="4019400" y="3890880"/>
                <a:ext cx="442800" cy="196920"/>
                <a:chOff x="4019400" y="3890880"/>
                <a:chExt cx="442800" cy="196920"/>
              </a:xfrm>
            </p:grpSpPr>
            <p:sp>
              <p:nvSpPr>
                <p:cNvPr id="2539" name=""/>
                <p:cNvSpPr/>
                <p:nvPr/>
              </p:nvSpPr>
              <p:spPr>
                <a:xfrm>
                  <a:off x="409968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0" name=""/>
                <p:cNvSpPr/>
                <p:nvPr/>
              </p:nvSpPr>
              <p:spPr>
                <a:xfrm>
                  <a:off x="4019400" y="38908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1" name=""/>
              <p:cNvGrpSpPr/>
              <p:nvPr/>
            </p:nvGrpSpPr>
            <p:grpSpPr>
              <a:xfrm>
                <a:off x="4462560" y="3890880"/>
                <a:ext cx="443160" cy="196920"/>
                <a:chOff x="4462560" y="3890880"/>
                <a:chExt cx="443160" cy="196920"/>
              </a:xfrm>
            </p:grpSpPr>
            <p:sp>
              <p:nvSpPr>
                <p:cNvPr id="2542" name=""/>
                <p:cNvSpPr/>
                <p:nvPr/>
              </p:nvSpPr>
              <p:spPr>
                <a:xfrm>
                  <a:off x="454320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3" name=""/>
                <p:cNvSpPr/>
                <p:nvPr/>
              </p:nvSpPr>
              <p:spPr>
                <a:xfrm>
                  <a:off x="446256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4" name=""/>
              <p:cNvGrpSpPr/>
              <p:nvPr/>
            </p:nvGrpSpPr>
            <p:grpSpPr>
              <a:xfrm>
                <a:off x="4906440" y="3890880"/>
                <a:ext cx="443160" cy="196920"/>
                <a:chOff x="4906440" y="3890880"/>
                <a:chExt cx="443160" cy="196920"/>
              </a:xfrm>
            </p:grpSpPr>
            <p:sp>
              <p:nvSpPr>
                <p:cNvPr id="2545" name=""/>
                <p:cNvSpPr/>
                <p:nvPr/>
              </p:nvSpPr>
              <p:spPr>
                <a:xfrm>
                  <a:off x="498708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490644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5350320" y="3890880"/>
                <a:ext cx="442800" cy="196920"/>
                <a:chOff x="5350320" y="3890880"/>
                <a:chExt cx="442800" cy="19692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543060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5350320" y="38908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0" name=""/>
              <p:cNvGrpSpPr/>
              <p:nvPr/>
            </p:nvGrpSpPr>
            <p:grpSpPr>
              <a:xfrm>
                <a:off x="5793480" y="3890880"/>
                <a:ext cx="443160" cy="196920"/>
                <a:chOff x="5793480" y="3890880"/>
                <a:chExt cx="443160" cy="196920"/>
              </a:xfrm>
            </p:grpSpPr>
            <p:sp>
              <p:nvSpPr>
                <p:cNvPr id="2551" name=""/>
                <p:cNvSpPr/>
                <p:nvPr/>
              </p:nvSpPr>
              <p:spPr>
                <a:xfrm>
                  <a:off x="587412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2" name=""/>
                <p:cNvSpPr/>
                <p:nvPr/>
              </p:nvSpPr>
              <p:spPr>
                <a:xfrm>
                  <a:off x="579348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3" name=""/>
              <p:cNvGrpSpPr/>
              <p:nvPr/>
            </p:nvGrpSpPr>
            <p:grpSpPr>
              <a:xfrm>
                <a:off x="6237360" y="3890880"/>
                <a:ext cx="443160" cy="196920"/>
                <a:chOff x="6237360" y="3890880"/>
                <a:chExt cx="443160" cy="196920"/>
              </a:xfrm>
            </p:grpSpPr>
            <p:sp>
              <p:nvSpPr>
                <p:cNvPr id="2554" name=""/>
                <p:cNvSpPr/>
                <p:nvPr/>
              </p:nvSpPr>
              <p:spPr>
                <a:xfrm>
                  <a:off x="631800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5" name=""/>
                <p:cNvSpPr/>
                <p:nvPr/>
              </p:nvSpPr>
              <p:spPr>
                <a:xfrm>
                  <a:off x="623736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6" name=""/>
              <p:cNvGrpSpPr/>
              <p:nvPr/>
            </p:nvGrpSpPr>
            <p:grpSpPr>
              <a:xfrm>
                <a:off x="6680880" y="3890880"/>
                <a:ext cx="442800" cy="196920"/>
                <a:chOff x="6680880" y="3890880"/>
                <a:chExt cx="442800" cy="196920"/>
              </a:xfrm>
            </p:grpSpPr>
            <p:sp>
              <p:nvSpPr>
                <p:cNvPr id="2557" name=""/>
                <p:cNvSpPr/>
                <p:nvPr/>
              </p:nvSpPr>
              <p:spPr>
                <a:xfrm>
                  <a:off x="6761160" y="389088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58" name=""/>
                <p:cNvSpPr/>
                <p:nvPr/>
              </p:nvSpPr>
              <p:spPr>
                <a:xfrm>
                  <a:off x="6680880" y="389088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9" name=""/>
              <p:cNvGrpSpPr/>
              <p:nvPr/>
            </p:nvGrpSpPr>
            <p:grpSpPr>
              <a:xfrm>
                <a:off x="7124400" y="3890880"/>
                <a:ext cx="443160" cy="196920"/>
                <a:chOff x="7124400" y="3890880"/>
                <a:chExt cx="443160" cy="196920"/>
              </a:xfrm>
            </p:grpSpPr>
            <p:sp>
              <p:nvSpPr>
                <p:cNvPr id="2560" name=""/>
                <p:cNvSpPr/>
                <p:nvPr/>
              </p:nvSpPr>
              <p:spPr>
                <a:xfrm>
                  <a:off x="7205040" y="389088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1" name=""/>
                <p:cNvSpPr/>
                <p:nvPr/>
              </p:nvSpPr>
              <p:spPr>
                <a:xfrm>
                  <a:off x="7124400" y="389088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2" name=""/>
              <p:cNvGrpSpPr/>
              <p:nvPr/>
            </p:nvGrpSpPr>
            <p:grpSpPr>
              <a:xfrm>
                <a:off x="470520" y="4087800"/>
                <a:ext cx="443160" cy="196560"/>
                <a:chOff x="470520" y="4087800"/>
                <a:chExt cx="443160" cy="196560"/>
              </a:xfrm>
            </p:grpSpPr>
            <p:sp>
              <p:nvSpPr>
                <p:cNvPr id="2563" name=""/>
                <p:cNvSpPr/>
                <p:nvPr/>
              </p:nvSpPr>
              <p:spPr>
                <a:xfrm>
                  <a:off x="55116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4" name=""/>
                <p:cNvSpPr/>
                <p:nvPr/>
              </p:nvSpPr>
              <p:spPr>
                <a:xfrm>
                  <a:off x="47052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5" name=""/>
              <p:cNvGrpSpPr/>
              <p:nvPr/>
            </p:nvGrpSpPr>
            <p:grpSpPr>
              <a:xfrm>
                <a:off x="914040" y="4087800"/>
                <a:ext cx="442800" cy="196560"/>
                <a:chOff x="914040" y="4087800"/>
                <a:chExt cx="442800" cy="196560"/>
              </a:xfrm>
            </p:grpSpPr>
            <p:sp>
              <p:nvSpPr>
                <p:cNvPr id="2566" name=""/>
                <p:cNvSpPr/>
                <p:nvPr/>
              </p:nvSpPr>
              <p:spPr>
                <a:xfrm>
                  <a:off x="99432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7" name=""/>
                <p:cNvSpPr/>
                <p:nvPr/>
              </p:nvSpPr>
              <p:spPr>
                <a:xfrm>
                  <a:off x="914040" y="40878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68" name=""/>
              <p:cNvGrpSpPr/>
              <p:nvPr/>
            </p:nvGrpSpPr>
            <p:grpSpPr>
              <a:xfrm>
                <a:off x="1357560" y="4087800"/>
                <a:ext cx="443160" cy="196560"/>
                <a:chOff x="1357560" y="4087800"/>
                <a:chExt cx="443160" cy="196560"/>
              </a:xfrm>
            </p:grpSpPr>
            <p:sp>
              <p:nvSpPr>
                <p:cNvPr id="2569" name=""/>
                <p:cNvSpPr/>
                <p:nvPr/>
              </p:nvSpPr>
              <p:spPr>
                <a:xfrm>
                  <a:off x="143820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0" name=""/>
                <p:cNvSpPr/>
                <p:nvPr/>
              </p:nvSpPr>
              <p:spPr>
                <a:xfrm>
                  <a:off x="135756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1" name=""/>
              <p:cNvGrpSpPr/>
              <p:nvPr/>
            </p:nvGrpSpPr>
            <p:grpSpPr>
              <a:xfrm>
                <a:off x="1801080" y="4087800"/>
                <a:ext cx="443160" cy="196560"/>
                <a:chOff x="1801080" y="4087800"/>
                <a:chExt cx="443160" cy="196560"/>
              </a:xfrm>
            </p:grpSpPr>
            <p:sp>
              <p:nvSpPr>
                <p:cNvPr id="2572" name=""/>
                <p:cNvSpPr/>
                <p:nvPr/>
              </p:nvSpPr>
              <p:spPr>
                <a:xfrm>
                  <a:off x="188172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3" name=""/>
                <p:cNvSpPr/>
                <p:nvPr/>
              </p:nvSpPr>
              <p:spPr>
                <a:xfrm>
                  <a:off x="180108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4" name=""/>
              <p:cNvGrpSpPr/>
              <p:nvPr/>
            </p:nvGrpSpPr>
            <p:grpSpPr>
              <a:xfrm>
                <a:off x="2244960" y="4087800"/>
                <a:ext cx="442800" cy="196560"/>
                <a:chOff x="2244960" y="4087800"/>
                <a:chExt cx="442800" cy="196560"/>
              </a:xfrm>
            </p:grpSpPr>
            <p:sp>
              <p:nvSpPr>
                <p:cNvPr id="2575" name=""/>
                <p:cNvSpPr/>
                <p:nvPr/>
              </p:nvSpPr>
              <p:spPr>
                <a:xfrm>
                  <a:off x="232524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6" name=""/>
                <p:cNvSpPr/>
                <p:nvPr/>
              </p:nvSpPr>
              <p:spPr>
                <a:xfrm>
                  <a:off x="2244960" y="40878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7" name=""/>
              <p:cNvGrpSpPr/>
              <p:nvPr/>
            </p:nvGrpSpPr>
            <p:grpSpPr>
              <a:xfrm>
                <a:off x="2688120" y="4087800"/>
                <a:ext cx="443160" cy="196560"/>
                <a:chOff x="2688120" y="4087800"/>
                <a:chExt cx="443160" cy="196560"/>
              </a:xfrm>
            </p:grpSpPr>
            <p:sp>
              <p:nvSpPr>
                <p:cNvPr id="2578" name=""/>
                <p:cNvSpPr/>
                <p:nvPr/>
              </p:nvSpPr>
              <p:spPr>
                <a:xfrm>
                  <a:off x="276876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9" name=""/>
                <p:cNvSpPr/>
                <p:nvPr/>
              </p:nvSpPr>
              <p:spPr>
                <a:xfrm>
                  <a:off x="268812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0" name=""/>
              <p:cNvGrpSpPr/>
              <p:nvPr/>
            </p:nvGrpSpPr>
            <p:grpSpPr>
              <a:xfrm>
                <a:off x="3132000" y="4087800"/>
                <a:ext cx="443160" cy="196560"/>
                <a:chOff x="3132000" y="4087800"/>
                <a:chExt cx="443160" cy="196560"/>
              </a:xfrm>
            </p:grpSpPr>
            <p:sp>
              <p:nvSpPr>
                <p:cNvPr id="2581" name=""/>
                <p:cNvSpPr/>
                <p:nvPr/>
              </p:nvSpPr>
              <p:spPr>
                <a:xfrm>
                  <a:off x="321264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2" name=""/>
                <p:cNvSpPr/>
                <p:nvPr/>
              </p:nvSpPr>
              <p:spPr>
                <a:xfrm>
                  <a:off x="313200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3" name=""/>
              <p:cNvGrpSpPr/>
              <p:nvPr/>
            </p:nvGrpSpPr>
            <p:grpSpPr>
              <a:xfrm>
                <a:off x="3575520" y="4087800"/>
                <a:ext cx="443160" cy="196560"/>
                <a:chOff x="3575520" y="4087800"/>
                <a:chExt cx="443160" cy="196560"/>
              </a:xfrm>
            </p:grpSpPr>
            <p:sp>
              <p:nvSpPr>
                <p:cNvPr id="2584" name=""/>
                <p:cNvSpPr/>
                <p:nvPr/>
              </p:nvSpPr>
              <p:spPr>
                <a:xfrm>
                  <a:off x="365580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5" name=""/>
                <p:cNvSpPr/>
                <p:nvPr/>
              </p:nvSpPr>
              <p:spPr>
                <a:xfrm>
                  <a:off x="357552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6" name=""/>
              <p:cNvGrpSpPr/>
              <p:nvPr/>
            </p:nvGrpSpPr>
            <p:grpSpPr>
              <a:xfrm>
                <a:off x="4019400" y="4087800"/>
                <a:ext cx="442800" cy="196560"/>
                <a:chOff x="4019400" y="4087800"/>
                <a:chExt cx="442800" cy="19656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409968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4019400" y="40878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9" name=""/>
              <p:cNvGrpSpPr/>
              <p:nvPr/>
            </p:nvGrpSpPr>
            <p:grpSpPr>
              <a:xfrm>
                <a:off x="4462560" y="4087800"/>
                <a:ext cx="443160" cy="196560"/>
                <a:chOff x="4462560" y="4087800"/>
                <a:chExt cx="443160" cy="196560"/>
              </a:xfrm>
            </p:grpSpPr>
            <p:sp>
              <p:nvSpPr>
                <p:cNvPr id="2590" name=""/>
                <p:cNvSpPr/>
                <p:nvPr/>
              </p:nvSpPr>
              <p:spPr>
                <a:xfrm>
                  <a:off x="454320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1" name=""/>
                <p:cNvSpPr/>
                <p:nvPr/>
              </p:nvSpPr>
              <p:spPr>
                <a:xfrm>
                  <a:off x="446256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2" name=""/>
              <p:cNvGrpSpPr/>
              <p:nvPr/>
            </p:nvGrpSpPr>
            <p:grpSpPr>
              <a:xfrm>
                <a:off x="4906440" y="4087800"/>
                <a:ext cx="443160" cy="196560"/>
                <a:chOff x="4906440" y="4087800"/>
                <a:chExt cx="443160" cy="196560"/>
              </a:xfrm>
            </p:grpSpPr>
            <p:sp>
              <p:nvSpPr>
                <p:cNvPr id="2593" name=""/>
                <p:cNvSpPr/>
                <p:nvPr/>
              </p:nvSpPr>
              <p:spPr>
                <a:xfrm>
                  <a:off x="498708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4" name=""/>
                <p:cNvSpPr/>
                <p:nvPr/>
              </p:nvSpPr>
              <p:spPr>
                <a:xfrm>
                  <a:off x="490644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5" name=""/>
              <p:cNvGrpSpPr/>
              <p:nvPr/>
            </p:nvGrpSpPr>
            <p:grpSpPr>
              <a:xfrm>
                <a:off x="5350320" y="4087800"/>
                <a:ext cx="442800" cy="196560"/>
                <a:chOff x="5350320" y="4087800"/>
                <a:chExt cx="442800" cy="196560"/>
              </a:xfrm>
            </p:grpSpPr>
            <p:sp>
              <p:nvSpPr>
                <p:cNvPr id="2596" name=""/>
                <p:cNvSpPr/>
                <p:nvPr/>
              </p:nvSpPr>
              <p:spPr>
                <a:xfrm>
                  <a:off x="543060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7" name=""/>
                <p:cNvSpPr/>
                <p:nvPr/>
              </p:nvSpPr>
              <p:spPr>
                <a:xfrm>
                  <a:off x="5350320" y="40878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98" name=""/>
              <p:cNvGrpSpPr/>
              <p:nvPr/>
            </p:nvGrpSpPr>
            <p:grpSpPr>
              <a:xfrm>
                <a:off x="5793480" y="4087800"/>
                <a:ext cx="443160" cy="196560"/>
                <a:chOff x="5793480" y="4087800"/>
                <a:chExt cx="443160" cy="196560"/>
              </a:xfrm>
            </p:grpSpPr>
            <p:sp>
              <p:nvSpPr>
                <p:cNvPr id="2599" name=""/>
                <p:cNvSpPr/>
                <p:nvPr/>
              </p:nvSpPr>
              <p:spPr>
                <a:xfrm>
                  <a:off x="587412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0" name=""/>
                <p:cNvSpPr/>
                <p:nvPr/>
              </p:nvSpPr>
              <p:spPr>
                <a:xfrm>
                  <a:off x="579348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1" name=""/>
              <p:cNvGrpSpPr/>
              <p:nvPr/>
            </p:nvGrpSpPr>
            <p:grpSpPr>
              <a:xfrm>
                <a:off x="6237360" y="4087800"/>
                <a:ext cx="443160" cy="196560"/>
                <a:chOff x="6237360" y="4087800"/>
                <a:chExt cx="443160" cy="196560"/>
              </a:xfrm>
            </p:grpSpPr>
            <p:sp>
              <p:nvSpPr>
                <p:cNvPr id="2602" name=""/>
                <p:cNvSpPr/>
                <p:nvPr/>
              </p:nvSpPr>
              <p:spPr>
                <a:xfrm>
                  <a:off x="631800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3" name=""/>
                <p:cNvSpPr/>
                <p:nvPr/>
              </p:nvSpPr>
              <p:spPr>
                <a:xfrm>
                  <a:off x="623736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4" name=""/>
              <p:cNvGrpSpPr/>
              <p:nvPr/>
            </p:nvGrpSpPr>
            <p:grpSpPr>
              <a:xfrm>
                <a:off x="6680880" y="4087800"/>
                <a:ext cx="442800" cy="196560"/>
                <a:chOff x="6680880" y="4087800"/>
                <a:chExt cx="442800" cy="196560"/>
              </a:xfrm>
            </p:grpSpPr>
            <p:sp>
              <p:nvSpPr>
                <p:cNvPr id="2605" name=""/>
                <p:cNvSpPr/>
                <p:nvPr/>
              </p:nvSpPr>
              <p:spPr>
                <a:xfrm>
                  <a:off x="6761160" y="408780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6" name=""/>
                <p:cNvSpPr/>
                <p:nvPr/>
              </p:nvSpPr>
              <p:spPr>
                <a:xfrm>
                  <a:off x="6680880" y="408780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7" name=""/>
              <p:cNvGrpSpPr/>
              <p:nvPr/>
            </p:nvGrpSpPr>
            <p:grpSpPr>
              <a:xfrm>
                <a:off x="7124400" y="4087800"/>
                <a:ext cx="443160" cy="196560"/>
                <a:chOff x="7124400" y="4087800"/>
                <a:chExt cx="443160" cy="196560"/>
              </a:xfrm>
            </p:grpSpPr>
            <p:sp>
              <p:nvSpPr>
                <p:cNvPr id="2608" name=""/>
                <p:cNvSpPr/>
                <p:nvPr/>
              </p:nvSpPr>
              <p:spPr>
                <a:xfrm>
                  <a:off x="7205040" y="408780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9" name=""/>
                <p:cNvSpPr/>
                <p:nvPr/>
              </p:nvSpPr>
              <p:spPr>
                <a:xfrm>
                  <a:off x="7124400" y="408780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0" name=""/>
              <p:cNvGrpSpPr/>
              <p:nvPr/>
            </p:nvGrpSpPr>
            <p:grpSpPr>
              <a:xfrm>
                <a:off x="470520" y="4284360"/>
                <a:ext cx="443160" cy="196920"/>
                <a:chOff x="470520" y="4284360"/>
                <a:chExt cx="443160" cy="196920"/>
              </a:xfrm>
            </p:grpSpPr>
            <p:sp>
              <p:nvSpPr>
                <p:cNvPr id="2611" name=""/>
                <p:cNvSpPr/>
                <p:nvPr/>
              </p:nvSpPr>
              <p:spPr>
                <a:xfrm>
                  <a:off x="55116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2" name=""/>
                <p:cNvSpPr/>
                <p:nvPr/>
              </p:nvSpPr>
              <p:spPr>
                <a:xfrm>
                  <a:off x="47052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3" name=""/>
              <p:cNvGrpSpPr/>
              <p:nvPr/>
            </p:nvGrpSpPr>
            <p:grpSpPr>
              <a:xfrm>
                <a:off x="914040" y="4284360"/>
                <a:ext cx="442800" cy="196920"/>
                <a:chOff x="914040" y="4284360"/>
                <a:chExt cx="442800" cy="196920"/>
              </a:xfrm>
            </p:grpSpPr>
            <p:sp>
              <p:nvSpPr>
                <p:cNvPr id="2614" name=""/>
                <p:cNvSpPr/>
                <p:nvPr/>
              </p:nvSpPr>
              <p:spPr>
                <a:xfrm>
                  <a:off x="99432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914040" y="42843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6" name=""/>
              <p:cNvGrpSpPr/>
              <p:nvPr/>
            </p:nvGrpSpPr>
            <p:grpSpPr>
              <a:xfrm>
                <a:off x="1357560" y="4284360"/>
                <a:ext cx="443160" cy="196920"/>
                <a:chOff x="1357560" y="4284360"/>
                <a:chExt cx="443160" cy="196920"/>
              </a:xfrm>
            </p:grpSpPr>
            <p:sp>
              <p:nvSpPr>
                <p:cNvPr id="2617" name=""/>
                <p:cNvSpPr/>
                <p:nvPr/>
              </p:nvSpPr>
              <p:spPr>
                <a:xfrm>
                  <a:off x="143820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18" name=""/>
                <p:cNvSpPr/>
                <p:nvPr/>
              </p:nvSpPr>
              <p:spPr>
                <a:xfrm>
                  <a:off x="135756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9" name=""/>
              <p:cNvGrpSpPr/>
              <p:nvPr/>
            </p:nvGrpSpPr>
            <p:grpSpPr>
              <a:xfrm>
                <a:off x="1801080" y="4284360"/>
                <a:ext cx="443160" cy="196920"/>
                <a:chOff x="1801080" y="4284360"/>
                <a:chExt cx="443160" cy="196920"/>
              </a:xfrm>
            </p:grpSpPr>
            <p:sp>
              <p:nvSpPr>
                <p:cNvPr id="2620" name=""/>
                <p:cNvSpPr/>
                <p:nvPr/>
              </p:nvSpPr>
              <p:spPr>
                <a:xfrm>
                  <a:off x="188172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1" name=""/>
                <p:cNvSpPr/>
                <p:nvPr/>
              </p:nvSpPr>
              <p:spPr>
                <a:xfrm>
                  <a:off x="180108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2" name=""/>
              <p:cNvGrpSpPr/>
              <p:nvPr/>
            </p:nvGrpSpPr>
            <p:grpSpPr>
              <a:xfrm>
                <a:off x="2244960" y="4284360"/>
                <a:ext cx="442800" cy="196920"/>
                <a:chOff x="2244960" y="4284360"/>
                <a:chExt cx="442800" cy="196920"/>
              </a:xfrm>
            </p:grpSpPr>
            <p:sp>
              <p:nvSpPr>
                <p:cNvPr id="2623" name=""/>
                <p:cNvSpPr/>
                <p:nvPr/>
              </p:nvSpPr>
              <p:spPr>
                <a:xfrm>
                  <a:off x="232524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4" name=""/>
                <p:cNvSpPr/>
                <p:nvPr/>
              </p:nvSpPr>
              <p:spPr>
                <a:xfrm>
                  <a:off x="2244960" y="42843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5" name=""/>
              <p:cNvGrpSpPr/>
              <p:nvPr/>
            </p:nvGrpSpPr>
            <p:grpSpPr>
              <a:xfrm>
                <a:off x="2688120" y="4284360"/>
                <a:ext cx="443160" cy="196920"/>
                <a:chOff x="2688120" y="4284360"/>
                <a:chExt cx="443160" cy="196920"/>
              </a:xfrm>
            </p:grpSpPr>
            <p:sp>
              <p:nvSpPr>
                <p:cNvPr id="2626" name=""/>
                <p:cNvSpPr/>
                <p:nvPr/>
              </p:nvSpPr>
              <p:spPr>
                <a:xfrm>
                  <a:off x="276876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7" name=""/>
                <p:cNvSpPr/>
                <p:nvPr/>
              </p:nvSpPr>
              <p:spPr>
                <a:xfrm>
                  <a:off x="268812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28" name=""/>
              <p:cNvGrpSpPr/>
              <p:nvPr/>
            </p:nvGrpSpPr>
            <p:grpSpPr>
              <a:xfrm>
                <a:off x="3132000" y="4284360"/>
                <a:ext cx="443160" cy="196920"/>
                <a:chOff x="3132000" y="4284360"/>
                <a:chExt cx="443160" cy="196920"/>
              </a:xfrm>
            </p:grpSpPr>
            <p:sp>
              <p:nvSpPr>
                <p:cNvPr id="2629" name=""/>
                <p:cNvSpPr/>
                <p:nvPr/>
              </p:nvSpPr>
              <p:spPr>
                <a:xfrm>
                  <a:off x="321264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0" name=""/>
                <p:cNvSpPr/>
                <p:nvPr/>
              </p:nvSpPr>
              <p:spPr>
                <a:xfrm>
                  <a:off x="313200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1" name=""/>
              <p:cNvGrpSpPr/>
              <p:nvPr/>
            </p:nvGrpSpPr>
            <p:grpSpPr>
              <a:xfrm>
                <a:off x="3575520" y="4284360"/>
                <a:ext cx="443160" cy="196920"/>
                <a:chOff x="3575520" y="4284360"/>
                <a:chExt cx="443160" cy="196920"/>
              </a:xfrm>
            </p:grpSpPr>
            <p:sp>
              <p:nvSpPr>
                <p:cNvPr id="2632" name=""/>
                <p:cNvSpPr/>
                <p:nvPr/>
              </p:nvSpPr>
              <p:spPr>
                <a:xfrm>
                  <a:off x="365580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3" name=""/>
                <p:cNvSpPr/>
                <p:nvPr/>
              </p:nvSpPr>
              <p:spPr>
                <a:xfrm>
                  <a:off x="357552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4" name=""/>
              <p:cNvGrpSpPr/>
              <p:nvPr/>
            </p:nvGrpSpPr>
            <p:grpSpPr>
              <a:xfrm>
                <a:off x="4019400" y="4284360"/>
                <a:ext cx="442800" cy="196920"/>
                <a:chOff x="4019400" y="4284360"/>
                <a:chExt cx="442800" cy="196920"/>
              </a:xfrm>
            </p:grpSpPr>
            <p:sp>
              <p:nvSpPr>
                <p:cNvPr id="2635" name=""/>
                <p:cNvSpPr/>
                <p:nvPr/>
              </p:nvSpPr>
              <p:spPr>
                <a:xfrm>
                  <a:off x="409968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6" name=""/>
                <p:cNvSpPr/>
                <p:nvPr/>
              </p:nvSpPr>
              <p:spPr>
                <a:xfrm>
                  <a:off x="4019400" y="42843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7" name=""/>
              <p:cNvGrpSpPr/>
              <p:nvPr/>
            </p:nvGrpSpPr>
            <p:grpSpPr>
              <a:xfrm>
                <a:off x="4462560" y="4284360"/>
                <a:ext cx="443160" cy="196920"/>
                <a:chOff x="4462560" y="4284360"/>
                <a:chExt cx="443160" cy="196920"/>
              </a:xfrm>
            </p:grpSpPr>
            <p:sp>
              <p:nvSpPr>
                <p:cNvPr id="2638" name=""/>
                <p:cNvSpPr/>
                <p:nvPr/>
              </p:nvSpPr>
              <p:spPr>
                <a:xfrm>
                  <a:off x="454320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9" name=""/>
                <p:cNvSpPr/>
                <p:nvPr/>
              </p:nvSpPr>
              <p:spPr>
                <a:xfrm>
                  <a:off x="446256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0" name=""/>
              <p:cNvGrpSpPr/>
              <p:nvPr/>
            </p:nvGrpSpPr>
            <p:grpSpPr>
              <a:xfrm>
                <a:off x="4906440" y="4284360"/>
                <a:ext cx="443160" cy="196920"/>
                <a:chOff x="4906440" y="4284360"/>
                <a:chExt cx="443160" cy="196920"/>
              </a:xfrm>
            </p:grpSpPr>
            <p:sp>
              <p:nvSpPr>
                <p:cNvPr id="2641" name=""/>
                <p:cNvSpPr/>
                <p:nvPr/>
              </p:nvSpPr>
              <p:spPr>
                <a:xfrm>
                  <a:off x="498708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490644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3" name=""/>
              <p:cNvGrpSpPr/>
              <p:nvPr/>
            </p:nvGrpSpPr>
            <p:grpSpPr>
              <a:xfrm>
                <a:off x="5350320" y="4284360"/>
                <a:ext cx="442800" cy="196920"/>
                <a:chOff x="5350320" y="4284360"/>
                <a:chExt cx="442800" cy="196920"/>
              </a:xfrm>
            </p:grpSpPr>
            <p:sp>
              <p:nvSpPr>
                <p:cNvPr id="2644" name=""/>
                <p:cNvSpPr/>
                <p:nvPr/>
              </p:nvSpPr>
              <p:spPr>
                <a:xfrm>
                  <a:off x="543060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5" name=""/>
                <p:cNvSpPr/>
                <p:nvPr/>
              </p:nvSpPr>
              <p:spPr>
                <a:xfrm>
                  <a:off x="5350320" y="42843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6" name=""/>
              <p:cNvGrpSpPr/>
              <p:nvPr/>
            </p:nvGrpSpPr>
            <p:grpSpPr>
              <a:xfrm>
                <a:off x="5793480" y="4284360"/>
                <a:ext cx="443160" cy="196920"/>
                <a:chOff x="5793480" y="4284360"/>
                <a:chExt cx="443160" cy="196920"/>
              </a:xfrm>
            </p:grpSpPr>
            <p:sp>
              <p:nvSpPr>
                <p:cNvPr id="2647" name=""/>
                <p:cNvSpPr/>
                <p:nvPr/>
              </p:nvSpPr>
              <p:spPr>
                <a:xfrm>
                  <a:off x="587412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8" name=""/>
                <p:cNvSpPr/>
                <p:nvPr/>
              </p:nvSpPr>
              <p:spPr>
                <a:xfrm>
                  <a:off x="579348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9" name=""/>
              <p:cNvGrpSpPr/>
              <p:nvPr/>
            </p:nvGrpSpPr>
            <p:grpSpPr>
              <a:xfrm>
                <a:off x="6237360" y="4284360"/>
                <a:ext cx="443160" cy="196920"/>
                <a:chOff x="6237360" y="4284360"/>
                <a:chExt cx="443160" cy="196920"/>
              </a:xfrm>
            </p:grpSpPr>
            <p:sp>
              <p:nvSpPr>
                <p:cNvPr id="2650" name=""/>
                <p:cNvSpPr/>
                <p:nvPr/>
              </p:nvSpPr>
              <p:spPr>
                <a:xfrm>
                  <a:off x="631800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1" name=""/>
                <p:cNvSpPr/>
                <p:nvPr/>
              </p:nvSpPr>
              <p:spPr>
                <a:xfrm>
                  <a:off x="623736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2" name=""/>
              <p:cNvGrpSpPr/>
              <p:nvPr/>
            </p:nvGrpSpPr>
            <p:grpSpPr>
              <a:xfrm>
                <a:off x="6680880" y="4284360"/>
                <a:ext cx="442800" cy="196920"/>
                <a:chOff x="6680880" y="4284360"/>
                <a:chExt cx="442800" cy="196920"/>
              </a:xfrm>
            </p:grpSpPr>
            <p:sp>
              <p:nvSpPr>
                <p:cNvPr id="2653" name=""/>
                <p:cNvSpPr/>
                <p:nvPr/>
              </p:nvSpPr>
              <p:spPr>
                <a:xfrm>
                  <a:off x="6761160" y="428436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4" name=""/>
                <p:cNvSpPr/>
                <p:nvPr/>
              </p:nvSpPr>
              <p:spPr>
                <a:xfrm>
                  <a:off x="6680880" y="428436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5" name=""/>
              <p:cNvGrpSpPr/>
              <p:nvPr/>
            </p:nvGrpSpPr>
            <p:grpSpPr>
              <a:xfrm>
                <a:off x="7124400" y="4284360"/>
                <a:ext cx="443160" cy="196920"/>
                <a:chOff x="7124400" y="4284360"/>
                <a:chExt cx="443160" cy="196920"/>
              </a:xfrm>
            </p:grpSpPr>
            <p:sp>
              <p:nvSpPr>
                <p:cNvPr id="2656" name=""/>
                <p:cNvSpPr/>
                <p:nvPr/>
              </p:nvSpPr>
              <p:spPr>
                <a:xfrm>
                  <a:off x="7205040" y="428436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7" name=""/>
                <p:cNvSpPr/>
                <p:nvPr/>
              </p:nvSpPr>
              <p:spPr>
                <a:xfrm>
                  <a:off x="7124400" y="428436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8" name=""/>
              <p:cNvGrpSpPr/>
              <p:nvPr/>
            </p:nvGrpSpPr>
            <p:grpSpPr>
              <a:xfrm>
                <a:off x="470520" y="4481280"/>
                <a:ext cx="443160" cy="196560"/>
                <a:chOff x="470520" y="4481280"/>
                <a:chExt cx="443160" cy="196560"/>
              </a:xfrm>
            </p:grpSpPr>
            <p:sp>
              <p:nvSpPr>
                <p:cNvPr id="2659" name=""/>
                <p:cNvSpPr/>
                <p:nvPr/>
              </p:nvSpPr>
              <p:spPr>
                <a:xfrm>
                  <a:off x="55116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0" name=""/>
                <p:cNvSpPr/>
                <p:nvPr/>
              </p:nvSpPr>
              <p:spPr>
                <a:xfrm>
                  <a:off x="47052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1" name=""/>
              <p:cNvGrpSpPr/>
              <p:nvPr/>
            </p:nvGrpSpPr>
            <p:grpSpPr>
              <a:xfrm>
                <a:off x="914040" y="4481280"/>
                <a:ext cx="442800" cy="196560"/>
                <a:chOff x="914040" y="4481280"/>
                <a:chExt cx="442800" cy="196560"/>
              </a:xfrm>
            </p:grpSpPr>
            <p:sp>
              <p:nvSpPr>
                <p:cNvPr id="2662" name=""/>
                <p:cNvSpPr/>
                <p:nvPr/>
              </p:nvSpPr>
              <p:spPr>
                <a:xfrm>
                  <a:off x="99432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914040" y="44812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4" name=""/>
              <p:cNvGrpSpPr/>
              <p:nvPr/>
            </p:nvGrpSpPr>
            <p:grpSpPr>
              <a:xfrm>
                <a:off x="1357560" y="4481280"/>
                <a:ext cx="443160" cy="196560"/>
                <a:chOff x="1357560" y="4481280"/>
                <a:chExt cx="443160" cy="196560"/>
              </a:xfrm>
            </p:grpSpPr>
            <p:sp>
              <p:nvSpPr>
                <p:cNvPr id="2665" name=""/>
                <p:cNvSpPr/>
                <p:nvPr/>
              </p:nvSpPr>
              <p:spPr>
                <a:xfrm>
                  <a:off x="143820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6" name=""/>
                <p:cNvSpPr/>
                <p:nvPr/>
              </p:nvSpPr>
              <p:spPr>
                <a:xfrm>
                  <a:off x="135756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7" name=""/>
              <p:cNvGrpSpPr/>
              <p:nvPr/>
            </p:nvGrpSpPr>
            <p:grpSpPr>
              <a:xfrm>
                <a:off x="1801080" y="4481280"/>
                <a:ext cx="443160" cy="196560"/>
                <a:chOff x="1801080" y="4481280"/>
                <a:chExt cx="443160" cy="196560"/>
              </a:xfrm>
            </p:grpSpPr>
            <p:sp>
              <p:nvSpPr>
                <p:cNvPr id="2668" name=""/>
                <p:cNvSpPr/>
                <p:nvPr/>
              </p:nvSpPr>
              <p:spPr>
                <a:xfrm>
                  <a:off x="188172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9" name=""/>
                <p:cNvSpPr/>
                <p:nvPr/>
              </p:nvSpPr>
              <p:spPr>
                <a:xfrm>
                  <a:off x="180108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0" name=""/>
              <p:cNvGrpSpPr/>
              <p:nvPr/>
            </p:nvGrpSpPr>
            <p:grpSpPr>
              <a:xfrm>
                <a:off x="2244960" y="4481280"/>
                <a:ext cx="442800" cy="196560"/>
                <a:chOff x="2244960" y="4481280"/>
                <a:chExt cx="442800" cy="196560"/>
              </a:xfrm>
            </p:grpSpPr>
            <p:sp>
              <p:nvSpPr>
                <p:cNvPr id="2671" name=""/>
                <p:cNvSpPr/>
                <p:nvPr/>
              </p:nvSpPr>
              <p:spPr>
                <a:xfrm>
                  <a:off x="232524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2" name=""/>
                <p:cNvSpPr/>
                <p:nvPr/>
              </p:nvSpPr>
              <p:spPr>
                <a:xfrm>
                  <a:off x="2244960" y="44812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3" name=""/>
              <p:cNvGrpSpPr/>
              <p:nvPr/>
            </p:nvGrpSpPr>
            <p:grpSpPr>
              <a:xfrm>
                <a:off x="2688120" y="4481280"/>
                <a:ext cx="443160" cy="196560"/>
                <a:chOff x="2688120" y="4481280"/>
                <a:chExt cx="443160" cy="196560"/>
              </a:xfrm>
            </p:grpSpPr>
            <p:sp>
              <p:nvSpPr>
                <p:cNvPr id="2674" name=""/>
                <p:cNvSpPr/>
                <p:nvPr/>
              </p:nvSpPr>
              <p:spPr>
                <a:xfrm>
                  <a:off x="276876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>
                  <a:off x="268812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6" name=""/>
              <p:cNvGrpSpPr/>
              <p:nvPr/>
            </p:nvGrpSpPr>
            <p:grpSpPr>
              <a:xfrm>
                <a:off x="3132000" y="4481280"/>
                <a:ext cx="443160" cy="196560"/>
                <a:chOff x="3132000" y="4481280"/>
                <a:chExt cx="443160" cy="196560"/>
              </a:xfrm>
            </p:grpSpPr>
            <p:sp>
              <p:nvSpPr>
                <p:cNvPr id="2677" name=""/>
                <p:cNvSpPr/>
                <p:nvPr/>
              </p:nvSpPr>
              <p:spPr>
                <a:xfrm>
                  <a:off x="321264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8" name=""/>
                <p:cNvSpPr/>
                <p:nvPr/>
              </p:nvSpPr>
              <p:spPr>
                <a:xfrm>
                  <a:off x="313200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9" name=""/>
              <p:cNvGrpSpPr/>
              <p:nvPr/>
            </p:nvGrpSpPr>
            <p:grpSpPr>
              <a:xfrm>
                <a:off x="3575520" y="4481280"/>
                <a:ext cx="443160" cy="196560"/>
                <a:chOff x="3575520" y="4481280"/>
                <a:chExt cx="443160" cy="196560"/>
              </a:xfrm>
            </p:grpSpPr>
            <p:sp>
              <p:nvSpPr>
                <p:cNvPr id="2680" name=""/>
                <p:cNvSpPr/>
                <p:nvPr/>
              </p:nvSpPr>
              <p:spPr>
                <a:xfrm>
                  <a:off x="365580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1" name=""/>
                <p:cNvSpPr/>
                <p:nvPr/>
              </p:nvSpPr>
              <p:spPr>
                <a:xfrm>
                  <a:off x="357552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2" name=""/>
              <p:cNvGrpSpPr/>
              <p:nvPr/>
            </p:nvGrpSpPr>
            <p:grpSpPr>
              <a:xfrm>
                <a:off x="4019400" y="4481280"/>
                <a:ext cx="442800" cy="196560"/>
                <a:chOff x="4019400" y="4481280"/>
                <a:chExt cx="442800" cy="196560"/>
              </a:xfrm>
            </p:grpSpPr>
            <p:sp>
              <p:nvSpPr>
                <p:cNvPr id="2683" name=""/>
                <p:cNvSpPr/>
                <p:nvPr/>
              </p:nvSpPr>
              <p:spPr>
                <a:xfrm>
                  <a:off x="409968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4" name=""/>
                <p:cNvSpPr/>
                <p:nvPr/>
              </p:nvSpPr>
              <p:spPr>
                <a:xfrm>
                  <a:off x="4019400" y="44812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5" name=""/>
              <p:cNvGrpSpPr/>
              <p:nvPr/>
            </p:nvGrpSpPr>
            <p:grpSpPr>
              <a:xfrm>
                <a:off x="4462560" y="4481280"/>
                <a:ext cx="443160" cy="196560"/>
                <a:chOff x="4462560" y="4481280"/>
                <a:chExt cx="443160" cy="196560"/>
              </a:xfrm>
            </p:grpSpPr>
            <p:sp>
              <p:nvSpPr>
                <p:cNvPr id="2686" name=""/>
                <p:cNvSpPr/>
                <p:nvPr/>
              </p:nvSpPr>
              <p:spPr>
                <a:xfrm>
                  <a:off x="454320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7" name=""/>
                <p:cNvSpPr/>
                <p:nvPr/>
              </p:nvSpPr>
              <p:spPr>
                <a:xfrm>
                  <a:off x="446256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88" name=""/>
              <p:cNvGrpSpPr/>
              <p:nvPr/>
            </p:nvGrpSpPr>
            <p:grpSpPr>
              <a:xfrm>
                <a:off x="4906440" y="4481280"/>
                <a:ext cx="443160" cy="196560"/>
                <a:chOff x="4906440" y="4481280"/>
                <a:chExt cx="443160" cy="196560"/>
              </a:xfrm>
            </p:grpSpPr>
            <p:sp>
              <p:nvSpPr>
                <p:cNvPr id="2689" name=""/>
                <p:cNvSpPr/>
                <p:nvPr/>
              </p:nvSpPr>
              <p:spPr>
                <a:xfrm>
                  <a:off x="498708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0" name=""/>
                <p:cNvSpPr/>
                <p:nvPr/>
              </p:nvSpPr>
              <p:spPr>
                <a:xfrm>
                  <a:off x="490644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1" name=""/>
              <p:cNvGrpSpPr/>
              <p:nvPr/>
            </p:nvGrpSpPr>
            <p:grpSpPr>
              <a:xfrm>
                <a:off x="5350320" y="4481280"/>
                <a:ext cx="442800" cy="196560"/>
                <a:chOff x="5350320" y="4481280"/>
                <a:chExt cx="442800" cy="196560"/>
              </a:xfrm>
            </p:grpSpPr>
            <p:sp>
              <p:nvSpPr>
                <p:cNvPr id="2692" name=""/>
                <p:cNvSpPr/>
                <p:nvPr/>
              </p:nvSpPr>
              <p:spPr>
                <a:xfrm>
                  <a:off x="543060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3" name=""/>
                <p:cNvSpPr/>
                <p:nvPr/>
              </p:nvSpPr>
              <p:spPr>
                <a:xfrm>
                  <a:off x="5350320" y="44812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4" name=""/>
              <p:cNvGrpSpPr/>
              <p:nvPr/>
            </p:nvGrpSpPr>
            <p:grpSpPr>
              <a:xfrm>
                <a:off x="5793480" y="4481280"/>
                <a:ext cx="443160" cy="196560"/>
                <a:chOff x="5793480" y="4481280"/>
                <a:chExt cx="443160" cy="196560"/>
              </a:xfrm>
            </p:grpSpPr>
            <p:sp>
              <p:nvSpPr>
                <p:cNvPr id="2695" name=""/>
                <p:cNvSpPr/>
                <p:nvPr/>
              </p:nvSpPr>
              <p:spPr>
                <a:xfrm>
                  <a:off x="587412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6" name=""/>
                <p:cNvSpPr/>
                <p:nvPr/>
              </p:nvSpPr>
              <p:spPr>
                <a:xfrm>
                  <a:off x="579348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7" name=""/>
              <p:cNvGrpSpPr/>
              <p:nvPr/>
            </p:nvGrpSpPr>
            <p:grpSpPr>
              <a:xfrm>
                <a:off x="6237360" y="4481280"/>
                <a:ext cx="443160" cy="196560"/>
                <a:chOff x="6237360" y="4481280"/>
                <a:chExt cx="443160" cy="196560"/>
              </a:xfrm>
            </p:grpSpPr>
            <p:sp>
              <p:nvSpPr>
                <p:cNvPr id="2698" name=""/>
                <p:cNvSpPr/>
                <p:nvPr/>
              </p:nvSpPr>
              <p:spPr>
                <a:xfrm>
                  <a:off x="631800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9" name=""/>
                <p:cNvSpPr/>
                <p:nvPr/>
              </p:nvSpPr>
              <p:spPr>
                <a:xfrm>
                  <a:off x="623736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0" name=""/>
              <p:cNvGrpSpPr/>
              <p:nvPr/>
            </p:nvGrpSpPr>
            <p:grpSpPr>
              <a:xfrm>
                <a:off x="6680880" y="4481280"/>
                <a:ext cx="442800" cy="196560"/>
                <a:chOff x="6680880" y="4481280"/>
                <a:chExt cx="442800" cy="196560"/>
              </a:xfrm>
            </p:grpSpPr>
            <p:sp>
              <p:nvSpPr>
                <p:cNvPr id="2701" name=""/>
                <p:cNvSpPr/>
                <p:nvPr/>
              </p:nvSpPr>
              <p:spPr>
                <a:xfrm>
                  <a:off x="6761160" y="448128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>
                  <a:off x="6680880" y="448128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3" name=""/>
              <p:cNvGrpSpPr/>
              <p:nvPr/>
            </p:nvGrpSpPr>
            <p:grpSpPr>
              <a:xfrm>
                <a:off x="7124400" y="4481280"/>
                <a:ext cx="443160" cy="196560"/>
                <a:chOff x="7124400" y="4481280"/>
                <a:chExt cx="443160" cy="196560"/>
              </a:xfrm>
            </p:grpSpPr>
            <p:sp>
              <p:nvSpPr>
                <p:cNvPr id="2704" name=""/>
                <p:cNvSpPr/>
                <p:nvPr/>
              </p:nvSpPr>
              <p:spPr>
                <a:xfrm>
                  <a:off x="7205040" y="448128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5" name=""/>
                <p:cNvSpPr/>
                <p:nvPr/>
              </p:nvSpPr>
              <p:spPr>
                <a:xfrm>
                  <a:off x="7124400" y="448128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6" name=""/>
              <p:cNvGrpSpPr/>
              <p:nvPr/>
            </p:nvGrpSpPr>
            <p:grpSpPr>
              <a:xfrm>
                <a:off x="470520" y="4678200"/>
                <a:ext cx="443160" cy="196920"/>
                <a:chOff x="470520" y="4678200"/>
                <a:chExt cx="443160" cy="196920"/>
              </a:xfrm>
            </p:grpSpPr>
            <p:sp>
              <p:nvSpPr>
                <p:cNvPr id="2707" name=""/>
                <p:cNvSpPr/>
                <p:nvPr/>
              </p:nvSpPr>
              <p:spPr>
                <a:xfrm>
                  <a:off x="55116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8" name=""/>
                <p:cNvSpPr/>
                <p:nvPr/>
              </p:nvSpPr>
              <p:spPr>
                <a:xfrm>
                  <a:off x="47052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9" name=""/>
              <p:cNvGrpSpPr/>
              <p:nvPr/>
            </p:nvGrpSpPr>
            <p:grpSpPr>
              <a:xfrm>
                <a:off x="914040" y="4678200"/>
                <a:ext cx="442800" cy="196920"/>
                <a:chOff x="914040" y="4678200"/>
                <a:chExt cx="442800" cy="196920"/>
              </a:xfrm>
            </p:grpSpPr>
            <p:sp>
              <p:nvSpPr>
                <p:cNvPr id="2710" name=""/>
                <p:cNvSpPr/>
                <p:nvPr/>
              </p:nvSpPr>
              <p:spPr>
                <a:xfrm>
                  <a:off x="99432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1" name=""/>
                <p:cNvSpPr/>
                <p:nvPr/>
              </p:nvSpPr>
              <p:spPr>
                <a:xfrm>
                  <a:off x="914040" y="46782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2" name=""/>
              <p:cNvGrpSpPr/>
              <p:nvPr/>
            </p:nvGrpSpPr>
            <p:grpSpPr>
              <a:xfrm>
                <a:off x="1357560" y="4678200"/>
                <a:ext cx="443160" cy="196920"/>
                <a:chOff x="1357560" y="4678200"/>
                <a:chExt cx="443160" cy="196920"/>
              </a:xfrm>
            </p:grpSpPr>
            <p:sp>
              <p:nvSpPr>
                <p:cNvPr id="2713" name=""/>
                <p:cNvSpPr/>
                <p:nvPr/>
              </p:nvSpPr>
              <p:spPr>
                <a:xfrm>
                  <a:off x="143820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4" name=""/>
                <p:cNvSpPr/>
                <p:nvPr/>
              </p:nvSpPr>
              <p:spPr>
                <a:xfrm>
                  <a:off x="135756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5" name=""/>
              <p:cNvGrpSpPr/>
              <p:nvPr/>
            </p:nvGrpSpPr>
            <p:grpSpPr>
              <a:xfrm>
                <a:off x="1801080" y="4678200"/>
                <a:ext cx="443160" cy="196920"/>
                <a:chOff x="1801080" y="4678200"/>
                <a:chExt cx="443160" cy="196920"/>
              </a:xfrm>
            </p:grpSpPr>
            <p:sp>
              <p:nvSpPr>
                <p:cNvPr id="2716" name=""/>
                <p:cNvSpPr/>
                <p:nvPr/>
              </p:nvSpPr>
              <p:spPr>
                <a:xfrm>
                  <a:off x="188172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7" name=""/>
                <p:cNvSpPr/>
                <p:nvPr/>
              </p:nvSpPr>
              <p:spPr>
                <a:xfrm>
                  <a:off x="180108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18" name=""/>
              <p:cNvGrpSpPr/>
              <p:nvPr/>
            </p:nvGrpSpPr>
            <p:grpSpPr>
              <a:xfrm>
                <a:off x="2244960" y="4678200"/>
                <a:ext cx="442800" cy="196920"/>
                <a:chOff x="2244960" y="4678200"/>
                <a:chExt cx="442800" cy="196920"/>
              </a:xfrm>
            </p:grpSpPr>
            <p:sp>
              <p:nvSpPr>
                <p:cNvPr id="2719" name=""/>
                <p:cNvSpPr/>
                <p:nvPr/>
              </p:nvSpPr>
              <p:spPr>
                <a:xfrm>
                  <a:off x="232524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0" name=""/>
                <p:cNvSpPr/>
                <p:nvPr/>
              </p:nvSpPr>
              <p:spPr>
                <a:xfrm>
                  <a:off x="2244960" y="46782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1" name=""/>
              <p:cNvGrpSpPr/>
              <p:nvPr/>
            </p:nvGrpSpPr>
            <p:grpSpPr>
              <a:xfrm>
                <a:off x="2688120" y="4678200"/>
                <a:ext cx="443160" cy="196920"/>
                <a:chOff x="2688120" y="4678200"/>
                <a:chExt cx="443160" cy="196920"/>
              </a:xfrm>
            </p:grpSpPr>
            <p:sp>
              <p:nvSpPr>
                <p:cNvPr id="2722" name=""/>
                <p:cNvSpPr/>
                <p:nvPr/>
              </p:nvSpPr>
              <p:spPr>
                <a:xfrm>
                  <a:off x="276876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268812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3132000" y="4678200"/>
                <a:ext cx="443160" cy="196920"/>
                <a:chOff x="3132000" y="4678200"/>
                <a:chExt cx="443160" cy="196920"/>
              </a:xfrm>
            </p:grpSpPr>
            <p:sp>
              <p:nvSpPr>
                <p:cNvPr id="2725" name=""/>
                <p:cNvSpPr/>
                <p:nvPr/>
              </p:nvSpPr>
              <p:spPr>
                <a:xfrm>
                  <a:off x="321264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>
                  <a:off x="313200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7" name=""/>
              <p:cNvGrpSpPr/>
              <p:nvPr/>
            </p:nvGrpSpPr>
            <p:grpSpPr>
              <a:xfrm>
                <a:off x="3575520" y="4678200"/>
                <a:ext cx="443160" cy="196920"/>
                <a:chOff x="3575520" y="4678200"/>
                <a:chExt cx="443160" cy="196920"/>
              </a:xfrm>
            </p:grpSpPr>
            <p:sp>
              <p:nvSpPr>
                <p:cNvPr id="2728" name=""/>
                <p:cNvSpPr/>
                <p:nvPr/>
              </p:nvSpPr>
              <p:spPr>
                <a:xfrm>
                  <a:off x="365580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9" name=""/>
                <p:cNvSpPr/>
                <p:nvPr/>
              </p:nvSpPr>
              <p:spPr>
                <a:xfrm>
                  <a:off x="357552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0" name=""/>
              <p:cNvGrpSpPr/>
              <p:nvPr/>
            </p:nvGrpSpPr>
            <p:grpSpPr>
              <a:xfrm>
                <a:off x="4019400" y="4678200"/>
                <a:ext cx="442800" cy="196920"/>
                <a:chOff x="4019400" y="4678200"/>
                <a:chExt cx="442800" cy="196920"/>
              </a:xfrm>
            </p:grpSpPr>
            <p:sp>
              <p:nvSpPr>
                <p:cNvPr id="2731" name=""/>
                <p:cNvSpPr/>
                <p:nvPr/>
              </p:nvSpPr>
              <p:spPr>
                <a:xfrm>
                  <a:off x="409968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2" name=""/>
                <p:cNvSpPr/>
                <p:nvPr/>
              </p:nvSpPr>
              <p:spPr>
                <a:xfrm>
                  <a:off x="4019400" y="46782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3" name=""/>
              <p:cNvGrpSpPr/>
              <p:nvPr/>
            </p:nvGrpSpPr>
            <p:grpSpPr>
              <a:xfrm>
                <a:off x="4462560" y="4678200"/>
                <a:ext cx="443160" cy="196920"/>
                <a:chOff x="4462560" y="4678200"/>
                <a:chExt cx="443160" cy="196920"/>
              </a:xfrm>
            </p:grpSpPr>
            <p:sp>
              <p:nvSpPr>
                <p:cNvPr id="2734" name=""/>
                <p:cNvSpPr/>
                <p:nvPr/>
              </p:nvSpPr>
              <p:spPr>
                <a:xfrm>
                  <a:off x="454320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5" name=""/>
                <p:cNvSpPr/>
                <p:nvPr/>
              </p:nvSpPr>
              <p:spPr>
                <a:xfrm>
                  <a:off x="446256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6" name=""/>
              <p:cNvGrpSpPr/>
              <p:nvPr/>
            </p:nvGrpSpPr>
            <p:grpSpPr>
              <a:xfrm>
                <a:off x="4906440" y="4678200"/>
                <a:ext cx="443160" cy="196920"/>
                <a:chOff x="4906440" y="4678200"/>
                <a:chExt cx="443160" cy="196920"/>
              </a:xfrm>
            </p:grpSpPr>
            <p:sp>
              <p:nvSpPr>
                <p:cNvPr id="2737" name=""/>
                <p:cNvSpPr/>
                <p:nvPr/>
              </p:nvSpPr>
              <p:spPr>
                <a:xfrm>
                  <a:off x="498708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38" name=""/>
                <p:cNvSpPr/>
                <p:nvPr/>
              </p:nvSpPr>
              <p:spPr>
                <a:xfrm>
                  <a:off x="490644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9" name=""/>
              <p:cNvGrpSpPr/>
              <p:nvPr/>
            </p:nvGrpSpPr>
            <p:grpSpPr>
              <a:xfrm>
                <a:off x="5350320" y="4678200"/>
                <a:ext cx="442800" cy="196920"/>
                <a:chOff x="5350320" y="4678200"/>
                <a:chExt cx="442800" cy="196920"/>
              </a:xfrm>
            </p:grpSpPr>
            <p:sp>
              <p:nvSpPr>
                <p:cNvPr id="2740" name=""/>
                <p:cNvSpPr/>
                <p:nvPr/>
              </p:nvSpPr>
              <p:spPr>
                <a:xfrm>
                  <a:off x="543060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1" name=""/>
                <p:cNvSpPr/>
                <p:nvPr/>
              </p:nvSpPr>
              <p:spPr>
                <a:xfrm>
                  <a:off x="5350320" y="46782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2" name=""/>
              <p:cNvGrpSpPr/>
              <p:nvPr/>
            </p:nvGrpSpPr>
            <p:grpSpPr>
              <a:xfrm>
                <a:off x="5793480" y="4678200"/>
                <a:ext cx="443160" cy="196920"/>
                <a:chOff x="5793480" y="4678200"/>
                <a:chExt cx="443160" cy="196920"/>
              </a:xfrm>
            </p:grpSpPr>
            <p:sp>
              <p:nvSpPr>
                <p:cNvPr id="2743" name=""/>
                <p:cNvSpPr/>
                <p:nvPr/>
              </p:nvSpPr>
              <p:spPr>
                <a:xfrm>
                  <a:off x="587412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4" name=""/>
                <p:cNvSpPr/>
                <p:nvPr/>
              </p:nvSpPr>
              <p:spPr>
                <a:xfrm>
                  <a:off x="579348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5" name=""/>
              <p:cNvGrpSpPr/>
              <p:nvPr/>
            </p:nvGrpSpPr>
            <p:grpSpPr>
              <a:xfrm>
                <a:off x="6237360" y="4678200"/>
                <a:ext cx="443160" cy="196920"/>
                <a:chOff x="6237360" y="4678200"/>
                <a:chExt cx="443160" cy="196920"/>
              </a:xfrm>
            </p:grpSpPr>
            <p:sp>
              <p:nvSpPr>
                <p:cNvPr id="2746" name=""/>
                <p:cNvSpPr/>
                <p:nvPr/>
              </p:nvSpPr>
              <p:spPr>
                <a:xfrm>
                  <a:off x="631800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7" name=""/>
                <p:cNvSpPr/>
                <p:nvPr/>
              </p:nvSpPr>
              <p:spPr>
                <a:xfrm>
                  <a:off x="623736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48" name=""/>
              <p:cNvGrpSpPr/>
              <p:nvPr/>
            </p:nvGrpSpPr>
            <p:grpSpPr>
              <a:xfrm>
                <a:off x="6680880" y="4678200"/>
                <a:ext cx="442800" cy="196920"/>
                <a:chOff x="6680880" y="4678200"/>
                <a:chExt cx="442800" cy="196920"/>
              </a:xfrm>
            </p:grpSpPr>
            <p:sp>
              <p:nvSpPr>
                <p:cNvPr id="2749" name=""/>
                <p:cNvSpPr/>
                <p:nvPr/>
              </p:nvSpPr>
              <p:spPr>
                <a:xfrm>
                  <a:off x="6761160" y="467820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0" name=""/>
                <p:cNvSpPr/>
                <p:nvPr/>
              </p:nvSpPr>
              <p:spPr>
                <a:xfrm>
                  <a:off x="6680880" y="467820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1" name=""/>
              <p:cNvGrpSpPr/>
              <p:nvPr/>
            </p:nvGrpSpPr>
            <p:grpSpPr>
              <a:xfrm>
                <a:off x="7124400" y="4678200"/>
                <a:ext cx="443160" cy="196920"/>
                <a:chOff x="7124400" y="4678200"/>
                <a:chExt cx="443160" cy="196920"/>
              </a:xfrm>
            </p:grpSpPr>
            <p:sp>
              <p:nvSpPr>
                <p:cNvPr id="2752" name=""/>
                <p:cNvSpPr/>
                <p:nvPr/>
              </p:nvSpPr>
              <p:spPr>
                <a:xfrm>
                  <a:off x="7205040" y="467820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3" name=""/>
                <p:cNvSpPr/>
                <p:nvPr/>
              </p:nvSpPr>
              <p:spPr>
                <a:xfrm>
                  <a:off x="7124400" y="467820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4" name=""/>
              <p:cNvGrpSpPr/>
              <p:nvPr/>
            </p:nvGrpSpPr>
            <p:grpSpPr>
              <a:xfrm>
                <a:off x="470520" y="4875120"/>
                <a:ext cx="443160" cy="196560"/>
                <a:chOff x="470520" y="4875120"/>
                <a:chExt cx="443160" cy="196560"/>
              </a:xfrm>
            </p:grpSpPr>
            <p:sp>
              <p:nvSpPr>
                <p:cNvPr id="2755" name=""/>
                <p:cNvSpPr/>
                <p:nvPr/>
              </p:nvSpPr>
              <p:spPr>
                <a:xfrm>
                  <a:off x="55116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6" name=""/>
                <p:cNvSpPr/>
                <p:nvPr/>
              </p:nvSpPr>
              <p:spPr>
                <a:xfrm>
                  <a:off x="47052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7" name=""/>
              <p:cNvGrpSpPr/>
              <p:nvPr/>
            </p:nvGrpSpPr>
            <p:grpSpPr>
              <a:xfrm>
                <a:off x="914040" y="4875120"/>
                <a:ext cx="442800" cy="196560"/>
                <a:chOff x="914040" y="4875120"/>
                <a:chExt cx="442800" cy="196560"/>
              </a:xfrm>
            </p:grpSpPr>
            <p:sp>
              <p:nvSpPr>
                <p:cNvPr id="2758" name=""/>
                <p:cNvSpPr/>
                <p:nvPr/>
              </p:nvSpPr>
              <p:spPr>
                <a:xfrm>
                  <a:off x="99432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9" name=""/>
                <p:cNvSpPr/>
                <p:nvPr/>
              </p:nvSpPr>
              <p:spPr>
                <a:xfrm>
                  <a:off x="914040" y="4875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0" name=""/>
              <p:cNvGrpSpPr/>
              <p:nvPr/>
            </p:nvGrpSpPr>
            <p:grpSpPr>
              <a:xfrm>
                <a:off x="1357560" y="4875120"/>
                <a:ext cx="443160" cy="196560"/>
                <a:chOff x="1357560" y="4875120"/>
                <a:chExt cx="443160" cy="196560"/>
              </a:xfrm>
            </p:grpSpPr>
            <p:sp>
              <p:nvSpPr>
                <p:cNvPr id="2761" name=""/>
                <p:cNvSpPr/>
                <p:nvPr/>
              </p:nvSpPr>
              <p:spPr>
                <a:xfrm>
                  <a:off x="143820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2" name=""/>
                <p:cNvSpPr/>
                <p:nvPr/>
              </p:nvSpPr>
              <p:spPr>
                <a:xfrm>
                  <a:off x="135756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3" name=""/>
              <p:cNvGrpSpPr/>
              <p:nvPr/>
            </p:nvGrpSpPr>
            <p:grpSpPr>
              <a:xfrm>
                <a:off x="1801080" y="4875120"/>
                <a:ext cx="443160" cy="196560"/>
                <a:chOff x="1801080" y="4875120"/>
                <a:chExt cx="443160" cy="196560"/>
              </a:xfrm>
            </p:grpSpPr>
            <p:sp>
              <p:nvSpPr>
                <p:cNvPr id="2764" name=""/>
                <p:cNvSpPr/>
                <p:nvPr/>
              </p:nvSpPr>
              <p:spPr>
                <a:xfrm>
                  <a:off x="188172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5" name=""/>
                <p:cNvSpPr/>
                <p:nvPr/>
              </p:nvSpPr>
              <p:spPr>
                <a:xfrm>
                  <a:off x="180108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6" name=""/>
              <p:cNvGrpSpPr/>
              <p:nvPr/>
            </p:nvGrpSpPr>
            <p:grpSpPr>
              <a:xfrm>
                <a:off x="2244960" y="4875120"/>
                <a:ext cx="442800" cy="196560"/>
                <a:chOff x="2244960" y="4875120"/>
                <a:chExt cx="442800" cy="196560"/>
              </a:xfrm>
            </p:grpSpPr>
            <p:sp>
              <p:nvSpPr>
                <p:cNvPr id="2767" name=""/>
                <p:cNvSpPr/>
                <p:nvPr/>
              </p:nvSpPr>
              <p:spPr>
                <a:xfrm>
                  <a:off x="232524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68" name=""/>
                <p:cNvSpPr/>
                <p:nvPr/>
              </p:nvSpPr>
              <p:spPr>
                <a:xfrm>
                  <a:off x="2244960" y="4875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9" name=""/>
              <p:cNvGrpSpPr/>
              <p:nvPr/>
            </p:nvGrpSpPr>
            <p:grpSpPr>
              <a:xfrm>
                <a:off x="2688120" y="4875120"/>
                <a:ext cx="443160" cy="196560"/>
                <a:chOff x="2688120" y="4875120"/>
                <a:chExt cx="443160" cy="196560"/>
              </a:xfrm>
            </p:grpSpPr>
            <p:sp>
              <p:nvSpPr>
                <p:cNvPr id="2770" name=""/>
                <p:cNvSpPr/>
                <p:nvPr/>
              </p:nvSpPr>
              <p:spPr>
                <a:xfrm>
                  <a:off x="276876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1" name=""/>
                <p:cNvSpPr/>
                <p:nvPr/>
              </p:nvSpPr>
              <p:spPr>
                <a:xfrm>
                  <a:off x="268812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2" name=""/>
              <p:cNvGrpSpPr/>
              <p:nvPr/>
            </p:nvGrpSpPr>
            <p:grpSpPr>
              <a:xfrm>
                <a:off x="3132000" y="4875120"/>
                <a:ext cx="443160" cy="196560"/>
                <a:chOff x="3132000" y="4875120"/>
                <a:chExt cx="443160" cy="196560"/>
              </a:xfrm>
            </p:grpSpPr>
            <p:sp>
              <p:nvSpPr>
                <p:cNvPr id="2773" name=""/>
                <p:cNvSpPr/>
                <p:nvPr/>
              </p:nvSpPr>
              <p:spPr>
                <a:xfrm>
                  <a:off x="321264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4" name=""/>
                <p:cNvSpPr/>
                <p:nvPr/>
              </p:nvSpPr>
              <p:spPr>
                <a:xfrm>
                  <a:off x="313200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5" name=""/>
              <p:cNvGrpSpPr/>
              <p:nvPr/>
            </p:nvGrpSpPr>
            <p:grpSpPr>
              <a:xfrm>
                <a:off x="3575520" y="4875120"/>
                <a:ext cx="443160" cy="196560"/>
                <a:chOff x="3575520" y="4875120"/>
                <a:chExt cx="443160" cy="196560"/>
              </a:xfrm>
            </p:grpSpPr>
            <p:sp>
              <p:nvSpPr>
                <p:cNvPr id="2776" name=""/>
                <p:cNvSpPr/>
                <p:nvPr/>
              </p:nvSpPr>
              <p:spPr>
                <a:xfrm>
                  <a:off x="365580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7" name=""/>
                <p:cNvSpPr/>
                <p:nvPr/>
              </p:nvSpPr>
              <p:spPr>
                <a:xfrm>
                  <a:off x="357552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78" name=""/>
              <p:cNvGrpSpPr/>
              <p:nvPr/>
            </p:nvGrpSpPr>
            <p:grpSpPr>
              <a:xfrm>
                <a:off x="4019400" y="4875120"/>
                <a:ext cx="442800" cy="196560"/>
                <a:chOff x="4019400" y="4875120"/>
                <a:chExt cx="442800" cy="196560"/>
              </a:xfrm>
            </p:grpSpPr>
            <p:sp>
              <p:nvSpPr>
                <p:cNvPr id="2779" name=""/>
                <p:cNvSpPr/>
                <p:nvPr/>
              </p:nvSpPr>
              <p:spPr>
                <a:xfrm>
                  <a:off x="409968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0" name=""/>
                <p:cNvSpPr/>
                <p:nvPr/>
              </p:nvSpPr>
              <p:spPr>
                <a:xfrm>
                  <a:off x="4019400" y="4875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1" name=""/>
              <p:cNvGrpSpPr/>
              <p:nvPr/>
            </p:nvGrpSpPr>
            <p:grpSpPr>
              <a:xfrm>
                <a:off x="4462560" y="4875120"/>
                <a:ext cx="443160" cy="196560"/>
                <a:chOff x="4462560" y="4875120"/>
                <a:chExt cx="443160" cy="196560"/>
              </a:xfrm>
            </p:grpSpPr>
            <p:sp>
              <p:nvSpPr>
                <p:cNvPr id="2782" name=""/>
                <p:cNvSpPr/>
                <p:nvPr/>
              </p:nvSpPr>
              <p:spPr>
                <a:xfrm>
                  <a:off x="454320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3" name=""/>
                <p:cNvSpPr/>
                <p:nvPr/>
              </p:nvSpPr>
              <p:spPr>
                <a:xfrm>
                  <a:off x="446256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4" name=""/>
              <p:cNvGrpSpPr/>
              <p:nvPr/>
            </p:nvGrpSpPr>
            <p:grpSpPr>
              <a:xfrm>
                <a:off x="4906440" y="4875120"/>
                <a:ext cx="443160" cy="196560"/>
                <a:chOff x="4906440" y="4875120"/>
                <a:chExt cx="443160" cy="196560"/>
              </a:xfrm>
            </p:grpSpPr>
            <p:sp>
              <p:nvSpPr>
                <p:cNvPr id="2785" name=""/>
                <p:cNvSpPr/>
                <p:nvPr/>
              </p:nvSpPr>
              <p:spPr>
                <a:xfrm>
                  <a:off x="498708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6" name=""/>
                <p:cNvSpPr/>
                <p:nvPr/>
              </p:nvSpPr>
              <p:spPr>
                <a:xfrm>
                  <a:off x="490644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7" name=""/>
              <p:cNvGrpSpPr/>
              <p:nvPr/>
            </p:nvGrpSpPr>
            <p:grpSpPr>
              <a:xfrm>
                <a:off x="5350320" y="4875120"/>
                <a:ext cx="442800" cy="196560"/>
                <a:chOff x="5350320" y="4875120"/>
                <a:chExt cx="442800" cy="196560"/>
              </a:xfrm>
            </p:grpSpPr>
            <p:sp>
              <p:nvSpPr>
                <p:cNvPr id="2788" name=""/>
                <p:cNvSpPr/>
                <p:nvPr/>
              </p:nvSpPr>
              <p:spPr>
                <a:xfrm>
                  <a:off x="543060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9" name=""/>
                <p:cNvSpPr/>
                <p:nvPr/>
              </p:nvSpPr>
              <p:spPr>
                <a:xfrm>
                  <a:off x="5350320" y="4875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0" name=""/>
              <p:cNvGrpSpPr/>
              <p:nvPr/>
            </p:nvGrpSpPr>
            <p:grpSpPr>
              <a:xfrm>
                <a:off x="5793480" y="4875120"/>
                <a:ext cx="443160" cy="196560"/>
                <a:chOff x="5793480" y="4875120"/>
                <a:chExt cx="443160" cy="196560"/>
              </a:xfrm>
            </p:grpSpPr>
            <p:sp>
              <p:nvSpPr>
                <p:cNvPr id="2791" name=""/>
                <p:cNvSpPr/>
                <p:nvPr/>
              </p:nvSpPr>
              <p:spPr>
                <a:xfrm>
                  <a:off x="587412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2" name=""/>
                <p:cNvSpPr/>
                <p:nvPr/>
              </p:nvSpPr>
              <p:spPr>
                <a:xfrm>
                  <a:off x="579348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3" name=""/>
              <p:cNvGrpSpPr/>
              <p:nvPr/>
            </p:nvGrpSpPr>
            <p:grpSpPr>
              <a:xfrm>
                <a:off x="6237360" y="4875120"/>
                <a:ext cx="443160" cy="196560"/>
                <a:chOff x="6237360" y="4875120"/>
                <a:chExt cx="443160" cy="196560"/>
              </a:xfrm>
            </p:grpSpPr>
            <p:sp>
              <p:nvSpPr>
                <p:cNvPr id="2794" name=""/>
                <p:cNvSpPr/>
                <p:nvPr/>
              </p:nvSpPr>
              <p:spPr>
                <a:xfrm>
                  <a:off x="631800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5" name=""/>
                <p:cNvSpPr/>
                <p:nvPr/>
              </p:nvSpPr>
              <p:spPr>
                <a:xfrm>
                  <a:off x="623736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6" name=""/>
              <p:cNvGrpSpPr/>
              <p:nvPr/>
            </p:nvGrpSpPr>
            <p:grpSpPr>
              <a:xfrm>
                <a:off x="6680880" y="4875120"/>
                <a:ext cx="442800" cy="196560"/>
                <a:chOff x="6680880" y="4875120"/>
                <a:chExt cx="442800" cy="196560"/>
              </a:xfrm>
            </p:grpSpPr>
            <p:sp>
              <p:nvSpPr>
                <p:cNvPr id="2797" name=""/>
                <p:cNvSpPr/>
                <p:nvPr/>
              </p:nvSpPr>
              <p:spPr>
                <a:xfrm>
                  <a:off x="6761160" y="487512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8" name=""/>
                <p:cNvSpPr/>
                <p:nvPr/>
              </p:nvSpPr>
              <p:spPr>
                <a:xfrm>
                  <a:off x="6680880" y="487512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9" name=""/>
              <p:cNvGrpSpPr/>
              <p:nvPr/>
            </p:nvGrpSpPr>
            <p:grpSpPr>
              <a:xfrm>
                <a:off x="7124400" y="4875120"/>
                <a:ext cx="443160" cy="196560"/>
                <a:chOff x="7124400" y="4875120"/>
                <a:chExt cx="443160" cy="196560"/>
              </a:xfrm>
            </p:grpSpPr>
            <p:sp>
              <p:nvSpPr>
                <p:cNvPr id="2800" name=""/>
                <p:cNvSpPr/>
                <p:nvPr/>
              </p:nvSpPr>
              <p:spPr>
                <a:xfrm>
                  <a:off x="7205040" y="487512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1" name=""/>
                <p:cNvSpPr/>
                <p:nvPr/>
              </p:nvSpPr>
              <p:spPr>
                <a:xfrm>
                  <a:off x="7124400" y="487512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2" name=""/>
              <p:cNvGrpSpPr/>
              <p:nvPr/>
            </p:nvGrpSpPr>
            <p:grpSpPr>
              <a:xfrm>
                <a:off x="470520" y="5072040"/>
                <a:ext cx="443160" cy="196920"/>
                <a:chOff x="470520" y="5072040"/>
                <a:chExt cx="443160" cy="196920"/>
              </a:xfrm>
            </p:grpSpPr>
            <p:sp>
              <p:nvSpPr>
                <p:cNvPr id="2803" name=""/>
                <p:cNvSpPr/>
                <p:nvPr/>
              </p:nvSpPr>
              <p:spPr>
                <a:xfrm>
                  <a:off x="55116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4" name=""/>
                <p:cNvSpPr/>
                <p:nvPr/>
              </p:nvSpPr>
              <p:spPr>
                <a:xfrm>
                  <a:off x="47052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5" name=""/>
              <p:cNvGrpSpPr/>
              <p:nvPr/>
            </p:nvGrpSpPr>
            <p:grpSpPr>
              <a:xfrm>
                <a:off x="914040" y="5072040"/>
                <a:ext cx="442800" cy="196920"/>
                <a:chOff x="914040" y="5072040"/>
                <a:chExt cx="442800" cy="196920"/>
              </a:xfrm>
            </p:grpSpPr>
            <p:sp>
              <p:nvSpPr>
                <p:cNvPr id="2806" name=""/>
                <p:cNvSpPr/>
                <p:nvPr/>
              </p:nvSpPr>
              <p:spPr>
                <a:xfrm>
                  <a:off x="99432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7" name=""/>
                <p:cNvSpPr/>
                <p:nvPr/>
              </p:nvSpPr>
              <p:spPr>
                <a:xfrm>
                  <a:off x="914040" y="5072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8" name=""/>
              <p:cNvGrpSpPr/>
              <p:nvPr/>
            </p:nvGrpSpPr>
            <p:grpSpPr>
              <a:xfrm>
                <a:off x="1357560" y="5072040"/>
                <a:ext cx="443160" cy="196920"/>
                <a:chOff x="1357560" y="5072040"/>
                <a:chExt cx="443160" cy="196920"/>
              </a:xfrm>
            </p:grpSpPr>
            <p:sp>
              <p:nvSpPr>
                <p:cNvPr id="2809" name=""/>
                <p:cNvSpPr/>
                <p:nvPr/>
              </p:nvSpPr>
              <p:spPr>
                <a:xfrm>
                  <a:off x="143820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0" name=""/>
                <p:cNvSpPr/>
                <p:nvPr/>
              </p:nvSpPr>
              <p:spPr>
                <a:xfrm>
                  <a:off x="135756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1" name=""/>
              <p:cNvGrpSpPr/>
              <p:nvPr/>
            </p:nvGrpSpPr>
            <p:grpSpPr>
              <a:xfrm>
                <a:off x="1801080" y="5072040"/>
                <a:ext cx="443160" cy="196920"/>
                <a:chOff x="1801080" y="5072040"/>
                <a:chExt cx="443160" cy="196920"/>
              </a:xfrm>
            </p:grpSpPr>
            <p:sp>
              <p:nvSpPr>
                <p:cNvPr id="2812" name=""/>
                <p:cNvSpPr/>
                <p:nvPr/>
              </p:nvSpPr>
              <p:spPr>
                <a:xfrm>
                  <a:off x="188172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3" name=""/>
                <p:cNvSpPr/>
                <p:nvPr/>
              </p:nvSpPr>
              <p:spPr>
                <a:xfrm>
                  <a:off x="180108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4" name=""/>
              <p:cNvGrpSpPr/>
              <p:nvPr/>
            </p:nvGrpSpPr>
            <p:grpSpPr>
              <a:xfrm>
                <a:off x="2244960" y="5072040"/>
                <a:ext cx="442800" cy="196920"/>
                <a:chOff x="2244960" y="5072040"/>
                <a:chExt cx="442800" cy="196920"/>
              </a:xfrm>
            </p:grpSpPr>
            <p:sp>
              <p:nvSpPr>
                <p:cNvPr id="2815" name=""/>
                <p:cNvSpPr/>
                <p:nvPr/>
              </p:nvSpPr>
              <p:spPr>
                <a:xfrm>
                  <a:off x="232524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6" name=""/>
                <p:cNvSpPr/>
                <p:nvPr/>
              </p:nvSpPr>
              <p:spPr>
                <a:xfrm>
                  <a:off x="2244960" y="5072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7" name=""/>
              <p:cNvGrpSpPr/>
              <p:nvPr/>
            </p:nvGrpSpPr>
            <p:grpSpPr>
              <a:xfrm>
                <a:off x="2688120" y="5072040"/>
                <a:ext cx="443160" cy="196920"/>
                <a:chOff x="2688120" y="5072040"/>
                <a:chExt cx="443160" cy="196920"/>
              </a:xfrm>
            </p:grpSpPr>
            <p:sp>
              <p:nvSpPr>
                <p:cNvPr id="2818" name=""/>
                <p:cNvSpPr/>
                <p:nvPr/>
              </p:nvSpPr>
              <p:spPr>
                <a:xfrm>
                  <a:off x="276876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9" name=""/>
                <p:cNvSpPr/>
                <p:nvPr/>
              </p:nvSpPr>
              <p:spPr>
                <a:xfrm>
                  <a:off x="268812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0" name=""/>
              <p:cNvGrpSpPr/>
              <p:nvPr/>
            </p:nvGrpSpPr>
            <p:grpSpPr>
              <a:xfrm>
                <a:off x="3132000" y="5072040"/>
                <a:ext cx="443160" cy="196920"/>
                <a:chOff x="3132000" y="5072040"/>
                <a:chExt cx="443160" cy="196920"/>
              </a:xfrm>
            </p:grpSpPr>
            <p:sp>
              <p:nvSpPr>
                <p:cNvPr id="2821" name=""/>
                <p:cNvSpPr/>
                <p:nvPr/>
              </p:nvSpPr>
              <p:spPr>
                <a:xfrm>
                  <a:off x="321264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2" name=""/>
                <p:cNvSpPr/>
                <p:nvPr/>
              </p:nvSpPr>
              <p:spPr>
                <a:xfrm>
                  <a:off x="313200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3" name=""/>
              <p:cNvGrpSpPr/>
              <p:nvPr/>
            </p:nvGrpSpPr>
            <p:grpSpPr>
              <a:xfrm>
                <a:off x="3575520" y="5072040"/>
                <a:ext cx="443160" cy="196920"/>
                <a:chOff x="3575520" y="5072040"/>
                <a:chExt cx="443160" cy="196920"/>
              </a:xfrm>
            </p:grpSpPr>
            <p:sp>
              <p:nvSpPr>
                <p:cNvPr id="2824" name=""/>
                <p:cNvSpPr/>
                <p:nvPr/>
              </p:nvSpPr>
              <p:spPr>
                <a:xfrm>
                  <a:off x="365580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5" name=""/>
                <p:cNvSpPr/>
                <p:nvPr/>
              </p:nvSpPr>
              <p:spPr>
                <a:xfrm>
                  <a:off x="357552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6" name=""/>
              <p:cNvGrpSpPr/>
              <p:nvPr/>
            </p:nvGrpSpPr>
            <p:grpSpPr>
              <a:xfrm>
                <a:off x="4019400" y="5072040"/>
                <a:ext cx="442800" cy="196920"/>
                <a:chOff x="4019400" y="5072040"/>
                <a:chExt cx="442800" cy="196920"/>
              </a:xfrm>
            </p:grpSpPr>
            <p:sp>
              <p:nvSpPr>
                <p:cNvPr id="2827" name=""/>
                <p:cNvSpPr/>
                <p:nvPr/>
              </p:nvSpPr>
              <p:spPr>
                <a:xfrm>
                  <a:off x="409968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8" name=""/>
                <p:cNvSpPr/>
                <p:nvPr/>
              </p:nvSpPr>
              <p:spPr>
                <a:xfrm>
                  <a:off x="4019400" y="5072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9" name=""/>
              <p:cNvGrpSpPr/>
              <p:nvPr/>
            </p:nvGrpSpPr>
            <p:grpSpPr>
              <a:xfrm>
                <a:off x="4462560" y="5072040"/>
                <a:ext cx="443160" cy="196920"/>
                <a:chOff x="4462560" y="5072040"/>
                <a:chExt cx="443160" cy="196920"/>
              </a:xfrm>
            </p:grpSpPr>
            <p:sp>
              <p:nvSpPr>
                <p:cNvPr id="2830" name=""/>
                <p:cNvSpPr/>
                <p:nvPr/>
              </p:nvSpPr>
              <p:spPr>
                <a:xfrm>
                  <a:off x="454320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1" name=""/>
                <p:cNvSpPr/>
                <p:nvPr/>
              </p:nvSpPr>
              <p:spPr>
                <a:xfrm>
                  <a:off x="446256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2" name=""/>
              <p:cNvGrpSpPr/>
              <p:nvPr/>
            </p:nvGrpSpPr>
            <p:grpSpPr>
              <a:xfrm>
                <a:off x="4906440" y="5072040"/>
                <a:ext cx="443160" cy="196920"/>
                <a:chOff x="4906440" y="5072040"/>
                <a:chExt cx="443160" cy="196920"/>
              </a:xfrm>
            </p:grpSpPr>
            <p:sp>
              <p:nvSpPr>
                <p:cNvPr id="2833" name=""/>
                <p:cNvSpPr/>
                <p:nvPr/>
              </p:nvSpPr>
              <p:spPr>
                <a:xfrm>
                  <a:off x="498708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4" name=""/>
                <p:cNvSpPr/>
                <p:nvPr/>
              </p:nvSpPr>
              <p:spPr>
                <a:xfrm>
                  <a:off x="490644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5" name=""/>
              <p:cNvGrpSpPr/>
              <p:nvPr/>
            </p:nvGrpSpPr>
            <p:grpSpPr>
              <a:xfrm>
                <a:off x="5350320" y="5072040"/>
                <a:ext cx="442800" cy="196920"/>
                <a:chOff x="5350320" y="5072040"/>
                <a:chExt cx="442800" cy="196920"/>
              </a:xfrm>
            </p:grpSpPr>
            <p:sp>
              <p:nvSpPr>
                <p:cNvPr id="2836" name=""/>
                <p:cNvSpPr/>
                <p:nvPr/>
              </p:nvSpPr>
              <p:spPr>
                <a:xfrm>
                  <a:off x="543060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7" name=""/>
                <p:cNvSpPr/>
                <p:nvPr/>
              </p:nvSpPr>
              <p:spPr>
                <a:xfrm>
                  <a:off x="5350320" y="5072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8" name=""/>
              <p:cNvGrpSpPr/>
              <p:nvPr/>
            </p:nvGrpSpPr>
            <p:grpSpPr>
              <a:xfrm>
                <a:off x="5793480" y="5072040"/>
                <a:ext cx="443160" cy="196920"/>
                <a:chOff x="5793480" y="5072040"/>
                <a:chExt cx="443160" cy="196920"/>
              </a:xfrm>
            </p:grpSpPr>
            <p:sp>
              <p:nvSpPr>
                <p:cNvPr id="2839" name=""/>
                <p:cNvSpPr/>
                <p:nvPr/>
              </p:nvSpPr>
              <p:spPr>
                <a:xfrm>
                  <a:off x="587412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0" name=""/>
                <p:cNvSpPr/>
                <p:nvPr/>
              </p:nvSpPr>
              <p:spPr>
                <a:xfrm>
                  <a:off x="579348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1" name=""/>
              <p:cNvGrpSpPr/>
              <p:nvPr/>
            </p:nvGrpSpPr>
            <p:grpSpPr>
              <a:xfrm>
                <a:off x="6237360" y="5072040"/>
                <a:ext cx="443160" cy="196920"/>
                <a:chOff x="6237360" y="5072040"/>
                <a:chExt cx="443160" cy="196920"/>
              </a:xfrm>
            </p:grpSpPr>
            <p:sp>
              <p:nvSpPr>
                <p:cNvPr id="2842" name=""/>
                <p:cNvSpPr/>
                <p:nvPr/>
              </p:nvSpPr>
              <p:spPr>
                <a:xfrm>
                  <a:off x="631800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3" name=""/>
                <p:cNvSpPr/>
                <p:nvPr/>
              </p:nvSpPr>
              <p:spPr>
                <a:xfrm>
                  <a:off x="623736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4" name=""/>
              <p:cNvGrpSpPr/>
              <p:nvPr/>
            </p:nvGrpSpPr>
            <p:grpSpPr>
              <a:xfrm>
                <a:off x="6680880" y="5072040"/>
                <a:ext cx="442800" cy="196920"/>
                <a:chOff x="6680880" y="5072040"/>
                <a:chExt cx="442800" cy="196920"/>
              </a:xfrm>
            </p:grpSpPr>
            <p:sp>
              <p:nvSpPr>
                <p:cNvPr id="2845" name=""/>
                <p:cNvSpPr/>
                <p:nvPr/>
              </p:nvSpPr>
              <p:spPr>
                <a:xfrm>
                  <a:off x="6761160" y="507204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6" name=""/>
                <p:cNvSpPr/>
                <p:nvPr/>
              </p:nvSpPr>
              <p:spPr>
                <a:xfrm>
                  <a:off x="6680880" y="507204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7" name=""/>
              <p:cNvGrpSpPr/>
              <p:nvPr/>
            </p:nvGrpSpPr>
            <p:grpSpPr>
              <a:xfrm>
                <a:off x="7124400" y="5072040"/>
                <a:ext cx="443160" cy="196920"/>
                <a:chOff x="7124400" y="5072040"/>
                <a:chExt cx="443160" cy="196920"/>
              </a:xfrm>
            </p:grpSpPr>
            <p:sp>
              <p:nvSpPr>
                <p:cNvPr id="2848" name=""/>
                <p:cNvSpPr/>
                <p:nvPr/>
              </p:nvSpPr>
              <p:spPr>
                <a:xfrm>
                  <a:off x="7205040" y="507204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7124400" y="507204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0" name=""/>
              <p:cNvGrpSpPr/>
              <p:nvPr/>
            </p:nvGrpSpPr>
            <p:grpSpPr>
              <a:xfrm>
                <a:off x="470520" y="5268960"/>
                <a:ext cx="443160" cy="196560"/>
                <a:chOff x="470520" y="5268960"/>
                <a:chExt cx="443160" cy="196560"/>
              </a:xfrm>
            </p:grpSpPr>
            <p:sp>
              <p:nvSpPr>
                <p:cNvPr id="2851" name=""/>
                <p:cNvSpPr/>
                <p:nvPr/>
              </p:nvSpPr>
              <p:spPr>
                <a:xfrm>
                  <a:off x="55116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2" name=""/>
                <p:cNvSpPr/>
                <p:nvPr/>
              </p:nvSpPr>
              <p:spPr>
                <a:xfrm>
                  <a:off x="47052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3" name=""/>
              <p:cNvGrpSpPr/>
              <p:nvPr/>
            </p:nvGrpSpPr>
            <p:grpSpPr>
              <a:xfrm>
                <a:off x="914040" y="5268960"/>
                <a:ext cx="442800" cy="196560"/>
                <a:chOff x="914040" y="5268960"/>
                <a:chExt cx="442800" cy="196560"/>
              </a:xfrm>
            </p:grpSpPr>
            <p:sp>
              <p:nvSpPr>
                <p:cNvPr id="2854" name=""/>
                <p:cNvSpPr/>
                <p:nvPr/>
              </p:nvSpPr>
              <p:spPr>
                <a:xfrm>
                  <a:off x="99432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5" name=""/>
                <p:cNvSpPr/>
                <p:nvPr/>
              </p:nvSpPr>
              <p:spPr>
                <a:xfrm>
                  <a:off x="914040" y="5268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6" name=""/>
              <p:cNvGrpSpPr/>
              <p:nvPr/>
            </p:nvGrpSpPr>
            <p:grpSpPr>
              <a:xfrm>
                <a:off x="1357560" y="5268960"/>
                <a:ext cx="443160" cy="196560"/>
                <a:chOff x="1357560" y="5268960"/>
                <a:chExt cx="443160" cy="196560"/>
              </a:xfrm>
            </p:grpSpPr>
            <p:sp>
              <p:nvSpPr>
                <p:cNvPr id="2857" name=""/>
                <p:cNvSpPr/>
                <p:nvPr/>
              </p:nvSpPr>
              <p:spPr>
                <a:xfrm>
                  <a:off x="143820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8" name=""/>
                <p:cNvSpPr/>
                <p:nvPr/>
              </p:nvSpPr>
              <p:spPr>
                <a:xfrm>
                  <a:off x="135756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9" name=""/>
              <p:cNvGrpSpPr/>
              <p:nvPr/>
            </p:nvGrpSpPr>
            <p:grpSpPr>
              <a:xfrm>
                <a:off x="1801080" y="5268960"/>
                <a:ext cx="443160" cy="196560"/>
                <a:chOff x="1801080" y="5268960"/>
                <a:chExt cx="443160" cy="196560"/>
              </a:xfrm>
            </p:grpSpPr>
            <p:sp>
              <p:nvSpPr>
                <p:cNvPr id="2860" name=""/>
                <p:cNvSpPr/>
                <p:nvPr/>
              </p:nvSpPr>
              <p:spPr>
                <a:xfrm>
                  <a:off x="188172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1" name=""/>
                <p:cNvSpPr/>
                <p:nvPr/>
              </p:nvSpPr>
              <p:spPr>
                <a:xfrm>
                  <a:off x="180108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2" name=""/>
              <p:cNvGrpSpPr/>
              <p:nvPr/>
            </p:nvGrpSpPr>
            <p:grpSpPr>
              <a:xfrm>
                <a:off x="2244960" y="5268960"/>
                <a:ext cx="442800" cy="196560"/>
                <a:chOff x="2244960" y="5268960"/>
                <a:chExt cx="442800" cy="196560"/>
              </a:xfrm>
            </p:grpSpPr>
            <p:sp>
              <p:nvSpPr>
                <p:cNvPr id="2863" name=""/>
                <p:cNvSpPr/>
                <p:nvPr/>
              </p:nvSpPr>
              <p:spPr>
                <a:xfrm>
                  <a:off x="232524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4" name=""/>
                <p:cNvSpPr/>
                <p:nvPr/>
              </p:nvSpPr>
              <p:spPr>
                <a:xfrm>
                  <a:off x="2244960" y="5268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5" name=""/>
              <p:cNvGrpSpPr/>
              <p:nvPr/>
            </p:nvGrpSpPr>
            <p:grpSpPr>
              <a:xfrm>
                <a:off x="2688120" y="5268960"/>
                <a:ext cx="443160" cy="196560"/>
                <a:chOff x="2688120" y="5268960"/>
                <a:chExt cx="443160" cy="196560"/>
              </a:xfrm>
            </p:grpSpPr>
            <p:sp>
              <p:nvSpPr>
                <p:cNvPr id="2866" name=""/>
                <p:cNvSpPr/>
                <p:nvPr/>
              </p:nvSpPr>
              <p:spPr>
                <a:xfrm>
                  <a:off x="276876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7" name=""/>
                <p:cNvSpPr/>
                <p:nvPr/>
              </p:nvSpPr>
              <p:spPr>
                <a:xfrm>
                  <a:off x="268812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8" name=""/>
              <p:cNvGrpSpPr/>
              <p:nvPr/>
            </p:nvGrpSpPr>
            <p:grpSpPr>
              <a:xfrm>
                <a:off x="3132000" y="5268960"/>
                <a:ext cx="443160" cy="196560"/>
                <a:chOff x="3132000" y="5268960"/>
                <a:chExt cx="443160" cy="196560"/>
              </a:xfrm>
            </p:grpSpPr>
            <p:sp>
              <p:nvSpPr>
                <p:cNvPr id="2869" name=""/>
                <p:cNvSpPr/>
                <p:nvPr/>
              </p:nvSpPr>
              <p:spPr>
                <a:xfrm>
                  <a:off x="321264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313200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3575520" y="5268960"/>
                <a:ext cx="443160" cy="196560"/>
                <a:chOff x="3575520" y="5268960"/>
                <a:chExt cx="443160" cy="19656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365580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357552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4" name=""/>
              <p:cNvGrpSpPr/>
              <p:nvPr/>
            </p:nvGrpSpPr>
            <p:grpSpPr>
              <a:xfrm>
                <a:off x="4019400" y="5268960"/>
                <a:ext cx="442800" cy="196560"/>
                <a:chOff x="4019400" y="5268960"/>
                <a:chExt cx="442800" cy="196560"/>
              </a:xfrm>
            </p:grpSpPr>
            <p:sp>
              <p:nvSpPr>
                <p:cNvPr id="2875" name=""/>
                <p:cNvSpPr/>
                <p:nvPr/>
              </p:nvSpPr>
              <p:spPr>
                <a:xfrm>
                  <a:off x="409968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6" name=""/>
                <p:cNvSpPr/>
                <p:nvPr/>
              </p:nvSpPr>
              <p:spPr>
                <a:xfrm>
                  <a:off x="4019400" y="5268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7" name=""/>
              <p:cNvGrpSpPr/>
              <p:nvPr/>
            </p:nvGrpSpPr>
            <p:grpSpPr>
              <a:xfrm>
                <a:off x="4462560" y="5268960"/>
                <a:ext cx="443160" cy="196560"/>
                <a:chOff x="4462560" y="5268960"/>
                <a:chExt cx="443160" cy="196560"/>
              </a:xfrm>
            </p:grpSpPr>
            <p:sp>
              <p:nvSpPr>
                <p:cNvPr id="2878" name=""/>
                <p:cNvSpPr/>
                <p:nvPr/>
              </p:nvSpPr>
              <p:spPr>
                <a:xfrm>
                  <a:off x="454320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9" name=""/>
                <p:cNvSpPr/>
                <p:nvPr/>
              </p:nvSpPr>
              <p:spPr>
                <a:xfrm>
                  <a:off x="446256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0" name=""/>
              <p:cNvGrpSpPr/>
              <p:nvPr/>
            </p:nvGrpSpPr>
            <p:grpSpPr>
              <a:xfrm>
                <a:off x="4906440" y="5268960"/>
                <a:ext cx="443160" cy="196560"/>
                <a:chOff x="4906440" y="5268960"/>
                <a:chExt cx="443160" cy="196560"/>
              </a:xfrm>
            </p:grpSpPr>
            <p:sp>
              <p:nvSpPr>
                <p:cNvPr id="2881" name=""/>
                <p:cNvSpPr/>
                <p:nvPr/>
              </p:nvSpPr>
              <p:spPr>
                <a:xfrm>
                  <a:off x="498708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2" name=""/>
                <p:cNvSpPr/>
                <p:nvPr/>
              </p:nvSpPr>
              <p:spPr>
                <a:xfrm>
                  <a:off x="490644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3" name=""/>
              <p:cNvGrpSpPr/>
              <p:nvPr/>
            </p:nvGrpSpPr>
            <p:grpSpPr>
              <a:xfrm>
                <a:off x="5350320" y="5268960"/>
                <a:ext cx="442800" cy="196560"/>
                <a:chOff x="5350320" y="5268960"/>
                <a:chExt cx="442800" cy="196560"/>
              </a:xfrm>
            </p:grpSpPr>
            <p:sp>
              <p:nvSpPr>
                <p:cNvPr id="2884" name=""/>
                <p:cNvSpPr/>
                <p:nvPr/>
              </p:nvSpPr>
              <p:spPr>
                <a:xfrm>
                  <a:off x="543060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5" name=""/>
                <p:cNvSpPr/>
                <p:nvPr/>
              </p:nvSpPr>
              <p:spPr>
                <a:xfrm>
                  <a:off x="5350320" y="5268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6" name=""/>
              <p:cNvGrpSpPr/>
              <p:nvPr/>
            </p:nvGrpSpPr>
            <p:grpSpPr>
              <a:xfrm>
                <a:off x="5793480" y="5268960"/>
                <a:ext cx="443160" cy="196560"/>
                <a:chOff x="5793480" y="5268960"/>
                <a:chExt cx="443160" cy="196560"/>
              </a:xfrm>
            </p:grpSpPr>
            <p:sp>
              <p:nvSpPr>
                <p:cNvPr id="2887" name=""/>
                <p:cNvSpPr/>
                <p:nvPr/>
              </p:nvSpPr>
              <p:spPr>
                <a:xfrm>
                  <a:off x="587412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8" name=""/>
                <p:cNvSpPr/>
                <p:nvPr/>
              </p:nvSpPr>
              <p:spPr>
                <a:xfrm>
                  <a:off x="579348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9" name=""/>
              <p:cNvGrpSpPr/>
              <p:nvPr/>
            </p:nvGrpSpPr>
            <p:grpSpPr>
              <a:xfrm>
                <a:off x="6237360" y="5268960"/>
                <a:ext cx="443160" cy="196560"/>
                <a:chOff x="6237360" y="5268960"/>
                <a:chExt cx="443160" cy="196560"/>
              </a:xfrm>
            </p:grpSpPr>
            <p:sp>
              <p:nvSpPr>
                <p:cNvPr id="2890" name=""/>
                <p:cNvSpPr/>
                <p:nvPr/>
              </p:nvSpPr>
              <p:spPr>
                <a:xfrm>
                  <a:off x="631800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1" name=""/>
                <p:cNvSpPr/>
                <p:nvPr/>
              </p:nvSpPr>
              <p:spPr>
                <a:xfrm>
                  <a:off x="623736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2" name=""/>
              <p:cNvGrpSpPr/>
              <p:nvPr/>
            </p:nvGrpSpPr>
            <p:grpSpPr>
              <a:xfrm>
                <a:off x="6680880" y="5268960"/>
                <a:ext cx="442800" cy="196560"/>
                <a:chOff x="6680880" y="5268960"/>
                <a:chExt cx="442800" cy="196560"/>
              </a:xfrm>
            </p:grpSpPr>
            <p:sp>
              <p:nvSpPr>
                <p:cNvPr id="2893" name=""/>
                <p:cNvSpPr/>
                <p:nvPr/>
              </p:nvSpPr>
              <p:spPr>
                <a:xfrm>
                  <a:off x="6761160" y="526896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4" name=""/>
                <p:cNvSpPr/>
                <p:nvPr/>
              </p:nvSpPr>
              <p:spPr>
                <a:xfrm>
                  <a:off x="6680880" y="526896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5" name=""/>
              <p:cNvGrpSpPr/>
              <p:nvPr/>
            </p:nvGrpSpPr>
            <p:grpSpPr>
              <a:xfrm>
                <a:off x="7124400" y="5268960"/>
                <a:ext cx="443160" cy="196560"/>
                <a:chOff x="7124400" y="5268960"/>
                <a:chExt cx="443160" cy="196560"/>
              </a:xfrm>
            </p:grpSpPr>
            <p:sp>
              <p:nvSpPr>
                <p:cNvPr id="2896" name=""/>
                <p:cNvSpPr/>
                <p:nvPr/>
              </p:nvSpPr>
              <p:spPr>
                <a:xfrm>
                  <a:off x="7205040" y="526896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7" name=""/>
                <p:cNvSpPr/>
                <p:nvPr/>
              </p:nvSpPr>
              <p:spPr>
                <a:xfrm>
                  <a:off x="7124400" y="526896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8" name=""/>
              <p:cNvGrpSpPr/>
              <p:nvPr/>
            </p:nvGrpSpPr>
            <p:grpSpPr>
              <a:xfrm>
                <a:off x="470520" y="5465520"/>
                <a:ext cx="443160" cy="196920"/>
                <a:chOff x="470520" y="5465520"/>
                <a:chExt cx="443160" cy="19692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55116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47052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1" name=""/>
              <p:cNvGrpSpPr/>
              <p:nvPr/>
            </p:nvGrpSpPr>
            <p:grpSpPr>
              <a:xfrm>
                <a:off x="914040" y="5465520"/>
                <a:ext cx="442800" cy="196920"/>
                <a:chOff x="914040" y="5465520"/>
                <a:chExt cx="442800" cy="196920"/>
              </a:xfrm>
            </p:grpSpPr>
            <p:sp>
              <p:nvSpPr>
                <p:cNvPr id="2902" name=""/>
                <p:cNvSpPr/>
                <p:nvPr/>
              </p:nvSpPr>
              <p:spPr>
                <a:xfrm>
                  <a:off x="99432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3" name=""/>
                <p:cNvSpPr/>
                <p:nvPr/>
              </p:nvSpPr>
              <p:spPr>
                <a:xfrm>
                  <a:off x="914040" y="546552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4" name=""/>
              <p:cNvGrpSpPr/>
              <p:nvPr/>
            </p:nvGrpSpPr>
            <p:grpSpPr>
              <a:xfrm>
                <a:off x="1357560" y="5465520"/>
                <a:ext cx="443160" cy="196920"/>
                <a:chOff x="1357560" y="5465520"/>
                <a:chExt cx="443160" cy="196920"/>
              </a:xfrm>
            </p:grpSpPr>
            <p:sp>
              <p:nvSpPr>
                <p:cNvPr id="2905" name=""/>
                <p:cNvSpPr/>
                <p:nvPr/>
              </p:nvSpPr>
              <p:spPr>
                <a:xfrm>
                  <a:off x="143820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6" name=""/>
                <p:cNvSpPr/>
                <p:nvPr/>
              </p:nvSpPr>
              <p:spPr>
                <a:xfrm>
                  <a:off x="135756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7" name=""/>
              <p:cNvGrpSpPr/>
              <p:nvPr/>
            </p:nvGrpSpPr>
            <p:grpSpPr>
              <a:xfrm>
                <a:off x="1801080" y="5465520"/>
                <a:ext cx="443160" cy="196920"/>
                <a:chOff x="1801080" y="5465520"/>
                <a:chExt cx="443160" cy="196920"/>
              </a:xfrm>
            </p:grpSpPr>
            <p:sp>
              <p:nvSpPr>
                <p:cNvPr id="2908" name=""/>
                <p:cNvSpPr/>
                <p:nvPr/>
              </p:nvSpPr>
              <p:spPr>
                <a:xfrm>
                  <a:off x="188172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9" name=""/>
                <p:cNvSpPr/>
                <p:nvPr/>
              </p:nvSpPr>
              <p:spPr>
                <a:xfrm>
                  <a:off x="180108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0" name=""/>
              <p:cNvGrpSpPr/>
              <p:nvPr/>
            </p:nvGrpSpPr>
            <p:grpSpPr>
              <a:xfrm>
                <a:off x="2244960" y="5465520"/>
                <a:ext cx="442800" cy="196920"/>
                <a:chOff x="2244960" y="5465520"/>
                <a:chExt cx="442800" cy="196920"/>
              </a:xfrm>
            </p:grpSpPr>
            <p:sp>
              <p:nvSpPr>
                <p:cNvPr id="2911" name=""/>
                <p:cNvSpPr/>
                <p:nvPr/>
              </p:nvSpPr>
              <p:spPr>
                <a:xfrm>
                  <a:off x="232524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2" name=""/>
                <p:cNvSpPr/>
                <p:nvPr/>
              </p:nvSpPr>
              <p:spPr>
                <a:xfrm>
                  <a:off x="2244960" y="546552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3" name=""/>
              <p:cNvGrpSpPr/>
              <p:nvPr/>
            </p:nvGrpSpPr>
            <p:grpSpPr>
              <a:xfrm>
                <a:off x="2688120" y="5465520"/>
                <a:ext cx="443160" cy="196920"/>
                <a:chOff x="2688120" y="5465520"/>
                <a:chExt cx="443160" cy="196920"/>
              </a:xfrm>
            </p:grpSpPr>
            <p:sp>
              <p:nvSpPr>
                <p:cNvPr id="2914" name=""/>
                <p:cNvSpPr/>
                <p:nvPr/>
              </p:nvSpPr>
              <p:spPr>
                <a:xfrm>
                  <a:off x="276876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5" name=""/>
                <p:cNvSpPr/>
                <p:nvPr/>
              </p:nvSpPr>
              <p:spPr>
                <a:xfrm>
                  <a:off x="268812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6" name=""/>
              <p:cNvGrpSpPr/>
              <p:nvPr/>
            </p:nvGrpSpPr>
            <p:grpSpPr>
              <a:xfrm>
                <a:off x="3132000" y="5465520"/>
                <a:ext cx="443160" cy="196920"/>
                <a:chOff x="3132000" y="5465520"/>
                <a:chExt cx="443160" cy="196920"/>
              </a:xfrm>
            </p:grpSpPr>
            <p:sp>
              <p:nvSpPr>
                <p:cNvPr id="2917" name=""/>
                <p:cNvSpPr/>
                <p:nvPr/>
              </p:nvSpPr>
              <p:spPr>
                <a:xfrm>
                  <a:off x="321264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8" name=""/>
                <p:cNvSpPr/>
                <p:nvPr/>
              </p:nvSpPr>
              <p:spPr>
                <a:xfrm>
                  <a:off x="313200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9" name=""/>
              <p:cNvGrpSpPr/>
              <p:nvPr/>
            </p:nvGrpSpPr>
            <p:grpSpPr>
              <a:xfrm>
                <a:off x="3575520" y="5465520"/>
                <a:ext cx="443160" cy="196920"/>
                <a:chOff x="3575520" y="5465520"/>
                <a:chExt cx="443160" cy="196920"/>
              </a:xfrm>
            </p:grpSpPr>
            <p:sp>
              <p:nvSpPr>
                <p:cNvPr id="2920" name=""/>
                <p:cNvSpPr/>
                <p:nvPr/>
              </p:nvSpPr>
              <p:spPr>
                <a:xfrm>
                  <a:off x="365580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1" name=""/>
                <p:cNvSpPr/>
                <p:nvPr/>
              </p:nvSpPr>
              <p:spPr>
                <a:xfrm>
                  <a:off x="357552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2" name=""/>
              <p:cNvGrpSpPr/>
              <p:nvPr/>
            </p:nvGrpSpPr>
            <p:grpSpPr>
              <a:xfrm>
                <a:off x="4019400" y="5465520"/>
                <a:ext cx="442800" cy="196920"/>
                <a:chOff x="4019400" y="5465520"/>
                <a:chExt cx="442800" cy="196920"/>
              </a:xfrm>
            </p:grpSpPr>
            <p:sp>
              <p:nvSpPr>
                <p:cNvPr id="2923" name=""/>
                <p:cNvSpPr/>
                <p:nvPr/>
              </p:nvSpPr>
              <p:spPr>
                <a:xfrm>
                  <a:off x="409968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4" name=""/>
                <p:cNvSpPr/>
                <p:nvPr/>
              </p:nvSpPr>
              <p:spPr>
                <a:xfrm>
                  <a:off x="4019400" y="546552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5" name=""/>
              <p:cNvGrpSpPr/>
              <p:nvPr/>
            </p:nvGrpSpPr>
            <p:grpSpPr>
              <a:xfrm>
                <a:off x="4462560" y="5465520"/>
                <a:ext cx="443160" cy="196920"/>
                <a:chOff x="4462560" y="5465520"/>
                <a:chExt cx="443160" cy="196920"/>
              </a:xfrm>
            </p:grpSpPr>
            <p:sp>
              <p:nvSpPr>
                <p:cNvPr id="2926" name=""/>
                <p:cNvSpPr/>
                <p:nvPr/>
              </p:nvSpPr>
              <p:spPr>
                <a:xfrm>
                  <a:off x="454320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446256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8" name=""/>
              <p:cNvGrpSpPr/>
              <p:nvPr/>
            </p:nvGrpSpPr>
            <p:grpSpPr>
              <a:xfrm>
                <a:off x="4906440" y="5465520"/>
                <a:ext cx="443160" cy="196920"/>
                <a:chOff x="4906440" y="5465520"/>
                <a:chExt cx="443160" cy="196920"/>
              </a:xfrm>
            </p:grpSpPr>
            <p:sp>
              <p:nvSpPr>
                <p:cNvPr id="2929" name=""/>
                <p:cNvSpPr/>
                <p:nvPr/>
              </p:nvSpPr>
              <p:spPr>
                <a:xfrm>
                  <a:off x="498708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0" name=""/>
                <p:cNvSpPr/>
                <p:nvPr/>
              </p:nvSpPr>
              <p:spPr>
                <a:xfrm>
                  <a:off x="490644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1" name=""/>
              <p:cNvGrpSpPr/>
              <p:nvPr/>
            </p:nvGrpSpPr>
            <p:grpSpPr>
              <a:xfrm>
                <a:off x="5350320" y="5465520"/>
                <a:ext cx="442800" cy="196920"/>
                <a:chOff x="5350320" y="5465520"/>
                <a:chExt cx="442800" cy="196920"/>
              </a:xfrm>
            </p:grpSpPr>
            <p:sp>
              <p:nvSpPr>
                <p:cNvPr id="2932" name=""/>
                <p:cNvSpPr/>
                <p:nvPr/>
              </p:nvSpPr>
              <p:spPr>
                <a:xfrm>
                  <a:off x="543060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3" name=""/>
                <p:cNvSpPr/>
                <p:nvPr/>
              </p:nvSpPr>
              <p:spPr>
                <a:xfrm>
                  <a:off x="5350320" y="546552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4" name=""/>
              <p:cNvGrpSpPr/>
              <p:nvPr/>
            </p:nvGrpSpPr>
            <p:grpSpPr>
              <a:xfrm>
                <a:off x="5793480" y="5465520"/>
                <a:ext cx="443160" cy="196920"/>
                <a:chOff x="5793480" y="5465520"/>
                <a:chExt cx="443160" cy="196920"/>
              </a:xfrm>
            </p:grpSpPr>
            <p:sp>
              <p:nvSpPr>
                <p:cNvPr id="2935" name=""/>
                <p:cNvSpPr/>
                <p:nvPr/>
              </p:nvSpPr>
              <p:spPr>
                <a:xfrm>
                  <a:off x="587412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6" name=""/>
                <p:cNvSpPr/>
                <p:nvPr/>
              </p:nvSpPr>
              <p:spPr>
                <a:xfrm>
                  <a:off x="579348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7" name=""/>
              <p:cNvGrpSpPr/>
              <p:nvPr/>
            </p:nvGrpSpPr>
            <p:grpSpPr>
              <a:xfrm>
                <a:off x="6237360" y="5465520"/>
                <a:ext cx="443160" cy="196920"/>
                <a:chOff x="6237360" y="5465520"/>
                <a:chExt cx="443160" cy="196920"/>
              </a:xfrm>
            </p:grpSpPr>
            <p:sp>
              <p:nvSpPr>
                <p:cNvPr id="2938" name=""/>
                <p:cNvSpPr/>
                <p:nvPr/>
              </p:nvSpPr>
              <p:spPr>
                <a:xfrm>
                  <a:off x="631800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9" name=""/>
                <p:cNvSpPr/>
                <p:nvPr/>
              </p:nvSpPr>
              <p:spPr>
                <a:xfrm>
                  <a:off x="623736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0" name=""/>
              <p:cNvGrpSpPr/>
              <p:nvPr/>
            </p:nvGrpSpPr>
            <p:grpSpPr>
              <a:xfrm>
                <a:off x="6680880" y="5465520"/>
                <a:ext cx="442800" cy="196920"/>
                <a:chOff x="6680880" y="5465520"/>
                <a:chExt cx="442800" cy="196920"/>
              </a:xfrm>
            </p:grpSpPr>
            <p:sp>
              <p:nvSpPr>
                <p:cNvPr id="2941" name=""/>
                <p:cNvSpPr/>
                <p:nvPr/>
              </p:nvSpPr>
              <p:spPr>
                <a:xfrm>
                  <a:off x="6761160" y="5465520"/>
                  <a:ext cx="28188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2" name=""/>
                <p:cNvSpPr/>
                <p:nvPr/>
              </p:nvSpPr>
              <p:spPr>
                <a:xfrm>
                  <a:off x="6680880" y="5465520"/>
                  <a:ext cx="44280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3" name=""/>
              <p:cNvGrpSpPr/>
              <p:nvPr/>
            </p:nvGrpSpPr>
            <p:grpSpPr>
              <a:xfrm>
                <a:off x="7124400" y="5465520"/>
                <a:ext cx="443160" cy="196920"/>
                <a:chOff x="7124400" y="5465520"/>
                <a:chExt cx="443160" cy="196920"/>
              </a:xfrm>
            </p:grpSpPr>
            <p:sp>
              <p:nvSpPr>
                <p:cNvPr id="2944" name=""/>
                <p:cNvSpPr/>
                <p:nvPr/>
              </p:nvSpPr>
              <p:spPr>
                <a:xfrm>
                  <a:off x="7205040" y="5465520"/>
                  <a:ext cx="281520" cy="19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5" name=""/>
                <p:cNvSpPr/>
                <p:nvPr/>
              </p:nvSpPr>
              <p:spPr>
                <a:xfrm>
                  <a:off x="7124400" y="5465520"/>
                  <a:ext cx="443160" cy="19692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6" name=""/>
              <p:cNvGrpSpPr/>
              <p:nvPr/>
            </p:nvGrpSpPr>
            <p:grpSpPr>
              <a:xfrm>
                <a:off x="470520" y="5662440"/>
                <a:ext cx="443160" cy="196560"/>
                <a:chOff x="470520" y="5662440"/>
                <a:chExt cx="443160" cy="196560"/>
              </a:xfrm>
            </p:grpSpPr>
            <p:sp>
              <p:nvSpPr>
                <p:cNvPr id="2947" name=""/>
                <p:cNvSpPr/>
                <p:nvPr/>
              </p:nvSpPr>
              <p:spPr>
                <a:xfrm>
                  <a:off x="55116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8" name=""/>
                <p:cNvSpPr/>
                <p:nvPr/>
              </p:nvSpPr>
              <p:spPr>
                <a:xfrm>
                  <a:off x="47052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9" name=""/>
              <p:cNvGrpSpPr/>
              <p:nvPr/>
            </p:nvGrpSpPr>
            <p:grpSpPr>
              <a:xfrm>
                <a:off x="914040" y="5662440"/>
                <a:ext cx="442800" cy="196560"/>
                <a:chOff x="914040" y="5662440"/>
                <a:chExt cx="442800" cy="196560"/>
              </a:xfrm>
            </p:grpSpPr>
            <p:sp>
              <p:nvSpPr>
                <p:cNvPr id="2950" name=""/>
                <p:cNvSpPr/>
                <p:nvPr/>
              </p:nvSpPr>
              <p:spPr>
                <a:xfrm>
                  <a:off x="99432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1" name=""/>
                <p:cNvSpPr/>
                <p:nvPr/>
              </p:nvSpPr>
              <p:spPr>
                <a:xfrm>
                  <a:off x="914040" y="566244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2" name=""/>
              <p:cNvGrpSpPr/>
              <p:nvPr/>
            </p:nvGrpSpPr>
            <p:grpSpPr>
              <a:xfrm>
                <a:off x="1357560" y="5662440"/>
                <a:ext cx="443160" cy="196560"/>
                <a:chOff x="1357560" y="5662440"/>
                <a:chExt cx="443160" cy="196560"/>
              </a:xfrm>
            </p:grpSpPr>
            <p:sp>
              <p:nvSpPr>
                <p:cNvPr id="2953" name=""/>
                <p:cNvSpPr/>
                <p:nvPr/>
              </p:nvSpPr>
              <p:spPr>
                <a:xfrm>
                  <a:off x="143820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4" name=""/>
                <p:cNvSpPr/>
                <p:nvPr/>
              </p:nvSpPr>
              <p:spPr>
                <a:xfrm>
                  <a:off x="135756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5" name=""/>
              <p:cNvGrpSpPr/>
              <p:nvPr/>
            </p:nvGrpSpPr>
            <p:grpSpPr>
              <a:xfrm>
                <a:off x="1801080" y="5662440"/>
                <a:ext cx="443160" cy="196560"/>
                <a:chOff x="1801080" y="5662440"/>
                <a:chExt cx="443160" cy="196560"/>
              </a:xfrm>
            </p:grpSpPr>
            <p:sp>
              <p:nvSpPr>
                <p:cNvPr id="2956" name=""/>
                <p:cNvSpPr/>
                <p:nvPr/>
              </p:nvSpPr>
              <p:spPr>
                <a:xfrm>
                  <a:off x="188172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7" name=""/>
                <p:cNvSpPr/>
                <p:nvPr/>
              </p:nvSpPr>
              <p:spPr>
                <a:xfrm>
                  <a:off x="180108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8" name=""/>
              <p:cNvGrpSpPr/>
              <p:nvPr/>
            </p:nvGrpSpPr>
            <p:grpSpPr>
              <a:xfrm>
                <a:off x="2244960" y="5662440"/>
                <a:ext cx="442800" cy="196560"/>
                <a:chOff x="2244960" y="5662440"/>
                <a:chExt cx="442800" cy="196560"/>
              </a:xfrm>
            </p:grpSpPr>
            <p:sp>
              <p:nvSpPr>
                <p:cNvPr id="2959" name=""/>
                <p:cNvSpPr/>
                <p:nvPr/>
              </p:nvSpPr>
              <p:spPr>
                <a:xfrm>
                  <a:off x="232524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0" name=""/>
                <p:cNvSpPr/>
                <p:nvPr/>
              </p:nvSpPr>
              <p:spPr>
                <a:xfrm>
                  <a:off x="2244960" y="566244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1" name=""/>
              <p:cNvGrpSpPr/>
              <p:nvPr/>
            </p:nvGrpSpPr>
            <p:grpSpPr>
              <a:xfrm>
                <a:off x="2688120" y="5662440"/>
                <a:ext cx="443160" cy="196560"/>
                <a:chOff x="2688120" y="5662440"/>
                <a:chExt cx="443160" cy="196560"/>
              </a:xfrm>
            </p:grpSpPr>
            <p:sp>
              <p:nvSpPr>
                <p:cNvPr id="2962" name=""/>
                <p:cNvSpPr/>
                <p:nvPr/>
              </p:nvSpPr>
              <p:spPr>
                <a:xfrm>
                  <a:off x="276876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3" name=""/>
                <p:cNvSpPr/>
                <p:nvPr/>
              </p:nvSpPr>
              <p:spPr>
                <a:xfrm>
                  <a:off x="268812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4" name=""/>
              <p:cNvGrpSpPr/>
              <p:nvPr/>
            </p:nvGrpSpPr>
            <p:grpSpPr>
              <a:xfrm>
                <a:off x="3132000" y="5662440"/>
                <a:ext cx="443160" cy="196560"/>
                <a:chOff x="3132000" y="5662440"/>
                <a:chExt cx="443160" cy="196560"/>
              </a:xfrm>
            </p:grpSpPr>
            <p:sp>
              <p:nvSpPr>
                <p:cNvPr id="2965" name=""/>
                <p:cNvSpPr/>
                <p:nvPr/>
              </p:nvSpPr>
              <p:spPr>
                <a:xfrm>
                  <a:off x="321264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*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313200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7" name=""/>
              <p:cNvGrpSpPr/>
              <p:nvPr/>
            </p:nvGrpSpPr>
            <p:grpSpPr>
              <a:xfrm>
                <a:off x="3575520" y="5662440"/>
                <a:ext cx="443160" cy="196560"/>
                <a:chOff x="3575520" y="5662440"/>
                <a:chExt cx="443160" cy="196560"/>
              </a:xfrm>
            </p:grpSpPr>
            <p:sp>
              <p:nvSpPr>
                <p:cNvPr id="2968" name=""/>
                <p:cNvSpPr/>
                <p:nvPr/>
              </p:nvSpPr>
              <p:spPr>
                <a:xfrm>
                  <a:off x="365580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9" name=""/>
                <p:cNvSpPr/>
                <p:nvPr/>
              </p:nvSpPr>
              <p:spPr>
                <a:xfrm>
                  <a:off x="357552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0" name=""/>
              <p:cNvGrpSpPr/>
              <p:nvPr/>
            </p:nvGrpSpPr>
            <p:grpSpPr>
              <a:xfrm>
                <a:off x="4019400" y="5662440"/>
                <a:ext cx="442800" cy="196560"/>
                <a:chOff x="4019400" y="5662440"/>
                <a:chExt cx="442800" cy="196560"/>
              </a:xfrm>
            </p:grpSpPr>
            <p:sp>
              <p:nvSpPr>
                <p:cNvPr id="2971" name=""/>
                <p:cNvSpPr/>
                <p:nvPr/>
              </p:nvSpPr>
              <p:spPr>
                <a:xfrm>
                  <a:off x="409968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2" name=""/>
                <p:cNvSpPr/>
                <p:nvPr/>
              </p:nvSpPr>
              <p:spPr>
                <a:xfrm>
                  <a:off x="4019400" y="566244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3" name=""/>
              <p:cNvGrpSpPr/>
              <p:nvPr/>
            </p:nvGrpSpPr>
            <p:grpSpPr>
              <a:xfrm>
                <a:off x="4462560" y="5662440"/>
                <a:ext cx="443160" cy="196560"/>
                <a:chOff x="4462560" y="5662440"/>
                <a:chExt cx="443160" cy="196560"/>
              </a:xfrm>
            </p:grpSpPr>
            <p:sp>
              <p:nvSpPr>
                <p:cNvPr id="2974" name=""/>
                <p:cNvSpPr/>
                <p:nvPr/>
              </p:nvSpPr>
              <p:spPr>
                <a:xfrm>
                  <a:off x="454320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5" name=""/>
                <p:cNvSpPr/>
                <p:nvPr/>
              </p:nvSpPr>
              <p:spPr>
                <a:xfrm>
                  <a:off x="446256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6" name=""/>
              <p:cNvGrpSpPr/>
              <p:nvPr/>
            </p:nvGrpSpPr>
            <p:grpSpPr>
              <a:xfrm>
                <a:off x="4906440" y="5662440"/>
                <a:ext cx="443160" cy="196560"/>
                <a:chOff x="4906440" y="5662440"/>
                <a:chExt cx="443160" cy="196560"/>
              </a:xfrm>
            </p:grpSpPr>
            <p:sp>
              <p:nvSpPr>
                <p:cNvPr id="2977" name=""/>
                <p:cNvSpPr/>
                <p:nvPr/>
              </p:nvSpPr>
              <p:spPr>
                <a:xfrm>
                  <a:off x="498708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8" name=""/>
                <p:cNvSpPr/>
                <p:nvPr/>
              </p:nvSpPr>
              <p:spPr>
                <a:xfrm>
                  <a:off x="490644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9" name=""/>
              <p:cNvGrpSpPr/>
              <p:nvPr/>
            </p:nvGrpSpPr>
            <p:grpSpPr>
              <a:xfrm>
                <a:off x="5350320" y="5662440"/>
                <a:ext cx="442800" cy="196560"/>
                <a:chOff x="5350320" y="5662440"/>
                <a:chExt cx="442800" cy="196560"/>
              </a:xfrm>
            </p:grpSpPr>
            <p:sp>
              <p:nvSpPr>
                <p:cNvPr id="2980" name=""/>
                <p:cNvSpPr/>
                <p:nvPr/>
              </p:nvSpPr>
              <p:spPr>
                <a:xfrm>
                  <a:off x="543060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1" name=""/>
                <p:cNvSpPr/>
                <p:nvPr/>
              </p:nvSpPr>
              <p:spPr>
                <a:xfrm>
                  <a:off x="5350320" y="566244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2" name=""/>
              <p:cNvGrpSpPr/>
              <p:nvPr/>
            </p:nvGrpSpPr>
            <p:grpSpPr>
              <a:xfrm>
                <a:off x="5793480" y="5662440"/>
                <a:ext cx="443160" cy="196560"/>
                <a:chOff x="5793480" y="5662440"/>
                <a:chExt cx="443160" cy="196560"/>
              </a:xfrm>
            </p:grpSpPr>
            <p:sp>
              <p:nvSpPr>
                <p:cNvPr id="2983" name=""/>
                <p:cNvSpPr/>
                <p:nvPr/>
              </p:nvSpPr>
              <p:spPr>
                <a:xfrm>
                  <a:off x="587412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X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4" name=""/>
                <p:cNvSpPr/>
                <p:nvPr/>
              </p:nvSpPr>
              <p:spPr>
                <a:xfrm>
                  <a:off x="579348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5" name=""/>
              <p:cNvGrpSpPr/>
              <p:nvPr/>
            </p:nvGrpSpPr>
            <p:grpSpPr>
              <a:xfrm>
                <a:off x="6237360" y="5662440"/>
                <a:ext cx="443160" cy="196560"/>
                <a:chOff x="6237360" y="5662440"/>
                <a:chExt cx="443160" cy="196560"/>
              </a:xfrm>
            </p:grpSpPr>
            <p:sp>
              <p:nvSpPr>
                <p:cNvPr id="2986" name=""/>
                <p:cNvSpPr/>
                <p:nvPr/>
              </p:nvSpPr>
              <p:spPr>
                <a:xfrm>
                  <a:off x="631800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7" name=""/>
                <p:cNvSpPr/>
                <p:nvPr/>
              </p:nvSpPr>
              <p:spPr>
                <a:xfrm>
                  <a:off x="623736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8" name=""/>
              <p:cNvGrpSpPr/>
              <p:nvPr/>
            </p:nvGrpSpPr>
            <p:grpSpPr>
              <a:xfrm>
                <a:off x="6680880" y="5662440"/>
                <a:ext cx="442800" cy="196560"/>
                <a:chOff x="6680880" y="5662440"/>
                <a:chExt cx="442800" cy="196560"/>
              </a:xfrm>
            </p:grpSpPr>
            <p:sp>
              <p:nvSpPr>
                <p:cNvPr id="2989" name=""/>
                <p:cNvSpPr/>
                <p:nvPr/>
              </p:nvSpPr>
              <p:spPr>
                <a:xfrm>
                  <a:off x="6761160" y="5662440"/>
                  <a:ext cx="28188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0" name=""/>
                <p:cNvSpPr/>
                <p:nvPr/>
              </p:nvSpPr>
              <p:spPr>
                <a:xfrm>
                  <a:off x="6680880" y="5662440"/>
                  <a:ext cx="44280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1" name=""/>
              <p:cNvGrpSpPr/>
              <p:nvPr/>
            </p:nvGrpSpPr>
            <p:grpSpPr>
              <a:xfrm>
                <a:off x="7124400" y="5662440"/>
                <a:ext cx="443160" cy="196560"/>
                <a:chOff x="7124400" y="5662440"/>
                <a:chExt cx="443160" cy="196560"/>
              </a:xfrm>
            </p:grpSpPr>
            <p:sp>
              <p:nvSpPr>
                <p:cNvPr id="2992" name=""/>
                <p:cNvSpPr/>
                <p:nvPr/>
              </p:nvSpPr>
              <p:spPr>
                <a:xfrm>
                  <a:off x="7205040" y="5662440"/>
                  <a:ext cx="281520" cy="196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9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7124400" y="5662440"/>
                  <a:ext cx="443160" cy="196560"/>
                </a:xfrm>
                <a:prstGeom prst="rect">
                  <a:avLst/>
                </a:prstGeom>
                <a:noFill/>
                <a:ln cap="sq"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94" name=""/>
            <p:cNvSpPr/>
            <p:nvPr/>
          </p:nvSpPr>
          <p:spPr>
            <a:xfrm>
              <a:off x="465120" y="1670040"/>
              <a:ext cx="7108560" cy="4191120"/>
            </a:xfrm>
            <a:prstGeom prst="rect">
              <a:avLst/>
            </a:prstGeom>
            <a:noFill/>
            <a:ln cap="sq"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0FF2-162B-45E0-8388-3CAAF5416D8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ting the GCD custom single-purpose processor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655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finished the data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 a state table for the next state and control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that’s left is combinational logic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 optimized design, but we see the basic ste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7" name=""/>
          <p:cNvGrpSpPr/>
          <p:nvPr/>
        </p:nvGrpSpPr>
        <p:grpSpPr>
          <a:xfrm>
            <a:off x="4959360" y="1685880"/>
            <a:ext cx="3846600" cy="4183200"/>
            <a:chOff x="4959360" y="1685880"/>
            <a:chExt cx="3846600" cy="4183200"/>
          </a:xfrm>
        </p:grpSpPr>
        <p:sp>
          <p:nvSpPr>
            <p:cNvPr id="2998" name=""/>
            <p:cNvSpPr/>
            <p:nvPr/>
          </p:nvSpPr>
          <p:spPr>
            <a:xfrm>
              <a:off x="6191280" y="171756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8352000" y="1685880"/>
              <a:ext cx="27468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5032440" y="5477040"/>
              <a:ext cx="377352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 view inside the controller and 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4959360" y="2185920"/>
              <a:ext cx="1648080" cy="27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6883560" y="2185920"/>
              <a:ext cx="1919160" cy="273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6058080" y="304164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 flipH="1">
              <a:off x="6057720" y="3214800"/>
              <a:ext cx="825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6195960" y="18781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6470640" y="1878120"/>
              <a:ext cx="0" cy="34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6195960" y="4925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6470640" y="4925880"/>
              <a:ext cx="0" cy="34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6195960" y="5011920"/>
              <a:ext cx="274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8379000" y="18590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8653680" y="185904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379000" y="490860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8653680" y="4908600"/>
              <a:ext cx="0" cy="342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8379000" y="4994280"/>
              <a:ext cx="27468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5234040" y="3898800"/>
              <a:ext cx="824040" cy="4971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5234040" y="2708280"/>
              <a:ext cx="824040" cy="1027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ext-st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n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tr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5645160" y="3556080"/>
              <a:ext cx="550800" cy="1198440"/>
            </a:xfrm>
            <a:custGeom>
              <a:avLst/>
              <a:gdLst/>
              <a:ahLst/>
              <a:rect l="l" t="t" r="r" b="b"/>
              <a:pathLst>
                <a:path w="576" h="1008">
                  <a:moveTo>
                    <a:pt x="432" y="0"/>
                  </a:moveTo>
                  <a:lnTo>
                    <a:pt x="576" y="0"/>
                  </a:lnTo>
                  <a:lnTo>
                    <a:pt x="576" y="1008"/>
                  </a:lnTo>
                  <a:lnTo>
                    <a:pt x="0" y="1008"/>
                  </a:lnTo>
                  <a:lnTo>
                    <a:pt x="0" y="706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6058080" y="3394080"/>
              <a:ext cx="274680" cy="1360440"/>
            </a:xfrm>
            <a:custGeom>
              <a:avLst/>
              <a:gdLst/>
              <a:ahLst/>
              <a:rect l="l" t="t" r="r" b="b"/>
              <a:pathLst>
                <a:path w="288" h="1145">
                  <a:moveTo>
                    <a:pt x="0" y="0"/>
                  </a:moveTo>
                  <a:lnTo>
                    <a:pt x="288" y="0"/>
                  </a:lnTo>
                  <a:lnTo>
                    <a:pt x="288" y="1145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 flipH="1">
              <a:off x="6195960" y="4754520"/>
              <a:ext cx="13680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6332760" y="4754520"/>
              <a:ext cx="137880" cy="17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6195960" y="2219400"/>
              <a:ext cx="1368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H="1">
              <a:off x="6332400" y="2219400"/>
              <a:ext cx="13788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6058080" y="2382840"/>
              <a:ext cx="274680" cy="488880"/>
            </a:xfrm>
            <a:custGeom>
              <a:avLst/>
              <a:gdLst/>
              <a:ahLst/>
              <a:rect l="l" t="t" r="r" b="b"/>
              <a:pathLst>
                <a:path w="288" h="281">
                  <a:moveTo>
                    <a:pt x="288" y="0"/>
                  </a:moveTo>
                  <a:lnTo>
                    <a:pt x="288" y="281"/>
                  </a:lnTo>
                  <a:lnTo>
                    <a:pt x="0" y="28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7435800" y="2691000"/>
              <a:ext cx="8258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7435800" y="3881520"/>
              <a:ext cx="825840" cy="496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unction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n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7710480" y="319572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V="1">
              <a:off x="7985160" y="3187440"/>
              <a:ext cx="0" cy="685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8379000" y="2201760"/>
              <a:ext cx="13824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 flipH="1">
              <a:off x="8516880" y="2201760"/>
              <a:ext cx="136440" cy="163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8261640" y="2365560"/>
              <a:ext cx="255600" cy="488880"/>
            </a:xfrm>
            <a:custGeom>
              <a:avLst/>
              <a:gdLst/>
              <a:ahLst/>
              <a:rect l="l" t="t" r="r" b="b"/>
              <a:pathLst>
                <a:path w="268" h="411">
                  <a:moveTo>
                    <a:pt x="268" y="0"/>
                  </a:moveTo>
                  <a:lnTo>
                    <a:pt x="268" y="411"/>
                  </a:lnTo>
                  <a:lnTo>
                    <a:pt x="0" y="41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8261640" y="3024360"/>
              <a:ext cx="255600" cy="1712880"/>
            </a:xfrm>
            <a:custGeom>
              <a:avLst/>
              <a:gdLst/>
              <a:ahLst/>
              <a:rect l="l" t="t" r="r" b="b"/>
              <a:pathLst>
                <a:path w="268" h="1441">
                  <a:moveTo>
                    <a:pt x="0" y="0"/>
                  </a:moveTo>
                  <a:lnTo>
                    <a:pt x="268" y="0"/>
                  </a:lnTo>
                  <a:lnTo>
                    <a:pt x="268" y="1441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H="1">
              <a:off x="8379000" y="4737240"/>
              <a:ext cx="1382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8517240" y="4737240"/>
              <a:ext cx="136440" cy="171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V="1">
              <a:off x="6883560" y="2871720"/>
              <a:ext cx="152280" cy="16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6883560" y="3041640"/>
              <a:ext cx="27000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7035840" y="2871720"/>
              <a:ext cx="399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7153560" y="3195720"/>
              <a:ext cx="282240" cy="855720"/>
            </a:xfrm>
            <a:custGeom>
              <a:avLst/>
              <a:gdLst/>
              <a:ahLst/>
              <a:rect l="l" t="t" r="r" b="b"/>
              <a:pathLst>
                <a:path w="148" h="719">
                  <a:moveTo>
                    <a:pt x="0" y="0"/>
                  </a:moveTo>
                  <a:lnTo>
                    <a:pt x="0" y="719"/>
                  </a:lnTo>
                  <a:lnTo>
                    <a:pt x="148" y="719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7035840" y="3375000"/>
              <a:ext cx="399960" cy="857160"/>
            </a:xfrm>
            <a:custGeom>
              <a:avLst/>
              <a:gdLst/>
              <a:ahLst/>
              <a:rect l="l" t="t" r="r" b="b"/>
              <a:pathLst>
                <a:path w="272" h="720">
                  <a:moveTo>
                    <a:pt x="272" y="720"/>
                  </a:moveTo>
                  <a:lnTo>
                    <a:pt x="0" y="72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 flipV="1">
              <a:off x="6883200" y="3214800"/>
              <a:ext cx="152280" cy="179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 flipV="1">
              <a:off x="5639040" y="3728880"/>
              <a:ext cx="0" cy="182520"/>
            </a:xfrm>
            <a:prstGeom prst="line">
              <a:avLst/>
            </a:prstGeom>
            <a:ln cap="sq"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68FB2-CCC0-4804-9A09-7A02E35348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binational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quential log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single-purpose processo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T-level custom single-purpose processor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2BD63-9091-48BB-BF5D-23DB77ECCCD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/>
          </p:nvPr>
        </p:nvSpPr>
        <p:spPr>
          <a:xfrm>
            <a:off x="142560" y="1422360"/>
            <a:ext cx="4002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often start with a state mach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ther than algorith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 timing often too central to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s bridge that converts 4-bit bus to 8-bit b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FS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as register-transfer (RT)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ercise: complete th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-level custom single-purpose processor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43" name=""/>
          <p:cNvGrpSpPr/>
          <p:nvPr/>
        </p:nvGrpSpPr>
        <p:grpSpPr>
          <a:xfrm>
            <a:off x="4154400" y="1623600"/>
            <a:ext cx="4649760" cy="1590840"/>
            <a:chOff x="4154400" y="1623600"/>
            <a:chExt cx="4649760" cy="1590840"/>
          </a:xfrm>
        </p:grpSpPr>
        <p:sp>
          <p:nvSpPr>
            <p:cNvPr id="3044" name=""/>
            <p:cNvSpPr/>
            <p:nvPr/>
          </p:nvSpPr>
          <p:spPr>
            <a:xfrm rot="16200000">
              <a:off x="3513600" y="2264040"/>
              <a:ext cx="159084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blem 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5638680" y="1908000"/>
              <a:ext cx="2011320" cy="1100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 single-purpose processor that converts two 4-bit inputs, arriving one at a time over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ata_in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along with a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rdy_in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pulse, into one 8-bit output on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data_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along with a </a:t>
              </a:r>
              <a:r>
                <a:rPr b="0" i="1" lang="en-US" sz="900" spc="-1" strike="noStrike">
                  <a:solidFill>
                    <a:srgbClr val="000000"/>
                  </a:solidFill>
                  <a:latin typeface="Times New Roman"/>
                </a:rPr>
                <a:t>rdy_out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pulse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4414680" y="1908000"/>
              <a:ext cx="4921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end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4906800" y="2687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4906800" y="2727360"/>
              <a:ext cx="7318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in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4906800" y="20858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4952880" y="2085840"/>
              <a:ext cx="685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7650000" y="208584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7734240" y="2116080"/>
              <a:ext cx="685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ou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7650000" y="2687760"/>
              <a:ext cx="7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7650000" y="2727360"/>
              <a:ext cx="73188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out(8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8381880" y="1908000"/>
              <a:ext cx="42228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5089680" y="2503440"/>
              <a:ext cx="54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815000" y="2344680"/>
              <a:ext cx="861840" cy="15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oc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8" name=""/>
          <p:cNvGrpSpPr/>
          <p:nvPr/>
        </p:nvGrpSpPr>
        <p:grpSpPr>
          <a:xfrm>
            <a:off x="4321080" y="3003480"/>
            <a:ext cx="4523040" cy="2959200"/>
            <a:chOff x="4321080" y="3003480"/>
            <a:chExt cx="4523040" cy="2959200"/>
          </a:xfrm>
        </p:grpSpPr>
        <p:sp>
          <p:nvSpPr>
            <p:cNvPr id="3059" name=""/>
            <p:cNvSpPr/>
            <p:nvPr/>
          </p:nvSpPr>
          <p:spPr>
            <a:xfrm rot="16200000">
              <a:off x="3670200" y="4786200"/>
              <a:ext cx="1684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SM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4919760" y="3746520"/>
              <a:ext cx="96048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aitFirst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6153120" y="3746520"/>
              <a:ext cx="100656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First4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lo=data_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4919760" y="4525920"/>
              <a:ext cx="96048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WaitSecond4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4724280" y="3836880"/>
              <a:ext cx="18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5742000" y="3600360"/>
              <a:ext cx="685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5877000" y="3836880"/>
              <a:ext cx="276120" cy="1800"/>
            </a:xfrm>
            <a:custGeom>
              <a:avLst/>
              <a:gdLst/>
              <a:ahLst/>
              <a:rect l="l" t="t" r="r" b="b"/>
              <a:pathLst>
                <a:path w="437" h="2">
                  <a:moveTo>
                    <a:pt x="0" y="0"/>
                  </a:moveTo>
                  <a:lnTo>
                    <a:pt x="437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7159680" y="3836880"/>
              <a:ext cx="228600" cy="1800"/>
            </a:xfrm>
            <a:custGeom>
              <a:avLst/>
              <a:gdLst/>
              <a:ahLst/>
              <a:rect l="l" t="t" r="r" b="b"/>
              <a:pathLst>
                <a:path w="359" h="1">
                  <a:moveTo>
                    <a:pt x="0" y="1"/>
                  </a:moveTo>
                  <a:lnTo>
                    <a:pt x="3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5235480" y="3425760"/>
              <a:ext cx="514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>
              <a:off x="5238720" y="3608280"/>
              <a:ext cx="457200" cy="13824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>
              <a:off x="7388280" y="3746520"/>
              <a:ext cx="100656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First4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7662960" y="3608280"/>
              <a:ext cx="457200" cy="13824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>
              <a:off x="7647120" y="3425760"/>
              <a:ext cx="5270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>
              <a:off x="5880240" y="4613400"/>
              <a:ext cx="276120" cy="2880"/>
            </a:xfrm>
            <a:custGeom>
              <a:avLst/>
              <a:gdLst/>
              <a:ahLst/>
              <a:rect l="l" t="t" r="r" b="b"/>
              <a:pathLst>
                <a:path w="435" h="5">
                  <a:moveTo>
                    <a:pt x="0" y="5"/>
                  </a:moveTo>
                  <a:lnTo>
                    <a:pt x="4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>
              <a:off x="6153120" y="4525920"/>
              <a:ext cx="100656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Second4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hi=data_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7159680" y="4613400"/>
              <a:ext cx="228600" cy="2880"/>
            </a:xfrm>
            <a:custGeom>
              <a:avLst/>
              <a:gdLst/>
              <a:ahLst/>
              <a:rect l="l" t="t" r="r" b="b"/>
              <a:pathLst>
                <a:path w="359" h="5">
                  <a:moveTo>
                    <a:pt x="0" y="5"/>
                  </a:moveTo>
                  <a:lnTo>
                    <a:pt x="3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7388280" y="4525920"/>
              <a:ext cx="1006560" cy="3668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Second4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7662960" y="4387680"/>
              <a:ext cx="457200" cy="13824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7570800" y="4251240"/>
              <a:ext cx="685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5742000" y="4113360"/>
              <a:ext cx="2149560" cy="411120"/>
            </a:xfrm>
            <a:custGeom>
              <a:avLst/>
              <a:gdLst/>
              <a:ahLst/>
              <a:rect l="l" t="t" r="r" b="b"/>
              <a:pathLst>
                <a:path w="3384" h="647">
                  <a:moveTo>
                    <a:pt x="3384" y="0"/>
                  </a:moveTo>
                  <a:lnTo>
                    <a:pt x="3384" y="144"/>
                  </a:lnTo>
                  <a:lnTo>
                    <a:pt x="0" y="144"/>
                  </a:lnTo>
                  <a:lnTo>
                    <a:pt x="1" y="6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6553080" y="4205160"/>
              <a:ext cx="685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5873760" y="4379760"/>
              <a:ext cx="50148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4981680" y="4203720"/>
              <a:ext cx="6858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5118120" y="4386240"/>
              <a:ext cx="457200" cy="13824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767560" y="4892760"/>
              <a:ext cx="2124000" cy="257040"/>
            </a:xfrm>
            <a:custGeom>
              <a:avLst/>
              <a:gdLst/>
              <a:ahLst/>
              <a:rect l="l" t="t" r="r" b="b"/>
              <a:pathLst>
                <a:path w="3384" h="503">
                  <a:moveTo>
                    <a:pt x="3384" y="0"/>
                  </a:moveTo>
                  <a:lnTo>
                    <a:pt x="3384" y="144"/>
                  </a:lnTo>
                  <a:lnTo>
                    <a:pt x="0" y="144"/>
                  </a:lnTo>
                  <a:lnTo>
                    <a:pt x="1" y="5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917960" y="5137200"/>
              <a:ext cx="960480" cy="62532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end8Star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out=data_hi &amp; data_l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out=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5880240" y="53499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6153120" y="5259240"/>
              <a:ext cx="1006560" cy="54936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end8End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out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4691160" y="3975120"/>
              <a:ext cx="1966680" cy="1913040"/>
            </a:xfrm>
            <a:custGeom>
              <a:avLst/>
              <a:gdLst/>
              <a:ahLst/>
              <a:rect l="l" t="t" r="r" b="b"/>
              <a:pathLst>
                <a:path w="3097" h="3003">
                  <a:moveTo>
                    <a:pt x="3096" y="2880"/>
                  </a:moveTo>
                  <a:lnTo>
                    <a:pt x="3097" y="3003"/>
                  </a:lnTo>
                  <a:lnTo>
                    <a:pt x="0" y="3000"/>
                  </a:lnTo>
                  <a:lnTo>
                    <a:pt x="0" y="0"/>
                  </a:lnTo>
                  <a:lnTo>
                    <a:pt x="33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6381720" y="3379680"/>
              <a:ext cx="51444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ridg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6553080" y="4968720"/>
              <a:ext cx="68580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7269120" y="5070600"/>
              <a:ext cx="1575000" cy="89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npu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in: bit; data_in: bit[4]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utpu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dy_out: bit; data_out:bit[8]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Variable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ata_lo, data_hi: bit[4];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H="1">
              <a:off x="4323960" y="3009960"/>
              <a:ext cx="1305000" cy="1792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7650000" y="3003480"/>
              <a:ext cx="1168560" cy="17316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4321080" y="3247920"/>
              <a:ext cx="4523040" cy="2668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C57C6-BD9A-4549-B84B-8454A7E8DA1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4" name=""/>
          <p:cNvSpPr/>
          <p:nvPr/>
        </p:nvSpPr>
        <p:spPr>
          <a:xfrm>
            <a:off x="476280" y="5724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T-level custom single-purpose processor design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5" name=""/>
          <p:cNvGrpSpPr/>
          <p:nvPr/>
        </p:nvGrpSpPr>
        <p:grpSpPr>
          <a:xfrm>
            <a:off x="2836800" y="1974960"/>
            <a:ext cx="3678480" cy="2260440"/>
            <a:chOff x="2836800" y="1974960"/>
            <a:chExt cx="3678480" cy="2260440"/>
          </a:xfrm>
        </p:grpSpPr>
        <p:sp>
          <p:nvSpPr>
            <p:cNvPr id="3096" name=""/>
            <p:cNvSpPr/>
            <p:nvPr/>
          </p:nvSpPr>
          <p:spPr>
            <a:xfrm>
              <a:off x="3063600" y="2269440"/>
              <a:ext cx="95364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aitFirst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289760" y="2269440"/>
              <a:ext cx="99900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First4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_lo_ld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063600" y="2985120"/>
              <a:ext cx="95364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WaitSecond4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2869200" y="2352600"/>
              <a:ext cx="181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881160" y="2136240"/>
              <a:ext cx="6811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014360" y="2352960"/>
              <a:ext cx="275400" cy="1080"/>
            </a:xfrm>
            <a:custGeom>
              <a:avLst/>
              <a:gdLst/>
              <a:ahLst/>
              <a:rect l="l" t="t" r="r" b="b"/>
              <a:pathLst>
                <a:path w="437" h="2">
                  <a:moveTo>
                    <a:pt x="0" y="0"/>
                  </a:moveTo>
                  <a:lnTo>
                    <a:pt x="437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289120" y="2352960"/>
              <a:ext cx="226080" cy="360"/>
            </a:xfrm>
            <a:custGeom>
              <a:avLst/>
              <a:gdLst/>
              <a:ahLst/>
              <a:rect l="l" t="t" r="r" b="b"/>
              <a:pathLst>
                <a:path w="359" h="1">
                  <a:moveTo>
                    <a:pt x="0" y="1"/>
                  </a:moveTo>
                  <a:lnTo>
                    <a:pt x="3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3377880" y="1974960"/>
              <a:ext cx="51048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381480" y="2143080"/>
              <a:ext cx="453960" cy="12600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5516280" y="2269440"/>
              <a:ext cx="99900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First4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5788800" y="2143080"/>
              <a:ext cx="453960" cy="12600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5773680" y="1974960"/>
              <a:ext cx="5234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4017240" y="3066120"/>
              <a:ext cx="274320" cy="2880"/>
            </a:xfrm>
            <a:custGeom>
              <a:avLst/>
              <a:gdLst/>
              <a:ahLst/>
              <a:rect l="l" t="t" r="r" b="b"/>
              <a:pathLst>
                <a:path w="435" h="5">
                  <a:moveTo>
                    <a:pt x="0" y="5"/>
                  </a:moveTo>
                  <a:lnTo>
                    <a:pt x="43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4289760" y="2985120"/>
              <a:ext cx="99900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Second4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_hi_ld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5289120" y="3066120"/>
              <a:ext cx="226080" cy="2880"/>
            </a:xfrm>
            <a:custGeom>
              <a:avLst/>
              <a:gdLst/>
              <a:ahLst/>
              <a:rect l="l" t="t" r="r" b="b"/>
              <a:pathLst>
                <a:path w="359" h="5">
                  <a:moveTo>
                    <a:pt x="0" y="5"/>
                  </a:moveTo>
                  <a:lnTo>
                    <a:pt x="35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516280" y="2985120"/>
              <a:ext cx="999000" cy="3366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cSecond4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5788800" y="2858760"/>
              <a:ext cx="453960" cy="12600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5697720" y="2732400"/>
              <a:ext cx="6811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881160" y="2606400"/>
              <a:ext cx="2134080" cy="378000"/>
            </a:xfrm>
            <a:custGeom>
              <a:avLst/>
              <a:gdLst/>
              <a:ahLst/>
              <a:rect l="l" t="t" r="r" b="b"/>
              <a:pathLst>
                <a:path w="3384" h="647">
                  <a:moveTo>
                    <a:pt x="3384" y="0"/>
                  </a:moveTo>
                  <a:lnTo>
                    <a:pt x="3384" y="144"/>
                  </a:lnTo>
                  <a:lnTo>
                    <a:pt x="0" y="144"/>
                  </a:lnTo>
                  <a:lnTo>
                    <a:pt x="1" y="64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4687200" y="2690280"/>
              <a:ext cx="6811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4025160" y="2851920"/>
              <a:ext cx="49824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125520" y="2689200"/>
              <a:ext cx="68112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in=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3261600" y="2857680"/>
              <a:ext cx="453960" cy="126000"/>
            </a:xfrm>
            <a:custGeom>
              <a:avLst/>
              <a:gdLst/>
              <a:ahLst/>
              <a:rect l="l" t="t" r="r" b="b"/>
              <a:pathLst>
                <a:path w="720" h="216">
                  <a:moveTo>
                    <a:pt x="720" y="216"/>
                  </a:moveTo>
                  <a:lnTo>
                    <a:pt x="720" y="0"/>
                  </a:lnTo>
                  <a:lnTo>
                    <a:pt x="0" y="0"/>
                  </a:lnTo>
                  <a:lnTo>
                    <a:pt x="0" y="2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3881160" y="3321720"/>
              <a:ext cx="2134080" cy="293760"/>
            </a:xfrm>
            <a:custGeom>
              <a:avLst/>
              <a:gdLst/>
              <a:ahLst/>
              <a:rect l="l" t="t" r="r" b="b"/>
              <a:pathLst>
                <a:path w="3384" h="503">
                  <a:moveTo>
                    <a:pt x="3384" y="0"/>
                  </a:moveTo>
                  <a:lnTo>
                    <a:pt x="3384" y="144"/>
                  </a:lnTo>
                  <a:lnTo>
                    <a:pt x="0" y="144"/>
                  </a:lnTo>
                  <a:lnTo>
                    <a:pt x="1" y="50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062520" y="3616560"/>
              <a:ext cx="953640" cy="505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nd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ta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data_out_ld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out=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4017240" y="3742560"/>
              <a:ext cx="272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4289760" y="3658320"/>
              <a:ext cx="999000" cy="50508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000" spc="-1" strike="noStrike">
                  <a:solidFill>
                    <a:srgbClr val="000000"/>
                  </a:solidFill>
                  <a:latin typeface="Times New Roman"/>
                </a:rPr>
                <a:t>Send8En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dy_out=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836800" y="2480040"/>
              <a:ext cx="1953360" cy="1755360"/>
            </a:xfrm>
            <a:custGeom>
              <a:avLst/>
              <a:gdLst/>
              <a:ahLst/>
              <a:rect l="l" t="t" r="r" b="b"/>
              <a:pathLst>
                <a:path w="3097" h="3003">
                  <a:moveTo>
                    <a:pt x="3096" y="2880"/>
                  </a:moveTo>
                  <a:lnTo>
                    <a:pt x="3097" y="3003"/>
                  </a:lnTo>
                  <a:lnTo>
                    <a:pt x="0" y="3000"/>
                  </a:lnTo>
                  <a:lnTo>
                    <a:pt x="0" y="0"/>
                  </a:lnTo>
                  <a:lnTo>
                    <a:pt x="337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24" name=""/>
          <p:cNvSpPr/>
          <p:nvPr/>
        </p:nvSpPr>
        <p:spPr>
          <a:xfrm>
            <a:off x="2746440" y="5005440"/>
            <a:ext cx="3813120" cy="84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5" name=""/>
          <p:cNvSpPr/>
          <p:nvPr/>
        </p:nvSpPr>
        <p:spPr>
          <a:xfrm>
            <a:off x="2746440" y="1806480"/>
            <a:ext cx="3813120" cy="2525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6" name=""/>
          <p:cNvSpPr/>
          <p:nvPr/>
        </p:nvSpPr>
        <p:spPr>
          <a:xfrm>
            <a:off x="2836800" y="1806480"/>
            <a:ext cx="109692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Control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7" name=""/>
          <p:cNvSpPr/>
          <p:nvPr/>
        </p:nvSpPr>
        <p:spPr>
          <a:xfrm>
            <a:off x="2654280" y="4332240"/>
            <a:ext cx="357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dy_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8" name=""/>
          <p:cNvSpPr/>
          <p:nvPr/>
        </p:nvSpPr>
        <p:spPr>
          <a:xfrm>
            <a:off x="6288120" y="4332240"/>
            <a:ext cx="35712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dy_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9" name=""/>
          <p:cNvSpPr/>
          <p:nvPr/>
        </p:nvSpPr>
        <p:spPr>
          <a:xfrm>
            <a:off x="4834080" y="5173560"/>
            <a:ext cx="63648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l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0" name=""/>
          <p:cNvSpPr/>
          <p:nvPr/>
        </p:nvSpPr>
        <p:spPr>
          <a:xfrm>
            <a:off x="4017960" y="5173560"/>
            <a:ext cx="68112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h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1" name=""/>
          <p:cNvSpPr/>
          <p:nvPr/>
        </p:nvSpPr>
        <p:spPr>
          <a:xfrm>
            <a:off x="2473200" y="4921200"/>
            <a:ext cx="27241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2" name=""/>
          <p:cNvSpPr/>
          <p:nvPr/>
        </p:nvSpPr>
        <p:spPr>
          <a:xfrm>
            <a:off x="2654280" y="4753080"/>
            <a:ext cx="727200" cy="12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_in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3" name=""/>
          <p:cNvSpPr/>
          <p:nvPr/>
        </p:nvSpPr>
        <p:spPr>
          <a:xfrm>
            <a:off x="2836800" y="5678640"/>
            <a:ext cx="99864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Data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4" name=""/>
          <p:cNvSpPr/>
          <p:nvPr/>
        </p:nvSpPr>
        <p:spPr>
          <a:xfrm>
            <a:off x="4379760" y="4921200"/>
            <a:ext cx="0" cy="25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5" name=""/>
          <p:cNvSpPr/>
          <p:nvPr/>
        </p:nvSpPr>
        <p:spPr>
          <a:xfrm>
            <a:off x="5197320" y="4921200"/>
            <a:ext cx="0" cy="25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6" name=""/>
          <p:cNvSpPr/>
          <p:nvPr/>
        </p:nvSpPr>
        <p:spPr>
          <a:xfrm>
            <a:off x="2473200" y="4332240"/>
            <a:ext cx="635040" cy="16848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lnTo>
                  <a:pt x="1008" y="576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7" name=""/>
          <p:cNvSpPr/>
          <p:nvPr/>
        </p:nvSpPr>
        <p:spPr>
          <a:xfrm flipH="1">
            <a:off x="6197040" y="4332240"/>
            <a:ext cx="634680" cy="168480"/>
          </a:xfrm>
          <a:custGeom>
            <a:avLst/>
            <a:gdLst/>
            <a:ahLst/>
            <a:rect l="l" t="t" r="r" b="b"/>
            <a:pathLst>
              <a:path w="1008" h="576">
                <a:moveTo>
                  <a:pt x="0" y="576"/>
                </a:moveTo>
                <a:lnTo>
                  <a:pt x="1008" y="576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8" name=""/>
          <p:cNvSpPr/>
          <p:nvPr/>
        </p:nvSpPr>
        <p:spPr>
          <a:xfrm>
            <a:off x="5197320" y="5342040"/>
            <a:ext cx="0" cy="1681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9" name=""/>
          <p:cNvSpPr/>
          <p:nvPr/>
        </p:nvSpPr>
        <p:spPr>
          <a:xfrm>
            <a:off x="4017960" y="5510160"/>
            <a:ext cx="1452600" cy="1684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0" name=""/>
          <p:cNvSpPr/>
          <p:nvPr/>
        </p:nvSpPr>
        <p:spPr>
          <a:xfrm>
            <a:off x="4379760" y="5342040"/>
            <a:ext cx="0" cy="16812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1" name=""/>
          <p:cNvSpPr/>
          <p:nvPr/>
        </p:nvSpPr>
        <p:spPr>
          <a:xfrm>
            <a:off x="3835440" y="4332240"/>
            <a:ext cx="182520" cy="925560"/>
          </a:xfrm>
          <a:custGeom>
            <a:avLst/>
            <a:gdLst/>
            <a:ahLst/>
            <a:rect l="l" t="t" r="r" b="b"/>
            <a:pathLst>
              <a:path w="432" h="1440">
                <a:moveTo>
                  <a:pt x="0" y="0"/>
                </a:moveTo>
                <a:lnTo>
                  <a:pt x="0" y="1440"/>
                </a:lnTo>
                <a:lnTo>
                  <a:pt x="432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2" name=""/>
          <p:cNvSpPr/>
          <p:nvPr/>
        </p:nvSpPr>
        <p:spPr>
          <a:xfrm flipH="1">
            <a:off x="5469840" y="4332240"/>
            <a:ext cx="181080" cy="925560"/>
          </a:xfrm>
          <a:custGeom>
            <a:avLst/>
            <a:gdLst/>
            <a:ahLst/>
            <a:rect l="l" t="t" r="r" b="b"/>
            <a:pathLst>
              <a:path w="432" h="1440">
                <a:moveTo>
                  <a:pt x="0" y="0"/>
                </a:moveTo>
                <a:lnTo>
                  <a:pt x="0" y="1440"/>
                </a:lnTo>
                <a:lnTo>
                  <a:pt x="432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3" name=""/>
          <p:cNvSpPr/>
          <p:nvPr/>
        </p:nvSpPr>
        <p:spPr>
          <a:xfrm>
            <a:off x="3654360" y="4332240"/>
            <a:ext cx="363600" cy="1262160"/>
          </a:xfrm>
          <a:custGeom>
            <a:avLst/>
            <a:gdLst/>
            <a:ahLst/>
            <a:rect l="l" t="t" r="r" b="b"/>
            <a:pathLst>
              <a:path w="432" h="1440">
                <a:moveTo>
                  <a:pt x="0" y="0"/>
                </a:moveTo>
                <a:lnTo>
                  <a:pt x="0" y="1440"/>
                </a:lnTo>
                <a:lnTo>
                  <a:pt x="432" y="144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4" name=""/>
          <p:cNvSpPr/>
          <p:nvPr/>
        </p:nvSpPr>
        <p:spPr>
          <a:xfrm rot="16200000">
            <a:off x="3278880" y="5279040"/>
            <a:ext cx="60480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out_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5" name=""/>
          <p:cNvSpPr/>
          <p:nvPr/>
        </p:nvSpPr>
        <p:spPr>
          <a:xfrm rot="16200000">
            <a:off x="3493440" y="5265000"/>
            <a:ext cx="57600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hi_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6" name=""/>
          <p:cNvSpPr/>
          <p:nvPr/>
        </p:nvSpPr>
        <p:spPr>
          <a:xfrm rot="16200000">
            <a:off x="5513400" y="5217840"/>
            <a:ext cx="5778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lo_l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7" name=""/>
          <p:cNvSpPr/>
          <p:nvPr/>
        </p:nvSpPr>
        <p:spPr>
          <a:xfrm>
            <a:off x="2654280" y="4584600"/>
            <a:ext cx="35712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l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8" name=""/>
          <p:cNvSpPr/>
          <p:nvPr/>
        </p:nvSpPr>
        <p:spPr>
          <a:xfrm>
            <a:off x="2563920" y="1638360"/>
            <a:ext cx="4178160" cy="4292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2473200" y="4668840"/>
            <a:ext cx="81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3290760" y="46688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1" name=""/>
          <p:cNvSpPr/>
          <p:nvPr/>
        </p:nvSpPr>
        <p:spPr>
          <a:xfrm flipV="1">
            <a:off x="3290760" y="4331880"/>
            <a:ext cx="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2" name=""/>
          <p:cNvSpPr/>
          <p:nvPr/>
        </p:nvSpPr>
        <p:spPr>
          <a:xfrm rot="16200000">
            <a:off x="3101040" y="5188320"/>
            <a:ext cx="50004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Times New Roman"/>
              </a:rPr>
              <a:t>to all register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3" name=""/>
          <p:cNvSpPr/>
          <p:nvPr/>
        </p:nvSpPr>
        <p:spPr>
          <a:xfrm>
            <a:off x="6197760" y="4753080"/>
            <a:ext cx="4474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ata_ou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4" name=""/>
          <p:cNvSpPr/>
          <p:nvPr/>
        </p:nvSpPr>
        <p:spPr>
          <a:xfrm>
            <a:off x="4743360" y="4921200"/>
            <a:ext cx="2089080" cy="841320"/>
          </a:xfrm>
          <a:custGeom>
            <a:avLst/>
            <a:gdLst/>
            <a:ahLst/>
            <a:rect l="l" t="t" r="r" b="b"/>
            <a:pathLst>
              <a:path w="3312" h="1584">
                <a:moveTo>
                  <a:pt x="0" y="1440"/>
                </a:moveTo>
                <a:lnTo>
                  <a:pt x="0" y="1584"/>
                </a:lnTo>
                <a:lnTo>
                  <a:pt x="2304" y="1584"/>
                </a:lnTo>
                <a:lnTo>
                  <a:pt x="2304" y="0"/>
                </a:lnTo>
                <a:lnTo>
                  <a:pt x="3312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4471920" y="1638360"/>
            <a:ext cx="355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Bridg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B6D41-B3FE-4E04-AECE-9A29F25810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single-purpose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is the task of making design metric values the best possi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timization opportuni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iginal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115D23-7191-41D0-A4D8-6A69860D58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original progr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alyze program attributes and look for areas of possible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umber of compu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and space compl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tions 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ication and division very expens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36896-84D2-4DEC-9F3D-9DD32541F8A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original program (cont’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1201680" y="1658880"/>
            <a:ext cx="1936800" cy="24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int  x,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while (1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  while (!go_i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  x = x_i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  y = y_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  while  (x != y)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      if  (x &lt; y)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         y = y -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se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         x = x -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   d_o =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5403960" y="1658880"/>
            <a:ext cx="250956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: int  x, y, 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 while (1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:    while (!go_i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// x must be the larger nu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:    if (x_i &gt;= y_i)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:       x=x_i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:       y=y_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:    else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:       x=y_i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:       y=x_i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:    while  (y != 0) 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:       r = x %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1:       x = y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2:       y = 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3:    d_o = x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1201680" y="1514520"/>
            <a:ext cx="1409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l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5403960" y="1514520"/>
            <a:ext cx="140976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mized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2638440" y="2600280"/>
            <a:ext cx="324000" cy="1200240"/>
          </a:xfrm>
          <a:custGeom>
            <a:avLst/>
            <a:gdLst>
              <a:gd name="textAreaLeft" fmla="*/ 0 w 324000"/>
              <a:gd name="textAreaRight" fmla="*/ 117000 w 324000"/>
              <a:gd name="textAreaTop" fmla="*/ 30960 h 1200240"/>
              <a:gd name="textAreaBottom" fmla="*/ 1169280 h 1200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5219640" y="3848040"/>
            <a:ext cx="250920" cy="876240"/>
          </a:xfrm>
          <a:custGeom>
            <a:avLst/>
            <a:gdLst>
              <a:gd name="textAreaLeft" fmla="*/ 160200 w 250920"/>
              <a:gd name="textAreaRight" fmla="*/ 251280 w 250920"/>
              <a:gd name="textAreaTop" fmla="*/ 22680 h 876240"/>
              <a:gd name="textAreaBottom" fmla="*/ 853560 h 876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3105000" y="3209760"/>
            <a:ext cx="1943280" cy="1009800"/>
          </a:xfrm>
          <a:custGeom>
            <a:avLst/>
            <a:gdLst/>
            <a:ahLst/>
            <a:rect l="l" t="t" r="r" b="b"/>
            <a:pathLst>
              <a:path w="1224" h="636">
                <a:moveTo>
                  <a:pt x="0" y="0"/>
                </a:moveTo>
                <a:lnTo>
                  <a:pt x="1224" y="636"/>
                </a:ln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3324240" y="2705040"/>
            <a:ext cx="180036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e the subtraction operation(s) with modulo operation in order to speed up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201680" y="5276880"/>
            <a:ext cx="329580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D(42, 8) - 9 iterations to complete the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and y values evaluated as follows : (42, 8), (43, 8), (26,8), (18,8), (10, 8), (2,8), (2,6), (2,4), (2,2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5403960" y="5276880"/>
            <a:ext cx="3095640" cy="73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CD(42,8) - 3 iterations to complete the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 and y values evaluated as follows: (42, 8), (8,2), (2,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06396-47F2-46A7-90B4-947604560D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FSM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eas of possible improv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rg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with constants on transitions can be eliminated, transition taken is already know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with independent operations can be merg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parate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s which require complex operations (a*b*c*d) can be broken into smaller states to reduce hardware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7DDA6-E7E0-49F1-AE67-65B1D47155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FSMD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7267680" y="1746360"/>
            <a:ext cx="542880" cy="1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x,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6993000" y="202104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7267680" y="1928880"/>
            <a:ext cx="549000" cy="2746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7542360" y="2203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7542360" y="2203560"/>
            <a:ext cx="2743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7816680" y="2111400"/>
            <a:ext cx="273240" cy="92160"/>
          </a:xfrm>
          <a:custGeom>
            <a:avLst/>
            <a:gdLst/>
            <a:ahLst/>
            <a:rect l="l" t="t" r="r" b="b"/>
            <a:pathLst>
              <a:path w="432" h="144">
                <a:moveTo>
                  <a:pt x="0" y="144"/>
                </a:moveTo>
                <a:lnTo>
                  <a:pt x="432" y="144"/>
                </a:lnTo>
                <a:lnTo>
                  <a:pt x="432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7907400" y="2203560"/>
            <a:ext cx="3664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go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7267680" y="2386080"/>
            <a:ext cx="549000" cy="3650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 = x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 = y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7542360" y="27511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7267680" y="2935440"/>
            <a:ext cx="549000" cy="272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7358040" y="32083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7724880" y="3208320"/>
            <a:ext cx="0" cy="184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6993000" y="3208320"/>
            <a:ext cx="274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&lt;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7450200" y="3208320"/>
            <a:ext cx="27468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&gt;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6900840" y="3392640"/>
            <a:ext cx="549360" cy="1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 = y -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7632720" y="3392640"/>
            <a:ext cx="549360" cy="1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 = x - 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6993000" y="247824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6993000" y="293544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6729480" y="3417840"/>
            <a:ext cx="18396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7450200" y="3392640"/>
            <a:ext cx="18252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7816680" y="3025800"/>
            <a:ext cx="640080" cy="914400"/>
          </a:xfrm>
          <a:custGeom>
            <a:avLst/>
            <a:gdLst/>
            <a:ahLst/>
            <a:rect l="l" t="t" r="r" b="b"/>
            <a:pathLst>
              <a:path w="1008" h="1296">
                <a:moveTo>
                  <a:pt x="0" y="0"/>
                </a:moveTo>
                <a:lnTo>
                  <a:pt x="1008" y="0"/>
                </a:lnTo>
                <a:lnTo>
                  <a:pt x="1008" y="1296"/>
                </a:lnTo>
                <a:lnTo>
                  <a:pt x="0" y="1296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7267680" y="3849840"/>
            <a:ext cx="549000" cy="1825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_o = 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7816680" y="3208320"/>
            <a:ext cx="457200" cy="458640"/>
          </a:xfrm>
          <a:custGeom>
            <a:avLst/>
            <a:gdLst/>
            <a:ahLst/>
            <a:rect l="l" t="t" r="r" b="b"/>
            <a:pathLst>
              <a:path w="720" h="720">
                <a:moveTo>
                  <a:pt x="144" y="576"/>
                </a:moveTo>
                <a:lnTo>
                  <a:pt x="144" y="720"/>
                </a:lnTo>
                <a:lnTo>
                  <a:pt x="720" y="720"/>
                </a:lnTo>
                <a:lnTo>
                  <a:pt x="720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7175520" y="3117960"/>
            <a:ext cx="1189080" cy="639720"/>
          </a:xfrm>
          <a:custGeom>
            <a:avLst/>
            <a:gdLst/>
            <a:ahLst/>
            <a:rect l="l" t="t" r="r" b="b"/>
            <a:pathLst>
              <a:path w="1872" h="1008">
                <a:moveTo>
                  <a:pt x="0" y="720"/>
                </a:moveTo>
                <a:lnTo>
                  <a:pt x="0" y="1008"/>
                </a:lnTo>
                <a:lnTo>
                  <a:pt x="1872" y="1008"/>
                </a:lnTo>
                <a:lnTo>
                  <a:pt x="1872" y="0"/>
                </a:lnTo>
                <a:lnTo>
                  <a:pt x="100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6810480" y="3849840"/>
            <a:ext cx="365040" cy="1825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7542360" y="2021040"/>
            <a:ext cx="1096920" cy="2193840"/>
          </a:xfrm>
          <a:custGeom>
            <a:avLst/>
            <a:gdLst/>
            <a:ahLst/>
            <a:rect l="l" t="t" r="r" b="b"/>
            <a:pathLst>
              <a:path w="1728" h="3312">
                <a:moveTo>
                  <a:pt x="0" y="3024"/>
                </a:moveTo>
                <a:lnTo>
                  <a:pt x="0" y="3312"/>
                </a:lnTo>
                <a:lnTo>
                  <a:pt x="1728" y="3312"/>
                </a:lnTo>
                <a:lnTo>
                  <a:pt x="1728" y="0"/>
                </a:lnTo>
                <a:lnTo>
                  <a:pt x="432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1328760" y="3652920"/>
            <a:ext cx="55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 flipH="1">
            <a:off x="1328400" y="1833480"/>
            <a:ext cx="64116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 flipH="1">
            <a:off x="1328760" y="373860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1328760" y="212868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 flipH="1">
            <a:off x="1328400" y="2892600"/>
            <a:ext cx="366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 flipV="1">
            <a:off x="1603440" y="2214720"/>
            <a:ext cx="0" cy="296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 flipH="1">
            <a:off x="1328400" y="221472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368280" y="4330800"/>
            <a:ext cx="595440" cy="21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 = y -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174600" y="4392720"/>
            <a:ext cx="182520" cy="16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7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1146240" y="4330800"/>
            <a:ext cx="549360" cy="21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 = x - 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963720" y="4373640"/>
            <a:ext cx="182520" cy="16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8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781200" y="4711680"/>
            <a:ext cx="547560" cy="21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414360" y="4711680"/>
            <a:ext cx="36684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6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1146240" y="3781440"/>
            <a:ext cx="274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x!=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781200" y="3568680"/>
            <a:ext cx="5475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596880" y="3568680"/>
            <a:ext cx="138240" cy="169920"/>
          </a:xfrm>
          <a:custGeom>
            <a:avLst/>
            <a:gdLst>
              <a:gd name="textAreaLeft" fmla="*/ 6480 w 138240"/>
              <a:gd name="textAreaRight" fmla="*/ 131760 w 138240"/>
              <a:gd name="textAreaTop" fmla="*/ 6480 h 169920"/>
              <a:gd name="textAreaBottom" fmla="*/ 163440 h 169920"/>
            </a:gdLst>
            <a:ahLst/>
            <a:rect l="textAreaLeft" t="textAreaTop" r="textAreaRight" b="textAreaBottom"/>
            <a:pathLst>
              <a:path w="21600" h="26537">
                <a:moveTo>
                  <a:pt x="3600" y="0"/>
                </a:moveTo>
                <a:arcTo wR="3600" hR="3600" stAng="16200000" swAng="-5400000"/>
                <a:lnTo>
                  <a:pt x="0" y="22937"/>
                </a:lnTo>
                <a:arcTo wR="3600" hR="3600" stAng="10800000" swAng="-5400000"/>
                <a:lnTo>
                  <a:pt x="18000" y="265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5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374840" y="3527280"/>
            <a:ext cx="3664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(x!=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917640" y="416232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963720" y="4162320"/>
            <a:ext cx="32040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&lt;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781200" y="3949560"/>
            <a:ext cx="5475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1328760" y="4162320"/>
            <a:ext cx="3207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(x&lt;y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506520" y="3949560"/>
            <a:ext cx="22860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6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1284120" y="4162320"/>
            <a:ext cx="0" cy="168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917640" y="454176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1284120" y="454176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781200" y="5094360"/>
            <a:ext cx="547560" cy="21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414360" y="5094360"/>
            <a:ext cx="366840" cy="16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5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1054080" y="4923000"/>
            <a:ext cx="0" cy="171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781200" y="1663560"/>
            <a:ext cx="547560" cy="21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552600" y="1663560"/>
            <a:ext cx="18252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1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146240" y="1917720"/>
            <a:ext cx="137880" cy="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1328760" y="1704960"/>
            <a:ext cx="274680" cy="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1374840" y="1536840"/>
            <a:ext cx="137880" cy="12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!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784080" y="2806560"/>
            <a:ext cx="547920" cy="21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x = x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552600" y="2806560"/>
            <a:ext cx="182520" cy="168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781200" y="3187800"/>
            <a:ext cx="547560" cy="210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y = y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552600" y="3187800"/>
            <a:ext cx="18252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4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1054080" y="187488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054080" y="301788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054080" y="3398760"/>
            <a:ext cx="0" cy="16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054080" y="3781440"/>
            <a:ext cx="0" cy="16812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1328760" y="5219640"/>
            <a:ext cx="41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 flipV="1">
            <a:off x="1741320" y="3738600"/>
            <a:ext cx="0" cy="148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781200" y="2044800"/>
            <a:ext cx="54756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781200" y="2425680"/>
            <a:ext cx="547560" cy="21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1054080" y="2257560"/>
            <a:ext cx="0" cy="16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552600" y="2044800"/>
            <a:ext cx="18252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2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466560" y="2425680"/>
            <a:ext cx="274680" cy="211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2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1100160" y="2257560"/>
            <a:ext cx="27468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!go_i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1380960" y="1960560"/>
            <a:ext cx="45720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!(!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go_i</a:t>
            </a: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695600" y="2128680"/>
            <a:ext cx="0" cy="76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328760" y="2511360"/>
            <a:ext cx="27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1884240" y="3652920"/>
            <a:ext cx="360" cy="1888920"/>
          </a:xfrm>
          <a:custGeom>
            <a:avLst/>
            <a:gdLst/>
            <a:ahLst/>
            <a:rect l="l" t="t" r="r" b="b"/>
            <a:pathLst>
              <a:path w="1" h="3210">
                <a:moveTo>
                  <a:pt x="0" y="0"/>
                </a:moveTo>
                <a:lnTo>
                  <a:pt x="0" y="321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1293840" y="5541840"/>
            <a:ext cx="590400" cy="5040"/>
          </a:xfrm>
          <a:custGeom>
            <a:avLst/>
            <a:gdLst/>
            <a:ahLst/>
            <a:rect l="l" t="t" r="r" b="b"/>
            <a:pathLst>
              <a:path w="930" h="8">
                <a:moveTo>
                  <a:pt x="930" y="8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62120" y="5432400"/>
            <a:ext cx="549000" cy="211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_o = x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396720" y="5854680"/>
            <a:ext cx="27324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Times New Roman"/>
              </a:rPr>
              <a:t>1-J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1303200" y="5889600"/>
            <a:ext cx="671760" cy="360"/>
          </a:xfrm>
          <a:custGeom>
            <a:avLst/>
            <a:gdLst/>
            <a:ahLst/>
            <a:rect l="l" t="t" r="r" b="b"/>
            <a:pathLst>
              <a:path w="1058" h="1">
                <a:moveTo>
                  <a:pt x="0" y="0"/>
                </a:moveTo>
                <a:lnTo>
                  <a:pt x="1058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1969920" y="1833480"/>
            <a:ext cx="5040" cy="4052880"/>
          </a:xfrm>
          <a:custGeom>
            <a:avLst/>
            <a:gdLst/>
            <a:ahLst/>
            <a:rect l="l" t="t" r="r" b="b"/>
            <a:pathLst>
              <a:path w="8" h="6891">
                <a:moveTo>
                  <a:pt x="8" y="6891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762120" y="5770440"/>
            <a:ext cx="549000" cy="212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1055520" y="5638680"/>
            <a:ext cx="360" cy="123840"/>
          </a:xfrm>
          <a:custGeom>
            <a:avLst/>
            <a:gdLst/>
            <a:ahLst/>
            <a:rect l="l" t="t" r="r" b="b"/>
            <a:pathLst>
              <a:path w="1" h="210">
                <a:moveTo>
                  <a:pt x="0" y="0"/>
                </a:moveTo>
                <a:lnTo>
                  <a:pt x="0" y="210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374760" y="5516640"/>
            <a:ext cx="366480" cy="1699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9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773280" y="1450800"/>
            <a:ext cx="542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 x, y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 flipH="1">
            <a:off x="1218600" y="1824120"/>
            <a:ext cx="1463400" cy="4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62" y="1"/>
                </a:moveTo>
                <a:arcTo wR="10800" hR="10800" stAng="-5443865" swAng="5443865"/>
                <a:lnTo>
                  <a:pt x="10800" y="10800"/>
                </a:lnTo>
                <a:close/>
              </a:path>
              <a:path fill="none" w="21600" h="21600">
                <a:moveTo>
                  <a:pt x="10662" y="1"/>
                </a:moveTo>
                <a:arcTo wR="10800" hR="10800" stAng="-5443865" swAng="5443865"/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1041480" y="2414520"/>
            <a:ext cx="298440" cy="9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1084320" y="2951280"/>
            <a:ext cx="90360" cy="268200"/>
          </a:xfrm>
          <a:prstGeom prst="upArrow">
            <a:avLst>
              <a:gd name="adj1" fmla="val 50000"/>
              <a:gd name="adj2" fmla="val 74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 flipH="1">
            <a:off x="917640" y="3781440"/>
            <a:ext cx="4608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1247760" y="3781440"/>
            <a:ext cx="36360" cy="425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919080" y="4703760"/>
            <a:ext cx="461880" cy="515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1285920" y="4703760"/>
            <a:ext cx="138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1057320" y="5749920"/>
            <a:ext cx="243000" cy="13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1057320" y="3170160"/>
            <a:ext cx="0" cy="25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557280" y="2830680"/>
            <a:ext cx="182520" cy="168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3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1765440" y="1546200"/>
            <a:ext cx="12096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l FS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6989760" y="1503360"/>
            <a:ext cx="12477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ptimized FSM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2752560" y="193356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liminate state 1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transitions have constant valu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2752560" y="258588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rge state 2 and state 2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no loop operation in between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2752560" y="324000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rge state 3 and state 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assignment operations are independent of one an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2752560" y="389268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merge state 5 and state 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transitions from state 6 can be done in stat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2752560" y="454644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liminate state 5J and 6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transitions from each state can be done from state 7 and state 8, respectiv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2752560" y="5200560"/>
            <a:ext cx="3438720" cy="52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liminate state 1-J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– transition from state 1-J can be done directly from stat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81C4F-73E2-45E5-B862-A6E076C7C4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datapa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haring of functional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to-one mapping, as done previously, is not necess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ame operation occurs in different states, they can share a single functional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-functional 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Us support a variety of operations, it can be shared among operations occurring in different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6C1A-FDED-4835-A31E-934B632B231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timizing the FS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enco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of assigning a unique bit pattern to each state in an F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 of state register and combinational logic v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treated as an ordering probl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 minim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 of merging equivalent states into a single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te equivalent if for all possible input combinations the two states generate the same outputs and transitions to the next same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D331C0-2B0C-469A-854A-35DE3DA24B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ustom single-purpose process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aightforward design techn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be built to execute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ypically start with FSM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 tools can be of great assist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68856-9B0F-4CC3-B5FF-57836D2A8842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762800" cy="431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circuit that performs a computation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ler and data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-purpose: variety of computation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-purpose: one particular computation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stom single-purpose: non-standard ta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stom single-purpose processor may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, small, low 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t, high NRE, longer time-to-market, less flex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4952880" y="2438280"/>
            <a:ext cx="4191480" cy="3263040"/>
            <a:chOff x="4952880" y="2438280"/>
            <a:chExt cx="4191480" cy="3263040"/>
          </a:xfrm>
        </p:grpSpPr>
        <p:sp>
          <p:nvSpPr>
            <p:cNvPr id="93" name=""/>
            <p:cNvSpPr/>
            <p:nvPr/>
          </p:nvSpPr>
          <p:spPr>
            <a:xfrm>
              <a:off x="9144000" y="3816720"/>
              <a:ext cx="360" cy="1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323680" y="2438280"/>
              <a:ext cx="1260000" cy="39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4952880" y="2448720"/>
              <a:ext cx="4061160" cy="3252600"/>
              <a:chOff x="4952880" y="2448720"/>
              <a:chExt cx="4061160" cy="3252600"/>
            </a:xfrm>
          </p:grpSpPr>
          <p:sp>
            <p:nvSpPr>
              <p:cNvPr id="96" name=""/>
              <p:cNvSpPr/>
              <p:nvPr/>
            </p:nvSpPr>
            <p:spPr>
              <a:xfrm>
                <a:off x="5447520" y="2525760"/>
                <a:ext cx="3557880" cy="31136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360400" y="2448720"/>
                <a:ext cx="3586680" cy="3134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672600" y="3744000"/>
                <a:ext cx="915120" cy="3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icro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6003360" y="2894400"/>
                <a:ext cx="105192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 pre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51840" y="2894400"/>
                <a:ext cx="100116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ixel co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464800" y="3027600"/>
                <a:ext cx="33444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487360" y="2894400"/>
                <a:ext cx="327240" cy="333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2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412240" y="3744000"/>
                <a:ext cx="829440" cy="3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PEG code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424120" y="4267080"/>
                <a:ext cx="1063440" cy="32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MA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424120" y="5114880"/>
                <a:ext cx="105624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mory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544440" y="5114880"/>
                <a:ext cx="98964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SA bus interf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7617240" y="5114880"/>
                <a:ext cx="51804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A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8235360" y="5114880"/>
                <a:ext cx="578880" cy="3243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CD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089920" y="4267080"/>
                <a:ext cx="724320" cy="32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splay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819200" y="3744000"/>
                <a:ext cx="995040" cy="324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ultiplier/Acc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0800" y="3489120"/>
                <a:ext cx="2793600" cy="360"/>
              </a:xfrm>
              <a:custGeom>
                <a:avLst/>
                <a:gdLst/>
                <a:ahLst/>
                <a:rect l="l" t="t" r="r" b="b"/>
                <a:pathLst>
                  <a:path w="4810" h="1">
                    <a:moveTo>
                      <a:pt x="0" y="0"/>
                    </a:moveTo>
                    <a:lnTo>
                      <a:pt x="4810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59360" y="4849200"/>
                <a:ext cx="2562480" cy="2880"/>
              </a:xfrm>
              <a:custGeom>
                <a:avLst/>
                <a:gdLst/>
                <a:ahLst/>
                <a:rect l="l" t="t" r="r" b="b"/>
                <a:pathLst>
                  <a:path w="4411" h="4">
                    <a:moveTo>
                      <a:pt x="0" y="4"/>
                    </a:moveTo>
                    <a:lnTo>
                      <a:pt x="4411" y="0"/>
                    </a:lnTo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7038000" y="5440680"/>
                <a:ext cx="91440" cy="260640"/>
                <a:chOff x="7038000" y="5440680"/>
                <a:chExt cx="91440" cy="26064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7083720" y="5557680"/>
                  <a:ext cx="36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7039800" y="5440680"/>
                  <a:ext cx="8964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5" y="149"/>
                      </a:moveTo>
                      <a:lnTo>
                        <a:pt x="76" y="0"/>
                      </a:lnTo>
                      <a:lnTo>
                        <a:pt x="0" y="149"/>
                      </a:lnTo>
                      <a:lnTo>
                        <a:pt x="15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7038000" y="5581080"/>
                  <a:ext cx="90360" cy="120240"/>
                </a:xfrm>
                <a:custGeom>
                  <a:avLst/>
                  <a:gdLst/>
                  <a:ahLst/>
                  <a:rect l="l" t="t" r="r" b="b"/>
                  <a:pathLst>
                    <a:path w="156" h="149">
                      <a:moveTo>
                        <a:pt x="0" y="0"/>
                      </a:moveTo>
                      <a:lnTo>
                        <a:pt x="79" y="149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7835400" y="5440680"/>
                <a:ext cx="92880" cy="260640"/>
                <a:chOff x="7835400" y="5440680"/>
                <a:chExt cx="92880" cy="2606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7881840" y="5557680"/>
                  <a:ext cx="36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7837200" y="5440680"/>
                  <a:ext cx="9108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5" y="149"/>
                      </a:moveTo>
                      <a:lnTo>
                        <a:pt x="76" y="0"/>
                      </a:lnTo>
                      <a:lnTo>
                        <a:pt x="0" y="149"/>
                      </a:lnTo>
                      <a:lnTo>
                        <a:pt x="15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7835400" y="5581080"/>
                  <a:ext cx="91800" cy="120240"/>
                </a:xfrm>
                <a:custGeom>
                  <a:avLst/>
                  <a:gdLst/>
                  <a:ahLst/>
                  <a:rect l="l" t="t" r="r" b="b"/>
                  <a:pathLst>
                    <a:path w="156" h="149">
                      <a:moveTo>
                        <a:pt x="0" y="0"/>
                      </a:moveTo>
                      <a:lnTo>
                        <a:pt x="79" y="149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" name=""/>
              <p:cNvGrpSpPr/>
              <p:nvPr/>
            </p:nvGrpSpPr>
            <p:grpSpPr>
              <a:xfrm>
                <a:off x="5969880" y="5440680"/>
                <a:ext cx="91080" cy="260640"/>
                <a:chOff x="5969880" y="5440680"/>
                <a:chExt cx="91080" cy="260640"/>
              </a:xfrm>
            </p:grpSpPr>
            <p:sp>
              <p:nvSpPr>
                <p:cNvPr id="122" name=""/>
                <p:cNvSpPr/>
                <p:nvPr/>
              </p:nvSpPr>
              <p:spPr>
                <a:xfrm>
                  <a:off x="6015600" y="5557680"/>
                  <a:ext cx="36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971320" y="5440680"/>
                  <a:ext cx="8964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5" y="149"/>
                      </a:moveTo>
                      <a:lnTo>
                        <a:pt x="76" y="0"/>
                      </a:lnTo>
                      <a:lnTo>
                        <a:pt x="0" y="149"/>
                      </a:lnTo>
                      <a:lnTo>
                        <a:pt x="15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5969880" y="5581080"/>
                  <a:ext cx="90360" cy="120240"/>
                </a:xfrm>
                <a:custGeom>
                  <a:avLst/>
                  <a:gdLst/>
                  <a:ahLst/>
                  <a:rect l="l" t="t" r="r" b="b"/>
                  <a:pathLst>
                    <a:path w="156" h="149">
                      <a:moveTo>
                        <a:pt x="0" y="0"/>
                      </a:moveTo>
                      <a:lnTo>
                        <a:pt x="79" y="149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5" name=""/>
              <p:cNvGrpSpPr/>
              <p:nvPr/>
            </p:nvGrpSpPr>
            <p:grpSpPr>
              <a:xfrm>
                <a:off x="5814360" y="4852440"/>
                <a:ext cx="91080" cy="262080"/>
                <a:chOff x="5814360" y="4852440"/>
                <a:chExt cx="91080" cy="262080"/>
              </a:xfrm>
            </p:grpSpPr>
            <p:sp>
              <p:nvSpPr>
                <p:cNvPr id="126" name=""/>
                <p:cNvSpPr/>
                <p:nvPr/>
              </p:nvSpPr>
              <p:spPr>
                <a:xfrm>
                  <a:off x="5859720" y="4968720"/>
                  <a:ext cx="3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5815440" y="4852440"/>
                  <a:ext cx="90000" cy="12024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156" y="150"/>
                      </a:moveTo>
                      <a:lnTo>
                        <a:pt x="77" y="0"/>
                      </a:lnTo>
                      <a:lnTo>
                        <a:pt x="0" y="150"/>
                      </a:lnTo>
                      <a:lnTo>
                        <a:pt x="156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814360" y="4993920"/>
                  <a:ext cx="89280" cy="12060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8379720" y="4592880"/>
                <a:ext cx="91440" cy="259200"/>
                <a:chOff x="8379720" y="4592880"/>
                <a:chExt cx="91440" cy="25920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8425440" y="4709160"/>
                  <a:ext cx="36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8380800" y="4592880"/>
                  <a:ext cx="90360" cy="119520"/>
                </a:xfrm>
                <a:custGeom>
                  <a:avLst/>
                  <a:gdLst/>
                  <a:ahLst/>
                  <a:rect l="l" t="t" r="r" b="b"/>
                  <a:pathLst>
                    <a:path w="156" h="149">
                      <a:moveTo>
                        <a:pt x="156" y="149"/>
                      </a:moveTo>
                      <a:lnTo>
                        <a:pt x="77" y="0"/>
                      </a:lnTo>
                      <a:lnTo>
                        <a:pt x="0" y="149"/>
                      </a:lnTo>
                      <a:lnTo>
                        <a:pt x="156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379720" y="4732560"/>
                  <a:ext cx="89640" cy="11952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0" y="0"/>
                      </a:moveTo>
                      <a:lnTo>
                        <a:pt x="79" y="149"/>
                      </a:lnTo>
                      <a:lnTo>
                        <a:pt x="1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3" name=""/>
              <p:cNvGrpSpPr/>
              <p:nvPr/>
            </p:nvGrpSpPr>
            <p:grpSpPr>
              <a:xfrm>
                <a:off x="8493120" y="4592880"/>
                <a:ext cx="91440" cy="521640"/>
                <a:chOff x="8493120" y="4592880"/>
                <a:chExt cx="91440" cy="5216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8539560" y="4592880"/>
                  <a:ext cx="360" cy="405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8493120" y="4993920"/>
                  <a:ext cx="9144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" name=""/>
              <p:cNvGrpSpPr/>
              <p:nvPr/>
            </p:nvGrpSpPr>
            <p:grpSpPr>
              <a:xfrm>
                <a:off x="7043760" y="4852440"/>
                <a:ext cx="91440" cy="262080"/>
                <a:chOff x="7043760" y="4852440"/>
                <a:chExt cx="91440" cy="262080"/>
              </a:xfrm>
            </p:grpSpPr>
            <p:sp>
              <p:nvSpPr>
                <p:cNvPr id="137" name=""/>
                <p:cNvSpPr/>
                <p:nvPr/>
              </p:nvSpPr>
              <p:spPr>
                <a:xfrm>
                  <a:off x="7089480" y="4968720"/>
                  <a:ext cx="3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045560" y="4852440"/>
                  <a:ext cx="8964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155" y="150"/>
                      </a:moveTo>
                      <a:lnTo>
                        <a:pt x="76" y="0"/>
                      </a:lnTo>
                      <a:lnTo>
                        <a:pt x="0" y="150"/>
                      </a:lnTo>
                      <a:lnTo>
                        <a:pt x="15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043760" y="4993920"/>
                  <a:ext cx="9036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" name=""/>
              <p:cNvGrpSpPr/>
              <p:nvPr/>
            </p:nvGrpSpPr>
            <p:grpSpPr>
              <a:xfrm>
                <a:off x="7841160" y="4852440"/>
                <a:ext cx="93240" cy="262080"/>
                <a:chOff x="7841160" y="4852440"/>
                <a:chExt cx="93240" cy="262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7887960" y="4968720"/>
                  <a:ext cx="3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842960" y="4852440"/>
                  <a:ext cx="9144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155" y="150"/>
                      </a:moveTo>
                      <a:lnTo>
                        <a:pt x="76" y="0"/>
                      </a:lnTo>
                      <a:lnTo>
                        <a:pt x="0" y="150"/>
                      </a:lnTo>
                      <a:lnTo>
                        <a:pt x="15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41160" y="4993920"/>
                  <a:ext cx="9216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814360" y="3482640"/>
                <a:ext cx="91080" cy="261000"/>
                <a:chOff x="5814360" y="3482640"/>
                <a:chExt cx="91080" cy="26100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859720" y="3598920"/>
                  <a:ext cx="3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815440" y="3482640"/>
                  <a:ext cx="90000" cy="120240"/>
                </a:xfrm>
                <a:custGeom>
                  <a:avLst/>
                  <a:gdLst/>
                  <a:ahLst/>
                  <a:rect l="l" t="t" r="r" b="b"/>
                  <a:pathLst>
                    <a:path w="156" h="149">
                      <a:moveTo>
                        <a:pt x="156" y="149"/>
                      </a:moveTo>
                      <a:lnTo>
                        <a:pt x="77" y="0"/>
                      </a:lnTo>
                      <a:lnTo>
                        <a:pt x="0" y="149"/>
                      </a:lnTo>
                      <a:lnTo>
                        <a:pt x="156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814360" y="3622320"/>
                  <a:ext cx="89280" cy="12132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5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6476400" y="3220200"/>
                <a:ext cx="91080" cy="262080"/>
                <a:chOff x="6476400" y="3220200"/>
                <a:chExt cx="91080" cy="26208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6522120" y="3336480"/>
                  <a:ext cx="3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77840" y="3220200"/>
                  <a:ext cx="89640" cy="12060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155" y="150"/>
                      </a:moveTo>
                      <a:lnTo>
                        <a:pt x="76" y="0"/>
                      </a:lnTo>
                      <a:lnTo>
                        <a:pt x="0" y="150"/>
                      </a:lnTo>
                      <a:lnTo>
                        <a:pt x="15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476400" y="3361680"/>
                  <a:ext cx="9036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7702920" y="3220200"/>
                <a:ext cx="92880" cy="262080"/>
                <a:chOff x="7702920" y="3220200"/>
                <a:chExt cx="92880" cy="262080"/>
              </a:xfrm>
            </p:grpSpPr>
            <p:sp>
              <p:nvSpPr>
                <p:cNvPr id="153" name=""/>
                <p:cNvSpPr/>
                <p:nvPr/>
              </p:nvSpPr>
              <p:spPr>
                <a:xfrm>
                  <a:off x="7749360" y="3336480"/>
                  <a:ext cx="36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704360" y="3220200"/>
                  <a:ext cx="91440" cy="120600"/>
                </a:xfrm>
                <a:custGeom>
                  <a:avLst/>
                  <a:gdLst/>
                  <a:ahLst/>
                  <a:rect l="l" t="t" r="r" b="b"/>
                  <a:pathLst>
                    <a:path w="155" h="150">
                      <a:moveTo>
                        <a:pt x="155" y="150"/>
                      </a:moveTo>
                      <a:lnTo>
                        <a:pt x="76" y="0"/>
                      </a:lnTo>
                      <a:lnTo>
                        <a:pt x="0" y="150"/>
                      </a:lnTo>
                      <a:lnTo>
                        <a:pt x="155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702920" y="3361680"/>
                  <a:ext cx="9216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8607960" y="3220200"/>
                <a:ext cx="91440" cy="261720"/>
                <a:chOff x="8607960" y="3220200"/>
                <a:chExt cx="91440" cy="261720"/>
              </a:xfrm>
            </p:grpSpPr>
            <p:sp>
              <p:nvSpPr>
                <p:cNvPr id="157" name=""/>
                <p:cNvSpPr/>
                <p:nvPr/>
              </p:nvSpPr>
              <p:spPr>
                <a:xfrm flipV="1">
                  <a:off x="8652960" y="3336480"/>
                  <a:ext cx="360" cy="145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607960" y="3220200"/>
                  <a:ext cx="91440" cy="12060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156" y="150"/>
                      </a:moveTo>
                      <a:lnTo>
                        <a:pt x="77" y="0"/>
                      </a:lnTo>
                      <a:lnTo>
                        <a:pt x="0" y="150"/>
                      </a:lnTo>
                      <a:lnTo>
                        <a:pt x="156" y="1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8424720" y="3482640"/>
                <a:ext cx="90720" cy="261000"/>
                <a:chOff x="8424720" y="3482640"/>
                <a:chExt cx="90720" cy="26100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8470080" y="3598920"/>
                  <a:ext cx="3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8426160" y="3482640"/>
                  <a:ext cx="8928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5" y="149"/>
                      </a:moveTo>
                      <a:lnTo>
                        <a:pt x="76" y="0"/>
                      </a:lnTo>
                      <a:lnTo>
                        <a:pt x="0" y="149"/>
                      </a:lnTo>
                      <a:lnTo>
                        <a:pt x="15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8424720" y="3622320"/>
                  <a:ext cx="90000" cy="12132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3" name=""/>
              <p:cNvGrpSpPr/>
              <p:nvPr/>
            </p:nvGrpSpPr>
            <p:grpSpPr>
              <a:xfrm>
                <a:off x="7119360" y="3482640"/>
                <a:ext cx="91440" cy="261000"/>
                <a:chOff x="7119360" y="3482640"/>
                <a:chExt cx="91440" cy="261000"/>
              </a:xfrm>
            </p:grpSpPr>
            <p:sp>
              <p:nvSpPr>
                <p:cNvPr id="164" name=""/>
                <p:cNvSpPr/>
                <p:nvPr/>
              </p:nvSpPr>
              <p:spPr>
                <a:xfrm>
                  <a:off x="7165080" y="3598920"/>
                  <a:ext cx="36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121160" y="3482640"/>
                  <a:ext cx="89640" cy="120240"/>
                </a:xfrm>
                <a:custGeom>
                  <a:avLst/>
                  <a:gdLst/>
                  <a:ahLst/>
                  <a:rect l="l" t="t" r="r" b="b"/>
                  <a:pathLst>
                    <a:path w="155" h="149">
                      <a:moveTo>
                        <a:pt x="155" y="149"/>
                      </a:moveTo>
                      <a:lnTo>
                        <a:pt x="76" y="0"/>
                      </a:lnTo>
                      <a:lnTo>
                        <a:pt x="0" y="149"/>
                      </a:lnTo>
                      <a:lnTo>
                        <a:pt x="155" y="14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119360" y="3622320"/>
                  <a:ext cx="90360" cy="121320"/>
                </a:xfrm>
                <a:custGeom>
                  <a:avLst/>
                  <a:gdLst/>
                  <a:ahLst/>
                  <a:rect l="l" t="t" r="r" b="b"/>
                  <a:pathLst>
                    <a:path w="156" h="150">
                      <a:moveTo>
                        <a:pt x="0" y="0"/>
                      </a:moveTo>
                      <a:lnTo>
                        <a:pt x="79" y="150"/>
                      </a:lnTo>
                      <a:lnTo>
                        <a:pt x="156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67" name=""/>
              <p:cNvSpPr/>
              <p:nvPr/>
            </p:nvSpPr>
            <p:spPr>
              <a:xfrm>
                <a:off x="5488200" y="2509200"/>
                <a:ext cx="100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gital camera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952880" y="2845800"/>
                <a:ext cx="82800" cy="579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166360" y="2860920"/>
                <a:ext cx="84240" cy="579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952880" y="342972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76360" y="268056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02480" y="3150720"/>
                <a:ext cx="201960" cy="360"/>
              </a:xfrm>
              <a:custGeom>
                <a:avLst/>
                <a:gdLst/>
                <a:ahLst/>
                <a:rect l="l" t="t" r="r" b="b"/>
                <a:pathLst>
                  <a:path w="350" h="1">
                    <a:moveTo>
                      <a:pt x="0" y="0"/>
                    </a:moveTo>
                    <a:lnTo>
                      <a:pt x="35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255280" y="31975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35680" y="3206880"/>
                <a:ext cx="132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8821800" y="3068640"/>
                <a:ext cx="192240" cy="1440"/>
              </a:xfrm>
              <a:custGeom>
                <a:avLst/>
                <a:gdLst/>
                <a:ahLst/>
                <a:rect l="l" t="t" r="r" b="b"/>
                <a:pathLst>
                  <a:path w="330" h="1">
                    <a:moveTo>
                      <a:pt x="0" y="0"/>
                    </a:moveTo>
                    <a:lnTo>
                      <a:pt x="3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flipH="1">
                <a:off x="5249160" y="2964240"/>
                <a:ext cx="75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164720" y="4063680"/>
                <a:ext cx="0" cy="797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59360" y="4709880"/>
                <a:ext cx="144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14360" y="4592880"/>
                <a:ext cx="91080" cy="119880"/>
              </a:xfrm>
              <a:custGeom>
                <a:avLst/>
                <a:gdLst/>
                <a:ahLst/>
                <a:rect l="l" t="t" r="r" b="b"/>
                <a:pathLst>
                  <a:path w="156" h="149">
                    <a:moveTo>
                      <a:pt x="156" y="149"/>
                    </a:moveTo>
                    <a:lnTo>
                      <a:pt x="77" y="0"/>
                    </a:lnTo>
                    <a:lnTo>
                      <a:pt x="0" y="149"/>
                    </a:lnTo>
                    <a:lnTo>
                      <a:pt x="156" y="1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14360" y="4732560"/>
                <a:ext cx="88560" cy="119520"/>
              </a:xfrm>
              <a:custGeom>
                <a:avLst/>
                <a:gdLst/>
                <a:ahLst/>
                <a:rect l="l" t="t" r="r" b="b"/>
                <a:pathLst>
                  <a:path w="155" h="149">
                    <a:moveTo>
                      <a:pt x="0" y="0"/>
                    </a:moveTo>
                    <a:lnTo>
                      <a:pt x="79" y="149"/>
                    </a:lnTo>
                    <a:lnTo>
                      <a:pt x="155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821800" y="5260320"/>
                <a:ext cx="192240" cy="1440"/>
              </a:xfrm>
              <a:custGeom>
                <a:avLst/>
                <a:gdLst/>
                <a:ahLst/>
                <a:rect l="l" t="t" r="r" b="b"/>
                <a:pathLst>
                  <a:path w="330" h="1">
                    <a:moveTo>
                      <a:pt x="0" y="0"/>
                    </a:moveTo>
                    <a:lnTo>
                      <a:pt x="3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" name=""/>
          <p:cNvSpPr/>
          <p:nvPr/>
        </p:nvSpPr>
        <p:spPr>
          <a:xfrm>
            <a:off x="2768760" y="3009960"/>
            <a:ext cx="4228920" cy="7999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78240" y="3720960"/>
            <a:ext cx="2286000" cy="254160"/>
          </a:xfrm>
          <a:custGeom>
            <a:avLst/>
            <a:gdLst/>
            <a:ahLst/>
            <a:rect l="l" t="t" r="r" b="b"/>
            <a:pathLst>
              <a:path w="1440" h="160">
                <a:moveTo>
                  <a:pt x="0" y="160"/>
                </a:moveTo>
                <a:cubicBezTo>
                  <a:pt x="196" y="80"/>
                  <a:pt x="392" y="0"/>
                  <a:pt x="632" y="0"/>
                </a:cubicBezTo>
                <a:cubicBezTo>
                  <a:pt x="872" y="0"/>
                  <a:pt x="1156" y="80"/>
                  <a:pt x="1440" y="160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1B8099-7DE6-4240-97D2-06669CC1ED3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OS transistor on silic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7772400" cy="2210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ansis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basic electrical component in digital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s as an on/off swi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ltage at “gate” controls whether current flows from source to d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confuse this “gate” with a logic 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762120" y="4237200"/>
            <a:ext cx="7162560" cy="1554120"/>
            <a:chOff x="762120" y="4237200"/>
            <a:chExt cx="7162560" cy="1554120"/>
          </a:xfrm>
        </p:grpSpPr>
        <p:sp>
          <p:nvSpPr>
            <p:cNvPr id="187" name=""/>
            <p:cNvSpPr/>
            <p:nvPr/>
          </p:nvSpPr>
          <p:spPr>
            <a:xfrm>
              <a:off x="2951280" y="4602240"/>
              <a:ext cx="1728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982960" y="4570560"/>
              <a:ext cx="1728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51200" y="472140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922480" y="4653000"/>
              <a:ext cx="1764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84320" y="469116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051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752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70036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646360" y="472932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59380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5416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48904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4354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38284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33028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7664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2408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17188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1193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06532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0131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60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906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85436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80180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747800" y="472932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956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68600" y="4675320"/>
              <a:ext cx="1177920" cy="997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1687320" y="4626000"/>
              <a:ext cx="4935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1758600" y="4641840"/>
              <a:ext cx="4222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1810800" y="4626000"/>
              <a:ext cx="405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181240" y="4610160"/>
              <a:ext cx="361800" cy="1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933720" y="5281560"/>
              <a:ext cx="3990960" cy="49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10200" y="5281560"/>
              <a:ext cx="725400" cy="246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840280" y="5299200"/>
              <a:ext cx="725760" cy="245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r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935600" y="5057640"/>
              <a:ext cx="904680" cy="247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ox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935600" y="4809960"/>
              <a:ext cx="904680" cy="247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360520" y="4237200"/>
              <a:ext cx="2005200" cy="380880"/>
            </a:xfrm>
            <a:custGeom>
              <a:avLst/>
              <a:gdLst/>
              <a:ahLst/>
              <a:rect l="l" t="t" r="r" b="b"/>
              <a:pathLst>
                <a:path w="1263" h="240">
                  <a:moveTo>
                    <a:pt x="0" y="198"/>
                  </a:moveTo>
                  <a:cubicBezTo>
                    <a:pt x="56" y="177"/>
                    <a:pt x="223" y="99"/>
                    <a:pt x="334" y="71"/>
                  </a:cubicBezTo>
                  <a:cubicBezTo>
                    <a:pt x="445" y="43"/>
                    <a:pt x="514" y="0"/>
                    <a:pt x="669" y="28"/>
                  </a:cubicBezTo>
                  <a:cubicBezTo>
                    <a:pt x="824" y="56"/>
                    <a:pt x="1139" y="196"/>
                    <a:pt x="1263" y="24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2120" y="5116680"/>
              <a:ext cx="1087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573280" y="5116680"/>
              <a:ext cx="1087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22240" y="47116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24" y="218"/>
                  </a:moveTo>
                  <a:cubicBezTo>
                    <a:pt x="111" y="194"/>
                    <a:pt x="0" y="110"/>
                    <a:pt x="45" y="74"/>
                  </a:cubicBezTo>
                  <a:cubicBezTo>
                    <a:pt x="90" y="38"/>
                    <a:pt x="322" y="15"/>
                    <a:pt x="395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12880" y="4576680"/>
              <a:ext cx="662040" cy="530280"/>
            </a:xfrm>
            <a:custGeom>
              <a:avLst/>
              <a:gdLst/>
              <a:ahLst/>
              <a:rect l="l" t="t" r="r" b="b"/>
              <a:pathLst>
                <a:path w="417" h="334">
                  <a:moveTo>
                    <a:pt x="324" y="334"/>
                  </a:moveTo>
                  <a:cubicBezTo>
                    <a:pt x="337" y="307"/>
                    <a:pt x="399" y="221"/>
                    <a:pt x="403" y="170"/>
                  </a:cubicBezTo>
                  <a:cubicBezTo>
                    <a:pt x="407" y="119"/>
                    <a:pt x="417" y="52"/>
                    <a:pt x="350" y="26"/>
                  </a:cubicBezTo>
                  <a:cubicBezTo>
                    <a:pt x="283" y="0"/>
                    <a:pt x="73" y="18"/>
                    <a:pt x="0" y="16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66040" y="5283360"/>
              <a:ext cx="135396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048280" y="5297400"/>
              <a:ext cx="7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80280" y="5543640"/>
              <a:ext cx="1449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licon subst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948200" y="5311800"/>
              <a:ext cx="150840" cy="318960"/>
            </a:xfrm>
            <a:prstGeom prst="rect">
              <a:avLst/>
            </a:prstGeom>
            <a:solidFill>
              <a:srgbClr val="c0c0c0"/>
            </a:solidFill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7243920" y="3643200"/>
            <a:ext cx="1579320" cy="797040"/>
            <a:chOff x="7243920" y="3643200"/>
            <a:chExt cx="1579320" cy="797040"/>
          </a:xfrm>
        </p:grpSpPr>
        <p:sp>
          <p:nvSpPr>
            <p:cNvPr id="234" name=""/>
            <p:cNvSpPr/>
            <p:nvPr/>
          </p:nvSpPr>
          <p:spPr>
            <a:xfrm>
              <a:off x="7591320" y="4027320"/>
              <a:ext cx="0" cy="18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37400" y="4027320"/>
              <a:ext cx="0" cy="18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637400" y="402732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637400" y="421164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729560" y="4213080"/>
              <a:ext cx="1440" cy="20952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132"/>
                  </a:moveTo>
                  <a:lnTo>
                    <a:pt x="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408800" y="411948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729560" y="3789360"/>
              <a:ext cx="1440" cy="236520"/>
            </a:xfrm>
            <a:custGeom>
              <a:avLst/>
              <a:gdLst/>
              <a:ahLst/>
              <a:rect l="l" t="t" r="r" b="b"/>
              <a:pathLst>
                <a:path w="1" h="149">
                  <a:moveTo>
                    <a:pt x="0" y="149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243920" y="3917880"/>
              <a:ext cx="322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810560" y="3643200"/>
              <a:ext cx="507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810560" y="4303800"/>
              <a:ext cx="48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846920" y="3838680"/>
              <a:ext cx="3240" cy="465120"/>
            </a:xfrm>
            <a:custGeom>
              <a:avLst/>
              <a:gdLst/>
              <a:ahLst/>
              <a:rect l="l" t="t" r="r" b="b"/>
              <a:pathLst>
                <a:path w="2" h="293">
                  <a:moveTo>
                    <a:pt x="0" y="0"/>
                  </a:moveTo>
                  <a:lnTo>
                    <a:pt x="2" y="29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061480" y="3919680"/>
              <a:ext cx="761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 gate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3860640" y="5116680"/>
            <a:ext cx="3645000" cy="406080"/>
          </a:xfrm>
          <a:custGeom>
            <a:avLst/>
            <a:gdLst/>
            <a:ahLst/>
            <a:rect l="l" t="t" r="r" b="b"/>
            <a:pathLst>
              <a:path w="2296" h="256">
                <a:moveTo>
                  <a:pt x="0" y="57"/>
                </a:moveTo>
                <a:cubicBezTo>
                  <a:pt x="191" y="51"/>
                  <a:pt x="383" y="46"/>
                  <a:pt x="464" y="73"/>
                </a:cubicBezTo>
                <a:cubicBezTo>
                  <a:pt x="545" y="100"/>
                  <a:pt x="317" y="192"/>
                  <a:pt x="488" y="217"/>
                </a:cubicBezTo>
                <a:cubicBezTo>
                  <a:pt x="659" y="242"/>
                  <a:pt x="1300" y="256"/>
                  <a:pt x="1488" y="225"/>
                </a:cubicBezTo>
                <a:cubicBezTo>
                  <a:pt x="1676" y="194"/>
                  <a:pt x="1481" y="66"/>
                  <a:pt x="1616" y="33"/>
                </a:cubicBezTo>
                <a:cubicBezTo>
                  <a:pt x="1751" y="0"/>
                  <a:pt x="2023" y="12"/>
                  <a:pt x="2296" y="25"/>
                </a:cubicBezTo>
              </a:path>
            </a:pathLst>
          </a:custGeom>
          <a:noFill/>
          <a:ln cap="sq"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5384880" y="4254480"/>
            <a:ext cx="279360" cy="520560"/>
            <a:chOff x="5384880" y="4254480"/>
            <a:chExt cx="279360" cy="520560"/>
          </a:xfrm>
        </p:grpSpPr>
        <p:sp>
          <p:nvSpPr>
            <p:cNvPr id="248" name=""/>
            <p:cNvSpPr/>
            <p:nvPr/>
          </p:nvSpPr>
          <p:spPr>
            <a:xfrm>
              <a:off x="5473800" y="4470480"/>
              <a:ext cx="0" cy="3045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384880" y="4254480"/>
              <a:ext cx="2793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590E1-C8F6-4114-BF5C-627161D1BF0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OS transistor implement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116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mentary Metal Oxide Semicondu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refer to logic lev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0 is 0V, 1 is 5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wo basic CMOS typ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MOS conducts if gate=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MOS conducts if gate=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nce “complementary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verter, NAND, N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489560" y="3693960"/>
            <a:ext cx="1357200" cy="1795680"/>
            <a:chOff x="4489560" y="3693960"/>
            <a:chExt cx="1357200" cy="1795680"/>
          </a:xfrm>
        </p:grpSpPr>
        <p:sp>
          <p:nvSpPr>
            <p:cNvPr id="253" name=""/>
            <p:cNvSpPr/>
            <p:nvPr/>
          </p:nvSpPr>
          <p:spPr>
            <a:xfrm flipV="1">
              <a:off x="5153040" y="378432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924440" y="4013280"/>
              <a:ext cx="90720" cy="92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15160" y="396720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060880" y="396720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060880" y="396720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0880" y="41511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5153040" y="4151160"/>
              <a:ext cx="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>
              <a:off x="5153040" y="424188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5160" y="433404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60880" y="433404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0880" y="433404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880" y="45165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>
              <a:off x="5153040" y="451620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649400" y="424188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489560" y="4132440"/>
              <a:ext cx="162000" cy="2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5152680" y="424188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335560" y="4156200"/>
              <a:ext cx="511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 = x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06960" y="378468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5106960" y="3693960"/>
              <a:ext cx="460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 flipV="1">
              <a:off x="5153040" y="3693960"/>
              <a:ext cx="460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060880" y="4699080"/>
              <a:ext cx="182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106960" y="47451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124600" y="4789440"/>
              <a:ext cx="52200" cy="1800"/>
            </a:xfrm>
            <a:custGeom>
              <a:avLst/>
              <a:gdLst/>
              <a:ahLst/>
              <a:rect l="l" t="t" r="r" b="b"/>
              <a:pathLst>
                <a:path w="83" h="1">
                  <a:moveTo>
                    <a:pt x="0" y="0"/>
                  </a:moveTo>
                  <a:lnTo>
                    <a:pt x="8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832280" y="40593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832280" y="4424400"/>
              <a:ext cx="182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32280" y="4059360"/>
              <a:ext cx="0" cy="3650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832280" y="369396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918320" y="5284800"/>
              <a:ext cx="52848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nver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53160" y="4680000"/>
              <a:ext cx="268200" cy="13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5950080" y="3693960"/>
            <a:ext cx="1344600" cy="1795680"/>
            <a:chOff x="5950080" y="3693960"/>
            <a:chExt cx="1344600" cy="1795680"/>
          </a:xfrm>
        </p:grpSpPr>
        <p:sp>
          <p:nvSpPr>
            <p:cNvPr id="283" name=""/>
            <p:cNvSpPr/>
            <p:nvPr/>
          </p:nvSpPr>
          <p:spPr>
            <a:xfrm flipH="1">
              <a:off x="6134040" y="4059360"/>
              <a:ext cx="7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207480" y="4013280"/>
              <a:ext cx="91800" cy="92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299280" y="396720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45360" y="396720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345360" y="3967200"/>
              <a:ext cx="90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345360" y="4149720"/>
              <a:ext cx="90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6127560" y="4516560"/>
              <a:ext cx="250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78840" y="442440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424920" y="442440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24920" y="4424400"/>
              <a:ext cx="91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424920" y="4606920"/>
              <a:ext cx="91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6127560" y="4791240"/>
              <a:ext cx="2509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37884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2492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24920" y="4699080"/>
              <a:ext cx="91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24920" y="4881600"/>
              <a:ext cx="91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6516720" y="460692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71000" y="3784680"/>
              <a:ext cx="918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V="1">
              <a:off x="6471000" y="3693960"/>
              <a:ext cx="4572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 flipV="1">
              <a:off x="6516720" y="3693960"/>
              <a:ext cx="46080" cy="907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6436080" y="3876480"/>
              <a:ext cx="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6516720" y="4333680"/>
              <a:ext cx="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6516720" y="424188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6516720" y="4334040"/>
              <a:ext cx="182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21560" y="4248000"/>
              <a:ext cx="5731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 = (xy)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50080" y="3935520"/>
              <a:ext cx="177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2440" y="3693960"/>
              <a:ext cx="26856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991480" y="4394160"/>
              <a:ext cx="16992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965920" y="4664160"/>
              <a:ext cx="162000" cy="21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6842160" y="4059360"/>
              <a:ext cx="7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50360" y="4013280"/>
              <a:ext cx="91800" cy="92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50360" y="396864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699600" y="396864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613560" y="396864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613560" y="41511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620040" y="3876480"/>
              <a:ext cx="0" cy="903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424920" y="4241880"/>
              <a:ext cx="19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6516720" y="488124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36080" y="5065560"/>
              <a:ext cx="1839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481800" y="511020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499440" y="5156280"/>
              <a:ext cx="52200" cy="360"/>
            </a:xfrm>
            <a:custGeom>
              <a:avLst/>
              <a:gdLst/>
              <a:ahLst/>
              <a:rect l="l" t="t" r="r" b="b"/>
              <a:pathLst>
                <a:path w="83" h="1">
                  <a:moveTo>
                    <a:pt x="0" y="0"/>
                  </a:moveTo>
                  <a:lnTo>
                    <a:pt x="83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34320" y="3943440"/>
              <a:ext cx="1699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436080" y="3876840"/>
              <a:ext cx="1951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6516720" y="378468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424920" y="414972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13560" y="415116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086520" y="5302080"/>
              <a:ext cx="88596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AND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186600" y="5041800"/>
              <a:ext cx="2682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340760" y="3693960"/>
            <a:ext cx="1579320" cy="1795680"/>
            <a:chOff x="7340760" y="3693960"/>
            <a:chExt cx="1579320" cy="1795680"/>
          </a:xfrm>
        </p:grpSpPr>
        <p:sp>
          <p:nvSpPr>
            <p:cNvPr id="332" name=""/>
            <p:cNvSpPr/>
            <p:nvPr/>
          </p:nvSpPr>
          <p:spPr>
            <a:xfrm>
              <a:off x="7672320" y="4013280"/>
              <a:ext cx="92160" cy="921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64480" y="396720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810560" y="396720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810560" y="396720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810560" y="415116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581960" y="405936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7900920" y="378432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9" name=""/>
            <p:cNvGrpSpPr/>
            <p:nvPr/>
          </p:nvGrpSpPr>
          <p:grpSpPr>
            <a:xfrm>
              <a:off x="7854840" y="3693960"/>
              <a:ext cx="92160" cy="90720"/>
              <a:chOff x="7854840" y="3693960"/>
              <a:chExt cx="92160" cy="90720"/>
            </a:xfrm>
          </p:grpSpPr>
          <p:sp>
            <p:nvSpPr>
              <p:cNvPr id="340" name=""/>
              <p:cNvSpPr/>
              <p:nvPr/>
            </p:nvSpPr>
            <p:spPr>
              <a:xfrm>
                <a:off x="7854840" y="3784680"/>
                <a:ext cx="9216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flipV="1">
                <a:off x="7854840" y="3693960"/>
                <a:ext cx="46080" cy="90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flipH="1" flipV="1">
                <a:off x="7900920" y="3693960"/>
                <a:ext cx="46080" cy="90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7604280" y="3693960"/>
              <a:ext cx="268200" cy="13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672320" y="4287960"/>
              <a:ext cx="92160" cy="91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764480" y="42418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10560" y="42418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810560" y="424188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810560" y="442440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81960" y="433404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7900920" y="4147920"/>
              <a:ext cx="0" cy="9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7900920" y="442440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900560" y="451656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129520" y="4414680"/>
              <a:ext cx="790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 = (x+y)'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900920" y="451476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0560" y="4606920"/>
              <a:ext cx="193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67232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71840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18400" y="469908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718400" y="488160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7810560" y="488160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7810560" y="460692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V="1">
              <a:off x="8004240" y="460692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004240" y="469908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08344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129520" y="4699080"/>
              <a:ext cx="0" cy="182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8004240" y="488160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004240" y="488160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810560" y="4973760"/>
              <a:ext cx="193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900920" y="4971960"/>
              <a:ext cx="0" cy="921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0" name=""/>
            <p:cNvGrpSpPr/>
            <p:nvPr/>
          </p:nvGrpSpPr>
          <p:grpSpPr>
            <a:xfrm>
              <a:off x="7810560" y="5064120"/>
              <a:ext cx="182520" cy="91800"/>
              <a:chOff x="7810560" y="5064120"/>
              <a:chExt cx="182520" cy="91800"/>
            </a:xfrm>
          </p:grpSpPr>
          <p:sp>
            <p:nvSpPr>
              <p:cNvPr id="371" name=""/>
              <p:cNvSpPr/>
              <p:nvPr/>
            </p:nvSpPr>
            <p:spPr>
              <a:xfrm>
                <a:off x="7810560" y="5064120"/>
                <a:ext cx="1825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855920" y="5110200"/>
                <a:ext cx="9108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873200" y="5155560"/>
                <a:ext cx="52560" cy="360"/>
              </a:xfrm>
              <a:custGeom>
                <a:avLst/>
                <a:gdLst/>
                <a:ahLst/>
                <a:rect l="l" t="t" r="r" b="b"/>
                <a:pathLst>
                  <a:path w="83" h="1">
                    <a:moveTo>
                      <a:pt x="0" y="0"/>
                    </a:moveTo>
                    <a:lnTo>
                      <a:pt x="83" y="0"/>
                    </a:lnTo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7581960" y="4791240"/>
              <a:ext cx="903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129520" y="479124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408800" y="4680000"/>
              <a:ext cx="173160" cy="16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221680" y="4697280"/>
              <a:ext cx="1792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77120" y="3940200"/>
              <a:ext cx="20484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40760" y="4221000"/>
              <a:ext cx="2649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526160" y="5268960"/>
              <a:ext cx="824040" cy="2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OR 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596360" y="5046840"/>
              <a:ext cx="268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4894200" y="1738440"/>
            <a:ext cx="1579680" cy="1170000"/>
            <a:chOff x="4894200" y="1738440"/>
            <a:chExt cx="1579680" cy="1170000"/>
          </a:xfrm>
        </p:grpSpPr>
        <p:sp>
          <p:nvSpPr>
            <p:cNvPr id="383" name=""/>
            <p:cNvSpPr/>
            <p:nvPr/>
          </p:nvSpPr>
          <p:spPr>
            <a:xfrm>
              <a:off x="5241960" y="212256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288040" y="2122560"/>
              <a:ext cx="0" cy="18396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288040" y="212256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288040" y="230652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380200" y="2308320"/>
              <a:ext cx="1440" cy="209520"/>
            </a:xfrm>
            <a:custGeom>
              <a:avLst/>
              <a:gdLst/>
              <a:ahLst/>
              <a:rect l="l" t="t" r="r" b="b"/>
              <a:pathLst>
                <a:path w="1" h="132">
                  <a:moveTo>
                    <a:pt x="0" y="132"/>
                  </a:moveTo>
                  <a:lnTo>
                    <a:pt x="1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59440" y="221472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380200" y="1884240"/>
              <a:ext cx="1440" cy="236520"/>
            </a:xfrm>
            <a:custGeom>
              <a:avLst/>
              <a:gdLst/>
              <a:ahLst/>
              <a:rect l="l" t="t" r="r" b="b"/>
              <a:pathLst>
                <a:path w="1" h="149">
                  <a:moveTo>
                    <a:pt x="0" y="149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94200" y="2013120"/>
              <a:ext cx="322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460840" y="1738440"/>
              <a:ext cx="5083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460840" y="2398680"/>
              <a:ext cx="48276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345280" y="2676600"/>
              <a:ext cx="590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n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497560" y="1933560"/>
              <a:ext cx="3240" cy="465120"/>
            </a:xfrm>
            <a:custGeom>
              <a:avLst/>
              <a:gdLst/>
              <a:ahLst/>
              <a:rect l="l" t="t" r="r" b="b"/>
              <a:pathLst>
                <a:path w="2" h="293">
                  <a:moveTo>
                    <a:pt x="0" y="0"/>
                  </a:moveTo>
                  <a:lnTo>
                    <a:pt x="2" y="293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711760" y="2014560"/>
              <a:ext cx="762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 gate=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6" name=""/>
          <p:cNvGrpSpPr/>
          <p:nvPr/>
        </p:nvGrpSpPr>
        <p:grpSpPr>
          <a:xfrm>
            <a:off x="6480000" y="1717560"/>
            <a:ext cx="1641240" cy="1170000"/>
            <a:chOff x="6480000" y="1717560"/>
            <a:chExt cx="1641240" cy="1170000"/>
          </a:xfrm>
        </p:grpSpPr>
        <p:sp>
          <p:nvSpPr>
            <p:cNvPr id="397" name=""/>
            <p:cNvSpPr/>
            <p:nvPr/>
          </p:nvSpPr>
          <p:spPr>
            <a:xfrm>
              <a:off x="6889320" y="2101680"/>
              <a:ext cx="0" cy="18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935400" y="2101680"/>
              <a:ext cx="0" cy="1843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935400" y="210168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935400" y="2286000"/>
              <a:ext cx="92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029000" y="2287440"/>
              <a:ext cx="1800" cy="222480"/>
            </a:xfrm>
            <a:custGeom>
              <a:avLst/>
              <a:gdLst/>
              <a:ahLst/>
              <a:rect l="l" t="t" r="r" b="b"/>
              <a:pathLst>
                <a:path w="1" h="140">
                  <a:moveTo>
                    <a:pt x="1" y="140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602040" y="2193840"/>
              <a:ext cx="1825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027560" y="1868400"/>
              <a:ext cx="1440" cy="236520"/>
            </a:xfrm>
            <a:custGeom>
              <a:avLst/>
              <a:gdLst/>
              <a:ahLst/>
              <a:rect l="l" t="t" r="r" b="b"/>
              <a:pathLst>
                <a:path w="1" h="149">
                  <a:moveTo>
                    <a:pt x="0" y="149"/>
                  </a:move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480000" y="1992240"/>
              <a:ext cx="3222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108560" y="1717560"/>
              <a:ext cx="5079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108560" y="2378160"/>
              <a:ext cx="482400" cy="13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ra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992640" y="2655720"/>
              <a:ext cx="59040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M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148160" y="1905120"/>
              <a:ext cx="1440" cy="473040"/>
            </a:xfrm>
            <a:custGeom>
              <a:avLst/>
              <a:gdLst/>
              <a:ahLst/>
              <a:rect l="l" t="t" r="r" b="b"/>
              <a:pathLst>
                <a:path w="1" h="298">
                  <a:moveTo>
                    <a:pt x="1" y="0"/>
                  </a:moveTo>
                  <a:lnTo>
                    <a:pt x="0" y="298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359480" y="1994040"/>
              <a:ext cx="761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nduc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f gate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787800" y="2152800"/>
              <a:ext cx="92160" cy="91800"/>
            </a:xfrm>
            <a:prstGeom prst="ellipse">
              <a:avLst/>
            </a:pr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1A6C7-8E34-4E61-B829-A53FD05F781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asic logic ga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22600" y="2685960"/>
            <a:ext cx="7412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x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35120" y="4643280"/>
            <a:ext cx="749520" cy="4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(x y)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948360" y="2685960"/>
            <a:ext cx="77976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x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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43040" y="2685960"/>
            <a:ext cx="6141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65120" y="4643280"/>
            <a:ext cx="75420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x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ver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615960" y="3936960"/>
            <a:ext cx="865080" cy="293400"/>
            <a:chOff x="615960" y="3936960"/>
            <a:chExt cx="865080" cy="293400"/>
          </a:xfrm>
        </p:grpSpPr>
        <p:sp>
          <p:nvSpPr>
            <p:cNvPr id="418" name=""/>
            <p:cNvSpPr/>
            <p:nvPr/>
          </p:nvSpPr>
          <p:spPr>
            <a:xfrm>
              <a:off x="615960" y="3973320"/>
              <a:ext cx="11916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842040" y="3964680"/>
              <a:ext cx="293400" cy="23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5360" y="4076640"/>
              <a:ext cx="95040" cy="4680"/>
            </a:xfrm>
            <a:custGeom>
              <a:avLst/>
              <a:gdLst/>
              <a:ahLst/>
              <a:rect l="l" t="t" r="r" b="b"/>
              <a:pathLst>
                <a:path w="60" h="3">
                  <a:moveTo>
                    <a:pt x="60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1180800" y="4084560"/>
              <a:ext cx="119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112760" y="4039920"/>
              <a:ext cx="60480" cy="730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363680" y="3984480"/>
              <a:ext cx="11736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4768920" y="2685960"/>
            <a:ext cx="7905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x + 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714920" y="4643280"/>
            <a:ext cx="850680" cy="37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 = (x+y)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441360" y="1901880"/>
            <a:ext cx="1039680" cy="311040"/>
            <a:chOff x="441360" y="1901880"/>
            <a:chExt cx="1039680" cy="311040"/>
          </a:xfrm>
        </p:grpSpPr>
        <p:sp>
          <p:nvSpPr>
            <p:cNvPr id="427" name=""/>
            <p:cNvSpPr/>
            <p:nvPr/>
          </p:nvSpPr>
          <p:spPr>
            <a:xfrm>
              <a:off x="1108080" y="2036880"/>
              <a:ext cx="133200" cy="4680"/>
            </a:xfrm>
            <a:custGeom>
              <a:avLst/>
              <a:gdLst/>
              <a:ahLst/>
              <a:rect l="l" t="t" r="r" b="b"/>
              <a:pathLst>
                <a:path w="84" h="3">
                  <a:moveTo>
                    <a:pt x="84" y="0"/>
                  </a:moveTo>
                  <a:lnTo>
                    <a:pt x="0" y="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441360" y="1914480"/>
              <a:ext cx="19512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5400000">
              <a:off x="831600" y="1901880"/>
              <a:ext cx="274680" cy="27468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39720" y="2035440"/>
              <a:ext cx="187200" cy="2880"/>
            </a:xfrm>
            <a:custGeom>
              <a:avLst/>
              <a:gdLst/>
              <a:ahLst/>
              <a:rect l="l" t="t" r="r" b="b"/>
              <a:pathLst>
                <a:path w="118" h="2">
                  <a:moveTo>
                    <a:pt x="118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247760" y="1935360"/>
              <a:ext cx="233280" cy="27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2583000" y="3936960"/>
            <a:ext cx="954000" cy="519120"/>
            <a:chOff x="2583000" y="3936960"/>
            <a:chExt cx="954000" cy="519120"/>
          </a:xfrm>
        </p:grpSpPr>
        <p:sp>
          <p:nvSpPr>
            <p:cNvPr id="433" name=""/>
            <p:cNvSpPr/>
            <p:nvPr/>
          </p:nvSpPr>
          <p:spPr>
            <a:xfrm>
              <a:off x="2584440" y="3936960"/>
              <a:ext cx="13320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83000" y="4211640"/>
              <a:ext cx="133200" cy="2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3214800" y="4198680"/>
              <a:ext cx="133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827440" y="3992400"/>
              <a:ext cx="401400" cy="4017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693520" y="405900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>
              <a:off x="2693520" y="4327560"/>
              <a:ext cx="13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395520" y="4105080"/>
              <a:ext cx="14148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22720" y="4160880"/>
              <a:ext cx="66600" cy="66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1" name=""/>
          <p:cNvGrpSpPr/>
          <p:nvPr/>
        </p:nvGrpSpPr>
        <p:grpSpPr>
          <a:xfrm>
            <a:off x="2446200" y="1901880"/>
            <a:ext cx="1133640" cy="482400"/>
            <a:chOff x="2446200" y="1901880"/>
            <a:chExt cx="1133640" cy="482400"/>
          </a:xfrm>
        </p:grpSpPr>
        <p:sp>
          <p:nvSpPr>
            <p:cNvPr id="442" name=""/>
            <p:cNvSpPr/>
            <p:nvPr/>
          </p:nvSpPr>
          <p:spPr>
            <a:xfrm>
              <a:off x="3408480" y="2066760"/>
              <a:ext cx="171360" cy="18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>
              <a:off x="3174840" y="2152440"/>
              <a:ext cx="15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763720" y="1940040"/>
              <a:ext cx="408240" cy="41256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>
              <a:off x="2611080" y="2008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>
              <a:off x="2611080" y="228420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460600" y="1901880"/>
              <a:ext cx="1508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446200" y="2162160"/>
              <a:ext cx="150840" cy="2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6896160" y="1901880"/>
            <a:ext cx="995040" cy="495000"/>
            <a:chOff x="6896160" y="1901880"/>
            <a:chExt cx="995040" cy="495000"/>
          </a:xfrm>
        </p:grpSpPr>
        <p:sp>
          <p:nvSpPr>
            <p:cNvPr id="450" name=""/>
            <p:cNvSpPr/>
            <p:nvPr/>
          </p:nvSpPr>
          <p:spPr>
            <a:xfrm>
              <a:off x="7575480" y="2153520"/>
              <a:ext cx="120240" cy="3240"/>
            </a:xfrm>
            <a:custGeom>
              <a:avLst/>
              <a:gdLst/>
              <a:ahLst/>
              <a:rect l="l" t="t" r="r" b="b"/>
              <a:pathLst>
                <a:path w="74" h="2">
                  <a:moveTo>
                    <a:pt x="74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173000" y="1945080"/>
              <a:ext cx="55080" cy="41868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7173000" y="2154600"/>
              <a:ext cx="405360" cy="2084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173000" y="1945080"/>
              <a:ext cx="405360" cy="2102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15760" y="1945080"/>
              <a:ext cx="57240" cy="41868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96160" y="1901880"/>
              <a:ext cx="133560" cy="19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897600" y="2172960"/>
              <a:ext cx="13356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758000" y="2054520"/>
              <a:ext cx="133200" cy="20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038000" y="2016360"/>
              <a:ext cx="154800" cy="360"/>
            </a:xfrm>
            <a:custGeom>
              <a:avLst/>
              <a:gdLst/>
              <a:ahLst/>
              <a:rect l="l" t="t" r="r" b="b"/>
              <a:pathLst>
                <a:path w="165" h="1">
                  <a:moveTo>
                    <a:pt x="165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038000" y="2292480"/>
              <a:ext cx="154800" cy="1800"/>
            </a:xfrm>
            <a:custGeom>
              <a:avLst/>
              <a:gdLst/>
              <a:ahLst/>
              <a:rect l="l" t="t" r="r" b="b"/>
              <a:pathLst>
                <a:path w="165" h="2">
                  <a:moveTo>
                    <a:pt x="165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0" name=""/>
          <p:cNvGrpSpPr/>
          <p:nvPr/>
        </p:nvGrpSpPr>
        <p:grpSpPr>
          <a:xfrm>
            <a:off x="4714920" y="3936960"/>
            <a:ext cx="1038240" cy="441360"/>
            <a:chOff x="4714920" y="3936960"/>
            <a:chExt cx="1038240" cy="441360"/>
          </a:xfrm>
        </p:grpSpPr>
        <p:sp>
          <p:nvSpPr>
            <p:cNvPr id="461" name=""/>
            <p:cNvSpPr/>
            <p:nvPr/>
          </p:nvSpPr>
          <p:spPr>
            <a:xfrm>
              <a:off x="4714920" y="3936960"/>
              <a:ext cx="1396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722840" y="4162320"/>
              <a:ext cx="13968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411880" y="4156200"/>
              <a:ext cx="144360" cy="3240"/>
            </a:xfrm>
            <a:custGeom>
              <a:avLst/>
              <a:gdLst/>
              <a:ahLst/>
              <a:rect l="l" t="t" r="r" b="b"/>
              <a:pathLst>
                <a:path w="147" h="4">
                  <a:moveTo>
                    <a:pt x="147" y="0"/>
                  </a:moveTo>
                  <a:lnTo>
                    <a:pt x="0" y="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613480" y="4052880"/>
              <a:ext cx="139680" cy="18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4991040" y="4154400"/>
              <a:ext cx="424080" cy="2066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3949920"/>
              <a:ext cx="59040" cy="41112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91040" y="3949920"/>
              <a:ext cx="424080" cy="20448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97480" y="4122720"/>
              <a:ext cx="7164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849920" y="4281480"/>
              <a:ext cx="164880" cy="1800"/>
            </a:xfrm>
            <a:custGeom>
              <a:avLst/>
              <a:gdLst/>
              <a:ahLst/>
              <a:rect l="l" t="t" r="r" b="b"/>
              <a:pathLst>
                <a:path w="168" h="2">
                  <a:moveTo>
                    <a:pt x="168" y="0"/>
                  </a:moveTo>
                  <a:lnTo>
                    <a:pt x="0" y="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849920" y="4037040"/>
              <a:ext cx="173160" cy="1800"/>
            </a:xfrm>
            <a:custGeom>
              <a:avLst/>
              <a:gdLst/>
              <a:ahLst/>
              <a:rect l="l" t="t" r="r" b="b"/>
              <a:pathLst>
                <a:path w="176" h="1">
                  <a:moveTo>
                    <a:pt x="176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6885000" y="3936960"/>
            <a:ext cx="914400" cy="463680"/>
            <a:chOff x="6885000" y="3936960"/>
            <a:chExt cx="914400" cy="463680"/>
          </a:xfrm>
        </p:grpSpPr>
        <p:sp>
          <p:nvSpPr>
            <p:cNvPr id="472" name=""/>
            <p:cNvSpPr/>
            <p:nvPr/>
          </p:nvSpPr>
          <p:spPr>
            <a:xfrm>
              <a:off x="7502400" y="4179960"/>
              <a:ext cx="150840" cy="4680"/>
            </a:xfrm>
            <a:custGeom>
              <a:avLst/>
              <a:gdLst/>
              <a:ahLst/>
              <a:rect l="l" t="t" r="r" b="b"/>
              <a:pathLst>
                <a:path w="95" h="3">
                  <a:moveTo>
                    <a:pt x="95" y="3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V="1">
              <a:off x="7147080" y="4172040"/>
              <a:ext cx="365040" cy="20160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147080" y="3971880"/>
              <a:ext cx="50760" cy="40176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7147080" y="3971880"/>
              <a:ext cx="365040" cy="20016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095960" y="3971880"/>
              <a:ext cx="51120" cy="40176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7024680" y="4040280"/>
              <a:ext cx="139680" cy="360"/>
            </a:xfrm>
            <a:custGeom>
              <a:avLst/>
              <a:gdLst/>
              <a:ahLst/>
              <a:rect l="l" t="t" r="r" b="b"/>
              <a:pathLst>
                <a:path w="165" h="1">
                  <a:moveTo>
                    <a:pt x="165" y="1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004160" y="4302000"/>
              <a:ext cx="160200" cy="3240"/>
            </a:xfrm>
            <a:custGeom>
              <a:avLst/>
              <a:gdLst/>
              <a:ahLst/>
              <a:rect l="l" t="t" r="r" b="b"/>
              <a:pathLst>
                <a:path w="101" h="2">
                  <a:moveTo>
                    <a:pt x="101" y="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85000" y="3936960"/>
              <a:ext cx="120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99400" y="4184640"/>
              <a:ext cx="120600" cy="21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678800" y="4087800"/>
              <a:ext cx="120600" cy="20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12120" y="4145040"/>
              <a:ext cx="60120" cy="6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6994440" y="4643280"/>
            <a:ext cx="908280" cy="427320"/>
            <a:chOff x="6994440" y="4643280"/>
            <a:chExt cx="908280" cy="427320"/>
          </a:xfrm>
        </p:grpSpPr>
        <p:sp>
          <p:nvSpPr>
            <p:cNvPr id="484" name=""/>
            <p:cNvSpPr/>
            <p:nvPr/>
          </p:nvSpPr>
          <p:spPr>
            <a:xfrm>
              <a:off x="6994440" y="4643280"/>
              <a:ext cx="90828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 = x   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N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85" name=""/>
            <p:cNvGrpSpPr/>
            <p:nvPr/>
          </p:nvGrpSpPr>
          <p:grpSpPr>
            <a:xfrm>
              <a:off x="7424640" y="4711680"/>
              <a:ext cx="92160" cy="92160"/>
              <a:chOff x="7424640" y="4711680"/>
              <a:chExt cx="92160" cy="92160"/>
            </a:xfrm>
          </p:grpSpPr>
          <p:sp>
            <p:nvSpPr>
              <p:cNvPr id="486" name=""/>
              <p:cNvSpPr/>
              <p:nvPr/>
            </p:nvSpPr>
            <p:spPr>
              <a:xfrm>
                <a:off x="7424640" y="4711680"/>
                <a:ext cx="92160" cy="92160"/>
              </a:xfrm>
              <a:prstGeom prst="ellipse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443720" y="473724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88" name=""/>
          <p:cNvGrpSpPr/>
          <p:nvPr/>
        </p:nvGrpSpPr>
        <p:grpSpPr>
          <a:xfrm>
            <a:off x="4680000" y="1901880"/>
            <a:ext cx="1150920" cy="434880"/>
            <a:chOff x="4680000" y="1901880"/>
            <a:chExt cx="1150920" cy="434880"/>
          </a:xfrm>
        </p:grpSpPr>
        <p:sp>
          <p:nvSpPr>
            <p:cNvPr id="489" name=""/>
            <p:cNvSpPr/>
            <p:nvPr/>
          </p:nvSpPr>
          <p:spPr>
            <a:xfrm>
              <a:off x="5669280" y="2035080"/>
              <a:ext cx="1616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680000" y="2097000"/>
              <a:ext cx="1954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686480" y="1906560"/>
              <a:ext cx="1620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440680" y="2120760"/>
              <a:ext cx="176040" cy="3240"/>
            </a:xfrm>
            <a:custGeom>
              <a:avLst/>
              <a:gdLst/>
              <a:ahLst/>
              <a:rect l="l" t="t" r="r" b="b"/>
              <a:pathLst>
                <a:path w="111" h="2">
                  <a:moveTo>
                    <a:pt x="111" y="2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flipV="1">
              <a:off x="4954680" y="2119320"/>
              <a:ext cx="488880" cy="2174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954680" y="1901880"/>
              <a:ext cx="488880" cy="217440"/>
            </a:xfrm>
            <a:custGeom>
              <a:avLst/>
              <a:gdLst/>
              <a:ahLst/>
              <a:rect l="l" t="t" r="r" b="b"/>
              <a:pathLst>
                <a:path w="576" h="288">
                  <a:moveTo>
                    <a:pt x="0" y="0"/>
                  </a:moveTo>
                  <a:cubicBezTo>
                    <a:pt x="68" y="8"/>
                    <a:pt x="314" y="2"/>
                    <a:pt x="410" y="50"/>
                  </a:cubicBezTo>
                  <a:cubicBezTo>
                    <a:pt x="506" y="98"/>
                    <a:pt x="542" y="238"/>
                    <a:pt x="576" y="288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954680" y="1901880"/>
              <a:ext cx="68400" cy="434880"/>
            </a:xfrm>
            <a:custGeom>
              <a:avLst/>
              <a:gdLst/>
              <a:ahLst/>
              <a:rect l="l" t="t" r="r" b="b"/>
              <a:pathLst>
                <a:path w="80" h="576">
                  <a:moveTo>
                    <a:pt x="0" y="0"/>
                  </a:moveTo>
                  <a:cubicBezTo>
                    <a:pt x="13" y="48"/>
                    <a:pt x="80" y="194"/>
                    <a:pt x="80" y="290"/>
                  </a:cubicBezTo>
                  <a:cubicBezTo>
                    <a:pt x="80" y="386"/>
                    <a:pt x="17" y="517"/>
                    <a:pt x="0" y="576"/>
                  </a:cubicBezTo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799160" y="2014560"/>
              <a:ext cx="201600" cy="1440"/>
            </a:xfrm>
            <a:custGeom>
              <a:avLst/>
              <a:gdLst/>
              <a:ahLst/>
              <a:rect l="l" t="t" r="r" b="b"/>
              <a:pathLst>
                <a:path w="127" h="1">
                  <a:moveTo>
                    <a:pt x="127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807080" y="2208240"/>
              <a:ext cx="203400" cy="1440"/>
            </a:xfrm>
            <a:custGeom>
              <a:avLst/>
              <a:gdLst/>
              <a:ahLst/>
              <a:rect l="l" t="t" r="r" b="b"/>
              <a:pathLst>
                <a:path w="128" h="1">
                  <a:moveTo>
                    <a:pt x="128" y="0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3592440" y="1909800"/>
            <a:ext cx="874800" cy="1138320"/>
            <a:chOff x="3592440" y="1909800"/>
            <a:chExt cx="874800" cy="1138320"/>
          </a:xfrm>
        </p:grpSpPr>
        <p:sp>
          <p:nvSpPr>
            <p:cNvPr id="499" name=""/>
            <p:cNvSpPr/>
            <p:nvPr/>
          </p:nvSpPr>
          <p:spPr>
            <a:xfrm>
              <a:off x="3598920" y="19130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9892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606840" y="191124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878280" y="191448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606840" y="213660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606840" y="236520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89440" y="19130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87972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192560" y="19224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8284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68800" y="190980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611520" y="281124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12960" y="259092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59892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1520" y="23702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8464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9244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87504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17816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59388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87648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179960" y="2809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800680" y="1909800"/>
            <a:ext cx="874800" cy="1138320"/>
            <a:chOff x="5800680" y="1909800"/>
            <a:chExt cx="874800" cy="1138320"/>
          </a:xfrm>
        </p:grpSpPr>
        <p:sp>
          <p:nvSpPr>
            <p:cNvPr id="522" name=""/>
            <p:cNvSpPr/>
            <p:nvPr/>
          </p:nvSpPr>
          <p:spPr>
            <a:xfrm>
              <a:off x="5807160" y="19130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80716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815080" y="191124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086520" y="191448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815080" y="213660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815080" y="236520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097680" y="19130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8796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400800" y="19224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39108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377040" y="190980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819760" y="281124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5821200" y="259092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580716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6089760" y="23702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39288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580068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608328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38640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80212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08472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388200" y="2809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4" name=""/>
          <p:cNvGrpSpPr/>
          <p:nvPr/>
        </p:nvGrpSpPr>
        <p:grpSpPr>
          <a:xfrm>
            <a:off x="7950240" y="1909800"/>
            <a:ext cx="874800" cy="1138320"/>
            <a:chOff x="7950240" y="1909800"/>
            <a:chExt cx="874800" cy="1138320"/>
          </a:xfrm>
        </p:grpSpPr>
        <p:sp>
          <p:nvSpPr>
            <p:cNvPr id="545" name=""/>
            <p:cNvSpPr/>
            <p:nvPr/>
          </p:nvSpPr>
          <p:spPr>
            <a:xfrm>
              <a:off x="7956720" y="19130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95672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964640" y="191124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236080" y="191448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64640" y="213660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4640" y="236520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247240" y="19130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23752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550360" y="19224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54064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526600" y="190980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7969320" y="281124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970760" y="259092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95672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239320" y="237024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542440" y="2370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95024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23284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535960" y="258588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95168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8234280" y="2809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8537760" y="2809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7950240" y="3924360"/>
            <a:ext cx="874800" cy="1138320"/>
            <a:chOff x="7950240" y="3924360"/>
            <a:chExt cx="874800" cy="1138320"/>
          </a:xfrm>
        </p:grpSpPr>
        <p:sp>
          <p:nvSpPr>
            <p:cNvPr id="568" name=""/>
            <p:cNvSpPr/>
            <p:nvPr/>
          </p:nvSpPr>
          <p:spPr>
            <a:xfrm>
              <a:off x="7956720" y="3927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95672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964640" y="392580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8236080" y="392904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7964640" y="415116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964640" y="437976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8247240" y="39276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823752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8550360" y="39369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54064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8526600" y="392436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7969320" y="482580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970760" y="460548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795672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8239320" y="4384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854244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95024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823284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853596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95168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823428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537760" y="482436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3592440" y="3924360"/>
            <a:ext cx="874800" cy="1138320"/>
            <a:chOff x="3592440" y="3924360"/>
            <a:chExt cx="874800" cy="1138320"/>
          </a:xfrm>
        </p:grpSpPr>
        <p:sp>
          <p:nvSpPr>
            <p:cNvPr id="591" name=""/>
            <p:cNvSpPr/>
            <p:nvPr/>
          </p:nvSpPr>
          <p:spPr>
            <a:xfrm>
              <a:off x="3598920" y="3927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59892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606840" y="392580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878280" y="392904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606840" y="415116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606840" y="437976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889440" y="39276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87972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192560" y="39369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8284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68800" y="392436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611520" y="482580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612960" y="460548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59892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881520" y="4384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18464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59244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87504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17816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359388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387648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179960" y="482436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800680" y="3924360"/>
            <a:ext cx="874800" cy="1138320"/>
            <a:chOff x="5800680" y="3924360"/>
            <a:chExt cx="874800" cy="1138320"/>
          </a:xfrm>
        </p:grpSpPr>
        <p:sp>
          <p:nvSpPr>
            <p:cNvPr id="614" name=""/>
            <p:cNvSpPr/>
            <p:nvPr/>
          </p:nvSpPr>
          <p:spPr>
            <a:xfrm>
              <a:off x="5807160" y="3927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0716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15080" y="3925800"/>
              <a:ext cx="841320" cy="11286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86520" y="3929040"/>
              <a:ext cx="3240" cy="1123920"/>
            </a:xfrm>
            <a:custGeom>
              <a:avLst/>
              <a:gdLst/>
              <a:ahLst/>
              <a:rect l="l" t="t" r="r" b="b"/>
              <a:pathLst>
                <a:path w="2" h="708">
                  <a:moveTo>
                    <a:pt x="2" y="708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15080" y="4151160"/>
              <a:ext cx="849240" cy="1800"/>
            </a:xfrm>
            <a:custGeom>
              <a:avLst/>
              <a:gdLst/>
              <a:ahLst/>
              <a:rect l="l" t="t" r="r" b="b"/>
              <a:pathLst>
                <a:path w="535" h="1">
                  <a:moveTo>
                    <a:pt x="535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15080" y="4379760"/>
              <a:ext cx="839520" cy="1800"/>
            </a:xfrm>
            <a:custGeom>
              <a:avLst/>
              <a:gdLst/>
              <a:ahLst/>
              <a:rect l="l" t="t" r="r" b="b"/>
              <a:pathLst>
                <a:path w="529" h="1">
                  <a:moveTo>
                    <a:pt x="0" y="0"/>
                  </a:moveTo>
                  <a:lnTo>
                    <a:pt x="529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097680" y="39276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08796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400800" y="39369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9108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377040" y="3924360"/>
              <a:ext cx="1440" cy="1138320"/>
            </a:xfrm>
            <a:custGeom>
              <a:avLst/>
              <a:gdLst/>
              <a:ahLst/>
              <a:rect l="l" t="t" r="r" b="b"/>
              <a:pathLst>
                <a:path w="1" h="717">
                  <a:moveTo>
                    <a:pt x="0" y="0"/>
                  </a:moveTo>
                  <a:lnTo>
                    <a:pt x="0" y="717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19760" y="4825800"/>
              <a:ext cx="834840" cy="1800"/>
            </a:xfrm>
            <a:custGeom>
              <a:avLst/>
              <a:gdLst/>
              <a:ahLst/>
              <a:rect l="l" t="t" r="r" b="b"/>
              <a:pathLst>
                <a:path w="526" h="1">
                  <a:moveTo>
                    <a:pt x="526" y="0"/>
                  </a:moveTo>
                  <a:lnTo>
                    <a:pt x="0" y="1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21200" y="4605480"/>
              <a:ext cx="833400" cy="1440"/>
            </a:xfrm>
            <a:custGeom>
              <a:avLst/>
              <a:gdLst/>
              <a:ahLst/>
              <a:rect l="l" t="t" r="r" b="b"/>
              <a:pathLst>
                <a:path w="525" h="1">
                  <a:moveTo>
                    <a:pt x="525" y="1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0716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089760" y="438480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392880" y="4384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0068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08328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6386400" y="4600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0212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84720" y="48243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388200" y="4824360"/>
              <a:ext cx="27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6" name=""/>
          <p:cNvGrpSpPr/>
          <p:nvPr/>
        </p:nvGrpSpPr>
        <p:grpSpPr>
          <a:xfrm>
            <a:off x="1649520" y="1909800"/>
            <a:ext cx="565200" cy="687240"/>
            <a:chOff x="1649520" y="1909800"/>
            <a:chExt cx="565200" cy="687240"/>
          </a:xfrm>
        </p:grpSpPr>
        <p:sp>
          <p:nvSpPr>
            <p:cNvPr id="637" name=""/>
            <p:cNvSpPr/>
            <p:nvPr/>
          </p:nvSpPr>
          <p:spPr>
            <a:xfrm>
              <a:off x="1649520" y="1911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940040" y="19112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649520" y="2135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30320" y="21366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649520" y="2368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932120" y="236844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657440" y="1909800"/>
              <a:ext cx="557280" cy="6746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927080" y="1913040"/>
              <a:ext cx="1800" cy="669960"/>
            </a:xfrm>
            <a:custGeom>
              <a:avLst/>
              <a:gdLst/>
              <a:ahLst/>
              <a:rect l="l" t="t" r="r" b="b"/>
              <a:pathLst>
                <a:path w="1" h="422">
                  <a:moveTo>
                    <a:pt x="0" y="422"/>
                  </a:moveTo>
                  <a:lnTo>
                    <a:pt x="1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657440" y="2136600"/>
              <a:ext cx="549360" cy="1800"/>
            </a:xfrm>
            <a:custGeom>
              <a:avLst/>
              <a:gdLst/>
              <a:ahLst/>
              <a:rect l="l" t="t" r="r" b="b"/>
              <a:pathLst>
                <a:path w="346" h="1">
                  <a:moveTo>
                    <a:pt x="346" y="0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657440" y="2363760"/>
              <a:ext cx="557280" cy="1440"/>
            </a:xfrm>
            <a:custGeom>
              <a:avLst/>
              <a:gdLst/>
              <a:ahLst/>
              <a:rect l="l" t="t" r="r" b="b"/>
              <a:pathLst>
                <a:path w="351" h="1">
                  <a:moveTo>
                    <a:pt x="0" y="0"/>
                  </a:moveTo>
                  <a:lnTo>
                    <a:pt x="351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1650960" y="3924360"/>
            <a:ext cx="565200" cy="687240"/>
            <a:chOff x="1650960" y="3924360"/>
            <a:chExt cx="565200" cy="687240"/>
          </a:xfrm>
        </p:grpSpPr>
        <p:sp>
          <p:nvSpPr>
            <p:cNvPr id="648" name=""/>
            <p:cNvSpPr/>
            <p:nvPr/>
          </p:nvSpPr>
          <p:spPr>
            <a:xfrm>
              <a:off x="1650960" y="3925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41480" y="39258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650960" y="414972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1931760" y="415116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650960" y="43830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1933560" y="4383000"/>
              <a:ext cx="274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658880" y="3924360"/>
              <a:ext cx="557280" cy="6746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928520" y="3927600"/>
              <a:ext cx="1800" cy="669960"/>
            </a:xfrm>
            <a:custGeom>
              <a:avLst/>
              <a:gdLst/>
              <a:ahLst/>
              <a:rect l="l" t="t" r="r" b="b"/>
              <a:pathLst>
                <a:path w="1" h="422">
                  <a:moveTo>
                    <a:pt x="0" y="422"/>
                  </a:moveTo>
                  <a:lnTo>
                    <a:pt x="1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658880" y="4151160"/>
              <a:ext cx="549360" cy="1800"/>
            </a:xfrm>
            <a:custGeom>
              <a:avLst/>
              <a:gdLst/>
              <a:ahLst/>
              <a:rect l="l" t="t" r="r" b="b"/>
              <a:pathLst>
                <a:path w="346" h="1">
                  <a:moveTo>
                    <a:pt x="346" y="0"/>
                  </a:moveTo>
                  <a:lnTo>
                    <a:pt x="0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58880" y="4378320"/>
              <a:ext cx="557280" cy="1440"/>
            </a:xfrm>
            <a:custGeom>
              <a:avLst/>
              <a:gdLst/>
              <a:ahLst/>
              <a:rect l="l" t="t" r="r" b="b"/>
              <a:pathLst>
                <a:path w="351" h="1">
                  <a:moveTo>
                    <a:pt x="0" y="0"/>
                  </a:moveTo>
                  <a:lnTo>
                    <a:pt x="351" y="0"/>
                  </a:ln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13DEA-2366-4BCE-B5D6-3A9A5E5070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ional logic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252360" y="1512720"/>
            <a:ext cx="2814840" cy="1268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) Problem 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 is 1 if a is to 1, or b and c are 1.  z is 1 if b or c is to 1, but not both, or if all are 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264960" y="3252960"/>
            <a:ext cx="2840040" cy="2570040"/>
            <a:chOff x="264960" y="3252960"/>
            <a:chExt cx="2840040" cy="2570040"/>
          </a:xfrm>
        </p:grpSpPr>
        <p:sp>
          <p:nvSpPr>
            <p:cNvPr id="661" name=""/>
            <p:cNvSpPr/>
            <p:nvPr/>
          </p:nvSpPr>
          <p:spPr>
            <a:xfrm>
              <a:off x="264960" y="3252960"/>
              <a:ext cx="2840040" cy="2570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) Minimized output equ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2" name=""/>
            <p:cNvGrpSpPr/>
            <p:nvPr/>
          </p:nvGrpSpPr>
          <p:grpSpPr>
            <a:xfrm>
              <a:off x="803160" y="3489480"/>
              <a:ext cx="1698480" cy="1150920"/>
              <a:chOff x="803160" y="3489480"/>
              <a:chExt cx="1698480" cy="1150920"/>
            </a:xfrm>
          </p:grpSpPr>
          <p:sp>
            <p:nvSpPr>
              <p:cNvPr id="663" name=""/>
              <p:cNvSpPr/>
              <p:nvPr/>
            </p:nvSpPr>
            <p:spPr>
              <a:xfrm>
                <a:off x="1039680" y="3676680"/>
                <a:ext cx="36504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947520" y="3857760"/>
                <a:ext cx="92160" cy="27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47520" y="4130640"/>
                <a:ext cx="92160" cy="31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1404720" y="3676680"/>
                <a:ext cx="36648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1771200" y="3676680"/>
                <a:ext cx="36540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2136600" y="3676680"/>
                <a:ext cx="36504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1039680" y="3857760"/>
                <a:ext cx="36504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1039680" y="4130640"/>
                <a:ext cx="36504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1404720" y="3857760"/>
                <a:ext cx="36648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1771200" y="3857760"/>
                <a:ext cx="3654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2136600" y="3857760"/>
                <a:ext cx="36504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404720" y="4130640"/>
                <a:ext cx="36648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1771200" y="4130640"/>
                <a:ext cx="36540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2136600" y="4130640"/>
                <a:ext cx="36504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25120" y="3692520"/>
                <a:ext cx="106560" cy="19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947520" y="3559320"/>
                <a:ext cx="182520" cy="17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6760" y="3699000"/>
                <a:ext cx="142920" cy="158760"/>
              </a:xfrm>
              <a:custGeom>
                <a:avLst/>
                <a:gdLst/>
                <a:ahLst/>
                <a:rect l="l" t="t" r="r" b="b"/>
                <a:pathLst>
                  <a:path w="90" h="100">
                    <a:moveTo>
                      <a:pt x="0" y="0"/>
                    </a:moveTo>
                    <a:lnTo>
                      <a:pt x="90" y="10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03160" y="3489480"/>
                <a:ext cx="191880" cy="190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039680" y="4459320"/>
                <a:ext cx="1461960" cy="181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 = a + b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130040" y="4176720"/>
                <a:ext cx="1326960" cy="18108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861920" y="3857760"/>
                <a:ext cx="182520" cy="546120"/>
              </a:xfrm>
              <a:custGeom>
                <a:avLst/>
                <a:gdLst>
                  <a:gd name="textAreaLeft" fmla="*/ 8640 w 182520"/>
                  <a:gd name="textAreaRight" fmla="*/ 173880 w 182520"/>
                  <a:gd name="textAreaTop" fmla="*/ 8640 h 546120"/>
                  <a:gd name="textAreaBottom" fmla="*/ 537480 h 546120"/>
                </a:gdLst>
                <a:ahLst/>
                <a:rect l="textAreaLeft" t="textAreaTop" r="textAreaRight" b="textAreaBottom"/>
                <a:pathLst>
                  <a:path w="21600" h="64545">
                    <a:moveTo>
                      <a:pt x="3600" y="0"/>
                    </a:moveTo>
                    <a:arcTo wR="3600" hR="3600" stAng="16200000" swAng="-5400000"/>
                    <a:lnTo>
                      <a:pt x="0" y="60945"/>
                    </a:lnTo>
                    <a:arcTo wR="3600" hR="3600" stAng="10800000" swAng="-5400000"/>
                    <a:lnTo>
                      <a:pt x="18000" y="64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738360" y="4604040"/>
              <a:ext cx="1779480" cy="1179360"/>
              <a:chOff x="738360" y="4604040"/>
              <a:chExt cx="1779480" cy="1179360"/>
            </a:xfrm>
          </p:grpSpPr>
          <p:sp>
            <p:nvSpPr>
              <p:cNvPr id="685" name=""/>
              <p:cNvSpPr/>
              <p:nvPr/>
            </p:nvSpPr>
            <p:spPr>
              <a:xfrm>
                <a:off x="1055880" y="4796280"/>
                <a:ext cx="36504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63720" y="4977000"/>
                <a:ext cx="92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963720" y="5250240"/>
                <a:ext cx="9216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1420920" y="4796280"/>
                <a:ext cx="36648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1787400" y="4796280"/>
                <a:ext cx="36540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152800" y="4796280"/>
                <a:ext cx="36504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1055880" y="4977000"/>
                <a:ext cx="36504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1055880" y="5250240"/>
                <a:ext cx="36504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1420920" y="4977000"/>
                <a:ext cx="36648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1787400" y="4977000"/>
                <a:ext cx="36540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52800" y="4977000"/>
                <a:ext cx="365040" cy="273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1420920" y="5250240"/>
                <a:ext cx="36648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1787400" y="5250240"/>
                <a:ext cx="36540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152800" y="5250240"/>
                <a:ext cx="365040" cy="27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901800" y="4840560"/>
                <a:ext cx="154080" cy="136440"/>
              </a:xfrm>
              <a:custGeom>
                <a:avLst/>
                <a:gdLst/>
                <a:ahLst/>
                <a:rect l="l" t="t" r="r" b="b"/>
                <a:pathLst>
                  <a:path w="97" h="86">
                    <a:moveTo>
                      <a:pt x="0" y="0"/>
                    </a:moveTo>
                    <a:lnTo>
                      <a:pt x="97" y="8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38360" y="4604040"/>
                <a:ext cx="9036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055880" y="5602680"/>
                <a:ext cx="146196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 = ab + b’c + bc’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1513080" y="4977000"/>
                <a:ext cx="182520" cy="546120"/>
              </a:xfrm>
              <a:custGeom>
                <a:avLst/>
                <a:gdLst>
                  <a:gd name="textAreaLeft" fmla="*/ 8640 w 182520"/>
                  <a:gd name="textAreaRight" fmla="*/ 173880 w 182520"/>
                  <a:gd name="textAreaTop" fmla="*/ 8640 h 546120"/>
                  <a:gd name="textAreaBottom" fmla="*/ 537480 h 546120"/>
                </a:gdLst>
                <a:ahLst/>
                <a:rect l="textAreaLeft" t="textAreaTop" r="textAreaRight" b="textAreaBottom"/>
                <a:pathLst>
                  <a:path w="21600" h="64545">
                    <a:moveTo>
                      <a:pt x="3600" y="0"/>
                    </a:moveTo>
                    <a:arcTo wR="3600" hR="3600" stAng="16200000" swAng="-5400000"/>
                    <a:lnTo>
                      <a:pt x="0" y="60945"/>
                    </a:lnTo>
                    <a:arcTo wR="3600" hR="3600" stAng="10800000" swAng="-5400000"/>
                    <a:lnTo>
                      <a:pt x="18000" y="64545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2244600" y="4977000"/>
                <a:ext cx="182880" cy="546120"/>
              </a:xfrm>
              <a:custGeom>
                <a:avLst/>
                <a:gdLst>
                  <a:gd name="textAreaLeft" fmla="*/ 8640 w 182880"/>
                  <a:gd name="textAreaRight" fmla="*/ 174240 w 182880"/>
                  <a:gd name="textAreaTop" fmla="*/ 8640 h 546120"/>
                  <a:gd name="textAreaBottom" fmla="*/ 537480 h 546120"/>
                </a:gdLst>
                <a:ahLst/>
                <a:rect l="textAreaLeft" t="textAreaTop" r="textAreaRight" b="textAreaBottom"/>
                <a:pathLst>
                  <a:path w="21600" h="64418">
                    <a:moveTo>
                      <a:pt x="3600" y="0"/>
                    </a:moveTo>
                    <a:arcTo wR="3600" hR="3600" stAng="16200000" swAng="-5400000"/>
                    <a:lnTo>
                      <a:pt x="0" y="60818"/>
                    </a:lnTo>
                    <a:arcTo wR="3600" hR="3600" stAng="10800000" swAng="-5400000"/>
                    <a:lnTo>
                      <a:pt x="18000" y="6441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1878120" y="5294520"/>
                <a:ext cx="595080" cy="1825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58960" y="4847040"/>
                <a:ext cx="9180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63720" y="4694400"/>
                <a:ext cx="182520" cy="9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7" name=""/>
          <p:cNvGrpSpPr/>
          <p:nvPr/>
        </p:nvGrpSpPr>
        <p:grpSpPr>
          <a:xfrm>
            <a:off x="5780160" y="1541520"/>
            <a:ext cx="3079800" cy="1441440"/>
            <a:chOff x="5780160" y="1541520"/>
            <a:chExt cx="3079800" cy="1441440"/>
          </a:xfrm>
        </p:grpSpPr>
        <p:sp>
          <p:nvSpPr>
            <p:cNvPr id="708" name=""/>
            <p:cNvSpPr/>
            <p:nvPr/>
          </p:nvSpPr>
          <p:spPr>
            <a:xfrm>
              <a:off x="5780160" y="1541520"/>
              <a:ext cx="3079800" cy="1441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) Output equa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6272280" y="1925640"/>
              <a:ext cx="218736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y = a'bc + ab'c' + ab'c + abc' + 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6254640" y="2457360"/>
              <a:ext cx="226404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z = a'b'c + a'bc' + ab'c + abc' + ab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1" name=""/>
          <p:cNvGrpSpPr/>
          <p:nvPr/>
        </p:nvGrpSpPr>
        <p:grpSpPr>
          <a:xfrm>
            <a:off x="3262320" y="1512720"/>
            <a:ext cx="2335320" cy="2538720"/>
            <a:chOff x="3262320" y="1512720"/>
            <a:chExt cx="2335320" cy="2538720"/>
          </a:xfrm>
        </p:grpSpPr>
        <p:sp>
          <p:nvSpPr>
            <p:cNvPr id="712" name=""/>
            <p:cNvSpPr/>
            <p:nvPr/>
          </p:nvSpPr>
          <p:spPr>
            <a:xfrm>
              <a:off x="3262320" y="1512720"/>
              <a:ext cx="2335320" cy="2538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) Truth t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3" name=""/>
            <p:cNvGrpSpPr/>
            <p:nvPr/>
          </p:nvGrpSpPr>
          <p:grpSpPr>
            <a:xfrm>
              <a:off x="3502080" y="1859040"/>
              <a:ext cx="1834920" cy="1811160"/>
              <a:chOff x="3502080" y="1859040"/>
              <a:chExt cx="1834920" cy="1811160"/>
            </a:xfrm>
          </p:grpSpPr>
          <p:sp>
            <p:nvSpPr>
              <p:cNvPr id="714" name=""/>
              <p:cNvSpPr/>
              <p:nvPr/>
            </p:nvSpPr>
            <p:spPr>
              <a:xfrm>
                <a:off x="3535200" y="311292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3889440" y="31129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245120" y="31129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4591080" y="31129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970520" y="31129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3535200" y="328932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3889440" y="32893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4245120" y="32893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591080" y="32893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4970520" y="328932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3535200" y="346536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3889440" y="3465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4245120" y="3465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4591080" y="3465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4970520" y="3465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3537000" y="242388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3890880" y="242388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4246560" y="242388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592520" y="242388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971960" y="242388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3535200" y="259236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3889440" y="2592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245120" y="2592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4591080" y="2592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4970520" y="25923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3535200" y="276840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3889440" y="27684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4245120" y="27684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4591080" y="27684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4970520" y="27684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535200" y="292896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3889440" y="29289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245120" y="29289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591080" y="29289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4970520" y="292896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4970520" y="224784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535200" y="224784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3889440" y="224784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4245120" y="224784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4591080" y="224784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502080" y="1859040"/>
                <a:ext cx="1828800" cy="1811160"/>
              </a:xfrm>
              <a:prstGeom prst="rect">
                <a:avLst/>
              </a:prstGeom>
              <a:noFill/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3568680" y="1863720"/>
                <a:ext cx="9525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Inpu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3508200" y="204300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3871800" y="2043000"/>
                <a:ext cx="36540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233960" y="20430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4662360" y="1859040"/>
                <a:ext cx="598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utput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4597560" y="20430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4959360" y="2043000"/>
                <a:ext cx="36504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594320" y="1860480"/>
                <a:ext cx="1440" cy="1809360"/>
              </a:xfrm>
              <a:custGeom>
                <a:avLst/>
                <a:gdLst/>
                <a:ahLst/>
                <a:rect l="l" t="t" r="r" b="b"/>
                <a:pathLst>
                  <a:path w="1" h="1140">
                    <a:moveTo>
                      <a:pt x="1" y="0"/>
                    </a:moveTo>
                    <a:lnTo>
                      <a:pt x="0" y="114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503520" y="2247840"/>
                <a:ext cx="1825560" cy="1080"/>
              </a:xfrm>
              <a:custGeom>
                <a:avLst/>
                <a:gdLst/>
                <a:ahLst/>
                <a:rect l="l" t="t" r="r" b="b"/>
                <a:pathLst>
                  <a:path w="1150" h="1">
                    <a:moveTo>
                      <a:pt x="1150" y="0"/>
                    </a:moveTo>
                    <a:lnTo>
                      <a:pt x="0" y="1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860640" y="2247840"/>
                <a:ext cx="3240" cy="1414080"/>
              </a:xfrm>
              <a:custGeom>
                <a:avLst/>
                <a:gdLst/>
                <a:ahLst/>
                <a:rect l="l" t="t" r="r" b="b"/>
                <a:pathLst>
                  <a:path w="2" h="891">
                    <a:moveTo>
                      <a:pt x="0" y="891"/>
                    </a:moveTo>
                    <a:lnTo>
                      <a:pt x="2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4238640" y="2247840"/>
                <a:ext cx="1440" cy="1422000"/>
              </a:xfrm>
              <a:custGeom>
                <a:avLst/>
                <a:gdLst/>
                <a:ahLst/>
                <a:rect l="l" t="t" r="r" b="b"/>
                <a:pathLst>
                  <a:path w="1" h="896">
                    <a:moveTo>
                      <a:pt x="1" y="896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4962600" y="2249280"/>
                <a:ext cx="1440" cy="1412640"/>
              </a:xfrm>
              <a:custGeom>
                <a:avLst/>
                <a:gdLst/>
                <a:ahLst/>
                <a:rect l="l" t="t" r="r" b="b"/>
                <a:pathLst>
                  <a:path w="1" h="890">
                    <a:moveTo>
                      <a:pt x="1" y="89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03520" y="2433600"/>
                <a:ext cx="1825560" cy="1080"/>
              </a:xfrm>
              <a:custGeom>
                <a:avLst/>
                <a:gdLst/>
                <a:ahLst/>
                <a:rect l="l" t="t" r="r" b="b"/>
                <a:pathLst>
                  <a:path w="1150" h="1">
                    <a:moveTo>
                      <a:pt x="1150" y="0"/>
                    </a:moveTo>
                    <a:lnTo>
                      <a:pt x="0" y="1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503520" y="2600280"/>
                <a:ext cx="1824120" cy="1080"/>
              </a:xfrm>
              <a:custGeom>
                <a:avLst/>
                <a:gdLst/>
                <a:ahLst/>
                <a:rect l="l" t="t" r="r" b="b"/>
                <a:pathLst>
                  <a:path w="1149" h="1">
                    <a:moveTo>
                      <a:pt x="1149" y="1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503520" y="2768400"/>
                <a:ext cx="1825560" cy="1440"/>
              </a:xfrm>
              <a:custGeom>
                <a:avLst/>
                <a:gdLst/>
                <a:ahLst/>
                <a:rect l="l" t="t" r="r" b="b"/>
                <a:pathLst>
                  <a:path w="1150" h="1">
                    <a:moveTo>
                      <a:pt x="1150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503520" y="2933640"/>
                <a:ext cx="1830600" cy="2880"/>
              </a:xfrm>
              <a:custGeom>
                <a:avLst/>
                <a:gdLst/>
                <a:ahLst/>
                <a:rect l="l" t="t" r="r" b="b"/>
                <a:pathLst>
                  <a:path w="1153" h="2">
                    <a:moveTo>
                      <a:pt x="1153" y="0"/>
                    </a:moveTo>
                    <a:lnTo>
                      <a:pt x="0" y="2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503520" y="3097080"/>
                <a:ext cx="1825560" cy="1080"/>
              </a:xfrm>
              <a:custGeom>
                <a:avLst/>
                <a:gdLst/>
                <a:ahLst/>
                <a:rect l="l" t="t" r="r" b="b"/>
                <a:pathLst>
                  <a:path w="1150" h="1">
                    <a:moveTo>
                      <a:pt x="1150" y="0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503520" y="3287520"/>
                <a:ext cx="1830600" cy="1440"/>
              </a:xfrm>
              <a:custGeom>
                <a:avLst/>
                <a:gdLst/>
                <a:ahLst/>
                <a:rect l="l" t="t" r="r" b="b"/>
                <a:pathLst>
                  <a:path w="1153" h="1">
                    <a:moveTo>
                      <a:pt x="1153" y="0"/>
                    </a:moveTo>
                    <a:lnTo>
                      <a:pt x="0" y="1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3503520" y="3465360"/>
                <a:ext cx="1822680" cy="2880"/>
              </a:xfrm>
              <a:custGeom>
                <a:avLst/>
                <a:gdLst/>
                <a:ahLst/>
                <a:rect l="l" t="t" r="r" b="b"/>
                <a:pathLst>
                  <a:path w="1148" h="2">
                    <a:moveTo>
                      <a:pt x="1148" y="2"/>
                    </a:moveTo>
                    <a:lnTo>
                      <a:pt x="0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74" name=""/>
          <p:cNvGrpSpPr/>
          <p:nvPr/>
        </p:nvGrpSpPr>
        <p:grpSpPr>
          <a:xfrm>
            <a:off x="5826240" y="3489480"/>
            <a:ext cx="3033720" cy="2355840"/>
            <a:chOff x="5826240" y="3489480"/>
            <a:chExt cx="3033720" cy="2355840"/>
          </a:xfrm>
        </p:grpSpPr>
        <p:sp>
          <p:nvSpPr>
            <p:cNvPr id="775" name=""/>
            <p:cNvSpPr/>
            <p:nvPr/>
          </p:nvSpPr>
          <p:spPr>
            <a:xfrm>
              <a:off x="5826240" y="3489480"/>
              <a:ext cx="3033720" cy="2355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) Logic 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6151680" y="4010040"/>
              <a:ext cx="2451240" cy="1679040"/>
              <a:chOff x="6151680" y="4010040"/>
              <a:chExt cx="2451240" cy="1679040"/>
            </a:xfrm>
          </p:grpSpPr>
          <p:sp>
            <p:nvSpPr>
              <p:cNvPr id="777" name=""/>
              <p:cNvSpPr/>
              <p:nvPr/>
            </p:nvSpPr>
            <p:spPr>
              <a:xfrm>
                <a:off x="7169400" y="4347720"/>
                <a:ext cx="274680" cy="2743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6151680" y="4010040"/>
                <a:ext cx="158760" cy="18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6151680" y="4184280"/>
                <a:ext cx="18252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6151680" y="4325760"/>
                <a:ext cx="176040" cy="199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8428320" y="4054320"/>
                <a:ext cx="91800" cy="180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467920" y="5122440"/>
                <a:ext cx="135000" cy="20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3" name=""/>
              <p:cNvGrpSpPr/>
              <p:nvPr/>
            </p:nvGrpSpPr>
            <p:grpSpPr>
              <a:xfrm>
                <a:off x="7967880" y="4033440"/>
                <a:ext cx="371520" cy="281880"/>
                <a:chOff x="7967880" y="4033440"/>
                <a:chExt cx="371520" cy="281880"/>
              </a:xfrm>
            </p:grpSpPr>
            <p:sp>
              <p:nvSpPr>
                <p:cNvPr id="784" name=""/>
                <p:cNvSpPr/>
                <p:nvPr/>
              </p:nvSpPr>
              <p:spPr>
                <a:xfrm>
                  <a:off x="8255160" y="4169520"/>
                  <a:ext cx="84240" cy="144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53" y="0"/>
                      </a:moveTo>
                      <a:lnTo>
                        <a:pt x="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5" name=""/>
                <p:cNvSpPr/>
                <p:nvPr/>
              </p:nvSpPr>
              <p:spPr>
                <a:xfrm flipV="1">
                  <a:off x="7967880" y="4179240"/>
                  <a:ext cx="288720" cy="13608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6" name=""/>
                <p:cNvSpPr/>
                <p:nvPr/>
              </p:nvSpPr>
              <p:spPr>
                <a:xfrm>
                  <a:off x="7967880" y="4033440"/>
                  <a:ext cx="41040" cy="274320"/>
                </a:xfrm>
                <a:custGeom>
                  <a:avLst/>
                  <a:gdLst/>
                  <a:ahLst/>
                  <a:rect l="l" t="t" r="r" b="b"/>
                  <a:pathLst>
                    <a:path w="80" h="576">
                      <a:moveTo>
                        <a:pt x="0" y="0"/>
                      </a:moveTo>
                      <a:cubicBezTo>
                        <a:pt x="13" y="48"/>
                        <a:pt x="80" y="194"/>
                        <a:pt x="80" y="290"/>
                      </a:cubicBezTo>
                      <a:cubicBezTo>
                        <a:pt x="80" y="386"/>
                        <a:pt x="17" y="517"/>
                        <a:pt x="0" y="576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7" name=""/>
                <p:cNvSpPr/>
                <p:nvPr/>
              </p:nvSpPr>
              <p:spPr>
                <a:xfrm>
                  <a:off x="7967880" y="4033440"/>
                  <a:ext cx="288720" cy="13788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8" name=""/>
              <p:cNvSpPr/>
              <p:nvPr/>
            </p:nvSpPr>
            <p:spPr>
              <a:xfrm>
                <a:off x="7169400" y="4713120"/>
                <a:ext cx="274680" cy="2725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89" name=""/>
              <p:cNvGrpSpPr/>
              <p:nvPr/>
            </p:nvGrpSpPr>
            <p:grpSpPr>
              <a:xfrm>
                <a:off x="8023320" y="5071680"/>
                <a:ext cx="371520" cy="271080"/>
                <a:chOff x="8023320" y="5071680"/>
                <a:chExt cx="371520" cy="271080"/>
              </a:xfrm>
            </p:grpSpPr>
            <p:sp>
              <p:nvSpPr>
                <p:cNvPr id="790" name=""/>
                <p:cNvSpPr/>
                <p:nvPr/>
              </p:nvSpPr>
              <p:spPr>
                <a:xfrm>
                  <a:off x="8310600" y="5206320"/>
                  <a:ext cx="84240" cy="1080"/>
                </a:xfrm>
                <a:custGeom>
                  <a:avLst/>
                  <a:gdLst/>
                  <a:ahLst/>
                  <a:rect l="l" t="t" r="r" b="b"/>
                  <a:pathLst>
                    <a:path w="53" h="1">
                      <a:moveTo>
                        <a:pt x="53" y="0"/>
                      </a:moveTo>
                      <a:lnTo>
                        <a:pt x="0" y="1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1" name=""/>
                <p:cNvSpPr/>
                <p:nvPr/>
              </p:nvSpPr>
              <p:spPr>
                <a:xfrm flipV="1">
                  <a:off x="8023320" y="5207760"/>
                  <a:ext cx="288720" cy="13464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2" name=""/>
                <p:cNvSpPr/>
                <p:nvPr/>
              </p:nvSpPr>
              <p:spPr>
                <a:xfrm>
                  <a:off x="8023320" y="5071680"/>
                  <a:ext cx="41040" cy="271080"/>
                </a:xfrm>
                <a:custGeom>
                  <a:avLst/>
                  <a:gdLst/>
                  <a:ahLst/>
                  <a:rect l="l" t="t" r="r" b="b"/>
                  <a:pathLst>
                    <a:path w="80" h="576">
                      <a:moveTo>
                        <a:pt x="0" y="0"/>
                      </a:moveTo>
                      <a:cubicBezTo>
                        <a:pt x="13" y="48"/>
                        <a:pt x="80" y="194"/>
                        <a:pt x="80" y="290"/>
                      </a:cubicBezTo>
                      <a:cubicBezTo>
                        <a:pt x="80" y="386"/>
                        <a:pt x="17" y="517"/>
                        <a:pt x="0" y="576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3" name=""/>
                <p:cNvSpPr/>
                <p:nvPr/>
              </p:nvSpPr>
              <p:spPr>
                <a:xfrm>
                  <a:off x="8023320" y="5071680"/>
                  <a:ext cx="288720" cy="136080"/>
                </a:xfrm>
                <a:custGeom>
                  <a:avLst/>
                  <a:gdLst/>
                  <a:ahLst/>
                  <a:rect l="l" t="t" r="r" b="b"/>
                  <a:pathLst>
                    <a:path w="576" h="288">
                      <a:moveTo>
                        <a:pt x="0" y="0"/>
                      </a:moveTo>
                      <a:cubicBezTo>
                        <a:pt x="68" y="8"/>
                        <a:pt x="314" y="2"/>
                        <a:pt x="410" y="50"/>
                      </a:cubicBezTo>
                      <a:cubicBezTo>
                        <a:pt x="506" y="98"/>
                        <a:pt x="542" y="238"/>
                        <a:pt x="576" y="288"/>
                      </a:cubicBezTo>
                    </a:path>
                  </a:pathLst>
                </a:custGeom>
                <a:solidFill>
                  <a:srgbClr val="ffffff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4" name=""/>
              <p:cNvGrpSpPr/>
              <p:nvPr/>
            </p:nvGrpSpPr>
            <p:grpSpPr>
              <a:xfrm>
                <a:off x="6986520" y="5079600"/>
                <a:ext cx="457560" cy="271080"/>
                <a:chOff x="6986520" y="5079600"/>
                <a:chExt cx="457560" cy="271080"/>
              </a:xfrm>
            </p:grpSpPr>
            <p:sp>
              <p:nvSpPr>
                <p:cNvPr id="795" name=""/>
                <p:cNvSpPr/>
                <p:nvPr/>
              </p:nvSpPr>
              <p:spPr>
                <a:xfrm>
                  <a:off x="7077240" y="5144400"/>
                  <a:ext cx="90720" cy="1440"/>
                </a:xfrm>
                <a:custGeom>
                  <a:avLst/>
                  <a:gdLst/>
                  <a:ahLst/>
                  <a:rect l="l" t="t" r="r" b="b"/>
                  <a:pathLst>
                    <a:path w="141" h="1">
                      <a:moveTo>
                        <a:pt x="0" y="0"/>
                      </a:moveTo>
                      <a:lnTo>
                        <a:pt x="141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4280" bIns="-442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6" name=""/>
                <p:cNvSpPr/>
                <p:nvPr/>
              </p:nvSpPr>
              <p:spPr>
                <a:xfrm>
                  <a:off x="7169400" y="5079600"/>
                  <a:ext cx="274680" cy="27108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7" name=""/>
                <p:cNvSpPr/>
                <p:nvPr/>
              </p:nvSpPr>
              <p:spPr>
                <a:xfrm rot="5400000">
                  <a:off x="6963480" y="5102640"/>
                  <a:ext cx="136440" cy="9036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8" name=""/>
              <p:cNvGrpSpPr/>
              <p:nvPr/>
            </p:nvGrpSpPr>
            <p:grpSpPr>
              <a:xfrm>
                <a:off x="6986520" y="5444640"/>
                <a:ext cx="457560" cy="244440"/>
                <a:chOff x="6986520" y="5444640"/>
                <a:chExt cx="457560" cy="244440"/>
              </a:xfrm>
            </p:grpSpPr>
            <p:sp>
              <p:nvSpPr>
                <p:cNvPr id="799" name=""/>
                <p:cNvSpPr/>
                <p:nvPr/>
              </p:nvSpPr>
              <p:spPr>
                <a:xfrm>
                  <a:off x="7169400" y="5444640"/>
                  <a:ext cx="274680" cy="244440"/>
                </a:xfrm>
                <a:prstGeom prst="flowChartDelay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0" name=""/>
                <p:cNvSpPr/>
                <p:nvPr/>
              </p:nvSpPr>
              <p:spPr>
                <a:xfrm>
                  <a:off x="7077240" y="5601600"/>
                  <a:ext cx="87480" cy="1800"/>
                </a:xfrm>
                <a:custGeom>
                  <a:avLst/>
                  <a:gdLst/>
                  <a:ahLst/>
                  <a:rect l="l" t="t" r="r" b="b"/>
                  <a:pathLst>
                    <a:path w="138" h="1">
                      <a:moveTo>
                        <a:pt x="0" y="0"/>
                      </a:moveTo>
                      <a:lnTo>
                        <a:pt x="138" y="0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tIns="-43920" bIns="-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1" name=""/>
                <p:cNvSpPr/>
                <p:nvPr/>
              </p:nvSpPr>
              <p:spPr>
                <a:xfrm rot="5400000">
                  <a:off x="6963120" y="5559480"/>
                  <a:ext cx="136800" cy="90360"/>
                </a:xfrm>
                <a:prstGeom prst="flowChartExtra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02" name=""/>
              <p:cNvSpPr/>
              <p:nvPr/>
            </p:nvSpPr>
            <p:spPr>
              <a:xfrm>
                <a:off x="7069320" y="5581440"/>
                <a:ext cx="46080" cy="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069320" y="5124240"/>
                <a:ext cx="46080" cy="45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377040" y="4120920"/>
                <a:ext cx="1627200" cy="1080"/>
              </a:xfrm>
              <a:custGeom>
                <a:avLst/>
                <a:gdLst/>
                <a:ahLst/>
                <a:rect l="l" t="t" r="r" b="b"/>
                <a:pathLst>
                  <a:path w="1025" h="1">
                    <a:moveTo>
                      <a:pt x="0" y="0"/>
                    </a:moveTo>
                    <a:lnTo>
                      <a:pt x="1025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384960" y="4271760"/>
                <a:ext cx="776520" cy="1221840"/>
              </a:xfrm>
              <a:custGeom>
                <a:avLst/>
                <a:gdLst/>
                <a:ahLst/>
                <a:rect l="l" t="t" r="r" b="b"/>
                <a:pathLst>
                  <a:path w="489" h="770">
                    <a:moveTo>
                      <a:pt x="0" y="0"/>
                    </a:moveTo>
                    <a:lnTo>
                      <a:pt x="186" y="0"/>
                    </a:lnTo>
                    <a:lnTo>
                      <a:pt x="186" y="770"/>
                    </a:lnTo>
                    <a:lnTo>
                      <a:pt x="489" y="77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384960" y="4416120"/>
                <a:ext cx="598680" cy="1186920"/>
              </a:xfrm>
              <a:custGeom>
                <a:avLst/>
                <a:gdLst/>
                <a:ahLst/>
                <a:rect l="l" t="t" r="r" b="b"/>
                <a:pathLst>
                  <a:path w="377" h="748">
                    <a:moveTo>
                      <a:pt x="0" y="0"/>
                    </a:moveTo>
                    <a:lnTo>
                      <a:pt x="106" y="0"/>
                    </a:lnTo>
                    <a:lnTo>
                      <a:pt x="106" y="748"/>
                    </a:lnTo>
                    <a:lnTo>
                      <a:pt x="377" y="748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815160" y="4120920"/>
                <a:ext cx="354240" cy="664560"/>
              </a:xfrm>
              <a:custGeom>
                <a:avLst/>
                <a:gdLst/>
                <a:ahLst/>
                <a:rect l="l" t="t" r="r" b="b"/>
                <a:pathLst>
                  <a:path w="223" h="419">
                    <a:moveTo>
                      <a:pt x="0" y="0"/>
                    </a:moveTo>
                    <a:lnTo>
                      <a:pt x="0" y="419"/>
                    </a:lnTo>
                    <a:lnTo>
                      <a:pt x="223" y="419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6671880" y="4416120"/>
                <a:ext cx="49716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>
                <a:off x="6545160" y="4516200"/>
                <a:ext cx="62388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H="1">
                <a:off x="6671880" y="4895640"/>
                <a:ext cx="48924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6688440" y="5140080"/>
                <a:ext cx="29520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>
                <a:off x="6570360" y="5257440"/>
                <a:ext cx="59868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793200" y="411300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661440" y="439380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6529680" y="4485960"/>
                <a:ext cx="45720" cy="4572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6666120" y="486360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6667560" y="5111280"/>
                <a:ext cx="46080" cy="4572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534360" y="5240160"/>
                <a:ext cx="46080" cy="45360"/>
              </a:xfrm>
              <a:prstGeom prst="ellipse">
                <a:avLst/>
              </a:prstGeom>
              <a:solidFill>
                <a:srgbClr val="000000"/>
              </a:solidFill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7454880" y="4221000"/>
                <a:ext cx="557280" cy="244080"/>
              </a:xfrm>
              <a:custGeom>
                <a:avLst/>
                <a:gdLst/>
                <a:ahLst/>
                <a:rect l="l" t="t" r="r" b="b"/>
                <a:pathLst>
                  <a:path w="351" h="154">
                    <a:moveTo>
                      <a:pt x="0" y="154"/>
                    </a:moveTo>
                    <a:lnTo>
                      <a:pt x="170" y="154"/>
                    </a:lnTo>
                    <a:lnTo>
                      <a:pt x="170" y="0"/>
                    </a:lnTo>
                    <a:lnTo>
                      <a:pt x="351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7454880" y="5208120"/>
                <a:ext cx="608040" cy="0"/>
              </a:xfrm>
              <a:prstGeom prst="line">
                <a:avLst/>
              </a:prstGeom>
              <a:ln cap="sq"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7446960" y="4828680"/>
                <a:ext cx="598680" cy="311040"/>
              </a:xfrm>
              <a:custGeom>
                <a:avLst/>
                <a:gdLst/>
                <a:ahLst/>
                <a:rect l="l" t="t" r="r" b="b"/>
                <a:pathLst>
                  <a:path w="377" h="196">
                    <a:moveTo>
                      <a:pt x="0" y="0"/>
                    </a:moveTo>
                    <a:lnTo>
                      <a:pt x="181" y="0"/>
                    </a:lnTo>
                    <a:lnTo>
                      <a:pt x="181" y="196"/>
                    </a:lnTo>
                    <a:lnTo>
                      <a:pt x="377" y="196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7464600" y="5267160"/>
                <a:ext cx="581040" cy="285120"/>
              </a:xfrm>
              <a:custGeom>
                <a:avLst/>
                <a:gdLst/>
                <a:ahLst/>
                <a:rect l="l" t="t" r="r" b="b"/>
                <a:pathLst>
                  <a:path w="366" h="180">
                    <a:moveTo>
                      <a:pt x="0" y="180"/>
                    </a:moveTo>
                    <a:lnTo>
                      <a:pt x="170" y="180"/>
                    </a:lnTo>
                    <a:lnTo>
                      <a:pt x="170" y="0"/>
                    </a:lnTo>
                    <a:lnTo>
                      <a:pt x="366" y="0"/>
                    </a:lnTo>
                  </a:path>
                </a:pathLst>
              </a:custGeom>
              <a:noFill/>
              <a:ln cap="sq"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8A57D-5B23-4CE4-B541-535525D13ED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binational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225360" y="1547640"/>
            <a:ext cx="8677440" cy="4430880"/>
            <a:chOff x="225360" y="1547640"/>
            <a:chExt cx="8677440" cy="4430880"/>
          </a:xfrm>
        </p:grpSpPr>
        <p:sp>
          <p:nvSpPr>
            <p:cNvPr id="825" name=""/>
            <p:cNvSpPr/>
            <p:nvPr/>
          </p:nvSpPr>
          <p:spPr>
            <a:xfrm>
              <a:off x="7165800" y="1547640"/>
              <a:ext cx="1737000" cy="17370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7165800" y="3287880"/>
              <a:ext cx="1737000" cy="1600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1962000" y="3287880"/>
              <a:ext cx="1737000" cy="1600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5360" y="3287880"/>
              <a:ext cx="1736640" cy="1600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3691080" y="3287880"/>
              <a:ext cx="1736640" cy="1600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427720" y="3287880"/>
              <a:ext cx="1736640" cy="16002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962000" y="1547640"/>
              <a:ext cx="1737000" cy="17370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5360" y="1547640"/>
              <a:ext cx="1736640" cy="17370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691080" y="1547640"/>
              <a:ext cx="1736640" cy="17370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427720" y="1547640"/>
              <a:ext cx="1736640" cy="173700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7165800" y="4881600"/>
              <a:ext cx="1737000" cy="1096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1962000" y="4881600"/>
              <a:ext cx="1737000" cy="1096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5360" y="4881600"/>
              <a:ext cx="1736640" cy="1096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3691080" y="4881600"/>
              <a:ext cx="1736640" cy="1096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427720" y="4881600"/>
              <a:ext cx="1736640" cy="109692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075040" y="5130720"/>
              <a:ext cx="1517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th enable input e 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all O’s are 0 if e=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3811680" y="5130720"/>
              <a:ext cx="1517400" cy="46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ith carry-in input Ci</a:t>
              </a:r>
              <a:r>
                <a:rPr b="0" lang="en-US" sz="12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 = A + B + 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7289640" y="5130720"/>
              <a:ext cx="15177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y have status outputs carry, zero, etc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99880" y="3352680"/>
              <a:ext cx="1514520" cy="130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 =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0 if S=0.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1 if S=0.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(m-1) if S=1.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041560" y="3367080"/>
              <a:ext cx="1601640" cy="113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0 =1 if I=0..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1 =1 if I=0.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(n-1) =1 if I=1..1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3784680" y="3371760"/>
              <a:ext cx="1565280" cy="135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um = A+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(first n bit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arry = (n+1)’t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 of A+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504040" y="3362400"/>
              <a:ext cx="1590480" cy="14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ess    = 1 if A&lt;B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equal  =1 if A=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reater=1 if A&gt;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7245360" y="3363840"/>
              <a:ext cx="1576440" cy="145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 = A 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p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determin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y 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8" name=""/>
            <p:cNvGrpSpPr/>
            <p:nvPr/>
          </p:nvGrpSpPr>
          <p:grpSpPr>
            <a:xfrm>
              <a:off x="484200" y="1824120"/>
              <a:ext cx="1006560" cy="1248840"/>
              <a:chOff x="484200" y="1824120"/>
              <a:chExt cx="1006560" cy="1248840"/>
            </a:xfrm>
          </p:grpSpPr>
          <p:sp>
            <p:nvSpPr>
              <p:cNvPr id="849" name=""/>
              <p:cNvSpPr/>
              <p:nvPr/>
            </p:nvSpPr>
            <p:spPr>
              <a:xfrm>
                <a:off x="804960" y="2296800"/>
                <a:ext cx="639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-bit, m x 1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ultiplex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005120" y="2936880"/>
                <a:ext cx="2253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74920" y="2428560"/>
                <a:ext cx="230040" cy="1440"/>
              </a:xfrm>
              <a:custGeom>
                <a:avLst/>
                <a:gdLst/>
                <a:ahLst/>
                <a:rect l="l" t="t" r="r" b="b"/>
                <a:pathLst>
                  <a:path w="361" h="3">
                    <a:moveTo>
                      <a:pt x="0" y="3"/>
                    </a:moveTo>
                    <a:lnTo>
                      <a:pt x="361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79600" y="2473200"/>
                <a:ext cx="225360" cy="1080"/>
              </a:xfrm>
              <a:custGeom>
                <a:avLst/>
                <a:gdLst/>
                <a:ahLst/>
                <a:rect l="l" t="t" r="r" b="b"/>
                <a:pathLst>
                  <a:path w="354" h="1">
                    <a:moveTo>
                      <a:pt x="0" y="0"/>
                    </a:moveTo>
                    <a:lnTo>
                      <a:pt x="354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34960" y="2428560"/>
                <a:ext cx="203400" cy="11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69880" y="2565360"/>
                <a:ext cx="235080" cy="7560"/>
              </a:xfrm>
              <a:custGeom>
                <a:avLst/>
                <a:gdLst/>
                <a:ahLst/>
                <a:rect l="l" t="t" r="r" b="b"/>
                <a:pathLst>
                  <a:path w="369" h="12">
                    <a:moveTo>
                      <a:pt x="0" y="12"/>
                    </a:moveTo>
                    <a:lnTo>
                      <a:pt x="36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484200" y="2290680"/>
                <a:ext cx="22860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08320" y="2600280"/>
                <a:ext cx="40464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(log m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725760" y="1992240"/>
                <a:ext cx="12996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963720" y="2657160"/>
                <a:ext cx="1285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696960" y="1828800"/>
                <a:ext cx="425520" cy="16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(m-1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103400" y="1824120"/>
                <a:ext cx="225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265400" y="1824120"/>
                <a:ext cx="225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978120" y="2014560"/>
                <a:ext cx="218880" cy="136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63" name=""/>
              <p:cNvGrpSpPr/>
              <p:nvPr/>
            </p:nvGrpSpPr>
            <p:grpSpPr>
              <a:xfrm>
                <a:off x="1158840" y="1960560"/>
                <a:ext cx="114480" cy="335880"/>
                <a:chOff x="1158840" y="1960560"/>
                <a:chExt cx="114480" cy="335880"/>
              </a:xfrm>
            </p:grpSpPr>
            <p:sp>
              <p:nvSpPr>
                <p:cNvPr id="864" name=""/>
                <p:cNvSpPr/>
                <p:nvPr/>
              </p:nvSpPr>
              <p:spPr>
                <a:xfrm>
                  <a:off x="1219320" y="1960560"/>
                  <a:ext cx="0" cy="335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5" name=""/>
                <p:cNvSpPr/>
                <p:nvPr/>
              </p:nvSpPr>
              <p:spPr>
                <a:xfrm>
                  <a:off x="1158840" y="205092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6" name=""/>
              <p:cNvGrpSpPr/>
              <p:nvPr/>
            </p:nvGrpSpPr>
            <p:grpSpPr>
              <a:xfrm>
                <a:off x="1311480" y="1960560"/>
                <a:ext cx="114120" cy="335880"/>
                <a:chOff x="1311480" y="1960560"/>
                <a:chExt cx="114120" cy="335880"/>
              </a:xfrm>
            </p:grpSpPr>
            <p:sp>
              <p:nvSpPr>
                <p:cNvPr id="867" name=""/>
                <p:cNvSpPr/>
                <p:nvPr/>
              </p:nvSpPr>
              <p:spPr>
                <a:xfrm>
                  <a:off x="1371600" y="1960560"/>
                  <a:ext cx="0" cy="335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8" name=""/>
                <p:cNvSpPr/>
                <p:nvPr/>
              </p:nvSpPr>
              <p:spPr>
                <a:xfrm>
                  <a:off x="1311480" y="2050920"/>
                  <a:ext cx="11412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9" name=""/>
              <p:cNvGrpSpPr/>
              <p:nvPr/>
            </p:nvGrpSpPr>
            <p:grpSpPr>
              <a:xfrm>
                <a:off x="1060560" y="2601720"/>
                <a:ext cx="114480" cy="334800"/>
                <a:chOff x="1060560" y="2601720"/>
                <a:chExt cx="114480" cy="334800"/>
              </a:xfrm>
            </p:grpSpPr>
            <p:sp>
              <p:nvSpPr>
                <p:cNvPr id="870" name=""/>
                <p:cNvSpPr/>
                <p:nvPr/>
              </p:nvSpPr>
              <p:spPr>
                <a:xfrm>
                  <a:off x="1121040" y="2601720"/>
                  <a:ext cx="0" cy="33480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1" name=""/>
                <p:cNvSpPr/>
                <p:nvPr/>
              </p:nvSpPr>
              <p:spPr>
                <a:xfrm>
                  <a:off x="1060560" y="269172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2" name=""/>
              <p:cNvGrpSpPr/>
              <p:nvPr/>
            </p:nvGrpSpPr>
            <p:grpSpPr>
              <a:xfrm>
                <a:off x="846360" y="1960560"/>
                <a:ext cx="114120" cy="335880"/>
                <a:chOff x="846360" y="1960560"/>
                <a:chExt cx="114120" cy="335880"/>
              </a:xfrm>
            </p:grpSpPr>
            <p:sp>
              <p:nvSpPr>
                <p:cNvPr id="873" name=""/>
                <p:cNvSpPr/>
                <p:nvPr/>
              </p:nvSpPr>
              <p:spPr>
                <a:xfrm>
                  <a:off x="906480" y="1960560"/>
                  <a:ext cx="0" cy="33588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4" name=""/>
                <p:cNvSpPr/>
                <p:nvPr/>
              </p:nvSpPr>
              <p:spPr>
                <a:xfrm>
                  <a:off x="846360" y="2050920"/>
                  <a:ext cx="11412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75" name=""/>
            <p:cNvGrpSpPr/>
            <p:nvPr/>
          </p:nvGrpSpPr>
          <p:grpSpPr>
            <a:xfrm>
              <a:off x="2403360" y="1749600"/>
              <a:ext cx="804600" cy="1252440"/>
              <a:chOff x="2403360" y="1749600"/>
              <a:chExt cx="804600" cy="1252440"/>
            </a:xfrm>
          </p:grpSpPr>
          <p:sp>
            <p:nvSpPr>
              <p:cNvPr id="876" name=""/>
              <p:cNvSpPr/>
              <p:nvPr/>
            </p:nvSpPr>
            <p:spPr>
              <a:xfrm>
                <a:off x="2570040" y="2224800"/>
                <a:ext cx="50508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 n x n 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Deco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2934000" y="2529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2835000" y="2529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2639520" y="2529720"/>
                <a:ext cx="21888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3026160" y="2529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835000" y="2864880"/>
                <a:ext cx="1954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1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2982240" y="2864880"/>
                <a:ext cx="2257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2451600" y="2864880"/>
                <a:ext cx="3826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(n-1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2872440" y="1749600"/>
                <a:ext cx="2286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2403360" y="1758240"/>
                <a:ext cx="53136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(log n  -1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683080" y="188964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2834280" y="188964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2653560" y="1920240"/>
                <a:ext cx="2188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2967120" y="188964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2624040" y="2529720"/>
                <a:ext cx="0" cy="33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91" name=""/>
            <p:cNvGrpSpPr/>
            <p:nvPr/>
          </p:nvGrpSpPr>
          <p:grpSpPr>
            <a:xfrm>
              <a:off x="4237200" y="1760400"/>
              <a:ext cx="598320" cy="1249560"/>
              <a:chOff x="4237200" y="1760400"/>
              <a:chExt cx="598320" cy="1249560"/>
            </a:xfrm>
          </p:grpSpPr>
          <p:sp>
            <p:nvSpPr>
              <p:cNvPr id="892" name=""/>
              <p:cNvSpPr/>
              <p:nvPr/>
            </p:nvSpPr>
            <p:spPr>
              <a:xfrm>
                <a:off x="4280400" y="2232720"/>
                <a:ext cx="50364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-bi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dd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4483080" y="1927800"/>
                <a:ext cx="1288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4365000" y="1760400"/>
                <a:ext cx="137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4599720" y="1766520"/>
                <a:ext cx="137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4551840" y="2567880"/>
                <a:ext cx="1288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4609800" y="2872800"/>
                <a:ext cx="22572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um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4427280" y="253764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4237200" y="2872800"/>
                <a:ext cx="3546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ar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00" name=""/>
              <p:cNvGrpSpPr/>
              <p:nvPr/>
            </p:nvGrpSpPr>
            <p:grpSpPr>
              <a:xfrm>
                <a:off x="4659480" y="2537640"/>
                <a:ext cx="114480" cy="335160"/>
                <a:chOff x="4659480" y="2537640"/>
                <a:chExt cx="114480" cy="335160"/>
              </a:xfrm>
            </p:grpSpPr>
            <p:sp>
              <p:nvSpPr>
                <p:cNvPr id="901" name=""/>
                <p:cNvSpPr/>
                <p:nvPr/>
              </p:nvSpPr>
              <p:spPr>
                <a:xfrm>
                  <a:off x="4719960" y="253764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2" name=""/>
                <p:cNvSpPr/>
                <p:nvPr/>
              </p:nvSpPr>
              <p:spPr>
                <a:xfrm>
                  <a:off x="4659480" y="262764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3" name=""/>
              <p:cNvGrpSpPr/>
              <p:nvPr/>
            </p:nvGrpSpPr>
            <p:grpSpPr>
              <a:xfrm>
                <a:off x="4608720" y="1897560"/>
                <a:ext cx="114120" cy="335160"/>
                <a:chOff x="4608720" y="1897560"/>
                <a:chExt cx="114120" cy="335160"/>
              </a:xfrm>
            </p:grpSpPr>
            <p:sp>
              <p:nvSpPr>
                <p:cNvPr id="904" name=""/>
                <p:cNvSpPr/>
                <p:nvPr/>
              </p:nvSpPr>
              <p:spPr>
                <a:xfrm>
                  <a:off x="4668840" y="189756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5" name=""/>
                <p:cNvSpPr/>
                <p:nvPr/>
              </p:nvSpPr>
              <p:spPr>
                <a:xfrm>
                  <a:off x="4608720" y="1987560"/>
                  <a:ext cx="11412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6" name=""/>
              <p:cNvGrpSpPr/>
              <p:nvPr/>
            </p:nvGrpSpPr>
            <p:grpSpPr>
              <a:xfrm>
                <a:off x="4370400" y="1897560"/>
                <a:ext cx="114480" cy="335160"/>
                <a:chOff x="4370400" y="1897560"/>
                <a:chExt cx="114480" cy="335160"/>
              </a:xfrm>
            </p:grpSpPr>
            <p:sp>
              <p:nvSpPr>
                <p:cNvPr id="907" name=""/>
                <p:cNvSpPr/>
                <p:nvPr/>
              </p:nvSpPr>
              <p:spPr>
                <a:xfrm>
                  <a:off x="4430880" y="189756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>
                  <a:off x="4370400" y="198756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09" name=""/>
            <p:cNvGrpSpPr/>
            <p:nvPr/>
          </p:nvGrpSpPr>
          <p:grpSpPr>
            <a:xfrm>
              <a:off x="5862600" y="1770120"/>
              <a:ext cx="858960" cy="1255680"/>
              <a:chOff x="5862600" y="1770120"/>
              <a:chExt cx="858960" cy="1255680"/>
            </a:xfrm>
          </p:grpSpPr>
          <p:sp>
            <p:nvSpPr>
              <p:cNvPr id="910" name=""/>
              <p:cNvSpPr/>
              <p:nvPr/>
            </p:nvSpPr>
            <p:spPr>
              <a:xfrm>
                <a:off x="5938200" y="2248560"/>
                <a:ext cx="603720" cy="304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-bi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mpara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954760" y="1937520"/>
                <a:ext cx="1288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6227640" y="1937520"/>
                <a:ext cx="12888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6060960" y="1770120"/>
                <a:ext cx="137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6341400" y="1770120"/>
                <a:ext cx="13716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987880" y="255348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62600" y="2888640"/>
                <a:ext cx="2466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es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6242760" y="255348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6498360" y="2553480"/>
                <a:ext cx="0" cy="335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6100920" y="2888640"/>
                <a:ext cx="2718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equal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6379560" y="2888640"/>
                <a:ext cx="342000" cy="1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great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21" name=""/>
              <p:cNvGrpSpPr/>
              <p:nvPr/>
            </p:nvGrpSpPr>
            <p:grpSpPr>
              <a:xfrm>
                <a:off x="6350760" y="1914840"/>
                <a:ext cx="114480" cy="335160"/>
                <a:chOff x="6350760" y="1914840"/>
                <a:chExt cx="114480" cy="335160"/>
              </a:xfrm>
            </p:grpSpPr>
            <p:sp>
              <p:nvSpPr>
                <p:cNvPr id="922" name=""/>
                <p:cNvSpPr/>
                <p:nvPr/>
              </p:nvSpPr>
              <p:spPr>
                <a:xfrm>
                  <a:off x="6411240" y="191484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3" name=""/>
                <p:cNvSpPr/>
                <p:nvPr/>
              </p:nvSpPr>
              <p:spPr>
                <a:xfrm>
                  <a:off x="6350760" y="200484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4" name=""/>
              <p:cNvGrpSpPr/>
              <p:nvPr/>
            </p:nvGrpSpPr>
            <p:grpSpPr>
              <a:xfrm>
                <a:off x="6067080" y="1914840"/>
                <a:ext cx="114480" cy="335160"/>
                <a:chOff x="6067080" y="1914840"/>
                <a:chExt cx="114480" cy="335160"/>
              </a:xfrm>
            </p:grpSpPr>
            <p:sp>
              <p:nvSpPr>
                <p:cNvPr id="925" name=""/>
                <p:cNvSpPr/>
                <p:nvPr/>
              </p:nvSpPr>
              <p:spPr>
                <a:xfrm>
                  <a:off x="6127560" y="191484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6" name=""/>
                <p:cNvSpPr/>
                <p:nvPr/>
              </p:nvSpPr>
              <p:spPr>
                <a:xfrm>
                  <a:off x="6067080" y="200484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927" name=""/>
            <p:cNvGrpSpPr/>
            <p:nvPr/>
          </p:nvGrpSpPr>
          <p:grpSpPr>
            <a:xfrm>
              <a:off x="7678800" y="1704960"/>
              <a:ext cx="850320" cy="1393920"/>
              <a:chOff x="7678800" y="1704960"/>
              <a:chExt cx="850320" cy="1393920"/>
            </a:xfrm>
          </p:grpSpPr>
          <p:sp>
            <p:nvSpPr>
              <p:cNvPr id="928" name=""/>
              <p:cNvSpPr/>
              <p:nvPr/>
            </p:nvSpPr>
            <p:spPr>
              <a:xfrm>
                <a:off x="7688160" y="2178000"/>
                <a:ext cx="582840" cy="44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 bit, 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 func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LU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7678800" y="1886040"/>
                <a:ext cx="1285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950240" y="1873080"/>
                <a:ext cx="128520" cy="136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7772400" y="1704960"/>
                <a:ext cx="1364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8075520" y="1704960"/>
                <a:ext cx="1382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8280360" y="2451240"/>
                <a:ext cx="182520" cy="6120"/>
              </a:xfrm>
              <a:custGeom>
                <a:avLst/>
                <a:gdLst/>
                <a:ahLst/>
                <a:rect l="l" t="t" r="r" b="b"/>
                <a:pathLst>
                  <a:path w="288" h="8">
                    <a:moveTo>
                      <a:pt x="288" y="0"/>
                    </a:move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8280360" y="2498760"/>
                <a:ext cx="187200" cy="3240"/>
              </a:xfrm>
              <a:custGeom>
                <a:avLst/>
                <a:gdLst/>
                <a:ahLst/>
                <a:rect l="l" t="t" r="r" b="b"/>
                <a:pathLst>
                  <a:path w="296" h="5">
                    <a:moveTo>
                      <a:pt x="296" y="0"/>
                    </a:moveTo>
                    <a:lnTo>
                      <a:pt x="0" y="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 flipH="1">
                <a:off x="8330400" y="2457360"/>
                <a:ext cx="190440" cy="10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…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8280360" y="2593800"/>
                <a:ext cx="192240" cy="360"/>
              </a:xfrm>
              <a:custGeom>
                <a:avLst/>
                <a:gdLst/>
                <a:ahLst/>
                <a:rect l="l" t="t" r="r" b="b"/>
                <a:pathLst>
                  <a:path w="303" h="1">
                    <a:moveTo>
                      <a:pt x="303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8362080" y="2313000"/>
                <a:ext cx="166680" cy="138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0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8109000" y="2616120"/>
                <a:ext cx="40464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(log m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7780320" y="2657520"/>
                <a:ext cx="12852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875720" y="2962440"/>
                <a:ext cx="225360" cy="136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O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"/>
              <p:cNvGrpSpPr/>
              <p:nvPr/>
            </p:nvGrpSpPr>
            <p:grpSpPr>
              <a:xfrm>
                <a:off x="7786800" y="1849320"/>
                <a:ext cx="114120" cy="335160"/>
                <a:chOff x="7786800" y="1849320"/>
                <a:chExt cx="114120" cy="335160"/>
              </a:xfrm>
            </p:grpSpPr>
            <p:sp>
              <p:nvSpPr>
                <p:cNvPr id="942" name=""/>
                <p:cNvSpPr/>
                <p:nvPr/>
              </p:nvSpPr>
              <p:spPr>
                <a:xfrm>
                  <a:off x="7846920" y="184932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"/>
                <p:cNvSpPr/>
                <p:nvPr/>
              </p:nvSpPr>
              <p:spPr>
                <a:xfrm>
                  <a:off x="7786800" y="1939320"/>
                  <a:ext cx="11412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4" name=""/>
              <p:cNvGrpSpPr/>
              <p:nvPr/>
            </p:nvGrpSpPr>
            <p:grpSpPr>
              <a:xfrm>
                <a:off x="8078760" y="1849320"/>
                <a:ext cx="114480" cy="335160"/>
                <a:chOff x="8078760" y="1849320"/>
                <a:chExt cx="114480" cy="33516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8139240" y="184932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8078760" y="193932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7" name=""/>
              <p:cNvGrpSpPr/>
              <p:nvPr/>
            </p:nvGrpSpPr>
            <p:grpSpPr>
              <a:xfrm>
                <a:off x="7920000" y="2627280"/>
                <a:ext cx="114480" cy="335160"/>
                <a:chOff x="7920000" y="2627280"/>
                <a:chExt cx="114480" cy="335160"/>
              </a:xfrm>
            </p:grpSpPr>
            <p:sp>
              <p:nvSpPr>
                <p:cNvPr id="948" name=""/>
                <p:cNvSpPr/>
                <p:nvPr/>
              </p:nvSpPr>
              <p:spPr>
                <a:xfrm>
                  <a:off x="7980480" y="2627280"/>
                  <a:ext cx="0" cy="33516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  <a:tailEnd len="med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"/>
                <p:cNvSpPr/>
                <p:nvPr/>
              </p:nvSpPr>
              <p:spPr>
                <a:xfrm>
                  <a:off x="7920000" y="2717280"/>
                  <a:ext cx="114480" cy="53280"/>
                </a:xfrm>
                <a:custGeom>
                  <a:avLst/>
                  <a:gdLst/>
                  <a:ahLst/>
                  <a:rect l="l" t="t" r="r" b="b"/>
                  <a:pathLst>
                    <a:path w="180" h="84">
                      <a:moveTo>
                        <a:pt x="0" y="0"/>
                      </a:moveTo>
                      <a:lnTo>
                        <a:pt x="180" y="84"/>
                      </a:ln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40664-3394-4430-B7BD-A5507136B74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quential componen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222120" y="1846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3116160" y="1846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6010200" y="1846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22120" y="3673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3116160" y="3673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6010200" y="3673440"/>
            <a:ext cx="2889360" cy="1828800"/>
          </a:xfrm>
          <a:prstGeom prst="rect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91960" y="3749760"/>
            <a:ext cx="2722680" cy="159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if clear=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if load=1 and clock=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(previous) otherw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068880" y="3755880"/>
            <a:ext cx="2662200" cy="16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 if clear=1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(prev)+1 if count=1 and clock=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9" name=""/>
          <p:cNvGrpSpPr/>
          <p:nvPr/>
        </p:nvGrpSpPr>
        <p:grpSpPr>
          <a:xfrm>
            <a:off x="558720" y="1940040"/>
            <a:ext cx="1717920" cy="1563120"/>
            <a:chOff x="558720" y="1940040"/>
            <a:chExt cx="1717920" cy="1563120"/>
          </a:xfrm>
        </p:grpSpPr>
        <p:sp>
          <p:nvSpPr>
            <p:cNvPr id="960" name=""/>
            <p:cNvSpPr/>
            <p:nvPr/>
          </p:nvSpPr>
          <p:spPr>
            <a:xfrm>
              <a:off x="558720" y="2855160"/>
              <a:ext cx="358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le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113120" y="2530800"/>
              <a:ext cx="1163520" cy="381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1739160" y="2111400"/>
              <a:ext cx="0" cy="41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1593720" y="2244960"/>
              <a:ext cx="3060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422000" y="2168640"/>
              <a:ext cx="133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08840" y="3026880"/>
              <a:ext cx="3060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739160" y="2912400"/>
              <a:ext cx="0" cy="4194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422000" y="2950560"/>
              <a:ext cx="1339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79960" y="26262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79960" y="2855160"/>
              <a:ext cx="518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80680" y="2454480"/>
              <a:ext cx="3582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a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71" name=""/>
            <p:cNvGrpSpPr/>
            <p:nvPr/>
          </p:nvGrpSpPr>
          <p:grpSpPr>
            <a:xfrm>
              <a:off x="1113120" y="2683440"/>
              <a:ext cx="117000" cy="114120"/>
              <a:chOff x="1113120" y="2683440"/>
              <a:chExt cx="117000" cy="114120"/>
            </a:xfrm>
          </p:grpSpPr>
          <p:sp>
            <p:nvSpPr>
              <p:cNvPr id="972" name=""/>
              <p:cNvSpPr/>
              <p:nvPr/>
            </p:nvSpPr>
            <p:spPr>
              <a:xfrm>
                <a:off x="1113120" y="2683440"/>
                <a:ext cx="11700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>
                <a:off x="1114200" y="2740320"/>
                <a:ext cx="115920" cy="5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74" name=""/>
            <p:cNvSpPr/>
            <p:nvPr/>
          </p:nvSpPr>
          <p:spPr>
            <a:xfrm>
              <a:off x="1556280" y="1940040"/>
              <a:ext cx="358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1637280" y="3331800"/>
              <a:ext cx="3585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 flipH="1">
              <a:off x="580320" y="274068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7" name=""/>
          <p:cNvGrpSpPr/>
          <p:nvPr/>
        </p:nvGrpSpPr>
        <p:grpSpPr>
          <a:xfrm>
            <a:off x="3430440" y="2459160"/>
            <a:ext cx="2190960" cy="561960"/>
            <a:chOff x="3430440" y="2459160"/>
            <a:chExt cx="2190960" cy="561960"/>
          </a:xfrm>
        </p:grpSpPr>
        <p:sp>
          <p:nvSpPr>
            <p:cNvPr id="978" name=""/>
            <p:cNvSpPr/>
            <p:nvPr/>
          </p:nvSpPr>
          <p:spPr>
            <a:xfrm>
              <a:off x="3430440" y="2627640"/>
              <a:ext cx="52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430440" y="2459160"/>
              <a:ext cx="3528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f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430440" y="2852640"/>
              <a:ext cx="52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430440" y="2852640"/>
              <a:ext cx="3528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096520" y="2852640"/>
              <a:ext cx="52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125320" y="2852640"/>
              <a:ext cx="35280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955320" y="2534040"/>
              <a:ext cx="1144800" cy="37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hift regis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955320" y="2683800"/>
              <a:ext cx="114840" cy="5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3955680" y="2740320"/>
              <a:ext cx="114120" cy="5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 flipH="1">
              <a:off x="3430440" y="2740320"/>
              <a:ext cx="52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8" name=""/>
          <p:cNvGrpSpPr/>
          <p:nvPr/>
        </p:nvGrpSpPr>
        <p:grpSpPr>
          <a:xfrm>
            <a:off x="6632280" y="2529000"/>
            <a:ext cx="1649520" cy="939240"/>
            <a:chOff x="6632280" y="2529000"/>
            <a:chExt cx="1649520" cy="939240"/>
          </a:xfrm>
        </p:grpSpPr>
        <p:sp>
          <p:nvSpPr>
            <p:cNvPr id="989" name=""/>
            <p:cNvSpPr/>
            <p:nvPr/>
          </p:nvSpPr>
          <p:spPr>
            <a:xfrm>
              <a:off x="7153560" y="2529000"/>
              <a:ext cx="112824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-b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unt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636600" y="2842200"/>
              <a:ext cx="51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1" name=""/>
            <p:cNvGrpSpPr/>
            <p:nvPr/>
          </p:nvGrpSpPr>
          <p:grpSpPr>
            <a:xfrm>
              <a:off x="7153560" y="2676240"/>
              <a:ext cx="113400" cy="110520"/>
              <a:chOff x="7153560" y="2676240"/>
              <a:chExt cx="113400" cy="110520"/>
            </a:xfrm>
          </p:grpSpPr>
          <p:sp>
            <p:nvSpPr>
              <p:cNvPr id="992" name=""/>
              <p:cNvSpPr/>
              <p:nvPr/>
            </p:nvSpPr>
            <p:spPr>
              <a:xfrm>
                <a:off x="7153560" y="2676240"/>
                <a:ext cx="1134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 flipH="1">
                <a:off x="7154640" y="2731320"/>
                <a:ext cx="11232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"/>
            <p:cNvSpPr/>
            <p:nvPr/>
          </p:nvSpPr>
          <p:spPr>
            <a:xfrm flipH="1">
              <a:off x="6632280" y="273168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6636600" y="2621160"/>
              <a:ext cx="51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7672680" y="3007800"/>
              <a:ext cx="297000" cy="9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7799040" y="2897280"/>
              <a:ext cx="0" cy="4050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7491600" y="2934360"/>
              <a:ext cx="129960" cy="1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7621920" y="3302640"/>
              <a:ext cx="347760" cy="16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0" name=""/>
          <p:cNvSpPr/>
          <p:nvPr/>
        </p:nvSpPr>
        <p:spPr>
          <a:xfrm>
            <a:off x="3200400" y="3724200"/>
            <a:ext cx="2722680" cy="15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 = l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Content shif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 I stored in ms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E71FC-11C1-4699-9131-1B457DAE02E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Frank Vahid</cp:lastModifiedBy>
  <dcterms:modified xsi:type="dcterms:W3CDTF">2002-04-09T01:36:23Z</dcterms:modified>
  <cp:revision>114</cp:revision>
  <dc:subject/>
  <dc:title>A “short list” of embedded systems</dc:title>
</cp:coreProperties>
</file>