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18794-491C-4187-B98E-561F444041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C2C73-AE08-40F6-A9F6-08203A34DF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5C379-53F6-4585-A56B-477C2D454E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606D2-2D42-4215-917B-31E8DF713E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0FA97F-0D36-471A-A7D4-E9091DA37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755591-E5BC-4D85-87D2-9F2F041F6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7DFCBE-8C44-4B29-A67E-BF547205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E698CB-B7BB-44D0-B341-A62377C46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0436DE-41B8-4B06-8138-0BA07480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E859D0-8385-4414-A80C-8A65D52B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24A2DB-EDF4-427F-BE83-BCD8CCE0F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263F68-3ADE-48B1-BD29-7CC109A492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CB1689-21A1-4CEC-BE72-6D0AFCD5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9E1E4C-C31E-4E8A-907D-190EA62A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C64E2E-4FCD-4975-AA4F-C923B1727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BE8034-7AE5-46C1-8F51-F446A90FB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8088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1516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4944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79E6D7-08B6-4E9D-8F7A-52C079A00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9FED1-D2E2-4D87-903F-F749C32DD1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066921-AFC1-4E3F-8038-79567D8445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79FB6-37E4-4438-B527-39D8FEADFE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07D8B-B5C8-4002-9264-5C721DA23A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13684-3CD3-4D43-B1E5-E030FC7FEC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D241F-491A-4BD1-B26A-89D401698E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0C605-154F-474E-90FB-702C112444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0100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1BF8-6A27-44C3-8BF4-4FF1EE23A5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1295280"/>
            <a:ext cx="8686800" cy="1526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617220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mbedded Systems Design: A Unified Hardware/Software Introduction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c) 2000 Vahid/Givarg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6095880"/>
            <a:ext cx="8686800" cy="763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BB2DB-2D9A-4AD1-B6E3-3DC6EA7DD5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mbedded Systems Design: A Unified Hardware/Software Int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295280"/>
            <a:ext cx="8686800" cy="1526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6095880"/>
            <a:ext cx="8686800" cy="763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hyperlink" Target="http://www.tensillica.com/" TargetMode="External"/><Relationship Id="rId2" Type="http://schemas.openxmlformats.org/officeDocument/2006/relationships/hyperlink" Target="http://www.improvsys.com/" TargetMode="External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eembc.org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3   General-Purpose Processors: Softwa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A262A4-16EF-43D7-A876-6942ADBE695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rol Unit Sub-Oper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37960" y="1523520"/>
            <a:ext cx="33926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re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ite data from register to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articular instruction does nothing during this sub-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733920" y="1744560"/>
            <a:ext cx="5130720" cy="32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879720" y="2025720"/>
            <a:ext cx="2784600" cy="267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trol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251840" y="2025720"/>
            <a:ext cx="1465200" cy="267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399440" y="2332080"/>
            <a:ext cx="1171440" cy="68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399440" y="3311640"/>
            <a:ext cx="1171440" cy="12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5638680" y="4213080"/>
            <a:ext cx="99072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319640" y="4213080"/>
            <a:ext cx="78588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027320" y="2585880"/>
            <a:ext cx="2495880" cy="14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 flipV="1">
            <a:off x="5932440" y="3973320"/>
            <a:ext cx="0" cy="23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4614840" y="3973320"/>
            <a:ext cx="0" cy="239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736800" y="5299200"/>
            <a:ext cx="5131080" cy="79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 flipH="1">
            <a:off x="7983000" y="3013200"/>
            <a:ext cx="3240" cy="285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672240" y="3182760"/>
            <a:ext cx="582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983360" y="4700520"/>
            <a:ext cx="3240" cy="598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614840" y="4530600"/>
            <a:ext cx="3240" cy="76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flipV="1">
            <a:off x="5937120" y="45367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962760" y="343692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962760" y="3436920"/>
            <a:ext cx="0" cy="16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742080" y="5045040"/>
            <a:ext cx="4413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669000" y="2674800"/>
            <a:ext cx="585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6681960" y="3436920"/>
            <a:ext cx="280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rot="5400000">
            <a:off x="4317840" y="4343400"/>
            <a:ext cx="114480" cy="114480"/>
          </a:xfrm>
          <a:prstGeom prst="triangle">
            <a:avLst>
              <a:gd name="adj" fmla="val 50000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rot="5400000">
            <a:off x="5638680" y="4356000"/>
            <a:ext cx="114480" cy="114480"/>
          </a:xfrm>
          <a:prstGeom prst="triangle">
            <a:avLst>
              <a:gd name="adj" fmla="val 50000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543800" y="3657600"/>
            <a:ext cx="380880" cy="2286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543800" y="4038480"/>
            <a:ext cx="380880" cy="2286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077320" y="3657600"/>
            <a:ext cx="380880" cy="2286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8077320" y="4038480"/>
            <a:ext cx="380880" cy="2286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rot="5400000">
            <a:off x="7543800" y="3733560"/>
            <a:ext cx="114120" cy="114480"/>
          </a:xfrm>
          <a:prstGeom prst="triangle">
            <a:avLst>
              <a:gd name="adj" fmla="val 50000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rot="5400000">
            <a:off x="7543800" y="4114800"/>
            <a:ext cx="114480" cy="114480"/>
          </a:xfrm>
          <a:prstGeom prst="triangle">
            <a:avLst>
              <a:gd name="adj" fmla="val 50000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rot="5400000">
            <a:off x="8076960" y="3733920"/>
            <a:ext cx="114120" cy="114120"/>
          </a:xfrm>
          <a:prstGeom prst="triangle">
            <a:avLst>
              <a:gd name="adj" fmla="val 50000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rot="5400000">
            <a:off x="8076600" y="4114800"/>
            <a:ext cx="114480" cy="114120"/>
          </a:xfrm>
          <a:prstGeom prst="triangle">
            <a:avLst>
              <a:gd name="adj" fmla="val 50000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467480" y="5410080"/>
            <a:ext cx="381240" cy="2286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467480" y="5638680"/>
            <a:ext cx="381240" cy="2286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543440" y="5105520"/>
            <a:ext cx="229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543440" y="5638680"/>
            <a:ext cx="229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952880" y="5334120"/>
            <a:ext cx="1143000" cy="2286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R0, M[50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7086600" y="541008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086600" y="563868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5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572000" y="533412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952880" y="5562720"/>
            <a:ext cx="1143000" cy="2286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 R1, R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572000" y="556272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952880" y="5791320"/>
            <a:ext cx="1143000" cy="2286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e M[501], R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0" y="579132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315200" y="426708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7924680" y="4267080"/>
            <a:ext cx="38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724280" y="4267080"/>
            <a:ext cx="38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562720" y="4343400"/>
            <a:ext cx="1143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R0, M[50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543800" y="403848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58029-8882-4DEB-8135-1FF118F9C6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struction Cyc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4038480" y="1744560"/>
            <a:ext cx="4829400" cy="4351320"/>
            <a:chOff x="4038480" y="1744560"/>
            <a:chExt cx="4829400" cy="4351320"/>
          </a:xfrm>
        </p:grpSpPr>
        <p:sp>
          <p:nvSpPr>
            <p:cNvPr id="466" name=""/>
            <p:cNvSpPr/>
            <p:nvPr/>
          </p:nvSpPr>
          <p:spPr>
            <a:xfrm>
              <a:off x="4038480" y="1744560"/>
              <a:ext cx="4826160" cy="321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rocess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176720" y="2025720"/>
              <a:ext cx="2617920" cy="267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ntrol 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346880" y="2025720"/>
              <a:ext cx="1379520" cy="267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atapa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486560" y="2332080"/>
              <a:ext cx="1101960" cy="68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L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486560" y="3311640"/>
              <a:ext cx="1101960" cy="12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gist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830920" y="4213080"/>
              <a:ext cx="55080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589640" y="4213080"/>
              <a:ext cx="55224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314960" y="2585880"/>
              <a:ext cx="2347920" cy="141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troll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6107040" y="3973320"/>
              <a:ext cx="0" cy="23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V="1">
              <a:off x="4867200" y="3973320"/>
              <a:ext cx="0" cy="23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041720" y="5299200"/>
              <a:ext cx="4826160" cy="79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8035560" y="3013200"/>
              <a:ext cx="324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802560" y="3182760"/>
              <a:ext cx="5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035920" y="4700520"/>
              <a:ext cx="3240" cy="5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867200" y="4530600"/>
              <a:ext cx="3240" cy="76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flipV="1">
              <a:off x="6111720" y="453672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075440" y="3436920"/>
              <a:ext cx="27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7075440" y="3436920"/>
              <a:ext cx="0" cy="160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867360" y="5045040"/>
              <a:ext cx="41616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/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799320" y="2674800"/>
              <a:ext cx="5508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/Stat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6811920" y="3436920"/>
              <a:ext cx="26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5400000">
              <a:off x="4584600" y="4346640"/>
              <a:ext cx="114480" cy="108000"/>
            </a:xfrm>
            <a:prstGeom prst="triangle">
              <a:avLst>
                <a:gd name="adj" fmla="val 50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5400000">
              <a:off x="5826240" y="4359960"/>
              <a:ext cx="114480" cy="106200"/>
            </a:xfrm>
            <a:prstGeom prst="triangle">
              <a:avLst>
                <a:gd name="adj" fmla="val 50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7623000" y="3657600"/>
              <a:ext cx="357480" cy="2286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623000" y="4038480"/>
              <a:ext cx="357480" cy="2286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8124840" y="3657600"/>
              <a:ext cx="357120" cy="2286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8124840" y="4038480"/>
              <a:ext cx="357120" cy="2286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5400000">
              <a:off x="7619040" y="3737520"/>
              <a:ext cx="114120" cy="106560"/>
            </a:xfrm>
            <a:prstGeom prst="triangle">
              <a:avLst>
                <a:gd name="adj" fmla="val 50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5400000">
              <a:off x="7619040" y="4118760"/>
              <a:ext cx="114480" cy="106560"/>
            </a:xfrm>
            <a:prstGeom prst="triangle">
              <a:avLst>
                <a:gd name="adj" fmla="val 50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5400000">
              <a:off x="8120520" y="3737880"/>
              <a:ext cx="114120" cy="106200"/>
            </a:xfrm>
            <a:prstGeom prst="triangle">
              <a:avLst>
                <a:gd name="adj" fmla="val 50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5400000">
              <a:off x="8120160" y="4118760"/>
              <a:ext cx="114480" cy="106200"/>
            </a:xfrm>
            <a:prstGeom prst="triangle">
              <a:avLst>
                <a:gd name="adj" fmla="val 50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550280" y="5410080"/>
              <a:ext cx="358560" cy="2286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550280" y="5638680"/>
              <a:ext cx="358560" cy="2286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7622640" y="510552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622640" y="563868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184720" y="5334120"/>
              <a:ext cx="1076400" cy="2286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oad R0, M[500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192800" y="5410080"/>
              <a:ext cx="35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5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192800" y="5638680"/>
              <a:ext cx="35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5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827600" y="5334120"/>
              <a:ext cx="357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184720" y="5562720"/>
              <a:ext cx="1076400" cy="2286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c R1, R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827600" y="5562720"/>
              <a:ext cx="357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184720" y="5791320"/>
              <a:ext cx="1076400" cy="2286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ore M[501], R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827600" y="5791320"/>
              <a:ext cx="357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407360" y="4267080"/>
              <a:ext cx="358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980480" y="4267080"/>
              <a:ext cx="358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1" name=""/>
          <p:cNvSpPr/>
          <p:nvPr/>
        </p:nvSpPr>
        <p:spPr>
          <a:xfrm>
            <a:off x="228600" y="1752480"/>
            <a:ext cx="838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C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1752480" y="1981080"/>
            <a:ext cx="6248520" cy="3432960"/>
            <a:chOff x="1752480" y="1981080"/>
            <a:chExt cx="6248520" cy="3432960"/>
          </a:xfrm>
        </p:grpSpPr>
        <p:sp>
          <p:nvSpPr>
            <p:cNvPr id="513" name=""/>
            <p:cNvSpPr/>
            <p:nvPr/>
          </p:nvSpPr>
          <p:spPr>
            <a:xfrm rot="243000">
              <a:off x="7621200" y="4187880"/>
              <a:ext cx="149400" cy="1222200"/>
            </a:xfrm>
            <a:prstGeom prst="upArrow">
              <a:avLst>
                <a:gd name="adj1" fmla="val 50000"/>
                <a:gd name="adj2" fmla="val 204518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620120" y="4038480"/>
              <a:ext cx="380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828800" y="19810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tch o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752480" y="2590920"/>
              <a:ext cx="685800" cy="228600"/>
            </a:xfrm>
            <a:custGeom>
              <a:avLst/>
              <a:gdLst/>
              <a:ahLst/>
              <a:rect l="l" t="t" r="r" b="b"/>
              <a:pathLst>
                <a:path w="432" h="144">
                  <a:moveTo>
                    <a:pt x="0" y="144"/>
                  </a:moveTo>
                  <a:lnTo>
                    <a:pt x="144" y="144"/>
                  </a:lnTo>
                  <a:lnTo>
                    <a:pt x="144" y="0"/>
                  </a:lnTo>
                  <a:lnTo>
                    <a:pt x="288" y="0"/>
                  </a:lnTo>
                  <a:lnTo>
                    <a:pt x="288" y="144"/>
                  </a:lnTo>
                  <a:lnTo>
                    <a:pt x="432" y="144"/>
                  </a:lnTo>
                </a:path>
              </a:pathLst>
            </a:cu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2438280" y="2057400"/>
            <a:ext cx="685800" cy="762120"/>
            <a:chOff x="2438280" y="2057400"/>
            <a:chExt cx="685800" cy="762120"/>
          </a:xfrm>
        </p:grpSpPr>
        <p:sp>
          <p:nvSpPr>
            <p:cNvPr id="518" name=""/>
            <p:cNvSpPr/>
            <p:nvPr/>
          </p:nvSpPr>
          <p:spPr>
            <a:xfrm>
              <a:off x="2438280" y="2057400"/>
              <a:ext cx="609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e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2438280" y="2590920"/>
              <a:ext cx="685800" cy="228600"/>
            </a:xfrm>
            <a:custGeom>
              <a:avLst/>
              <a:gdLst/>
              <a:ahLst/>
              <a:rect l="l" t="t" r="r" b="b"/>
              <a:pathLst>
                <a:path w="432" h="144">
                  <a:moveTo>
                    <a:pt x="0" y="144"/>
                  </a:moveTo>
                  <a:lnTo>
                    <a:pt x="144" y="144"/>
                  </a:lnTo>
                  <a:lnTo>
                    <a:pt x="144" y="0"/>
                  </a:lnTo>
                  <a:lnTo>
                    <a:pt x="288" y="0"/>
                  </a:lnTo>
                  <a:lnTo>
                    <a:pt x="288" y="144"/>
                  </a:lnTo>
                  <a:lnTo>
                    <a:pt x="432" y="144"/>
                  </a:lnTo>
                </a:path>
              </a:pathLst>
            </a:cu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3124080" y="1981080"/>
            <a:ext cx="685800" cy="838440"/>
            <a:chOff x="3124080" y="1981080"/>
            <a:chExt cx="685800" cy="838440"/>
          </a:xfrm>
        </p:grpSpPr>
        <p:sp>
          <p:nvSpPr>
            <p:cNvPr id="521" name=""/>
            <p:cNvSpPr/>
            <p:nvPr/>
          </p:nvSpPr>
          <p:spPr>
            <a:xfrm>
              <a:off x="3124080" y="1981080"/>
              <a:ext cx="609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ore resu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124080" y="2590920"/>
              <a:ext cx="685800" cy="228600"/>
            </a:xfrm>
            <a:custGeom>
              <a:avLst/>
              <a:gdLst/>
              <a:ahLst/>
              <a:rect l="l" t="t" r="r" b="b"/>
              <a:pathLst>
                <a:path w="432" h="144">
                  <a:moveTo>
                    <a:pt x="0" y="144"/>
                  </a:moveTo>
                  <a:lnTo>
                    <a:pt x="144" y="144"/>
                  </a:lnTo>
                  <a:lnTo>
                    <a:pt x="144" y="0"/>
                  </a:lnTo>
                  <a:lnTo>
                    <a:pt x="288" y="0"/>
                  </a:lnTo>
                  <a:lnTo>
                    <a:pt x="288" y="144"/>
                  </a:lnTo>
                  <a:lnTo>
                    <a:pt x="432" y="144"/>
                  </a:lnTo>
                </a:path>
              </a:pathLst>
            </a:cu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228600" y="2590920"/>
            <a:ext cx="35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380880" y="2057400"/>
            <a:ext cx="6324840" cy="3429000"/>
            <a:chOff x="380880" y="2057400"/>
            <a:chExt cx="6324840" cy="3429000"/>
          </a:xfrm>
        </p:grpSpPr>
        <p:sp>
          <p:nvSpPr>
            <p:cNvPr id="525" name=""/>
            <p:cNvSpPr/>
            <p:nvPr/>
          </p:nvSpPr>
          <p:spPr>
            <a:xfrm>
              <a:off x="4952880" y="4419720"/>
              <a:ext cx="1295640" cy="1066680"/>
            </a:xfrm>
            <a:custGeom>
              <a:avLst/>
              <a:gdLst>
                <a:gd name="textAreaLeft" fmla="*/ 280800 w 1295640"/>
                <a:gd name="textAreaRight" fmla="*/ 885240 w 1295640"/>
                <a:gd name="textAreaTop" fmla="*/ 142920 h 1066680"/>
                <a:gd name="textAreaBottom" fmla="*/ 9237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9366" hR="21600" stAng="10800000" swAng="-5400000"/>
                  <a:lnTo>
                    <a:pt x="10075" y="21600"/>
                  </a:lnTo>
                  <a:arcTo wR="9366" hR="21600" stAng="5400000" swAng="-3871128"/>
                  <a:lnTo>
                    <a:pt x="21406" y="4371"/>
                  </a:lnTo>
                  <a:lnTo>
                    <a:pt x="19086" y="0"/>
                  </a:lnTo>
                  <a:lnTo>
                    <a:pt x="16377" y="4371"/>
                  </a:lnTo>
                  <a:lnTo>
                    <a:pt x="18537" y="4371"/>
                  </a:lnTo>
                  <a:arcTo wR="9366" hR="21600" stAng="1528872" swAng="3814672"/>
                  <a:lnTo>
                    <a:pt x="9720" y="21585"/>
                  </a:lnTo>
                  <a:arcTo wR="9366" hR="21600" stAng="5456456" swAng="5343544"/>
                  <a:close/>
                </a:path>
                <a:path fill="darkenLess" w="21600" h="21600">
                  <a:moveTo>
                    <a:pt x="0" y="0"/>
                  </a:moveTo>
                  <a:arcTo wR="9366" hR="21600" stAng="10800000" swAng="-5400000"/>
                  <a:lnTo>
                    <a:pt x="10075" y="21600"/>
                  </a:lnTo>
                  <a:arcTo wR="9366" hR="21600" stAng="5400000" swAng="56456"/>
                  <a:lnTo>
                    <a:pt x="9720" y="21585"/>
                  </a:lnTo>
                  <a:arcTo wR="9366" hR="21600" stAng="5456456" swAng="5343544"/>
                  <a:close/>
                </a:path>
              </a:pathLst>
            </a:cu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57200" y="2057400"/>
              <a:ext cx="60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80880" y="2590920"/>
              <a:ext cx="685800" cy="228600"/>
            </a:xfrm>
            <a:custGeom>
              <a:avLst/>
              <a:gdLst/>
              <a:ahLst/>
              <a:rect l="l" t="t" r="r" b="b"/>
              <a:pathLst>
                <a:path w="432" h="144">
                  <a:moveTo>
                    <a:pt x="0" y="144"/>
                  </a:moveTo>
                  <a:lnTo>
                    <a:pt x="144" y="144"/>
                  </a:lnTo>
                  <a:lnTo>
                    <a:pt x="144" y="0"/>
                  </a:lnTo>
                  <a:lnTo>
                    <a:pt x="288" y="0"/>
                  </a:lnTo>
                  <a:lnTo>
                    <a:pt x="288" y="144"/>
                  </a:lnTo>
                  <a:lnTo>
                    <a:pt x="432" y="144"/>
                  </a:lnTo>
                </a:path>
              </a:pathLst>
            </a:cu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562720" y="4343400"/>
              <a:ext cx="11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oad R0, M[500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9" name=""/>
          <p:cNvGrpSpPr/>
          <p:nvPr/>
        </p:nvGrpSpPr>
        <p:grpSpPr>
          <a:xfrm>
            <a:off x="1066680" y="2057400"/>
            <a:ext cx="5105520" cy="2209680"/>
            <a:chOff x="1066680" y="2057400"/>
            <a:chExt cx="5105520" cy="2209680"/>
          </a:xfrm>
        </p:grpSpPr>
        <p:sp>
          <p:nvSpPr>
            <p:cNvPr id="530" name=""/>
            <p:cNvSpPr/>
            <p:nvPr/>
          </p:nvSpPr>
          <p:spPr>
            <a:xfrm>
              <a:off x="1066680" y="2057400"/>
              <a:ext cx="609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066680" y="2590920"/>
              <a:ext cx="685800" cy="228600"/>
            </a:xfrm>
            <a:custGeom>
              <a:avLst/>
              <a:gdLst/>
              <a:ahLst/>
              <a:rect l="l" t="t" r="r" b="b"/>
              <a:pathLst>
                <a:path w="432" h="144">
                  <a:moveTo>
                    <a:pt x="0" y="144"/>
                  </a:moveTo>
                  <a:lnTo>
                    <a:pt x="144" y="144"/>
                  </a:lnTo>
                  <a:lnTo>
                    <a:pt x="144" y="0"/>
                  </a:lnTo>
                  <a:lnTo>
                    <a:pt x="288" y="0"/>
                  </a:lnTo>
                  <a:lnTo>
                    <a:pt x="288" y="144"/>
                  </a:lnTo>
                  <a:lnTo>
                    <a:pt x="432" y="144"/>
                  </a:lnTo>
                </a:path>
              </a:pathLst>
            </a:cu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19920" y="3505320"/>
              <a:ext cx="152280" cy="761760"/>
            </a:xfrm>
            <a:prstGeom prst="upArrow">
              <a:avLst>
                <a:gd name="adj1" fmla="val 50000"/>
                <a:gd name="adj2" fmla="val 125059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5029200" y="4267080"/>
            <a:ext cx="380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2E4F3-BED2-49A4-8247-E3C0BB6A3DB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struction Cyc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4038480" y="1744560"/>
            <a:ext cx="4829400" cy="4351320"/>
            <a:chOff x="4038480" y="1744560"/>
            <a:chExt cx="4829400" cy="4351320"/>
          </a:xfrm>
        </p:grpSpPr>
        <p:sp>
          <p:nvSpPr>
            <p:cNvPr id="536" name=""/>
            <p:cNvSpPr/>
            <p:nvPr/>
          </p:nvSpPr>
          <p:spPr>
            <a:xfrm>
              <a:off x="4038480" y="1744560"/>
              <a:ext cx="4826160" cy="321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rocess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176720" y="2025720"/>
              <a:ext cx="2617920" cy="267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ntrol 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346880" y="2025720"/>
              <a:ext cx="1379520" cy="267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atapa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486560" y="2332080"/>
              <a:ext cx="1101960" cy="68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L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486560" y="3311640"/>
              <a:ext cx="1101960" cy="12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gist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30920" y="4213080"/>
              <a:ext cx="55080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589640" y="4213080"/>
              <a:ext cx="55224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314960" y="2585880"/>
              <a:ext cx="2347920" cy="141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troll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6107040" y="3973320"/>
              <a:ext cx="0" cy="23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4867200" y="3973320"/>
              <a:ext cx="0" cy="23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041720" y="5299200"/>
              <a:ext cx="4826160" cy="79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H="1">
              <a:off x="8035560" y="3013200"/>
              <a:ext cx="324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802560" y="3182760"/>
              <a:ext cx="5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8035920" y="4700520"/>
              <a:ext cx="3240" cy="5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67200" y="4530600"/>
              <a:ext cx="3240" cy="76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6111720" y="453672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7075440" y="3436920"/>
              <a:ext cx="27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75440" y="3436920"/>
              <a:ext cx="0" cy="160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867360" y="5045040"/>
              <a:ext cx="41616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/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799320" y="2674800"/>
              <a:ext cx="5508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/Stat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6811920" y="3436920"/>
              <a:ext cx="26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5400000">
              <a:off x="4584600" y="4346640"/>
              <a:ext cx="114480" cy="108000"/>
            </a:xfrm>
            <a:prstGeom prst="triangle">
              <a:avLst>
                <a:gd name="adj" fmla="val 50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5400000">
              <a:off x="5826240" y="4359960"/>
              <a:ext cx="114480" cy="106200"/>
            </a:xfrm>
            <a:prstGeom prst="triangle">
              <a:avLst>
                <a:gd name="adj" fmla="val 50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623000" y="3657600"/>
              <a:ext cx="357480" cy="2286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623000" y="4038480"/>
              <a:ext cx="357480" cy="2286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124840" y="3657600"/>
              <a:ext cx="357120" cy="2286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124840" y="4038480"/>
              <a:ext cx="357120" cy="2286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5400000">
              <a:off x="7619040" y="3737520"/>
              <a:ext cx="114120" cy="106560"/>
            </a:xfrm>
            <a:prstGeom prst="triangle">
              <a:avLst>
                <a:gd name="adj" fmla="val 50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5400000">
              <a:off x="7619040" y="4118760"/>
              <a:ext cx="114480" cy="106560"/>
            </a:xfrm>
            <a:prstGeom prst="triangle">
              <a:avLst>
                <a:gd name="adj" fmla="val 50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5400000">
              <a:off x="8120520" y="3737880"/>
              <a:ext cx="114120" cy="106200"/>
            </a:xfrm>
            <a:prstGeom prst="triangle">
              <a:avLst>
                <a:gd name="adj" fmla="val 50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5400000">
              <a:off x="8120160" y="4118760"/>
              <a:ext cx="114480" cy="106200"/>
            </a:xfrm>
            <a:prstGeom prst="triangle">
              <a:avLst>
                <a:gd name="adj" fmla="val 50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50280" y="5410080"/>
              <a:ext cx="358560" cy="2286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550280" y="5638680"/>
              <a:ext cx="358560" cy="2286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622640" y="510552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622640" y="563868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184720" y="5334120"/>
              <a:ext cx="1076400" cy="2286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oad R0, M[500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192800" y="5410080"/>
              <a:ext cx="35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5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192800" y="5638680"/>
              <a:ext cx="35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5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827600" y="5334120"/>
              <a:ext cx="357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184720" y="5562720"/>
              <a:ext cx="1076400" cy="2286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c R1, R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827600" y="5562720"/>
              <a:ext cx="357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184720" y="5791320"/>
              <a:ext cx="1076400" cy="2286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ore M[501], R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827600" y="5791320"/>
              <a:ext cx="357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407360" y="4267080"/>
              <a:ext cx="358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980480" y="4267080"/>
              <a:ext cx="358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1" name=""/>
          <p:cNvSpPr/>
          <p:nvPr/>
        </p:nvSpPr>
        <p:spPr>
          <a:xfrm>
            <a:off x="7620120" y="403848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228600" y="1752480"/>
            <a:ext cx="838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C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457200" y="2057400"/>
            <a:ext cx="609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066680" y="2057400"/>
            <a:ext cx="60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828800" y="198108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tch 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438280" y="205740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124080" y="198108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re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80880" y="2590920"/>
            <a:ext cx="685800" cy="228600"/>
          </a:xfrm>
          <a:custGeom>
            <a:avLst/>
            <a:gdLst/>
            <a:ahLst/>
            <a:rect l="l" t="t" r="r" b="b"/>
            <a:pathLst>
              <a:path w="432" h="144">
                <a:moveTo>
                  <a:pt x="0" y="144"/>
                </a:moveTo>
                <a:lnTo>
                  <a:pt x="144" y="144"/>
                </a:lnTo>
                <a:lnTo>
                  <a:pt x="144" y="0"/>
                </a:lnTo>
                <a:lnTo>
                  <a:pt x="288" y="0"/>
                </a:lnTo>
                <a:lnTo>
                  <a:pt x="288" y="144"/>
                </a:lnTo>
                <a:lnTo>
                  <a:pt x="432" y="144"/>
                </a:lnTo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1066680" y="2590920"/>
            <a:ext cx="685800" cy="228600"/>
          </a:xfrm>
          <a:custGeom>
            <a:avLst/>
            <a:gdLst/>
            <a:ahLst/>
            <a:rect l="l" t="t" r="r" b="b"/>
            <a:pathLst>
              <a:path w="432" h="144">
                <a:moveTo>
                  <a:pt x="0" y="144"/>
                </a:moveTo>
                <a:lnTo>
                  <a:pt x="144" y="144"/>
                </a:lnTo>
                <a:lnTo>
                  <a:pt x="144" y="0"/>
                </a:lnTo>
                <a:lnTo>
                  <a:pt x="288" y="0"/>
                </a:lnTo>
                <a:lnTo>
                  <a:pt x="288" y="144"/>
                </a:lnTo>
                <a:lnTo>
                  <a:pt x="432" y="144"/>
                </a:lnTo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752480" y="2590920"/>
            <a:ext cx="685800" cy="228600"/>
          </a:xfrm>
          <a:custGeom>
            <a:avLst/>
            <a:gdLst/>
            <a:ahLst/>
            <a:rect l="l" t="t" r="r" b="b"/>
            <a:pathLst>
              <a:path w="432" h="144">
                <a:moveTo>
                  <a:pt x="0" y="144"/>
                </a:moveTo>
                <a:lnTo>
                  <a:pt x="144" y="144"/>
                </a:lnTo>
                <a:lnTo>
                  <a:pt x="144" y="0"/>
                </a:lnTo>
                <a:lnTo>
                  <a:pt x="288" y="0"/>
                </a:lnTo>
                <a:lnTo>
                  <a:pt x="288" y="144"/>
                </a:lnTo>
                <a:lnTo>
                  <a:pt x="432" y="144"/>
                </a:lnTo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438280" y="2590920"/>
            <a:ext cx="685800" cy="228600"/>
          </a:xfrm>
          <a:custGeom>
            <a:avLst/>
            <a:gdLst/>
            <a:ahLst/>
            <a:rect l="l" t="t" r="r" b="b"/>
            <a:pathLst>
              <a:path w="432" h="144">
                <a:moveTo>
                  <a:pt x="0" y="144"/>
                </a:moveTo>
                <a:lnTo>
                  <a:pt x="144" y="144"/>
                </a:lnTo>
                <a:lnTo>
                  <a:pt x="144" y="0"/>
                </a:lnTo>
                <a:lnTo>
                  <a:pt x="288" y="0"/>
                </a:lnTo>
                <a:lnTo>
                  <a:pt x="288" y="144"/>
                </a:lnTo>
                <a:lnTo>
                  <a:pt x="432" y="144"/>
                </a:lnTo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124080" y="2590920"/>
            <a:ext cx="685800" cy="228600"/>
          </a:xfrm>
          <a:custGeom>
            <a:avLst/>
            <a:gdLst/>
            <a:ahLst/>
            <a:rect l="l" t="t" r="r" b="b"/>
            <a:pathLst>
              <a:path w="432" h="144">
                <a:moveTo>
                  <a:pt x="0" y="144"/>
                </a:moveTo>
                <a:lnTo>
                  <a:pt x="144" y="144"/>
                </a:lnTo>
                <a:lnTo>
                  <a:pt x="144" y="0"/>
                </a:lnTo>
                <a:lnTo>
                  <a:pt x="288" y="0"/>
                </a:lnTo>
                <a:lnTo>
                  <a:pt x="288" y="144"/>
                </a:lnTo>
                <a:lnTo>
                  <a:pt x="432" y="144"/>
                </a:lnTo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28600" y="2590920"/>
            <a:ext cx="35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28600" y="3124080"/>
            <a:ext cx="838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C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380880" y="3429000"/>
            <a:ext cx="6324840" cy="2286000"/>
            <a:chOff x="380880" y="3429000"/>
            <a:chExt cx="6324840" cy="2286000"/>
          </a:xfrm>
        </p:grpSpPr>
        <p:sp>
          <p:nvSpPr>
            <p:cNvPr id="596" name=""/>
            <p:cNvSpPr/>
            <p:nvPr/>
          </p:nvSpPr>
          <p:spPr>
            <a:xfrm>
              <a:off x="4952880" y="4419720"/>
              <a:ext cx="1295640" cy="1295280"/>
            </a:xfrm>
            <a:custGeom>
              <a:avLst/>
              <a:gdLst>
                <a:gd name="textAreaLeft" fmla="*/ 280800 w 1295640"/>
                <a:gd name="textAreaRight" fmla="*/ 885240 w 1295640"/>
                <a:gd name="textAreaTop" fmla="*/ 173520 h 1295280"/>
                <a:gd name="textAreaBottom" fmla="*/ 1121760 h 129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9366" hR="21600" stAng="10800000" swAng="-5400000"/>
                  <a:lnTo>
                    <a:pt x="10075" y="21600"/>
                  </a:lnTo>
                  <a:arcTo wR="9366" hR="21600" stAng="5400000" swAng="-3871128"/>
                  <a:lnTo>
                    <a:pt x="21406" y="4371"/>
                  </a:lnTo>
                  <a:lnTo>
                    <a:pt x="19086" y="0"/>
                  </a:lnTo>
                  <a:lnTo>
                    <a:pt x="16377" y="4371"/>
                  </a:lnTo>
                  <a:lnTo>
                    <a:pt x="18537" y="4371"/>
                  </a:lnTo>
                  <a:arcTo wR="9366" hR="21600" stAng="1528872" swAng="3814672"/>
                  <a:lnTo>
                    <a:pt x="9720" y="21585"/>
                  </a:lnTo>
                  <a:arcTo wR="9366" hR="21600" stAng="5456456" swAng="5343544"/>
                  <a:close/>
                </a:path>
                <a:path fill="darkenLess" w="21600" h="21600">
                  <a:moveTo>
                    <a:pt x="0" y="0"/>
                  </a:moveTo>
                  <a:arcTo wR="9366" hR="21600" stAng="10800000" swAng="-5400000"/>
                  <a:lnTo>
                    <a:pt x="10075" y="21600"/>
                  </a:lnTo>
                  <a:arcTo wR="9366" hR="21600" stAng="5400000" swAng="56456"/>
                  <a:lnTo>
                    <a:pt x="9720" y="21585"/>
                  </a:lnTo>
                  <a:arcTo wR="9366" hR="21600" stAng="5456456" swAng="5343544"/>
                  <a:close/>
                </a:path>
              </a:pathLst>
            </a:cu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562720" y="4343400"/>
              <a:ext cx="11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c R1, R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57200" y="3429000"/>
              <a:ext cx="60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80880" y="3962520"/>
              <a:ext cx="685800" cy="228600"/>
            </a:xfrm>
            <a:custGeom>
              <a:avLst/>
              <a:gdLst/>
              <a:ahLst/>
              <a:rect l="l" t="t" r="r" b="b"/>
              <a:pathLst>
                <a:path w="432" h="144">
                  <a:moveTo>
                    <a:pt x="0" y="144"/>
                  </a:moveTo>
                  <a:lnTo>
                    <a:pt x="144" y="144"/>
                  </a:lnTo>
                  <a:lnTo>
                    <a:pt x="144" y="0"/>
                  </a:lnTo>
                  <a:lnTo>
                    <a:pt x="288" y="0"/>
                  </a:lnTo>
                  <a:lnTo>
                    <a:pt x="288" y="144"/>
                  </a:lnTo>
                  <a:lnTo>
                    <a:pt x="432" y="144"/>
                  </a:lnTo>
                </a:path>
              </a:pathLst>
            </a:cu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0" name=""/>
          <p:cNvGrpSpPr/>
          <p:nvPr/>
        </p:nvGrpSpPr>
        <p:grpSpPr>
          <a:xfrm>
            <a:off x="1752480" y="3352680"/>
            <a:ext cx="685800" cy="838440"/>
            <a:chOff x="1752480" y="3352680"/>
            <a:chExt cx="685800" cy="838440"/>
          </a:xfrm>
        </p:grpSpPr>
        <p:sp>
          <p:nvSpPr>
            <p:cNvPr id="601" name=""/>
            <p:cNvSpPr/>
            <p:nvPr/>
          </p:nvSpPr>
          <p:spPr>
            <a:xfrm>
              <a:off x="1828800" y="335268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tch o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752480" y="3962520"/>
              <a:ext cx="685800" cy="228600"/>
            </a:xfrm>
            <a:custGeom>
              <a:avLst/>
              <a:gdLst/>
              <a:ahLst/>
              <a:rect l="l" t="t" r="r" b="b"/>
              <a:pathLst>
                <a:path w="432" h="144">
                  <a:moveTo>
                    <a:pt x="0" y="144"/>
                  </a:moveTo>
                  <a:lnTo>
                    <a:pt x="144" y="144"/>
                  </a:lnTo>
                  <a:lnTo>
                    <a:pt x="144" y="0"/>
                  </a:lnTo>
                  <a:lnTo>
                    <a:pt x="288" y="0"/>
                  </a:lnTo>
                  <a:lnTo>
                    <a:pt x="288" y="144"/>
                  </a:lnTo>
                  <a:lnTo>
                    <a:pt x="432" y="144"/>
                  </a:lnTo>
                </a:path>
              </a:pathLst>
            </a:cu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3" name=""/>
          <p:cNvGrpSpPr/>
          <p:nvPr/>
        </p:nvGrpSpPr>
        <p:grpSpPr>
          <a:xfrm>
            <a:off x="2438280" y="2590920"/>
            <a:ext cx="6096240" cy="1676160"/>
            <a:chOff x="2438280" y="2590920"/>
            <a:chExt cx="6096240" cy="1676160"/>
          </a:xfrm>
        </p:grpSpPr>
        <p:grpSp>
          <p:nvGrpSpPr>
            <p:cNvPr id="604" name=""/>
            <p:cNvGrpSpPr/>
            <p:nvPr/>
          </p:nvGrpSpPr>
          <p:grpSpPr>
            <a:xfrm>
              <a:off x="7696080" y="2590920"/>
              <a:ext cx="762120" cy="1447560"/>
              <a:chOff x="7696080" y="2590920"/>
              <a:chExt cx="762120" cy="1447560"/>
            </a:xfrm>
          </p:grpSpPr>
          <p:sp>
            <p:nvSpPr>
              <p:cNvPr id="605" name=""/>
              <p:cNvSpPr/>
              <p:nvPr/>
            </p:nvSpPr>
            <p:spPr>
              <a:xfrm>
                <a:off x="7696080" y="2666880"/>
                <a:ext cx="685800" cy="1371600"/>
              </a:xfrm>
              <a:custGeom>
                <a:avLst/>
                <a:gdLst>
                  <a:gd name="textAreaLeft" fmla="*/ 138960 w 685800"/>
                  <a:gd name="textAreaRight" fmla="*/ 478440 w 685800"/>
                  <a:gd name="textAreaTop" fmla="*/ 183600 h 1371600"/>
                  <a:gd name="textAreaBottom" fmla="*/ 1188000 h 1371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8755" hR="21600" stAng="10800000" swAng="5400000"/>
                    <a:lnTo>
                      <a:pt x="10685" y="0"/>
                    </a:lnTo>
                    <a:arcTo wR="8755" hR="21600" stAng="-5400000" swAng="3703852"/>
                    <a:lnTo>
                      <a:pt x="21399" y="17000"/>
                    </a:lnTo>
                    <a:lnTo>
                      <a:pt x="18475" y="21600"/>
                    </a:lnTo>
                    <a:lnTo>
                      <a:pt x="15149" y="17000"/>
                    </a:lnTo>
                    <a:lnTo>
                      <a:pt x="17309" y="17000"/>
                    </a:lnTo>
                    <a:arcTo wR="8755" hR="21600" stAng="-1696148" swAng="-3549430"/>
                    <a:lnTo>
                      <a:pt x="9720" y="132"/>
                    </a:lnTo>
                    <a:arcTo wR="8755" hR="21600" stAng="-5554422" swAng="-5245578"/>
                    <a:close/>
                  </a:path>
                  <a:path fill="darkenLess" w="21600" h="21600">
                    <a:moveTo>
                      <a:pt x="0" y="21600"/>
                    </a:moveTo>
                    <a:arcTo wR="8755" hR="21600" stAng="10800000" swAng="5400000"/>
                    <a:lnTo>
                      <a:pt x="8755" y="0"/>
                    </a:lnTo>
                    <a:arcTo wR="8755" hR="21600" stAng="-5400000" swAng="154422"/>
                    <a:lnTo>
                      <a:pt x="9720" y="132"/>
                    </a:lnTo>
                    <a:arcTo wR="8755" hR="21600" stAng="-5554422" swAng="-5245578"/>
                    <a:close/>
                  </a:path>
                </a:pathLst>
              </a:custGeom>
              <a:solidFill>
                <a:srgbClr val="ffffff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077320" y="2590920"/>
                <a:ext cx="38088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+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7" name=""/>
            <p:cNvSpPr/>
            <p:nvPr/>
          </p:nvSpPr>
          <p:spPr>
            <a:xfrm>
              <a:off x="8077320" y="403848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438280" y="3429000"/>
              <a:ext cx="609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e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438280" y="3962520"/>
              <a:ext cx="685800" cy="228600"/>
            </a:xfrm>
            <a:custGeom>
              <a:avLst/>
              <a:gdLst/>
              <a:ahLst/>
              <a:rect l="l" t="t" r="r" b="b"/>
              <a:pathLst>
                <a:path w="432" h="144">
                  <a:moveTo>
                    <a:pt x="0" y="144"/>
                  </a:moveTo>
                  <a:lnTo>
                    <a:pt x="144" y="144"/>
                  </a:lnTo>
                  <a:lnTo>
                    <a:pt x="144" y="0"/>
                  </a:lnTo>
                  <a:lnTo>
                    <a:pt x="288" y="0"/>
                  </a:lnTo>
                  <a:lnTo>
                    <a:pt x="288" y="144"/>
                  </a:lnTo>
                  <a:lnTo>
                    <a:pt x="432" y="144"/>
                  </a:lnTo>
                </a:path>
              </a:pathLst>
            </a:cu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0" name=""/>
          <p:cNvGrpSpPr/>
          <p:nvPr/>
        </p:nvGrpSpPr>
        <p:grpSpPr>
          <a:xfrm>
            <a:off x="3124080" y="3352680"/>
            <a:ext cx="685800" cy="838440"/>
            <a:chOff x="3124080" y="3352680"/>
            <a:chExt cx="685800" cy="838440"/>
          </a:xfrm>
        </p:grpSpPr>
        <p:sp>
          <p:nvSpPr>
            <p:cNvPr id="611" name=""/>
            <p:cNvSpPr/>
            <p:nvPr/>
          </p:nvSpPr>
          <p:spPr>
            <a:xfrm>
              <a:off x="3124080" y="3352680"/>
              <a:ext cx="609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ore resu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124080" y="3962520"/>
              <a:ext cx="685800" cy="228600"/>
            </a:xfrm>
            <a:custGeom>
              <a:avLst/>
              <a:gdLst/>
              <a:ahLst/>
              <a:rect l="l" t="t" r="r" b="b"/>
              <a:pathLst>
                <a:path w="432" h="144">
                  <a:moveTo>
                    <a:pt x="0" y="144"/>
                  </a:moveTo>
                  <a:lnTo>
                    <a:pt x="144" y="144"/>
                  </a:lnTo>
                  <a:lnTo>
                    <a:pt x="144" y="0"/>
                  </a:lnTo>
                  <a:lnTo>
                    <a:pt x="288" y="0"/>
                  </a:lnTo>
                  <a:lnTo>
                    <a:pt x="288" y="144"/>
                  </a:lnTo>
                  <a:lnTo>
                    <a:pt x="432" y="144"/>
                  </a:lnTo>
                </a:path>
              </a:pathLst>
            </a:cu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3" name=""/>
          <p:cNvSpPr/>
          <p:nvPr/>
        </p:nvSpPr>
        <p:spPr>
          <a:xfrm>
            <a:off x="228600" y="3962520"/>
            <a:ext cx="35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5029200" y="4267080"/>
            <a:ext cx="380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5" name=""/>
          <p:cNvGrpSpPr/>
          <p:nvPr/>
        </p:nvGrpSpPr>
        <p:grpSpPr>
          <a:xfrm>
            <a:off x="1066680" y="3429000"/>
            <a:ext cx="5105520" cy="838080"/>
            <a:chOff x="1066680" y="3429000"/>
            <a:chExt cx="5105520" cy="838080"/>
          </a:xfrm>
        </p:grpSpPr>
        <p:sp>
          <p:nvSpPr>
            <p:cNvPr id="616" name=""/>
            <p:cNvSpPr/>
            <p:nvPr/>
          </p:nvSpPr>
          <p:spPr>
            <a:xfrm>
              <a:off x="1066680" y="3429000"/>
              <a:ext cx="609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962520"/>
              <a:ext cx="685800" cy="228600"/>
            </a:xfrm>
            <a:custGeom>
              <a:avLst/>
              <a:gdLst/>
              <a:ahLst/>
              <a:rect l="l" t="t" r="r" b="b"/>
              <a:pathLst>
                <a:path w="432" h="144">
                  <a:moveTo>
                    <a:pt x="0" y="144"/>
                  </a:moveTo>
                  <a:lnTo>
                    <a:pt x="144" y="144"/>
                  </a:lnTo>
                  <a:lnTo>
                    <a:pt x="144" y="0"/>
                  </a:lnTo>
                  <a:lnTo>
                    <a:pt x="288" y="0"/>
                  </a:lnTo>
                  <a:lnTo>
                    <a:pt x="288" y="144"/>
                  </a:lnTo>
                  <a:lnTo>
                    <a:pt x="432" y="144"/>
                  </a:lnTo>
                </a:path>
              </a:pathLst>
            </a:cu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19920" y="3505320"/>
              <a:ext cx="152280" cy="761760"/>
            </a:xfrm>
            <a:prstGeom prst="upArrow">
              <a:avLst>
                <a:gd name="adj1" fmla="val 50000"/>
                <a:gd name="adj2" fmla="val 125059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902FF-B1C3-4049-A383-27537EB575A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struction Cycl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4038480" y="1744560"/>
            <a:ext cx="4829400" cy="4351320"/>
            <a:chOff x="4038480" y="1744560"/>
            <a:chExt cx="4829400" cy="4351320"/>
          </a:xfrm>
        </p:grpSpPr>
        <p:sp>
          <p:nvSpPr>
            <p:cNvPr id="621" name=""/>
            <p:cNvSpPr/>
            <p:nvPr/>
          </p:nvSpPr>
          <p:spPr>
            <a:xfrm>
              <a:off x="4038480" y="1744560"/>
              <a:ext cx="4826160" cy="321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rocess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4176720" y="2025720"/>
              <a:ext cx="2617920" cy="267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ntrol 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346880" y="2025720"/>
              <a:ext cx="1379520" cy="267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atapa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486560" y="2332080"/>
              <a:ext cx="1101960" cy="68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L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486560" y="3311640"/>
              <a:ext cx="1101960" cy="12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gist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830920" y="4213080"/>
              <a:ext cx="55080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4589640" y="4213080"/>
              <a:ext cx="55224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314960" y="2585880"/>
              <a:ext cx="2347920" cy="141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troll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6107040" y="3973320"/>
              <a:ext cx="0" cy="23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4867200" y="3973320"/>
              <a:ext cx="0" cy="23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041720" y="5299200"/>
              <a:ext cx="4826160" cy="79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H="1">
              <a:off x="8035560" y="3013200"/>
              <a:ext cx="324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802560" y="3182760"/>
              <a:ext cx="5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035920" y="4700520"/>
              <a:ext cx="3240" cy="5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4867200" y="4530600"/>
              <a:ext cx="3240" cy="76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6111720" y="453672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075440" y="3436920"/>
              <a:ext cx="27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7075440" y="3436920"/>
              <a:ext cx="0" cy="160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867360" y="5045040"/>
              <a:ext cx="41616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/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799320" y="2674800"/>
              <a:ext cx="5508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/Stat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6811920" y="3436920"/>
              <a:ext cx="26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5400000">
              <a:off x="4584600" y="4346640"/>
              <a:ext cx="114480" cy="108000"/>
            </a:xfrm>
            <a:prstGeom prst="triangle">
              <a:avLst>
                <a:gd name="adj" fmla="val 50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rot="5400000">
              <a:off x="5826240" y="4359960"/>
              <a:ext cx="114480" cy="106200"/>
            </a:xfrm>
            <a:prstGeom prst="triangle">
              <a:avLst>
                <a:gd name="adj" fmla="val 50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3000" y="3657600"/>
              <a:ext cx="357480" cy="2286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623000" y="4038480"/>
              <a:ext cx="357480" cy="2286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124840" y="3657600"/>
              <a:ext cx="357120" cy="2286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124840" y="4038480"/>
              <a:ext cx="357120" cy="2286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5400000">
              <a:off x="7619040" y="3737520"/>
              <a:ext cx="114120" cy="106560"/>
            </a:xfrm>
            <a:prstGeom prst="triangle">
              <a:avLst>
                <a:gd name="adj" fmla="val 50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5400000">
              <a:off x="7619040" y="4118760"/>
              <a:ext cx="114480" cy="106560"/>
            </a:xfrm>
            <a:prstGeom prst="triangle">
              <a:avLst>
                <a:gd name="adj" fmla="val 50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5400000">
              <a:off x="8120520" y="3737880"/>
              <a:ext cx="114120" cy="106200"/>
            </a:xfrm>
            <a:prstGeom prst="triangle">
              <a:avLst>
                <a:gd name="adj" fmla="val 50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5400000">
              <a:off x="8120160" y="4118760"/>
              <a:ext cx="114480" cy="106200"/>
            </a:xfrm>
            <a:prstGeom prst="triangle">
              <a:avLst>
                <a:gd name="adj" fmla="val 50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550280" y="5410080"/>
              <a:ext cx="358560" cy="2286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550280" y="5638680"/>
              <a:ext cx="358560" cy="2286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622640" y="510552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622640" y="563868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184720" y="5334120"/>
              <a:ext cx="1076400" cy="2286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oad R0, M[500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192800" y="5410080"/>
              <a:ext cx="35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5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192800" y="5638680"/>
              <a:ext cx="3574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5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827600" y="5334120"/>
              <a:ext cx="357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184720" y="5562720"/>
              <a:ext cx="1076400" cy="2286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c R1, R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827600" y="5562720"/>
              <a:ext cx="357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184720" y="5791320"/>
              <a:ext cx="1076400" cy="2286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ore M[501], R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827600" y="5791320"/>
              <a:ext cx="357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407360" y="4267080"/>
              <a:ext cx="358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980480" y="4267080"/>
              <a:ext cx="358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6" name=""/>
          <p:cNvSpPr/>
          <p:nvPr/>
        </p:nvSpPr>
        <p:spPr>
          <a:xfrm>
            <a:off x="8077320" y="4038480"/>
            <a:ext cx="457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620120" y="403848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228600" y="1752480"/>
            <a:ext cx="838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C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57200" y="2057400"/>
            <a:ext cx="609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066680" y="2057400"/>
            <a:ext cx="60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828800" y="198108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tch 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438280" y="205740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3124080" y="198108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re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80880" y="2590920"/>
            <a:ext cx="685800" cy="228600"/>
          </a:xfrm>
          <a:custGeom>
            <a:avLst/>
            <a:gdLst/>
            <a:ahLst/>
            <a:rect l="l" t="t" r="r" b="b"/>
            <a:pathLst>
              <a:path w="432" h="144">
                <a:moveTo>
                  <a:pt x="0" y="144"/>
                </a:moveTo>
                <a:lnTo>
                  <a:pt x="144" y="144"/>
                </a:lnTo>
                <a:lnTo>
                  <a:pt x="144" y="0"/>
                </a:lnTo>
                <a:lnTo>
                  <a:pt x="288" y="0"/>
                </a:lnTo>
                <a:lnTo>
                  <a:pt x="288" y="144"/>
                </a:lnTo>
                <a:lnTo>
                  <a:pt x="432" y="144"/>
                </a:lnTo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066680" y="2590920"/>
            <a:ext cx="685800" cy="228600"/>
          </a:xfrm>
          <a:custGeom>
            <a:avLst/>
            <a:gdLst/>
            <a:ahLst/>
            <a:rect l="l" t="t" r="r" b="b"/>
            <a:pathLst>
              <a:path w="432" h="144">
                <a:moveTo>
                  <a:pt x="0" y="144"/>
                </a:moveTo>
                <a:lnTo>
                  <a:pt x="144" y="144"/>
                </a:lnTo>
                <a:lnTo>
                  <a:pt x="144" y="0"/>
                </a:lnTo>
                <a:lnTo>
                  <a:pt x="288" y="0"/>
                </a:lnTo>
                <a:lnTo>
                  <a:pt x="288" y="144"/>
                </a:lnTo>
                <a:lnTo>
                  <a:pt x="432" y="144"/>
                </a:lnTo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752480" y="2590920"/>
            <a:ext cx="685800" cy="228600"/>
          </a:xfrm>
          <a:custGeom>
            <a:avLst/>
            <a:gdLst/>
            <a:ahLst/>
            <a:rect l="l" t="t" r="r" b="b"/>
            <a:pathLst>
              <a:path w="432" h="144">
                <a:moveTo>
                  <a:pt x="0" y="144"/>
                </a:moveTo>
                <a:lnTo>
                  <a:pt x="144" y="144"/>
                </a:lnTo>
                <a:lnTo>
                  <a:pt x="144" y="0"/>
                </a:lnTo>
                <a:lnTo>
                  <a:pt x="288" y="0"/>
                </a:lnTo>
                <a:lnTo>
                  <a:pt x="288" y="144"/>
                </a:lnTo>
                <a:lnTo>
                  <a:pt x="432" y="144"/>
                </a:lnTo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438280" y="2590920"/>
            <a:ext cx="685800" cy="228600"/>
          </a:xfrm>
          <a:custGeom>
            <a:avLst/>
            <a:gdLst/>
            <a:ahLst/>
            <a:rect l="l" t="t" r="r" b="b"/>
            <a:pathLst>
              <a:path w="432" h="144">
                <a:moveTo>
                  <a:pt x="0" y="144"/>
                </a:moveTo>
                <a:lnTo>
                  <a:pt x="144" y="144"/>
                </a:lnTo>
                <a:lnTo>
                  <a:pt x="144" y="0"/>
                </a:lnTo>
                <a:lnTo>
                  <a:pt x="288" y="0"/>
                </a:lnTo>
                <a:lnTo>
                  <a:pt x="288" y="144"/>
                </a:lnTo>
                <a:lnTo>
                  <a:pt x="432" y="144"/>
                </a:lnTo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3124080" y="2590920"/>
            <a:ext cx="685800" cy="228600"/>
          </a:xfrm>
          <a:custGeom>
            <a:avLst/>
            <a:gdLst/>
            <a:ahLst/>
            <a:rect l="l" t="t" r="r" b="b"/>
            <a:pathLst>
              <a:path w="432" h="144">
                <a:moveTo>
                  <a:pt x="0" y="144"/>
                </a:moveTo>
                <a:lnTo>
                  <a:pt x="144" y="144"/>
                </a:lnTo>
                <a:lnTo>
                  <a:pt x="144" y="0"/>
                </a:lnTo>
                <a:lnTo>
                  <a:pt x="288" y="0"/>
                </a:lnTo>
                <a:lnTo>
                  <a:pt x="288" y="144"/>
                </a:lnTo>
                <a:lnTo>
                  <a:pt x="432" y="144"/>
                </a:lnTo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2590920"/>
            <a:ext cx="35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28600" y="3124080"/>
            <a:ext cx="838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C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57200" y="3429000"/>
            <a:ext cx="609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066680" y="3429000"/>
            <a:ext cx="609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828800" y="335268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tch 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438280" y="3429000"/>
            <a:ext cx="609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e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3124080" y="3352680"/>
            <a:ext cx="609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re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380880" y="3962520"/>
            <a:ext cx="685800" cy="228600"/>
          </a:xfrm>
          <a:custGeom>
            <a:avLst/>
            <a:gdLst/>
            <a:ahLst/>
            <a:rect l="l" t="t" r="r" b="b"/>
            <a:pathLst>
              <a:path w="432" h="144">
                <a:moveTo>
                  <a:pt x="0" y="144"/>
                </a:moveTo>
                <a:lnTo>
                  <a:pt x="144" y="144"/>
                </a:lnTo>
                <a:lnTo>
                  <a:pt x="144" y="0"/>
                </a:lnTo>
                <a:lnTo>
                  <a:pt x="288" y="0"/>
                </a:lnTo>
                <a:lnTo>
                  <a:pt x="288" y="144"/>
                </a:lnTo>
                <a:lnTo>
                  <a:pt x="432" y="144"/>
                </a:lnTo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066680" y="3962520"/>
            <a:ext cx="685800" cy="228600"/>
          </a:xfrm>
          <a:custGeom>
            <a:avLst/>
            <a:gdLst/>
            <a:ahLst/>
            <a:rect l="l" t="t" r="r" b="b"/>
            <a:pathLst>
              <a:path w="432" h="144">
                <a:moveTo>
                  <a:pt x="0" y="144"/>
                </a:moveTo>
                <a:lnTo>
                  <a:pt x="144" y="144"/>
                </a:lnTo>
                <a:lnTo>
                  <a:pt x="144" y="0"/>
                </a:lnTo>
                <a:lnTo>
                  <a:pt x="288" y="0"/>
                </a:lnTo>
                <a:lnTo>
                  <a:pt x="288" y="144"/>
                </a:lnTo>
                <a:lnTo>
                  <a:pt x="432" y="144"/>
                </a:lnTo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1752480" y="3962520"/>
            <a:ext cx="685800" cy="228600"/>
          </a:xfrm>
          <a:custGeom>
            <a:avLst/>
            <a:gdLst/>
            <a:ahLst/>
            <a:rect l="l" t="t" r="r" b="b"/>
            <a:pathLst>
              <a:path w="432" h="144">
                <a:moveTo>
                  <a:pt x="0" y="144"/>
                </a:moveTo>
                <a:lnTo>
                  <a:pt x="144" y="144"/>
                </a:lnTo>
                <a:lnTo>
                  <a:pt x="144" y="0"/>
                </a:lnTo>
                <a:lnTo>
                  <a:pt x="288" y="0"/>
                </a:lnTo>
                <a:lnTo>
                  <a:pt x="288" y="144"/>
                </a:lnTo>
                <a:lnTo>
                  <a:pt x="432" y="144"/>
                </a:lnTo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2438280" y="3962520"/>
            <a:ext cx="685800" cy="228600"/>
          </a:xfrm>
          <a:custGeom>
            <a:avLst/>
            <a:gdLst/>
            <a:ahLst/>
            <a:rect l="l" t="t" r="r" b="b"/>
            <a:pathLst>
              <a:path w="432" h="144">
                <a:moveTo>
                  <a:pt x="0" y="144"/>
                </a:moveTo>
                <a:lnTo>
                  <a:pt x="144" y="144"/>
                </a:lnTo>
                <a:lnTo>
                  <a:pt x="144" y="0"/>
                </a:lnTo>
                <a:lnTo>
                  <a:pt x="288" y="0"/>
                </a:lnTo>
                <a:lnTo>
                  <a:pt x="288" y="144"/>
                </a:lnTo>
                <a:lnTo>
                  <a:pt x="432" y="144"/>
                </a:lnTo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3124080" y="3962520"/>
            <a:ext cx="685800" cy="228600"/>
          </a:xfrm>
          <a:custGeom>
            <a:avLst/>
            <a:gdLst/>
            <a:ahLst/>
            <a:rect l="l" t="t" r="r" b="b"/>
            <a:pathLst>
              <a:path w="432" h="144">
                <a:moveTo>
                  <a:pt x="0" y="144"/>
                </a:moveTo>
                <a:lnTo>
                  <a:pt x="144" y="144"/>
                </a:lnTo>
                <a:lnTo>
                  <a:pt x="144" y="0"/>
                </a:lnTo>
                <a:lnTo>
                  <a:pt x="288" y="0"/>
                </a:lnTo>
                <a:lnTo>
                  <a:pt x="288" y="144"/>
                </a:lnTo>
                <a:lnTo>
                  <a:pt x="432" y="144"/>
                </a:lnTo>
              </a:path>
            </a:pathLst>
          </a:custGeom>
          <a:noFill/>
          <a:ln cap="sq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28600" y="3962520"/>
            <a:ext cx="35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28600" y="4572000"/>
            <a:ext cx="838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C=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3" name=""/>
          <p:cNvGrpSpPr/>
          <p:nvPr/>
        </p:nvGrpSpPr>
        <p:grpSpPr>
          <a:xfrm>
            <a:off x="380880" y="4343400"/>
            <a:ext cx="6324840" cy="1600200"/>
            <a:chOff x="380880" y="4343400"/>
            <a:chExt cx="6324840" cy="1600200"/>
          </a:xfrm>
        </p:grpSpPr>
        <p:sp>
          <p:nvSpPr>
            <p:cNvPr id="694" name=""/>
            <p:cNvSpPr/>
            <p:nvPr/>
          </p:nvSpPr>
          <p:spPr>
            <a:xfrm>
              <a:off x="4952880" y="4419720"/>
              <a:ext cx="1295640" cy="1523880"/>
            </a:xfrm>
            <a:custGeom>
              <a:avLst/>
              <a:gdLst>
                <a:gd name="textAreaLeft" fmla="*/ 280800 w 1295640"/>
                <a:gd name="textAreaRight" fmla="*/ 885240 w 1295640"/>
                <a:gd name="textAreaTop" fmla="*/ 204120 h 1523880"/>
                <a:gd name="textAreaBottom" fmla="*/ 1319760 h 1523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9366" hR="21600" stAng="10800000" swAng="-5400000"/>
                  <a:lnTo>
                    <a:pt x="10075" y="21600"/>
                  </a:lnTo>
                  <a:arcTo wR="9366" hR="21600" stAng="5400000" swAng="-3871128"/>
                  <a:lnTo>
                    <a:pt x="21406" y="4371"/>
                  </a:lnTo>
                  <a:lnTo>
                    <a:pt x="19086" y="0"/>
                  </a:lnTo>
                  <a:lnTo>
                    <a:pt x="16377" y="4371"/>
                  </a:lnTo>
                  <a:lnTo>
                    <a:pt x="18537" y="4371"/>
                  </a:lnTo>
                  <a:arcTo wR="9366" hR="21600" stAng="1528872" swAng="3814672"/>
                  <a:lnTo>
                    <a:pt x="9720" y="21585"/>
                  </a:lnTo>
                  <a:arcTo wR="9366" hR="21600" stAng="5456456" swAng="5343544"/>
                  <a:close/>
                </a:path>
                <a:path fill="darkenLess" w="21600" h="21600">
                  <a:moveTo>
                    <a:pt x="0" y="0"/>
                  </a:moveTo>
                  <a:arcTo wR="9366" hR="21600" stAng="10800000" swAng="-5400000"/>
                  <a:lnTo>
                    <a:pt x="10075" y="21600"/>
                  </a:lnTo>
                  <a:arcTo wR="9366" hR="21600" stAng="5400000" swAng="56456"/>
                  <a:lnTo>
                    <a:pt x="9720" y="21585"/>
                  </a:lnTo>
                  <a:arcTo wR="9366" hR="21600" stAng="5456456" swAng="5343544"/>
                  <a:close/>
                </a:path>
              </a:pathLst>
            </a:cu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5562720" y="4343400"/>
              <a:ext cx="11430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ore M[501], R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57200" y="4876920"/>
              <a:ext cx="6094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80880" y="5410080"/>
              <a:ext cx="685800" cy="228600"/>
            </a:xfrm>
            <a:custGeom>
              <a:avLst/>
              <a:gdLst/>
              <a:ahLst/>
              <a:rect l="l" t="t" r="r" b="b"/>
              <a:pathLst>
                <a:path w="432" h="144">
                  <a:moveTo>
                    <a:pt x="0" y="144"/>
                  </a:moveTo>
                  <a:lnTo>
                    <a:pt x="144" y="144"/>
                  </a:lnTo>
                  <a:lnTo>
                    <a:pt x="144" y="0"/>
                  </a:lnTo>
                  <a:lnTo>
                    <a:pt x="288" y="0"/>
                  </a:lnTo>
                  <a:lnTo>
                    <a:pt x="288" y="144"/>
                  </a:lnTo>
                  <a:lnTo>
                    <a:pt x="432" y="144"/>
                  </a:lnTo>
                </a:path>
              </a:pathLst>
            </a:cu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8" name=""/>
          <p:cNvGrpSpPr/>
          <p:nvPr/>
        </p:nvGrpSpPr>
        <p:grpSpPr>
          <a:xfrm>
            <a:off x="1752480" y="4800600"/>
            <a:ext cx="685800" cy="838080"/>
            <a:chOff x="1752480" y="4800600"/>
            <a:chExt cx="685800" cy="838080"/>
          </a:xfrm>
        </p:grpSpPr>
        <p:sp>
          <p:nvSpPr>
            <p:cNvPr id="699" name=""/>
            <p:cNvSpPr/>
            <p:nvPr/>
          </p:nvSpPr>
          <p:spPr>
            <a:xfrm>
              <a:off x="1828800" y="480060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tch op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752480" y="5410080"/>
              <a:ext cx="685800" cy="228600"/>
            </a:xfrm>
            <a:custGeom>
              <a:avLst/>
              <a:gdLst/>
              <a:ahLst/>
              <a:rect l="l" t="t" r="r" b="b"/>
              <a:pathLst>
                <a:path w="432" h="144">
                  <a:moveTo>
                    <a:pt x="0" y="144"/>
                  </a:moveTo>
                  <a:lnTo>
                    <a:pt x="144" y="144"/>
                  </a:lnTo>
                  <a:lnTo>
                    <a:pt x="144" y="0"/>
                  </a:lnTo>
                  <a:lnTo>
                    <a:pt x="288" y="0"/>
                  </a:lnTo>
                  <a:lnTo>
                    <a:pt x="288" y="144"/>
                  </a:lnTo>
                  <a:lnTo>
                    <a:pt x="432" y="144"/>
                  </a:lnTo>
                </a:path>
              </a:pathLst>
            </a:cu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"/>
          <p:cNvGrpSpPr/>
          <p:nvPr/>
        </p:nvGrpSpPr>
        <p:grpSpPr>
          <a:xfrm>
            <a:off x="2438280" y="4876920"/>
            <a:ext cx="685800" cy="761760"/>
            <a:chOff x="2438280" y="4876920"/>
            <a:chExt cx="685800" cy="761760"/>
          </a:xfrm>
        </p:grpSpPr>
        <p:sp>
          <p:nvSpPr>
            <p:cNvPr id="702" name=""/>
            <p:cNvSpPr/>
            <p:nvPr/>
          </p:nvSpPr>
          <p:spPr>
            <a:xfrm>
              <a:off x="2438280" y="4876920"/>
              <a:ext cx="609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Exec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438280" y="5410080"/>
              <a:ext cx="685800" cy="228600"/>
            </a:xfrm>
            <a:custGeom>
              <a:avLst/>
              <a:gdLst/>
              <a:ahLst/>
              <a:rect l="l" t="t" r="r" b="b"/>
              <a:pathLst>
                <a:path w="432" h="144">
                  <a:moveTo>
                    <a:pt x="0" y="144"/>
                  </a:moveTo>
                  <a:lnTo>
                    <a:pt x="144" y="144"/>
                  </a:lnTo>
                  <a:lnTo>
                    <a:pt x="144" y="0"/>
                  </a:lnTo>
                  <a:lnTo>
                    <a:pt x="288" y="0"/>
                  </a:lnTo>
                  <a:lnTo>
                    <a:pt x="288" y="144"/>
                  </a:lnTo>
                  <a:lnTo>
                    <a:pt x="432" y="144"/>
                  </a:lnTo>
                </a:path>
              </a:pathLst>
            </a:cu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4" name=""/>
          <p:cNvGrpSpPr/>
          <p:nvPr/>
        </p:nvGrpSpPr>
        <p:grpSpPr>
          <a:xfrm>
            <a:off x="3124080" y="4221000"/>
            <a:ext cx="5425560" cy="1646280"/>
            <a:chOff x="3124080" y="4221000"/>
            <a:chExt cx="5425560" cy="1646280"/>
          </a:xfrm>
        </p:grpSpPr>
        <p:sp>
          <p:nvSpPr>
            <p:cNvPr id="705" name=""/>
            <p:cNvSpPr/>
            <p:nvPr/>
          </p:nvSpPr>
          <p:spPr>
            <a:xfrm flipV="1" rot="1394400">
              <a:off x="8043480" y="4188600"/>
              <a:ext cx="182520" cy="1676520"/>
            </a:xfrm>
            <a:prstGeom prst="upArrow">
              <a:avLst>
                <a:gd name="adj1" fmla="val 40074"/>
                <a:gd name="adj2" fmla="val 169164"/>
              </a:avLst>
            </a:pr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467480" y="563868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124080" y="4800600"/>
              <a:ext cx="609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tore resul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3124080" y="5410080"/>
              <a:ext cx="685800" cy="228600"/>
            </a:xfrm>
            <a:custGeom>
              <a:avLst/>
              <a:gdLst/>
              <a:ahLst/>
              <a:rect l="l" t="t" r="r" b="b"/>
              <a:pathLst>
                <a:path w="432" h="144">
                  <a:moveTo>
                    <a:pt x="0" y="144"/>
                  </a:moveTo>
                  <a:lnTo>
                    <a:pt x="144" y="144"/>
                  </a:lnTo>
                  <a:lnTo>
                    <a:pt x="144" y="0"/>
                  </a:lnTo>
                  <a:lnTo>
                    <a:pt x="288" y="0"/>
                  </a:lnTo>
                  <a:lnTo>
                    <a:pt x="288" y="144"/>
                  </a:lnTo>
                  <a:lnTo>
                    <a:pt x="432" y="144"/>
                  </a:lnTo>
                </a:path>
              </a:pathLst>
            </a:cu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9" name=""/>
          <p:cNvSpPr/>
          <p:nvPr/>
        </p:nvSpPr>
        <p:spPr>
          <a:xfrm>
            <a:off x="228600" y="5410080"/>
            <a:ext cx="357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0" name=""/>
          <p:cNvGrpSpPr/>
          <p:nvPr/>
        </p:nvGrpSpPr>
        <p:grpSpPr>
          <a:xfrm>
            <a:off x="1066680" y="3505320"/>
            <a:ext cx="5105520" cy="2133360"/>
            <a:chOff x="1066680" y="3505320"/>
            <a:chExt cx="5105520" cy="2133360"/>
          </a:xfrm>
        </p:grpSpPr>
        <p:sp>
          <p:nvSpPr>
            <p:cNvPr id="711" name=""/>
            <p:cNvSpPr/>
            <p:nvPr/>
          </p:nvSpPr>
          <p:spPr>
            <a:xfrm>
              <a:off x="1066680" y="4876920"/>
              <a:ext cx="609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e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066680" y="5410080"/>
              <a:ext cx="685800" cy="228600"/>
            </a:xfrm>
            <a:custGeom>
              <a:avLst/>
              <a:gdLst/>
              <a:ahLst/>
              <a:rect l="l" t="t" r="r" b="b"/>
              <a:pathLst>
                <a:path w="432" h="144">
                  <a:moveTo>
                    <a:pt x="0" y="144"/>
                  </a:moveTo>
                  <a:lnTo>
                    <a:pt x="144" y="144"/>
                  </a:lnTo>
                  <a:lnTo>
                    <a:pt x="144" y="0"/>
                  </a:lnTo>
                  <a:lnTo>
                    <a:pt x="288" y="0"/>
                  </a:lnTo>
                  <a:lnTo>
                    <a:pt x="288" y="144"/>
                  </a:lnTo>
                  <a:lnTo>
                    <a:pt x="432" y="144"/>
                  </a:lnTo>
                </a:path>
              </a:pathLst>
            </a:cu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6019920" y="3505320"/>
              <a:ext cx="152280" cy="761760"/>
            </a:xfrm>
            <a:prstGeom prst="upArrow">
              <a:avLst>
                <a:gd name="adj1" fmla="val 50000"/>
                <a:gd name="adj2" fmla="val 125059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4" name=""/>
          <p:cNvSpPr/>
          <p:nvPr/>
        </p:nvSpPr>
        <p:spPr>
          <a:xfrm>
            <a:off x="5029200" y="4267080"/>
            <a:ext cx="380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52A2A-4E4F-48FC-9909-1582E1F93E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chitectural Consider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237600" y="1523520"/>
            <a:ext cx="35578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-bi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roces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-bit ALU, registers, buses, memory data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bedded: 8-bit, 16-bit, 32-bit comm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ktop/servers: 32-bit, even 6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C size determines address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3886200" y="1744560"/>
            <a:ext cx="4981320" cy="4230720"/>
            <a:chOff x="3886200" y="1744560"/>
            <a:chExt cx="4981320" cy="4230720"/>
          </a:xfrm>
        </p:grpSpPr>
        <p:sp>
          <p:nvSpPr>
            <p:cNvPr id="718" name=""/>
            <p:cNvSpPr/>
            <p:nvPr/>
          </p:nvSpPr>
          <p:spPr>
            <a:xfrm>
              <a:off x="3886200" y="1744560"/>
              <a:ext cx="4978440" cy="321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rocess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027320" y="2025720"/>
              <a:ext cx="2701800" cy="267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ntrol 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299720" y="2025720"/>
              <a:ext cx="1421640" cy="267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atapa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443000" y="2332080"/>
              <a:ext cx="1136520" cy="68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L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443000" y="3311640"/>
              <a:ext cx="1136520" cy="12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gist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734440" y="4213080"/>
              <a:ext cx="56844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4454280" y="4213080"/>
              <a:ext cx="56952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4170600" y="2585880"/>
              <a:ext cx="2421720" cy="141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troll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6019200" y="3973320"/>
              <a:ext cx="0" cy="23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4740840" y="3973320"/>
              <a:ext cx="0" cy="23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3888720" y="5299200"/>
              <a:ext cx="4978800" cy="67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H="1">
              <a:off x="8009280" y="3013200"/>
              <a:ext cx="288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737040" y="3182760"/>
              <a:ext cx="56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009280" y="4700520"/>
              <a:ext cx="2880" cy="5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740840" y="4530600"/>
              <a:ext cx="2880" cy="76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6023880" y="453672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018920" y="3436920"/>
              <a:ext cx="28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018920" y="3436920"/>
              <a:ext cx="0" cy="160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6805080" y="5045040"/>
              <a:ext cx="42804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/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6734160" y="2674800"/>
              <a:ext cx="56808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/Stat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6746760" y="3436920"/>
              <a:ext cx="27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5400000">
              <a:off x="4450680" y="4345200"/>
              <a:ext cx="114480" cy="110880"/>
            </a:xfrm>
            <a:prstGeom prst="triangle">
              <a:avLst>
                <a:gd name="adj" fmla="val 50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5400000">
              <a:off x="5732640" y="4357800"/>
              <a:ext cx="114480" cy="110880"/>
            </a:xfrm>
            <a:prstGeom prst="triangle">
              <a:avLst>
                <a:gd name="adj" fmla="val 50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5400000">
              <a:off x="7444800" y="4345200"/>
              <a:ext cx="114480" cy="110520"/>
            </a:xfrm>
            <a:prstGeom prst="triangle">
              <a:avLst>
                <a:gd name="adj" fmla="val 50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F65E2-6975-4C31-B392-6C7E8C4E946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chitectural Consider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237600" y="1523520"/>
            <a:ext cx="35578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ck frequ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verse of clock peri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longer than longest register to register delay in entire 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access is often the lon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4" name=""/>
          <p:cNvGrpSpPr/>
          <p:nvPr/>
        </p:nvGrpSpPr>
        <p:grpSpPr>
          <a:xfrm>
            <a:off x="3886200" y="1744560"/>
            <a:ext cx="4981320" cy="4230720"/>
            <a:chOff x="3886200" y="1744560"/>
            <a:chExt cx="4981320" cy="4230720"/>
          </a:xfrm>
        </p:grpSpPr>
        <p:sp>
          <p:nvSpPr>
            <p:cNvPr id="745" name=""/>
            <p:cNvSpPr/>
            <p:nvPr/>
          </p:nvSpPr>
          <p:spPr>
            <a:xfrm>
              <a:off x="3886200" y="1744560"/>
              <a:ext cx="4978440" cy="321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rocess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4027320" y="2025720"/>
              <a:ext cx="2701800" cy="267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ntrol 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299720" y="2025720"/>
              <a:ext cx="1421640" cy="267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atapa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443000" y="2332080"/>
              <a:ext cx="1136520" cy="68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L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443000" y="3311640"/>
              <a:ext cx="1136520" cy="12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gist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5734440" y="4213080"/>
              <a:ext cx="56844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454280" y="4213080"/>
              <a:ext cx="56952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170600" y="2585880"/>
              <a:ext cx="2421720" cy="141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troll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V="1">
              <a:off x="6019200" y="3973320"/>
              <a:ext cx="0" cy="23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V="1">
              <a:off x="4740840" y="3973320"/>
              <a:ext cx="0" cy="23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888720" y="5299200"/>
              <a:ext cx="4978800" cy="67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8009280" y="3013200"/>
              <a:ext cx="288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6737040" y="3182760"/>
              <a:ext cx="565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009280" y="4700520"/>
              <a:ext cx="2880" cy="5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740840" y="4530600"/>
              <a:ext cx="2880" cy="76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6023880" y="453672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018920" y="3436920"/>
              <a:ext cx="282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018920" y="3436920"/>
              <a:ext cx="0" cy="160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6805080" y="5045040"/>
              <a:ext cx="42804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/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6734160" y="2674800"/>
              <a:ext cx="56808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/Stat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6746760" y="3436920"/>
              <a:ext cx="27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rot="5400000">
              <a:off x="4450680" y="4345200"/>
              <a:ext cx="114480" cy="110880"/>
            </a:xfrm>
            <a:prstGeom prst="triangle">
              <a:avLst>
                <a:gd name="adj" fmla="val 50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rot="5400000">
              <a:off x="5732640" y="4357800"/>
              <a:ext cx="114480" cy="110880"/>
            </a:xfrm>
            <a:prstGeom prst="triangle">
              <a:avLst>
                <a:gd name="adj" fmla="val 50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rot="5400000">
              <a:off x="7444800" y="4345200"/>
              <a:ext cx="114480" cy="110520"/>
            </a:xfrm>
            <a:prstGeom prst="triangle">
              <a:avLst>
                <a:gd name="adj" fmla="val 50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9" name=""/>
          <p:cNvSpPr/>
          <p:nvPr/>
        </p:nvSpPr>
        <p:spPr>
          <a:xfrm>
            <a:off x="4686480" y="4330800"/>
            <a:ext cx="1257120" cy="1079280"/>
          </a:xfrm>
          <a:custGeom>
            <a:avLst/>
            <a:gdLst/>
            <a:ahLst/>
            <a:rect l="l" t="t" r="r" b="b"/>
            <a:pathLst>
              <a:path w="792" h="680">
                <a:moveTo>
                  <a:pt x="72" y="56"/>
                </a:moveTo>
                <a:cubicBezTo>
                  <a:pt x="36" y="28"/>
                  <a:pt x="0" y="0"/>
                  <a:pt x="72" y="104"/>
                </a:cubicBezTo>
                <a:cubicBezTo>
                  <a:pt x="144" y="208"/>
                  <a:pt x="384" y="680"/>
                  <a:pt x="504" y="680"/>
                </a:cubicBezTo>
                <a:cubicBezTo>
                  <a:pt x="624" y="680"/>
                  <a:pt x="708" y="392"/>
                  <a:pt x="792" y="104"/>
                </a:cubicBezTo>
              </a:path>
            </a:pathLst>
          </a:custGeom>
          <a:noFill/>
          <a:ln cap="sq"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5931000" y="3733920"/>
            <a:ext cx="1689120" cy="533160"/>
          </a:xfrm>
          <a:custGeom>
            <a:avLst/>
            <a:gdLst/>
            <a:ahLst/>
            <a:rect l="l" t="t" r="r" b="b"/>
            <a:pathLst>
              <a:path w="1064" h="456">
                <a:moveTo>
                  <a:pt x="152" y="456"/>
                </a:moveTo>
                <a:cubicBezTo>
                  <a:pt x="76" y="300"/>
                  <a:pt x="0" y="144"/>
                  <a:pt x="152" y="72"/>
                </a:cubicBezTo>
                <a:cubicBezTo>
                  <a:pt x="304" y="0"/>
                  <a:pt x="684" y="12"/>
                  <a:pt x="1064" y="24"/>
                </a:cubicBezTo>
              </a:path>
            </a:pathLst>
          </a:custGeom>
          <a:noFill/>
          <a:ln cap="sq"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7493040" y="2603520"/>
            <a:ext cx="1015920" cy="977760"/>
          </a:xfrm>
          <a:custGeom>
            <a:avLst/>
            <a:gdLst/>
            <a:ahLst/>
            <a:rect l="l" t="t" r="r" b="b"/>
            <a:pathLst>
              <a:path w="640" h="616">
                <a:moveTo>
                  <a:pt x="80" y="616"/>
                </a:moveTo>
                <a:cubicBezTo>
                  <a:pt x="40" y="396"/>
                  <a:pt x="0" y="176"/>
                  <a:pt x="80" y="88"/>
                </a:cubicBezTo>
                <a:cubicBezTo>
                  <a:pt x="160" y="0"/>
                  <a:pt x="480" y="0"/>
                  <a:pt x="560" y="88"/>
                </a:cubicBezTo>
                <a:cubicBezTo>
                  <a:pt x="640" y="176"/>
                  <a:pt x="600" y="396"/>
                  <a:pt x="560" y="616"/>
                </a:cubicBezTo>
              </a:path>
            </a:pathLst>
          </a:custGeom>
          <a:noFill/>
          <a:ln cap="sq"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7569360" y="4343400"/>
            <a:ext cx="990360" cy="1308240"/>
          </a:xfrm>
          <a:custGeom>
            <a:avLst/>
            <a:gdLst/>
            <a:ahLst/>
            <a:rect l="l" t="t" r="r" b="b"/>
            <a:pathLst>
              <a:path w="624" h="824">
                <a:moveTo>
                  <a:pt x="80" y="48"/>
                </a:moveTo>
                <a:cubicBezTo>
                  <a:pt x="40" y="332"/>
                  <a:pt x="0" y="616"/>
                  <a:pt x="80" y="720"/>
                </a:cubicBezTo>
                <a:cubicBezTo>
                  <a:pt x="160" y="824"/>
                  <a:pt x="496" y="792"/>
                  <a:pt x="560" y="672"/>
                </a:cubicBezTo>
                <a:cubicBezTo>
                  <a:pt x="624" y="552"/>
                  <a:pt x="544" y="276"/>
                  <a:pt x="464" y="0"/>
                </a:cubicBezTo>
              </a:path>
            </a:pathLst>
          </a:custGeom>
          <a:noFill/>
          <a:ln cap="sq"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0BD73-AF86-4BCC-B473-32260C14E1B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ipelining: Increasing Instruction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Throughp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372960" y="1677960"/>
            <a:ext cx="338400" cy="480600"/>
            <a:chOff x="372960" y="1677960"/>
            <a:chExt cx="338400" cy="480600"/>
          </a:xfrm>
        </p:grpSpPr>
        <p:sp>
          <p:nvSpPr>
            <p:cNvPr id="775" name=""/>
            <p:cNvSpPr/>
            <p:nvPr/>
          </p:nvSpPr>
          <p:spPr>
            <a:xfrm>
              <a:off x="495000" y="1677960"/>
              <a:ext cx="84600" cy="80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542160" y="1758240"/>
              <a:ext cx="0" cy="16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 flipV="1">
              <a:off x="372960" y="1758240"/>
              <a:ext cx="169200" cy="7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542160" y="1758240"/>
              <a:ext cx="169200" cy="7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456840" y="1918440"/>
              <a:ext cx="84600" cy="24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42160" y="1918440"/>
              <a:ext cx="84240" cy="24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1" name=""/>
          <p:cNvSpPr/>
          <p:nvPr/>
        </p:nvSpPr>
        <p:spPr>
          <a:xfrm>
            <a:off x="1473120" y="2095560"/>
            <a:ext cx="254160" cy="2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1727280" y="2095560"/>
            <a:ext cx="253800" cy="2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1981080" y="2095560"/>
            <a:ext cx="254160" cy="2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2235240" y="2095560"/>
            <a:ext cx="253800" cy="2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2489040" y="2095560"/>
            <a:ext cx="254160" cy="2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743200" y="2095560"/>
            <a:ext cx="254160" cy="2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997360" y="2095560"/>
            <a:ext cx="253800" cy="2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251160" y="2095560"/>
            <a:ext cx="254160" cy="2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3505320" y="2576520"/>
            <a:ext cx="2538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3759120" y="2576520"/>
            <a:ext cx="25236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4011480" y="2576520"/>
            <a:ext cx="25416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4265640" y="2576520"/>
            <a:ext cx="2538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519440" y="2576520"/>
            <a:ext cx="25416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4773600" y="2576520"/>
            <a:ext cx="25416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5027760" y="2576520"/>
            <a:ext cx="2538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5281560" y="2576520"/>
            <a:ext cx="25416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297480" y="2095560"/>
            <a:ext cx="254160" cy="2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6551640" y="2095560"/>
            <a:ext cx="253800" cy="2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805440" y="2095560"/>
            <a:ext cx="254160" cy="2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7059600" y="2095560"/>
            <a:ext cx="254160" cy="2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7313760" y="2095560"/>
            <a:ext cx="253800" cy="2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7567560" y="2095560"/>
            <a:ext cx="254160" cy="2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7821720" y="2095560"/>
            <a:ext cx="252360" cy="2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8074080" y="2095560"/>
            <a:ext cx="253800" cy="2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551640" y="2576520"/>
            <a:ext cx="2538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6805440" y="2576520"/>
            <a:ext cx="25416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059600" y="2576520"/>
            <a:ext cx="25416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7313760" y="2576520"/>
            <a:ext cx="2538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567560" y="2576520"/>
            <a:ext cx="25416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7821720" y="2576520"/>
            <a:ext cx="25236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8074080" y="2576520"/>
            <a:ext cx="2538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8327880" y="2576520"/>
            <a:ext cx="25416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1727280" y="3781440"/>
            <a:ext cx="127008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tch-inst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727280" y="4102200"/>
            <a:ext cx="1270080" cy="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1727280" y="4422600"/>
            <a:ext cx="1270080" cy="2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tch o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1727280" y="4743360"/>
            <a:ext cx="1270080" cy="24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c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1727280" y="5065560"/>
            <a:ext cx="127008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e 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251160" y="3781440"/>
            <a:ext cx="254160" cy="2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505320" y="3781440"/>
            <a:ext cx="253800" cy="2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3759120" y="3781440"/>
            <a:ext cx="252360" cy="2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011480" y="3781440"/>
            <a:ext cx="254160" cy="2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4265640" y="3781440"/>
            <a:ext cx="253800" cy="2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4519440" y="3781440"/>
            <a:ext cx="254160" cy="2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4773600" y="3781440"/>
            <a:ext cx="254160" cy="2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027760" y="3781440"/>
            <a:ext cx="253800" cy="2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3505320" y="4102200"/>
            <a:ext cx="2538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3759120" y="4102200"/>
            <a:ext cx="25236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011480" y="4102200"/>
            <a:ext cx="25416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4265640" y="4102200"/>
            <a:ext cx="2538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519440" y="4102200"/>
            <a:ext cx="25416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773600" y="4102200"/>
            <a:ext cx="25416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5027760" y="4102200"/>
            <a:ext cx="25380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281560" y="4102200"/>
            <a:ext cx="254160" cy="24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3759120" y="4422600"/>
            <a:ext cx="252360" cy="24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4011480" y="4422600"/>
            <a:ext cx="254160" cy="24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4265640" y="4422600"/>
            <a:ext cx="253800" cy="24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4519440" y="4422600"/>
            <a:ext cx="254160" cy="24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4773600" y="4422600"/>
            <a:ext cx="254160" cy="24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5027760" y="4422600"/>
            <a:ext cx="253800" cy="24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281560" y="4422600"/>
            <a:ext cx="254160" cy="24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5535720" y="4422600"/>
            <a:ext cx="253800" cy="24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4011480" y="4743360"/>
            <a:ext cx="254160" cy="24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4265640" y="4743360"/>
            <a:ext cx="253800" cy="24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4519440" y="4743360"/>
            <a:ext cx="254160" cy="24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4773600" y="4743360"/>
            <a:ext cx="254160" cy="24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5027760" y="4743360"/>
            <a:ext cx="253800" cy="24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281560" y="4743360"/>
            <a:ext cx="254160" cy="24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535720" y="4743360"/>
            <a:ext cx="253800" cy="24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789520" y="4743360"/>
            <a:ext cx="254160" cy="241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4265640" y="5065560"/>
            <a:ext cx="253800" cy="2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4519440" y="5065560"/>
            <a:ext cx="254160" cy="2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773600" y="5065560"/>
            <a:ext cx="254160" cy="2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027760" y="5065560"/>
            <a:ext cx="253800" cy="2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281560" y="5065560"/>
            <a:ext cx="254160" cy="2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535720" y="5065560"/>
            <a:ext cx="253800" cy="2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5789520" y="5065560"/>
            <a:ext cx="254160" cy="2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043680" y="5065560"/>
            <a:ext cx="253800" cy="239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11360" y="2095560"/>
            <a:ext cx="67788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11360" y="2576520"/>
            <a:ext cx="423720" cy="32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0" name=""/>
          <p:cNvGrpSpPr/>
          <p:nvPr/>
        </p:nvGrpSpPr>
        <p:grpSpPr>
          <a:xfrm>
            <a:off x="372960" y="2496960"/>
            <a:ext cx="338400" cy="481320"/>
            <a:chOff x="372960" y="2496960"/>
            <a:chExt cx="338400" cy="481320"/>
          </a:xfrm>
        </p:grpSpPr>
        <p:sp>
          <p:nvSpPr>
            <p:cNvPr id="861" name=""/>
            <p:cNvSpPr/>
            <p:nvPr/>
          </p:nvSpPr>
          <p:spPr>
            <a:xfrm>
              <a:off x="495000" y="2496960"/>
              <a:ext cx="84600" cy="80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42160" y="2577240"/>
              <a:ext cx="0" cy="16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 flipV="1">
              <a:off x="372960" y="2577240"/>
              <a:ext cx="169200" cy="7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V="1">
              <a:off x="542160" y="2577240"/>
              <a:ext cx="169200" cy="7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456840" y="2737800"/>
              <a:ext cx="84600" cy="24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542160" y="2737800"/>
              <a:ext cx="84240" cy="24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7" name=""/>
          <p:cNvSpPr/>
          <p:nvPr/>
        </p:nvSpPr>
        <p:spPr>
          <a:xfrm>
            <a:off x="1473120" y="3138480"/>
            <a:ext cx="4316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7227720" y="3219480"/>
            <a:ext cx="127008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9" name=""/>
          <p:cNvGrpSpPr/>
          <p:nvPr/>
        </p:nvGrpSpPr>
        <p:grpSpPr>
          <a:xfrm>
            <a:off x="1727280" y="3059280"/>
            <a:ext cx="1015920" cy="160200"/>
            <a:chOff x="1727280" y="3059280"/>
            <a:chExt cx="1015920" cy="160200"/>
          </a:xfrm>
        </p:grpSpPr>
        <p:sp>
          <p:nvSpPr>
            <p:cNvPr id="870" name=""/>
            <p:cNvSpPr/>
            <p:nvPr/>
          </p:nvSpPr>
          <p:spPr>
            <a:xfrm>
              <a:off x="1727280" y="3059280"/>
              <a:ext cx="0" cy="16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1981080" y="3059280"/>
              <a:ext cx="0" cy="16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235240" y="3059280"/>
              <a:ext cx="0" cy="16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489040" y="3059280"/>
              <a:ext cx="0" cy="16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743200" y="3059280"/>
              <a:ext cx="0" cy="16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5" name=""/>
          <p:cNvGrpSpPr/>
          <p:nvPr/>
        </p:nvGrpSpPr>
        <p:grpSpPr>
          <a:xfrm>
            <a:off x="2997360" y="3059280"/>
            <a:ext cx="1014120" cy="160200"/>
            <a:chOff x="2997360" y="3059280"/>
            <a:chExt cx="1014120" cy="160200"/>
          </a:xfrm>
        </p:grpSpPr>
        <p:sp>
          <p:nvSpPr>
            <p:cNvPr id="876" name=""/>
            <p:cNvSpPr/>
            <p:nvPr/>
          </p:nvSpPr>
          <p:spPr>
            <a:xfrm>
              <a:off x="2997360" y="3059280"/>
              <a:ext cx="0" cy="16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250440" y="3059280"/>
              <a:ext cx="0" cy="16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504240" y="3059280"/>
              <a:ext cx="0" cy="16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757680" y="3059280"/>
              <a:ext cx="0" cy="16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4011480" y="3059280"/>
              <a:ext cx="0" cy="16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1" name=""/>
          <p:cNvSpPr/>
          <p:nvPr/>
        </p:nvSpPr>
        <p:spPr>
          <a:xfrm>
            <a:off x="4265640" y="3059280"/>
            <a:ext cx="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519440" y="3059280"/>
            <a:ext cx="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773600" y="3059280"/>
            <a:ext cx="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027760" y="3059280"/>
            <a:ext cx="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281560" y="3059280"/>
            <a:ext cx="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6805440" y="3059280"/>
            <a:ext cx="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7059600" y="3059280"/>
            <a:ext cx="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7313760" y="3059280"/>
            <a:ext cx="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567560" y="3059280"/>
            <a:ext cx="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7821720" y="3059280"/>
            <a:ext cx="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8074080" y="3059280"/>
            <a:ext cx="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8327880" y="3059280"/>
            <a:ext cx="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2657520" y="2335320"/>
            <a:ext cx="1439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Non-pipel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719760" y="2335320"/>
            <a:ext cx="1440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ipel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297480" y="3138480"/>
            <a:ext cx="2454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6551640" y="3059280"/>
            <a:ext cx="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351320" y="3219480"/>
            <a:ext cx="126828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113440" y="5627520"/>
            <a:ext cx="126828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3759120" y="5467320"/>
            <a:ext cx="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4011480" y="5467320"/>
            <a:ext cx="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265640" y="5467320"/>
            <a:ext cx="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4519440" y="5467320"/>
            <a:ext cx="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4773600" y="5467320"/>
            <a:ext cx="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5027760" y="5467320"/>
            <a:ext cx="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5281560" y="5467320"/>
            <a:ext cx="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251160" y="554688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505320" y="5467320"/>
            <a:ext cx="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535720" y="5467320"/>
            <a:ext cx="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789520" y="5467320"/>
            <a:ext cx="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043680" y="5467320"/>
            <a:ext cx="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535720" y="3059280"/>
            <a:ext cx="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297480" y="5467320"/>
            <a:ext cx="0" cy="16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127920" y="4422600"/>
            <a:ext cx="143964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Pipel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3556080" y="5707080"/>
            <a:ext cx="209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pelined instruction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2354400" y="3219480"/>
            <a:ext cx="1996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on-pipelined dish clea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450120" y="3219480"/>
            <a:ext cx="16239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ipelined dish clea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 rot="19356600">
            <a:off x="3797280" y="3587760"/>
            <a:ext cx="193680" cy="1932120"/>
          </a:xfrm>
          <a:custGeom>
            <a:avLst/>
            <a:gdLst>
              <a:gd name="textAreaLeft" fmla="*/ 9360 w 193680"/>
              <a:gd name="textAreaRight" fmla="*/ 184320 w 193680"/>
              <a:gd name="textAreaTop" fmla="*/ 9360 h 1932120"/>
              <a:gd name="textAreaBottom" fmla="*/ 1922760 h 1932120"/>
            </a:gdLst>
            <a:ahLst/>
            <a:rect l="textAreaLeft" t="textAreaTop" r="textAreaRight" b="textAreaBottom"/>
            <a:pathLst>
              <a:path w="21600" h="215118">
                <a:moveTo>
                  <a:pt x="3600" y="0"/>
                </a:moveTo>
                <a:arcTo wR="3600" hR="3600" stAng="16200000" swAng="-5400000"/>
                <a:lnTo>
                  <a:pt x="0" y="211518"/>
                </a:lnTo>
                <a:arcTo wR="3600" hR="3600" stAng="10800000" swAng="-5400000"/>
                <a:lnTo>
                  <a:pt x="18000" y="21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 flipH="1">
            <a:off x="3733560" y="4724280"/>
            <a:ext cx="152280" cy="2286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971800" y="495288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Instruc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A84E7-0200-476E-8845-8EBEE0619C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perscalar and VLIW Architec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formance can be improved b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ter clock (but there’s a lim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ing: slice up instruction into stages, overlap st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ple ALU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support more than one instruction str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persca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alar: non-vector 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etches instructions in batches, executes as many as possibl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require extensive hardware to detect independent instr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LIW: each word in memory has multiple independent instr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lies on the compiler to detect and schedule instru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rrently growing in popula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FFFDA-BC91-4C88-8207-A7401FD4FBF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wo Memory Architectu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3" name=""/>
          <p:cNvGrpSpPr/>
          <p:nvPr/>
        </p:nvGrpSpPr>
        <p:grpSpPr>
          <a:xfrm>
            <a:off x="3443400" y="2011320"/>
            <a:ext cx="5306400" cy="3446280"/>
            <a:chOff x="3443400" y="2011320"/>
            <a:chExt cx="5306400" cy="3446280"/>
          </a:xfrm>
        </p:grpSpPr>
        <p:sp>
          <p:nvSpPr>
            <p:cNvPr id="924" name=""/>
            <p:cNvSpPr/>
            <p:nvPr/>
          </p:nvSpPr>
          <p:spPr>
            <a:xfrm>
              <a:off x="3443400" y="2011320"/>
              <a:ext cx="2425320" cy="68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cess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443400" y="3619440"/>
              <a:ext cx="1061640" cy="11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gram memo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4808160" y="3619440"/>
              <a:ext cx="1060200" cy="11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ata memo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324480" y="2011320"/>
              <a:ext cx="2425320" cy="688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cess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324480" y="3619440"/>
              <a:ext cx="2425320" cy="114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program and dat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4049640" y="2700000"/>
              <a:ext cx="0" cy="9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5262480" y="2700000"/>
              <a:ext cx="0" cy="9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7537320" y="2700000"/>
              <a:ext cx="0" cy="91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443400" y="4768560"/>
              <a:ext cx="242532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arvar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324480" y="4768560"/>
              <a:ext cx="242532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incet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207720" y="2084400"/>
            <a:ext cx="2989080" cy="351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nce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ewer memory w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v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ultaneous program and data memory ac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7057E1-D766-45C2-B6EE-4729E9E7DEF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ache Mem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7246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mory access may be s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che is small but fast memory close to proces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lds copy of part of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ts and mi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7" name=""/>
          <p:cNvGrpSpPr/>
          <p:nvPr/>
        </p:nvGrpSpPr>
        <p:grpSpPr>
          <a:xfrm>
            <a:off x="6137280" y="1728720"/>
            <a:ext cx="2700360" cy="4021200"/>
            <a:chOff x="6137280" y="1728720"/>
            <a:chExt cx="2700360" cy="4021200"/>
          </a:xfrm>
        </p:grpSpPr>
        <p:sp>
          <p:nvSpPr>
            <p:cNvPr id="938" name=""/>
            <p:cNvSpPr/>
            <p:nvPr/>
          </p:nvSpPr>
          <p:spPr>
            <a:xfrm>
              <a:off x="6137280" y="4346640"/>
              <a:ext cx="2700360" cy="1403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137280" y="1728720"/>
              <a:ext cx="2700360" cy="2432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288120" y="2476440"/>
              <a:ext cx="2400120" cy="56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cess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288120" y="4533840"/>
              <a:ext cx="2400120" cy="56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488360" y="3038400"/>
              <a:ext cx="0" cy="4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288120" y="3505320"/>
              <a:ext cx="2400120" cy="561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ach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7488360" y="4067280"/>
              <a:ext cx="0" cy="46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288120" y="1822320"/>
              <a:ext cx="240012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Fast/expensive technology, usually on the same ch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288120" y="5189400"/>
              <a:ext cx="2400120" cy="56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lower/cheaper technology, usually on a different chi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FAB0F-2AA8-41A5-9468-F2B38FFCAF5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-Purpose Proces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or designed for a variety of computation 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unit cost, in part because manufacturer spreads NRE over large numbers of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torola sold half a billion 68HC05 microcontroller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in 1996 al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efully designed since higher NRE is accep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yield good performance, size and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NRE cost, short time-to-market/prototype, high flexi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r just writes software; no processor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.k.a. “microprocessor” – “micro” used when they were implemented on one or a few chips rather than entire roo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D5779-19D2-42DE-94A1-1C48D9B133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grammer’s 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er doesn’t need detailed understanding of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ead, needs to know what instructions can be execu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levels of instru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embly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ed languages (C, C++, Java, etc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st development today done using structured langu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, some assembly level programming may still be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ivers: portion of program that communicates with and/or controls (drives) another de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ten have detailed timing considerations, extensive bit manip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embly level may be best for the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D24E6-9DCD-4213-BE7E-54BCEFE4877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ssembly-Level Instruc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0" name=""/>
          <p:cNvGrpSpPr/>
          <p:nvPr/>
        </p:nvGrpSpPr>
        <p:grpSpPr>
          <a:xfrm>
            <a:off x="2438280" y="1600200"/>
            <a:ext cx="3595320" cy="2485800"/>
            <a:chOff x="2438280" y="1600200"/>
            <a:chExt cx="3595320" cy="2485800"/>
          </a:xfrm>
        </p:grpSpPr>
        <p:sp>
          <p:nvSpPr>
            <p:cNvPr id="951" name=""/>
            <p:cNvSpPr/>
            <p:nvPr/>
          </p:nvSpPr>
          <p:spPr>
            <a:xfrm>
              <a:off x="3557520" y="1600200"/>
              <a:ext cx="2476080" cy="24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557520" y="1600200"/>
              <a:ext cx="824400" cy="41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pc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4381920" y="1600200"/>
              <a:ext cx="824400" cy="41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peran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206680" y="1600200"/>
              <a:ext cx="826920" cy="41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perand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557520" y="2014200"/>
              <a:ext cx="824400" cy="41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pc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4381920" y="2014200"/>
              <a:ext cx="824400" cy="41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peran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206680" y="2014200"/>
              <a:ext cx="826920" cy="41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perand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557520" y="2428560"/>
              <a:ext cx="824400" cy="41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pc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4381920" y="2428560"/>
              <a:ext cx="824400" cy="41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peran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206680" y="2428560"/>
              <a:ext cx="826920" cy="41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perand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3557520" y="2842920"/>
              <a:ext cx="824400" cy="41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pc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381920" y="2842920"/>
              <a:ext cx="824400" cy="41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peran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206680" y="2842920"/>
              <a:ext cx="826920" cy="414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perand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381920" y="3257280"/>
              <a:ext cx="82440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438280" y="1600200"/>
              <a:ext cx="105984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struction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438280" y="2014200"/>
              <a:ext cx="105984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struction 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438280" y="2428560"/>
              <a:ext cx="105984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struction 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438280" y="2842920"/>
              <a:ext cx="1059840" cy="41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struction 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380880" y="4114800"/>
            <a:ext cx="83822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ction 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es the legal set of instructions for that 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 transfer: memory/register, register/register, I/O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ithmetic/logical: move register through ALU and 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nches: determine next PC value when not just PC+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3657B-AF55-4E97-9979-25D3B834003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imple (Trivial) Instruction 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889360" y="5324400"/>
            <a:ext cx="3219480" cy="331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code                         oper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1343160" y="2173320"/>
            <a:ext cx="1409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 Rn, di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332000" y="3111480"/>
            <a:ext cx="14097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 @Rn, 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1343160" y="3987720"/>
            <a:ext cx="1409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 Rn, 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3021120" y="2173320"/>
            <a:ext cx="67140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3692520" y="2173320"/>
            <a:ext cx="67140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4576680" y="2173320"/>
            <a:ext cx="134316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3021120" y="3111480"/>
            <a:ext cx="67140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0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3692520" y="3111480"/>
            <a:ext cx="67140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3021120" y="3987720"/>
            <a:ext cx="67140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4595760" y="3987720"/>
            <a:ext cx="66996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5237280" y="3987720"/>
            <a:ext cx="67140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3692520" y="3987720"/>
            <a:ext cx="67140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243480" y="2173320"/>
            <a:ext cx="14097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n = M(direc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6243480" y="3987720"/>
            <a:ext cx="14097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n = Rn + 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343160" y="4425840"/>
            <a:ext cx="1409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B Rn, 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3021120" y="4425840"/>
            <a:ext cx="67140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4595760" y="4425840"/>
            <a:ext cx="66996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243480" y="4425840"/>
            <a:ext cx="14097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n = Rn - 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343160" y="3549600"/>
            <a:ext cx="1409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 Rn, #imm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3021120" y="3549600"/>
            <a:ext cx="67140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3692520" y="3549600"/>
            <a:ext cx="67140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4565520" y="3549600"/>
            <a:ext cx="134316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med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6243480" y="3549600"/>
            <a:ext cx="14097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n = immedi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1343160" y="1673280"/>
            <a:ext cx="1409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embly instruc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2954160" y="1673280"/>
            <a:ext cx="14097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b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4565520" y="1673280"/>
            <a:ext cx="14097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by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243480" y="1673280"/>
            <a:ext cx="14097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1343160" y="4863960"/>
            <a:ext cx="1409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Z  Rn, rel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3021120" y="4863960"/>
            <a:ext cx="67140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1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3692520" y="4863960"/>
            <a:ext cx="67140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4565520" y="4863960"/>
            <a:ext cx="134316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l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6243480" y="4863960"/>
            <a:ext cx="140976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C = PC+ rel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nly if Rn is 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5237280" y="4425840"/>
            <a:ext cx="67140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3692520" y="4425840"/>
            <a:ext cx="67140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339920" y="2643120"/>
            <a:ext cx="14097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 direct, 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3029040" y="2643120"/>
            <a:ext cx="67140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3700440" y="2643120"/>
            <a:ext cx="67140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4560840" y="2643120"/>
            <a:ext cx="134316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6240600" y="2643120"/>
            <a:ext cx="1409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(direct) = 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4568760" y="3106800"/>
            <a:ext cx="67140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5210280" y="3106800"/>
            <a:ext cx="671400" cy="312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 rot="16265400">
            <a:off x="3291480" y="5024880"/>
            <a:ext cx="123840" cy="598680"/>
          </a:xfrm>
          <a:custGeom>
            <a:avLst/>
            <a:gdLst>
              <a:gd name="textAreaLeft" fmla="*/ 79200 w 123840"/>
              <a:gd name="textAreaRight" fmla="*/ 124200 w 123840"/>
              <a:gd name="textAreaTop" fmla="*/ 15480 h 598680"/>
              <a:gd name="textAreaBottom" fmla="*/ 583200 h 598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 rot="16182600">
            <a:off x="4750560" y="4270680"/>
            <a:ext cx="136440" cy="2160720"/>
          </a:xfrm>
          <a:custGeom>
            <a:avLst/>
            <a:gdLst>
              <a:gd name="textAreaLeft" fmla="*/ 87120 w 136440"/>
              <a:gd name="textAreaRight" fmla="*/ 136800 w 136440"/>
              <a:gd name="textAreaTop" fmla="*/ 56160 h 2160720"/>
              <a:gd name="textAreaBottom" fmla="*/ 210456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6232680" y="3111480"/>
            <a:ext cx="14094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6270480" y="3141720"/>
            <a:ext cx="14097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(Rn) = 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B112E0-651E-467C-A69F-B90DFEC4FA6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dressing Mo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8" name=""/>
          <p:cNvGrpSpPr/>
          <p:nvPr/>
        </p:nvGrpSpPr>
        <p:grpSpPr>
          <a:xfrm>
            <a:off x="334800" y="1552680"/>
            <a:ext cx="8267760" cy="4413240"/>
            <a:chOff x="334800" y="1552680"/>
            <a:chExt cx="8267760" cy="4413240"/>
          </a:xfrm>
        </p:grpSpPr>
        <p:sp>
          <p:nvSpPr>
            <p:cNvPr id="1019" name=""/>
            <p:cNvSpPr/>
            <p:nvPr/>
          </p:nvSpPr>
          <p:spPr>
            <a:xfrm>
              <a:off x="6915240" y="2435400"/>
              <a:ext cx="1687320" cy="3236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552920" y="3024360"/>
              <a:ext cx="1687680" cy="2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34800" y="2435400"/>
              <a:ext cx="1349640" cy="2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medi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334800" y="2876400"/>
              <a:ext cx="134964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gister-dir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334800" y="3465360"/>
              <a:ext cx="1349640" cy="58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gis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dir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34800" y="4200480"/>
              <a:ext cx="134964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ir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34800" y="4789440"/>
              <a:ext cx="134964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dir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552920" y="2435400"/>
              <a:ext cx="1687680" cy="1471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190600" y="2435400"/>
              <a:ext cx="1687680" cy="29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190600" y="1700280"/>
              <a:ext cx="168768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perand fiel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190600" y="3024360"/>
              <a:ext cx="1687680" cy="293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gister addr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190600" y="3611520"/>
              <a:ext cx="1687680" cy="29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gister addr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190600" y="4200480"/>
              <a:ext cx="1687680" cy="29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mory addr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190600" y="4789440"/>
              <a:ext cx="1687680" cy="29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mory addr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4552920" y="2728800"/>
              <a:ext cx="168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4552920" y="3024360"/>
              <a:ext cx="168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4552920" y="3317760"/>
              <a:ext cx="168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4552920" y="3611520"/>
              <a:ext cx="168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4552920" y="3906720"/>
              <a:ext cx="0" cy="293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240600" y="3906720"/>
              <a:ext cx="0" cy="293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552920" y="4200480"/>
              <a:ext cx="1687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4552920" y="3611520"/>
              <a:ext cx="168768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mory addr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6915240" y="3611520"/>
              <a:ext cx="16873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915240" y="2728800"/>
              <a:ext cx="168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6915240" y="3024360"/>
              <a:ext cx="168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6915240" y="3317760"/>
              <a:ext cx="168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6915240" y="3611520"/>
              <a:ext cx="168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915240" y="5672160"/>
              <a:ext cx="0" cy="293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8602560" y="5672160"/>
              <a:ext cx="0" cy="2937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6915240" y="5965920"/>
              <a:ext cx="1687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6915240" y="3906720"/>
              <a:ext cx="168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915240" y="4200480"/>
              <a:ext cx="168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6915240" y="4494240"/>
              <a:ext cx="168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6915240" y="4789440"/>
              <a:ext cx="168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3878280" y="3170160"/>
              <a:ext cx="67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878280" y="3759120"/>
              <a:ext cx="67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6240600" y="3759120"/>
              <a:ext cx="67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878280" y="4348080"/>
              <a:ext cx="303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6915240" y="4200480"/>
              <a:ext cx="168732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878280" y="4935600"/>
              <a:ext cx="303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6915240" y="5083200"/>
              <a:ext cx="168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6915240" y="5376960"/>
              <a:ext cx="168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6915240" y="4789440"/>
              <a:ext cx="1687320" cy="29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mory addr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915240" y="5376960"/>
              <a:ext cx="1687320" cy="29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34800" y="1552680"/>
              <a:ext cx="134964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ddress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od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H="1">
              <a:off x="6240600" y="5010120"/>
              <a:ext cx="67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240600" y="5010120"/>
              <a:ext cx="0" cy="51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6240600" y="5524560"/>
              <a:ext cx="674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34800" y="1994040"/>
              <a:ext cx="82677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4552920" y="1552680"/>
              <a:ext cx="168768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gister-fi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915240" y="1552680"/>
              <a:ext cx="1687320" cy="44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ten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A7B2A-3F81-456E-AC23-CF93892D013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ample Progra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1" name=""/>
          <p:cNvGrpSpPr/>
          <p:nvPr/>
        </p:nvGrpSpPr>
        <p:grpSpPr>
          <a:xfrm>
            <a:off x="1620720" y="1550880"/>
            <a:ext cx="2167200" cy="2830680"/>
            <a:chOff x="1620720" y="1550880"/>
            <a:chExt cx="2167200" cy="2830680"/>
          </a:xfrm>
        </p:grpSpPr>
        <p:sp>
          <p:nvSpPr>
            <p:cNvPr id="1072" name=""/>
            <p:cNvSpPr/>
            <p:nvPr/>
          </p:nvSpPr>
          <p:spPr>
            <a:xfrm>
              <a:off x="1725480" y="3203640"/>
              <a:ext cx="2062440" cy="11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t total = 0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r (int i=10; i!=0; i--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otal += i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// next instructions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620720" y="1550880"/>
              <a:ext cx="1771920" cy="31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 progr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4" name=""/>
          <p:cNvGrpSpPr/>
          <p:nvPr/>
        </p:nvGrpSpPr>
        <p:grpSpPr>
          <a:xfrm>
            <a:off x="4457880" y="1550880"/>
            <a:ext cx="3174840" cy="2640240"/>
            <a:chOff x="4457880" y="1550880"/>
            <a:chExt cx="3174840" cy="2640240"/>
          </a:xfrm>
        </p:grpSpPr>
        <p:sp>
          <p:nvSpPr>
            <p:cNvPr id="1075" name=""/>
            <p:cNvSpPr/>
            <p:nvPr/>
          </p:nvSpPr>
          <p:spPr>
            <a:xfrm>
              <a:off x="5113440" y="2048760"/>
              <a:ext cx="2448000" cy="21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OV R0, #0;           // total =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113440" y="2268720"/>
              <a:ext cx="244800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OV R1, #10;         // i = 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113440" y="3037680"/>
              <a:ext cx="2448000" cy="21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JZ R1, Next;            // Done if i=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113440" y="3257640"/>
              <a:ext cx="2319120" cy="21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DD R0, R1;           // total += 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113440" y="2487600"/>
              <a:ext cx="2448000" cy="21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OV R2, #1;           // constant 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113440" y="3696480"/>
              <a:ext cx="2448000" cy="21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JZ R3, Loop;            // Jump alway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533840" y="3037680"/>
              <a:ext cx="451080" cy="21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oop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540320" y="3971160"/>
              <a:ext cx="452520" cy="21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ext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121360" y="3971160"/>
              <a:ext cx="2448000" cy="21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// next instructions..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113440" y="3476520"/>
              <a:ext cx="2319120" cy="21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UB R1, R2;            // i--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4597560" y="1550880"/>
              <a:ext cx="3035160" cy="21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quivalent assembly progr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113440" y="2707560"/>
              <a:ext cx="2448000" cy="21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OV R3, #0;           // constant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4457880" y="2048760"/>
              <a:ext cx="45072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4457880" y="2268720"/>
              <a:ext cx="450720" cy="1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4457880" y="2487600"/>
              <a:ext cx="45072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4457880" y="2707560"/>
              <a:ext cx="45072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457880" y="3257640"/>
              <a:ext cx="45072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4457880" y="3476520"/>
              <a:ext cx="450720" cy="1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4457880" y="3696480"/>
              <a:ext cx="450720" cy="14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380880" y="4266720"/>
            <a:ext cx="83822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some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ndshake: Wait until the value of M[254] is not 0, set M[255] to 1, wait until M[254] is 0, set M[255] to 0 (assume those locations are port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Harder) Count the occurrences of zero in an array stored in memory locations 100 through 199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68F38-337A-412B-B4FA-BADE749A7CE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grammer Consider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 and data memory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bedded processors often very limi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64 Kbytes program, 256 bytes of RAM (expandab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sters: How many are the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ly a direct concern for assembly-level program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communicate with external signal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ru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50C6D2-FDE0-48B3-A95D-7166988489F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croprocessor Architecture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you are using a particular microprocessor, now is a good time to review its archite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8AB09-D861-412C-B239-E2592AA9C545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: parallel port dri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380880" y="3489120"/>
            <a:ext cx="8445600" cy="253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assembly language programming we can configure a PC parallel port to perform digital I/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 and read to three special registers to accomplish this table provides list of parallel port connector pins and corresponding register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 : parallel port monitors the input switch and turns the LED on/off according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1" name=""/>
          <p:cNvGraphicFramePr/>
          <p:nvPr/>
        </p:nvGraphicFramePr>
        <p:xfrm>
          <a:off x="5603760" y="1739880"/>
          <a:ext cx="3365640" cy="132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03760" y="1739880"/>
                    <a:ext cx="336564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03" name=""/>
          <p:cNvGrpSpPr/>
          <p:nvPr/>
        </p:nvGrpSpPr>
        <p:grpSpPr>
          <a:xfrm>
            <a:off x="241200" y="1733400"/>
            <a:ext cx="5131080" cy="1612800"/>
            <a:chOff x="241200" y="1733400"/>
            <a:chExt cx="5131080" cy="1612800"/>
          </a:xfrm>
        </p:grpSpPr>
        <p:sp>
          <p:nvSpPr>
            <p:cNvPr id="1104" name=""/>
            <p:cNvSpPr/>
            <p:nvPr/>
          </p:nvSpPr>
          <p:spPr>
            <a:xfrm>
              <a:off x="241200" y="1733400"/>
              <a:ext cx="1710000" cy="3286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PT Connection P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951200" y="1733400"/>
              <a:ext cx="1709640" cy="3286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/O Dire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652920" y="1733400"/>
              <a:ext cx="1719360" cy="3286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gister Addre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241200" y="2063520"/>
              <a:ext cx="1710000" cy="32076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360" bIns="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951200" y="2063520"/>
              <a:ext cx="1709640" cy="32076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360" bIns="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652920" y="2063520"/>
              <a:ext cx="1719360" cy="32076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36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th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bit of register #2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241200" y="2381040"/>
              <a:ext cx="1710000" cy="32076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360" bIns="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-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1951200" y="2381040"/>
              <a:ext cx="1709640" cy="32076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360" bIns="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652920" y="2381040"/>
              <a:ext cx="1719360" cy="32076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360" bIns="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th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bit of register #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241200" y="3025800"/>
              <a:ext cx="1710000" cy="3204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360" bIns="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4,16,1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1951200" y="3025800"/>
              <a:ext cx="1709640" cy="3204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360" bIns="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652920" y="3025800"/>
              <a:ext cx="1719360" cy="3204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360" bIns="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,2,3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th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bit of register #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241200" y="2708280"/>
              <a:ext cx="1710000" cy="3204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360" bIns="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0,11,12,13,1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1951200" y="2708280"/>
              <a:ext cx="1709640" cy="3204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360" bIns="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652920" y="2708280"/>
              <a:ext cx="1719360" cy="3204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360" bIns="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6,7,5,4,3</a:t>
              </a:r>
              <a:r>
                <a:rPr b="0" lang="en-US" sz="1200" spc="-1" strike="noStrike" baseline="30000">
                  <a:solidFill>
                    <a:srgbClr val="000000"/>
                  </a:solidFill>
                  <a:latin typeface="Times New Roman"/>
                </a:rPr>
                <a:t>th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bit of register #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A28D4-F331-4237-BF30-EBC17F1A667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arallel Port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28600" y="1547640"/>
            <a:ext cx="4619520" cy="444204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; This program consists of a sub-routine that read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; the state of the input pin, determining the on/off stat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; of our switch and asserts the output pin, turning the LE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; on/off accordingl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.38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heckPort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r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sh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x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; save the cont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ush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x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; save the cont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x, 3BCh + 1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; base + 1 for register #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, dx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; read register #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nd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, 10h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; mask out all but bit # 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mp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, 0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; is it 0?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jne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witchOn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; if not, we need to turn the LED 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witchOff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x, 3BCh + 0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; base + 0 for register #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, dx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; read the current state of the 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, f7h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; clear first bit (masking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x, al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; write it out to the 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jmp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one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; we are d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SwitchOn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v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x, 3BCh + 0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; base + 0 for register #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, dx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; read the current state of the 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r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l, 01h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; set first bit (masking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out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x, al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; write it out to the por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one: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x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; restore the cont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pop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ax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; restore the cont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heckPort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nd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4973760" y="1573200"/>
            <a:ext cx="3935160" cy="109368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xtern “C” CheckPort(void);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/ defined in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// assembly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void main(void) {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while( 1 ) {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CheckPort()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8640"/>
                <a:tab algn="l" pos="917640"/>
                <a:tab algn="l" pos="1376280"/>
                <a:tab algn="l" pos="1835280"/>
                <a:tab algn="l" pos="2293920"/>
                <a:tab algn="l" pos="2752560"/>
                <a:tab algn="l" pos="3211560"/>
                <a:tab algn="l" pos="3670200"/>
                <a:tab algn="l" pos="4129200"/>
                <a:tab algn="l" pos="4587840"/>
                <a:tab algn="l" pos="5046840"/>
                <a:tab algn="l" pos="5505480"/>
                <a:tab algn="l" pos="5964120"/>
                <a:tab algn="l" pos="6423120"/>
                <a:tab algn="l" pos="6881760"/>
                <a:tab algn="l" pos="7340760"/>
                <a:tab algn="l" pos="7799400"/>
                <a:tab algn="l" pos="8258040"/>
                <a:tab algn="l" pos="8717040"/>
                <a:tab algn="l" pos="91756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2" name=""/>
          <p:cNvGrpSpPr/>
          <p:nvPr/>
        </p:nvGrpSpPr>
        <p:grpSpPr>
          <a:xfrm>
            <a:off x="4952880" y="4495680"/>
            <a:ext cx="3962160" cy="1231560"/>
            <a:chOff x="4952880" y="4495680"/>
            <a:chExt cx="3962160" cy="1231560"/>
          </a:xfrm>
        </p:grpSpPr>
        <p:sp>
          <p:nvSpPr>
            <p:cNvPr id="1123" name=""/>
            <p:cNvSpPr/>
            <p:nvPr/>
          </p:nvSpPr>
          <p:spPr>
            <a:xfrm>
              <a:off x="4952880" y="4495680"/>
              <a:ext cx="1320480" cy="2509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LPT Connection P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273360" y="4495680"/>
              <a:ext cx="1320120" cy="2509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/O Dire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7587360" y="4495680"/>
              <a:ext cx="1327680" cy="2509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egister Addres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4952880" y="4747680"/>
              <a:ext cx="1320480" cy="2448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360" bIns="0" anchor="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273360" y="4747680"/>
              <a:ext cx="1320120" cy="2448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360" bIns="0" anchor="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7587360" y="4747680"/>
              <a:ext cx="1327680" cy="2448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36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Times New Roman"/>
                </a:rPr>
                <a:t>th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bit of register #2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4952880" y="4990320"/>
              <a:ext cx="1320480" cy="2448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360" bIns="0" anchor="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-9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273360" y="4990320"/>
              <a:ext cx="1320120" cy="2448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360" bIns="0" anchor="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7587360" y="4990320"/>
              <a:ext cx="1327680" cy="2448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360" bIns="0" anchor="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Times New Roman"/>
                </a:rPr>
                <a:t>th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bit of register #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952880" y="5482800"/>
              <a:ext cx="1320480" cy="24444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360" bIns="0" anchor="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4,16,17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273360" y="5482800"/>
              <a:ext cx="1320120" cy="24444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360" bIns="0" anchor="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7587360" y="5482800"/>
              <a:ext cx="1327680" cy="24444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360" bIns="0" anchor="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,2,3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Times New Roman"/>
                </a:rPr>
                <a:t>th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bit of register #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952880" y="5240160"/>
              <a:ext cx="1320480" cy="24444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360" bIns="0" anchor="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10,11,12,13,1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273360" y="5240160"/>
              <a:ext cx="1320120" cy="24444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360" bIns="0" anchor="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587360" y="5240160"/>
              <a:ext cx="1327680" cy="24444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360" bIns="0" anchor="t">
              <a:no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6,7,5,4,3</a:t>
              </a:r>
              <a:r>
                <a:rPr b="0" lang="en-US" sz="1000" spc="-1" strike="noStrike" baseline="30000">
                  <a:solidFill>
                    <a:srgbClr val="000000"/>
                  </a:solidFill>
                  <a:latin typeface="Times New Roman"/>
                </a:rPr>
                <a:t>th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bit of register #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38" name=""/>
          <p:cNvGraphicFramePr/>
          <p:nvPr/>
        </p:nvGraphicFramePr>
        <p:xfrm>
          <a:off x="5334120" y="2895480"/>
          <a:ext cx="3365280" cy="132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2895480"/>
                    <a:ext cx="336528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0" name=""/>
          <p:cNvSpPr/>
          <p:nvPr/>
        </p:nvSpPr>
        <p:spPr>
          <a:xfrm flipH="1">
            <a:off x="5790960" y="3200400"/>
            <a:ext cx="1523880" cy="21337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5791320" y="5410080"/>
            <a:ext cx="2133360" cy="152640"/>
          </a:xfrm>
          <a:custGeom>
            <a:avLst/>
            <a:gdLst/>
            <a:ahLst/>
            <a:rect l="l" t="t" r="r" b="b"/>
            <a:pathLst>
              <a:path w="1344" h="96">
                <a:moveTo>
                  <a:pt x="0" y="0"/>
                </a:moveTo>
                <a:cubicBezTo>
                  <a:pt x="416" y="48"/>
                  <a:pt x="832" y="96"/>
                  <a:pt x="1056" y="96"/>
                </a:cubicBezTo>
                <a:cubicBezTo>
                  <a:pt x="1280" y="96"/>
                  <a:pt x="1312" y="48"/>
                  <a:pt x="1344" y="0"/>
                </a:cubicBezTo>
              </a:path>
            </a:pathLst>
          </a:custGeom>
          <a:noFill/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905120" y="3200400"/>
            <a:ext cx="6019560" cy="2959200"/>
          </a:xfrm>
          <a:custGeom>
            <a:avLst/>
            <a:gdLst/>
            <a:ahLst/>
            <a:rect l="l" t="t" r="r" b="b"/>
            <a:pathLst>
              <a:path w="3792" h="1864">
                <a:moveTo>
                  <a:pt x="3792" y="1392"/>
                </a:moveTo>
                <a:cubicBezTo>
                  <a:pt x="3052" y="1628"/>
                  <a:pt x="2312" y="1864"/>
                  <a:pt x="1680" y="1632"/>
                </a:cubicBezTo>
                <a:cubicBezTo>
                  <a:pt x="1048" y="1400"/>
                  <a:pt x="524" y="700"/>
                  <a:pt x="0" y="0"/>
                </a:cubicBezTo>
              </a:path>
            </a:pathLst>
          </a:custGeom>
          <a:noFill/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9F3F0-C150-4511-9BD3-12C56BAA262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erating Syste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51055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onal software layer providing low-level services to a program (application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e management, disk a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board/display interf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ing multiple programs for exec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even just multiple threads from one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 makes system calls to the 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5562720" y="3657600"/>
            <a:ext cx="3441600" cy="235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DB file_name “out.txt” -- store file na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V R0, 1324           -- system call “open” i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MOV R1, file_name      -- address of file-nam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T 34                 -- cause a system call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JZ  R0, L1             -- if zero -&gt; err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. . . read the fil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JMP L2                 -- bypass error con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1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. . . handle the err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L2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0C5B5-695C-4198-ACF2-C52B3A77618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ic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7960" y="1523520"/>
            <a:ext cx="33926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 unit and data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e similarity to single-purpose 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differe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path is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 unit doesn’t store the algorithm – the algorithm is “programmed” into the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733920" y="1744560"/>
            <a:ext cx="5133960" cy="4230720"/>
            <a:chOff x="3733920" y="1744560"/>
            <a:chExt cx="5133960" cy="4230720"/>
          </a:xfrm>
        </p:grpSpPr>
        <p:sp>
          <p:nvSpPr>
            <p:cNvPr id="93" name=""/>
            <p:cNvSpPr/>
            <p:nvPr/>
          </p:nvSpPr>
          <p:spPr>
            <a:xfrm>
              <a:off x="3733920" y="1744560"/>
              <a:ext cx="5130720" cy="321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rocess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879720" y="2025720"/>
              <a:ext cx="2784600" cy="267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ntrol 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251840" y="2025720"/>
              <a:ext cx="1465200" cy="267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atapa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99440" y="2332080"/>
              <a:ext cx="1171440" cy="68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L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99440" y="3311640"/>
              <a:ext cx="1171440" cy="12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gist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638680" y="4213080"/>
              <a:ext cx="58608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19640" y="4213080"/>
              <a:ext cx="58716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027320" y="2585880"/>
              <a:ext cx="2495880" cy="141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troll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5932440" y="3973320"/>
              <a:ext cx="0" cy="23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4614840" y="3973320"/>
              <a:ext cx="0" cy="23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736800" y="5299200"/>
              <a:ext cx="5131080" cy="67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7983000" y="3013200"/>
              <a:ext cx="324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672240" y="3182760"/>
              <a:ext cx="58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983360" y="4700520"/>
              <a:ext cx="3240" cy="5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614840" y="4530600"/>
              <a:ext cx="3240" cy="76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5937120" y="453672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962760" y="3436920"/>
              <a:ext cx="29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962760" y="3436920"/>
              <a:ext cx="0" cy="160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42080" y="5045040"/>
              <a:ext cx="44136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/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669000" y="2674800"/>
              <a:ext cx="58572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/Stat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6681960" y="3436920"/>
              <a:ext cx="280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317840" y="4343400"/>
              <a:ext cx="114480" cy="114480"/>
            </a:xfrm>
            <a:prstGeom prst="triangle">
              <a:avLst>
                <a:gd name="adj" fmla="val 50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5400000">
              <a:off x="5638680" y="4356000"/>
              <a:ext cx="114480" cy="114480"/>
            </a:xfrm>
            <a:prstGeom prst="triangle">
              <a:avLst>
                <a:gd name="adj" fmla="val 50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5400000">
              <a:off x="7403400" y="4343400"/>
              <a:ext cx="114480" cy="114120"/>
            </a:xfrm>
            <a:prstGeom prst="triangle">
              <a:avLst>
                <a:gd name="adj" fmla="val 50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17B52D-EE35-4793-87CB-C11D4A97775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ment proces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cessor on which we write and debug our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ually a 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arget process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ocessor that the program will run on in our embedded syste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ften different from the development 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8" name=""/>
          <p:cNvGraphicFramePr/>
          <p:nvPr/>
        </p:nvGraphicFramePr>
        <p:xfrm>
          <a:off x="2254320" y="4651200"/>
          <a:ext cx="1593720" cy="10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4320" y="4651200"/>
                    <a:ext cx="1593720" cy="10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0" name=""/>
          <p:cNvSpPr/>
          <p:nvPr/>
        </p:nvSpPr>
        <p:spPr>
          <a:xfrm>
            <a:off x="2286000" y="5715000"/>
            <a:ext cx="21337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velopment proces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1" name=""/>
          <p:cNvGraphicFramePr/>
          <p:nvPr/>
        </p:nvGraphicFramePr>
        <p:xfrm>
          <a:off x="5029200" y="4724280"/>
          <a:ext cx="746280" cy="41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4724280"/>
                    <a:ext cx="74628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53" name="ib_chip02" descr=""/>
          <p:cNvPicPr/>
          <p:nvPr/>
        </p:nvPicPr>
        <p:blipFill>
          <a:blip r:embed="rId5"/>
          <a:stretch/>
        </p:blipFill>
        <p:spPr>
          <a:xfrm>
            <a:off x="5029200" y="5410080"/>
            <a:ext cx="343080" cy="285840"/>
          </a:xfrm>
          <a:prstGeom prst="rect">
            <a:avLst/>
          </a:prstGeom>
          <a:ln w="0">
            <a:noFill/>
          </a:ln>
        </p:spPr>
      </p:pic>
      <p:sp>
        <p:nvSpPr>
          <p:cNvPr id="1154" name=""/>
          <p:cNvSpPr/>
          <p:nvPr/>
        </p:nvSpPr>
        <p:spPr>
          <a:xfrm flipH="1">
            <a:off x="5181480" y="5105520"/>
            <a:ext cx="15264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4495680" y="5715000"/>
            <a:ext cx="21337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arget proces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3962520" y="5181480"/>
            <a:ext cx="1143000" cy="3049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 flipH="1" flipV="1">
            <a:off x="5028840" y="5105520"/>
            <a:ext cx="152280" cy="3808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EC66E0-543A-4676-AE7C-C5D79913664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ftware Development Proc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228600" y="2057400"/>
            <a:ext cx="5206320" cy="3552480"/>
            <a:chOff x="228600" y="2057400"/>
            <a:chExt cx="5206320" cy="3552480"/>
          </a:xfrm>
        </p:grpSpPr>
        <p:sp>
          <p:nvSpPr>
            <p:cNvPr id="1160" name=""/>
            <p:cNvSpPr/>
            <p:nvPr/>
          </p:nvSpPr>
          <p:spPr>
            <a:xfrm>
              <a:off x="3219480" y="2457360"/>
              <a:ext cx="1494000" cy="1569240"/>
            </a:xfrm>
            <a:custGeom>
              <a:avLst/>
              <a:gdLst/>
              <a:ahLst/>
              <a:rect l="l" t="t" r="r" b="b"/>
              <a:pathLst>
                <a:path w="1920" h="2108">
                  <a:moveTo>
                    <a:pt x="1683" y="2108"/>
                  </a:moveTo>
                  <a:cubicBezTo>
                    <a:pt x="1801" y="1498"/>
                    <a:pt x="1920" y="889"/>
                    <a:pt x="1640" y="538"/>
                  </a:cubicBezTo>
                  <a:cubicBezTo>
                    <a:pt x="1360" y="187"/>
                    <a:pt x="680" y="93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228600" y="2057400"/>
              <a:ext cx="2998080" cy="355248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810360" y="2896920"/>
              <a:ext cx="1120680" cy="399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il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1230480" y="4064040"/>
              <a:ext cx="1120680" cy="400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ink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49080" y="2269080"/>
              <a:ext cx="694440" cy="49176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 Fi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1415520" y="2263680"/>
              <a:ext cx="694440" cy="4896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 Fi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164680" y="2256480"/>
              <a:ext cx="696240" cy="4914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sm. Fi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979560" y="2761200"/>
              <a:ext cx="169200" cy="16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1600200" y="2755080"/>
              <a:ext cx="128160" cy="15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52320" y="3418200"/>
              <a:ext cx="694800" cy="4896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nary Fi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1421280" y="3411000"/>
              <a:ext cx="694440" cy="4914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nary Fi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2170440" y="3404880"/>
              <a:ext cx="694440" cy="4896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nary Fi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985320" y="3286080"/>
              <a:ext cx="141840" cy="12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1580760" y="3284280"/>
              <a:ext cx="194400" cy="11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1047960" y="3898800"/>
              <a:ext cx="336240" cy="21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1763640" y="3885480"/>
              <a:ext cx="0" cy="17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2201400" y="3885480"/>
              <a:ext cx="289800" cy="24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472040" y="4643640"/>
              <a:ext cx="694440" cy="489600"/>
            </a:xfrm>
            <a:prstGeom prst="foldedCorner">
              <a:avLst>
                <a:gd name="adj" fmla="val 125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xec. Fi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1810440" y="4474080"/>
              <a:ext cx="0" cy="15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1970280" y="2902680"/>
              <a:ext cx="1120680" cy="399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ssembl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2512800" y="2749680"/>
              <a:ext cx="0" cy="15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2538000" y="3304440"/>
              <a:ext cx="7920" cy="9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82" name=""/>
            <p:cNvGrpSpPr/>
            <p:nvPr/>
          </p:nvGrpSpPr>
          <p:grpSpPr>
            <a:xfrm>
              <a:off x="302400" y="4029120"/>
              <a:ext cx="737280" cy="960480"/>
              <a:chOff x="302400" y="4029120"/>
              <a:chExt cx="737280" cy="960480"/>
            </a:xfrm>
          </p:grpSpPr>
          <p:sp>
            <p:nvSpPr>
              <p:cNvPr id="1183" name=""/>
              <p:cNvSpPr/>
              <p:nvPr/>
            </p:nvSpPr>
            <p:spPr>
              <a:xfrm>
                <a:off x="356760" y="4029120"/>
                <a:ext cx="608760" cy="264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353520" y="4724640"/>
                <a:ext cx="608760" cy="264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356760" y="4152600"/>
                <a:ext cx="0" cy="72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963360" y="4169520"/>
                <a:ext cx="0" cy="72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302400" y="4319280"/>
                <a:ext cx="737280" cy="40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Libra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88" name=""/>
            <p:cNvSpPr/>
            <p:nvPr/>
          </p:nvSpPr>
          <p:spPr>
            <a:xfrm flipV="1">
              <a:off x="965880" y="4344840"/>
              <a:ext cx="303480" cy="16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250200" y="5308200"/>
              <a:ext cx="2957040" cy="27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mplementation Pha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686040" y="4034520"/>
              <a:ext cx="1748880" cy="153756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030920" y="4185360"/>
              <a:ext cx="1120680" cy="399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ebugg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038480" y="4695480"/>
              <a:ext cx="1120680" cy="3999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fil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691800" y="5281920"/>
              <a:ext cx="1743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Verification Pha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 flipV="1">
              <a:off x="2166480" y="4382280"/>
              <a:ext cx="1864080" cy="35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180160" y="4829760"/>
              <a:ext cx="1856160" cy="7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486400" y="1523520"/>
            <a:ext cx="32767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il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oss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ns on one processor, but generates code for an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mbl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nk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bugg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fil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F46F4-FBDC-4790-B718-AA7811829F2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unning a Pro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development processor is different than target, how can we run our compiled code? Two op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wnload to target 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method: Hardware description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slow, not always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ther method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ruction set simulator (IS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ns on development processor, but executes instructions of target 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F2268-1499-4FA0-B004-E416D948F78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struction Set Simulator For A Simple Process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241200" y="1600200"/>
            <a:ext cx="4330800" cy="43419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#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clude &lt;stdio.h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typedef struct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nsigned char first_byte, second_byt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 instruction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struction program[1024];  //instruction mem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nsigned char memory[256];  //data mem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void run_program(int num_bytes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pc = -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unsigned char reg[16], fb, sb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while( ++pc &lt; (num_bytes / 2) 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b = program[pc].first_byt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b = program[pc].second_byte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witch( fb &gt;&gt; 4 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se 0: reg[fb &amp; 0x0f] = memory[sb]; break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se 1: memory[sb] = reg[fb &amp; 0x0f]; break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se 2: memory[reg[fb &amp; 0x0f]] =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g[sb &gt;&gt; 4];  break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se 3: reg[fb &amp; 0x0f] = sb; break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se 4: reg[fb &amp; 0x0f] += reg[sb &gt;&gt; 4]; break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se 5: reg[fb &amp; 0x0f] -= reg[sb &gt;&gt; 4]; break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case 6: pc += sb; break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default: return –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4660920" y="1600200"/>
            <a:ext cx="4251240" cy="43419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9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nt main(int argc, char *argv[]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FILE* if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f( argc != 2 ||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(ifs = fopen(argv[1], “rb”) == NULL 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turn –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if (run_program(fread(program,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sizeof(program) == 0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print_memory_contents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return(0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else return(-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01C60-CF47-46B1-A97D-F96B88500A6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sting and Debugg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3" name=""/>
          <p:cNvGrpSpPr/>
          <p:nvPr/>
        </p:nvGrpSpPr>
        <p:grpSpPr>
          <a:xfrm>
            <a:off x="189000" y="1587600"/>
            <a:ext cx="5068440" cy="4333680"/>
            <a:chOff x="189000" y="1587600"/>
            <a:chExt cx="5068440" cy="4333680"/>
          </a:xfrm>
        </p:grpSpPr>
        <p:sp>
          <p:nvSpPr>
            <p:cNvPr id="1204" name=""/>
            <p:cNvSpPr/>
            <p:nvPr/>
          </p:nvSpPr>
          <p:spPr>
            <a:xfrm>
              <a:off x="1998360" y="3114720"/>
              <a:ext cx="3011040" cy="276840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05" name=""/>
            <p:cNvGraphicFramePr/>
            <p:nvPr/>
          </p:nvGraphicFramePr>
          <p:xfrm>
            <a:off x="1938240" y="1773360"/>
            <a:ext cx="1431720" cy="1069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0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938240" y="1773360"/>
                      <a:ext cx="1431720" cy="1069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07" name=""/>
            <p:cNvSpPr/>
            <p:nvPr/>
          </p:nvSpPr>
          <p:spPr>
            <a:xfrm>
              <a:off x="438120" y="1865160"/>
              <a:ext cx="1184760" cy="58428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mplementation Pha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3840480" y="1930320"/>
              <a:ext cx="1184760" cy="58572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Implementation Pha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33800" y="2619360"/>
              <a:ext cx="1184760" cy="587520"/>
            </a:xfrm>
            <a:prstGeom prst="rect">
              <a:avLst/>
            </a:prstGeom>
            <a:solidFill>
              <a:srgbClr val="ffffff"/>
            </a:solidFill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Verification Pha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1564560" y="1801800"/>
              <a:ext cx="357840" cy="1471680"/>
            </a:xfrm>
            <a:custGeom>
              <a:avLst/>
              <a:gdLst>
                <a:gd name="textAreaLeft" fmla="*/ 0 w 357840"/>
                <a:gd name="textAreaRight" fmla="*/ 129240 w 357840"/>
                <a:gd name="textAreaTop" fmla="*/ 38160 h 1471680"/>
                <a:gd name="textAreaBottom" fmla="*/ 1433520 h 147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89000" y="2262240"/>
              <a:ext cx="249120" cy="706320"/>
            </a:xfrm>
            <a:custGeom>
              <a:avLst/>
              <a:gdLst/>
              <a:ahLst/>
              <a:rect l="l" t="t" r="r" b="b"/>
              <a:pathLst>
                <a:path w="344" h="1110">
                  <a:moveTo>
                    <a:pt x="309" y="1110"/>
                  </a:moveTo>
                  <a:cubicBezTo>
                    <a:pt x="154" y="920"/>
                    <a:pt x="0" y="731"/>
                    <a:pt x="6" y="546"/>
                  </a:cubicBezTo>
                  <a:cubicBezTo>
                    <a:pt x="12" y="361"/>
                    <a:pt x="178" y="180"/>
                    <a:pt x="34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001520" y="2455920"/>
              <a:ext cx="0" cy="15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2003760" y="5486400"/>
              <a:ext cx="322668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Verif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Ph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4" name=""/>
            <p:cNvGrpSpPr/>
            <p:nvPr/>
          </p:nvGrpSpPr>
          <p:grpSpPr>
            <a:xfrm>
              <a:off x="2149200" y="3765600"/>
              <a:ext cx="2656080" cy="1206360"/>
              <a:chOff x="2149200" y="3765600"/>
              <a:chExt cx="2656080" cy="1206360"/>
            </a:xfrm>
          </p:grpSpPr>
          <p:sp>
            <p:nvSpPr>
              <p:cNvPr id="1215" name=""/>
              <p:cNvSpPr/>
              <p:nvPr/>
            </p:nvSpPr>
            <p:spPr>
              <a:xfrm>
                <a:off x="2149200" y="3765600"/>
                <a:ext cx="2656080" cy="120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216" name=""/>
              <p:cNvGraphicFramePr/>
              <p:nvPr/>
            </p:nvGraphicFramePr>
            <p:xfrm>
              <a:off x="2155680" y="3770640"/>
              <a:ext cx="2643120" cy="11955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217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155680" y="3770640"/>
                        <a:ext cx="2643120" cy="11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218" name=""/>
              <p:cNvSpPr/>
              <p:nvPr/>
            </p:nvSpPr>
            <p:spPr>
              <a:xfrm>
                <a:off x="3740040" y="3793680"/>
                <a:ext cx="101448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Emulato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19" name=""/>
            <p:cNvSpPr/>
            <p:nvPr/>
          </p:nvSpPr>
          <p:spPr>
            <a:xfrm>
              <a:off x="4748760" y="2529000"/>
              <a:ext cx="2880" cy="1236600"/>
            </a:xfrm>
            <a:custGeom>
              <a:avLst/>
              <a:gdLst/>
              <a:ahLst/>
              <a:rect l="l" t="t" r="r" b="b"/>
              <a:pathLst>
                <a:path w="2" h="779">
                  <a:moveTo>
                    <a:pt x="0" y="0"/>
                  </a:moveTo>
                  <a:lnTo>
                    <a:pt x="2" y="77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710880" y="3192480"/>
              <a:ext cx="909360" cy="496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ebugger/ IS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098600" y="2519280"/>
              <a:ext cx="2880" cy="658800"/>
            </a:xfrm>
            <a:custGeom>
              <a:avLst/>
              <a:gdLst/>
              <a:ahLst/>
              <a:rect l="l" t="t" r="r" b="b"/>
              <a:pathLst>
                <a:path w="2" h="415">
                  <a:moveTo>
                    <a:pt x="0" y="0"/>
                  </a:moveTo>
                  <a:lnTo>
                    <a:pt x="2" y="41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3562200" y="5057640"/>
              <a:ext cx="1415880" cy="436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gramm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876920" y="2519280"/>
              <a:ext cx="3960" cy="2622600"/>
            </a:xfrm>
            <a:custGeom>
              <a:avLst/>
              <a:gdLst/>
              <a:ahLst/>
              <a:rect l="l" t="t" r="r" b="b"/>
              <a:pathLst>
                <a:path w="3" h="1652">
                  <a:moveTo>
                    <a:pt x="0" y="0"/>
                  </a:moveTo>
                  <a:lnTo>
                    <a:pt x="3" y="165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3476880" y="1892160"/>
              <a:ext cx="363240" cy="1818000"/>
            </a:xfrm>
            <a:custGeom>
              <a:avLst/>
              <a:gdLst>
                <a:gd name="textAreaLeft" fmla="*/ 232200 w 363240"/>
                <a:gd name="textAreaRight" fmla="*/ 363600 w 363240"/>
                <a:gd name="textAreaTop" fmla="*/ 47160 h 1818000"/>
                <a:gd name="textAreaBottom" fmla="*/ 1770840 h 1818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1967040" y="2836800"/>
              <a:ext cx="1623600" cy="26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evelopment process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1897200" y="1625760"/>
              <a:ext cx="0" cy="429552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857520" y="1587600"/>
              <a:ext cx="444600" cy="23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(a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3543840" y="1592280"/>
              <a:ext cx="444600" cy="23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(b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1698840" y="3540240"/>
              <a:ext cx="521640" cy="2131920"/>
            </a:xfrm>
            <a:custGeom>
              <a:avLst/>
              <a:gdLst>
                <a:gd name="textAreaLeft" fmla="*/ 333360 w 521640"/>
                <a:gd name="textAreaRight" fmla="*/ 522000 w 521640"/>
                <a:gd name="textAreaTop" fmla="*/ 55440 h 2131920"/>
                <a:gd name="textAreaBottom" fmla="*/ 2076480 h 2131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168"/>
                  </a:lnTo>
                  <a:cubicBezTo>
                    <a:pt x="10800" y="10068"/>
                    <a:pt x="5400" y="10968"/>
                    <a:pt x="0" y="10968"/>
                  </a:cubicBezTo>
                  <a:cubicBezTo>
                    <a:pt x="5400" y="10968"/>
                    <a:pt x="10800" y="11868"/>
                    <a:pt x="10800" y="12768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58280" y="4484520"/>
              <a:ext cx="1290240" cy="312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xternal too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H="1">
              <a:off x="5009760" y="2274840"/>
              <a:ext cx="247680" cy="1031760"/>
            </a:xfrm>
            <a:custGeom>
              <a:avLst/>
              <a:gdLst/>
              <a:ahLst/>
              <a:rect l="l" t="t" r="r" b="b"/>
              <a:pathLst>
                <a:path w="344" h="1110">
                  <a:moveTo>
                    <a:pt x="309" y="1110"/>
                  </a:moveTo>
                  <a:cubicBezTo>
                    <a:pt x="154" y="920"/>
                    <a:pt x="0" y="731"/>
                    <a:pt x="6" y="546"/>
                  </a:cubicBezTo>
                  <a:cubicBezTo>
                    <a:pt x="12" y="361"/>
                    <a:pt x="178" y="180"/>
                    <a:pt x="344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5105520" y="1523520"/>
            <a:ext cx="3657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ives us control over time – set breakpoints, look at register values, set values, step-by-step execution, 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t, doesn’t interact with real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wnload to bo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device programm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ns in real environment, but not control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romise: emul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ns in real environment, at speed or n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rts some controllability from the 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32D20-5589-4FE3-8482-3D75641DE66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plication-Specific Instruction-Set Processors (ASIP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-purpose proces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imes too general to be effective in demand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video processing – requires huge video buffers and operations on large arrays of data, inefficient on a G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single-purpose processor has high NRE, not programm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IPs – targeted to a particular dom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in architectural features specific to that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embedded control, digital signal processing, video processing, network processing, telecommunication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programm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3E4F4-B25C-4106-9D59-82AB3C0691E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Common ASIP: Microcontroll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embedded control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ing sensors, setting actu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ly dealing with events (bits): data is present, but not in huge amou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VCR, disk drive, digital camera (assuming SPP for image compression), washing machine, microwave o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crocontroller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-chip peripher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rs, analog-digital converters, serial communication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ghtly integrated for programmer, typically part of register sp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-chip program and data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rect programmer access to many of the chip’s pi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ized instructions for bit-manipulation and other low-level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75284-324E-417A-B30E-17613D934B2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other Common ASIP: Digital Signal Processors (DSP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signal processing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amounts of digitized data, often strea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transformations must be applied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cell-phone voice filter, digital TV, music synthesiz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P featu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ral instruction execution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-accumulate single-cycle instruction, other inst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icient vector operations – e.g., add two arr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ctor ALUs, loop buffer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8BAEB-0FE7-4A5C-884A-DF01824DF8B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rend: Even More Customized ASI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past, microprocessors were acquired as c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day, we increasingly acquire a processor as Intellectual Property (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synthesizable VHDL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portunity to add a custom datapath hardware and a few custom instructions, or delete a few instru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have significant performance, power and size impa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lem: need compiler/debugger for customized AS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member, most development uses structured langu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solution: automatic compiler/debugger gen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.g., </a:t>
            </a:r>
            <a:r>
              <a:rPr b="0" lang="en-US" sz="16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www.tensillica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other solution: retargettable compil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.g., </a:t>
            </a:r>
            <a:r>
              <a:rPr b="0" lang="en-US" sz="1600" spc="-1" strike="noStrike" u="sng">
                <a:solidFill>
                  <a:srgbClr val="ff0033"/>
                </a:solidFill>
                <a:uFillTx/>
                <a:latin typeface="Times New Roman"/>
                <a:hlinkClick r:id="rId2"/>
              </a:rPr>
              <a:t>www.improvsys.com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customized VLIW architectur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1AD18-0C6C-4A26-8268-70B16F78D1F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lecting a Microprocess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s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: speed, power, size,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ther: development environment, prior expertise, licensing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ed: how evaluate a processor’s sp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ock speed – but instructions per cycle may di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structions per second – but work per instr. may di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hrystone: Synthetic benchmark, developed in 1984. Dhrystones/se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PS: 1 MIPS = 1757 Dhrystones per second (based on Digital’s VAX 11/780). A.k.a. Dhrystone MIPS. Commonly used toda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, 750 MIPS = 750*1757 = 1,317,750 Dhrystones per sec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: set of more realistic benchmarks, but oriented to deskto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EMBC – EDN Embedded Benchmark Consortium, </a:t>
            </a:r>
            <a:r>
              <a:rPr b="0" lang="en-US" sz="2000" spc="-1" strike="noStrike" u="sng">
                <a:solidFill>
                  <a:srgbClr val="ff0033"/>
                </a:solidFill>
                <a:uFillTx/>
                <a:latin typeface="Times New Roman"/>
                <a:hlinkClick r:id="rId1"/>
              </a:rPr>
              <a:t>www.eembc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ites of benchmarks: automotive, consumer electronics, networking, office automation, tele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36AE0-89D5-4E57-9634-8082D958124C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atapath Oper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37960" y="1523880"/>
            <a:ext cx="3392640" cy="1092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d memory location into regist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25360" y="2552760"/>
            <a:ext cx="33926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U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put certain registers through ALU, store back in regi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25360" y="3822840"/>
            <a:ext cx="3392640" cy="10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ite register to memory 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1744560"/>
            <a:ext cx="5130720" cy="32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879720" y="2025720"/>
            <a:ext cx="2784600" cy="267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trol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51840" y="2025720"/>
            <a:ext cx="1465200" cy="267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99440" y="2332080"/>
            <a:ext cx="1171440" cy="68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99440" y="3311640"/>
            <a:ext cx="1171440" cy="12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4213080"/>
            <a:ext cx="58608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319640" y="4213080"/>
            <a:ext cx="58716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27320" y="2585880"/>
            <a:ext cx="2495880" cy="14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932440" y="3973320"/>
            <a:ext cx="0" cy="23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4614840" y="3973320"/>
            <a:ext cx="0" cy="239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736800" y="5299200"/>
            <a:ext cx="5131080" cy="67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7983000" y="3013200"/>
            <a:ext cx="3240" cy="285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72240" y="3182760"/>
            <a:ext cx="582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83360" y="4700520"/>
            <a:ext cx="3240" cy="598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614840" y="4530600"/>
            <a:ext cx="3240" cy="76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937120" y="45367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962760" y="343692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962760" y="3436920"/>
            <a:ext cx="0" cy="16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42080" y="5045040"/>
            <a:ext cx="4413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669000" y="2674800"/>
            <a:ext cx="585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>
            <a:off x="6681960" y="3436920"/>
            <a:ext cx="280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5400000">
            <a:off x="4317840" y="4343400"/>
            <a:ext cx="114480" cy="114480"/>
          </a:xfrm>
          <a:prstGeom prst="triangle">
            <a:avLst>
              <a:gd name="adj" fmla="val 50000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rot="5400000">
            <a:off x="5638680" y="4356000"/>
            <a:ext cx="114480" cy="114480"/>
          </a:xfrm>
          <a:prstGeom prst="triangle">
            <a:avLst>
              <a:gd name="adj" fmla="val 50000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657600"/>
            <a:ext cx="380880" cy="2286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43800" y="4038480"/>
            <a:ext cx="380880" cy="2286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077320" y="3657600"/>
            <a:ext cx="380880" cy="2286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077320" y="4038480"/>
            <a:ext cx="380880" cy="2286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5400000">
            <a:off x="7543800" y="3733560"/>
            <a:ext cx="114120" cy="114480"/>
          </a:xfrm>
          <a:prstGeom prst="triangle">
            <a:avLst>
              <a:gd name="adj" fmla="val 50000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5400000">
            <a:off x="7543800" y="4114800"/>
            <a:ext cx="114480" cy="114480"/>
          </a:xfrm>
          <a:prstGeom prst="triangle">
            <a:avLst>
              <a:gd name="adj" fmla="val 50000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rot="5400000">
            <a:off x="8076960" y="3733920"/>
            <a:ext cx="114120" cy="114120"/>
          </a:xfrm>
          <a:prstGeom prst="triangle">
            <a:avLst>
              <a:gd name="adj" fmla="val 50000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5400000">
            <a:off x="8076600" y="4114800"/>
            <a:ext cx="114480" cy="114120"/>
          </a:xfrm>
          <a:prstGeom prst="triangle">
            <a:avLst>
              <a:gd name="adj" fmla="val 50000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467480" y="5410080"/>
            <a:ext cx="381240" cy="2286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467480" y="5638680"/>
            <a:ext cx="381240" cy="2286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543440" y="5105520"/>
            <a:ext cx="229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43440" y="5638680"/>
            <a:ext cx="229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43800" y="403848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243000">
            <a:off x="7621200" y="4187880"/>
            <a:ext cx="149400" cy="1222200"/>
          </a:xfrm>
          <a:prstGeom prst="upArrow">
            <a:avLst>
              <a:gd name="adj1" fmla="val 50000"/>
              <a:gd name="adj2" fmla="val 204518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696080" y="2590920"/>
            <a:ext cx="762120" cy="1447560"/>
            <a:chOff x="7696080" y="2590920"/>
            <a:chExt cx="762120" cy="1447560"/>
          </a:xfrm>
        </p:grpSpPr>
        <p:sp>
          <p:nvSpPr>
            <p:cNvPr id="159" name=""/>
            <p:cNvSpPr/>
            <p:nvPr/>
          </p:nvSpPr>
          <p:spPr>
            <a:xfrm>
              <a:off x="7696080" y="2666880"/>
              <a:ext cx="685800" cy="1371600"/>
            </a:xfrm>
            <a:custGeom>
              <a:avLst/>
              <a:gdLst>
                <a:gd name="textAreaLeft" fmla="*/ 138960 w 685800"/>
                <a:gd name="textAreaRight" fmla="*/ 478440 w 685800"/>
                <a:gd name="textAreaTop" fmla="*/ 183600 h 1371600"/>
                <a:gd name="textAreaBottom" fmla="*/ 118800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8755" hR="21600" stAng="10800000" swAng="5400000"/>
                  <a:lnTo>
                    <a:pt x="10685" y="0"/>
                  </a:lnTo>
                  <a:arcTo wR="8755" hR="21600" stAng="-5400000" swAng="3703852"/>
                  <a:lnTo>
                    <a:pt x="21399" y="17000"/>
                  </a:lnTo>
                  <a:lnTo>
                    <a:pt x="18475" y="21600"/>
                  </a:lnTo>
                  <a:lnTo>
                    <a:pt x="15149" y="17000"/>
                  </a:lnTo>
                  <a:lnTo>
                    <a:pt x="17309" y="17000"/>
                  </a:lnTo>
                  <a:arcTo wR="8755" hR="21600" stAng="-1696148" swAng="-3549430"/>
                  <a:lnTo>
                    <a:pt x="9720" y="132"/>
                  </a:lnTo>
                  <a:arcTo wR="8755" hR="21600" stAng="-5554422" swAng="-5245578"/>
                  <a:close/>
                </a:path>
                <a:path fill="darkenLess" w="21600" h="21600">
                  <a:moveTo>
                    <a:pt x="0" y="21600"/>
                  </a:moveTo>
                  <a:arcTo wR="8755" hR="21600" stAng="10800000" swAng="5400000"/>
                  <a:lnTo>
                    <a:pt x="8755" y="0"/>
                  </a:lnTo>
                  <a:arcTo wR="8755" hR="21600" stAng="-5400000" swAng="154422"/>
                  <a:lnTo>
                    <a:pt x="9720" y="132"/>
                  </a:lnTo>
                  <a:arcTo wR="8755" hR="21600" stAng="-5554422" swAng="-5245578"/>
                  <a:close/>
                </a:path>
              </a:pathLst>
            </a:custGeom>
            <a:solidFill>
              <a:srgbClr val="ffffff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077320" y="2590920"/>
              <a:ext cx="380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+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8077320" y="403848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 rot="1394400">
            <a:off x="8043480" y="4188600"/>
            <a:ext cx="182520" cy="1676520"/>
          </a:xfrm>
          <a:prstGeom prst="upArrow">
            <a:avLst>
              <a:gd name="adj1" fmla="val 40074"/>
              <a:gd name="adj2" fmla="val 169164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67480" y="5638680"/>
            <a:ext cx="38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09E4A-0A6B-4C59-908D-0C9F209D5F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eral Purpose Process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4" name=""/>
          <p:cNvGraphicFramePr/>
          <p:nvPr/>
        </p:nvGraphicFramePr>
        <p:xfrm>
          <a:off x="317520" y="1650960"/>
          <a:ext cx="8585280" cy="433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7520" y="1650960"/>
                    <a:ext cx="8585280" cy="433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6" name=""/>
          <p:cNvSpPr/>
          <p:nvPr/>
        </p:nvSpPr>
        <p:spPr>
          <a:xfrm>
            <a:off x="453960" y="5810400"/>
            <a:ext cx="775980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Sources: Intel, Motorola, MIPS, ARM, TI, and IBM Website/Datasheet; Embedded Systems Programming, Nov. 199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8F53B-113C-47E6-9BDD-21C96C491A3B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igning a General Purpose Process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1911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something an embedded system designer normally would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instructive to see how simply we can build one top d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member that real processors aren’t usually built this 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ch more optimized, much more bottom-up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4724280" y="1600200"/>
            <a:ext cx="1554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Declarations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bit PC[16], IR[16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bit M[64k][16], RF[16][16]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0" name=""/>
          <p:cNvGrpSpPr/>
          <p:nvPr/>
        </p:nvGrpSpPr>
        <p:grpSpPr>
          <a:xfrm>
            <a:off x="3657600" y="5334120"/>
            <a:ext cx="2195640" cy="633240"/>
            <a:chOff x="3657600" y="5334120"/>
            <a:chExt cx="2195640" cy="633240"/>
          </a:xfrm>
        </p:grpSpPr>
        <p:sp>
          <p:nvSpPr>
            <p:cNvPr id="1251" name=""/>
            <p:cNvSpPr/>
            <p:nvPr/>
          </p:nvSpPr>
          <p:spPr>
            <a:xfrm>
              <a:off x="3749040" y="5334120"/>
              <a:ext cx="109764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liases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p  IR[15..12]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n   IR[11..8]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m  IR[7..4]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938480" y="5334120"/>
              <a:ext cx="914760" cy="6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ir     IR[7..0]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mm  IR[7..0]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el     IR[7..0]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3657600" y="5334120"/>
              <a:ext cx="2195640" cy="633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4" name=""/>
          <p:cNvGrpSpPr/>
          <p:nvPr/>
        </p:nvGrpSpPr>
        <p:grpSpPr>
          <a:xfrm>
            <a:off x="6019920" y="1447920"/>
            <a:ext cx="2957400" cy="4564080"/>
            <a:chOff x="6019920" y="1447920"/>
            <a:chExt cx="2957400" cy="4564080"/>
          </a:xfrm>
        </p:grpSpPr>
        <p:sp>
          <p:nvSpPr>
            <p:cNvPr id="1255" name=""/>
            <p:cNvSpPr/>
            <p:nvPr/>
          </p:nvSpPr>
          <p:spPr>
            <a:xfrm>
              <a:off x="6751440" y="1717920"/>
              <a:ext cx="547920" cy="274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ese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6751440" y="2143080"/>
              <a:ext cx="547920" cy="274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Fet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6019920" y="2505240"/>
              <a:ext cx="731520" cy="2746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eco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024680" y="1990800"/>
              <a:ext cx="3240" cy="152280"/>
            </a:xfrm>
            <a:custGeom>
              <a:avLst/>
              <a:gdLst/>
              <a:ahLst/>
              <a:rect l="l" t="t" r="r" b="b"/>
              <a:pathLst>
                <a:path w="2" h="96">
                  <a:moveTo>
                    <a:pt x="0" y="0"/>
                  </a:moveTo>
                  <a:lnTo>
                    <a:pt x="2" y="9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391520" y="2124360"/>
              <a:ext cx="549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R=M[PC]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C=PC+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148520" y="2934000"/>
              <a:ext cx="547560" cy="274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ov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788240" y="2934000"/>
              <a:ext cx="8240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F[rn] = M[dir]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148520" y="3391200"/>
              <a:ext cx="547560" cy="274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ov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148520" y="3848400"/>
              <a:ext cx="547560" cy="274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ov3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148520" y="4305600"/>
              <a:ext cx="547560" cy="274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ov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148520" y="4762800"/>
              <a:ext cx="547560" cy="274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d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148520" y="5220000"/>
              <a:ext cx="547560" cy="274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u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148520" y="5677200"/>
              <a:ext cx="547560" cy="2743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J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105600" y="2783160"/>
              <a:ext cx="1054080" cy="2985840"/>
            </a:xfrm>
            <a:custGeom>
              <a:avLst/>
              <a:gdLst/>
              <a:ahLst/>
              <a:rect l="l" t="t" r="r" b="b"/>
              <a:pathLst>
                <a:path w="664" h="1881">
                  <a:moveTo>
                    <a:pt x="0" y="0"/>
                  </a:moveTo>
                  <a:lnTo>
                    <a:pt x="1" y="1881"/>
                  </a:lnTo>
                  <a:lnTo>
                    <a:pt x="664" y="187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6197400" y="2783160"/>
              <a:ext cx="946440" cy="2528640"/>
            </a:xfrm>
            <a:custGeom>
              <a:avLst/>
              <a:gdLst/>
              <a:ahLst/>
              <a:rect l="l" t="t" r="r" b="b"/>
              <a:pathLst>
                <a:path w="596" h="1593">
                  <a:moveTo>
                    <a:pt x="1" y="0"/>
                  </a:moveTo>
                  <a:lnTo>
                    <a:pt x="0" y="1593"/>
                  </a:lnTo>
                  <a:lnTo>
                    <a:pt x="596" y="159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6289560" y="2783160"/>
              <a:ext cx="844560" cy="2073240"/>
            </a:xfrm>
            <a:custGeom>
              <a:avLst/>
              <a:gdLst/>
              <a:ahLst/>
              <a:rect l="l" t="t" r="r" b="b"/>
              <a:pathLst>
                <a:path w="532" h="1306">
                  <a:moveTo>
                    <a:pt x="7" y="0"/>
                  </a:moveTo>
                  <a:lnTo>
                    <a:pt x="0" y="1305"/>
                  </a:lnTo>
                  <a:lnTo>
                    <a:pt x="532" y="130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6381720" y="2783160"/>
              <a:ext cx="777960" cy="1617480"/>
            </a:xfrm>
            <a:custGeom>
              <a:avLst/>
              <a:gdLst/>
              <a:ahLst/>
              <a:rect l="l" t="t" r="r" b="b"/>
              <a:pathLst>
                <a:path w="490" h="1019">
                  <a:moveTo>
                    <a:pt x="2" y="0"/>
                  </a:moveTo>
                  <a:lnTo>
                    <a:pt x="0" y="1017"/>
                  </a:lnTo>
                  <a:lnTo>
                    <a:pt x="490" y="101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6469200" y="2783160"/>
              <a:ext cx="690480" cy="1157040"/>
            </a:xfrm>
            <a:custGeom>
              <a:avLst/>
              <a:gdLst/>
              <a:ahLst/>
              <a:rect l="l" t="t" r="r" b="b"/>
              <a:pathLst>
                <a:path w="435" h="729">
                  <a:moveTo>
                    <a:pt x="0" y="0"/>
                  </a:moveTo>
                  <a:lnTo>
                    <a:pt x="2" y="729"/>
                  </a:lnTo>
                  <a:lnTo>
                    <a:pt x="435" y="72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561000" y="2791080"/>
              <a:ext cx="598680" cy="691920"/>
            </a:xfrm>
            <a:custGeom>
              <a:avLst/>
              <a:gdLst/>
              <a:ahLst/>
              <a:rect l="l" t="t" r="r" b="b"/>
              <a:pathLst>
                <a:path w="377" h="436">
                  <a:moveTo>
                    <a:pt x="0" y="0"/>
                  </a:moveTo>
                  <a:lnTo>
                    <a:pt x="2" y="436"/>
                  </a:lnTo>
                  <a:lnTo>
                    <a:pt x="377" y="43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6654600" y="2783160"/>
              <a:ext cx="505080" cy="244440"/>
            </a:xfrm>
            <a:custGeom>
              <a:avLst/>
              <a:gdLst/>
              <a:ahLst/>
              <a:rect l="l" t="t" r="r" b="b"/>
              <a:pathLst>
                <a:path w="318" h="154">
                  <a:moveTo>
                    <a:pt x="0" y="0"/>
                  </a:moveTo>
                  <a:lnTo>
                    <a:pt x="1" y="153"/>
                  </a:lnTo>
                  <a:lnTo>
                    <a:pt x="318" y="15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6599160" y="5815080"/>
              <a:ext cx="51120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5720" tIns="0" bIns="27360" anchor="t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1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6594480" y="5357880"/>
              <a:ext cx="51588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5720" tIns="0" bIns="27360" anchor="t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10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6599160" y="4900680"/>
              <a:ext cx="51120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5720" tIns="0" bIns="27360" anchor="t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6599160" y="4443480"/>
              <a:ext cx="51120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5720" tIns="0" bIns="27360" anchor="t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0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6594480" y="3986280"/>
              <a:ext cx="51588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5720" tIns="0" bIns="27360" anchor="t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0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6599160" y="3529080"/>
              <a:ext cx="51120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5720" tIns="0" bIns="27360" anchor="t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00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6351480" y="3116520"/>
              <a:ext cx="768600" cy="1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5720" tIns="0" bIns="27360" anchor="t" vert="eaVer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p = 0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7788240" y="3391200"/>
              <a:ext cx="846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M[dir] = RF[rn]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7788240" y="3848400"/>
              <a:ext cx="8240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M[rn] = RF[rm]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7788240" y="4305600"/>
              <a:ext cx="8240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F[rn]= imm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7788240" y="4762800"/>
              <a:ext cx="11890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F[rn] =RF[rn]+RF[rm]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7788240" y="5220000"/>
              <a:ext cx="11890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F[rn] = RF[rn]-RF[rm]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7788240" y="5677200"/>
              <a:ext cx="11890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C=(RF[rn]=0) ?rel :P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696080" y="3176640"/>
              <a:ext cx="18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7880400" y="3086280"/>
              <a:ext cx="7318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0" tIns="1836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to Fetc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7696080" y="3633840"/>
              <a:ext cx="18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7880400" y="3543480"/>
              <a:ext cx="7318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0" tIns="1836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to Fetc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7696080" y="4091040"/>
              <a:ext cx="18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7880400" y="4000680"/>
              <a:ext cx="7318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0" tIns="1836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to Fetc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7696080" y="4548240"/>
              <a:ext cx="18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880400" y="4457880"/>
              <a:ext cx="7318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0" tIns="1836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to Fetc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7696080" y="5005440"/>
              <a:ext cx="18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880400" y="4915080"/>
              <a:ext cx="7318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0" tIns="1836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to Fetc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7696080" y="5462640"/>
              <a:ext cx="18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880400" y="5372280"/>
              <a:ext cx="7318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0" tIns="1836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to Fetc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7696080" y="5919840"/>
              <a:ext cx="18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7880400" y="5829480"/>
              <a:ext cx="7318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0" tIns="1836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to Fetc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6568920" y="180828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7391520" y="1717920"/>
              <a:ext cx="36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C=0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6381720" y="2325960"/>
              <a:ext cx="369720" cy="169560"/>
            </a:xfrm>
            <a:custGeom>
              <a:avLst/>
              <a:gdLst/>
              <a:ahLst/>
              <a:rect l="l" t="t" r="r" b="b"/>
              <a:pathLst>
                <a:path w="233" h="107">
                  <a:moveTo>
                    <a:pt x="233" y="0"/>
                  </a:moveTo>
                  <a:lnTo>
                    <a:pt x="2" y="0"/>
                  </a:lnTo>
                  <a:lnTo>
                    <a:pt x="0" y="10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7311960" y="2387880"/>
              <a:ext cx="171360" cy="122040"/>
            </a:xfrm>
            <a:custGeom>
              <a:avLst/>
              <a:gdLst/>
              <a:ahLst/>
              <a:rect l="l" t="t" r="r" b="b"/>
              <a:pathLst>
                <a:path w="108" h="77">
                  <a:moveTo>
                    <a:pt x="108" y="77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7483320" y="2508480"/>
              <a:ext cx="73188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360" rIns="0" tIns="1836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from state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belo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6094440" y="1447920"/>
              <a:ext cx="27954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FSM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B0D78-E25B-44F1-8E25-9DF5A92ED73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rchitecture of a Simple Microprocess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37720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orage devices for each declared vari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ister file holds each of the 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al units to carry out the FSMD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ALU carries out every required ope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nections added among the components’ ports corresponding to the operations required by the FS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que identifiers created for every control 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0" name=""/>
          <p:cNvGrpSpPr/>
          <p:nvPr/>
        </p:nvGrpSpPr>
        <p:grpSpPr>
          <a:xfrm>
            <a:off x="4394160" y="1562040"/>
            <a:ext cx="4502160" cy="4168800"/>
            <a:chOff x="4394160" y="1562040"/>
            <a:chExt cx="4502160" cy="4168800"/>
          </a:xfrm>
        </p:grpSpPr>
        <p:sp>
          <p:nvSpPr>
            <p:cNvPr id="1311" name=""/>
            <p:cNvSpPr/>
            <p:nvPr/>
          </p:nvSpPr>
          <p:spPr>
            <a:xfrm>
              <a:off x="6829560" y="1722600"/>
              <a:ext cx="2003400" cy="2877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atapat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394160" y="1562040"/>
              <a:ext cx="4502160" cy="355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467240" y="1722600"/>
              <a:ext cx="2184480" cy="328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378400" y="3573360"/>
              <a:ext cx="728640" cy="51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923000" y="3573360"/>
              <a:ext cx="363240" cy="51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923000" y="2441520"/>
              <a:ext cx="1184040" cy="82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ontroll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(Next-state and contro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ogic; state register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V="1">
              <a:off x="5742000" y="3263760"/>
              <a:ext cx="0" cy="309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394160" y="5319720"/>
              <a:ext cx="4464000" cy="41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558200" y="2441520"/>
              <a:ext cx="1093680" cy="133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F (16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7012080" y="2338560"/>
              <a:ext cx="36504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Fw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7012080" y="2647800"/>
              <a:ext cx="36504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Fw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7012080" y="2852640"/>
              <a:ext cx="36504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Fr1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7012080" y="3160800"/>
              <a:ext cx="36504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Fr1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7012080" y="3367080"/>
              <a:ext cx="36504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Fr2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7012080" y="3675240"/>
              <a:ext cx="36504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Fr2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7192800" y="2544840"/>
              <a:ext cx="3654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192800" y="2647800"/>
              <a:ext cx="36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7192800" y="3059280"/>
              <a:ext cx="3654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7192800" y="3160800"/>
              <a:ext cx="36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7192800" y="3573360"/>
              <a:ext cx="3654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7192800" y="3675240"/>
              <a:ext cx="36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7648560" y="3573360"/>
              <a:ext cx="36504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Fr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8288280" y="3573360"/>
              <a:ext cx="36360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Fr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7832880" y="2441520"/>
              <a:ext cx="54432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F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8104320" y="2236680"/>
              <a:ext cx="0" cy="204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7832880" y="3778200"/>
              <a:ext cx="0" cy="204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8469360" y="3778200"/>
              <a:ext cx="0" cy="204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7558200" y="3983040"/>
              <a:ext cx="1093680" cy="30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L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7192800" y="4087800"/>
              <a:ext cx="3654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7012080" y="3879720"/>
              <a:ext cx="36504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LU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7558200" y="2031840"/>
              <a:ext cx="1093680" cy="204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x1 mu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8104320" y="1824120"/>
              <a:ext cx="637920" cy="2673360"/>
            </a:xfrm>
            <a:custGeom>
              <a:avLst/>
              <a:gdLst/>
              <a:ahLst/>
              <a:rect l="l" t="t" r="r" b="b"/>
              <a:pathLst>
                <a:path w="1008" h="3888">
                  <a:moveTo>
                    <a:pt x="0" y="3600"/>
                  </a:moveTo>
                  <a:lnTo>
                    <a:pt x="0" y="3888"/>
                  </a:lnTo>
                  <a:lnTo>
                    <a:pt x="1008" y="3888"/>
                  </a:lnTo>
                  <a:lnTo>
                    <a:pt x="1008" y="0"/>
                  </a:lnTo>
                  <a:lnTo>
                    <a:pt x="0" y="0"/>
                  </a:lnTo>
                  <a:lnTo>
                    <a:pt x="0" y="28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H="1">
              <a:off x="7284600" y="4189320"/>
              <a:ext cx="27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7012080" y="4189320"/>
              <a:ext cx="36504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LUz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7192800" y="2133720"/>
              <a:ext cx="3654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7012080" y="1927080"/>
              <a:ext cx="36504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F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 flipV="1">
              <a:off x="6014880" y="4087800"/>
              <a:ext cx="0" cy="1231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4740120" y="3879720"/>
              <a:ext cx="18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740120" y="3983040"/>
              <a:ext cx="18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4740120" y="3675240"/>
              <a:ext cx="18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4559400" y="3470400"/>
              <a:ext cx="36360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Cl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559400" y="3675240"/>
              <a:ext cx="36360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Cin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559400" y="3983040"/>
              <a:ext cx="36360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Ccl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 flipH="1">
              <a:off x="6106680" y="3675240"/>
              <a:ext cx="27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762520" y="4486320"/>
              <a:ext cx="2341800" cy="209520"/>
            </a:xfrm>
            <a:custGeom>
              <a:avLst/>
              <a:gdLst/>
              <a:ahLst/>
              <a:rect l="l" t="t" r="r" b="b"/>
              <a:pathLst>
                <a:path w="1475" h="132">
                  <a:moveTo>
                    <a:pt x="1475" y="7"/>
                  </a:moveTo>
                  <a:lnTo>
                    <a:pt x="0" y="0"/>
                  </a:lnTo>
                  <a:lnTo>
                    <a:pt x="6" y="13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468760" y="4087800"/>
              <a:ext cx="0" cy="615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4923000" y="4703760"/>
              <a:ext cx="1001520" cy="204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3x1 mu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103720" y="4087800"/>
              <a:ext cx="0" cy="615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648320" y="4807080"/>
              <a:ext cx="274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559400" y="4600440"/>
              <a:ext cx="36360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M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378400" y="4908600"/>
              <a:ext cx="0" cy="411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380280" y="4908600"/>
              <a:ext cx="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380280" y="4703760"/>
              <a:ext cx="36360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Mw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288120" y="4908600"/>
              <a:ext cx="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107040" y="4703760"/>
              <a:ext cx="36360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M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197760" y="1824120"/>
              <a:ext cx="3650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To all input control signal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6107040" y="2544840"/>
              <a:ext cx="3636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 flipH="1">
              <a:off x="6107040" y="2647800"/>
              <a:ext cx="3636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6197760" y="2751120"/>
              <a:ext cx="45396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From all output control signal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533840" y="1795320"/>
              <a:ext cx="996840" cy="27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ontrol uni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492880" y="3336840"/>
              <a:ext cx="24912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 flipV="1">
              <a:off x="5676840" y="3428640"/>
              <a:ext cx="152640" cy="666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330960" y="3460680"/>
              <a:ext cx="24912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rl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930920" y="4260960"/>
              <a:ext cx="15372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7655040" y="1793880"/>
              <a:ext cx="15372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673600" y="4260960"/>
              <a:ext cx="15408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340240" y="5343480"/>
              <a:ext cx="1638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7254720" y="5334120"/>
              <a:ext cx="1638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7286760" y="4486320"/>
              <a:ext cx="9360" cy="833400"/>
            </a:xfrm>
            <a:custGeom>
              <a:avLst/>
              <a:gdLst/>
              <a:ahLst/>
              <a:rect l="l" t="t" r="r" b="b"/>
              <a:pathLst>
                <a:path w="6" h="525">
                  <a:moveTo>
                    <a:pt x="6" y="0"/>
                  </a:moveTo>
                  <a:lnTo>
                    <a:pt x="0" y="52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229360" y="4076640"/>
              <a:ext cx="237960" cy="200160"/>
            </a:xfrm>
            <a:custGeom>
              <a:avLst/>
              <a:gdLst/>
              <a:ahLst/>
              <a:rect l="l" t="t" r="r" b="b"/>
              <a:pathLst>
                <a:path w="150" h="126">
                  <a:moveTo>
                    <a:pt x="150" y="126"/>
                  </a:moveTo>
                  <a:lnTo>
                    <a:pt x="0" y="126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000840" y="1628640"/>
              <a:ext cx="1866960" cy="3000600"/>
            </a:xfrm>
            <a:custGeom>
              <a:avLst/>
              <a:gdLst/>
              <a:ahLst/>
              <a:rect l="l" t="t" r="r" b="b"/>
              <a:pathLst>
                <a:path w="1176" h="1890">
                  <a:moveTo>
                    <a:pt x="0" y="1890"/>
                  </a:moveTo>
                  <a:lnTo>
                    <a:pt x="456" y="1890"/>
                  </a:lnTo>
                  <a:lnTo>
                    <a:pt x="462" y="0"/>
                  </a:lnTo>
                  <a:lnTo>
                    <a:pt x="1170" y="6"/>
                  </a:lnTo>
                  <a:lnTo>
                    <a:pt x="1176" y="24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273640" y="4260960"/>
              <a:ext cx="15408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8197920" y="1803240"/>
              <a:ext cx="15408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DD2D0-A37E-4B01-AE3C-DA7C65DE573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Simple Microprocess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2590920" y="5410080"/>
            <a:ext cx="22860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SM operations that replace the FSMD operations after a datapath is creat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276720" y="2735280"/>
            <a:ext cx="1554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Fwa=rn; RFwe=1;  RFs=01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s=01; Mre=1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276720" y="3105000"/>
            <a:ext cx="1554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Fr1a=rn; RFr1e=1;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s=01; Mwe=1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3276720" y="3498840"/>
            <a:ext cx="1554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Fr1a=rn; RFr1e=1;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s=10; Mwe=1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276720" y="3892680"/>
            <a:ext cx="1554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Fwa=rn; RFwe=1; RFs=10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276720" y="4262400"/>
            <a:ext cx="15541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Fwa=rn; RFwe=1; RFs=00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Fr1a=rn; RFr1e=1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Fr2a=rm; RFr2e=1; ALUs=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3276720" y="4646520"/>
            <a:ext cx="1554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Fwa=rn; RFwe=1; RFs=00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Fr1a=rn; RFr1e=1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Fr2a=rm; RFr2e=1; ALUs=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3276720" y="5024520"/>
            <a:ext cx="155412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Cld= ALUz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Frla=rn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Frle=1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276720" y="2068560"/>
            <a:ext cx="5014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S=10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rld=1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re=1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Cinc=1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3276720" y="1709640"/>
            <a:ext cx="501480" cy="1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Cclr=1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903240" y="1709640"/>
            <a:ext cx="547560" cy="231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s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903240" y="2068560"/>
            <a:ext cx="547560" cy="231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e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171360" y="2374920"/>
            <a:ext cx="731880" cy="23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e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1176480" y="1940040"/>
            <a:ext cx="2880" cy="128520"/>
          </a:xfrm>
          <a:custGeom>
            <a:avLst/>
            <a:gdLst/>
            <a:ahLst/>
            <a:rect l="l" t="t" r="r" b="b"/>
            <a:pathLst>
              <a:path w="2" h="96">
                <a:moveTo>
                  <a:pt x="0" y="0"/>
                </a:moveTo>
                <a:lnTo>
                  <a:pt x="2" y="9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1542960" y="2052720"/>
            <a:ext cx="54936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IR=M[PC]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C=PC+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1300320" y="2735280"/>
            <a:ext cx="547560" cy="231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v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1940040" y="2735280"/>
            <a:ext cx="8236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F[rn] = M[dir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1300320" y="3121200"/>
            <a:ext cx="547560" cy="231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v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1300320" y="3506760"/>
            <a:ext cx="547560" cy="231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v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1300320" y="3892680"/>
            <a:ext cx="547560" cy="231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v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1300320" y="4278240"/>
            <a:ext cx="547560" cy="231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d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1300320" y="4664160"/>
            <a:ext cx="547560" cy="230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u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1300320" y="5048280"/>
            <a:ext cx="547560" cy="231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J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257040" y="2608200"/>
            <a:ext cx="1054080" cy="2517840"/>
          </a:xfrm>
          <a:custGeom>
            <a:avLst/>
            <a:gdLst/>
            <a:ahLst/>
            <a:rect l="l" t="t" r="r" b="b"/>
            <a:pathLst>
              <a:path w="664" h="1881">
                <a:moveTo>
                  <a:pt x="0" y="0"/>
                </a:moveTo>
                <a:lnTo>
                  <a:pt x="1" y="1881"/>
                </a:lnTo>
                <a:lnTo>
                  <a:pt x="664" y="187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349200" y="2608200"/>
            <a:ext cx="946080" cy="2131920"/>
          </a:xfrm>
          <a:custGeom>
            <a:avLst/>
            <a:gdLst/>
            <a:ahLst/>
            <a:rect l="l" t="t" r="r" b="b"/>
            <a:pathLst>
              <a:path w="596" h="1593">
                <a:moveTo>
                  <a:pt x="1" y="0"/>
                </a:moveTo>
                <a:lnTo>
                  <a:pt x="0" y="1593"/>
                </a:lnTo>
                <a:lnTo>
                  <a:pt x="596" y="159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441360" y="2608200"/>
            <a:ext cx="844560" cy="1747800"/>
          </a:xfrm>
          <a:custGeom>
            <a:avLst/>
            <a:gdLst/>
            <a:ahLst/>
            <a:rect l="l" t="t" r="r" b="b"/>
            <a:pathLst>
              <a:path w="532" h="1306">
                <a:moveTo>
                  <a:pt x="7" y="0"/>
                </a:moveTo>
                <a:lnTo>
                  <a:pt x="0" y="1305"/>
                </a:lnTo>
                <a:lnTo>
                  <a:pt x="532" y="130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533520" y="2608200"/>
            <a:ext cx="777600" cy="1363680"/>
          </a:xfrm>
          <a:custGeom>
            <a:avLst/>
            <a:gdLst/>
            <a:ahLst/>
            <a:rect l="l" t="t" r="r" b="b"/>
            <a:pathLst>
              <a:path w="490" h="1019">
                <a:moveTo>
                  <a:pt x="2" y="0"/>
                </a:moveTo>
                <a:lnTo>
                  <a:pt x="0" y="1017"/>
                </a:lnTo>
                <a:lnTo>
                  <a:pt x="490" y="1019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620640" y="2608200"/>
            <a:ext cx="690480" cy="976320"/>
          </a:xfrm>
          <a:custGeom>
            <a:avLst/>
            <a:gdLst/>
            <a:ahLst/>
            <a:rect l="l" t="t" r="r" b="b"/>
            <a:pathLst>
              <a:path w="435" h="729">
                <a:moveTo>
                  <a:pt x="0" y="0"/>
                </a:moveTo>
                <a:lnTo>
                  <a:pt x="2" y="729"/>
                </a:lnTo>
                <a:lnTo>
                  <a:pt x="435" y="72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712800" y="2614680"/>
            <a:ext cx="598320" cy="584280"/>
          </a:xfrm>
          <a:custGeom>
            <a:avLst/>
            <a:gdLst/>
            <a:ahLst/>
            <a:rect l="l" t="t" r="r" b="b"/>
            <a:pathLst>
              <a:path w="377" h="436">
                <a:moveTo>
                  <a:pt x="0" y="0"/>
                </a:moveTo>
                <a:lnTo>
                  <a:pt x="2" y="436"/>
                </a:lnTo>
                <a:lnTo>
                  <a:pt x="377" y="43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806400" y="2608200"/>
            <a:ext cx="504720" cy="206280"/>
          </a:xfrm>
          <a:custGeom>
            <a:avLst/>
            <a:gdLst/>
            <a:ahLst/>
            <a:rect l="l" t="t" r="r" b="b"/>
            <a:pathLst>
              <a:path w="318" h="154">
                <a:moveTo>
                  <a:pt x="0" y="0"/>
                </a:moveTo>
                <a:lnTo>
                  <a:pt x="1" y="153"/>
                </a:lnTo>
                <a:lnTo>
                  <a:pt x="318" y="154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750960" y="5165640"/>
            <a:ext cx="51120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27360" anchor="t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1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746280" y="4780080"/>
            <a:ext cx="51588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27360" anchor="t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1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750960" y="4394160"/>
            <a:ext cx="51120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27360" anchor="t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1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750960" y="4008600"/>
            <a:ext cx="51120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27360" anchor="t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0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746280" y="3622680"/>
            <a:ext cx="515880" cy="1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27360" anchor="t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0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750960" y="3236760"/>
            <a:ext cx="51120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27360" anchor="t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0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503280" y="2889360"/>
            <a:ext cx="7682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5720" tIns="0" bIns="27360" anchor="t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op = 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1940040" y="3121200"/>
            <a:ext cx="84600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[dir] = RF[rn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1940040" y="3506760"/>
            <a:ext cx="8236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M[rn] = RF[rm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1940040" y="3892680"/>
            <a:ext cx="82368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F[rn]= im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1940040" y="4278240"/>
            <a:ext cx="11890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F[rn] =RF[rn]+RF[rm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1940040" y="4664160"/>
            <a:ext cx="1189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F[rn] = RF[rn]-RF[rm]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1940040" y="5048280"/>
            <a:ext cx="118908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C=(RF[rn]=0) ?rel :P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1847880" y="2940120"/>
            <a:ext cx="183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2031840" y="2863800"/>
            <a:ext cx="73188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0" tIns="18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to Fet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1847880" y="3325680"/>
            <a:ext cx="183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2031840" y="3249720"/>
            <a:ext cx="731880" cy="1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0" tIns="18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to Fet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1847880" y="3711600"/>
            <a:ext cx="183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031840" y="3635280"/>
            <a:ext cx="73188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0" tIns="18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to Fet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1847880" y="4097160"/>
            <a:ext cx="183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2031840" y="4021200"/>
            <a:ext cx="73188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0" tIns="18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to Fet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847880" y="4483080"/>
            <a:ext cx="183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2031840" y="4406760"/>
            <a:ext cx="73188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0" tIns="18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to Fet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1847880" y="4869000"/>
            <a:ext cx="183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031840" y="4791240"/>
            <a:ext cx="731880" cy="1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0" tIns="18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to Fet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847880" y="5253120"/>
            <a:ext cx="183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2031840" y="5176800"/>
            <a:ext cx="73188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0" tIns="18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to Fetch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720720" y="1785960"/>
            <a:ext cx="182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542960" y="1709640"/>
            <a:ext cx="36504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PC=0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533520" y="2222640"/>
            <a:ext cx="369720" cy="144360"/>
          </a:xfrm>
          <a:custGeom>
            <a:avLst/>
            <a:gdLst/>
            <a:ahLst/>
            <a:rect l="l" t="t" r="r" b="b"/>
            <a:pathLst>
              <a:path w="233" h="107">
                <a:moveTo>
                  <a:pt x="233" y="0"/>
                </a:moveTo>
                <a:lnTo>
                  <a:pt x="2" y="0"/>
                </a:lnTo>
                <a:lnTo>
                  <a:pt x="0" y="107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1463760" y="2274840"/>
            <a:ext cx="171360" cy="103320"/>
          </a:xfrm>
          <a:custGeom>
            <a:avLst/>
            <a:gdLst/>
            <a:ahLst/>
            <a:rect l="l" t="t" r="r" b="b"/>
            <a:pathLst>
              <a:path w="108" h="77">
                <a:moveTo>
                  <a:pt x="108" y="77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1635120" y="2376360"/>
            <a:ext cx="73188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0" tIns="1836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from states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below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152280" y="5486400"/>
            <a:ext cx="279576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FSM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3137040" y="1465200"/>
            <a:ext cx="0" cy="38559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9" name=""/>
          <p:cNvGrpSpPr/>
          <p:nvPr/>
        </p:nvGrpSpPr>
        <p:grpSpPr>
          <a:xfrm>
            <a:off x="4876920" y="1828800"/>
            <a:ext cx="4038480" cy="4168800"/>
            <a:chOff x="4876920" y="1828800"/>
            <a:chExt cx="4038480" cy="4168800"/>
          </a:xfrm>
        </p:grpSpPr>
        <p:sp>
          <p:nvSpPr>
            <p:cNvPr id="1450" name=""/>
            <p:cNvSpPr/>
            <p:nvPr/>
          </p:nvSpPr>
          <p:spPr>
            <a:xfrm>
              <a:off x="7061400" y="1989360"/>
              <a:ext cx="1796760" cy="2877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atapat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4876920" y="1828800"/>
              <a:ext cx="4038480" cy="3552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4942440" y="1989360"/>
              <a:ext cx="1959480" cy="3288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759640" y="3840120"/>
              <a:ext cx="653400" cy="51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351040" y="3840120"/>
              <a:ext cx="325800" cy="51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5351040" y="2708280"/>
              <a:ext cx="1062000" cy="82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ontroll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(Next-state and contro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ogic; state register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V="1">
              <a:off x="6085800" y="3530520"/>
              <a:ext cx="0" cy="3096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876920" y="5586480"/>
              <a:ext cx="4004280" cy="41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7714800" y="2708280"/>
              <a:ext cx="981000" cy="133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F (16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225200" y="2605320"/>
              <a:ext cx="32724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Fw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7225200" y="2914560"/>
              <a:ext cx="32724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Fw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7225200" y="3119400"/>
              <a:ext cx="32724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Fr1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7225200" y="3427560"/>
              <a:ext cx="32724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Fr1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7225200" y="3633840"/>
              <a:ext cx="32724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Fr2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7225200" y="3942000"/>
              <a:ext cx="32724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Fr2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7387200" y="2811600"/>
              <a:ext cx="3276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7387200" y="291456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7387200" y="3326040"/>
              <a:ext cx="3276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7387200" y="342756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7387200" y="3840120"/>
              <a:ext cx="3276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7387200" y="394200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7796160" y="3840120"/>
              <a:ext cx="32724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Fr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8370000" y="3840120"/>
              <a:ext cx="32580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Fr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7961400" y="2708280"/>
              <a:ext cx="48816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Fw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8204760" y="2503440"/>
              <a:ext cx="0" cy="204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7961400" y="4044960"/>
              <a:ext cx="0" cy="204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8532360" y="4044960"/>
              <a:ext cx="0" cy="2048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7714800" y="4249800"/>
              <a:ext cx="981000" cy="30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LU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7387200" y="4354560"/>
              <a:ext cx="3276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7225200" y="4146480"/>
              <a:ext cx="32724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LU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7714800" y="2298600"/>
              <a:ext cx="981000" cy="204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2x1 mu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8204760" y="2090880"/>
              <a:ext cx="572040" cy="2673360"/>
            </a:xfrm>
            <a:custGeom>
              <a:avLst/>
              <a:gdLst/>
              <a:ahLst/>
              <a:rect l="l" t="t" r="r" b="b"/>
              <a:pathLst>
                <a:path w="1008" h="3888">
                  <a:moveTo>
                    <a:pt x="0" y="3600"/>
                  </a:moveTo>
                  <a:lnTo>
                    <a:pt x="0" y="3888"/>
                  </a:lnTo>
                  <a:lnTo>
                    <a:pt x="1008" y="3888"/>
                  </a:lnTo>
                  <a:lnTo>
                    <a:pt x="1008" y="0"/>
                  </a:lnTo>
                  <a:lnTo>
                    <a:pt x="0" y="0"/>
                  </a:lnTo>
                  <a:lnTo>
                    <a:pt x="0" y="28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 flipH="1">
              <a:off x="7470000" y="4456080"/>
              <a:ext cx="24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7225200" y="4456080"/>
              <a:ext cx="32724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LUz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7387200" y="2400480"/>
              <a:ext cx="3276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7225200" y="2193840"/>
              <a:ext cx="32724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F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 flipV="1">
              <a:off x="6330600" y="4354560"/>
              <a:ext cx="0" cy="12319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5187240" y="4146480"/>
              <a:ext cx="16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5187240" y="4249800"/>
              <a:ext cx="16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5187240" y="3942000"/>
              <a:ext cx="16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5024880" y="3737160"/>
              <a:ext cx="32580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Cl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5024880" y="3942000"/>
              <a:ext cx="32580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Cin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5024880" y="4249800"/>
              <a:ext cx="32580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Ccl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 flipH="1">
              <a:off x="6413400" y="3942000"/>
              <a:ext cx="24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104160" y="4753080"/>
              <a:ext cx="2100600" cy="209520"/>
            </a:xfrm>
            <a:custGeom>
              <a:avLst/>
              <a:gdLst/>
              <a:ahLst/>
              <a:rect l="l" t="t" r="r" b="b"/>
              <a:pathLst>
                <a:path w="1475" h="132">
                  <a:moveTo>
                    <a:pt x="1475" y="7"/>
                  </a:moveTo>
                  <a:lnTo>
                    <a:pt x="0" y="0"/>
                  </a:lnTo>
                  <a:lnTo>
                    <a:pt x="6" y="13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5840640" y="4354560"/>
              <a:ext cx="0" cy="615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5351040" y="4970520"/>
              <a:ext cx="898200" cy="204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3x1 mu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5513400" y="4354560"/>
              <a:ext cx="0" cy="615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5104800" y="5073840"/>
              <a:ext cx="2462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024880" y="4867200"/>
              <a:ext cx="32580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M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5759640" y="5175360"/>
              <a:ext cx="0" cy="4111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658200" y="5175360"/>
              <a:ext cx="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658200" y="4970520"/>
              <a:ext cx="32580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Mw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575760" y="5175360"/>
              <a:ext cx="0" cy="41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413400" y="4970520"/>
              <a:ext cx="32580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Mr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494760" y="2090880"/>
              <a:ext cx="32724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To all input control signal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413400" y="2811600"/>
              <a:ext cx="3258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 flipH="1">
              <a:off x="6413040" y="2914560"/>
              <a:ext cx="3258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494760" y="3017880"/>
              <a:ext cx="407160" cy="71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From all output control signal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5002200" y="2062080"/>
              <a:ext cx="893880" cy="273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ontrol uni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5862240" y="3603600"/>
              <a:ext cx="22320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 flipV="1">
              <a:off x="6027480" y="3695400"/>
              <a:ext cx="136800" cy="666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613920" y="3727440"/>
              <a:ext cx="22320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rl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5358240" y="4527720"/>
              <a:ext cx="13788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801920" y="2060640"/>
              <a:ext cx="13788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024600" y="4527720"/>
              <a:ext cx="13788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5725440" y="5610240"/>
              <a:ext cx="14688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7442640" y="5600880"/>
              <a:ext cx="1468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7471440" y="4753080"/>
              <a:ext cx="8280" cy="833400"/>
            </a:xfrm>
            <a:custGeom>
              <a:avLst/>
              <a:gdLst/>
              <a:ahLst/>
              <a:rect l="l" t="t" r="r" b="b"/>
              <a:pathLst>
                <a:path w="6" h="525">
                  <a:moveTo>
                    <a:pt x="6" y="0"/>
                  </a:moveTo>
                  <a:lnTo>
                    <a:pt x="0" y="525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5626080" y="4343400"/>
              <a:ext cx="213120" cy="200160"/>
            </a:xfrm>
            <a:custGeom>
              <a:avLst/>
              <a:gdLst/>
              <a:ahLst/>
              <a:rect l="l" t="t" r="r" b="b"/>
              <a:pathLst>
                <a:path w="150" h="126">
                  <a:moveTo>
                    <a:pt x="150" y="126"/>
                  </a:moveTo>
                  <a:lnTo>
                    <a:pt x="0" y="126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318000" y="1895400"/>
              <a:ext cx="1674360" cy="3000600"/>
            </a:xfrm>
            <a:custGeom>
              <a:avLst/>
              <a:gdLst/>
              <a:ahLst/>
              <a:rect l="l" t="t" r="r" b="b"/>
              <a:pathLst>
                <a:path w="1176" h="1890">
                  <a:moveTo>
                    <a:pt x="0" y="1890"/>
                  </a:moveTo>
                  <a:lnTo>
                    <a:pt x="456" y="1890"/>
                  </a:lnTo>
                  <a:lnTo>
                    <a:pt x="462" y="0"/>
                  </a:lnTo>
                  <a:lnTo>
                    <a:pt x="1170" y="6"/>
                  </a:lnTo>
                  <a:lnTo>
                    <a:pt x="1176" y="246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5665680" y="4527720"/>
              <a:ext cx="13788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8288640" y="2070000"/>
              <a:ext cx="13788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23" name=""/>
          <p:cNvSpPr/>
          <p:nvPr/>
        </p:nvSpPr>
        <p:spPr>
          <a:xfrm flipH="1" flipV="1">
            <a:off x="3886200" y="1599840"/>
            <a:ext cx="1752480" cy="12193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 flipH="1">
            <a:off x="4647960" y="2819520"/>
            <a:ext cx="990360" cy="24382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228600" y="5791320"/>
            <a:ext cx="441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You just built a simple microprocessor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0AC6C-BA4E-447E-AA35-3D046A670C4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-purpose proces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od performance, low NRE, flex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er, datapath, and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d languages prev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some assembly level programming still necess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tools avail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ing instruction-set simulators, and in-circuit emul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crocontrollers, DSPs, network processors, more customized AS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ing among processors is an important st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ing a general-purpose processor is conceptually the same as designing a single-purpose 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EB79D-7C11-4D8F-B772-11792AE1AE5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rol Un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3962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 unit: configures the datapath oper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quence of desired operations (“instructions”) stored in memory – “program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truction cycle – broken into several sub-operations, each one clock cycle, e.g.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tch: Get next instruction into 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ode: Determine what the instruction mea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etch operands: Move data from memory to datapath regis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ecute: Move data through the AL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ore results: Write data from register to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4038480" y="1744560"/>
            <a:ext cx="4829040" cy="4351320"/>
            <a:chOff x="4038480" y="1744560"/>
            <a:chExt cx="4829040" cy="4351320"/>
          </a:xfrm>
        </p:grpSpPr>
        <p:sp>
          <p:nvSpPr>
            <p:cNvPr id="167" name=""/>
            <p:cNvSpPr/>
            <p:nvPr/>
          </p:nvSpPr>
          <p:spPr>
            <a:xfrm>
              <a:off x="4038480" y="1744560"/>
              <a:ext cx="4826160" cy="321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rocess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175280" y="2025720"/>
              <a:ext cx="2619360" cy="267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ntrol 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7347600" y="2025720"/>
              <a:ext cx="1378080" cy="2674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atapa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486560" y="2332080"/>
              <a:ext cx="1101600" cy="681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144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L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486560" y="3311640"/>
              <a:ext cx="1101600" cy="126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gist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830200" y="4213080"/>
              <a:ext cx="55116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589280" y="4213080"/>
              <a:ext cx="552240" cy="317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314240" y="2585880"/>
              <a:ext cx="2347560" cy="141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troll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6106320" y="3973320"/>
              <a:ext cx="0" cy="23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4866840" y="3973320"/>
              <a:ext cx="0" cy="23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041000" y="5299200"/>
              <a:ext cx="4826520" cy="79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             </a:t>
              </a: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8035560" y="3013200"/>
              <a:ext cx="2880" cy="28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802200" y="3182760"/>
              <a:ext cx="5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8035560" y="4700520"/>
              <a:ext cx="2880" cy="59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866840" y="4530600"/>
              <a:ext cx="2880" cy="76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6110640" y="4536720"/>
              <a:ext cx="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075440" y="3436920"/>
              <a:ext cx="27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075440" y="3436920"/>
              <a:ext cx="0" cy="160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868080" y="5045040"/>
              <a:ext cx="415080" cy="25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I/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799320" y="2674800"/>
              <a:ext cx="550800" cy="50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/Statu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6811200" y="3436920"/>
              <a:ext cx="263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rot="5400000">
              <a:off x="4583520" y="4346640"/>
              <a:ext cx="114480" cy="107640"/>
            </a:xfrm>
            <a:prstGeom prst="triangle">
              <a:avLst>
                <a:gd name="adj" fmla="val 50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5400000">
              <a:off x="5826240" y="4359240"/>
              <a:ext cx="114480" cy="107640"/>
            </a:xfrm>
            <a:prstGeom prst="triangle">
              <a:avLst>
                <a:gd name="adj" fmla="val 50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622280" y="3657600"/>
              <a:ext cx="358200" cy="2286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2280" y="4038480"/>
              <a:ext cx="358200" cy="2286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124120" y="3657600"/>
              <a:ext cx="358200" cy="2286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124120" y="4038480"/>
              <a:ext cx="358200" cy="2286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rot="5400000">
              <a:off x="7618680" y="3737160"/>
              <a:ext cx="114120" cy="107640"/>
            </a:xfrm>
            <a:prstGeom prst="triangle">
              <a:avLst>
                <a:gd name="adj" fmla="val 50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5400000">
              <a:off x="7618320" y="4118040"/>
              <a:ext cx="114480" cy="107640"/>
            </a:xfrm>
            <a:prstGeom prst="triangle">
              <a:avLst>
                <a:gd name="adj" fmla="val 50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5400000">
              <a:off x="8120520" y="3737160"/>
              <a:ext cx="114120" cy="107280"/>
            </a:xfrm>
            <a:prstGeom prst="triangle">
              <a:avLst>
                <a:gd name="adj" fmla="val 50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5400000">
              <a:off x="8120520" y="4118400"/>
              <a:ext cx="114480" cy="107280"/>
            </a:xfrm>
            <a:prstGeom prst="triangle">
              <a:avLst>
                <a:gd name="adj" fmla="val 50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50280" y="5410080"/>
              <a:ext cx="358560" cy="2286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550280" y="5638680"/>
              <a:ext cx="358560" cy="2286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23000" y="510552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23000" y="5638680"/>
              <a:ext cx="2293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..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85080" y="5334120"/>
              <a:ext cx="1074960" cy="2286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oad R0, M[500]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192080" y="5410080"/>
              <a:ext cx="358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5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192080" y="5638680"/>
              <a:ext cx="358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5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826520" y="5334120"/>
              <a:ext cx="358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185080" y="5562720"/>
              <a:ext cx="1074960" cy="2286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c R1, R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826520" y="5562720"/>
              <a:ext cx="358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185080" y="5791320"/>
              <a:ext cx="1074960" cy="2286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ore M[501], R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826520" y="5791320"/>
              <a:ext cx="358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1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07000" y="4267080"/>
              <a:ext cx="358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980480" y="4267080"/>
              <a:ext cx="358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1CCAB-6CE0-4950-8215-2F6E0D1EBD1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rol Unit Sub-Oper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37960" y="1523520"/>
            <a:ext cx="33926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t next instruction into 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: program counter, always points to next 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R: holds the fetched i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744560"/>
            <a:ext cx="5130720" cy="32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79720" y="2025720"/>
            <a:ext cx="2784600" cy="267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trol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251840" y="2025720"/>
            <a:ext cx="1465200" cy="267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99440" y="2332080"/>
            <a:ext cx="1171440" cy="68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99440" y="3311640"/>
            <a:ext cx="1171440" cy="12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638680" y="4213080"/>
            <a:ext cx="99072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319640" y="4213080"/>
            <a:ext cx="78588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027320" y="2585880"/>
            <a:ext cx="2495880" cy="14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5932440" y="3973320"/>
            <a:ext cx="0" cy="23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614840" y="3973320"/>
            <a:ext cx="0" cy="239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36800" y="5299200"/>
            <a:ext cx="5131080" cy="79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7983000" y="3013200"/>
            <a:ext cx="3240" cy="285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672240" y="3182760"/>
            <a:ext cx="582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983360" y="4700520"/>
            <a:ext cx="3240" cy="598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14840" y="4530600"/>
            <a:ext cx="3240" cy="76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V="1">
            <a:off x="5937120" y="45367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962760" y="343692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962760" y="3436920"/>
            <a:ext cx="0" cy="16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42080" y="5045040"/>
            <a:ext cx="4413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669000" y="2674800"/>
            <a:ext cx="585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6681960" y="3436920"/>
            <a:ext cx="280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43800" y="3657600"/>
            <a:ext cx="380880" cy="2286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543800" y="4038480"/>
            <a:ext cx="380880" cy="2286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077320" y="3657600"/>
            <a:ext cx="380880" cy="2286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077320" y="4038480"/>
            <a:ext cx="380880" cy="2286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9" name=""/>
          <p:cNvGrpSpPr/>
          <p:nvPr/>
        </p:nvGrpSpPr>
        <p:grpSpPr>
          <a:xfrm>
            <a:off x="4317840" y="3733920"/>
            <a:ext cx="3873240" cy="736560"/>
            <a:chOff x="4317840" y="3733920"/>
            <a:chExt cx="3873240" cy="736560"/>
          </a:xfrm>
        </p:grpSpPr>
        <p:sp>
          <p:nvSpPr>
            <p:cNvPr id="240" name=""/>
            <p:cNvSpPr/>
            <p:nvPr/>
          </p:nvSpPr>
          <p:spPr>
            <a:xfrm rot="5400000">
              <a:off x="4317840" y="4343400"/>
              <a:ext cx="114480" cy="114480"/>
            </a:xfrm>
            <a:prstGeom prst="triangle">
              <a:avLst>
                <a:gd name="adj" fmla="val 50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5400000">
              <a:off x="5638680" y="4356000"/>
              <a:ext cx="114480" cy="114480"/>
            </a:xfrm>
            <a:prstGeom prst="triangle">
              <a:avLst>
                <a:gd name="adj" fmla="val 50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5400000">
              <a:off x="7543800" y="3733560"/>
              <a:ext cx="114120" cy="114480"/>
            </a:xfrm>
            <a:prstGeom prst="triangle">
              <a:avLst>
                <a:gd name="adj" fmla="val 50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5400000">
              <a:off x="7543800" y="4114800"/>
              <a:ext cx="114480" cy="114480"/>
            </a:xfrm>
            <a:prstGeom prst="triangle">
              <a:avLst>
                <a:gd name="adj" fmla="val 50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5400000">
              <a:off x="8076960" y="3733920"/>
              <a:ext cx="114120" cy="114120"/>
            </a:xfrm>
            <a:prstGeom prst="triangle">
              <a:avLst>
                <a:gd name="adj" fmla="val 50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5400000">
              <a:off x="8076600" y="4114800"/>
              <a:ext cx="114480" cy="114120"/>
            </a:xfrm>
            <a:prstGeom prst="triangle">
              <a:avLst>
                <a:gd name="adj" fmla="val 50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7467480" y="5410080"/>
            <a:ext cx="381240" cy="2286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467480" y="5638680"/>
            <a:ext cx="381240" cy="2286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543440" y="5105520"/>
            <a:ext cx="229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543440" y="5638680"/>
            <a:ext cx="229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952880" y="5334120"/>
            <a:ext cx="1143000" cy="2286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R0, M[50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086600" y="541008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086600" y="563868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5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0" y="533412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952880" y="5562720"/>
            <a:ext cx="1143000" cy="2286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 R1, R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0" y="556272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952880" y="5791320"/>
            <a:ext cx="1143000" cy="2286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e M[501], R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579132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15200" y="426708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924680" y="4267080"/>
            <a:ext cx="38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724280" y="4267080"/>
            <a:ext cx="38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562720" y="4343400"/>
            <a:ext cx="1143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R0, M[50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952880" y="4419720"/>
            <a:ext cx="1295640" cy="1066680"/>
          </a:xfrm>
          <a:custGeom>
            <a:avLst/>
            <a:gdLst>
              <a:gd name="textAreaLeft" fmla="*/ 280800 w 1295640"/>
              <a:gd name="textAreaRight" fmla="*/ 885240 w 1295640"/>
              <a:gd name="textAreaTop" fmla="*/ 142920 h 1066680"/>
              <a:gd name="textAreaBottom" fmla="*/ 92376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366" hR="21600" stAng="10800000" swAng="-5400000"/>
                <a:lnTo>
                  <a:pt x="10075" y="21600"/>
                </a:lnTo>
                <a:arcTo wR="9366" hR="21600" stAng="5400000" swAng="-3871128"/>
                <a:lnTo>
                  <a:pt x="21406" y="4371"/>
                </a:lnTo>
                <a:lnTo>
                  <a:pt x="19086" y="0"/>
                </a:lnTo>
                <a:lnTo>
                  <a:pt x="16377" y="4371"/>
                </a:lnTo>
                <a:lnTo>
                  <a:pt x="18537" y="4371"/>
                </a:lnTo>
                <a:arcTo wR="9366" hR="21600" stAng="1528872" swAng="3814672"/>
                <a:lnTo>
                  <a:pt x="9720" y="21585"/>
                </a:lnTo>
                <a:arcTo wR="9366" hR="21600" stAng="5456456" swAng="5343544"/>
                <a:close/>
              </a:path>
              <a:path fill="darkenLess" w="21600" h="21600">
                <a:moveTo>
                  <a:pt x="0" y="0"/>
                </a:moveTo>
                <a:arcTo wR="9366" hR="21600" stAng="10800000" swAng="-5400000"/>
                <a:lnTo>
                  <a:pt x="10075" y="21600"/>
                </a:lnTo>
                <a:arcTo wR="9366" hR="21600" stAng="5400000" swAng="56456"/>
                <a:lnTo>
                  <a:pt x="9720" y="21585"/>
                </a:lnTo>
                <a:arcTo wR="9366" hR="21600" stAng="5456456" swAng="5343544"/>
                <a:close/>
              </a:path>
            </a:pathLst>
          </a:cu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96754-5D2D-43B6-BEA5-38C5A610F75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rol Unit Sub-Oper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37960" y="1523520"/>
            <a:ext cx="33926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o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e what the instruction me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733920" y="1744560"/>
            <a:ext cx="5130720" cy="32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879720" y="2025720"/>
            <a:ext cx="2784600" cy="267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trol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51840" y="2025720"/>
            <a:ext cx="1465200" cy="267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399440" y="2332080"/>
            <a:ext cx="1171440" cy="68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399440" y="3311640"/>
            <a:ext cx="1171440" cy="12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38680" y="4213080"/>
            <a:ext cx="99072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319640" y="4213080"/>
            <a:ext cx="78588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027320" y="2585880"/>
            <a:ext cx="2495880" cy="14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5932440" y="3973320"/>
            <a:ext cx="0" cy="23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>
            <a:off x="4614840" y="3973320"/>
            <a:ext cx="0" cy="239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736800" y="5299200"/>
            <a:ext cx="5131080" cy="79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7983000" y="3013200"/>
            <a:ext cx="3240" cy="285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672240" y="3182760"/>
            <a:ext cx="582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983360" y="4700520"/>
            <a:ext cx="3240" cy="598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614840" y="4530600"/>
            <a:ext cx="3240" cy="76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5937120" y="45367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962760" y="343692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962760" y="3436920"/>
            <a:ext cx="0" cy="16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742080" y="5045040"/>
            <a:ext cx="4413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669000" y="2674800"/>
            <a:ext cx="585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6681960" y="3436920"/>
            <a:ext cx="280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4317840" y="4343400"/>
            <a:ext cx="114480" cy="114480"/>
          </a:xfrm>
          <a:prstGeom prst="triangle">
            <a:avLst>
              <a:gd name="adj" fmla="val 50000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5400000">
            <a:off x="5638680" y="4356000"/>
            <a:ext cx="114480" cy="114480"/>
          </a:xfrm>
          <a:prstGeom prst="triangle">
            <a:avLst>
              <a:gd name="adj" fmla="val 50000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543800" y="3657600"/>
            <a:ext cx="380880" cy="2286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543800" y="4038480"/>
            <a:ext cx="380880" cy="2286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077320" y="3657600"/>
            <a:ext cx="380880" cy="2286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8077320" y="4038480"/>
            <a:ext cx="380880" cy="2286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5400000">
            <a:off x="7543800" y="3733560"/>
            <a:ext cx="114120" cy="114480"/>
          </a:xfrm>
          <a:prstGeom prst="triangle">
            <a:avLst>
              <a:gd name="adj" fmla="val 50000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rot="5400000">
            <a:off x="7543800" y="4114800"/>
            <a:ext cx="114480" cy="114480"/>
          </a:xfrm>
          <a:prstGeom prst="triangle">
            <a:avLst>
              <a:gd name="adj" fmla="val 50000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5400000">
            <a:off x="8076960" y="3733920"/>
            <a:ext cx="114120" cy="114120"/>
          </a:xfrm>
          <a:prstGeom prst="triangle">
            <a:avLst>
              <a:gd name="adj" fmla="val 50000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5400000">
            <a:off x="8076600" y="4114800"/>
            <a:ext cx="114480" cy="114120"/>
          </a:xfrm>
          <a:prstGeom prst="triangle">
            <a:avLst>
              <a:gd name="adj" fmla="val 50000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467480" y="5410080"/>
            <a:ext cx="381240" cy="2286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467480" y="5638680"/>
            <a:ext cx="381240" cy="2286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543440" y="5105520"/>
            <a:ext cx="229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543440" y="5638680"/>
            <a:ext cx="229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952880" y="5334120"/>
            <a:ext cx="1143000" cy="2286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R0, M[50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086600" y="541008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86600" y="563868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5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0" y="533412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5562720"/>
            <a:ext cx="1143000" cy="2286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 R1, R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72000" y="556272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5791320"/>
            <a:ext cx="1143000" cy="2286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e M[501], R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72000" y="579132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15200" y="426708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924680" y="4267080"/>
            <a:ext cx="38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724280" y="4267080"/>
            <a:ext cx="38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562720" y="4343400"/>
            <a:ext cx="1143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R0, M[50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19920" y="3505320"/>
            <a:ext cx="152280" cy="761760"/>
          </a:xfrm>
          <a:prstGeom prst="upArrow">
            <a:avLst>
              <a:gd name="adj1" fmla="val 50000"/>
              <a:gd name="adj2" fmla="val 125059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DC196-C308-4B5E-81D5-38D3A36CD2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rol Unit Sub-Oper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37960" y="1523520"/>
            <a:ext cx="33926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tch oper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 data from memory to datapath regis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733920" y="1744560"/>
            <a:ext cx="5130720" cy="32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79720" y="2025720"/>
            <a:ext cx="2784600" cy="267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trol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251840" y="2025720"/>
            <a:ext cx="1465200" cy="267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399440" y="2332080"/>
            <a:ext cx="1171440" cy="68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399440" y="3311640"/>
            <a:ext cx="1171440" cy="12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638680" y="4213080"/>
            <a:ext cx="99072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319640" y="4213080"/>
            <a:ext cx="78588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027320" y="2585880"/>
            <a:ext cx="2495880" cy="14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5932440" y="3973320"/>
            <a:ext cx="0" cy="23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4614840" y="3973320"/>
            <a:ext cx="0" cy="239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736800" y="5299200"/>
            <a:ext cx="5131080" cy="79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7983000" y="3013200"/>
            <a:ext cx="3240" cy="285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672240" y="3182760"/>
            <a:ext cx="582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983360" y="4700520"/>
            <a:ext cx="3240" cy="598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614840" y="4530600"/>
            <a:ext cx="3240" cy="76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5937120" y="45367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962760" y="343692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962760" y="3436920"/>
            <a:ext cx="0" cy="16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742080" y="5045040"/>
            <a:ext cx="4413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669000" y="2674800"/>
            <a:ext cx="585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6681960" y="3436920"/>
            <a:ext cx="280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rot="5400000">
            <a:off x="4317840" y="4343400"/>
            <a:ext cx="114480" cy="114480"/>
          </a:xfrm>
          <a:prstGeom prst="triangle">
            <a:avLst>
              <a:gd name="adj" fmla="val 50000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rot="5400000">
            <a:off x="5638680" y="4356000"/>
            <a:ext cx="114480" cy="114480"/>
          </a:xfrm>
          <a:prstGeom prst="triangle">
            <a:avLst>
              <a:gd name="adj" fmla="val 50000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543800" y="3657600"/>
            <a:ext cx="380880" cy="2286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543800" y="4038480"/>
            <a:ext cx="380880" cy="2286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077320" y="3657600"/>
            <a:ext cx="380880" cy="2286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8077320" y="4038480"/>
            <a:ext cx="380880" cy="2286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rot="5400000">
            <a:off x="7543800" y="3733560"/>
            <a:ext cx="114120" cy="114480"/>
          </a:xfrm>
          <a:prstGeom prst="triangle">
            <a:avLst>
              <a:gd name="adj" fmla="val 50000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rot="5400000">
            <a:off x="7543800" y="4114800"/>
            <a:ext cx="114480" cy="114480"/>
          </a:xfrm>
          <a:prstGeom prst="triangle">
            <a:avLst>
              <a:gd name="adj" fmla="val 50000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rot="5400000">
            <a:off x="8076960" y="3733920"/>
            <a:ext cx="114120" cy="114120"/>
          </a:xfrm>
          <a:prstGeom prst="triangle">
            <a:avLst>
              <a:gd name="adj" fmla="val 50000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rot="5400000">
            <a:off x="8076600" y="4114800"/>
            <a:ext cx="114480" cy="114120"/>
          </a:xfrm>
          <a:prstGeom prst="triangle">
            <a:avLst>
              <a:gd name="adj" fmla="val 50000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467480" y="5410080"/>
            <a:ext cx="381240" cy="2286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467480" y="5638680"/>
            <a:ext cx="381240" cy="2286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543440" y="5105520"/>
            <a:ext cx="229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543440" y="5638680"/>
            <a:ext cx="229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952880" y="5334120"/>
            <a:ext cx="1143000" cy="2286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R0, M[50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086600" y="541008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086600" y="563868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5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572000" y="533412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952880" y="5562720"/>
            <a:ext cx="1143000" cy="2286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 R1, R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0" y="556272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4952880" y="5791320"/>
            <a:ext cx="1143000" cy="2286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e M[501], R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0" y="579132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315200" y="426708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924680" y="4267080"/>
            <a:ext cx="38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4267080"/>
            <a:ext cx="38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2720" y="4343400"/>
            <a:ext cx="1143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R0, M[50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543800" y="403848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rot="243000">
            <a:off x="7621200" y="4187880"/>
            <a:ext cx="149400" cy="1222200"/>
          </a:xfrm>
          <a:prstGeom prst="upArrow">
            <a:avLst>
              <a:gd name="adj1" fmla="val 50000"/>
              <a:gd name="adj2" fmla="val 204518"/>
            </a:avLst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950AE-E6D1-42C1-9BC7-5E149D3F691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rol Unit Sub-Oper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37960" y="1523520"/>
            <a:ext cx="339264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ve data through the AL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articular instruction does nothing during this sub-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733920" y="1744560"/>
            <a:ext cx="5130720" cy="32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879720" y="2025720"/>
            <a:ext cx="2784600" cy="267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trol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251840" y="2025720"/>
            <a:ext cx="1465200" cy="267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ata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399440" y="2332080"/>
            <a:ext cx="1171440" cy="68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144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399440" y="3311640"/>
            <a:ext cx="1171440" cy="1269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s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638680" y="4213080"/>
            <a:ext cx="99072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4319640" y="4213080"/>
            <a:ext cx="785880" cy="317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027320" y="2585880"/>
            <a:ext cx="2495880" cy="141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5932440" y="3973320"/>
            <a:ext cx="0" cy="23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 flipV="1">
            <a:off x="4614840" y="3973320"/>
            <a:ext cx="0" cy="239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sm"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736800" y="5299200"/>
            <a:ext cx="5131080" cy="79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H="1">
            <a:off x="7983000" y="3013200"/>
            <a:ext cx="3240" cy="285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672240" y="3182760"/>
            <a:ext cx="582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983360" y="4700520"/>
            <a:ext cx="3240" cy="598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614840" y="4530600"/>
            <a:ext cx="3240" cy="76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5937120" y="45367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6962760" y="3436920"/>
            <a:ext cx="29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6962760" y="3436920"/>
            <a:ext cx="0" cy="16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742080" y="5045040"/>
            <a:ext cx="44136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669000" y="2674800"/>
            <a:ext cx="585720" cy="5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/Stat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6681960" y="3436920"/>
            <a:ext cx="280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 rot="5400000">
            <a:off x="4317840" y="4343400"/>
            <a:ext cx="114480" cy="114480"/>
          </a:xfrm>
          <a:prstGeom prst="triangle">
            <a:avLst>
              <a:gd name="adj" fmla="val 50000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 rot="5400000">
            <a:off x="5638680" y="4356000"/>
            <a:ext cx="114480" cy="114480"/>
          </a:xfrm>
          <a:prstGeom prst="triangle">
            <a:avLst>
              <a:gd name="adj" fmla="val 50000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543800" y="3657600"/>
            <a:ext cx="380880" cy="2286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543800" y="4038480"/>
            <a:ext cx="380880" cy="2286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077320" y="3657600"/>
            <a:ext cx="380880" cy="2286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077320" y="4038480"/>
            <a:ext cx="380880" cy="2286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rot="5400000">
            <a:off x="7543800" y="3733560"/>
            <a:ext cx="114120" cy="114480"/>
          </a:xfrm>
          <a:prstGeom prst="triangle">
            <a:avLst>
              <a:gd name="adj" fmla="val 50000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5400000">
            <a:off x="7543800" y="4114800"/>
            <a:ext cx="114480" cy="114480"/>
          </a:xfrm>
          <a:prstGeom prst="triangle">
            <a:avLst>
              <a:gd name="adj" fmla="val 50000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 rot="5400000">
            <a:off x="8076960" y="3733920"/>
            <a:ext cx="114120" cy="114120"/>
          </a:xfrm>
          <a:prstGeom prst="triangle">
            <a:avLst>
              <a:gd name="adj" fmla="val 50000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rot="5400000">
            <a:off x="8076600" y="4114800"/>
            <a:ext cx="114480" cy="114120"/>
          </a:xfrm>
          <a:prstGeom prst="triangle">
            <a:avLst>
              <a:gd name="adj" fmla="val 50000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467480" y="5410080"/>
            <a:ext cx="381240" cy="2286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467480" y="5638680"/>
            <a:ext cx="381240" cy="2286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543440" y="5105520"/>
            <a:ext cx="229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543440" y="5638680"/>
            <a:ext cx="229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952880" y="5334120"/>
            <a:ext cx="1143000" cy="2286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R0, M[50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7086600" y="541008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086600" y="563868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5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572000" y="533412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52880" y="5562720"/>
            <a:ext cx="1143000" cy="2286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 R1, R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556272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952880" y="5791320"/>
            <a:ext cx="1143000" cy="2286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re M[501], R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572000" y="579132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315200" y="426708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924680" y="4267080"/>
            <a:ext cx="38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R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724280" y="4267080"/>
            <a:ext cx="3812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4343400"/>
            <a:ext cx="1143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R0, M[500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543800" y="4038480"/>
            <a:ext cx="380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77755-A164-4A05-9314-1CAE7996DEB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7T14:38:47Z</dcterms:created>
  <dc:creator>vahid</dc:creator>
  <dc:description/>
  <dc:language>en-US</dc:language>
  <cp:lastModifiedBy>Frank Vahid</cp:lastModifiedBy>
  <dcterms:modified xsi:type="dcterms:W3CDTF">2002-10-28T20:32:51Z</dcterms:modified>
  <cp:revision>263</cp:revision>
  <dc:subject/>
  <dc:title>A “short list” of embedded systems</dc:title>
</cp:coreProperties>
</file>