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3D5C6-11F4-46C9-83B3-6243672409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417F-B62E-479A-86C6-FFC95DFEC7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743E-F2AD-4D95-BD09-7EC5CE7C7C0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6EF7-ABF0-4A95-8B76-68F3B0EB26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7282E1-CDE4-49C5-B2C6-25E349442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EBE49B-6927-4FAC-8CEB-A7A152A4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AD66FE-9D22-4E2A-AFF3-8170D6E09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670215-10D1-4993-AF5C-72D56B79F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0D9E44-31FF-4D0C-8B58-744E153AC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D80943-5A0A-41A3-B608-543F5ED7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A20B52-0FCA-4895-AFCD-202EFD210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3FFC3-B34A-4751-9BE5-03E96E50E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853BC-B457-4984-B16E-B80904B0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544360-B3A9-47A2-8DB1-E2805AA3F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13206-36E8-46EA-A383-93A42D16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E66339-13C3-4A72-8832-96BC8676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E9C831-F1CB-4194-84E9-608880041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88E7B-C4AC-4C14-BDAF-4FC1CC0DE1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F4E45-9C54-486D-A58D-CA7C641FFC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CA298-E08E-48BA-A899-CB6B2BBCBA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C0376-54D7-4227-8F44-AF36726752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65BAC-8E2A-4425-90B4-D7939F8D2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213EFC-B4AD-4F66-98BB-D5401B8906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091D8-7C73-41C1-BAC0-CA2EAE63E2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1AFD5-750A-485C-8DFA-CFCFF5683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BA4F0-7178-41C2-98EC-EA3177B492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6 Interfac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BB8FDE-CA36-40B1-BD79-972099CDE8E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A bus protocol – memory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4511520" y="1500120"/>
            <a:ext cx="4407120" cy="663480"/>
            <a:chOff x="4511520" y="1500120"/>
            <a:chExt cx="4407120" cy="663480"/>
          </a:xfrm>
        </p:grpSpPr>
        <p:sp>
          <p:nvSpPr>
            <p:cNvPr id="393" name=""/>
            <p:cNvSpPr/>
            <p:nvPr/>
          </p:nvSpPr>
          <p:spPr>
            <a:xfrm>
              <a:off x="4511520" y="1500120"/>
              <a:ext cx="4407120" cy="66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576320" y="1557000"/>
              <a:ext cx="101844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cro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159240" y="1576080"/>
              <a:ext cx="10184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13640" y="1576080"/>
              <a:ext cx="10184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/O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064840" y="2018520"/>
              <a:ext cx="3104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5064480" y="1782360"/>
              <a:ext cx="6120" cy="23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390280" y="1831680"/>
              <a:ext cx="932400" cy="11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A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649920" y="1782360"/>
              <a:ext cx="6120" cy="23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 flipV="1">
              <a:off x="8157240" y="1782360"/>
              <a:ext cx="6120" cy="23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4535640" y="2449440"/>
            <a:ext cx="4378320" cy="1687680"/>
            <a:chOff x="4535640" y="2449440"/>
            <a:chExt cx="4378320" cy="1687680"/>
          </a:xfrm>
        </p:grpSpPr>
        <p:sp>
          <p:nvSpPr>
            <p:cNvPr id="403" name=""/>
            <p:cNvSpPr/>
            <p:nvPr/>
          </p:nvSpPr>
          <p:spPr>
            <a:xfrm>
              <a:off x="5212800" y="3214800"/>
              <a:ext cx="3414600" cy="15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57520" y="2463120"/>
              <a:ext cx="1800" cy="1674000"/>
            </a:xfrm>
            <a:custGeom>
              <a:avLst/>
              <a:gdLst/>
              <a:ahLst/>
              <a:rect l="l" t="t" r="r" b="b"/>
              <a:pathLst>
                <a:path w="3" h="2490">
                  <a:moveTo>
                    <a:pt x="0" y="0"/>
                  </a:moveTo>
                  <a:lnTo>
                    <a:pt x="3" y="249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535640" y="2449440"/>
              <a:ext cx="4378320" cy="168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588920" y="2525760"/>
              <a:ext cx="388800" cy="15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Y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[7-0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[19-0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/MEM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R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5790600" y="2463120"/>
              <a:ext cx="360" cy="1674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42280" y="2463120"/>
              <a:ext cx="0" cy="16740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58360" y="2485800"/>
              <a:ext cx="3520800" cy="19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1                    C2                    WAIT              C3                    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25600" y="2463120"/>
              <a:ext cx="1800" cy="1674000"/>
            </a:xfrm>
            <a:custGeom>
              <a:avLst/>
              <a:gdLst/>
              <a:ahLst/>
              <a:rect l="l" t="t" r="r" b="b"/>
              <a:pathLst>
                <a:path w="3" h="2540">
                  <a:moveTo>
                    <a:pt x="0" y="0"/>
                  </a:moveTo>
                  <a:lnTo>
                    <a:pt x="3" y="254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30640" y="3293280"/>
              <a:ext cx="1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625600" y="3290760"/>
              <a:ext cx="285480" cy="2160"/>
            </a:xfrm>
            <a:custGeom>
              <a:avLst/>
              <a:gdLst/>
              <a:ahLst/>
              <a:rect l="l" t="t" r="r" b="b"/>
              <a:pathLst>
                <a:path w="463" h="4">
                  <a:moveTo>
                    <a:pt x="0" y="4"/>
                  </a:moveTo>
                  <a:lnTo>
                    <a:pt x="46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043240" y="3055680"/>
              <a:ext cx="2824920" cy="1080"/>
            </a:xfrm>
            <a:custGeom>
              <a:avLst/>
              <a:gdLst/>
              <a:ahLst/>
              <a:rect l="l" t="t" r="r" b="b"/>
              <a:pathLst>
                <a:path w="4575" h="2">
                  <a:moveTo>
                    <a:pt x="0" y="0"/>
                  </a:moveTo>
                  <a:lnTo>
                    <a:pt x="4575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329320" y="3056760"/>
              <a:ext cx="576000" cy="360"/>
            </a:xfrm>
            <a:custGeom>
              <a:avLst/>
              <a:gdLst/>
              <a:ahLst/>
              <a:rect l="l" t="t" r="r" b="b"/>
              <a:pathLst>
                <a:path w="933" h="1">
                  <a:moveTo>
                    <a:pt x="0" y="0"/>
                  </a:moveTo>
                  <a:lnTo>
                    <a:pt x="9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304400" y="2463120"/>
              <a:ext cx="1800" cy="1674000"/>
            </a:xfrm>
            <a:custGeom>
              <a:avLst/>
              <a:gdLst/>
              <a:ahLst/>
              <a:rect l="l" t="t" r="r" b="b"/>
              <a:pathLst>
                <a:path w="3" h="2470">
                  <a:moveTo>
                    <a:pt x="0" y="0"/>
                  </a:moveTo>
                  <a:lnTo>
                    <a:pt x="3" y="2470"/>
                  </a:lnTo>
                </a:path>
              </a:pathLst>
            </a:custGeom>
            <a:noFill/>
            <a:ln cap="rnd" w="93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040000" y="2734920"/>
              <a:ext cx="3871440" cy="164160"/>
            </a:xfrm>
            <a:custGeom>
              <a:avLst/>
              <a:gdLst/>
              <a:ahLst/>
              <a:rect l="l" t="t" r="r" b="b"/>
              <a:pathLst>
                <a:path w="6270" h="260">
                  <a:moveTo>
                    <a:pt x="0" y="260"/>
                  </a:moveTo>
                  <a:lnTo>
                    <a:pt x="590" y="260"/>
                  </a:lnTo>
                  <a:lnTo>
                    <a:pt x="590" y="0"/>
                  </a:lnTo>
                  <a:lnTo>
                    <a:pt x="1220" y="0"/>
                  </a:lnTo>
                  <a:lnTo>
                    <a:pt x="1220" y="260"/>
                  </a:lnTo>
                  <a:lnTo>
                    <a:pt x="1820" y="260"/>
                  </a:lnTo>
                  <a:lnTo>
                    <a:pt x="1820" y="0"/>
                  </a:lnTo>
                  <a:lnTo>
                    <a:pt x="2430" y="0"/>
                  </a:lnTo>
                  <a:lnTo>
                    <a:pt x="2430" y="260"/>
                  </a:lnTo>
                  <a:lnTo>
                    <a:pt x="3070" y="260"/>
                  </a:lnTo>
                  <a:lnTo>
                    <a:pt x="3070" y="0"/>
                  </a:lnTo>
                  <a:lnTo>
                    <a:pt x="3670" y="0"/>
                  </a:lnTo>
                  <a:lnTo>
                    <a:pt x="3670" y="260"/>
                  </a:lnTo>
                  <a:lnTo>
                    <a:pt x="4280" y="260"/>
                  </a:lnTo>
                  <a:lnTo>
                    <a:pt x="4280" y="0"/>
                  </a:lnTo>
                  <a:lnTo>
                    <a:pt x="4890" y="0"/>
                  </a:lnTo>
                  <a:lnTo>
                    <a:pt x="4890" y="260"/>
                  </a:lnTo>
                  <a:lnTo>
                    <a:pt x="5490" y="260"/>
                  </a:lnTo>
                  <a:lnTo>
                    <a:pt x="5490" y="0"/>
                  </a:lnTo>
                  <a:lnTo>
                    <a:pt x="6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68160" y="2974680"/>
              <a:ext cx="456840" cy="145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027400" y="3429720"/>
              <a:ext cx="3883680" cy="145080"/>
            </a:xfrm>
            <a:custGeom>
              <a:avLst/>
              <a:gdLst/>
              <a:ahLst/>
              <a:rect l="l" t="t" r="r" b="b"/>
              <a:pathLst>
                <a:path w="6290" h="230">
                  <a:moveTo>
                    <a:pt x="0" y="230"/>
                  </a:moveTo>
                  <a:lnTo>
                    <a:pt x="160" y="230"/>
                  </a:lnTo>
                  <a:lnTo>
                    <a:pt x="160" y="0"/>
                  </a:lnTo>
                  <a:lnTo>
                    <a:pt x="620" y="0"/>
                  </a:lnTo>
                  <a:lnTo>
                    <a:pt x="620" y="230"/>
                  </a:lnTo>
                  <a:lnTo>
                    <a:pt x="6290" y="2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033520" y="3663360"/>
              <a:ext cx="3877560" cy="151560"/>
            </a:xfrm>
            <a:custGeom>
              <a:avLst/>
              <a:gdLst/>
              <a:ahLst/>
              <a:rect l="l" t="t" r="r" b="b"/>
              <a:pathLst>
                <a:path w="6280" h="240">
                  <a:moveTo>
                    <a:pt x="0" y="0"/>
                  </a:moveTo>
                  <a:lnTo>
                    <a:pt x="1230" y="0"/>
                  </a:lnTo>
                  <a:lnTo>
                    <a:pt x="1230" y="240"/>
                  </a:lnTo>
                  <a:lnTo>
                    <a:pt x="4900" y="240"/>
                  </a:lnTo>
                  <a:lnTo>
                    <a:pt x="4900" y="0"/>
                  </a:lnTo>
                  <a:lnTo>
                    <a:pt x="62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027400" y="3897000"/>
              <a:ext cx="3883680" cy="151200"/>
            </a:xfrm>
            <a:custGeom>
              <a:avLst/>
              <a:gdLst/>
              <a:ahLst/>
              <a:rect l="l" t="t" r="r" b="b"/>
              <a:pathLst>
                <a:path w="6290" h="240">
                  <a:moveTo>
                    <a:pt x="0" y="220"/>
                  </a:moveTo>
                  <a:lnTo>
                    <a:pt x="0" y="0"/>
                  </a:lnTo>
                  <a:lnTo>
                    <a:pt x="1550" y="0"/>
                  </a:lnTo>
                  <a:lnTo>
                    <a:pt x="1550" y="240"/>
                  </a:lnTo>
                  <a:lnTo>
                    <a:pt x="2640" y="240"/>
                  </a:lnTo>
                  <a:lnTo>
                    <a:pt x="2640" y="0"/>
                  </a:lnTo>
                  <a:lnTo>
                    <a:pt x="62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295200" y="1523520"/>
            <a:ext cx="3934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: Industry Standard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in 80x86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-bi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 strobe/handshak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 cycles defa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less CHRDY deasserted – resulting in additional wait cycles (up to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562640" y="2238480"/>
            <a:ext cx="3981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-read bu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4549680" y="4397400"/>
            <a:ext cx="4308480" cy="1662120"/>
            <a:chOff x="4549680" y="4397400"/>
            <a:chExt cx="4308480" cy="1662120"/>
          </a:xfrm>
        </p:grpSpPr>
        <p:sp>
          <p:nvSpPr>
            <p:cNvPr id="424" name=""/>
            <p:cNvSpPr/>
            <p:nvPr/>
          </p:nvSpPr>
          <p:spPr>
            <a:xfrm>
              <a:off x="6532200" y="4404600"/>
              <a:ext cx="0" cy="1653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046720" y="4404600"/>
              <a:ext cx="0" cy="1653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4549680" y="4397400"/>
              <a:ext cx="4307400" cy="16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4590720" y="4472280"/>
              <a:ext cx="401400" cy="149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YC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[7-0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[19-0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/MEM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CHRD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5780160" y="4404600"/>
              <a:ext cx="360" cy="1653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060160" y="4445640"/>
              <a:ext cx="329292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1                    C2                    WAIT              C3                    C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014080" y="4404600"/>
              <a:ext cx="0" cy="1653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5020200" y="5219640"/>
              <a:ext cx="18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616240" y="5224680"/>
              <a:ext cx="241920" cy="1800"/>
            </a:xfrm>
            <a:custGeom>
              <a:avLst/>
              <a:gdLst/>
              <a:ahLst/>
              <a:rect l="l" t="t" r="r" b="b"/>
              <a:pathLst>
                <a:path w="392" h="3">
                  <a:moveTo>
                    <a:pt x="0" y="3"/>
                  </a:moveTo>
                  <a:lnTo>
                    <a:pt x="3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5009040" y="4995000"/>
              <a:ext cx="1050840" cy="360"/>
            </a:xfrm>
            <a:custGeom>
              <a:avLst/>
              <a:gdLst/>
              <a:ahLst/>
              <a:rect l="l" t="t" r="r" b="b"/>
              <a:pathLst>
                <a:path w="1702" h="1">
                  <a:moveTo>
                    <a:pt x="0" y="0"/>
                  </a:moveTo>
                  <a:lnTo>
                    <a:pt x="170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319600" y="5006160"/>
              <a:ext cx="538200" cy="1080"/>
            </a:xfrm>
            <a:custGeom>
              <a:avLst/>
              <a:gdLst/>
              <a:ahLst/>
              <a:rect l="l" t="t" r="r" b="b"/>
              <a:pathLst>
                <a:path w="872" h="2">
                  <a:moveTo>
                    <a:pt x="0" y="0"/>
                  </a:moveTo>
                  <a:lnTo>
                    <a:pt x="872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293240" y="4404600"/>
              <a:ext cx="0" cy="1653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016600" y="4672080"/>
              <a:ext cx="3841560" cy="173520"/>
            </a:xfrm>
            <a:custGeom>
              <a:avLst/>
              <a:gdLst/>
              <a:ahLst/>
              <a:rect l="l" t="t" r="r" b="b"/>
              <a:pathLst>
                <a:path w="6220" h="280">
                  <a:moveTo>
                    <a:pt x="0" y="280"/>
                  </a:moveTo>
                  <a:lnTo>
                    <a:pt x="610" y="280"/>
                  </a:lnTo>
                  <a:lnTo>
                    <a:pt x="610" y="0"/>
                  </a:lnTo>
                  <a:lnTo>
                    <a:pt x="1240" y="0"/>
                  </a:lnTo>
                  <a:lnTo>
                    <a:pt x="1240" y="280"/>
                  </a:lnTo>
                  <a:lnTo>
                    <a:pt x="1840" y="280"/>
                  </a:lnTo>
                  <a:lnTo>
                    <a:pt x="1840" y="0"/>
                  </a:lnTo>
                  <a:lnTo>
                    <a:pt x="2450" y="0"/>
                  </a:lnTo>
                  <a:lnTo>
                    <a:pt x="2450" y="280"/>
                  </a:lnTo>
                  <a:lnTo>
                    <a:pt x="3080" y="280"/>
                  </a:lnTo>
                  <a:lnTo>
                    <a:pt x="3080" y="0"/>
                  </a:lnTo>
                  <a:lnTo>
                    <a:pt x="3690" y="0"/>
                  </a:lnTo>
                  <a:lnTo>
                    <a:pt x="3690" y="280"/>
                  </a:lnTo>
                  <a:lnTo>
                    <a:pt x="4290" y="280"/>
                  </a:lnTo>
                  <a:lnTo>
                    <a:pt x="4290" y="0"/>
                  </a:lnTo>
                  <a:lnTo>
                    <a:pt x="4910" y="0"/>
                  </a:lnTo>
                  <a:lnTo>
                    <a:pt x="4910" y="280"/>
                  </a:lnTo>
                  <a:lnTo>
                    <a:pt x="5510" y="280"/>
                  </a:lnTo>
                  <a:lnTo>
                    <a:pt x="5510" y="0"/>
                  </a:lnTo>
                  <a:lnTo>
                    <a:pt x="6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060240" y="4926600"/>
              <a:ext cx="2260440" cy="142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201640" y="5156640"/>
              <a:ext cx="3415320" cy="13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022720" y="5373720"/>
              <a:ext cx="3835440" cy="130320"/>
            </a:xfrm>
            <a:custGeom>
              <a:avLst/>
              <a:gdLst/>
              <a:ahLst/>
              <a:rect l="l" t="t" r="r" b="b"/>
              <a:pathLst>
                <a:path w="6210" h="210">
                  <a:moveTo>
                    <a:pt x="0" y="210"/>
                  </a:moveTo>
                  <a:lnTo>
                    <a:pt x="110" y="210"/>
                  </a:lnTo>
                  <a:lnTo>
                    <a:pt x="110" y="0"/>
                  </a:lnTo>
                  <a:lnTo>
                    <a:pt x="590" y="0"/>
                  </a:lnTo>
                  <a:lnTo>
                    <a:pt x="590" y="210"/>
                  </a:lnTo>
                  <a:lnTo>
                    <a:pt x="6210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5016600" y="5578560"/>
              <a:ext cx="3841560" cy="142560"/>
            </a:xfrm>
            <a:custGeom>
              <a:avLst/>
              <a:gdLst/>
              <a:ahLst/>
              <a:rect l="l" t="t" r="r" b="b"/>
              <a:pathLst>
                <a:path w="6220" h="230">
                  <a:moveTo>
                    <a:pt x="0" y="0"/>
                  </a:moveTo>
                  <a:lnTo>
                    <a:pt x="1240" y="0"/>
                  </a:lnTo>
                  <a:lnTo>
                    <a:pt x="1240" y="230"/>
                  </a:lnTo>
                  <a:lnTo>
                    <a:pt x="4910" y="230"/>
                  </a:lnTo>
                  <a:lnTo>
                    <a:pt x="4910" y="0"/>
                  </a:lnTo>
                  <a:lnTo>
                    <a:pt x="6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5016600" y="5820480"/>
              <a:ext cx="3841560" cy="148680"/>
            </a:xfrm>
            <a:custGeom>
              <a:avLst/>
              <a:gdLst/>
              <a:ahLst/>
              <a:rect l="l" t="t" r="r" b="b"/>
              <a:pathLst>
                <a:path w="6220" h="240">
                  <a:moveTo>
                    <a:pt x="0" y="240"/>
                  </a:moveTo>
                  <a:lnTo>
                    <a:pt x="0" y="0"/>
                  </a:lnTo>
                  <a:lnTo>
                    <a:pt x="1550" y="0"/>
                  </a:lnTo>
                  <a:lnTo>
                    <a:pt x="1550" y="240"/>
                  </a:lnTo>
                  <a:lnTo>
                    <a:pt x="2620" y="240"/>
                  </a:lnTo>
                  <a:lnTo>
                    <a:pt x="2620" y="0"/>
                  </a:lnTo>
                  <a:lnTo>
                    <a:pt x="62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657680" y="4181400"/>
            <a:ext cx="398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-write bus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2B788-4F4C-47DE-8F83-78477A930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processor interfacing: I/O address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icroprocessor communicates with other devices using some of its p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-based I/O (parallel I/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 has one or more N-bit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’s software reads and writes a port just like a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P0 = 0xFF;  v = P1.2;  -- P0 and P1 are 8-bit p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s-based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 has address, data and control ports that form a single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unication protocol is built into th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ingle instruction carries out the read or write protocol on the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23A073-1006-4055-9A1D-641944E20F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romises/extens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62000" y="1495440"/>
            <a:ext cx="59054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 I/O periphe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cessor only supports bus-based I/O but parallel I/O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ort on peripheral connected to a register within peripheral that is read/written by th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ded paralle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processor supports port-based I/O but more ports 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or more processor ports interface with parallel I/O peripheral extending total number of ports available for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extending 4 ports to 6 ports in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6608880" y="1565280"/>
            <a:ext cx="2030400" cy="2203560"/>
            <a:chOff x="6608880" y="1565280"/>
            <a:chExt cx="2030400" cy="2203560"/>
          </a:xfrm>
        </p:grpSpPr>
        <p:sp>
          <p:nvSpPr>
            <p:cNvPr id="448" name=""/>
            <p:cNvSpPr/>
            <p:nvPr/>
          </p:nvSpPr>
          <p:spPr>
            <a:xfrm>
              <a:off x="6608880" y="1565280"/>
              <a:ext cx="584280" cy="120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296480" y="1565280"/>
              <a:ext cx="617400" cy="31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202520" y="2163960"/>
              <a:ext cx="1432080" cy="3240"/>
            </a:xfrm>
            <a:custGeom>
              <a:avLst/>
              <a:gdLst/>
              <a:ahLst/>
              <a:rect l="l" t="t" r="r" b="b"/>
              <a:pathLst>
                <a:path w="2006" h="4">
                  <a:moveTo>
                    <a:pt x="0" y="4"/>
                  </a:moveTo>
                  <a:lnTo>
                    <a:pt x="2006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296480" y="2446560"/>
              <a:ext cx="1211040" cy="30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allel I/O periph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448760" y="2754360"/>
              <a:ext cx="0" cy="30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266240" y="3062520"/>
              <a:ext cx="3585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902720" y="2754360"/>
              <a:ext cx="0" cy="30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42520" y="1997280"/>
              <a:ext cx="82224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8178840" y="3062520"/>
              <a:ext cx="35892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358480" y="2754360"/>
              <a:ext cx="0" cy="308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845480" y="2175120"/>
              <a:ext cx="0" cy="276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647120" y="1881360"/>
              <a:ext cx="0" cy="277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721640" y="3062520"/>
              <a:ext cx="36036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615360" y="3319560"/>
              <a:ext cx="2023920" cy="44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ing parallel I/O to a bus-based I/O 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6599160" y="3908520"/>
            <a:ext cx="2059200" cy="2088720"/>
            <a:chOff x="6599160" y="3908520"/>
            <a:chExt cx="2059200" cy="2088720"/>
          </a:xfrm>
        </p:grpSpPr>
        <p:sp>
          <p:nvSpPr>
            <p:cNvPr id="463" name=""/>
            <p:cNvSpPr/>
            <p:nvPr/>
          </p:nvSpPr>
          <p:spPr>
            <a:xfrm>
              <a:off x="6599160" y="3908520"/>
              <a:ext cx="615960" cy="1199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308720" y="4789440"/>
              <a:ext cx="121284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arallel I/O periph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458120" y="5099040"/>
              <a:ext cx="0" cy="30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172280" y="5406840"/>
              <a:ext cx="56520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rt 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18560" y="5099040"/>
              <a:ext cx="0" cy="30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643880" y="5406840"/>
              <a:ext cx="56520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rt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8093160" y="5406840"/>
              <a:ext cx="56520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rt 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8380440" y="5099040"/>
              <a:ext cx="0" cy="307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900920" y="4549680"/>
              <a:ext cx="1800" cy="240840"/>
            </a:xfrm>
            <a:custGeom>
              <a:avLst/>
              <a:gdLst/>
              <a:ahLst/>
              <a:rect l="l" t="t" r="r" b="b"/>
              <a:pathLst>
                <a:path w="3" h="338">
                  <a:moveTo>
                    <a:pt x="0" y="0"/>
                  </a:moveTo>
                  <a:lnTo>
                    <a:pt x="3" y="33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19800" y="4011480"/>
              <a:ext cx="308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7219800" y="4165560"/>
              <a:ext cx="308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7219800" y="4319640"/>
              <a:ext cx="308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218360" y="4551120"/>
              <a:ext cx="674640" cy="6120"/>
            </a:xfrm>
            <a:custGeom>
              <a:avLst/>
              <a:gdLst/>
              <a:ahLst/>
              <a:rect l="l" t="t" r="r" b="b"/>
              <a:pathLst>
                <a:path w="945" h="8">
                  <a:moveTo>
                    <a:pt x="945" y="8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453440" y="3943080"/>
              <a:ext cx="56520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453440" y="4097160"/>
              <a:ext cx="56520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453440" y="4252680"/>
              <a:ext cx="56520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7453440" y="4406760"/>
              <a:ext cx="565200" cy="15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ort 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611760" y="5662440"/>
              <a:ext cx="1979640" cy="33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tended parallel 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0C10F-D79B-4CE1-B188-95F28FD749A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ypes of bus-based I/O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ory-mapped I/O and standard I/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0440" y="1504440"/>
            <a:ext cx="8724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cessor talks to both memory and peripherals using same bus – two ways to talk to peripher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-mapped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 registers occupy addresses in same address space as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Bus has 16-bi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32K addresses may correspond to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pper 32k addresses may correspond to 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I/O (I/O-mapped I/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itional pin (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/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on bus indicates whether a memory or peripheral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Bus has 16-bit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64K addresses correspond to memory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/IO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t to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 64K addresses correspond to peripherals when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/IO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t to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04855-0C18-40A3-A1A5-53DB1B1EBA2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ory-mapped I/O vs. Standard I/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no special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instructions involving memory like MOV and ADD work with peripherals as w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ndard I/O requires special instructions (e.g., IN, OUT) to move data between peripheral registers and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ndard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loss of memory addresses to periph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er address decoding logic in peripherals poss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number of peripherals much smaller than address space then high-order address bits can be igno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er and/or faster compar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1370D-0E5B-472D-B491-47FB156191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A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352440" y="1898640"/>
            <a:ext cx="4162320" cy="375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A supports standard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/IOR distinct from /MEMR for peripheral re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IOW used for wri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-bit address space for I/O vs. 20-bit address space fo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wise very similar to memory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4595760" y="2629080"/>
            <a:ext cx="4428720" cy="1973160"/>
            <a:chOff x="4595760" y="2629080"/>
            <a:chExt cx="4428720" cy="1973160"/>
          </a:xfrm>
        </p:grpSpPr>
        <p:grpSp>
          <p:nvGrpSpPr>
            <p:cNvPr id="488" name=""/>
            <p:cNvGrpSpPr/>
            <p:nvPr/>
          </p:nvGrpSpPr>
          <p:grpSpPr>
            <a:xfrm>
              <a:off x="4595760" y="2865600"/>
              <a:ext cx="4428720" cy="1736640"/>
              <a:chOff x="4595760" y="2865600"/>
              <a:chExt cx="4428720" cy="1736640"/>
            </a:xfrm>
          </p:grpSpPr>
          <p:sp>
            <p:nvSpPr>
              <p:cNvPr id="489" name=""/>
              <p:cNvSpPr/>
              <p:nvPr/>
            </p:nvSpPr>
            <p:spPr>
              <a:xfrm>
                <a:off x="6652800" y="2869200"/>
                <a:ext cx="0" cy="172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 flipH="1">
                <a:off x="5889240" y="2869200"/>
                <a:ext cx="360" cy="172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4656600" y="2938320"/>
                <a:ext cx="451440" cy="1636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YC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LO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D[7-0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A[15-0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/I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HRD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190720" y="2869200"/>
                <a:ext cx="0" cy="172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020200" y="2885760"/>
                <a:ext cx="396504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1                    C2                   WAIT              C3                    C4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111280" y="2869200"/>
                <a:ext cx="0" cy="172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117400" y="3664440"/>
                <a:ext cx="18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768880" y="3666960"/>
                <a:ext cx="255600" cy="4320"/>
              </a:xfrm>
              <a:custGeom>
                <a:avLst/>
                <a:gdLst/>
                <a:ahLst/>
                <a:rect l="l" t="t" r="r" b="b"/>
                <a:pathLst>
                  <a:path w="403" h="7">
                    <a:moveTo>
                      <a:pt x="0" y="7"/>
                    </a:moveTo>
                    <a:lnTo>
                      <a:pt x="40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111280" y="3444120"/>
                <a:ext cx="2871720" cy="1080"/>
              </a:xfrm>
              <a:custGeom>
                <a:avLst/>
                <a:gdLst/>
                <a:ahLst/>
                <a:rect l="l" t="t" r="r" b="b"/>
                <a:pathLst>
                  <a:path w="4579" h="2">
                    <a:moveTo>
                      <a:pt x="0" y="2"/>
                    </a:moveTo>
                    <a:lnTo>
                      <a:pt x="457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447040" y="3444120"/>
                <a:ext cx="577080" cy="360"/>
              </a:xfrm>
              <a:custGeom>
                <a:avLst/>
                <a:gdLst/>
                <a:ahLst/>
                <a:rect l="l" t="t" r="r" b="b"/>
                <a:pathLst>
                  <a:path w="909" h="1">
                    <a:moveTo>
                      <a:pt x="0" y="0"/>
                    </a:moveTo>
                    <a:lnTo>
                      <a:pt x="909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7425360" y="2869200"/>
                <a:ext cx="0" cy="172764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110560" y="3146040"/>
                <a:ext cx="3913560" cy="152280"/>
              </a:xfrm>
              <a:custGeom>
                <a:avLst/>
                <a:gdLst/>
                <a:ahLst/>
                <a:rect l="l" t="t" r="r" b="b"/>
                <a:pathLst>
                  <a:path w="6164" h="240">
                    <a:moveTo>
                      <a:pt x="0" y="240"/>
                    </a:moveTo>
                    <a:lnTo>
                      <a:pt x="603" y="240"/>
                    </a:lnTo>
                    <a:lnTo>
                      <a:pt x="603" y="0"/>
                    </a:lnTo>
                    <a:lnTo>
                      <a:pt x="1225" y="0"/>
                    </a:lnTo>
                    <a:lnTo>
                      <a:pt x="1225" y="240"/>
                    </a:lnTo>
                    <a:lnTo>
                      <a:pt x="1818" y="240"/>
                    </a:lnTo>
                    <a:lnTo>
                      <a:pt x="1818" y="0"/>
                    </a:lnTo>
                    <a:lnTo>
                      <a:pt x="2430" y="0"/>
                    </a:lnTo>
                    <a:lnTo>
                      <a:pt x="2430" y="240"/>
                    </a:lnTo>
                    <a:lnTo>
                      <a:pt x="3053" y="240"/>
                    </a:lnTo>
                    <a:lnTo>
                      <a:pt x="3053" y="0"/>
                    </a:lnTo>
                    <a:lnTo>
                      <a:pt x="3645" y="0"/>
                    </a:lnTo>
                    <a:lnTo>
                      <a:pt x="3645" y="240"/>
                    </a:lnTo>
                    <a:lnTo>
                      <a:pt x="4268" y="240"/>
                    </a:lnTo>
                    <a:lnTo>
                      <a:pt x="4268" y="0"/>
                    </a:lnTo>
                    <a:lnTo>
                      <a:pt x="4851" y="0"/>
                    </a:lnTo>
                    <a:lnTo>
                      <a:pt x="4851" y="240"/>
                    </a:lnTo>
                    <a:lnTo>
                      <a:pt x="5433" y="240"/>
                    </a:lnTo>
                    <a:lnTo>
                      <a:pt x="5433" y="0"/>
                    </a:lnTo>
                    <a:lnTo>
                      <a:pt x="6164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7983000" y="3355560"/>
                <a:ext cx="464040" cy="177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298480" y="3596760"/>
                <a:ext cx="3468600" cy="173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110560" y="3863160"/>
                <a:ext cx="3913560" cy="146520"/>
              </a:xfrm>
              <a:custGeom>
                <a:avLst/>
                <a:gdLst/>
                <a:ahLst/>
                <a:rect l="l" t="t" r="r" b="b"/>
                <a:pathLst>
                  <a:path w="6164" h="231">
                    <a:moveTo>
                      <a:pt x="0" y="230"/>
                    </a:moveTo>
                    <a:lnTo>
                      <a:pt x="119" y="230"/>
                    </a:lnTo>
                    <a:lnTo>
                      <a:pt x="119" y="0"/>
                    </a:lnTo>
                    <a:lnTo>
                      <a:pt x="593" y="0"/>
                    </a:lnTo>
                    <a:lnTo>
                      <a:pt x="593" y="230"/>
                    </a:lnTo>
                    <a:lnTo>
                      <a:pt x="6164" y="23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116680" y="4116960"/>
                <a:ext cx="3907440" cy="152280"/>
              </a:xfrm>
              <a:custGeom>
                <a:avLst/>
                <a:gdLst/>
                <a:ahLst/>
                <a:rect l="l" t="t" r="r" b="b"/>
                <a:pathLst>
                  <a:path w="6154" h="240">
                    <a:moveTo>
                      <a:pt x="0" y="0"/>
                    </a:moveTo>
                    <a:lnTo>
                      <a:pt x="1215" y="0"/>
                    </a:lnTo>
                    <a:lnTo>
                      <a:pt x="1215" y="240"/>
                    </a:lnTo>
                    <a:lnTo>
                      <a:pt x="4840" y="240"/>
                    </a:lnTo>
                    <a:lnTo>
                      <a:pt x="4840" y="0"/>
                    </a:lnTo>
                    <a:lnTo>
                      <a:pt x="6154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110560" y="4345920"/>
                <a:ext cx="3907440" cy="152280"/>
              </a:xfrm>
              <a:custGeom>
                <a:avLst/>
                <a:gdLst/>
                <a:ahLst/>
                <a:rect l="l" t="t" r="r" b="b"/>
                <a:pathLst>
                  <a:path w="6154" h="240">
                    <a:moveTo>
                      <a:pt x="0" y="230"/>
                    </a:moveTo>
                    <a:lnTo>
                      <a:pt x="0" y="0"/>
                    </a:lnTo>
                    <a:lnTo>
                      <a:pt x="1541" y="0"/>
                    </a:lnTo>
                    <a:lnTo>
                      <a:pt x="1541" y="240"/>
                    </a:lnTo>
                    <a:lnTo>
                      <a:pt x="2588" y="240"/>
                    </a:lnTo>
                    <a:lnTo>
                      <a:pt x="2588" y="0"/>
                    </a:lnTo>
                    <a:lnTo>
                      <a:pt x="6154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4595760" y="2865600"/>
                <a:ext cx="4425480" cy="17366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7" name=""/>
            <p:cNvSpPr/>
            <p:nvPr/>
          </p:nvSpPr>
          <p:spPr>
            <a:xfrm>
              <a:off x="5286240" y="2629080"/>
              <a:ext cx="3190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SA I/O bus read protoco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59FFD-1D8A-4C84-88FA-994F4116E9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basic memory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43080" y="3714480"/>
            <a:ext cx="837216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ing an 8051 to external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s P0 and P2 support port-based I/O when 8051 internal memory being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ose ports serve as data/address buses when external memory is being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6-bit address and 8-bit data are time multiplexed; low 8-bits of address must therefore be latched with aid of AL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30120" y="1641600"/>
            <a:ext cx="3519720" cy="1616040"/>
            <a:chOff x="330120" y="1641600"/>
            <a:chExt cx="3519720" cy="1616040"/>
          </a:xfrm>
        </p:grpSpPr>
        <p:sp>
          <p:nvSpPr>
            <p:cNvPr id="511" name=""/>
            <p:cNvSpPr/>
            <p:nvPr/>
          </p:nvSpPr>
          <p:spPr>
            <a:xfrm>
              <a:off x="1060560" y="2468160"/>
              <a:ext cx="340920" cy="264240"/>
            </a:xfrm>
            <a:custGeom>
              <a:avLst/>
              <a:gdLst/>
              <a:ahLst/>
              <a:rect l="l" t="t" r="r" b="b"/>
              <a:pathLst>
                <a:path w="351" h="289">
                  <a:moveTo>
                    <a:pt x="338" y="289"/>
                  </a:moveTo>
                  <a:cubicBezTo>
                    <a:pt x="172" y="272"/>
                    <a:pt x="0" y="267"/>
                    <a:pt x="2" y="219"/>
                  </a:cubicBezTo>
                  <a:cubicBezTo>
                    <a:pt x="4" y="171"/>
                    <a:pt x="278" y="46"/>
                    <a:pt x="351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0120" y="1656000"/>
              <a:ext cx="50616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/R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974160" y="1740960"/>
              <a:ext cx="154080" cy="3600"/>
            </a:xfrm>
            <a:custGeom>
              <a:avLst/>
              <a:gdLst/>
              <a:ahLst/>
              <a:rect l="l" t="t" r="r" b="b"/>
              <a:pathLst>
                <a:path w="159" h="4">
                  <a:moveTo>
                    <a:pt x="0" y="4"/>
                  </a:moveTo>
                  <a:lnTo>
                    <a:pt x="1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139040" y="1641600"/>
              <a:ext cx="94896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r. 7..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966240" y="2072880"/>
              <a:ext cx="15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135440" y="1974600"/>
              <a:ext cx="177192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r. 15…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960480" y="2777760"/>
              <a:ext cx="42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1389960" y="270180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1389960" y="2690640"/>
              <a:ext cx="1319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712960" y="2684160"/>
              <a:ext cx="1080" cy="9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20880" y="2787840"/>
              <a:ext cx="1104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977040" y="3026520"/>
              <a:ext cx="12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2186640" y="3036960"/>
              <a:ext cx="0" cy="74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97440" y="3112200"/>
              <a:ext cx="94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136680" y="3022200"/>
              <a:ext cx="3600" cy="79560"/>
            </a:xfrm>
            <a:custGeom>
              <a:avLst/>
              <a:gdLst/>
              <a:ahLst/>
              <a:rect l="l" t="t" r="r" b="b"/>
              <a:pathLst>
                <a:path w="4" h="87">
                  <a:moveTo>
                    <a:pt x="4" y="0"/>
                  </a:moveTo>
                  <a:lnTo>
                    <a:pt x="0" y="8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149280" y="3017520"/>
              <a:ext cx="61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2099160" y="1751400"/>
              <a:ext cx="293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911320" y="2072880"/>
              <a:ext cx="879840" cy="4320"/>
            </a:xfrm>
            <a:custGeom>
              <a:avLst/>
              <a:gdLst/>
              <a:ahLst/>
              <a:rect l="l" t="t" r="r" b="b"/>
              <a:pathLst>
                <a:path w="906" h="5">
                  <a:moveTo>
                    <a:pt x="0" y="5"/>
                  </a:moveTo>
                  <a:lnTo>
                    <a:pt x="90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965160" y="24170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439280" y="2309760"/>
              <a:ext cx="146772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r. 7…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18880" y="2417040"/>
              <a:ext cx="867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395440" y="1656000"/>
              <a:ext cx="1039320" cy="19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431160" y="1762200"/>
              <a:ext cx="418680" cy="720"/>
            </a:xfrm>
            <a:custGeom>
              <a:avLst/>
              <a:gdLst/>
              <a:ahLst/>
              <a:rect l="l" t="t" r="r" b="b"/>
              <a:pathLst>
                <a:path w="431" h="1">
                  <a:moveTo>
                    <a:pt x="0" y="0"/>
                  </a:moveTo>
                  <a:lnTo>
                    <a:pt x="431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551240" y="1845720"/>
              <a:ext cx="796320" cy="1171800"/>
            </a:xfrm>
            <a:custGeom>
              <a:avLst/>
              <a:gdLst/>
              <a:ahLst/>
              <a:rect l="l" t="t" r="r" b="b"/>
              <a:pathLst>
                <a:path w="820" h="1280">
                  <a:moveTo>
                    <a:pt x="636" y="1280"/>
                  </a:moveTo>
                  <a:cubicBezTo>
                    <a:pt x="535" y="1173"/>
                    <a:pt x="0" y="864"/>
                    <a:pt x="31" y="651"/>
                  </a:cubicBezTo>
                  <a:cubicBezTo>
                    <a:pt x="62" y="438"/>
                    <a:pt x="442" y="212"/>
                    <a:pt x="82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722680" y="2458800"/>
              <a:ext cx="490320" cy="283680"/>
            </a:xfrm>
            <a:custGeom>
              <a:avLst/>
              <a:gdLst/>
              <a:ahLst/>
              <a:rect l="l" t="t" r="r" b="b"/>
              <a:pathLst>
                <a:path w="505" h="310">
                  <a:moveTo>
                    <a:pt x="0" y="310"/>
                  </a:moveTo>
                  <a:cubicBezTo>
                    <a:pt x="75" y="299"/>
                    <a:pt x="419" y="292"/>
                    <a:pt x="462" y="241"/>
                  </a:cubicBezTo>
                  <a:cubicBezTo>
                    <a:pt x="505" y="190"/>
                    <a:pt x="302" y="50"/>
                    <a:pt x="2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160080" y="1845720"/>
              <a:ext cx="589320" cy="1153440"/>
            </a:xfrm>
            <a:custGeom>
              <a:avLst/>
              <a:gdLst/>
              <a:ahLst/>
              <a:rect l="l" t="t" r="r" b="b"/>
              <a:pathLst>
                <a:path w="607" h="1260">
                  <a:moveTo>
                    <a:pt x="0" y="1260"/>
                  </a:moveTo>
                  <a:cubicBezTo>
                    <a:pt x="92" y="1147"/>
                    <a:pt x="491" y="801"/>
                    <a:pt x="549" y="591"/>
                  </a:cubicBezTo>
                  <a:cubicBezTo>
                    <a:pt x="607" y="381"/>
                    <a:pt x="388" y="123"/>
                    <a:pt x="34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7" name=""/>
          <p:cNvGrpSpPr/>
          <p:nvPr/>
        </p:nvGrpSpPr>
        <p:grpSpPr>
          <a:xfrm>
            <a:off x="4484520" y="1509840"/>
            <a:ext cx="4300560" cy="2097000"/>
            <a:chOff x="4484520" y="1509840"/>
            <a:chExt cx="4300560" cy="2097000"/>
          </a:xfrm>
        </p:grpSpPr>
        <p:sp>
          <p:nvSpPr>
            <p:cNvPr id="538" name=""/>
            <p:cNvSpPr/>
            <p:nvPr/>
          </p:nvSpPr>
          <p:spPr>
            <a:xfrm>
              <a:off x="4484520" y="1565280"/>
              <a:ext cx="782640" cy="19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805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211800" y="1565280"/>
              <a:ext cx="536760" cy="920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7437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72200" y="1749600"/>
              <a:ext cx="939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672080" y="1674720"/>
              <a:ext cx="51732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761160" y="1749600"/>
              <a:ext cx="1573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272200" y="2646360"/>
              <a:ext cx="165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7080120" y="1843200"/>
              <a:ext cx="4939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69360" y="1565280"/>
              <a:ext cx="618840" cy="111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HM626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267600" y="1679400"/>
              <a:ext cx="156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603840" y="1677960"/>
              <a:ext cx="1666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46760" y="2587680"/>
              <a:ext cx="57240" cy="120600"/>
            </a:xfrm>
            <a:custGeom>
              <a:avLst/>
              <a:gdLst/>
              <a:ahLst/>
              <a:rect l="l" t="t" r="r" b="b"/>
              <a:pathLst>
                <a:path w="87" h="153">
                  <a:moveTo>
                    <a:pt x="0" y="153"/>
                  </a:moveTo>
                  <a:lnTo>
                    <a:pt x="8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875200" y="2432160"/>
              <a:ext cx="122400" cy="16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37160" y="2579760"/>
              <a:ext cx="5522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286240" y="2144880"/>
              <a:ext cx="933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927680" y="2071800"/>
              <a:ext cx="26172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A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267600" y="2079720"/>
              <a:ext cx="212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628040" y="1774800"/>
              <a:ext cx="4698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&lt;0...15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196120" y="1704960"/>
              <a:ext cx="3128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94560" y="1509840"/>
              <a:ext cx="6480" cy="1498320"/>
            </a:xfrm>
            <a:custGeom>
              <a:avLst/>
              <a:gdLst/>
              <a:ahLst/>
              <a:rect l="l" t="t" r="r" b="b"/>
              <a:pathLst>
                <a:path w="10" h="1920">
                  <a:moveTo>
                    <a:pt x="10" y="1920"/>
                  </a:move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5689440" y="1514520"/>
              <a:ext cx="2813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688000" y="1517760"/>
              <a:ext cx="1440" cy="225360"/>
            </a:xfrm>
            <a:custGeom>
              <a:avLst/>
              <a:gdLst/>
              <a:ahLst/>
              <a:rect l="l" t="t" r="r" b="b"/>
              <a:pathLst>
                <a:path w="1" h="289">
                  <a:moveTo>
                    <a:pt x="0" y="0"/>
                  </a:moveTo>
                  <a:lnTo>
                    <a:pt x="0" y="289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802640" y="1593720"/>
              <a:ext cx="4348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&lt;0...7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2200" y="2797200"/>
              <a:ext cx="1893600" cy="4680"/>
            </a:xfrm>
            <a:custGeom>
              <a:avLst/>
              <a:gdLst/>
              <a:ahLst/>
              <a:rect l="l" t="t" r="r" b="b"/>
              <a:pathLst>
                <a:path w="2947" h="5">
                  <a:moveTo>
                    <a:pt x="0" y="5"/>
                  </a:moveTo>
                  <a:lnTo>
                    <a:pt x="2947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165800" y="2023920"/>
              <a:ext cx="360" cy="770040"/>
            </a:xfrm>
            <a:custGeom>
              <a:avLst/>
              <a:gdLst/>
              <a:ahLst/>
              <a:rect l="l" t="t" r="r" b="b"/>
              <a:pathLst>
                <a:path w="2" h="986">
                  <a:moveTo>
                    <a:pt x="2" y="986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165800" y="2025720"/>
              <a:ext cx="406440" cy="360"/>
            </a:xfrm>
            <a:custGeom>
              <a:avLst/>
              <a:gdLst/>
              <a:ahLst/>
              <a:rect l="l" t="t" r="r" b="b"/>
              <a:pathLst>
                <a:path w="633" h="1">
                  <a:moveTo>
                    <a:pt x="0" y="1"/>
                  </a:moveTo>
                  <a:lnTo>
                    <a:pt x="63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272200" y="2960640"/>
              <a:ext cx="2011320" cy="1800"/>
            </a:xfrm>
            <a:custGeom>
              <a:avLst/>
              <a:gdLst/>
              <a:ahLst/>
              <a:rect l="l" t="t" r="r" b="b"/>
              <a:pathLst>
                <a:path w="3131" h="1">
                  <a:moveTo>
                    <a:pt x="0" y="0"/>
                  </a:moveTo>
                  <a:lnTo>
                    <a:pt x="3131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280280" y="2205000"/>
              <a:ext cx="1440" cy="757440"/>
            </a:xfrm>
            <a:custGeom>
              <a:avLst/>
              <a:gdLst/>
              <a:ahLst/>
              <a:rect l="l" t="t" r="r" b="b"/>
              <a:pathLst>
                <a:path w="2" h="971">
                  <a:moveTo>
                    <a:pt x="2" y="97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283520" y="2203560"/>
              <a:ext cx="288720" cy="1440"/>
            </a:xfrm>
            <a:custGeom>
              <a:avLst/>
              <a:gdLst/>
              <a:ahLst/>
              <a:rect l="l" t="t" r="r" b="b"/>
              <a:pathLst>
                <a:path w="450" h="2">
                  <a:moveTo>
                    <a:pt x="0" y="2"/>
                  </a:moveTo>
                  <a:lnTo>
                    <a:pt x="45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628040" y="1949400"/>
              <a:ext cx="411120" cy="16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O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628040" y="2125800"/>
              <a:ext cx="41112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707080" y="1927080"/>
              <a:ext cx="507960" cy="3240"/>
            </a:xfrm>
            <a:custGeom>
              <a:avLst/>
              <a:gdLst/>
              <a:ahLst/>
              <a:rect l="l" t="t" r="r" b="b"/>
              <a:pathLst>
                <a:path w="790" h="5">
                  <a:moveTo>
                    <a:pt x="790" y="0"/>
                  </a:moveTo>
                  <a:lnTo>
                    <a:pt x="0" y="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705640" y="1935000"/>
              <a:ext cx="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35800" y="2030400"/>
              <a:ext cx="14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605560" y="2003400"/>
              <a:ext cx="20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688000" y="205740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267600" y="1866960"/>
              <a:ext cx="22536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951440" y="2725560"/>
              <a:ext cx="2379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W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979880" y="2884320"/>
              <a:ext cx="20952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953480" y="2300400"/>
              <a:ext cx="233280" cy="15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196120" y="2374920"/>
              <a:ext cx="484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78" name=""/>
            <p:cNvGrpSpPr/>
            <p:nvPr/>
          </p:nvGrpSpPr>
          <p:grpSpPr>
            <a:xfrm>
              <a:off x="8583480" y="2384280"/>
              <a:ext cx="201600" cy="198720"/>
              <a:chOff x="8583480" y="2384280"/>
              <a:chExt cx="201600" cy="198720"/>
            </a:xfrm>
          </p:grpSpPr>
          <p:sp>
            <p:nvSpPr>
              <p:cNvPr id="579" name=""/>
              <p:cNvSpPr/>
              <p:nvPr/>
            </p:nvSpPr>
            <p:spPr>
              <a:xfrm>
                <a:off x="8613360" y="2555640"/>
                <a:ext cx="14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583480" y="2529360"/>
                <a:ext cx="201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665560" y="2583000"/>
                <a:ext cx="37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681040" y="2384280"/>
                <a:ext cx="0" cy="13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838760" y="3040200"/>
              <a:ext cx="3506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PS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75440" y="3102120"/>
              <a:ext cx="210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83600" y="2360520"/>
              <a:ext cx="2880" cy="739800"/>
            </a:xfrm>
            <a:custGeom>
              <a:avLst/>
              <a:gdLst/>
              <a:ahLst/>
              <a:rect l="l" t="t" r="r" b="b"/>
              <a:pathLst>
                <a:path w="4" h="948">
                  <a:moveTo>
                    <a:pt x="4" y="94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85040" y="2363760"/>
              <a:ext cx="18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628040" y="2300400"/>
              <a:ext cx="225360" cy="13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572240" y="2732040"/>
              <a:ext cx="617760" cy="87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Times New Roman"/>
                </a:rPr>
                <a:t>27C25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196120" y="2838600"/>
              <a:ext cx="1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346960" y="2376360"/>
              <a:ext cx="360" cy="460440"/>
            </a:xfrm>
            <a:custGeom>
              <a:avLst/>
              <a:gdLst/>
              <a:ahLst/>
              <a:rect l="l" t="t" r="r" b="b"/>
              <a:pathLst>
                <a:path w="1" h="589">
                  <a:moveTo>
                    <a:pt x="1" y="589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7986600" y="2766960"/>
              <a:ext cx="21600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7081920" y="1832040"/>
              <a:ext cx="360" cy="1379520"/>
            </a:xfrm>
            <a:custGeom>
              <a:avLst/>
              <a:gdLst/>
              <a:ahLst/>
              <a:rect l="l" t="t" r="r" b="b"/>
              <a:pathLst>
                <a:path w="1" h="1767">
                  <a:moveTo>
                    <a:pt x="1" y="0"/>
                  </a:moveTo>
                  <a:lnTo>
                    <a:pt x="0" y="1767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77240" y="3211560"/>
              <a:ext cx="492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916680" y="1751040"/>
              <a:ext cx="1800" cy="906480"/>
            </a:xfrm>
            <a:custGeom>
              <a:avLst/>
              <a:gdLst/>
              <a:ahLst/>
              <a:rect l="l" t="t" r="r" b="b"/>
              <a:pathLst>
                <a:path w="2" h="1160">
                  <a:moveTo>
                    <a:pt x="2" y="0"/>
                  </a:moveTo>
                  <a:lnTo>
                    <a:pt x="0" y="116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921360" y="2254320"/>
              <a:ext cx="157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628040" y="3132000"/>
              <a:ext cx="531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&lt;0...14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8196120" y="3016080"/>
              <a:ext cx="304920" cy="360"/>
            </a:xfrm>
            <a:custGeom>
              <a:avLst/>
              <a:gdLst/>
              <a:ahLst/>
              <a:rect l="l" t="t" r="r" b="b"/>
              <a:pathLst>
                <a:path w="475" h="1">
                  <a:moveTo>
                    <a:pt x="0" y="1"/>
                  </a:moveTo>
                  <a:lnTo>
                    <a:pt x="475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778880" y="2943360"/>
              <a:ext cx="453960" cy="15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&lt;0...7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896160" y="3098880"/>
              <a:ext cx="3240" cy="260280"/>
            </a:xfrm>
            <a:custGeom>
              <a:avLst/>
              <a:gdLst/>
              <a:ahLst/>
              <a:rect l="l" t="t" r="r" b="b"/>
              <a:pathLst>
                <a:path w="5" h="333">
                  <a:moveTo>
                    <a:pt x="5" y="0"/>
                  </a:moveTo>
                  <a:lnTo>
                    <a:pt x="0" y="33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899400" y="3365640"/>
              <a:ext cx="6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628040" y="3305160"/>
              <a:ext cx="26964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O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/>
          <p:nvPr/>
        </p:nvSpPr>
        <p:spPr>
          <a:xfrm>
            <a:off x="5648400" y="170496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877080" y="220968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458200" y="167652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05920" y="2333520"/>
            <a:ext cx="74520" cy="748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067200"/>
            <a:ext cx="74520" cy="74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1C138-C795-43B3-9F3B-E8B46A497A8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more complex memory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352080" y="5216040"/>
            <a:ext cx="8372520" cy="87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nerates control signals to drive the TC55V2325FF memory chip in burst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r0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starting address input to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enable/disable input to de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649440" y="1952640"/>
            <a:ext cx="3322440" cy="3412800"/>
            <a:chOff x="649440" y="1952640"/>
            <a:chExt cx="3322440" cy="3412800"/>
          </a:xfrm>
        </p:grpSpPr>
        <p:grpSp>
          <p:nvGrpSpPr>
            <p:cNvPr id="610" name=""/>
            <p:cNvGrpSpPr/>
            <p:nvPr/>
          </p:nvGrpSpPr>
          <p:grpSpPr>
            <a:xfrm>
              <a:off x="800280" y="1952640"/>
              <a:ext cx="3171600" cy="3171600"/>
              <a:chOff x="800280" y="1952640"/>
              <a:chExt cx="3171600" cy="3171600"/>
            </a:xfrm>
          </p:grpSpPr>
          <p:sp>
            <p:nvSpPr>
              <p:cNvPr id="611" name=""/>
              <p:cNvSpPr/>
              <p:nvPr/>
            </p:nvSpPr>
            <p:spPr>
              <a:xfrm>
                <a:off x="1628640" y="2039760"/>
                <a:ext cx="1791720" cy="41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Specification for a single read opera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00280" y="1952640"/>
                <a:ext cx="3171600" cy="3171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3" name=""/>
            <p:cNvGrpSpPr/>
            <p:nvPr/>
          </p:nvGrpSpPr>
          <p:grpSpPr>
            <a:xfrm>
              <a:off x="649440" y="2498760"/>
              <a:ext cx="3082320" cy="2866680"/>
              <a:chOff x="649440" y="2498760"/>
              <a:chExt cx="3082320" cy="2866680"/>
            </a:xfrm>
          </p:grpSpPr>
          <p:sp>
            <p:nvSpPr>
              <p:cNvPr id="614" name=""/>
              <p:cNvSpPr/>
              <p:nvPr/>
            </p:nvSpPr>
            <p:spPr>
              <a:xfrm>
                <a:off x="649440" y="2498760"/>
                <a:ext cx="1050840" cy="28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ADS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ADS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ADV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ddr &lt;15…0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W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O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CS1 and /CS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S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&lt;31…0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684800" y="26589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V="1">
                <a:off x="1899360" y="25452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899360" y="253692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V="1">
                <a:off x="2063520" y="254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2063520" y="26643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V="1">
                <a:off x="2279880" y="2551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2279880" y="2542320"/>
                <a:ext cx="16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V="1">
                <a:off x="2452680" y="254880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445840" y="2662560"/>
                <a:ext cx="2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V="1">
                <a:off x="2669040" y="25488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669040" y="254232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V="1">
                <a:off x="2841840" y="25477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708560" y="2910240"/>
                <a:ext cx="9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1811880" y="2910240"/>
                <a:ext cx="0" cy="1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1820160" y="3030480"/>
                <a:ext cx="26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V="1">
                <a:off x="2082600" y="2901240"/>
                <a:ext cx="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1700280" y="3170160"/>
                <a:ext cx="11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1811880" y="317016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V="1">
                <a:off x="2425680" y="3169800"/>
                <a:ext cx="0" cy="1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2432160" y="3170160"/>
                <a:ext cx="127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1676520" y="3694680"/>
                <a:ext cx="1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1804680" y="3621600"/>
                <a:ext cx="301680" cy="14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2106360" y="3694680"/>
                <a:ext cx="1608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1688040" y="4416840"/>
                <a:ext cx="10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1798200" y="4416840"/>
                <a:ext cx="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1798200" y="4547880"/>
                <a:ext cx="136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flipV="1">
                <a:off x="3167640" y="4416480"/>
                <a:ext cx="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3176280" y="4416840"/>
                <a:ext cx="51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1667520" y="4790160"/>
                <a:ext cx="11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1780560" y="4657680"/>
                <a:ext cx="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1787760" y="4659480"/>
                <a:ext cx="13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3157560" y="4657680"/>
                <a:ext cx="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flipV="1">
                <a:off x="3159360" y="4779000"/>
                <a:ext cx="524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1676520" y="4983480"/>
                <a:ext cx="1131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2799360" y="4910400"/>
                <a:ext cx="318600" cy="15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125160" y="4990680"/>
                <a:ext cx="57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708560" y="4172760"/>
                <a:ext cx="110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2817720" y="4176000"/>
                <a:ext cx="0" cy="12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2817720" y="43052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V="1">
                <a:off x="3016800" y="4182840"/>
                <a:ext cx="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3016800" y="4176000"/>
                <a:ext cx="68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1715760" y="3921840"/>
                <a:ext cx="20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2696040" y="4279320"/>
                <a:ext cx="111240" cy="581760"/>
              </a:xfrm>
              <a:custGeom>
                <a:avLst/>
                <a:gdLst/>
                <a:ahLst/>
                <a:rect l="l" t="t" r="r" b="b"/>
                <a:pathLst>
                  <a:path w="472" h="836">
                    <a:moveTo>
                      <a:pt x="472" y="0"/>
                    </a:moveTo>
                    <a:cubicBezTo>
                      <a:pt x="255" y="81"/>
                      <a:pt x="38" y="163"/>
                      <a:pt x="19" y="302"/>
                    </a:cubicBezTo>
                    <a:cubicBezTo>
                      <a:pt x="0" y="441"/>
                      <a:pt x="178" y="638"/>
                      <a:pt x="356" y="8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2844000" y="26557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V="1">
                <a:off x="3066840" y="25423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066840" y="253548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V="1">
                <a:off x="3239640" y="25401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3238200" y="2658960"/>
                <a:ext cx="49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091240" y="2901600"/>
                <a:ext cx="162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617200" y="2674800"/>
                <a:ext cx="127080" cy="2259720"/>
              </a:xfrm>
              <a:custGeom>
                <a:avLst/>
                <a:gdLst/>
                <a:ahLst/>
                <a:rect l="l" t="t" r="r" b="b"/>
                <a:pathLst>
                  <a:path w="665" h="3240">
                    <a:moveTo>
                      <a:pt x="572" y="0"/>
                    </a:moveTo>
                    <a:cubicBezTo>
                      <a:pt x="286" y="972"/>
                      <a:pt x="0" y="1945"/>
                      <a:pt x="15" y="2485"/>
                    </a:cubicBezTo>
                    <a:cubicBezTo>
                      <a:pt x="30" y="3025"/>
                      <a:pt x="347" y="3132"/>
                      <a:pt x="665" y="3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1811880" y="3299040"/>
                <a:ext cx="6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725840" y="3408840"/>
                <a:ext cx="1971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4572000" y="1666800"/>
            <a:ext cx="4230720" cy="3643200"/>
            <a:chOff x="4572000" y="1666800"/>
            <a:chExt cx="4230720" cy="3643200"/>
          </a:xfrm>
        </p:grpSpPr>
        <p:sp>
          <p:nvSpPr>
            <p:cNvPr id="668" name=""/>
            <p:cNvSpPr/>
            <p:nvPr/>
          </p:nvSpPr>
          <p:spPr>
            <a:xfrm>
              <a:off x="4959360" y="2217600"/>
              <a:ext cx="1103400" cy="83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P=1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C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V=1, OE=1, Addr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= ‘Z’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959360" y="3870000"/>
              <a:ext cx="1103400" cy="83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P=1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C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V=1, OE=1, Addr = ‘Z’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175520" y="3870000"/>
              <a:ext cx="1104840" cy="835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P=1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C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V=0, OE=0, Addr = ‘Z’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605480" y="1874520"/>
              <a:ext cx="295200" cy="447840"/>
            </a:xfrm>
            <a:custGeom>
              <a:avLst/>
              <a:gdLst/>
              <a:ahLst/>
              <a:rect l="l" t="t" r="r" b="b"/>
              <a:pathLst>
                <a:path w="654" h="500">
                  <a:moveTo>
                    <a:pt x="15" y="0"/>
                  </a:moveTo>
                  <a:cubicBezTo>
                    <a:pt x="7" y="55"/>
                    <a:pt x="0" y="110"/>
                    <a:pt x="27" y="128"/>
                  </a:cubicBezTo>
                  <a:cubicBezTo>
                    <a:pt x="54" y="146"/>
                    <a:pt x="145" y="82"/>
                    <a:pt x="178" y="105"/>
                  </a:cubicBezTo>
                  <a:cubicBezTo>
                    <a:pt x="211" y="128"/>
                    <a:pt x="191" y="250"/>
                    <a:pt x="224" y="267"/>
                  </a:cubicBezTo>
                  <a:cubicBezTo>
                    <a:pt x="257" y="284"/>
                    <a:pt x="342" y="190"/>
                    <a:pt x="375" y="209"/>
                  </a:cubicBezTo>
                  <a:cubicBezTo>
                    <a:pt x="408" y="228"/>
                    <a:pt x="387" y="362"/>
                    <a:pt x="422" y="383"/>
                  </a:cubicBezTo>
                  <a:cubicBezTo>
                    <a:pt x="457" y="404"/>
                    <a:pt x="545" y="318"/>
                    <a:pt x="584" y="337"/>
                  </a:cubicBezTo>
                  <a:cubicBezTo>
                    <a:pt x="623" y="356"/>
                    <a:pt x="644" y="479"/>
                    <a:pt x="654" y="5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898880" y="2303280"/>
              <a:ext cx="9540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513480" y="3490560"/>
              <a:ext cx="36036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410160" y="2730240"/>
              <a:ext cx="3366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854680" y="2885760"/>
              <a:ext cx="1441440" cy="1044720"/>
            </a:xfrm>
            <a:custGeom>
              <a:avLst/>
              <a:gdLst/>
              <a:ahLst/>
              <a:rect l="l" t="t" r="r" b="b"/>
              <a:pathLst>
                <a:path w="2460" h="990">
                  <a:moveTo>
                    <a:pt x="2460" y="0"/>
                  </a:moveTo>
                  <a:lnTo>
                    <a:pt x="0" y="9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59600" y="3019320"/>
              <a:ext cx="843120" cy="730080"/>
            </a:xfrm>
            <a:prstGeom prst="cloudCallout">
              <a:avLst>
                <a:gd name="adj1" fmla="val -25208"/>
                <a:gd name="adj2" fmla="val 84486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 is ready here!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905600" y="4835160"/>
              <a:ext cx="3700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066000" y="4309920"/>
              <a:ext cx="1116000" cy="360"/>
            </a:xfrm>
            <a:custGeom>
              <a:avLst/>
              <a:gdLst/>
              <a:ahLst/>
              <a:rect l="l" t="t" r="r" b="b"/>
              <a:pathLst>
                <a:path w="1905" h="1">
                  <a:moveTo>
                    <a:pt x="0" y="0"/>
                  </a:moveTo>
                  <a:lnTo>
                    <a:pt x="190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442200" y="4344840"/>
              <a:ext cx="3459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6370560" y="5068800"/>
              <a:ext cx="40500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72000" y="2869920"/>
              <a:ext cx="2776680" cy="2303640"/>
            </a:xfrm>
            <a:custGeom>
              <a:avLst/>
              <a:gdLst/>
              <a:ahLst/>
              <a:rect l="l" t="t" r="r" b="b"/>
              <a:pathLst>
                <a:path w="4742" h="2185">
                  <a:moveTo>
                    <a:pt x="4742" y="1635"/>
                  </a:moveTo>
                  <a:cubicBezTo>
                    <a:pt x="4407" y="1715"/>
                    <a:pt x="3422" y="2045"/>
                    <a:pt x="2732" y="2115"/>
                  </a:cubicBezTo>
                  <a:cubicBezTo>
                    <a:pt x="2042" y="2185"/>
                    <a:pt x="1044" y="2115"/>
                    <a:pt x="602" y="2055"/>
                  </a:cubicBezTo>
                  <a:cubicBezTo>
                    <a:pt x="160" y="1995"/>
                    <a:pt x="154" y="1940"/>
                    <a:pt x="77" y="1755"/>
                  </a:cubicBezTo>
                  <a:cubicBezTo>
                    <a:pt x="0" y="1570"/>
                    <a:pt x="27" y="1238"/>
                    <a:pt x="137" y="945"/>
                  </a:cubicBezTo>
                  <a:cubicBezTo>
                    <a:pt x="247" y="652"/>
                    <a:pt x="612" y="197"/>
                    <a:pt x="73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545080" y="3369960"/>
              <a:ext cx="33660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0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5511960" y="3073320"/>
              <a:ext cx="1440" cy="777600"/>
            </a:xfrm>
            <a:custGeom>
              <a:avLst/>
              <a:gdLst/>
              <a:ahLst/>
              <a:rect l="l" t="t" r="r" b="b"/>
              <a:pathLst>
                <a:path w="2" h="737">
                  <a:moveTo>
                    <a:pt x="2" y="73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4800" y="4705200"/>
              <a:ext cx="231840" cy="371520"/>
            </a:xfrm>
            <a:custGeom>
              <a:avLst/>
              <a:gdLst/>
              <a:ahLst/>
              <a:rect l="l" t="t" r="r" b="b"/>
              <a:pathLst>
                <a:path w="395" h="352">
                  <a:moveTo>
                    <a:pt x="278" y="0"/>
                  </a:moveTo>
                  <a:cubicBezTo>
                    <a:pt x="296" y="37"/>
                    <a:pt x="395" y="168"/>
                    <a:pt x="383" y="225"/>
                  </a:cubicBezTo>
                  <a:cubicBezTo>
                    <a:pt x="371" y="282"/>
                    <a:pt x="263" y="338"/>
                    <a:pt x="203" y="345"/>
                  </a:cubicBezTo>
                  <a:cubicBezTo>
                    <a:pt x="143" y="352"/>
                    <a:pt x="46" y="328"/>
                    <a:pt x="23" y="270"/>
                  </a:cubicBezTo>
                  <a:cubicBezTo>
                    <a:pt x="0" y="212"/>
                    <a:pt x="59" y="56"/>
                    <a:pt x="6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407200" y="1852560"/>
              <a:ext cx="214200" cy="353880"/>
            </a:xfrm>
            <a:custGeom>
              <a:avLst/>
              <a:gdLst/>
              <a:ahLst/>
              <a:rect l="l" t="t" r="r" b="b"/>
              <a:pathLst>
                <a:path w="365" h="335">
                  <a:moveTo>
                    <a:pt x="300" y="335"/>
                  </a:moveTo>
                  <a:cubicBezTo>
                    <a:pt x="307" y="295"/>
                    <a:pt x="365" y="150"/>
                    <a:pt x="345" y="95"/>
                  </a:cubicBezTo>
                  <a:cubicBezTo>
                    <a:pt x="325" y="40"/>
                    <a:pt x="235" y="0"/>
                    <a:pt x="180" y="5"/>
                  </a:cubicBezTo>
                  <a:cubicBezTo>
                    <a:pt x="125" y="10"/>
                    <a:pt x="30" y="70"/>
                    <a:pt x="15" y="125"/>
                  </a:cubicBezTo>
                  <a:cubicBezTo>
                    <a:pt x="0" y="180"/>
                    <a:pt x="75" y="291"/>
                    <a:pt x="90" y="33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686480" y="2460600"/>
              <a:ext cx="19188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383680" y="2460600"/>
              <a:ext cx="191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686480" y="4144680"/>
              <a:ext cx="27144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391600" y="4144680"/>
              <a:ext cx="18396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175520" y="2217600"/>
              <a:ext cx="1104840" cy="8366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P=0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SC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V=0, OE=1, Addr = Addr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656320" y="1939680"/>
              <a:ext cx="37764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303960" y="2149200"/>
              <a:ext cx="4730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GO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058080" y="2347560"/>
              <a:ext cx="1106280" cy="238320"/>
            </a:xfrm>
            <a:custGeom>
              <a:avLst/>
              <a:gdLst/>
              <a:ahLst/>
              <a:rect l="l" t="t" r="r" b="b"/>
              <a:pathLst>
                <a:path w="1890" h="225">
                  <a:moveTo>
                    <a:pt x="0" y="225"/>
                  </a:moveTo>
                  <a:cubicBezTo>
                    <a:pt x="140" y="188"/>
                    <a:pt x="525" y="0"/>
                    <a:pt x="840" y="0"/>
                  </a:cubicBezTo>
                  <a:cubicBezTo>
                    <a:pt x="1155" y="0"/>
                    <a:pt x="1671" y="178"/>
                    <a:pt x="1890" y="225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58080" y="2727000"/>
              <a:ext cx="1123920" cy="243000"/>
            </a:xfrm>
            <a:custGeom>
              <a:avLst/>
              <a:gdLst/>
              <a:ahLst/>
              <a:rect l="l" t="t" r="r" b="b"/>
              <a:pathLst>
                <a:path w="1920" h="230">
                  <a:moveTo>
                    <a:pt x="1920" y="0"/>
                  </a:moveTo>
                  <a:cubicBezTo>
                    <a:pt x="1745" y="37"/>
                    <a:pt x="1190" y="220"/>
                    <a:pt x="870" y="225"/>
                  </a:cubicBezTo>
                  <a:cubicBezTo>
                    <a:pt x="550" y="230"/>
                    <a:pt x="181" y="71"/>
                    <a:pt x="0" y="3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905440" y="1666800"/>
              <a:ext cx="15051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FSM descrip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7B100-256C-43A2-A0D9-9E72515FB88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processor interfacing: interru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a peripheral intermittently receives data, which must be serviced by th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or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eripheral regularly to see if data has arrived – wastef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eripheral c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errup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rocessor when it has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an extra pin or pins: 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Int is 1, processor suspends current program, jumps to an Interrupt Service Routine, or I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nown as interrupt-driven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sentially, “polling” of the interrupt pin is built-into the hardware, so no extra tim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F76EC-857F-4128-8CCE-9E0E22AB1A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processor interfacing: interru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61800" y="1399680"/>
            <a:ext cx="8382240" cy="475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is the address (interrupt address vector) of the IS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xed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built into microprocessor, cannot be chan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ither ISR stored at address or a jump to actual ISR stored if not enough byte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ctored interru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 must provide the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when microprocessor has multiple peripherals connected by a system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romise: interrupt address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37B2-96A8-4E1E-8A2F-CEC34E5B888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facing bas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rocessor inter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/O Addr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emory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erarchical b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676C3-4CE2-4AC6-A31E-357AA158A0F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fixed ISR lo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1" name=""/>
          <p:cNvGrpSpPr/>
          <p:nvPr/>
        </p:nvGrpSpPr>
        <p:grpSpPr>
          <a:xfrm>
            <a:off x="1647720" y="1614600"/>
            <a:ext cx="5294520" cy="4255920"/>
            <a:chOff x="1647720" y="1614600"/>
            <a:chExt cx="5294520" cy="4255920"/>
          </a:xfrm>
        </p:grpSpPr>
        <p:sp>
          <p:nvSpPr>
            <p:cNvPr id="702" name=""/>
            <p:cNvSpPr/>
            <p:nvPr/>
          </p:nvSpPr>
          <p:spPr>
            <a:xfrm>
              <a:off x="1992240" y="1614600"/>
              <a:ext cx="2667240" cy="406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(a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μP is executing its main progra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89520" y="1614600"/>
              <a:ext cx="2052720" cy="44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(b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 P1 receives input data in a register with address 0x800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4979880" y="2065320"/>
              <a:ext cx="360" cy="399960"/>
            </a:xfrm>
            <a:custGeom>
              <a:avLst/>
              <a:gdLst/>
              <a:ahLst/>
              <a:rect l="l" t="t" r="r" b="b"/>
              <a:pathLst>
                <a:path w="1" h="463">
                  <a:moveTo>
                    <a:pt x="0" y="0"/>
                  </a:moveTo>
                  <a:lnTo>
                    <a:pt x="0" y="46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889520" y="2470320"/>
              <a:ext cx="2052720" cy="54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1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quest servicing by the microprocesso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992240" y="2871720"/>
              <a:ext cx="2667240" cy="868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fter completing instruction at 100, μP see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sserted, saves the PC’s value of 100, and sets PC to the ISR fixed location of 16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4659480" y="3009960"/>
              <a:ext cx="320400" cy="336600"/>
            </a:xfrm>
            <a:custGeom>
              <a:avLst/>
              <a:gdLst/>
              <a:ahLst/>
              <a:rect l="l" t="t" r="r" b="b"/>
              <a:pathLst>
                <a:path w="450" h="390">
                  <a:moveTo>
                    <a:pt x="450" y="0"/>
                  </a:moveTo>
                  <a:lnTo>
                    <a:pt x="0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992240" y="4151160"/>
              <a:ext cx="2667240" cy="716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(a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he ISR reads data from 0x8000, modifies the data, and writes the resulting data to 0x8001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398760" y="3746520"/>
              <a:ext cx="360" cy="388800"/>
            </a:xfrm>
            <a:custGeom>
              <a:avLst/>
              <a:gdLst/>
              <a:ahLst/>
              <a:rect l="l" t="t" r="r" b="b"/>
              <a:pathLst>
                <a:path w="1" h="450">
                  <a:moveTo>
                    <a:pt x="0" y="0"/>
                  </a:moveTo>
                  <a:lnTo>
                    <a:pt x="0" y="4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992240" y="5243400"/>
              <a:ext cx="2667240" cy="627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2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 The ISR returns, thus restoring PC to 100+1=101, where μP resumes execut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889520" y="4151160"/>
              <a:ext cx="2052720" cy="5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(b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fter being read, P1 de-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659480" y="3591000"/>
              <a:ext cx="374400" cy="544320"/>
            </a:xfrm>
            <a:custGeom>
              <a:avLst/>
              <a:gdLst/>
              <a:ahLst/>
              <a:rect l="l" t="t" r="r" b="b"/>
              <a:pathLst>
                <a:path w="525" h="630">
                  <a:moveTo>
                    <a:pt x="0" y="0"/>
                  </a:moveTo>
                  <a:lnTo>
                    <a:pt x="525" y="6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3398760" y="4873680"/>
              <a:ext cx="360" cy="374760"/>
            </a:xfrm>
            <a:custGeom>
              <a:avLst/>
              <a:gdLst/>
              <a:ahLst/>
              <a:rect l="l" t="t" r="r" b="b"/>
              <a:pathLst>
                <a:path w="1" h="435">
                  <a:moveTo>
                    <a:pt x="0" y="0"/>
                  </a:moveTo>
                  <a:lnTo>
                    <a:pt x="0" y="4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398760" y="2033640"/>
              <a:ext cx="3240" cy="833400"/>
            </a:xfrm>
            <a:custGeom>
              <a:avLst/>
              <a:gdLst/>
              <a:ahLst/>
              <a:rect l="l" t="t" r="r" b="b"/>
              <a:pathLst>
                <a:path w="5" h="965">
                  <a:moveTo>
                    <a:pt x="5" y="0"/>
                  </a:moveTo>
                  <a:lnTo>
                    <a:pt x="0" y="96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812960" y="2116080"/>
              <a:ext cx="3240" cy="3514680"/>
            </a:xfrm>
            <a:custGeom>
              <a:avLst/>
              <a:gdLst/>
              <a:ahLst/>
              <a:rect l="l" t="t" r="r" b="b"/>
              <a:pathLst>
                <a:path w="5" h="4075">
                  <a:moveTo>
                    <a:pt x="5" y="0"/>
                  </a:moveTo>
                  <a:lnTo>
                    <a:pt x="0" y="407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5400000">
              <a:off x="1605600" y="1737360"/>
              <a:ext cx="376200" cy="29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E17CB-2486-408B-8BCE-075BA9D731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fixed ISR lo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68200" y="1806480"/>
            <a:ext cx="28670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a)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is executing its main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b): P1 receives input data in a register with address 0x8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"/>
          <p:cNvGrpSpPr/>
          <p:nvPr/>
        </p:nvGrpSpPr>
        <p:grpSpPr>
          <a:xfrm>
            <a:off x="3495600" y="1806480"/>
            <a:ext cx="4813200" cy="2262240"/>
            <a:chOff x="3495600" y="1806480"/>
            <a:chExt cx="4813200" cy="2262240"/>
          </a:xfrm>
        </p:grpSpPr>
        <p:sp>
          <p:nvSpPr>
            <p:cNvPr id="720" name=""/>
            <p:cNvSpPr/>
            <p:nvPr/>
          </p:nvSpPr>
          <p:spPr>
            <a:xfrm>
              <a:off x="5813280" y="1806480"/>
              <a:ext cx="6559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03920" y="3052800"/>
              <a:ext cx="696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50280" y="3052800"/>
              <a:ext cx="6984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45320" y="3760920"/>
              <a:ext cx="5778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96360" y="3760920"/>
              <a:ext cx="5760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85040" y="2631960"/>
              <a:ext cx="173196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6104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90560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383600" y="2314440"/>
              <a:ext cx="925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478560" y="3191040"/>
              <a:ext cx="219240" cy="10800"/>
            </a:xfrm>
            <a:custGeom>
              <a:avLst/>
              <a:gdLst/>
              <a:ahLst/>
              <a:rect l="l" t="t" r="r" b="b"/>
              <a:pathLst>
                <a:path w="180" h="7">
                  <a:moveTo>
                    <a:pt x="180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135840" y="3059280"/>
              <a:ext cx="291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672240" y="1806480"/>
              <a:ext cx="1560600" cy="433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304040" y="2233440"/>
              <a:ext cx="0" cy="3891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5619600" y="3519360"/>
              <a:ext cx="23976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718320" y="3444840"/>
              <a:ext cx="60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83400" y="344484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3538440" y="1806480"/>
              <a:ext cx="2078280" cy="22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614760" y="2192400"/>
              <a:ext cx="344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4048200" y="2192400"/>
              <a:ext cx="14716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3578400" y="2395440"/>
              <a:ext cx="380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048200" y="2395440"/>
              <a:ext cx="1165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595680" y="2612880"/>
              <a:ext cx="36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048200" y="2612880"/>
              <a:ext cx="1550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3649680" y="2832120"/>
              <a:ext cx="309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4048200" y="2855880"/>
              <a:ext cx="1598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3602160" y="2003400"/>
              <a:ext cx="44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495600" y="3543480"/>
              <a:ext cx="436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568680" y="376092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4021200" y="3543480"/>
              <a:ext cx="90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021200" y="3760920"/>
              <a:ext cx="931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686040" y="2978280"/>
              <a:ext cx="265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3602160" y="320184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3668760" y="3333600"/>
              <a:ext cx="2635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95560" y="1830240"/>
              <a:ext cx="1424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862600" y="3397320"/>
              <a:ext cx="39204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"/>
          <p:cNvSpPr/>
          <p:nvPr/>
        </p:nvSpPr>
        <p:spPr>
          <a:xfrm>
            <a:off x="6972480" y="4352760"/>
            <a:ext cx="145800" cy="14616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972480" y="3809880"/>
            <a:ext cx="145800" cy="495360"/>
            <a:chOff x="6972480" y="3809880"/>
            <a:chExt cx="145800" cy="495360"/>
          </a:xfrm>
        </p:grpSpPr>
        <p:sp>
          <p:nvSpPr>
            <p:cNvPr id="757" name=""/>
            <p:cNvSpPr/>
            <p:nvPr/>
          </p:nvSpPr>
          <p:spPr>
            <a:xfrm>
              <a:off x="6972480" y="3809880"/>
              <a:ext cx="145800" cy="14616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039080" y="4010040"/>
              <a:ext cx="1440" cy="295200"/>
            </a:xfrm>
            <a:custGeom>
              <a:avLst/>
              <a:gdLst/>
              <a:ahLst/>
              <a:rect l="l" t="t" r="r" b="b"/>
              <a:pathLst>
                <a:path w="1" h="186">
                  <a:moveTo>
                    <a:pt x="0" y="186"/>
                  </a:moveTo>
                  <a:lnTo>
                    <a:pt x="1" y="0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08CEE-4AC5-4EF7-9C5C-83D604783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fixed ISR lo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268200" y="1806480"/>
            <a:ext cx="28670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P1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request servicing by the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1" name=""/>
          <p:cNvGrpSpPr/>
          <p:nvPr/>
        </p:nvGrpSpPr>
        <p:grpSpPr>
          <a:xfrm>
            <a:off x="3495600" y="1806480"/>
            <a:ext cx="4813200" cy="2262240"/>
            <a:chOff x="3495600" y="1806480"/>
            <a:chExt cx="4813200" cy="2262240"/>
          </a:xfrm>
        </p:grpSpPr>
        <p:sp>
          <p:nvSpPr>
            <p:cNvPr id="762" name=""/>
            <p:cNvSpPr/>
            <p:nvPr/>
          </p:nvSpPr>
          <p:spPr>
            <a:xfrm>
              <a:off x="5813280" y="1806480"/>
              <a:ext cx="6559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703920" y="3052800"/>
              <a:ext cx="696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50280" y="3052800"/>
              <a:ext cx="6984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745320" y="3760920"/>
              <a:ext cx="5778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596360" y="3760920"/>
              <a:ext cx="5760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6485040" y="2631960"/>
              <a:ext cx="173196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06104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90560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383600" y="2314440"/>
              <a:ext cx="925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672240" y="1806480"/>
              <a:ext cx="1560600" cy="433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04040" y="2233440"/>
              <a:ext cx="0" cy="3891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5619600" y="3519360"/>
              <a:ext cx="23976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718320" y="3444840"/>
              <a:ext cx="60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83400" y="344484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538440" y="1806480"/>
              <a:ext cx="2078280" cy="22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614760" y="2192400"/>
              <a:ext cx="344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4048200" y="2192400"/>
              <a:ext cx="14716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578400" y="2395440"/>
              <a:ext cx="380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4048200" y="2395440"/>
              <a:ext cx="1165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595680" y="2612880"/>
              <a:ext cx="36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048200" y="2612880"/>
              <a:ext cx="1550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649680" y="2832120"/>
              <a:ext cx="309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048200" y="2855880"/>
              <a:ext cx="1598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602160" y="2003400"/>
              <a:ext cx="44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495600" y="3543480"/>
              <a:ext cx="436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568680" y="376092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21200" y="3543480"/>
              <a:ext cx="90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4021200" y="3760920"/>
              <a:ext cx="931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686040" y="2978280"/>
              <a:ext cx="265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602160" y="320184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668760" y="3333600"/>
              <a:ext cx="2635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895560" y="1830240"/>
              <a:ext cx="1424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862600" y="3397320"/>
              <a:ext cx="39204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6972480" y="3809880"/>
              <a:ext cx="145800" cy="14616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6" name=""/>
          <p:cNvSpPr/>
          <p:nvPr/>
        </p:nvSpPr>
        <p:spPr>
          <a:xfrm>
            <a:off x="6478560" y="3200400"/>
            <a:ext cx="227160" cy="1440"/>
          </a:xfrm>
          <a:custGeom>
            <a:avLst/>
            <a:gdLst/>
            <a:ahLst/>
            <a:rect l="l" t="t" r="r" b="b"/>
            <a:pathLst>
              <a:path w="143" h="1">
                <a:moveTo>
                  <a:pt x="143" y="0"/>
                </a:moveTo>
                <a:lnTo>
                  <a:pt x="0" y="1"/>
                </a:lnTo>
              </a:path>
            </a:pathLst>
          </a:custGeom>
          <a:noFill/>
          <a:ln w="93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35840" y="3059280"/>
            <a:ext cx="29196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8" name=""/>
          <p:cNvGrpSpPr/>
          <p:nvPr/>
        </p:nvGrpSpPr>
        <p:grpSpPr>
          <a:xfrm>
            <a:off x="6135840" y="3059280"/>
            <a:ext cx="636480" cy="430920"/>
            <a:chOff x="6135840" y="3059280"/>
            <a:chExt cx="636480" cy="430920"/>
          </a:xfrm>
        </p:grpSpPr>
        <p:sp>
          <p:nvSpPr>
            <p:cNvPr id="799" name=""/>
            <p:cNvSpPr/>
            <p:nvPr/>
          </p:nvSpPr>
          <p:spPr>
            <a:xfrm>
              <a:off x="6478560" y="3200400"/>
              <a:ext cx="227160" cy="1440"/>
            </a:xfrm>
            <a:custGeom>
              <a:avLst/>
              <a:gdLst/>
              <a:ahLst/>
              <a:rect l="l" t="t" r="r" b="b"/>
              <a:pathLst>
                <a:path w="143" h="1">
                  <a:moveTo>
                    <a:pt x="143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6135840" y="3059280"/>
              <a:ext cx="291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6429240" y="3276720"/>
              <a:ext cx="343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6316C-B2E2-4D11-AC02-A4F6AE6CDC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fixed ISR lo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68200" y="1806480"/>
            <a:ext cx="2867040" cy="10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After completing instruction at 100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se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sserted, saves the PC’s value of 100, and sets PC to the ISR fixed location of 16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4" name=""/>
          <p:cNvGrpSpPr/>
          <p:nvPr/>
        </p:nvGrpSpPr>
        <p:grpSpPr>
          <a:xfrm>
            <a:off x="3495600" y="1806480"/>
            <a:ext cx="4813200" cy="2262240"/>
            <a:chOff x="3495600" y="1806480"/>
            <a:chExt cx="4813200" cy="2262240"/>
          </a:xfrm>
        </p:grpSpPr>
        <p:sp>
          <p:nvSpPr>
            <p:cNvPr id="805" name=""/>
            <p:cNvSpPr/>
            <p:nvPr/>
          </p:nvSpPr>
          <p:spPr>
            <a:xfrm>
              <a:off x="5813280" y="1806480"/>
              <a:ext cx="6559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6703920" y="3052800"/>
              <a:ext cx="696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550280" y="3052800"/>
              <a:ext cx="6984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6745320" y="3760920"/>
              <a:ext cx="5778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596360" y="3760920"/>
              <a:ext cx="5760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6485040" y="2631960"/>
              <a:ext cx="173196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06104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790560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7383600" y="2314440"/>
              <a:ext cx="925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672240" y="1806480"/>
              <a:ext cx="1560600" cy="433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304040" y="2233440"/>
              <a:ext cx="0" cy="3891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619600" y="3519360"/>
              <a:ext cx="23976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6718320" y="3444840"/>
              <a:ext cx="60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583400" y="344484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38440" y="1806480"/>
              <a:ext cx="2078280" cy="22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614760" y="2192400"/>
              <a:ext cx="344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048200" y="2192400"/>
              <a:ext cx="14716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3578400" y="2395440"/>
              <a:ext cx="380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048200" y="2395440"/>
              <a:ext cx="1165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3595680" y="2612880"/>
              <a:ext cx="36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4048200" y="2612880"/>
              <a:ext cx="1550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3649680" y="2832120"/>
              <a:ext cx="309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048200" y="2855880"/>
              <a:ext cx="1598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3602160" y="2003400"/>
              <a:ext cx="44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495600" y="3543480"/>
              <a:ext cx="436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568680" y="376092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021200" y="3543480"/>
              <a:ext cx="90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021200" y="3760920"/>
              <a:ext cx="931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86040" y="2978280"/>
              <a:ext cx="265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602160" y="320184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8760" y="3333600"/>
              <a:ext cx="2635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95560" y="1830240"/>
              <a:ext cx="1424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862600" y="3397320"/>
              <a:ext cx="39204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972480" y="3809880"/>
              <a:ext cx="145800" cy="14616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6478560" y="3200400"/>
              <a:ext cx="227160" cy="1440"/>
            </a:xfrm>
            <a:custGeom>
              <a:avLst/>
              <a:gdLst/>
              <a:ahLst/>
              <a:rect l="l" t="t" r="r" b="b"/>
              <a:pathLst>
                <a:path w="143" h="1">
                  <a:moveTo>
                    <a:pt x="143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135840" y="3059280"/>
              <a:ext cx="291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1" name=""/>
            <p:cNvGrpSpPr/>
            <p:nvPr/>
          </p:nvGrpSpPr>
          <p:grpSpPr>
            <a:xfrm>
              <a:off x="5862600" y="3505320"/>
              <a:ext cx="547560" cy="450720"/>
              <a:chOff x="5862600" y="3505320"/>
              <a:chExt cx="547560" cy="450720"/>
            </a:xfrm>
          </p:grpSpPr>
          <p:sp>
            <p:nvSpPr>
              <p:cNvPr id="842" name=""/>
              <p:cNvSpPr/>
              <p:nvPr/>
            </p:nvSpPr>
            <p:spPr>
              <a:xfrm>
                <a:off x="5862600" y="3701880"/>
                <a:ext cx="392040" cy="254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6305400" y="3505320"/>
                <a:ext cx="104760" cy="323640"/>
              </a:xfrm>
              <a:custGeom>
                <a:avLst/>
                <a:gdLst/>
                <a:ahLst/>
                <a:rect l="l" t="t" r="r" b="b"/>
                <a:pathLst>
                  <a:path w="66" h="204">
                    <a:moveTo>
                      <a:pt x="0" y="0"/>
                    </a:moveTo>
                    <a:cubicBezTo>
                      <a:pt x="33" y="37"/>
                      <a:pt x="66" y="74"/>
                      <a:pt x="66" y="108"/>
                    </a:cubicBezTo>
                    <a:cubicBezTo>
                      <a:pt x="66" y="142"/>
                      <a:pt x="33" y="173"/>
                      <a:pt x="0" y="204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44" name=""/>
            <p:cNvSpPr/>
            <p:nvPr/>
          </p:nvSpPr>
          <p:spPr>
            <a:xfrm>
              <a:off x="5305320" y="1919160"/>
              <a:ext cx="266760" cy="1684440"/>
            </a:xfrm>
            <a:custGeom>
              <a:avLst/>
              <a:gdLst/>
              <a:ahLst/>
              <a:rect l="l" t="t" r="r" b="b"/>
              <a:pathLst>
                <a:path w="168" h="1061">
                  <a:moveTo>
                    <a:pt x="162" y="1005"/>
                  </a:moveTo>
                  <a:cubicBezTo>
                    <a:pt x="136" y="1033"/>
                    <a:pt x="110" y="1061"/>
                    <a:pt x="108" y="915"/>
                  </a:cubicBezTo>
                  <a:cubicBezTo>
                    <a:pt x="106" y="769"/>
                    <a:pt x="168" y="258"/>
                    <a:pt x="150" y="129"/>
                  </a:cubicBezTo>
                  <a:cubicBezTo>
                    <a:pt x="132" y="0"/>
                    <a:pt x="66" y="70"/>
                    <a:pt x="0" y="141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862600" y="3701880"/>
              <a:ext cx="39204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8FFE8-103F-4D35-B920-A261EFF065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6" name=""/>
          <p:cNvGrpSpPr/>
          <p:nvPr/>
        </p:nvGrpSpPr>
        <p:grpSpPr>
          <a:xfrm>
            <a:off x="3495600" y="1806480"/>
            <a:ext cx="4813200" cy="2262240"/>
            <a:chOff x="3495600" y="1806480"/>
            <a:chExt cx="4813200" cy="2262240"/>
          </a:xfrm>
        </p:grpSpPr>
        <p:sp>
          <p:nvSpPr>
            <p:cNvPr id="847" name=""/>
            <p:cNvSpPr/>
            <p:nvPr/>
          </p:nvSpPr>
          <p:spPr>
            <a:xfrm>
              <a:off x="5813280" y="1806480"/>
              <a:ext cx="6559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6703920" y="3052800"/>
              <a:ext cx="696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550280" y="3052800"/>
              <a:ext cx="6984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6745320" y="3760920"/>
              <a:ext cx="5778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596360" y="3760920"/>
              <a:ext cx="5760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6485040" y="2631960"/>
              <a:ext cx="173196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06104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790560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7383600" y="2314440"/>
              <a:ext cx="925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72240" y="1806480"/>
              <a:ext cx="1560600" cy="433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7304040" y="2233440"/>
              <a:ext cx="0" cy="3891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5619600" y="3519360"/>
              <a:ext cx="23976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718320" y="3444840"/>
              <a:ext cx="60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7583400" y="344484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538440" y="1806480"/>
              <a:ext cx="2078280" cy="22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614760" y="2192400"/>
              <a:ext cx="344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4048200" y="2192400"/>
              <a:ext cx="14716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 R0, 0x800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578400" y="2395440"/>
              <a:ext cx="380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4048200" y="2395440"/>
              <a:ext cx="1165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# modifies R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595680" y="2612880"/>
              <a:ext cx="36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4048200" y="2612880"/>
              <a:ext cx="1550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 0x8001, R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649680" y="2832120"/>
              <a:ext cx="309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4048200" y="2855880"/>
              <a:ext cx="1598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602160" y="2003400"/>
              <a:ext cx="44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495600" y="3543480"/>
              <a:ext cx="436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568680" y="376092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021200" y="3543480"/>
              <a:ext cx="90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stru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4021200" y="3760920"/>
              <a:ext cx="931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686040" y="2978280"/>
              <a:ext cx="265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602160" y="320184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68686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668760" y="3333600"/>
              <a:ext cx="2635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895560" y="1830240"/>
              <a:ext cx="1424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5862600" y="3397320"/>
              <a:ext cx="39204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6972480" y="3809880"/>
              <a:ext cx="145800" cy="14616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478560" y="3200400"/>
              <a:ext cx="227160" cy="1440"/>
            </a:xfrm>
            <a:custGeom>
              <a:avLst/>
              <a:gdLst/>
              <a:ahLst/>
              <a:rect l="l" t="t" r="r" b="b"/>
              <a:pathLst>
                <a:path w="143" h="1">
                  <a:moveTo>
                    <a:pt x="143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135840" y="3059280"/>
              <a:ext cx="291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fixed ISR lo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268200" y="1806480"/>
            <a:ext cx="28670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(a): The ISR reads data from 0x8000, modifies the data, and writes the resulting data to 0x8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(b): After being read, P1 de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62600" y="3701880"/>
            <a:ext cx="392040" cy="254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6" name=""/>
          <p:cNvGrpSpPr/>
          <p:nvPr/>
        </p:nvGrpSpPr>
        <p:grpSpPr>
          <a:xfrm>
            <a:off x="6135840" y="3052800"/>
            <a:ext cx="1866600" cy="1015920"/>
            <a:chOff x="6135840" y="3052800"/>
            <a:chExt cx="1866600" cy="1015920"/>
          </a:xfrm>
        </p:grpSpPr>
        <p:grpSp>
          <p:nvGrpSpPr>
            <p:cNvPr id="887" name=""/>
            <p:cNvGrpSpPr/>
            <p:nvPr/>
          </p:nvGrpSpPr>
          <p:grpSpPr>
            <a:xfrm>
              <a:off x="6135840" y="3052800"/>
              <a:ext cx="1265040" cy="1015920"/>
              <a:chOff x="6135840" y="3052800"/>
              <a:chExt cx="1265040" cy="1015920"/>
            </a:xfrm>
          </p:grpSpPr>
          <p:grpSp>
            <p:nvGrpSpPr>
              <p:cNvPr id="888" name=""/>
              <p:cNvGrpSpPr/>
              <p:nvPr/>
            </p:nvGrpSpPr>
            <p:grpSpPr>
              <a:xfrm>
                <a:off x="6135840" y="3059280"/>
                <a:ext cx="588960" cy="411840"/>
                <a:chOff x="6135840" y="3059280"/>
                <a:chExt cx="588960" cy="411840"/>
              </a:xfrm>
            </p:grpSpPr>
            <p:sp>
              <p:nvSpPr>
                <p:cNvPr id="889" name=""/>
                <p:cNvSpPr/>
                <p:nvPr/>
              </p:nvSpPr>
              <p:spPr>
                <a:xfrm>
                  <a:off x="6478560" y="3200400"/>
                  <a:ext cx="227160" cy="1440"/>
                </a:xfrm>
                <a:custGeom>
                  <a:avLst/>
                  <a:gdLst/>
                  <a:ahLst/>
                  <a:rect l="l" t="t" r="r" b="b"/>
                  <a:pathLst>
                    <a:path w="143" h="1">
                      <a:moveTo>
                        <a:pt x="143" y="0"/>
                      </a:moveTo>
                      <a:lnTo>
                        <a:pt x="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0" name=""/>
                <p:cNvSpPr/>
                <p:nvPr/>
              </p:nvSpPr>
              <p:spPr>
                <a:xfrm>
                  <a:off x="6135840" y="3059280"/>
                  <a:ext cx="291960" cy="295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nt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1" name=""/>
                <p:cNvSpPr/>
                <p:nvPr/>
              </p:nvSpPr>
              <p:spPr>
                <a:xfrm>
                  <a:off x="6458040" y="3257640"/>
                  <a:ext cx="266760" cy="21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 algn="ctr"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92" name=""/>
              <p:cNvSpPr/>
              <p:nvPr/>
            </p:nvSpPr>
            <p:spPr>
              <a:xfrm>
                <a:off x="6703920" y="3052800"/>
                <a:ext cx="696960" cy="1015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3" name=""/>
            <p:cNvGrpSpPr/>
            <p:nvPr/>
          </p:nvGrpSpPr>
          <p:grpSpPr>
            <a:xfrm>
              <a:off x="7810560" y="3781440"/>
              <a:ext cx="191880" cy="192240"/>
              <a:chOff x="7810560" y="3781440"/>
              <a:chExt cx="191880" cy="192240"/>
            </a:xfrm>
          </p:grpSpPr>
          <p:sp>
            <p:nvSpPr>
              <p:cNvPr id="894" name=""/>
              <p:cNvSpPr/>
              <p:nvPr/>
            </p:nvSpPr>
            <p:spPr>
              <a:xfrm>
                <a:off x="7839000" y="3810240"/>
                <a:ext cx="136080" cy="136440"/>
              </a:xfrm>
              <a:prstGeom prst="ellipse">
                <a:avLst/>
              </a:prstGeom>
              <a:solidFill>
                <a:srgbClr val="969696"/>
              </a:solidFill>
              <a:ln cap="sq"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7810560" y="3781440"/>
                <a:ext cx="191880" cy="192240"/>
              </a:xfrm>
              <a:prstGeom prst="ellipse">
                <a:avLst/>
              </a:prstGeom>
              <a:noFill/>
              <a:ln cap="sq"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96" name=""/>
            <p:cNvSpPr/>
            <p:nvPr/>
          </p:nvSpPr>
          <p:spPr>
            <a:xfrm>
              <a:off x="6962760" y="3790800"/>
              <a:ext cx="203040" cy="184320"/>
            </a:xfrm>
            <a:prstGeom prst="ellipse">
              <a:avLst/>
            </a:prstGeom>
            <a:solidFill>
              <a:srgbClr val="ffffff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5970600" y="2286000"/>
            <a:ext cx="2338200" cy="1782720"/>
            <a:chOff x="5970600" y="2286000"/>
            <a:chExt cx="2338200" cy="1782720"/>
          </a:xfrm>
        </p:grpSpPr>
        <p:grpSp>
          <p:nvGrpSpPr>
            <p:cNvPr id="898" name=""/>
            <p:cNvGrpSpPr/>
            <p:nvPr/>
          </p:nvGrpSpPr>
          <p:grpSpPr>
            <a:xfrm>
              <a:off x="5970600" y="2286000"/>
              <a:ext cx="2338200" cy="1782720"/>
              <a:chOff x="5970600" y="2286000"/>
              <a:chExt cx="2338200" cy="1782720"/>
            </a:xfrm>
          </p:grpSpPr>
          <p:grpSp>
            <p:nvGrpSpPr>
              <p:cNvPr id="899" name=""/>
              <p:cNvGrpSpPr/>
              <p:nvPr/>
            </p:nvGrpSpPr>
            <p:grpSpPr>
              <a:xfrm>
                <a:off x="5970600" y="2286000"/>
                <a:ext cx="2338200" cy="1782720"/>
                <a:chOff x="5970600" y="2286000"/>
                <a:chExt cx="2338200" cy="1782720"/>
              </a:xfrm>
            </p:grpSpPr>
            <p:grpSp>
              <p:nvGrpSpPr>
                <p:cNvPr id="900" name=""/>
                <p:cNvGrpSpPr/>
                <p:nvPr/>
              </p:nvGrpSpPr>
              <p:grpSpPr>
                <a:xfrm>
                  <a:off x="5970600" y="2286000"/>
                  <a:ext cx="2338200" cy="1687680"/>
                  <a:chOff x="5970600" y="2286000"/>
                  <a:chExt cx="2338200" cy="1687680"/>
                </a:xfrm>
              </p:grpSpPr>
              <p:sp>
                <p:nvSpPr>
                  <p:cNvPr id="901" name=""/>
                  <p:cNvSpPr/>
                  <p:nvPr/>
                </p:nvSpPr>
                <p:spPr>
                  <a:xfrm>
                    <a:off x="6438960" y="2666880"/>
                    <a:ext cx="934920" cy="1251000"/>
                  </a:xfrm>
                  <a:custGeom>
                    <a:avLst/>
                    <a:gdLst/>
                    <a:ahLst/>
                    <a:rect l="l" t="t" r="r" b="b"/>
                    <a:pathLst>
                      <a:path w="589" h="788">
                        <a:moveTo>
                          <a:pt x="468" y="762"/>
                        </a:moveTo>
                        <a:cubicBezTo>
                          <a:pt x="484" y="757"/>
                          <a:pt x="546" y="788"/>
                          <a:pt x="564" y="732"/>
                        </a:cubicBezTo>
                        <a:cubicBezTo>
                          <a:pt x="582" y="676"/>
                          <a:pt x="575" y="520"/>
                          <a:pt x="576" y="426"/>
                        </a:cubicBezTo>
                        <a:cubicBezTo>
                          <a:pt x="577" y="332"/>
                          <a:pt x="589" y="223"/>
                          <a:pt x="570" y="168"/>
                        </a:cubicBezTo>
                        <a:cubicBezTo>
                          <a:pt x="551" y="113"/>
                          <a:pt x="506" y="109"/>
                          <a:pt x="462" y="96"/>
                        </a:cubicBezTo>
                        <a:cubicBezTo>
                          <a:pt x="418" y="83"/>
                          <a:pt x="361" y="93"/>
                          <a:pt x="306" y="90"/>
                        </a:cubicBezTo>
                        <a:cubicBezTo>
                          <a:pt x="251" y="87"/>
                          <a:pt x="183" y="93"/>
                          <a:pt x="132" y="78"/>
                        </a:cubicBezTo>
                        <a:cubicBezTo>
                          <a:pt x="81" y="63"/>
                          <a:pt x="27" y="16"/>
                          <a:pt x="0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2" name=""/>
                  <p:cNvSpPr/>
                  <p:nvPr/>
                </p:nvSpPr>
                <p:spPr>
                  <a:xfrm>
                    <a:off x="5970600" y="2381400"/>
                    <a:ext cx="115920" cy="228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44">
                        <a:moveTo>
                          <a:pt x="61" y="144"/>
                        </a:moveTo>
                        <a:cubicBezTo>
                          <a:pt x="52" y="135"/>
                          <a:pt x="14" y="115"/>
                          <a:pt x="7" y="96"/>
                        </a:cubicBezTo>
                        <a:cubicBezTo>
                          <a:pt x="0" y="77"/>
                          <a:pt x="8" y="46"/>
                          <a:pt x="19" y="30"/>
                        </a:cubicBezTo>
                        <a:cubicBezTo>
                          <a:pt x="30" y="14"/>
                          <a:pt x="62" y="6"/>
                          <a:pt x="73" y="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  <a:tailEnd len="sm" type="arrow" w="sm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3" name=""/>
                  <p:cNvSpPr/>
                  <p:nvPr/>
                </p:nvSpPr>
                <p:spPr>
                  <a:xfrm>
                    <a:off x="6515280" y="2448000"/>
                    <a:ext cx="1180800" cy="1409760"/>
                  </a:xfrm>
                  <a:custGeom>
                    <a:avLst/>
                    <a:gdLst/>
                    <a:ahLst/>
                    <a:rect l="l" t="t" r="r" b="b"/>
                    <a:pathLst>
                      <a:path w="744" h="888">
                        <a:moveTo>
                          <a:pt x="0" y="0"/>
                        </a:moveTo>
                        <a:cubicBezTo>
                          <a:pt x="21" y="9"/>
                          <a:pt x="61" y="44"/>
                          <a:pt x="132" y="54"/>
                        </a:cubicBezTo>
                        <a:cubicBezTo>
                          <a:pt x="203" y="64"/>
                          <a:pt x="348" y="52"/>
                          <a:pt x="426" y="60"/>
                        </a:cubicBezTo>
                        <a:cubicBezTo>
                          <a:pt x="504" y="68"/>
                          <a:pt x="568" y="59"/>
                          <a:pt x="600" y="102"/>
                        </a:cubicBezTo>
                        <a:cubicBezTo>
                          <a:pt x="632" y="145"/>
                          <a:pt x="612" y="217"/>
                          <a:pt x="618" y="318"/>
                        </a:cubicBezTo>
                        <a:cubicBezTo>
                          <a:pt x="624" y="419"/>
                          <a:pt x="615" y="613"/>
                          <a:pt x="636" y="708"/>
                        </a:cubicBezTo>
                        <a:cubicBezTo>
                          <a:pt x="657" y="803"/>
                          <a:pt x="721" y="850"/>
                          <a:pt x="744" y="8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prstDash val="dash"/>
                    <a:round/>
                    <a:tailEnd len="med" type="arrow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4" name=""/>
                  <p:cNvSpPr/>
                  <p:nvPr/>
                </p:nvSpPr>
                <p:spPr>
                  <a:xfrm>
                    <a:off x="6981840" y="3800520"/>
                    <a:ext cx="165240" cy="16488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5" name=""/>
                  <p:cNvSpPr/>
                  <p:nvPr/>
                </p:nvSpPr>
                <p:spPr>
                  <a:xfrm>
                    <a:off x="6210360" y="2552760"/>
                    <a:ext cx="136440" cy="13644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6200640" y="2314440"/>
                    <a:ext cx="136800" cy="13680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6172200" y="2286000"/>
                    <a:ext cx="192240" cy="19224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7839000" y="3809880"/>
                    <a:ext cx="136440" cy="136800"/>
                  </a:xfrm>
                  <a:prstGeom prst="ellipse">
                    <a:avLst/>
                  </a:prstGeom>
                  <a:solidFill>
                    <a:srgbClr val="000000"/>
                  </a:solidFill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7810560" y="3781440"/>
                    <a:ext cx="191880" cy="192240"/>
                  </a:xfrm>
                  <a:prstGeom prst="ellipse">
                    <a:avLst/>
                  </a:prstGeom>
                  <a:noFill/>
                  <a:ln cap="sq"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ctr">
                    <a:sp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6485040" y="2631960"/>
                    <a:ext cx="1731960" cy="360"/>
                  </a:xfrm>
                  <a:custGeom>
                    <a:avLst/>
                    <a:gdLst/>
                    <a:ahLst/>
                    <a:rect l="l" t="t" r="r" b="b"/>
                    <a:pathLst>
                      <a:path w="1427" h="2">
                        <a:moveTo>
                          <a:pt x="0" y="2"/>
                        </a:moveTo>
                        <a:lnTo>
                          <a:pt x="1427" y="0"/>
                        </a:lnTo>
                      </a:path>
                    </a:pathLst>
                  </a:custGeom>
                  <a:noFill/>
                  <a:ln w="15840">
                    <a:solidFill>
                      <a:srgbClr val="000000"/>
                    </a:solidFill>
                    <a:round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440" bIns="-464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7061040" y="2631960"/>
                    <a:ext cx="0" cy="4096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7905600" y="2631960"/>
                    <a:ext cx="0" cy="409680"/>
                  </a:xfrm>
                  <a:prstGeom prst="line">
                    <a:avLst/>
                  </a:prstGeom>
                  <a:ln w="1584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7383600" y="2314440"/>
                    <a:ext cx="925200" cy="358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System bus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14" name=""/>
                <p:cNvSpPr/>
                <p:nvPr/>
              </p:nvSpPr>
              <p:spPr>
                <a:xfrm>
                  <a:off x="6703920" y="3052800"/>
                  <a:ext cx="696960" cy="10159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P1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15" name=""/>
              <p:cNvSpPr/>
              <p:nvPr/>
            </p:nvSpPr>
            <p:spPr>
              <a:xfrm>
                <a:off x="6744960" y="3760920"/>
                <a:ext cx="578160" cy="23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6718320" y="3444840"/>
                <a:ext cx="60624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0x8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17" name=""/>
            <p:cNvSpPr/>
            <p:nvPr/>
          </p:nvSpPr>
          <p:spPr>
            <a:xfrm>
              <a:off x="7550280" y="3052800"/>
              <a:ext cx="698400" cy="101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596360" y="3760920"/>
              <a:ext cx="57600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7583400" y="344484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4A370-C26F-4B93-A35C-CCFAFC1E4E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fixed ISR lo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268200" y="1806480"/>
            <a:ext cx="286704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 The ISR returns, thus restoring PC to 100+1=101, wher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resumes execu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2" name=""/>
          <p:cNvGrpSpPr/>
          <p:nvPr/>
        </p:nvGrpSpPr>
        <p:grpSpPr>
          <a:xfrm>
            <a:off x="3495600" y="1806480"/>
            <a:ext cx="4813200" cy="2262240"/>
            <a:chOff x="3495600" y="1806480"/>
            <a:chExt cx="4813200" cy="2262240"/>
          </a:xfrm>
        </p:grpSpPr>
        <p:sp>
          <p:nvSpPr>
            <p:cNvPr id="923" name=""/>
            <p:cNvSpPr/>
            <p:nvPr/>
          </p:nvSpPr>
          <p:spPr>
            <a:xfrm>
              <a:off x="5813280" y="1806480"/>
              <a:ext cx="6559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703920" y="3052800"/>
              <a:ext cx="696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550280" y="3052800"/>
              <a:ext cx="6984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745320" y="3760920"/>
              <a:ext cx="5778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7596360" y="3760920"/>
              <a:ext cx="5760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85040" y="2631960"/>
              <a:ext cx="173196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06104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05600" y="263196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383600" y="2314440"/>
              <a:ext cx="925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672240" y="1806480"/>
              <a:ext cx="1560600" cy="433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304040" y="2233440"/>
              <a:ext cx="0" cy="3891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619600" y="3519360"/>
              <a:ext cx="23976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718320" y="3444840"/>
              <a:ext cx="60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583400" y="344484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538440" y="1806480"/>
              <a:ext cx="2078280" cy="22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614760" y="2192400"/>
              <a:ext cx="344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048200" y="2192400"/>
              <a:ext cx="14716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 R0, 0x800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578400" y="2395440"/>
              <a:ext cx="380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048200" y="2395440"/>
              <a:ext cx="1165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# modifies R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595680" y="2612880"/>
              <a:ext cx="36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048200" y="2612880"/>
              <a:ext cx="1550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 0x8001, R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649680" y="2832120"/>
              <a:ext cx="309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4048200" y="2855880"/>
              <a:ext cx="1598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602160" y="2003400"/>
              <a:ext cx="44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495600" y="3543480"/>
              <a:ext cx="436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568680" y="376092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4021200" y="3543480"/>
              <a:ext cx="90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stru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4021200" y="3760920"/>
              <a:ext cx="931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686040" y="2978280"/>
              <a:ext cx="265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602160" y="320184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68686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668760" y="3333600"/>
              <a:ext cx="2635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895560" y="1830240"/>
              <a:ext cx="1424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862600" y="3397320"/>
              <a:ext cx="39204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478560" y="3200400"/>
              <a:ext cx="227160" cy="1440"/>
            </a:xfrm>
            <a:custGeom>
              <a:avLst/>
              <a:gdLst/>
              <a:ahLst/>
              <a:rect l="l" t="t" r="r" b="b"/>
              <a:pathLst>
                <a:path w="143" h="1">
                  <a:moveTo>
                    <a:pt x="143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135840" y="3059280"/>
              <a:ext cx="291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862600" y="3701880"/>
              <a:ext cx="392040" cy="2541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7829640" y="3809880"/>
              <a:ext cx="136440" cy="13680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7800840" y="3781440"/>
              <a:ext cx="192240" cy="192240"/>
            </a:xfrm>
            <a:prstGeom prst="ellipse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862600" y="3701880"/>
              <a:ext cx="39204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286680" y="3514680"/>
              <a:ext cx="144360" cy="314280"/>
            </a:xfrm>
            <a:custGeom>
              <a:avLst/>
              <a:gdLst/>
              <a:ahLst/>
              <a:rect l="l" t="t" r="r" b="b"/>
              <a:pathLst>
                <a:path w="91" h="198">
                  <a:moveTo>
                    <a:pt x="6" y="198"/>
                  </a:moveTo>
                  <a:cubicBezTo>
                    <a:pt x="20" y="184"/>
                    <a:pt x="91" y="147"/>
                    <a:pt x="90" y="114"/>
                  </a:cubicBezTo>
                  <a:cubicBezTo>
                    <a:pt x="89" y="81"/>
                    <a:pt x="19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6458040" y="359100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4" name=""/>
            <p:cNvGrpSpPr/>
            <p:nvPr/>
          </p:nvGrpSpPr>
          <p:grpSpPr>
            <a:xfrm>
              <a:off x="3495600" y="2003400"/>
              <a:ext cx="2819520" cy="1997280"/>
              <a:chOff x="3495600" y="2003400"/>
              <a:chExt cx="2819520" cy="1997280"/>
            </a:xfrm>
          </p:grpSpPr>
          <p:grpSp>
            <p:nvGrpSpPr>
              <p:cNvPr id="965" name=""/>
              <p:cNvGrpSpPr/>
              <p:nvPr/>
            </p:nvGrpSpPr>
            <p:grpSpPr>
              <a:xfrm>
                <a:off x="3495600" y="2003400"/>
                <a:ext cx="2151000" cy="1983960"/>
                <a:chOff x="3495600" y="2003400"/>
                <a:chExt cx="2151000" cy="1983960"/>
              </a:xfrm>
            </p:grpSpPr>
            <p:grpSp>
              <p:nvGrpSpPr>
                <p:cNvPr id="966" name=""/>
                <p:cNvGrpSpPr/>
                <p:nvPr/>
              </p:nvGrpSpPr>
              <p:grpSpPr>
                <a:xfrm>
                  <a:off x="3495600" y="2003400"/>
                  <a:ext cx="2151000" cy="1983960"/>
                  <a:chOff x="3495600" y="2003400"/>
                  <a:chExt cx="2151000" cy="1983960"/>
                </a:xfrm>
              </p:grpSpPr>
              <p:sp>
                <p:nvSpPr>
                  <p:cNvPr id="967" name=""/>
                  <p:cNvSpPr/>
                  <p:nvPr/>
                </p:nvSpPr>
                <p:spPr>
                  <a:xfrm>
                    <a:off x="3614400" y="2192040"/>
                    <a:ext cx="344520" cy="21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6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8" name=""/>
                  <p:cNvSpPr/>
                  <p:nvPr/>
                </p:nvSpPr>
                <p:spPr>
                  <a:xfrm>
                    <a:off x="4047840" y="2192040"/>
                    <a:ext cx="1471680" cy="23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MOV R0, 0x8000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9" name=""/>
                  <p:cNvSpPr/>
                  <p:nvPr/>
                </p:nvSpPr>
                <p:spPr>
                  <a:xfrm>
                    <a:off x="3578040" y="2395440"/>
                    <a:ext cx="380880" cy="21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7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"/>
                  <p:cNvSpPr/>
                  <p:nvPr/>
                </p:nvSpPr>
                <p:spPr>
                  <a:xfrm>
                    <a:off x="4047840" y="2395440"/>
                    <a:ext cx="1165320" cy="25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# modifies R0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"/>
                  <p:cNvSpPr/>
                  <p:nvPr/>
                </p:nvSpPr>
                <p:spPr>
                  <a:xfrm>
                    <a:off x="3595320" y="2612880"/>
                    <a:ext cx="363600" cy="226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8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"/>
                  <p:cNvSpPr/>
                  <p:nvPr/>
                </p:nvSpPr>
                <p:spPr>
                  <a:xfrm>
                    <a:off x="4047840" y="2612880"/>
                    <a:ext cx="1550880" cy="21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MOV 0x8001, R0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"/>
                  <p:cNvSpPr/>
                  <p:nvPr/>
                </p:nvSpPr>
                <p:spPr>
                  <a:xfrm>
                    <a:off x="3649320" y="2831760"/>
                    <a:ext cx="309600" cy="21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9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"/>
                  <p:cNvSpPr/>
                  <p:nvPr/>
                </p:nvSpPr>
                <p:spPr>
                  <a:xfrm>
                    <a:off x="4047840" y="2855520"/>
                    <a:ext cx="1598760" cy="236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RETI  # ISR retur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"/>
                  <p:cNvSpPr/>
                  <p:nvPr/>
                </p:nvSpPr>
                <p:spPr>
                  <a:xfrm>
                    <a:off x="3601800" y="2003400"/>
                    <a:ext cx="446040" cy="31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ISR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6" name=""/>
                  <p:cNvSpPr/>
                  <p:nvPr/>
                </p:nvSpPr>
                <p:spPr>
                  <a:xfrm>
                    <a:off x="3495600" y="3543120"/>
                    <a:ext cx="43632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7" name=""/>
                  <p:cNvSpPr/>
                  <p:nvPr/>
                </p:nvSpPr>
                <p:spPr>
                  <a:xfrm>
                    <a:off x="3568320" y="3760560"/>
                    <a:ext cx="363600" cy="20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1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8" name=""/>
                  <p:cNvSpPr/>
                  <p:nvPr/>
                </p:nvSpPr>
                <p:spPr>
                  <a:xfrm>
                    <a:off x="4020840" y="3543120"/>
                    <a:ext cx="906480" cy="27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struction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9" name=""/>
                  <p:cNvSpPr/>
                  <p:nvPr/>
                </p:nvSpPr>
                <p:spPr>
                  <a:xfrm>
                    <a:off x="4020840" y="3760560"/>
                    <a:ext cx="932040" cy="22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struction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0" name=""/>
                  <p:cNvSpPr/>
                  <p:nvPr/>
                </p:nvSpPr>
                <p:spPr>
                  <a:xfrm>
                    <a:off x="3686040" y="2977920"/>
                    <a:ext cx="2649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1" name=""/>
                  <p:cNvSpPr/>
                  <p:nvPr/>
                </p:nvSpPr>
                <p:spPr>
                  <a:xfrm>
                    <a:off x="3601800" y="3201840"/>
                    <a:ext cx="1216080" cy="30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in progra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82" name=""/>
                  <p:cNvSpPr/>
                  <p:nvPr/>
                </p:nvSpPr>
                <p:spPr>
                  <a:xfrm>
                    <a:off x="3668400" y="3333600"/>
                    <a:ext cx="263520" cy="226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83" name=""/>
                <p:cNvSpPr/>
                <p:nvPr/>
              </p:nvSpPr>
              <p:spPr>
                <a:xfrm>
                  <a:off x="5038560" y="3218040"/>
                  <a:ext cx="543240" cy="407880"/>
                </a:xfrm>
                <a:custGeom>
                  <a:avLst/>
                  <a:gdLst/>
                  <a:ahLst/>
                  <a:rect l="l" t="t" r="r" b="b"/>
                  <a:pathLst>
                    <a:path w="342" h="257">
                      <a:moveTo>
                        <a:pt x="342" y="187"/>
                      </a:moveTo>
                      <a:cubicBezTo>
                        <a:pt x="313" y="222"/>
                        <a:pt x="285" y="257"/>
                        <a:pt x="276" y="229"/>
                      </a:cubicBezTo>
                      <a:cubicBezTo>
                        <a:pt x="267" y="201"/>
                        <a:pt x="334" y="38"/>
                        <a:pt x="288" y="19"/>
                      </a:cubicBezTo>
                      <a:cubicBezTo>
                        <a:pt x="242" y="0"/>
                        <a:pt x="121" y="57"/>
                        <a:pt x="0" y="115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84" name=""/>
              <p:cNvSpPr/>
              <p:nvPr/>
            </p:nvSpPr>
            <p:spPr>
              <a:xfrm>
                <a:off x="5848200" y="3686040"/>
                <a:ext cx="46692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5" name=""/>
            <p:cNvSpPr/>
            <p:nvPr/>
          </p:nvSpPr>
          <p:spPr>
            <a:xfrm>
              <a:off x="5862600" y="3701880"/>
              <a:ext cx="39204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9139B-A27A-4EA1-A4F2-00FA8A3D5B0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7" name=""/>
          <p:cNvGrpSpPr/>
          <p:nvPr/>
        </p:nvGrpSpPr>
        <p:grpSpPr>
          <a:xfrm>
            <a:off x="1263600" y="1711440"/>
            <a:ext cx="6156360" cy="3973320"/>
            <a:chOff x="1263600" y="1711440"/>
            <a:chExt cx="6156360" cy="3973320"/>
          </a:xfrm>
        </p:grpSpPr>
        <p:sp>
          <p:nvSpPr>
            <p:cNvPr id="988" name=""/>
            <p:cNvSpPr/>
            <p:nvPr/>
          </p:nvSpPr>
          <p:spPr>
            <a:xfrm>
              <a:off x="1623960" y="1711440"/>
              <a:ext cx="3157560" cy="355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(a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μP is executing its main progra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967280" y="1711440"/>
              <a:ext cx="2428920" cy="480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(b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 P1 receives input data in a register with address 0x800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5025960" y="2205000"/>
              <a:ext cx="1800" cy="260280"/>
            </a:xfrm>
            <a:custGeom>
              <a:avLst/>
              <a:gdLst/>
              <a:ahLst/>
              <a:rect l="l" t="t" r="r" b="b"/>
              <a:pathLst>
                <a:path w="1" h="280">
                  <a:moveTo>
                    <a:pt x="0" y="0"/>
                  </a:moveTo>
                  <a:lnTo>
                    <a:pt x="0" y="2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967280" y="2463840"/>
              <a:ext cx="2428920" cy="49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1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quest servicing by the microprocesso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1623960" y="2705040"/>
              <a:ext cx="3157560" cy="738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fter completing instruction at 100, μP see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sserted, saves the PC’s value of 100, and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sert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781520" y="2624040"/>
              <a:ext cx="185760" cy="149400"/>
            </a:xfrm>
            <a:custGeom>
              <a:avLst/>
              <a:gdLst/>
              <a:ahLst/>
              <a:rect l="l" t="t" r="r" b="b"/>
              <a:pathLst>
                <a:path w="220" h="160">
                  <a:moveTo>
                    <a:pt x="220" y="0"/>
                  </a:moveTo>
                  <a:lnTo>
                    <a:pt x="0" y="1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1623960" y="3849840"/>
              <a:ext cx="315756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(a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μP jumps to the address on the bus (16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 The ISR there reads data from 0x8000, modifies the data, and writes the resulting data to 0x8001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623960" y="5056200"/>
              <a:ext cx="3157560" cy="55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200" spc="-1" strike="noStrike">
                  <a:solidFill>
                    <a:srgbClr val="000000"/>
                  </a:solidFill>
                  <a:latin typeface="Times New Roman"/>
                </a:rPr>
                <a:t>6: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 The ISR returns, thus restoring PC to 100+1=101, where μP resumes execut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967280" y="4224240"/>
              <a:ext cx="2428920" cy="58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(b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fter being read, P1 de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781520" y="4199040"/>
              <a:ext cx="185760" cy="139680"/>
            </a:xfrm>
            <a:custGeom>
              <a:avLst/>
              <a:gdLst/>
              <a:ahLst/>
              <a:rect l="l" t="t" r="r" b="b"/>
              <a:pathLst>
                <a:path w="220" h="150">
                  <a:moveTo>
                    <a:pt x="0" y="0"/>
                  </a:moveTo>
                  <a:lnTo>
                    <a:pt x="220" y="1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3187800" y="4767120"/>
              <a:ext cx="1440" cy="289080"/>
            </a:xfrm>
            <a:custGeom>
              <a:avLst/>
              <a:gdLst/>
              <a:ahLst/>
              <a:rect l="l" t="t" r="r" b="b"/>
              <a:pathLst>
                <a:path w="1" h="310">
                  <a:moveTo>
                    <a:pt x="0" y="0"/>
                  </a:moveTo>
                  <a:lnTo>
                    <a:pt x="0" y="3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3205080" y="2071800"/>
              <a:ext cx="360" cy="636480"/>
            </a:xfrm>
            <a:custGeom>
              <a:avLst/>
              <a:gdLst/>
              <a:ahLst/>
              <a:rect l="l" t="t" r="r" b="b"/>
              <a:pathLst>
                <a:path w="1" h="683">
                  <a:moveTo>
                    <a:pt x="1" y="0"/>
                  </a:moveTo>
                  <a:lnTo>
                    <a:pt x="0" y="68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15880" y="2205000"/>
              <a:ext cx="5040" cy="3479760"/>
            </a:xfrm>
            <a:custGeom>
              <a:avLst/>
              <a:gdLst/>
              <a:ahLst/>
              <a:rect l="l" t="t" r="r" b="b"/>
              <a:pathLst>
                <a:path w="7" h="3735">
                  <a:moveTo>
                    <a:pt x="7" y="0"/>
                  </a:moveTo>
                  <a:lnTo>
                    <a:pt x="0" y="37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 rot="5400000">
              <a:off x="1177200" y="1867680"/>
              <a:ext cx="4363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991040" y="3166920"/>
              <a:ext cx="2428920" cy="760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1 detec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nd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uts interrupt address vector 16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on the data bu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781520" y="3127320"/>
              <a:ext cx="211320" cy="325440"/>
            </a:xfrm>
            <a:custGeom>
              <a:avLst/>
              <a:gdLst/>
              <a:ahLst/>
              <a:rect l="l" t="t" r="r" b="b"/>
              <a:pathLst>
                <a:path w="250" h="350">
                  <a:moveTo>
                    <a:pt x="0" y="0"/>
                  </a:moveTo>
                  <a:lnTo>
                    <a:pt x="250" y="3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781520" y="3630600"/>
              <a:ext cx="211320" cy="334800"/>
            </a:xfrm>
            <a:custGeom>
              <a:avLst/>
              <a:gdLst/>
              <a:ahLst/>
              <a:rect l="l" t="t" r="r" b="b"/>
              <a:pathLst>
                <a:path w="250" h="360">
                  <a:moveTo>
                    <a:pt x="250" y="0"/>
                  </a:move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65BE-1632-4BDE-AA72-8AA20473153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6" name=""/>
          <p:cNvGrpSpPr/>
          <p:nvPr/>
        </p:nvGrpSpPr>
        <p:grpSpPr>
          <a:xfrm>
            <a:off x="3540240" y="1852560"/>
            <a:ext cx="4989240" cy="2363760"/>
            <a:chOff x="3540240" y="1852560"/>
            <a:chExt cx="4989240" cy="2363760"/>
          </a:xfrm>
        </p:grpSpPr>
        <p:sp>
          <p:nvSpPr>
            <p:cNvPr id="1007" name=""/>
            <p:cNvSpPr/>
            <p:nvPr/>
          </p:nvSpPr>
          <p:spPr>
            <a:xfrm>
              <a:off x="5945040" y="1852560"/>
              <a:ext cx="68112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864480" y="3111480"/>
              <a:ext cx="7268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743960" y="3111480"/>
              <a:ext cx="726840" cy="107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6912000" y="3908520"/>
              <a:ext cx="59832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790040" y="3908520"/>
              <a:ext cx="59832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6640560" y="2687760"/>
              <a:ext cx="179532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23888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811224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569360" y="2365200"/>
              <a:ext cx="960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6835680" y="1852560"/>
              <a:ext cx="1616040" cy="438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488360" y="2284560"/>
              <a:ext cx="0" cy="3920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5743440" y="3583080"/>
              <a:ext cx="24948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6918480" y="3672000"/>
              <a:ext cx="633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805880" y="3679920"/>
              <a:ext cx="604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584520" y="1852560"/>
              <a:ext cx="215604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662280" y="2243160"/>
              <a:ext cx="358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113360" y="2243160"/>
              <a:ext cx="1527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625920" y="2448000"/>
              <a:ext cx="3952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13360" y="2448000"/>
              <a:ext cx="1207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643200" y="2666880"/>
              <a:ext cx="37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113360" y="2666880"/>
              <a:ext cx="1608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3700440" y="2889360"/>
              <a:ext cx="32076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113360" y="2913120"/>
              <a:ext cx="1658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3649680" y="2050920"/>
              <a:ext cx="463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3540240" y="3606840"/>
              <a:ext cx="453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616200" y="3825720"/>
              <a:ext cx="3780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084560" y="3606840"/>
              <a:ext cx="9414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084560" y="3825720"/>
              <a:ext cx="966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3738600" y="3036960"/>
              <a:ext cx="272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649680" y="3262320"/>
              <a:ext cx="12636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3719520" y="339552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3956040" y="1876320"/>
              <a:ext cx="14763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996160" y="3460680"/>
              <a:ext cx="406080" cy="2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005520" y="3801960"/>
              <a:ext cx="40644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229440" y="3048120"/>
              <a:ext cx="647640" cy="465120"/>
              <a:chOff x="6229440" y="3048120"/>
              <a:chExt cx="647640" cy="465120"/>
            </a:xfrm>
          </p:grpSpPr>
          <p:sp>
            <p:nvSpPr>
              <p:cNvPr id="1042" name=""/>
              <p:cNvSpPr/>
              <p:nvPr/>
            </p:nvSpPr>
            <p:spPr>
              <a:xfrm>
                <a:off x="6634080" y="3324240"/>
                <a:ext cx="243000" cy="4680"/>
              </a:xfrm>
              <a:custGeom>
                <a:avLst/>
                <a:gdLst/>
                <a:ahLst/>
                <a:rect l="l" t="t" r="r" b="b"/>
                <a:pathLst>
                  <a:path w="153" h="3">
                    <a:moveTo>
                      <a:pt x="153" y="0"/>
                    </a:moveTo>
                    <a:lnTo>
                      <a:pt x="0" y="3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6280200" y="3216240"/>
                <a:ext cx="3016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Times New Roman"/>
                  </a:rPr>
                  <a:t>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39120" y="3189240"/>
                <a:ext cx="236520" cy="144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1"/>
                    </a:moveTo>
                    <a:lnTo>
                      <a:pt x="149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6229440" y="3048120"/>
                <a:ext cx="3650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Times New Roman"/>
                  </a:rPr>
                  <a:t>I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6" name=""/>
            <p:cNvSpPr/>
            <p:nvPr/>
          </p:nvSpPr>
          <p:spPr>
            <a:xfrm>
              <a:off x="6943680" y="3392640"/>
              <a:ext cx="339840" cy="258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7" name=""/>
          <p:cNvSpPr/>
          <p:nvPr/>
        </p:nvSpPr>
        <p:spPr>
          <a:xfrm>
            <a:off x="276120" y="1876320"/>
            <a:ext cx="3105360" cy="75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a): P is executing its main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b): P1 receives input data in a register with address 0x8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7153200" y="4486320"/>
            <a:ext cx="136440" cy="136440"/>
          </a:xfrm>
          <a:prstGeom prst="ellipse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9" name=""/>
          <p:cNvGrpSpPr/>
          <p:nvPr/>
        </p:nvGrpSpPr>
        <p:grpSpPr>
          <a:xfrm>
            <a:off x="7143840" y="3952800"/>
            <a:ext cx="136440" cy="486000"/>
            <a:chOff x="7143840" y="3952800"/>
            <a:chExt cx="136440" cy="486000"/>
          </a:xfrm>
        </p:grpSpPr>
        <p:sp>
          <p:nvSpPr>
            <p:cNvPr id="1050" name=""/>
            <p:cNvSpPr/>
            <p:nvPr/>
          </p:nvSpPr>
          <p:spPr>
            <a:xfrm>
              <a:off x="7210440" y="4143240"/>
              <a:ext cx="1440" cy="295560"/>
            </a:xfrm>
            <a:custGeom>
              <a:avLst/>
              <a:gdLst/>
              <a:ahLst/>
              <a:rect l="l" t="t" r="r" b="b"/>
              <a:pathLst>
                <a:path w="1" h="186">
                  <a:moveTo>
                    <a:pt x="0" y="186"/>
                  </a:moveTo>
                  <a:lnTo>
                    <a:pt x="1" y="0"/>
                  </a:lnTo>
                </a:path>
              </a:pathLst>
            </a:custGeom>
            <a:noFill/>
            <a:ln cap="sq" w="1260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143840" y="39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7DB7C-FC0B-425C-A8E1-5D959E4E9C2B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53" name=""/>
          <p:cNvGrpSpPr/>
          <p:nvPr/>
        </p:nvGrpSpPr>
        <p:grpSpPr>
          <a:xfrm>
            <a:off x="3540240" y="1852560"/>
            <a:ext cx="4989240" cy="2363760"/>
            <a:chOff x="3540240" y="1852560"/>
            <a:chExt cx="4989240" cy="2363760"/>
          </a:xfrm>
        </p:grpSpPr>
        <p:sp>
          <p:nvSpPr>
            <p:cNvPr id="1054" name=""/>
            <p:cNvSpPr/>
            <p:nvPr/>
          </p:nvSpPr>
          <p:spPr>
            <a:xfrm>
              <a:off x="5945040" y="1852560"/>
              <a:ext cx="68112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864480" y="3111480"/>
              <a:ext cx="7268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7743960" y="3111480"/>
              <a:ext cx="726840" cy="107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12000" y="3908520"/>
              <a:ext cx="598320" cy="236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7790040" y="3908520"/>
              <a:ext cx="59832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640560" y="2687760"/>
              <a:ext cx="179532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723888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11224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7569360" y="2365200"/>
              <a:ext cx="960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835680" y="1852560"/>
              <a:ext cx="1616040" cy="438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7488360" y="2284560"/>
              <a:ext cx="0" cy="3920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743440" y="3583080"/>
              <a:ext cx="24948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918480" y="3672000"/>
              <a:ext cx="633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805880" y="3679920"/>
              <a:ext cx="604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584520" y="1852560"/>
              <a:ext cx="215604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662280" y="2243160"/>
              <a:ext cx="358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4113360" y="2243160"/>
              <a:ext cx="1527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625920" y="2448000"/>
              <a:ext cx="3952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4113360" y="2448000"/>
              <a:ext cx="1207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643200" y="2666880"/>
              <a:ext cx="37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4113360" y="2666880"/>
              <a:ext cx="1608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700440" y="2889360"/>
              <a:ext cx="32076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4113360" y="2913120"/>
              <a:ext cx="1658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649680" y="2050920"/>
              <a:ext cx="463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540240" y="3606840"/>
              <a:ext cx="453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616200" y="3825720"/>
              <a:ext cx="3780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4084560" y="3606840"/>
              <a:ext cx="9414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084560" y="3825720"/>
              <a:ext cx="966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738600" y="3036960"/>
              <a:ext cx="272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3649680" y="3262320"/>
              <a:ext cx="12636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3719520" y="339552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956040" y="1876320"/>
              <a:ext cx="14763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996160" y="3460680"/>
              <a:ext cx="406080" cy="2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005520" y="3801960"/>
              <a:ext cx="406440" cy="254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6638760" y="3189240"/>
              <a:ext cx="236880" cy="1800"/>
            </a:xfrm>
            <a:custGeom>
              <a:avLst/>
              <a:gdLst/>
              <a:ahLst/>
              <a:rect l="l" t="t" r="r" b="b"/>
              <a:pathLst>
                <a:path w="149" h="1">
                  <a:moveTo>
                    <a:pt x="0" y="1"/>
                  </a:moveTo>
                  <a:lnTo>
                    <a:pt x="149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6229440" y="3048120"/>
              <a:ext cx="3650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6943680" y="3392640"/>
              <a:ext cx="339840" cy="258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1" name=""/>
          <p:cNvSpPr/>
          <p:nvPr/>
        </p:nvSpPr>
        <p:spPr>
          <a:xfrm>
            <a:off x="276120" y="1876320"/>
            <a:ext cx="3105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P1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request servicing by the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7143840" y="3952800"/>
            <a:ext cx="136440" cy="136440"/>
          </a:xfrm>
          <a:prstGeom prst="ellipse">
            <a:avLst/>
          </a:prstGeom>
          <a:solidFill>
            <a:srgbClr val="969696"/>
          </a:solidFill>
          <a:ln cap="sq"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634080" y="3324240"/>
            <a:ext cx="233280" cy="4680"/>
          </a:xfrm>
          <a:custGeom>
            <a:avLst/>
            <a:gdLst/>
            <a:ahLst/>
            <a:rect l="l" t="t" r="r" b="b"/>
            <a:pathLst>
              <a:path w="147" h="3">
                <a:moveTo>
                  <a:pt x="147" y="0"/>
                </a:moveTo>
                <a:lnTo>
                  <a:pt x="0" y="3"/>
                </a:lnTo>
              </a:path>
            </a:pathLst>
          </a:custGeom>
          <a:noFill/>
          <a:ln w="9360">
            <a:solidFill>
              <a:srgbClr val="96969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280200" y="3216240"/>
            <a:ext cx="30168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Times New Roman"/>
              </a:rPr>
              <a:t>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5" name=""/>
          <p:cNvGrpSpPr/>
          <p:nvPr/>
        </p:nvGrpSpPr>
        <p:grpSpPr>
          <a:xfrm>
            <a:off x="6280200" y="3216240"/>
            <a:ext cx="625320" cy="395640"/>
            <a:chOff x="6280200" y="3216240"/>
            <a:chExt cx="625320" cy="395640"/>
          </a:xfrm>
        </p:grpSpPr>
        <p:sp>
          <p:nvSpPr>
            <p:cNvPr id="1096" name=""/>
            <p:cNvSpPr/>
            <p:nvPr/>
          </p:nvSpPr>
          <p:spPr>
            <a:xfrm>
              <a:off x="6600960" y="3429000"/>
              <a:ext cx="30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6634080" y="3324240"/>
              <a:ext cx="233280" cy="4680"/>
            </a:xfrm>
            <a:custGeom>
              <a:avLst/>
              <a:gdLst/>
              <a:ahLst/>
              <a:rect l="l" t="t" r="r" b="b"/>
              <a:pathLst>
                <a:path w="147" h="3">
                  <a:moveTo>
                    <a:pt x="147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6280200" y="3216240"/>
              <a:ext cx="3016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82F3-B144-4EF0-A580-A33E68F9B67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276120" y="1876320"/>
            <a:ext cx="310536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After completing instruction at 100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se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sserted, saves the PC’s value of 100, and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sserts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1" name=""/>
          <p:cNvGrpSpPr/>
          <p:nvPr/>
        </p:nvGrpSpPr>
        <p:grpSpPr>
          <a:xfrm>
            <a:off x="3540240" y="1852560"/>
            <a:ext cx="4989240" cy="2363760"/>
            <a:chOff x="3540240" y="1852560"/>
            <a:chExt cx="4989240" cy="2363760"/>
          </a:xfrm>
        </p:grpSpPr>
        <p:sp>
          <p:nvSpPr>
            <p:cNvPr id="1102" name=""/>
            <p:cNvSpPr/>
            <p:nvPr/>
          </p:nvSpPr>
          <p:spPr>
            <a:xfrm>
              <a:off x="5945040" y="1852560"/>
              <a:ext cx="68112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864480" y="3111480"/>
              <a:ext cx="726840" cy="10810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7743960" y="3111480"/>
              <a:ext cx="726840" cy="107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912000" y="3908520"/>
              <a:ext cx="598320" cy="236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7790040" y="3908520"/>
              <a:ext cx="59832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640560" y="2687760"/>
              <a:ext cx="179532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723888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811224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7569360" y="2365200"/>
              <a:ext cx="960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835680" y="1852560"/>
              <a:ext cx="1616040" cy="438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7488360" y="2284560"/>
              <a:ext cx="0" cy="3920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743440" y="3583080"/>
              <a:ext cx="24948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918480" y="3672000"/>
              <a:ext cx="633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805880" y="3679920"/>
              <a:ext cx="604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84520" y="1852560"/>
              <a:ext cx="215604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62280" y="2243160"/>
              <a:ext cx="358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4113360" y="2243160"/>
              <a:ext cx="1527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25920" y="2448000"/>
              <a:ext cx="3952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4113360" y="2448000"/>
              <a:ext cx="1207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643200" y="2666880"/>
              <a:ext cx="37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4113360" y="2666880"/>
              <a:ext cx="1608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0440" y="2889360"/>
              <a:ext cx="32076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113360" y="2913120"/>
              <a:ext cx="1658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649680" y="2050920"/>
              <a:ext cx="463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540240" y="3606840"/>
              <a:ext cx="453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616200" y="3825720"/>
              <a:ext cx="3780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4084560" y="3606840"/>
              <a:ext cx="9414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084560" y="3825720"/>
              <a:ext cx="966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38600" y="3036960"/>
              <a:ext cx="272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649680" y="3262320"/>
              <a:ext cx="12636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19520" y="339552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956040" y="1876320"/>
              <a:ext cx="14763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5996160" y="3460680"/>
              <a:ext cx="406080" cy="2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634080" y="3324240"/>
              <a:ext cx="233280" cy="4680"/>
            </a:xfrm>
            <a:custGeom>
              <a:avLst/>
              <a:gdLst/>
              <a:ahLst/>
              <a:rect l="l" t="t" r="r" b="b"/>
              <a:pathLst>
                <a:path w="147" h="3">
                  <a:moveTo>
                    <a:pt x="147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80200" y="3216240"/>
              <a:ext cx="3016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638760" y="3189240"/>
              <a:ext cx="236880" cy="1800"/>
            </a:xfrm>
            <a:custGeom>
              <a:avLst/>
              <a:gdLst/>
              <a:ahLst/>
              <a:rect l="l" t="t" r="r" b="b"/>
              <a:pathLst>
                <a:path w="149" h="1">
                  <a:moveTo>
                    <a:pt x="0" y="1"/>
                  </a:moveTo>
                  <a:lnTo>
                    <a:pt x="149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229440" y="3048120"/>
              <a:ext cx="3650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943680" y="3392640"/>
              <a:ext cx="339840" cy="258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143840" y="3952800"/>
              <a:ext cx="136440" cy="13644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41" name=""/>
            <p:cNvGrpSpPr/>
            <p:nvPr/>
          </p:nvGrpSpPr>
          <p:grpSpPr>
            <a:xfrm>
              <a:off x="6005520" y="3543480"/>
              <a:ext cx="550800" cy="512640"/>
              <a:chOff x="6005520" y="3543480"/>
              <a:chExt cx="550800" cy="512640"/>
            </a:xfrm>
          </p:grpSpPr>
          <p:sp>
            <p:nvSpPr>
              <p:cNvPr id="1142" name=""/>
              <p:cNvSpPr/>
              <p:nvPr/>
            </p:nvSpPr>
            <p:spPr>
              <a:xfrm>
                <a:off x="6005520" y="3801960"/>
                <a:ext cx="406440" cy="254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6467400" y="3543480"/>
                <a:ext cx="88920" cy="409320"/>
              </a:xfrm>
              <a:custGeom>
                <a:avLst/>
                <a:gdLst/>
                <a:ahLst/>
                <a:rect l="l" t="t" r="r" b="b"/>
                <a:pathLst>
                  <a:path w="56" h="258">
                    <a:moveTo>
                      <a:pt x="0" y="0"/>
                    </a:moveTo>
                    <a:cubicBezTo>
                      <a:pt x="8" y="6"/>
                      <a:pt x="40" y="17"/>
                      <a:pt x="48" y="36"/>
                    </a:cubicBezTo>
                    <a:cubicBezTo>
                      <a:pt x="56" y="55"/>
                      <a:pt x="55" y="77"/>
                      <a:pt x="48" y="114"/>
                    </a:cubicBezTo>
                    <a:cubicBezTo>
                      <a:pt x="41" y="151"/>
                      <a:pt x="15" y="228"/>
                      <a:pt x="6" y="258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4" name=""/>
            <p:cNvSpPr/>
            <p:nvPr/>
          </p:nvSpPr>
          <p:spPr>
            <a:xfrm>
              <a:off x="6005520" y="3801960"/>
              <a:ext cx="40644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610320" y="2933640"/>
              <a:ext cx="30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638760" y="3189240"/>
              <a:ext cx="236880" cy="1800"/>
            </a:xfrm>
            <a:custGeom>
              <a:avLst/>
              <a:gdLst/>
              <a:ahLst/>
              <a:rect l="l" t="t" r="r" b="b"/>
              <a:pathLst>
                <a:path w="149" h="1">
                  <a:moveTo>
                    <a:pt x="0" y="1"/>
                  </a:moveTo>
                  <a:lnTo>
                    <a:pt x="14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229440" y="3048120"/>
              <a:ext cx="3650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88EEA-679C-46F9-892B-C539E685B9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 functionality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of data between processors and memo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ed using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e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terfac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9ED2C-41D1-4D02-8EC3-9895738B467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8" name=""/>
          <p:cNvGrpSpPr/>
          <p:nvPr/>
        </p:nvGrpSpPr>
        <p:grpSpPr>
          <a:xfrm>
            <a:off x="3540240" y="1852560"/>
            <a:ext cx="4989240" cy="2363760"/>
            <a:chOff x="3540240" y="1852560"/>
            <a:chExt cx="4989240" cy="2363760"/>
          </a:xfrm>
        </p:grpSpPr>
        <p:sp>
          <p:nvSpPr>
            <p:cNvPr id="1149" name=""/>
            <p:cNvSpPr/>
            <p:nvPr/>
          </p:nvSpPr>
          <p:spPr>
            <a:xfrm>
              <a:off x="5945040" y="1852560"/>
              <a:ext cx="68112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864480" y="3111480"/>
              <a:ext cx="726840" cy="1081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743960" y="3111480"/>
              <a:ext cx="726840" cy="1077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912000" y="3908520"/>
              <a:ext cx="59832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7790040" y="3908520"/>
              <a:ext cx="598320" cy="236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640560" y="2687760"/>
              <a:ext cx="179532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723888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8112240" y="2687760"/>
              <a:ext cx="0" cy="412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7569360" y="2365200"/>
              <a:ext cx="960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835680" y="1852560"/>
              <a:ext cx="1616040" cy="43812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7488360" y="2284560"/>
              <a:ext cx="0" cy="3920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5743440" y="3583080"/>
              <a:ext cx="24948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918480" y="3672000"/>
              <a:ext cx="633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805880" y="3679920"/>
              <a:ext cx="604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584520" y="1852560"/>
              <a:ext cx="2156040" cy="23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662280" y="2243160"/>
              <a:ext cx="35892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113360" y="2243160"/>
              <a:ext cx="15271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625920" y="2448000"/>
              <a:ext cx="3952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113360" y="2448000"/>
              <a:ext cx="12078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643200" y="2666880"/>
              <a:ext cx="378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113360" y="2666880"/>
              <a:ext cx="160812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MOV 0x8001, R0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3700440" y="2889360"/>
              <a:ext cx="32076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13360" y="2913120"/>
              <a:ext cx="16588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649680" y="2050920"/>
              <a:ext cx="46368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3540240" y="3606840"/>
              <a:ext cx="4539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616200" y="3825720"/>
              <a:ext cx="378000" cy="2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084560" y="3606840"/>
              <a:ext cx="9414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084560" y="3825720"/>
              <a:ext cx="96696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3738600" y="3036960"/>
              <a:ext cx="27288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649680" y="3262320"/>
              <a:ext cx="126360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719520" y="339552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3956040" y="1876320"/>
              <a:ext cx="14763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5996160" y="3460680"/>
              <a:ext cx="406080" cy="255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6634080" y="3324240"/>
              <a:ext cx="233280" cy="4680"/>
            </a:xfrm>
            <a:custGeom>
              <a:avLst/>
              <a:gdLst/>
              <a:ahLst/>
              <a:rect l="l" t="t" r="r" b="b"/>
              <a:pathLst>
                <a:path w="147" h="3">
                  <a:moveTo>
                    <a:pt x="147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6280200" y="3216240"/>
              <a:ext cx="3016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6638760" y="3189240"/>
              <a:ext cx="236880" cy="1800"/>
            </a:xfrm>
            <a:custGeom>
              <a:avLst/>
              <a:gdLst/>
              <a:ahLst/>
              <a:rect l="l" t="t" r="r" b="b"/>
              <a:pathLst>
                <a:path w="149" h="1">
                  <a:moveTo>
                    <a:pt x="0" y="1"/>
                  </a:moveTo>
                  <a:lnTo>
                    <a:pt x="149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6229440" y="3048120"/>
              <a:ext cx="36504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6943680" y="3392640"/>
              <a:ext cx="339840" cy="258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143840" y="3952800"/>
              <a:ext cx="136440" cy="13644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6005520" y="3801960"/>
            <a:ext cx="406440" cy="25416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68686"/>
                </a:solidFill>
                <a:latin typeface="Times New Roman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76120" y="1876320"/>
            <a:ext cx="3105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P1 detec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a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puts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interrupt address vector 16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on the data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1" name=""/>
          <p:cNvGrpSpPr/>
          <p:nvPr/>
        </p:nvGrpSpPr>
        <p:grpSpPr>
          <a:xfrm>
            <a:off x="6334200" y="2365200"/>
            <a:ext cx="2195280" cy="1285920"/>
            <a:chOff x="6334200" y="2365200"/>
            <a:chExt cx="2195280" cy="1285920"/>
          </a:xfrm>
        </p:grpSpPr>
        <p:grpSp>
          <p:nvGrpSpPr>
            <p:cNvPr id="1192" name=""/>
            <p:cNvGrpSpPr/>
            <p:nvPr/>
          </p:nvGrpSpPr>
          <p:grpSpPr>
            <a:xfrm>
              <a:off x="6334200" y="2449440"/>
              <a:ext cx="2101680" cy="1201680"/>
              <a:chOff x="6334200" y="2449440"/>
              <a:chExt cx="2101680" cy="1201680"/>
            </a:xfrm>
          </p:grpSpPr>
          <p:sp>
            <p:nvSpPr>
              <p:cNvPr id="1193" name=""/>
              <p:cNvSpPr/>
              <p:nvPr/>
            </p:nvSpPr>
            <p:spPr>
              <a:xfrm>
                <a:off x="6705720" y="2552760"/>
                <a:ext cx="709560" cy="1049400"/>
              </a:xfrm>
              <a:custGeom>
                <a:avLst/>
                <a:gdLst/>
                <a:ahLst/>
                <a:rect l="l" t="t" r="r" b="b"/>
                <a:pathLst>
                  <a:path w="447" h="661">
                    <a:moveTo>
                      <a:pt x="414" y="636"/>
                    </a:moveTo>
                    <a:cubicBezTo>
                      <a:pt x="417" y="629"/>
                      <a:pt x="427" y="661"/>
                      <a:pt x="432" y="594"/>
                    </a:cubicBezTo>
                    <a:cubicBezTo>
                      <a:pt x="437" y="527"/>
                      <a:pt x="447" y="322"/>
                      <a:pt x="444" y="234"/>
                    </a:cubicBezTo>
                    <a:cubicBezTo>
                      <a:pt x="441" y="146"/>
                      <a:pt x="436" y="103"/>
                      <a:pt x="414" y="66"/>
                    </a:cubicBezTo>
                    <a:cubicBezTo>
                      <a:pt x="392" y="29"/>
                      <a:pt x="381" y="23"/>
                      <a:pt x="312" y="12"/>
                    </a:cubicBezTo>
                    <a:cubicBezTo>
                      <a:pt x="243" y="1"/>
                      <a:pt x="65" y="2"/>
                      <a:pt x="0" y="0"/>
                    </a:cubicBezTo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dash"/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640560" y="2687760"/>
                <a:ext cx="1795320" cy="360"/>
              </a:xfrm>
              <a:custGeom>
                <a:avLst/>
                <a:gdLst/>
                <a:ahLst/>
                <a:rect l="l" t="t" r="r" b="b"/>
                <a:pathLst>
                  <a:path w="1427" h="2">
                    <a:moveTo>
                      <a:pt x="0" y="2"/>
                    </a:moveTo>
                    <a:lnTo>
                      <a:pt x="1427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7238880" y="2687760"/>
                <a:ext cx="0" cy="41256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334200" y="2449440"/>
                <a:ext cx="2728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943680" y="3392640"/>
                <a:ext cx="339840" cy="258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8" name=""/>
            <p:cNvSpPr/>
            <p:nvPr/>
          </p:nvSpPr>
          <p:spPr>
            <a:xfrm>
              <a:off x="7569360" y="2365200"/>
              <a:ext cx="960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B1E29-BBA7-4A2D-A7D4-2E0F274E00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76120" y="1876320"/>
            <a:ext cx="3105360" cy="15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(a): PC jumps to the address on the bus (16).  The ISR there reads data from 0x8000, modifies the data, and writes the resulting data to 0x8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(b): After being read, P1 de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1" name=""/>
          <p:cNvGrpSpPr/>
          <p:nvPr/>
        </p:nvGrpSpPr>
        <p:grpSpPr>
          <a:xfrm>
            <a:off x="3540240" y="1852560"/>
            <a:ext cx="4989240" cy="2363760"/>
            <a:chOff x="3540240" y="1852560"/>
            <a:chExt cx="4989240" cy="2363760"/>
          </a:xfrm>
        </p:grpSpPr>
        <p:grpSp>
          <p:nvGrpSpPr>
            <p:cNvPr id="1202" name=""/>
            <p:cNvGrpSpPr/>
            <p:nvPr/>
          </p:nvGrpSpPr>
          <p:grpSpPr>
            <a:xfrm>
              <a:off x="3540240" y="1852560"/>
              <a:ext cx="4989240" cy="2363760"/>
              <a:chOff x="3540240" y="1852560"/>
              <a:chExt cx="4989240" cy="2363760"/>
            </a:xfrm>
          </p:grpSpPr>
          <p:sp>
            <p:nvSpPr>
              <p:cNvPr id="1203" name=""/>
              <p:cNvSpPr/>
              <p:nvPr/>
            </p:nvSpPr>
            <p:spPr>
              <a:xfrm>
                <a:off x="5945040" y="1852560"/>
                <a:ext cx="681120" cy="236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μP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6864480" y="3111480"/>
                <a:ext cx="726840" cy="10810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P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743960" y="3111480"/>
                <a:ext cx="726840" cy="107784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P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12000" y="3908520"/>
                <a:ext cx="598320" cy="236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7790040" y="3908520"/>
                <a:ext cx="598320" cy="23652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6640560" y="2687760"/>
                <a:ext cx="1795320" cy="360"/>
              </a:xfrm>
              <a:custGeom>
                <a:avLst/>
                <a:gdLst/>
                <a:ahLst/>
                <a:rect l="l" t="t" r="r" b="b"/>
                <a:pathLst>
                  <a:path w="1427" h="2">
                    <a:moveTo>
                      <a:pt x="0" y="2"/>
                    </a:moveTo>
                    <a:lnTo>
                      <a:pt x="1427" y="0"/>
                    </a:lnTo>
                  </a:path>
                </a:pathLst>
              </a:custGeom>
              <a:noFill/>
              <a:ln w="15840">
                <a:solidFill>
                  <a:srgbClr val="86868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7238880" y="2687760"/>
                <a:ext cx="0" cy="412560"/>
              </a:xfrm>
              <a:prstGeom prst="line">
                <a:avLst/>
              </a:prstGeom>
              <a:ln w="15840">
                <a:solidFill>
                  <a:srgbClr val="86868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8112240" y="2687760"/>
                <a:ext cx="0" cy="412560"/>
              </a:xfrm>
              <a:prstGeom prst="line">
                <a:avLst/>
              </a:prstGeom>
              <a:ln w="15840">
                <a:solidFill>
                  <a:srgbClr val="86868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7569360" y="2365200"/>
                <a:ext cx="960120" cy="29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System bu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6835680" y="1852560"/>
                <a:ext cx="1616040" cy="43812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08080"/>
                    </a:solidFill>
                    <a:latin typeface="Times New Roman"/>
                  </a:rPr>
                  <a:t>Data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7488360" y="2284560"/>
                <a:ext cx="0" cy="392040"/>
              </a:xfrm>
              <a:prstGeom prst="line">
                <a:avLst/>
              </a:prstGeom>
              <a:ln w="15840">
                <a:solidFill>
                  <a:srgbClr val="96969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743440" y="3583080"/>
                <a:ext cx="249480" cy="3240"/>
              </a:xfrm>
              <a:custGeom>
                <a:avLst/>
                <a:gdLst/>
                <a:ahLst/>
                <a:rect l="l" t="t" r="r" b="b"/>
                <a:pathLst>
                  <a:path w="196" h="3">
                    <a:moveTo>
                      <a:pt x="196" y="3"/>
                    </a:move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18480" y="3672000"/>
                <a:ext cx="63324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0x80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805880" y="3679920"/>
                <a:ext cx="604800" cy="24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0x800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3584520" y="1852560"/>
                <a:ext cx="2156040" cy="236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3662280" y="2243160"/>
                <a:ext cx="35892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6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4113360" y="2243160"/>
                <a:ext cx="152712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MOV R0, 0x800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3625920" y="2448000"/>
                <a:ext cx="39528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7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4113360" y="2448000"/>
                <a:ext cx="120780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# modifies R0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3643200" y="2666880"/>
                <a:ext cx="37800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8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4113360" y="2666880"/>
                <a:ext cx="160812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MOV 0x8001, R0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3700440" y="2889360"/>
                <a:ext cx="32076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9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4113360" y="2913120"/>
                <a:ext cx="16588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RETI  # ISR retur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649680" y="2050920"/>
                <a:ext cx="46368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868686"/>
                    </a:solidFill>
                    <a:latin typeface="Times New Roman"/>
                  </a:rPr>
                  <a:t>IS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540240" y="3606840"/>
                <a:ext cx="4539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0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3616200" y="3825720"/>
                <a:ext cx="37800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01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4084560" y="3606840"/>
                <a:ext cx="94140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4084560" y="3825720"/>
                <a:ext cx="966960" cy="230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instru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3738600" y="3036960"/>
                <a:ext cx="27288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3649680" y="3262320"/>
                <a:ext cx="126360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in progr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3719520" y="3395520"/>
                <a:ext cx="274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3956040" y="1876320"/>
                <a:ext cx="1476360" cy="298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400" spc="-1" strike="noStrike">
                    <a:solidFill>
                      <a:srgbClr val="000000"/>
                    </a:solidFill>
                    <a:latin typeface="Times New Roman"/>
                  </a:rPr>
                  <a:t>Program memory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996160" y="3460680"/>
                <a:ext cx="406080" cy="255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634080" y="3324240"/>
                <a:ext cx="233280" cy="4680"/>
              </a:xfrm>
              <a:custGeom>
                <a:avLst/>
                <a:gdLst/>
                <a:ahLst/>
                <a:rect l="l" t="t" r="r" b="b"/>
                <a:pathLst>
                  <a:path w="147" h="3">
                    <a:moveTo>
                      <a:pt x="147" y="0"/>
                    </a:moveTo>
                    <a:lnTo>
                      <a:pt x="0" y="3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280200" y="3216240"/>
                <a:ext cx="301680" cy="2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In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6638760" y="3189240"/>
                <a:ext cx="236880" cy="180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1"/>
                    </a:moveTo>
                    <a:lnTo>
                      <a:pt x="149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229440" y="3048120"/>
                <a:ext cx="365040" cy="29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Int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943680" y="3392640"/>
                <a:ext cx="339840" cy="258480"/>
              </a:xfrm>
              <a:prstGeom prst="rect">
                <a:avLst/>
              </a:prstGeom>
              <a:noFill/>
              <a:ln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005520" y="3801960"/>
                <a:ext cx="406440" cy="2541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0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182000" y="3952800"/>
                <a:ext cx="136440" cy="136440"/>
              </a:xfrm>
              <a:prstGeom prst="ellipse">
                <a:avLst/>
              </a:prstGeom>
              <a:solidFill>
                <a:srgbClr val="969696"/>
              </a:solidFill>
              <a:ln cap="sq" w="1260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43" name=""/>
            <p:cNvSpPr/>
            <p:nvPr/>
          </p:nvSpPr>
          <p:spPr>
            <a:xfrm>
              <a:off x="5229360" y="2075040"/>
              <a:ext cx="468000" cy="1636560"/>
            </a:xfrm>
            <a:custGeom>
              <a:avLst/>
              <a:gdLst/>
              <a:ahLst/>
              <a:rect l="l" t="t" r="r" b="b"/>
              <a:pathLst>
                <a:path w="295" h="1031">
                  <a:moveTo>
                    <a:pt x="0" y="91"/>
                  </a:moveTo>
                  <a:cubicBezTo>
                    <a:pt x="42" y="86"/>
                    <a:pt x="209" y="0"/>
                    <a:pt x="252" y="55"/>
                  </a:cubicBezTo>
                  <a:cubicBezTo>
                    <a:pt x="295" y="110"/>
                    <a:pt x="278" y="273"/>
                    <a:pt x="258" y="421"/>
                  </a:cubicBezTo>
                  <a:cubicBezTo>
                    <a:pt x="238" y="569"/>
                    <a:pt x="133" y="855"/>
                    <a:pt x="132" y="943"/>
                  </a:cubicBezTo>
                  <a:cubicBezTo>
                    <a:pt x="131" y="1031"/>
                    <a:pt x="227" y="948"/>
                    <a:pt x="252" y="94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3540240" y="2050920"/>
              <a:ext cx="2232000" cy="2004840"/>
              <a:chOff x="3540240" y="2050920"/>
              <a:chExt cx="2232000" cy="2004840"/>
            </a:xfrm>
          </p:grpSpPr>
          <p:sp>
            <p:nvSpPr>
              <p:cNvPr id="1245" name=""/>
              <p:cNvSpPr/>
              <p:nvPr/>
            </p:nvSpPr>
            <p:spPr>
              <a:xfrm>
                <a:off x="3662640" y="2242800"/>
                <a:ext cx="3585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6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4113360" y="2242800"/>
                <a:ext cx="152712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V R0, 0x8000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3625920" y="2447640"/>
                <a:ext cx="39528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7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4113360" y="2447640"/>
                <a:ext cx="1208160" cy="26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# modifies R0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3643560" y="2666880"/>
                <a:ext cx="37764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8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4113360" y="2666880"/>
                <a:ext cx="1608120" cy="21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OV 0x8001, R0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3700440" y="2889000"/>
                <a:ext cx="3207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19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113360" y="2912760"/>
                <a:ext cx="165888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ETI  # ISR retur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3649680" y="2050920"/>
                <a:ext cx="463680" cy="314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ISR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3540240" y="3606480"/>
                <a:ext cx="453960" cy="25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00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3616560" y="3825720"/>
                <a:ext cx="37764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101: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4084920" y="3606480"/>
                <a:ext cx="94140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instru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4084920" y="3825720"/>
                <a:ext cx="966600" cy="23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instruction 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3738600" y="3036600"/>
                <a:ext cx="273240" cy="23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3649680" y="3261960"/>
                <a:ext cx="1263600" cy="37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868686"/>
                    </a:solidFill>
                    <a:latin typeface="Times New Roman"/>
                  </a:rPr>
                  <a:t>Main progra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3719520" y="3395520"/>
                <a:ext cx="2746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868686"/>
                    </a:solidFill>
                    <a:latin typeface="Times New Roman"/>
                  </a:rPr>
                  <a:t>..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1" name=""/>
            <p:cNvSpPr/>
            <p:nvPr/>
          </p:nvSpPr>
          <p:spPr>
            <a:xfrm>
              <a:off x="6638760" y="2819520"/>
              <a:ext cx="924120" cy="1251000"/>
            </a:xfrm>
            <a:custGeom>
              <a:avLst/>
              <a:gdLst/>
              <a:ahLst/>
              <a:rect l="l" t="t" r="r" b="b"/>
              <a:pathLst>
                <a:path w="582" h="788">
                  <a:moveTo>
                    <a:pt x="468" y="762"/>
                  </a:moveTo>
                  <a:cubicBezTo>
                    <a:pt x="484" y="757"/>
                    <a:pt x="546" y="788"/>
                    <a:pt x="564" y="732"/>
                  </a:cubicBezTo>
                  <a:cubicBezTo>
                    <a:pt x="582" y="676"/>
                    <a:pt x="575" y="520"/>
                    <a:pt x="576" y="426"/>
                  </a:cubicBezTo>
                  <a:cubicBezTo>
                    <a:pt x="577" y="332"/>
                    <a:pt x="579" y="231"/>
                    <a:pt x="570" y="168"/>
                  </a:cubicBezTo>
                  <a:cubicBezTo>
                    <a:pt x="561" y="105"/>
                    <a:pt x="566" y="71"/>
                    <a:pt x="522" y="48"/>
                  </a:cubicBezTo>
                  <a:cubicBezTo>
                    <a:pt x="478" y="25"/>
                    <a:pt x="370" y="31"/>
                    <a:pt x="306" y="30"/>
                  </a:cubicBezTo>
                  <a:cubicBezTo>
                    <a:pt x="242" y="29"/>
                    <a:pt x="189" y="47"/>
                    <a:pt x="138" y="42"/>
                  </a:cubicBezTo>
                  <a:cubicBezTo>
                    <a:pt x="87" y="37"/>
                    <a:pt x="29" y="9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6170760" y="2533680"/>
              <a:ext cx="115920" cy="228600"/>
            </a:xfrm>
            <a:custGeom>
              <a:avLst/>
              <a:gdLst/>
              <a:ahLst/>
              <a:rect l="l" t="t" r="r" b="b"/>
              <a:pathLst>
                <a:path w="73" h="144">
                  <a:moveTo>
                    <a:pt x="61" y="144"/>
                  </a:moveTo>
                  <a:cubicBezTo>
                    <a:pt x="52" y="135"/>
                    <a:pt x="14" y="115"/>
                    <a:pt x="7" y="96"/>
                  </a:cubicBezTo>
                  <a:cubicBezTo>
                    <a:pt x="0" y="77"/>
                    <a:pt x="8" y="46"/>
                    <a:pt x="19" y="30"/>
                  </a:cubicBezTo>
                  <a:cubicBezTo>
                    <a:pt x="30" y="14"/>
                    <a:pt x="62" y="6"/>
                    <a:pt x="73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sm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6715080" y="2522520"/>
              <a:ext cx="1285920" cy="1163520"/>
            </a:xfrm>
            <a:custGeom>
              <a:avLst/>
              <a:gdLst/>
              <a:ahLst/>
              <a:rect l="l" t="t" r="r" b="b"/>
              <a:pathLst>
                <a:path w="810" h="733">
                  <a:moveTo>
                    <a:pt x="0" y="7"/>
                  </a:moveTo>
                  <a:cubicBezTo>
                    <a:pt x="48" y="7"/>
                    <a:pt x="193" y="5"/>
                    <a:pt x="288" y="7"/>
                  </a:cubicBezTo>
                  <a:cubicBezTo>
                    <a:pt x="383" y="9"/>
                    <a:pt x="497" y="0"/>
                    <a:pt x="570" y="19"/>
                  </a:cubicBezTo>
                  <a:cubicBezTo>
                    <a:pt x="643" y="38"/>
                    <a:pt x="694" y="76"/>
                    <a:pt x="726" y="121"/>
                  </a:cubicBezTo>
                  <a:cubicBezTo>
                    <a:pt x="758" y="166"/>
                    <a:pt x="748" y="187"/>
                    <a:pt x="762" y="289"/>
                  </a:cubicBezTo>
                  <a:cubicBezTo>
                    <a:pt x="776" y="391"/>
                    <a:pt x="800" y="641"/>
                    <a:pt x="810" y="733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82000" y="39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6410160" y="2705040"/>
              <a:ext cx="136800" cy="1364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6372360" y="2438280"/>
              <a:ext cx="191880" cy="192240"/>
              <a:chOff x="6372360" y="2438280"/>
              <a:chExt cx="191880" cy="192240"/>
            </a:xfrm>
          </p:grpSpPr>
          <p:sp>
            <p:nvSpPr>
              <p:cNvPr id="1267" name=""/>
              <p:cNvSpPr/>
              <p:nvPr/>
            </p:nvSpPr>
            <p:spPr>
              <a:xfrm>
                <a:off x="6400800" y="246708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6372360" y="2438280"/>
                <a:ext cx="191880" cy="19224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69" name=""/>
            <p:cNvGrpSpPr/>
            <p:nvPr/>
          </p:nvGrpSpPr>
          <p:grpSpPr>
            <a:xfrm>
              <a:off x="8010360" y="3933720"/>
              <a:ext cx="191880" cy="192240"/>
              <a:chOff x="8010360" y="3933720"/>
              <a:chExt cx="191880" cy="192240"/>
            </a:xfrm>
          </p:grpSpPr>
          <p:sp>
            <p:nvSpPr>
              <p:cNvPr id="1270" name=""/>
              <p:cNvSpPr/>
              <p:nvPr/>
            </p:nvSpPr>
            <p:spPr>
              <a:xfrm>
                <a:off x="8038800" y="3962520"/>
                <a:ext cx="136440" cy="136440"/>
              </a:xfrm>
              <a:prstGeom prst="ellipse">
                <a:avLst/>
              </a:prstGeom>
              <a:solidFill>
                <a:srgbClr val="000000"/>
              </a:solidFill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8010360" y="3933720"/>
                <a:ext cx="191880" cy="192240"/>
              </a:xfrm>
              <a:prstGeom prst="ellipse">
                <a:avLst/>
              </a:prstGeom>
              <a:noFill/>
              <a:ln cap="sq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72" name=""/>
            <p:cNvSpPr/>
            <p:nvPr/>
          </p:nvSpPr>
          <p:spPr>
            <a:xfrm>
              <a:off x="6864480" y="3111480"/>
              <a:ext cx="726840" cy="1081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743960" y="3111480"/>
              <a:ext cx="726840" cy="10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912000" y="3908520"/>
              <a:ext cx="59832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790040" y="3908520"/>
              <a:ext cx="598320" cy="23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918480" y="3672000"/>
              <a:ext cx="6332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805880" y="3679920"/>
              <a:ext cx="6048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649920" y="2687760"/>
              <a:ext cx="179568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7238880" y="2687760"/>
              <a:ext cx="0" cy="412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8102520" y="2687760"/>
              <a:ext cx="0" cy="4125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7569360" y="2365200"/>
              <a:ext cx="960120" cy="29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8039160" y="3962520"/>
              <a:ext cx="136440" cy="1364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8010360" y="3933720"/>
              <a:ext cx="192240" cy="19224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667560" y="3419640"/>
              <a:ext cx="21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6634080" y="3324240"/>
              <a:ext cx="233280" cy="4680"/>
            </a:xfrm>
            <a:custGeom>
              <a:avLst/>
              <a:gdLst/>
              <a:ahLst/>
              <a:rect l="l" t="t" r="r" b="b"/>
              <a:pathLst>
                <a:path w="147" h="3">
                  <a:moveTo>
                    <a:pt x="147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80200" y="3216240"/>
              <a:ext cx="3016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143840" y="3924360"/>
              <a:ext cx="180720" cy="181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153200" y="3952800"/>
              <a:ext cx="136440" cy="136440"/>
            </a:xfrm>
            <a:prstGeom prst="ellipse">
              <a:avLst/>
            </a:prstGeom>
            <a:solidFill>
              <a:srgbClr val="000000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7A2257-8A8E-497F-A731-719E5D70BE0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-driven I/O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276120" y="1876320"/>
            <a:ext cx="31053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 The ISR returns, thus restoring the PC to 100+1=101, where the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μ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resu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91" name=""/>
          <p:cNvGrpSpPr/>
          <p:nvPr/>
        </p:nvGrpSpPr>
        <p:grpSpPr>
          <a:xfrm>
            <a:off x="3781440" y="1882800"/>
            <a:ext cx="4813200" cy="2262240"/>
            <a:chOff x="3781440" y="1882800"/>
            <a:chExt cx="4813200" cy="2262240"/>
          </a:xfrm>
        </p:grpSpPr>
        <p:sp>
          <p:nvSpPr>
            <p:cNvPr id="1292" name=""/>
            <p:cNvSpPr/>
            <p:nvPr/>
          </p:nvSpPr>
          <p:spPr>
            <a:xfrm>
              <a:off x="6099120" y="1882800"/>
              <a:ext cx="65592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6989760" y="3129120"/>
              <a:ext cx="696960" cy="1015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836120" y="3129120"/>
              <a:ext cx="698400" cy="101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031160" y="3837240"/>
              <a:ext cx="5778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882200" y="3837240"/>
              <a:ext cx="576000" cy="2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6770880" y="2708280"/>
              <a:ext cx="1731960" cy="360"/>
            </a:xfrm>
            <a:custGeom>
              <a:avLst/>
              <a:gdLst/>
              <a:ahLst/>
              <a:rect l="l" t="t" r="r" b="b"/>
              <a:pathLst>
                <a:path w="1427" h="2">
                  <a:moveTo>
                    <a:pt x="0" y="2"/>
                  </a:moveTo>
                  <a:lnTo>
                    <a:pt x="1427" y="0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346880" y="270828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8191440" y="2708280"/>
              <a:ext cx="0" cy="40968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69440" y="2390760"/>
              <a:ext cx="925200" cy="35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6958080" y="1882800"/>
              <a:ext cx="1560600" cy="43344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589880" y="2309760"/>
              <a:ext cx="0" cy="3891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905440" y="3595680"/>
              <a:ext cx="23976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7004160" y="3521160"/>
              <a:ext cx="6062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869240" y="3521160"/>
              <a:ext cx="5857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0x800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3824280" y="1882800"/>
              <a:ext cx="2078280" cy="225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3900600" y="2268720"/>
              <a:ext cx="3445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4334040" y="2268720"/>
              <a:ext cx="147168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 R0, 0x800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864240" y="2471760"/>
              <a:ext cx="38088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7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4334040" y="2471760"/>
              <a:ext cx="11653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# modifies R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3881520" y="2689200"/>
              <a:ext cx="36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34040" y="2689200"/>
              <a:ext cx="1550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V 0x8001, R0</a:t>
              </a: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3935520" y="2908440"/>
              <a:ext cx="30960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334040" y="2932200"/>
              <a:ext cx="1598400" cy="2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TI  # ISR retur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3888000" y="2079720"/>
              <a:ext cx="44604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ISR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3781440" y="3619800"/>
              <a:ext cx="4366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0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3854520" y="383724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1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307040" y="3619800"/>
              <a:ext cx="9064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struction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307040" y="3837240"/>
              <a:ext cx="9316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instructio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3971880" y="3054600"/>
              <a:ext cx="26532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888000" y="3278160"/>
              <a:ext cx="1216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868686"/>
                  </a:solidFill>
                  <a:latin typeface="Times New Roman"/>
                </a:rPr>
                <a:t>Main progr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54600" y="3409920"/>
              <a:ext cx="2635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..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4181400" y="1906560"/>
              <a:ext cx="142416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6148440" y="3473640"/>
              <a:ext cx="392040" cy="253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6764400" y="3276720"/>
              <a:ext cx="227160" cy="1440"/>
            </a:xfrm>
            <a:custGeom>
              <a:avLst/>
              <a:gdLst/>
              <a:ahLst/>
              <a:rect l="l" t="t" r="r" b="b"/>
              <a:pathLst>
                <a:path w="143" h="1">
                  <a:moveTo>
                    <a:pt x="143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421680" y="3135600"/>
              <a:ext cx="29196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6148440" y="3778200"/>
              <a:ext cx="392040" cy="2541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68686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8115480" y="3886200"/>
              <a:ext cx="136440" cy="136800"/>
            </a:xfrm>
            <a:prstGeom prst="ellipse">
              <a:avLst/>
            </a:prstGeom>
            <a:solidFill>
              <a:srgbClr val="969696"/>
            </a:solidFill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8086680" y="3857760"/>
              <a:ext cx="192240" cy="192240"/>
            </a:xfrm>
            <a:prstGeom prst="ellipse">
              <a:avLst/>
            </a:prstGeom>
            <a:noFill/>
            <a:ln cap="sq"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6148440" y="3778200"/>
              <a:ext cx="39204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6572520" y="3591000"/>
              <a:ext cx="144360" cy="314280"/>
            </a:xfrm>
            <a:custGeom>
              <a:avLst/>
              <a:gdLst/>
              <a:ahLst/>
              <a:rect l="l" t="t" r="r" b="b"/>
              <a:pathLst>
                <a:path w="91" h="198">
                  <a:moveTo>
                    <a:pt x="6" y="198"/>
                  </a:moveTo>
                  <a:cubicBezTo>
                    <a:pt x="20" y="184"/>
                    <a:pt x="91" y="147"/>
                    <a:pt x="90" y="114"/>
                  </a:cubicBezTo>
                  <a:cubicBezTo>
                    <a:pt x="89" y="81"/>
                    <a:pt x="19" y="24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743880" y="3667320"/>
              <a:ext cx="257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33" name=""/>
            <p:cNvGrpSpPr/>
            <p:nvPr/>
          </p:nvGrpSpPr>
          <p:grpSpPr>
            <a:xfrm>
              <a:off x="3781440" y="2079720"/>
              <a:ext cx="2819520" cy="1997280"/>
              <a:chOff x="3781440" y="2079720"/>
              <a:chExt cx="2819520" cy="1997280"/>
            </a:xfrm>
          </p:grpSpPr>
          <p:grpSp>
            <p:nvGrpSpPr>
              <p:cNvPr id="1334" name=""/>
              <p:cNvGrpSpPr/>
              <p:nvPr/>
            </p:nvGrpSpPr>
            <p:grpSpPr>
              <a:xfrm>
                <a:off x="3781440" y="2079720"/>
                <a:ext cx="2151000" cy="1983960"/>
                <a:chOff x="3781440" y="2079720"/>
                <a:chExt cx="2151000" cy="1983960"/>
              </a:xfrm>
            </p:grpSpPr>
            <p:grpSp>
              <p:nvGrpSpPr>
                <p:cNvPr id="1335" name=""/>
                <p:cNvGrpSpPr/>
                <p:nvPr/>
              </p:nvGrpSpPr>
              <p:grpSpPr>
                <a:xfrm>
                  <a:off x="3781440" y="2079720"/>
                  <a:ext cx="2151000" cy="1983960"/>
                  <a:chOff x="3781440" y="2079720"/>
                  <a:chExt cx="2151000" cy="1983960"/>
                </a:xfrm>
              </p:grpSpPr>
              <p:sp>
                <p:nvSpPr>
                  <p:cNvPr id="1336" name=""/>
                  <p:cNvSpPr/>
                  <p:nvPr/>
                </p:nvSpPr>
                <p:spPr>
                  <a:xfrm>
                    <a:off x="3900240" y="2268360"/>
                    <a:ext cx="344520" cy="21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6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7" name=""/>
                  <p:cNvSpPr/>
                  <p:nvPr/>
                </p:nvSpPr>
                <p:spPr>
                  <a:xfrm>
                    <a:off x="4333680" y="2268360"/>
                    <a:ext cx="1471680" cy="230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MOV R0, 0x8000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8" name=""/>
                  <p:cNvSpPr/>
                  <p:nvPr/>
                </p:nvSpPr>
                <p:spPr>
                  <a:xfrm>
                    <a:off x="3863880" y="2471760"/>
                    <a:ext cx="380880" cy="21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7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9" name=""/>
                  <p:cNvSpPr/>
                  <p:nvPr/>
                </p:nvSpPr>
                <p:spPr>
                  <a:xfrm>
                    <a:off x="4333680" y="2471760"/>
                    <a:ext cx="1165320" cy="256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# modifies R0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0" name=""/>
                  <p:cNvSpPr/>
                  <p:nvPr/>
                </p:nvSpPr>
                <p:spPr>
                  <a:xfrm>
                    <a:off x="3881160" y="2689200"/>
                    <a:ext cx="363600" cy="226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8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1" name=""/>
                  <p:cNvSpPr/>
                  <p:nvPr/>
                </p:nvSpPr>
                <p:spPr>
                  <a:xfrm>
                    <a:off x="4333680" y="2689200"/>
                    <a:ext cx="1550880" cy="21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MOV 0x8001, R0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2" name=""/>
                  <p:cNvSpPr/>
                  <p:nvPr/>
                </p:nvSpPr>
                <p:spPr>
                  <a:xfrm>
                    <a:off x="3935160" y="2908080"/>
                    <a:ext cx="309600" cy="21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19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3" name=""/>
                  <p:cNvSpPr/>
                  <p:nvPr/>
                </p:nvSpPr>
                <p:spPr>
                  <a:xfrm>
                    <a:off x="4333680" y="2931840"/>
                    <a:ext cx="1598760" cy="2361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RETI  # ISR return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4" name=""/>
                  <p:cNvSpPr/>
                  <p:nvPr/>
                </p:nvSpPr>
                <p:spPr>
                  <a:xfrm>
                    <a:off x="3887640" y="2079720"/>
                    <a:ext cx="446040" cy="311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868686"/>
                        </a:solidFill>
                        <a:latin typeface="Times New Roman"/>
                      </a:rPr>
                      <a:t>ISR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5" name=""/>
                  <p:cNvSpPr/>
                  <p:nvPr/>
                </p:nvSpPr>
                <p:spPr>
                  <a:xfrm>
                    <a:off x="3781440" y="3619440"/>
                    <a:ext cx="436320" cy="259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0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6" name=""/>
                  <p:cNvSpPr/>
                  <p:nvPr/>
                </p:nvSpPr>
                <p:spPr>
                  <a:xfrm>
                    <a:off x="3854160" y="3836880"/>
                    <a:ext cx="363600" cy="205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1: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7" name=""/>
                  <p:cNvSpPr/>
                  <p:nvPr/>
                </p:nvSpPr>
                <p:spPr>
                  <a:xfrm>
                    <a:off x="4306680" y="3619440"/>
                    <a:ext cx="906480" cy="271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struction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8" name=""/>
                  <p:cNvSpPr/>
                  <p:nvPr/>
                </p:nvSpPr>
                <p:spPr>
                  <a:xfrm>
                    <a:off x="4306680" y="3836880"/>
                    <a:ext cx="932040" cy="226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nstruction 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9" name=""/>
                  <p:cNvSpPr/>
                  <p:nvPr/>
                </p:nvSpPr>
                <p:spPr>
                  <a:xfrm>
                    <a:off x="3971880" y="3054240"/>
                    <a:ext cx="264960" cy="229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0" name=""/>
                  <p:cNvSpPr/>
                  <p:nvPr/>
                </p:nvSpPr>
                <p:spPr>
                  <a:xfrm>
                    <a:off x="3887640" y="3278160"/>
                    <a:ext cx="1216080" cy="30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ain program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1" name=""/>
                  <p:cNvSpPr/>
                  <p:nvPr/>
                </p:nvSpPr>
                <p:spPr>
                  <a:xfrm>
                    <a:off x="3954240" y="3409920"/>
                    <a:ext cx="263520" cy="2264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...</a:t>
                    </a:r>
                    <a:endParaRPr b="0" lang="en-US" sz="1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52" name=""/>
                <p:cNvSpPr/>
                <p:nvPr/>
              </p:nvSpPr>
              <p:spPr>
                <a:xfrm>
                  <a:off x="5324400" y="3294360"/>
                  <a:ext cx="543240" cy="407880"/>
                </a:xfrm>
                <a:custGeom>
                  <a:avLst/>
                  <a:gdLst/>
                  <a:ahLst/>
                  <a:rect l="l" t="t" r="r" b="b"/>
                  <a:pathLst>
                    <a:path w="342" h="257">
                      <a:moveTo>
                        <a:pt x="342" y="187"/>
                      </a:moveTo>
                      <a:cubicBezTo>
                        <a:pt x="313" y="222"/>
                        <a:pt x="285" y="257"/>
                        <a:pt x="276" y="229"/>
                      </a:cubicBezTo>
                      <a:cubicBezTo>
                        <a:pt x="267" y="201"/>
                        <a:pt x="334" y="38"/>
                        <a:pt x="288" y="19"/>
                      </a:cubicBezTo>
                      <a:cubicBezTo>
                        <a:pt x="242" y="0"/>
                        <a:pt x="121" y="57"/>
                        <a:pt x="0" y="115"/>
                      </a:cubicBez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prstDash val="dash"/>
                  <a:round/>
                  <a:tailEnd len="med" type="arrow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53" name=""/>
              <p:cNvSpPr/>
              <p:nvPr/>
            </p:nvSpPr>
            <p:spPr>
              <a:xfrm>
                <a:off x="6134040" y="3762360"/>
                <a:ext cx="46692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54" name=""/>
            <p:cNvSpPr/>
            <p:nvPr/>
          </p:nvSpPr>
          <p:spPr>
            <a:xfrm>
              <a:off x="6148440" y="3778200"/>
              <a:ext cx="392040" cy="254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464675-FE90-4367-9690-E41D83A6B82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rrupt address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romise between fixed and vectored 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interrupt p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ble in memory holding ISR addresses (maybe 256 word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 doesn’t provide ISR address, but rather index into 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bits are sent by the 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ove ISR location without changing 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A814FB-AEEA-4890-88B8-1F702792AD7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itional interrupt iss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skable vs. non-maskable interrup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skable: programmer can set bit that causes processor to ignore interru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ant when in the middle of time-critical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n-maskable: a separate interrupt pin that can’t be mask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 reserved for drastic situations, like power failure requiring immediate backup of data to non-volatile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mp to I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microprocessors treat jump same as call of any subrout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te state saved (PC, registers) – may take hundreds of cy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s only save partial state, like PC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, ISR must not modify registers, or else must save them fir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-language programmer must be aware of which registers st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BAAB1-9B27-4DF4-8655-9AC10795975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rect memory ac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ffe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rily storing data in memory before proces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accumulated in peripherals commonly buffe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processor could handle this with IS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ing and restoring microprocessor state ineffic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ular program must wa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MA controller more effic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parate single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processor relinquishes control of system bus to DMA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processor can meanwhile execute its regular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inefficient storing and restoring state due to ISR c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ular program need not wait unless it requires the system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vard archictecture – processor can fetch and execute instructions as long as they don’t access data memory – if they do, processor stal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8C15D-7447-4F3D-9DAD-5BE42ABABC8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MA, using vectored interru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1149480" y="1771560"/>
            <a:ext cx="6546600" cy="3826080"/>
            <a:chOff x="1149480" y="1771560"/>
            <a:chExt cx="6546600" cy="3826080"/>
          </a:xfrm>
        </p:grpSpPr>
        <p:sp>
          <p:nvSpPr>
            <p:cNvPr id="1363" name=""/>
            <p:cNvSpPr/>
            <p:nvPr/>
          </p:nvSpPr>
          <p:spPr>
            <a:xfrm>
              <a:off x="1446120" y="1771560"/>
              <a:ext cx="3389400" cy="51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(a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μP is executing its main program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087880" y="1771560"/>
              <a:ext cx="2608200" cy="449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(b)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: P1 receives input data in a register with address 0x8000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235480" y="2233440"/>
              <a:ext cx="0" cy="25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087880" y="2494080"/>
              <a:ext cx="2608200" cy="515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1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quest servicing by the microprocessor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1446120" y="2762280"/>
              <a:ext cx="3389400" cy="709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fter completing instruction at 100, μP see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sserted, saves the PC’s value of 100, and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849920" y="2733840"/>
              <a:ext cx="244440" cy="223560"/>
            </a:xfrm>
            <a:custGeom>
              <a:avLst/>
              <a:gdLst/>
              <a:ahLst/>
              <a:rect l="l" t="t" r="r" b="b"/>
              <a:pathLst>
                <a:path w="270" h="250">
                  <a:moveTo>
                    <a:pt x="270" y="0"/>
                  </a:moveTo>
                  <a:lnTo>
                    <a:pt x="0" y="2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446120" y="3813120"/>
              <a:ext cx="3389400" cy="73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(a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μP jumps to the address on the bus (16). The ISR there reads data from 0x8000 and then writes it to 0x0001, which is in memory.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1471680" y="4979880"/>
              <a:ext cx="3389400" cy="51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200" spc="-1" strike="noStrike">
                  <a:solidFill>
                    <a:srgbClr val="000000"/>
                  </a:solidFill>
                  <a:latin typeface="Times New Roman"/>
                </a:rPr>
                <a:t>6:</a:t>
              </a: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 The ISR returns, thus restoring PC to 100+1=101, where μP resumes executing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087880" y="4140360"/>
              <a:ext cx="2608200" cy="51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(b)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fter being read, P1 de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35520" y="4218120"/>
              <a:ext cx="258840" cy="193680"/>
            </a:xfrm>
            <a:custGeom>
              <a:avLst/>
              <a:gdLst/>
              <a:ahLst/>
              <a:rect l="l" t="t" r="r" b="b"/>
              <a:pathLst>
                <a:path w="285" h="215">
                  <a:moveTo>
                    <a:pt x="0" y="0"/>
                  </a:moveTo>
                  <a:lnTo>
                    <a:pt x="285" y="2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3111480" y="4560840"/>
              <a:ext cx="6480" cy="422280"/>
            </a:xfrm>
            <a:custGeom>
              <a:avLst/>
              <a:gdLst/>
              <a:ahLst/>
              <a:rect l="l" t="t" r="r" b="b"/>
              <a:pathLst>
                <a:path w="7" h="473">
                  <a:moveTo>
                    <a:pt x="7" y="0"/>
                  </a:moveTo>
                  <a:lnTo>
                    <a:pt x="0" y="47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3151080" y="2301840"/>
              <a:ext cx="6480" cy="459000"/>
            </a:xfrm>
            <a:custGeom>
              <a:avLst/>
              <a:gdLst/>
              <a:ahLst/>
              <a:rect l="l" t="t" r="r" b="b"/>
              <a:pathLst>
                <a:path w="6" h="513">
                  <a:moveTo>
                    <a:pt x="6" y="0"/>
                  </a:moveTo>
                  <a:lnTo>
                    <a:pt x="0" y="51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1258920" y="2224080"/>
              <a:ext cx="4680" cy="3373560"/>
            </a:xfrm>
            <a:custGeom>
              <a:avLst/>
              <a:gdLst/>
              <a:ahLst/>
              <a:rect l="l" t="t" r="r" b="b"/>
              <a:pathLst>
                <a:path w="5" h="3771">
                  <a:moveTo>
                    <a:pt x="5" y="0"/>
                  </a:moveTo>
                  <a:lnTo>
                    <a:pt x="0" y="377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rot="5400000">
              <a:off x="1059840" y="1886760"/>
              <a:ext cx="40464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087880" y="3214800"/>
              <a:ext cx="2608200" cy="690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: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P1 detec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nd puts interrupt address vector 16 on the data bu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4835520" y="3132000"/>
              <a:ext cx="258840" cy="285840"/>
            </a:xfrm>
            <a:custGeom>
              <a:avLst/>
              <a:gdLst/>
              <a:ahLst/>
              <a:rect l="l" t="t" r="r" b="b"/>
              <a:pathLst>
                <a:path w="285" h="320">
                  <a:moveTo>
                    <a:pt x="0" y="0"/>
                  </a:moveTo>
                  <a:lnTo>
                    <a:pt x="285" y="3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4835520" y="3681360"/>
              <a:ext cx="237960" cy="376200"/>
            </a:xfrm>
            <a:custGeom>
              <a:avLst/>
              <a:gdLst/>
              <a:ahLst/>
              <a:rect l="l" t="t" r="r" b="b"/>
              <a:pathLst>
                <a:path w="263" h="420">
                  <a:moveTo>
                    <a:pt x="263" y="0"/>
                  </a:moveTo>
                  <a:lnTo>
                    <a:pt x="0" y="4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E738B-487A-4515-BDED-9FD1A0FA771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"/>
          <p:cNvSpPr/>
          <p:nvPr/>
        </p:nvSpPr>
        <p:spPr>
          <a:xfrm>
            <a:off x="380880" y="152280"/>
            <a:ext cx="8382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MA, using vectored interrup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12840" y="1682640"/>
            <a:ext cx="3128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a)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is executing its main prog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b): P1 receives input data in a register with address 0x8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7342200" y="428292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83" name=""/>
          <p:cNvGrpSpPr/>
          <p:nvPr/>
        </p:nvGrpSpPr>
        <p:grpSpPr>
          <a:xfrm>
            <a:off x="7342200" y="3821040"/>
            <a:ext cx="146160" cy="407880"/>
            <a:chOff x="7342200" y="3821040"/>
            <a:chExt cx="146160" cy="407880"/>
          </a:xfrm>
        </p:grpSpPr>
        <p:sp>
          <p:nvSpPr>
            <p:cNvPr id="1384" name=""/>
            <p:cNvSpPr/>
            <p:nvPr/>
          </p:nvSpPr>
          <p:spPr>
            <a:xfrm>
              <a:off x="7342200" y="3821040"/>
              <a:ext cx="14616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7415280" y="3995280"/>
              <a:ext cx="0" cy="23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6" name=""/>
          <p:cNvGrpSpPr/>
          <p:nvPr/>
        </p:nvGrpSpPr>
        <p:grpSpPr>
          <a:xfrm>
            <a:off x="3736800" y="1674720"/>
            <a:ext cx="4984920" cy="2387520"/>
            <a:chOff x="3736800" y="1674720"/>
            <a:chExt cx="4984920" cy="2387520"/>
          </a:xfrm>
        </p:grpSpPr>
        <p:sp>
          <p:nvSpPr>
            <p:cNvPr id="1387" name=""/>
            <p:cNvSpPr/>
            <p:nvPr/>
          </p:nvSpPr>
          <p:spPr>
            <a:xfrm>
              <a:off x="6148440" y="1674720"/>
              <a:ext cx="6732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7062840" y="3032280"/>
              <a:ext cx="720720" cy="102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7107120" y="3780000"/>
              <a:ext cx="595440" cy="2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837480" y="2701800"/>
              <a:ext cx="1825560" cy="7920"/>
            </a:xfrm>
            <a:custGeom>
              <a:avLst/>
              <a:gdLst/>
              <a:ahLst/>
              <a:rect l="l" t="t" r="r" b="b"/>
              <a:pathLst>
                <a:path w="1456" h="3">
                  <a:moveTo>
                    <a:pt x="0" y="0"/>
                  </a:moveTo>
                  <a:lnTo>
                    <a:pt x="1456" y="3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7432560" y="2701800"/>
              <a:ext cx="0" cy="3254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7765920" y="2451240"/>
              <a:ext cx="955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7683480" y="2371680"/>
              <a:ext cx="0" cy="32400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948280" y="3557520"/>
              <a:ext cx="24444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078680" y="3549600"/>
              <a:ext cx="627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792600" y="1682640"/>
              <a:ext cx="214776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871800" y="207648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319640" y="2076480"/>
              <a:ext cx="152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3833640" y="2259000"/>
              <a:ext cx="395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4319640" y="2259000"/>
              <a:ext cx="1204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3852720" y="2459160"/>
              <a:ext cx="376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4309920" y="2459160"/>
              <a:ext cx="16020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0x0001,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3909960" y="2664000"/>
              <a:ext cx="3193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4309920" y="2682720"/>
              <a:ext cx="1652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3859200" y="1901880"/>
              <a:ext cx="460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736800" y="3306600"/>
              <a:ext cx="451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3825720" y="3517920"/>
              <a:ext cx="376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4290840" y="3517920"/>
              <a:ext cx="9637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46680" y="2798640"/>
              <a:ext cx="2728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859200" y="3000240"/>
              <a:ext cx="1257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929040" y="3125880"/>
              <a:ext cx="2732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4162320" y="1743120"/>
              <a:ext cx="1471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6199200" y="3446640"/>
              <a:ext cx="39996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6859440" y="1690560"/>
              <a:ext cx="1828800" cy="677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6881760" y="1886040"/>
              <a:ext cx="601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15360" y="1886040"/>
              <a:ext cx="618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6908760" y="2117880"/>
              <a:ext cx="57636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7485120" y="2117880"/>
              <a:ext cx="57924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8064360" y="2117880"/>
              <a:ext cx="57636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7107120" y="3294000"/>
              <a:ext cx="358920" cy="2430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6831000" y="3325680"/>
              <a:ext cx="225360" cy="7920"/>
            </a:xfrm>
            <a:custGeom>
              <a:avLst/>
              <a:gdLst/>
              <a:ahLst/>
              <a:rect l="l" t="t" r="r" b="b"/>
              <a:pathLst>
                <a:path w="180" h="7">
                  <a:moveTo>
                    <a:pt x="180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6477120" y="3206880"/>
              <a:ext cx="301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rot="10800000">
              <a:off x="6837480" y="3112560"/>
              <a:ext cx="225360" cy="9720"/>
            </a:xfrm>
            <a:custGeom>
              <a:avLst/>
              <a:gdLst/>
              <a:ahLst/>
              <a:rect l="l" t="t" r="r" b="b"/>
              <a:pathLst>
                <a:path w="180" h="7">
                  <a:moveTo>
                    <a:pt x="180" y="0"/>
                  </a:moveTo>
                  <a:lnTo>
                    <a:pt x="0" y="7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6458040" y="2995560"/>
              <a:ext cx="328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5" name=""/>
            <p:cNvGrpSpPr/>
            <p:nvPr/>
          </p:nvGrpSpPr>
          <p:grpSpPr>
            <a:xfrm>
              <a:off x="8213760" y="2239920"/>
              <a:ext cx="266400" cy="34920"/>
              <a:chOff x="8213760" y="2239920"/>
              <a:chExt cx="266400" cy="34920"/>
            </a:xfrm>
          </p:grpSpPr>
          <p:sp>
            <p:nvSpPr>
              <p:cNvPr id="1426" name=""/>
              <p:cNvSpPr/>
              <p:nvPr/>
            </p:nvSpPr>
            <p:spPr>
              <a:xfrm>
                <a:off x="83289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82137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84441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29" name=""/>
            <p:cNvSpPr/>
            <p:nvPr/>
          </p:nvSpPr>
          <p:spPr>
            <a:xfrm>
              <a:off x="4290840" y="3317760"/>
              <a:ext cx="9385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5406E-785C-4756-9AA7-BEB4AF93DE0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MA,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12840" y="1682640"/>
            <a:ext cx="3128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P1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request servicing by the micro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3774960" y="1685880"/>
            <a:ext cx="4984920" cy="2387520"/>
            <a:chOff x="3774960" y="1685880"/>
            <a:chExt cx="4984920" cy="2387520"/>
          </a:xfrm>
        </p:grpSpPr>
        <p:sp>
          <p:nvSpPr>
            <p:cNvPr id="1433" name=""/>
            <p:cNvSpPr/>
            <p:nvPr/>
          </p:nvSpPr>
          <p:spPr>
            <a:xfrm>
              <a:off x="7380360" y="3832200"/>
              <a:ext cx="14580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6186600" y="1685880"/>
              <a:ext cx="67284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7101000" y="3043080"/>
              <a:ext cx="720720" cy="1030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7145280" y="3790800"/>
              <a:ext cx="595440" cy="2145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6875640" y="2712960"/>
              <a:ext cx="1825560" cy="7920"/>
            </a:xfrm>
            <a:custGeom>
              <a:avLst/>
              <a:gdLst/>
              <a:ahLst/>
              <a:rect l="l" t="t" r="r" b="b"/>
              <a:pathLst>
                <a:path w="1456" h="3">
                  <a:moveTo>
                    <a:pt x="0" y="0"/>
                  </a:moveTo>
                  <a:lnTo>
                    <a:pt x="1456" y="3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7470720" y="2712960"/>
              <a:ext cx="0" cy="3254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7804080" y="2462040"/>
              <a:ext cx="955800" cy="2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7721640" y="2382840"/>
              <a:ext cx="0" cy="32400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86440" y="3568680"/>
              <a:ext cx="24444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116840" y="3560760"/>
              <a:ext cx="627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830760" y="1693800"/>
              <a:ext cx="214776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909960" y="2087640"/>
              <a:ext cx="357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357800" y="2087640"/>
              <a:ext cx="152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871800" y="2270160"/>
              <a:ext cx="39528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357800" y="2270160"/>
              <a:ext cx="1204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890880" y="2470320"/>
              <a:ext cx="37620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4348080" y="2470320"/>
              <a:ext cx="16020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0x0001,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948120" y="2674800"/>
              <a:ext cx="3189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348080" y="2693880"/>
              <a:ext cx="1652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897360" y="1913040"/>
              <a:ext cx="460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774960" y="3317760"/>
              <a:ext cx="451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63880" y="3529080"/>
              <a:ext cx="37620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329000" y="3529080"/>
              <a:ext cx="96372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984480" y="2809800"/>
              <a:ext cx="2732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3897360" y="3011400"/>
              <a:ext cx="12571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3967200" y="3137040"/>
              <a:ext cx="27288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200480" y="1754280"/>
              <a:ext cx="1471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37360" y="3457440"/>
              <a:ext cx="399960" cy="233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897600" y="1701720"/>
              <a:ext cx="1828800" cy="677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919920" y="1897200"/>
              <a:ext cx="60156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553160" y="1897200"/>
              <a:ext cx="6192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946920" y="2128680"/>
              <a:ext cx="576360" cy="204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523280" y="2128680"/>
              <a:ext cx="579240" cy="204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8102520" y="2128680"/>
              <a:ext cx="576360" cy="204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145280" y="3305160"/>
              <a:ext cx="358920" cy="2430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869160" y="334476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9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515280" y="3218040"/>
              <a:ext cx="301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878520" y="312588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0" y="0"/>
                  </a:moveTo>
                  <a:lnTo>
                    <a:pt x="133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496200" y="3006720"/>
              <a:ext cx="32832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2" name=""/>
            <p:cNvGrpSpPr/>
            <p:nvPr/>
          </p:nvGrpSpPr>
          <p:grpSpPr>
            <a:xfrm>
              <a:off x="8251920" y="2251080"/>
              <a:ext cx="266400" cy="34920"/>
              <a:chOff x="8251920" y="2251080"/>
              <a:chExt cx="266400" cy="34920"/>
            </a:xfrm>
          </p:grpSpPr>
          <p:sp>
            <p:nvSpPr>
              <p:cNvPr id="1473" name=""/>
              <p:cNvSpPr/>
              <p:nvPr/>
            </p:nvSpPr>
            <p:spPr>
              <a:xfrm>
                <a:off x="8367120" y="225108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8251920" y="225108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8482320" y="225108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76" name=""/>
            <p:cNvSpPr/>
            <p:nvPr/>
          </p:nvSpPr>
          <p:spPr>
            <a:xfrm>
              <a:off x="4329000" y="3328920"/>
              <a:ext cx="93816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7" name=""/>
            <p:cNvGrpSpPr/>
            <p:nvPr/>
          </p:nvGrpSpPr>
          <p:grpSpPr>
            <a:xfrm>
              <a:off x="6516720" y="3218040"/>
              <a:ext cx="592200" cy="403560"/>
              <a:chOff x="6516720" y="3218040"/>
              <a:chExt cx="592200" cy="403560"/>
            </a:xfrm>
          </p:grpSpPr>
          <p:sp>
            <p:nvSpPr>
              <p:cNvPr id="1478" name=""/>
              <p:cNvSpPr/>
              <p:nvPr/>
            </p:nvSpPr>
            <p:spPr>
              <a:xfrm>
                <a:off x="6894720" y="343872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6865920" y="3344760"/>
                <a:ext cx="230400" cy="3240"/>
              </a:xfrm>
              <a:custGeom>
                <a:avLst/>
                <a:gdLst/>
                <a:ahLst/>
                <a:rect l="l" t="t" r="r" b="b"/>
                <a:pathLst>
                  <a:path w="145" h="2">
                    <a:moveTo>
                      <a:pt x="145" y="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6516720" y="3218040"/>
                <a:ext cx="30168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1" name=""/>
            <p:cNvSpPr/>
            <p:nvPr/>
          </p:nvSpPr>
          <p:spPr>
            <a:xfrm>
              <a:off x="6242040" y="3763800"/>
              <a:ext cx="405000" cy="233640"/>
            </a:xfrm>
            <a:prstGeom prst="rect">
              <a:avLst/>
            </a:prstGeom>
            <a:noFill/>
            <a:ln w="936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F2044-A4C0-4310-80AA-56254274CA5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MA, using vectored interrupt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312840" y="1682640"/>
            <a:ext cx="3128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After completing instruction at 100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se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sserted, saves the PC’s value of 100, and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4" name=""/>
          <p:cNvGrpSpPr/>
          <p:nvPr/>
        </p:nvGrpSpPr>
        <p:grpSpPr>
          <a:xfrm>
            <a:off x="3736800" y="1674720"/>
            <a:ext cx="4984920" cy="2387520"/>
            <a:chOff x="3736800" y="1674720"/>
            <a:chExt cx="4984920" cy="2387520"/>
          </a:xfrm>
        </p:grpSpPr>
        <p:sp>
          <p:nvSpPr>
            <p:cNvPr id="1485" name=""/>
            <p:cNvSpPr/>
            <p:nvPr/>
          </p:nvSpPr>
          <p:spPr>
            <a:xfrm>
              <a:off x="7342200" y="3821040"/>
              <a:ext cx="14616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148440" y="1674720"/>
              <a:ext cx="6732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7062840" y="3032280"/>
              <a:ext cx="720720" cy="102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7107120" y="3780000"/>
              <a:ext cx="59544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837480" y="2701800"/>
              <a:ext cx="1825560" cy="7920"/>
            </a:xfrm>
            <a:custGeom>
              <a:avLst/>
              <a:gdLst/>
              <a:ahLst/>
              <a:rect l="l" t="t" r="r" b="b"/>
              <a:pathLst>
                <a:path w="1456" h="3">
                  <a:moveTo>
                    <a:pt x="0" y="0"/>
                  </a:moveTo>
                  <a:lnTo>
                    <a:pt x="1456" y="3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7432560" y="2701800"/>
              <a:ext cx="0" cy="3254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765920" y="2451240"/>
              <a:ext cx="955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683480" y="2371680"/>
              <a:ext cx="0" cy="32400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948280" y="3557520"/>
              <a:ext cx="24444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078680" y="3549600"/>
              <a:ext cx="627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792600" y="1682640"/>
              <a:ext cx="214776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3871800" y="207648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319640" y="2076480"/>
              <a:ext cx="152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3833640" y="2259000"/>
              <a:ext cx="395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319640" y="2259000"/>
              <a:ext cx="1204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852720" y="2459160"/>
              <a:ext cx="376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309920" y="2459160"/>
              <a:ext cx="16020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0x0001,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3909960" y="2664000"/>
              <a:ext cx="3193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309920" y="2682720"/>
              <a:ext cx="1652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3859200" y="1901880"/>
              <a:ext cx="460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3736800" y="3306600"/>
              <a:ext cx="451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825720" y="3517920"/>
              <a:ext cx="376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290840" y="3517920"/>
              <a:ext cx="9637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3946680" y="2798640"/>
              <a:ext cx="2728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3859200" y="3000240"/>
              <a:ext cx="1257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3929040" y="3125880"/>
              <a:ext cx="2732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4162320" y="1743120"/>
              <a:ext cx="1471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199200" y="3446640"/>
              <a:ext cx="39996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859440" y="1690560"/>
              <a:ext cx="1828800" cy="677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881760" y="1886040"/>
              <a:ext cx="601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7515360" y="1886040"/>
              <a:ext cx="618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908760" y="2117880"/>
              <a:ext cx="57636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485120" y="2117880"/>
              <a:ext cx="57924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8064360" y="2117880"/>
              <a:ext cx="57636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7107120" y="3294000"/>
              <a:ext cx="358920" cy="2430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831000" y="333360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9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477120" y="3206880"/>
              <a:ext cx="301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840360" y="311472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0" y="0"/>
                  </a:moveTo>
                  <a:lnTo>
                    <a:pt x="133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458040" y="2995560"/>
              <a:ext cx="328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4" name=""/>
            <p:cNvGrpSpPr/>
            <p:nvPr/>
          </p:nvGrpSpPr>
          <p:grpSpPr>
            <a:xfrm>
              <a:off x="8213760" y="2239920"/>
              <a:ext cx="266400" cy="34920"/>
              <a:chOff x="8213760" y="2239920"/>
              <a:chExt cx="266400" cy="34920"/>
            </a:xfrm>
          </p:grpSpPr>
          <p:sp>
            <p:nvSpPr>
              <p:cNvPr id="1525" name=""/>
              <p:cNvSpPr/>
              <p:nvPr/>
            </p:nvSpPr>
            <p:spPr>
              <a:xfrm>
                <a:off x="83289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82137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84441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8" name=""/>
            <p:cNvSpPr/>
            <p:nvPr/>
          </p:nvSpPr>
          <p:spPr>
            <a:xfrm>
              <a:off x="4290840" y="3317760"/>
              <a:ext cx="9385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9" name=""/>
            <p:cNvGrpSpPr/>
            <p:nvPr/>
          </p:nvGrpSpPr>
          <p:grpSpPr>
            <a:xfrm>
              <a:off x="6203880" y="3565440"/>
              <a:ext cx="566640" cy="422280"/>
              <a:chOff x="6203880" y="3565440"/>
              <a:chExt cx="566640" cy="422280"/>
            </a:xfrm>
          </p:grpSpPr>
          <p:sp>
            <p:nvSpPr>
              <p:cNvPr id="1530" name=""/>
              <p:cNvSpPr/>
              <p:nvPr/>
            </p:nvSpPr>
            <p:spPr>
              <a:xfrm>
                <a:off x="6203880" y="3754440"/>
                <a:ext cx="405000" cy="23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6634080" y="3565440"/>
                <a:ext cx="136440" cy="300240"/>
              </a:xfrm>
              <a:custGeom>
                <a:avLst/>
                <a:gdLst/>
                <a:ahLst/>
                <a:rect l="l" t="t" r="r" b="b"/>
                <a:pathLst>
                  <a:path w="86" h="189">
                    <a:moveTo>
                      <a:pt x="0" y="0"/>
                    </a:moveTo>
                    <a:cubicBezTo>
                      <a:pt x="40" y="37"/>
                      <a:pt x="80" y="74"/>
                      <a:pt x="83" y="105"/>
                    </a:cubicBezTo>
                    <a:cubicBezTo>
                      <a:pt x="86" y="136"/>
                      <a:pt x="53" y="162"/>
                      <a:pt x="21" y="189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prstDash val="dash"/>
                <a:round/>
                <a:tailEnd len="sm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6456240" y="2832120"/>
              <a:ext cx="604800" cy="430200"/>
              <a:chOff x="6456240" y="2832120"/>
              <a:chExt cx="604800" cy="430200"/>
            </a:xfrm>
          </p:grpSpPr>
          <p:sp>
            <p:nvSpPr>
              <p:cNvPr id="1533" name=""/>
              <p:cNvSpPr/>
              <p:nvPr/>
            </p:nvSpPr>
            <p:spPr>
              <a:xfrm>
                <a:off x="6838920" y="3114720"/>
                <a:ext cx="210960" cy="1440"/>
              </a:xfrm>
              <a:custGeom>
                <a:avLst/>
                <a:gdLst/>
                <a:ahLst/>
                <a:rect l="l" t="t" r="r" b="b"/>
                <a:pathLst>
                  <a:path w="133" h="1">
                    <a:moveTo>
                      <a:pt x="0" y="0"/>
                    </a:moveTo>
                    <a:lnTo>
                      <a:pt x="133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6456240" y="2995560"/>
                <a:ext cx="328680" cy="26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837120" y="2832120"/>
                <a:ext cx="223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36" name=""/>
            <p:cNvSpPr/>
            <p:nvPr/>
          </p:nvSpPr>
          <p:spPr>
            <a:xfrm>
              <a:off x="6203880" y="3754440"/>
              <a:ext cx="40500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136A9-E43E-4FCD-AA17-64BF85E527B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mple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753160" y="3033720"/>
            <a:ext cx="2657520" cy="2117880"/>
            <a:chOff x="5753160" y="3033720"/>
            <a:chExt cx="2657520" cy="2117880"/>
          </a:xfrm>
        </p:grpSpPr>
        <p:sp>
          <p:nvSpPr>
            <p:cNvPr id="94" name=""/>
            <p:cNvSpPr/>
            <p:nvPr/>
          </p:nvSpPr>
          <p:spPr>
            <a:xfrm>
              <a:off x="6678720" y="4907160"/>
              <a:ext cx="91152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bus structu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753160" y="3197520"/>
              <a:ext cx="838440" cy="13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571160" y="3197520"/>
              <a:ext cx="839520" cy="13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591600" y="3360960"/>
              <a:ext cx="9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591600" y="3687840"/>
              <a:ext cx="9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591600" y="4015080"/>
              <a:ext cx="979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600" y="4340520"/>
              <a:ext cx="979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731280" y="3033720"/>
              <a:ext cx="7002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d'/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731280" y="336096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50200" y="3687840"/>
              <a:ext cx="1049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[0-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620040" y="4015080"/>
              <a:ext cx="90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[0-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731280" y="466596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6999120" y="4233960"/>
              <a:ext cx="163800" cy="700200"/>
            </a:xfrm>
            <a:custGeom>
              <a:avLst/>
              <a:gdLst>
                <a:gd name="textAreaLeft" fmla="*/ 0 w 163800"/>
                <a:gd name="textAreaRight" fmla="*/ 59040 w 163800"/>
                <a:gd name="textAreaTop" fmla="*/ 18000 h 700200"/>
                <a:gd name="textAreaBottom" fmla="*/ 68220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6969240" y="394992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6969240" y="427680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95200" y="1523520"/>
            <a:ext cx="5734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-directional or bi-directio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line may represent multiple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t of wires with a single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bus, data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, entire collection of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, data and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ociated protocol: rules for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5A0EF8-5AE5-465D-B12C-DE77A73B7A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MA, using vectored interrupt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312840" y="1682640"/>
            <a:ext cx="312876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P1 detec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a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d puts interrupt address vector 16 on the data bu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3736800" y="1674720"/>
            <a:ext cx="4984920" cy="2387520"/>
            <a:chOff x="3736800" y="1674720"/>
            <a:chExt cx="4984920" cy="2387520"/>
          </a:xfrm>
        </p:grpSpPr>
        <p:sp>
          <p:nvSpPr>
            <p:cNvPr id="1540" name=""/>
            <p:cNvSpPr/>
            <p:nvPr/>
          </p:nvSpPr>
          <p:spPr>
            <a:xfrm>
              <a:off x="7342200" y="3821040"/>
              <a:ext cx="14616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148440" y="1674720"/>
              <a:ext cx="673200" cy="2387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062840" y="3032280"/>
              <a:ext cx="720720" cy="102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107120" y="3780000"/>
              <a:ext cx="59544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837480" y="2701800"/>
              <a:ext cx="1825560" cy="7920"/>
            </a:xfrm>
            <a:custGeom>
              <a:avLst/>
              <a:gdLst/>
              <a:ahLst/>
              <a:rect l="l" t="t" r="r" b="b"/>
              <a:pathLst>
                <a:path w="1456" h="3">
                  <a:moveTo>
                    <a:pt x="0" y="0"/>
                  </a:moveTo>
                  <a:lnTo>
                    <a:pt x="1456" y="3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432560" y="2701800"/>
              <a:ext cx="0" cy="32544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765920" y="2451240"/>
              <a:ext cx="955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7683480" y="2371680"/>
              <a:ext cx="0" cy="32400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5948280" y="3557520"/>
              <a:ext cx="244440" cy="324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7078680" y="3549600"/>
              <a:ext cx="627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792600" y="1682640"/>
              <a:ext cx="2147760" cy="2376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871800" y="2076480"/>
              <a:ext cx="3574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4319640" y="2076480"/>
              <a:ext cx="1520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R0, 0x800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33640" y="2259000"/>
              <a:ext cx="395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7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4319640" y="2259000"/>
              <a:ext cx="1204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# modifies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852720" y="2459160"/>
              <a:ext cx="37656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8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309920" y="2459160"/>
              <a:ext cx="160200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MOV 0x0001, R0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909960" y="2664000"/>
              <a:ext cx="3193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9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309920" y="2682720"/>
              <a:ext cx="1652760" cy="21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TI  # ISR retur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59200" y="1901880"/>
              <a:ext cx="460440" cy="28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IS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736800" y="3306600"/>
              <a:ext cx="451080" cy="21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25720" y="3517920"/>
              <a:ext cx="37656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290840" y="3517920"/>
              <a:ext cx="96372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946680" y="2798640"/>
              <a:ext cx="2728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3859200" y="3000240"/>
              <a:ext cx="125748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3929040" y="3125880"/>
              <a:ext cx="27324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162320" y="1743120"/>
              <a:ext cx="1471680" cy="27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199200" y="3446640"/>
              <a:ext cx="39996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859440" y="1690560"/>
              <a:ext cx="1828800" cy="6778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881760" y="1886040"/>
              <a:ext cx="60156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515360" y="1886040"/>
              <a:ext cx="618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908760" y="2117880"/>
              <a:ext cx="57636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485120" y="2117880"/>
              <a:ext cx="57924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8064360" y="2117880"/>
              <a:ext cx="576360" cy="2044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107120" y="3294000"/>
              <a:ext cx="358920" cy="2430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831000" y="3333600"/>
              <a:ext cx="220680" cy="180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9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477120" y="3206880"/>
              <a:ext cx="30168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6840360" y="311472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0" y="0"/>
                  </a:moveTo>
                  <a:lnTo>
                    <a:pt x="133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458040" y="2995560"/>
              <a:ext cx="328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9" name=""/>
            <p:cNvGrpSpPr/>
            <p:nvPr/>
          </p:nvGrpSpPr>
          <p:grpSpPr>
            <a:xfrm>
              <a:off x="8213760" y="2239920"/>
              <a:ext cx="266400" cy="34920"/>
              <a:chOff x="8213760" y="2239920"/>
              <a:chExt cx="266400" cy="34920"/>
            </a:xfrm>
          </p:grpSpPr>
          <p:sp>
            <p:nvSpPr>
              <p:cNvPr id="1580" name=""/>
              <p:cNvSpPr/>
              <p:nvPr/>
            </p:nvSpPr>
            <p:spPr>
              <a:xfrm>
                <a:off x="83289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82137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8444160" y="2239920"/>
                <a:ext cx="36000" cy="34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3" name=""/>
            <p:cNvSpPr/>
            <p:nvPr/>
          </p:nvSpPr>
          <p:spPr>
            <a:xfrm>
              <a:off x="4290840" y="3317760"/>
              <a:ext cx="9385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4" name=""/>
          <p:cNvSpPr/>
          <p:nvPr/>
        </p:nvSpPr>
        <p:spPr>
          <a:xfrm>
            <a:off x="6203880" y="3754440"/>
            <a:ext cx="405000" cy="233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8686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5" name=""/>
          <p:cNvGrpSpPr/>
          <p:nvPr/>
        </p:nvGrpSpPr>
        <p:grpSpPr>
          <a:xfrm>
            <a:off x="6508800" y="2451240"/>
            <a:ext cx="2212920" cy="1087200"/>
            <a:chOff x="6508800" y="2451240"/>
            <a:chExt cx="2212920" cy="1087200"/>
          </a:xfrm>
        </p:grpSpPr>
        <p:sp>
          <p:nvSpPr>
            <p:cNvPr id="1586" name=""/>
            <p:cNvSpPr/>
            <p:nvPr/>
          </p:nvSpPr>
          <p:spPr>
            <a:xfrm>
              <a:off x="7104240" y="3295800"/>
              <a:ext cx="358560" cy="242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6508800" y="2543040"/>
              <a:ext cx="264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88" name=""/>
            <p:cNvGrpSpPr/>
            <p:nvPr/>
          </p:nvGrpSpPr>
          <p:grpSpPr>
            <a:xfrm>
              <a:off x="6837480" y="2451240"/>
              <a:ext cx="1884240" cy="576000"/>
              <a:chOff x="6837480" y="2451240"/>
              <a:chExt cx="1884240" cy="576000"/>
            </a:xfrm>
          </p:grpSpPr>
          <p:sp>
            <p:nvSpPr>
              <p:cNvPr id="1589" name=""/>
              <p:cNvSpPr/>
              <p:nvPr/>
            </p:nvSpPr>
            <p:spPr>
              <a:xfrm>
                <a:off x="6837480" y="2701800"/>
                <a:ext cx="1825560" cy="7920"/>
              </a:xfrm>
              <a:custGeom>
                <a:avLst/>
                <a:gdLst/>
                <a:ahLst/>
                <a:rect l="l" t="t" r="r" b="b"/>
                <a:pathLst>
                  <a:path w="1456" h="3">
                    <a:moveTo>
                      <a:pt x="0" y="0"/>
                    </a:moveTo>
                    <a:lnTo>
                      <a:pt x="1456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432560" y="2701800"/>
                <a:ext cx="0" cy="325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765920" y="2451240"/>
                <a:ext cx="9558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ystem 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2" name=""/>
            <p:cNvSpPr/>
            <p:nvPr/>
          </p:nvSpPr>
          <p:spPr>
            <a:xfrm>
              <a:off x="6962760" y="2529000"/>
              <a:ext cx="642960" cy="903240"/>
            </a:xfrm>
            <a:custGeom>
              <a:avLst/>
              <a:gdLst/>
              <a:ahLst/>
              <a:rect l="l" t="t" r="r" b="b"/>
              <a:pathLst>
                <a:path w="405" h="569">
                  <a:moveTo>
                    <a:pt x="348" y="543"/>
                  </a:moveTo>
                  <a:cubicBezTo>
                    <a:pt x="355" y="536"/>
                    <a:pt x="382" y="569"/>
                    <a:pt x="390" y="501"/>
                  </a:cubicBezTo>
                  <a:cubicBezTo>
                    <a:pt x="398" y="433"/>
                    <a:pt x="405" y="215"/>
                    <a:pt x="396" y="135"/>
                  </a:cubicBezTo>
                  <a:cubicBezTo>
                    <a:pt x="387" y="55"/>
                    <a:pt x="402" y="42"/>
                    <a:pt x="336" y="21"/>
                  </a:cubicBezTo>
                  <a:cubicBezTo>
                    <a:pt x="270" y="0"/>
                    <a:pt x="70" y="11"/>
                    <a:pt x="0" y="9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6A68B-BAA5-4035-8C4E-387C14F772A7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3" name=""/>
          <p:cNvGrpSpPr/>
          <p:nvPr/>
        </p:nvGrpSpPr>
        <p:grpSpPr>
          <a:xfrm>
            <a:off x="3736800" y="1674720"/>
            <a:ext cx="4984920" cy="2387520"/>
            <a:chOff x="3736800" y="1674720"/>
            <a:chExt cx="4984920" cy="2387520"/>
          </a:xfrm>
        </p:grpSpPr>
        <p:grpSp>
          <p:nvGrpSpPr>
            <p:cNvPr id="1594" name=""/>
            <p:cNvGrpSpPr/>
            <p:nvPr/>
          </p:nvGrpSpPr>
          <p:grpSpPr>
            <a:xfrm>
              <a:off x="3736800" y="1674720"/>
              <a:ext cx="4984920" cy="2387520"/>
              <a:chOff x="3736800" y="1674720"/>
              <a:chExt cx="4984920" cy="2387520"/>
            </a:xfrm>
          </p:grpSpPr>
          <p:sp>
            <p:nvSpPr>
              <p:cNvPr id="1595" name=""/>
              <p:cNvSpPr/>
              <p:nvPr/>
            </p:nvSpPr>
            <p:spPr>
              <a:xfrm>
                <a:off x="7342200" y="3821040"/>
                <a:ext cx="146160" cy="1461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6148440" y="1674720"/>
                <a:ext cx="673200" cy="238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7062840" y="3032280"/>
                <a:ext cx="720720" cy="10299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P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7107120" y="3780000"/>
                <a:ext cx="595440" cy="21420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6837480" y="2701800"/>
                <a:ext cx="1825560" cy="7920"/>
              </a:xfrm>
              <a:custGeom>
                <a:avLst/>
                <a:gdLst/>
                <a:ahLst/>
                <a:rect l="l" t="t" r="r" b="b"/>
                <a:pathLst>
                  <a:path w="1456" h="3">
                    <a:moveTo>
                      <a:pt x="0" y="0"/>
                    </a:moveTo>
                    <a:lnTo>
                      <a:pt x="1456" y="3"/>
                    </a:lnTo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7432560" y="2701800"/>
                <a:ext cx="0" cy="325440"/>
              </a:xfrm>
              <a:prstGeom prst="line">
                <a:avLst/>
              </a:prstGeom>
              <a:ln w="15840">
                <a:solidFill>
                  <a:srgbClr val="96969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7765920" y="2451240"/>
                <a:ext cx="9558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System 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7683480" y="2371680"/>
                <a:ext cx="0" cy="324000"/>
              </a:xfrm>
              <a:prstGeom prst="line">
                <a:avLst/>
              </a:prstGeom>
              <a:ln w="15840">
                <a:solidFill>
                  <a:srgbClr val="96969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948280" y="3557520"/>
                <a:ext cx="244440" cy="3240"/>
              </a:xfrm>
              <a:custGeom>
                <a:avLst/>
                <a:gdLst/>
                <a:ahLst/>
                <a:rect l="l" t="t" r="r" b="b"/>
                <a:pathLst>
                  <a:path w="196" h="3">
                    <a:moveTo>
                      <a:pt x="196" y="3"/>
                    </a:move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7078680" y="3549600"/>
                <a:ext cx="62712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0x8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792600" y="1682640"/>
                <a:ext cx="2147760" cy="237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871800" y="2076480"/>
                <a:ext cx="357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16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4319640" y="2076480"/>
                <a:ext cx="152064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MOV R0, 0x8000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833640" y="2259000"/>
                <a:ext cx="39564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17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4319640" y="2259000"/>
                <a:ext cx="12049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# modifies R0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852720" y="2459160"/>
                <a:ext cx="3765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18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4309920" y="2459160"/>
                <a:ext cx="16020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MOV 0x8001, R0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909960" y="2664000"/>
                <a:ext cx="3193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19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4309920" y="2682720"/>
                <a:ext cx="16527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RETI  # ISR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859200" y="1901880"/>
                <a:ext cx="460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808080"/>
                    </a:solidFill>
                    <a:latin typeface="Times New Roman"/>
                  </a:rPr>
                  <a:t>IS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736800" y="3306600"/>
                <a:ext cx="45108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0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825720" y="3517920"/>
                <a:ext cx="37656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1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4290840" y="3517920"/>
                <a:ext cx="9637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struc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946680" y="2798640"/>
                <a:ext cx="27288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859200" y="3000240"/>
                <a:ext cx="125748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Mai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929040" y="3125880"/>
                <a:ext cx="273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4162320" y="1743120"/>
                <a:ext cx="14716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Program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6199200" y="3446640"/>
                <a:ext cx="399960" cy="23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6859440" y="1690560"/>
                <a:ext cx="1828800" cy="6778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Data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6881760" y="1886040"/>
                <a:ext cx="60156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0x0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7515360" y="1886040"/>
                <a:ext cx="61884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0x0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6908760" y="2117880"/>
                <a:ext cx="576360" cy="204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7485120" y="2117880"/>
                <a:ext cx="579240" cy="204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064360" y="2117880"/>
                <a:ext cx="576360" cy="204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7107120" y="3294000"/>
                <a:ext cx="358920" cy="24300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6831000" y="3333600"/>
                <a:ext cx="220680" cy="180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139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6477120" y="3206880"/>
                <a:ext cx="30168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32" name=""/>
              <p:cNvGrpSpPr/>
              <p:nvPr/>
            </p:nvGrpSpPr>
            <p:grpSpPr>
              <a:xfrm>
                <a:off x="8213760" y="2239920"/>
                <a:ext cx="266400" cy="34920"/>
                <a:chOff x="8213760" y="2239920"/>
                <a:chExt cx="266400" cy="34920"/>
              </a:xfrm>
            </p:grpSpPr>
            <p:sp>
              <p:nvSpPr>
                <p:cNvPr id="1633" name=""/>
                <p:cNvSpPr/>
                <p:nvPr/>
              </p:nvSpPr>
              <p:spPr>
                <a:xfrm>
                  <a:off x="8328960" y="2239920"/>
                  <a:ext cx="36000" cy="34920"/>
                </a:xfrm>
                <a:prstGeom prst="ellipse">
                  <a:avLst/>
                </a:prstGeom>
                <a:noFill/>
                <a:ln w="936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4" name=""/>
                <p:cNvSpPr/>
                <p:nvPr/>
              </p:nvSpPr>
              <p:spPr>
                <a:xfrm>
                  <a:off x="8213760" y="2239920"/>
                  <a:ext cx="36000" cy="34920"/>
                </a:xfrm>
                <a:prstGeom prst="ellipse">
                  <a:avLst/>
                </a:prstGeom>
                <a:noFill/>
                <a:ln w="936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35" name=""/>
                <p:cNvSpPr/>
                <p:nvPr/>
              </p:nvSpPr>
              <p:spPr>
                <a:xfrm>
                  <a:off x="8444160" y="2239920"/>
                  <a:ext cx="36000" cy="34920"/>
                </a:xfrm>
                <a:prstGeom prst="ellipse">
                  <a:avLst/>
                </a:prstGeom>
                <a:noFill/>
                <a:ln w="936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36" name=""/>
              <p:cNvSpPr/>
              <p:nvPr/>
            </p:nvSpPr>
            <p:spPr>
              <a:xfrm>
                <a:off x="4290840" y="3317760"/>
                <a:ext cx="938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struc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7" name=""/>
            <p:cNvSpPr/>
            <p:nvPr/>
          </p:nvSpPr>
          <p:spPr>
            <a:xfrm>
              <a:off x="6840360" y="311472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0" y="0"/>
                  </a:moveTo>
                  <a:lnTo>
                    <a:pt x="133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458040" y="2995560"/>
              <a:ext cx="328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MA, using vectored interrupt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312840" y="1682640"/>
            <a:ext cx="324324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(a)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jumps to the address on the bus (16).  The ISR there reads data from 0x8000 and then writes it to 0x0001, which is in mem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(b): After being read, P1 de-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6203880" y="3754440"/>
            <a:ext cx="405000" cy="233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8686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2" name=""/>
          <p:cNvGrpSpPr/>
          <p:nvPr/>
        </p:nvGrpSpPr>
        <p:grpSpPr>
          <a:xfrm>
            <a:off x="3736800" y="1828800"/>
            <a:ext cx="2225880" cy="1914480"/>
            <a:chOff x="3736800" y="1828800"/>
            <a:chExt cx="2225880" cy="1914480"/>
          </a:xfrm>
        </p:grpSpPr>
        <p:grpSp>
          <p:nvGrpSpPr>
            <p:cNvPr id="1643" name=""/>
            <p:cNvGrpSpPr/>
            <p:nvPr/>
          </p:nvGrpSpPr>
          <p:grpSpPr>
            <a:xfrm>
              <a:off x="3736800" y="1901880"/>
              <a:ext cx="2225880" cy="1824120"/>
              <a:chOff x="3736800" y="1901880"/>
              <a:chExt cx="2225880" cy="1824120"/>
            </a:xfrm>
          </p:grpSpPr>
          <p:grpSp>
            <p:nvGrpSpPr>
              <p:cNvPr id="1644" name=""/>
              <p:cNvGrpSpPr/>
              <p:nvPr/>
            </p:nvGrpSpPr>
            <p:grpSpPr>
              <a:xfrm>
                <a:off x="3736800" y="1901880"/>
                <a:ext cx="2174760" cy="1824120"/>
                <a:chOff x="3736800" y="1901880"/>
                <a:chExt cx="2174760" cy="1824120"/>
              </a:xfrm>
            </p:grpSpPr>
            <p:sp>
              <p:nvSpPr>
                <p:cNvPr id="1645" name=""/>
                <p:cNvSpPr/>
                <p:nvPr/>
              </p:nvSpPr>
              <p:spPr>
                <a:xfrm>
                  <a:off x="3871800" y="2076480"/>
                  <a:ext cx="357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6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6" name=""/>
                <p:cNvSpPr/>
                <p:nvPr/>
              </p:nvSpPr>
              <p:spPr>
                <a:xfrm>
                  <a:off x="4319280" y="2076480"/>
                  <a:ext cx="152100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V R0, 0x800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7" name=""/>
                <p:cNvSpPr/>
                <p:nvPr/>
              </p:nvSpPr>
              <p:spPr>
                <a:xfrm>
                  <a:off x="3833640" y="2259000"/>
                  <a:ext cx="39528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7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8" name=""/>
                <p:cNvSpPr/>
                <p:nvPr/>
              </p:nvSpPr>
              <p:spPr>
                <a:xfrm>
                  <a:off x="4319280" y="2259000"/>
                  <a:ext cx="120492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# modifies R0</a:t>
                  </a:r>
                  <a:r>
                    <a:rPr b="0" lang="en-US" sz="1200" spc="-1" strike="noStrike">
                      <a:solidFill>
                        <a:srgbClr val="80808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9" name=""/>
                <p:cNvSpPr/>
                <p:nvPr/>
              </p:nvSpPr>
              <p:spPr>
                <a:xfrm>
                  <a:off x="3852720" y="2459160"/>
                  <a:ext cx="37620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8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0" name=""/>
                <p:cNvSpPr/>
                <p:nvPr/>
              </p:nvSpPr>
              <p:spPr>
                <a:xfrm>
                  <a:off x="4309920" y="2459160"/>
                  <a:ext cx="1601640" cy="20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V 0x8001, R0</a:t>
                  </a:r>
                  <a:r>
                    <a:rPr b="0" lang="en-US" sz="1200" spc="-1" strike="noStrike">
                      <a:solidFill>
                        <a:srgbClr val="80808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1" name=""/>
                <p:cNvSpPr/>
                <p:nvPr/>
              </p:nvSpPr>
              <p:spPr>
                <a:xfrm>
                  <a:off x="3909600" y="2664000"/>
                  <a:ext cx="31932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9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2" name=""/>
                <p:cNvSpPr/>
                <p:nvPr/>
              </p:nvSpPr>
              <p:spPr>
                <a:xfrm>
                  <a:off x="3858840" y="1901880"/>
                  <a:ext cx="46044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S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3" name=""/>
                <p:cNvSpPr/>
                <p:nvPr/>
              </p:nvSpPr>
              <p:spPr>
                <a:xfrm>
                  <a:off x="3736800" y="3306960"/>
                  <a:ext cx="450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00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4" name=""/>
                <p:cNvSpPr/>
                <p:nvPr/>
              </p:nvSpPr>
              <p:spPr>
                <a:xfrm>
                  <a:off x="3825720" y="3517920"/>
                  <a:ext cx="376200" cy="1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0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5" name=""/>
                <p:cNvSpPr/>
                <p:nvPr/>
              </p:nvSpPr>
              <p:spPr>
                <a:xfrm>
                  <a:off x="4290840" y="3517920"/>
                  <a:ext cx="96372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instru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6" name=""/>
                <p:cNvSpPr/>
                <p:nvPr/>
              </p:nvSpPr>
              <p:spPr>
                <a:xfrm>
                  <a:off x="3946320" y="2799000"/>
                  <a:ext cx="27288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7" name=""/>
                <p:cNvSpPr/>
                <p:nvPr/>
              </p:nvSpPr>
              <p:spPr>
                <a:xfrm>
                  <a:off x="3858840" y="3000600"/>
                  <a:ext cx="125748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Main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8" name=""/>
                <p:cNvSpPr/>
                <p:nvPr/>
              </p:nvSpPr>
              <p:spPr>
                <a:xfrm>
                  <a:off x="3928680" y="3125880"/>
                  <a:ext cx="27324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9" name=""/>
                <p:cNvSpPr/>
                <p:nvPr/>
              </p:nvSpPr>
              <p:spPr>
                <a:xfrm>
                  <a:off x="4290840" y="3318120"/>
                  <a:ext cx="93816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instru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60" name=""/>
              <p:cNvSpPr/>
              <p:nvPr/>
            </p:nvSpPr>
            <p:spPr>
              <a:xfrm>
                <a:off x="4309920" y="2682720"/>
                <a:ext cx="16527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TI  # ISR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1" name=""/>
            <p:cNvSpPr/>
            <p:nvPr/>
          </p:nvSpPr>
          <p:spPr>
            <a:xfrm>
              <a:off x="5524560" y="1828800"/>
              <a:ext cx="361800" cy="1914480"/>
            </a:xfrm>
            <a:custGeom>
              <a:avLst/>
              <a:gdLst/>
              <a:ahLst/>
              <a:rect l="l" t="t" r="r" b="b"/>
              <a:pathLst>
                <a:path w="228" h="1206">
                  <a:moveTo>
                    <a:pt x="228" y="1086"/>
                  </a:moveTo>
                  <a:cubicBezTo>
                    <a:pt x="206" y="1080"/>
                    <a:pt x="103" y="1206"/>
                    <a:pt x="96" y="1050"/>
                  </a:cubicBezTo>
                  <a:cubicBezTo>
                    <a:pt x="89" y="894"/>
                    <a:pt x="202" y="300"/>
                    <a:pt x="186" y="150"/>
                  </a:cubicBezTo>
                  <a:cubicBezTo>
                    <a:pt x="170" y="0"/>
                    <a:pt x="39" y="150"/>
                    <a:pt x="0" y="15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2" name=""/>
          <p:cNvGrpSpPr/>
          <p:nvPr/>
        </p:nvGrpSpPr>
        <p:grpSpPr>
          <a:xfrm>
            <a:off x="3736800" y="1690560"/>
            <a:ext cx="4984920" cy="2371680"/>
            <a:chOff x="3736800" y="1690560"/>
            <a:chExt cx="4984920" cy="2371680"/>
          </a:xfrm>
        </p:grpSpPr>
        <p:grpSp>
          <p:nvGrpSpPr>
            <p:cNvPr id="1663" name=""/>
            <p:cNvGrpSpPr/>
            <p:nvPr/>
          </p:nvGrpSpPr>
          <p:grpSpPr>
            <a:xfrm>
              <a:off x="6837480" y="2451240"/>
              <a:ext cx="1884240" cy="576000"/>
              <a:chOff x="6837480" y="2451240"/>
              <a:chExt cx="1884240" cy="576000"/>
            </a:xfrm>
          </p:grpSpPr>
          <p:sp>
            <p:nvSpPr>
              <p:cNvPr id="1664" name=""/>
              <p:cNvSpPr/>
              <p:nvPr/>
            </p:nvSpPr>
            <p:spPr>
              <a:xfrm>
                <a:off x="6837480" y="2701800"/>
                <a:ext cx="1825560" cy="7920"/>
              </a:xfrm>
              <a:custGeom>
                <a:avLst/>
                <a:gdLst/>
                <a:ahLst/>
                <a:rect l="l" t="t" r="r" b="b"/>
                <a:pathLst>
                  <a:path w="1456" h="3">
                    <a:moveTo>
                      <a:pt x="0" y="0"/>
                    </a:moveTo>
                    <a:lnTo>
                      <a:pt x="1456" y="3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7432560" y="2701800"/>
                <a:ext cx="0" cy="325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7765920" y="2451240"/>
                <a:ext cx="9558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ystem 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7" name=""/>
            <p:cNvSpPr/>
            <p:nvPr/>
          </p:nvSpPr>
          <p:spPr>
            <a:xfrm>
              <a:off x="6772320" y="2781360"/>
              <a:ext cx="946080" cy="1066680"/>
            </a:xfrm>
            <a:custGeom>
              <a:avLst/>
              <a:gdLst/>
              <a:ahLst/>
              <a:rect l="l" t="t" r="r" b="b"/>
              <a:pathLst>
                <a:path w="596" h="672">
                  <a:moveTo>
                    <a:pt x="516" y="672"/>
                  </a:moveTo>
                  <a:cubicBezTo>
                    <a:pt x="525" y="651"/>
                    <a:pt x="565" y="623"/>
                    <a:pt x="576" y="540"/>
                  </a:cubicBezTo>
                  <a:cubicBezTo>
                    <a:pt x="587" y="457"/>
                    <a:pt x="591" y="254"/>
                    <a:pt x="582" y="174"/>
                  </a:cubicBezTo>
                  <a:cubicBezTo>
                    <a:pt x="573" y="94"/>
                    <a:pt x="596" y="80"/>
                    <a:pt x="522" y="60"/>
                  </a:cubicBezTo>
                  <a:cubicBezTo>
                    <a:pt x="448" y="40"/>
                    <a:pt x="225" y="64"/>
                    <a:pt x="138" y="54"/>
                  </a:cubicBezTo>
                  <a:cubicBezTo>
                    <a:pt x="51" y="44"/>
                    <a:pt x="29" y="11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8" name=""/>
            <p:cNvGrpSpPr/>
            <p:nvPr/>
          </p:nvGrpSpPr>
          <p:grpSpPr>
            <a:xfrm>
              <a:off x="3736800" y="1901880"/>
              <a:ext cx="2225880" cy="1824120"/>
              <a:chOff x="3736800" y="1901880"/>
              <a:chExt cx="2225880" cy="1824120"/>
            </a:xfrm>
          </p:grpSpPr>
          <p:grpSp>
            <p:nvGrpSpPr>
              <p:cNvPr id="1669" name=""/>
              <p:cNvGrpSpPr/>
              <p:nvPr/>
            </p:nvGrpSpPr>
            <p:grpSpPr>
              <a:xfrm>
                <a:off x="3736800" y="1901880"/>
                <a:ext cx="2174760" cy="1824120"/>
                <a:chOff x="3736800" y="1901880"/>
                <a:chExt cx="2174760" cy="1824120"/>
              </a:xfrm>
            </p:grpSpPr>
            <p:sp>
              <p:nvSpPr>
                <p:cNvPr id="1670" name=""/>
                <p:cNvSpPr/>
                <p:nvPr/>
              </p:nvSpPr>
              <p:spPr>
                <a:xfrm>
                  <a:off x="3871800" y="2076480"/>
                  <a:ext cx="357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6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1" name=""/>
                <p:cNvSpPr/>
                <p:nvPr/>
              </p:nvSpPr>
              <p:spPr>
                <a:xfrm>
                  <a:off x="4319280" y="2076480"/>
                  <a:ext cx="152100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V R0, 0x800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2" name=""/>
                <p:cNvSpPr/>
                <p:nvPr/>
              </p:nvSpPr>
              <p:spPr>
                <a:xfrm>
                  <a:off x="3833640" y="2259000"/>
                  <a:ext cx="39528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7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3" name=""/>
                <p:cNvSpPr/>
                <p:nvPr/>
              </p:nvSpPr>
              <p:spPr>
                <a:xfrm>
                  <a:off x="4319280" y="2259000"/>
                  <a:ext cx="120492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# modifies R0</a:t>
                  </a:r>
                  <a:r>
                    <a:rPr b="0" lang="en-US" sz="1200" spc="-1" strike="noStrike">
                      <a:solidFill>
                        <a:srgbClr val="80808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4" name=""/>
                <p:cNvSpPr/>
                <p:nvPr/>
              </p:nvSpPr>
              <p:spPr>
                <a:xfrm>
                  <a:off x="3852720" y="2459160"/>
                  <a:ext cx="37620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8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5" name=""/>
                <p:cNvSpPr/>
                <p:nvPr/>
              </p:nvSpPr>
              <p:spPr>
                <a:xfrm>
                  <a:off x="4309920" y="2459160"/>
                  <a:ext cx="1601640" cy="20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OV 0x0001, R0</a:t>
                  </a:r>
                  <a:r>
                    <a:rPr b="0" lang="en-US" sz="1200" spc="-1" strike="noStrike">
                      <a:solidFill>
                        <a:srgbClr val="808080"/>
                      </a:solidFill>
                      <a:latin typeface="Times New Roman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6" name=""/>
                <p:cNvSpPr/>
                <p:nvPr/>
              </p:nvSpPr>
              <p:spPr>
                <a:xfrm>
                  <a:off x="3909600" y="2664000"/>
                  <a:ext cx="31932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9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7" name=""/>
                <p:cNvSpPr/>
                <p:nvPr/>
              </p:nvSpPr>
              <p:spPr>
                <a:xfrm>
                  <a:off x="3858840" y="1901880"/>
                  <a:ext cx="46044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S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8" name=""/>
                <p:cNvSpPr/>
                <p:nvPr/>
              </p:nvSpPr>
              <p:spPr>
                <a:xfrm>
                  <a:off x="3736800" y="3306960"/>
                  <a:ext cx="450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00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9" name=""/>
                <p:cNvSpPr/>
                <p:nvPr/>
              </p:nvSpPr>
              <p:spPr>
                <a:xfrm>
                  <a:off x="3825720" y="3517920"/>
                  <a:ext cx="376200" cy="1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0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0" name=""/>
                <p:cNvSpPr/>
                <p:nvPr/>
              </p:nvSpPr>
              <p:spPr>
                <a:xfrm>
                  <a:off x="4290840" y="3517920"/>
                  <a:ext cx="96372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instru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1" name=""/>
                <p:cNvSpPr/>
                <p:nvPr/>
              </p:nvSpPr>
              <p:spPr>
                <a:xfrm>
                  <a:off x="3946320" y="2799000"/>
                  <a:ext cx="27288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2" name=""/>
                <p:cNvSpPr/>
                <p:nvPr/>
              </p:nvSpPr>
              <p:spPr>
                <a:xfrm>
                  <a:off x="3858840" y="3000600"/>
                  <a:ext cx="125748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Main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3" name=""/>
                <p:cNvSpPr/>
                <p:nvPr/>
              </p:nvSpPr>
              <p:spPr>
                <a:xfrm>
                  <a:off x="3928680" y="3125880"/>
                  <a:ext cx="27324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84" name=""/>
                <p:cNvSpPr/>
                <p:nvPr/>
              </p:nvSpPr>
              <p:spPr>
                <a:xfrm>
                  <a:off x="4290840" y="3318120"/>
                  <a:ext cx="93816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instru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85" name=""/>
              <p:cNvSpPr/>
              <p:nvPr/>
            </p:nvSpPr>
            <p:spPr>
              <a:xfrm>
                <a:off x="4309920" y="2682720"/>
                <a:ext cx="16527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TI  # ISR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86" name=""/>
            <p:cNvSpPr/>
            <p:nvPr/>
          </p:nvSpPr>
          <p:spPr>
            <a:xfrm>
              <a:off x="7342200" y="3821040"/>
              <a:ext cx="14616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7107120" y="3780000"/>
              <a:ext cx="595440" cy="2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7078680" y="3549600"/>
              <a:ext cx="627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7062840" y="3032280"/>
              <a:ext cx="720720" cy="102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859440" y="1690560"/>
              <a:ext cx="1828800" cy="677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7515360" y="1886040"/>
              <a:ext cx="618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7485120" y="2117880"/>
              <a:ext cx="579240" cy="204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7683480" y="2371680"/>
              <a:ext cx="0" cy="324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561000" y="2583000"/>
              <a:ext cx="146160" cy="14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7684920" y="2144880"/>
              <a:ext cx="146160" cy="14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962760" y="2324160"/>
              <a:ext cx="676440" cy="264960"/>
            </a:xfrm>
            <a:custGeom>
              <a:avLst/>
              <a:gdLst/>
              <a:ahLst/>
              <a:rect l="l" t="t" r="r" b="b"/>
              <a:pathLst>
                <a:path w="426" h="167">
                  <a:moveTo>
                    <a:pt x="0" y="162"/>
                  </a:moveTo>
                  <a:cubicBezTo>
                    <a:pt x="42" y="162"/>
                    <a:pt x="189" y="167"/>
                    <a:pt x="252" y="162"/>
                  </a:cubicBezTo>
                  <a:cubicBezTo>
                    <a:pt x="315" y="157"/>
                    <a:pt x="349" y="159"/>
                    <a:pt x="378" y="132"/>
                  </a:cubicBezTo>
                  <a:cubicBezTo>
                    <a:pt x="407" y="105"/>
                    <a:pt x="416" y="28"/>
                    <a:pt x="426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7" name=""/>
          <p:cNvGrpSpPr/>
          <p:nvPr/>
        </p:nvGrpSpPr>
        <p:grpSpPr>
          <a:xfrm>
            <a:off x="6477120" y="3206880"/>
            <a:ext cx="574200" cy="395640"/>
            <a:chOff x="6477120" y="3206880"/>
            <a:chExt cx="574200" cy="395640"/>
          </a:xfrm>
        </p:grpSpPr>
        <p:sp>
          <p:nvSpPr>
            <p:cNvPr id="1698" name=""/>
            <p:cNvSpPr/>
            <p:nvPr/>
          </p:nvSpPr>
          <p:spPr>
            <a:xfrm>
              <a:off x="6831000" y="3333960"/>
              <a:ext cx="220320" cy="1440"/>
            </a:xfrm>
            <a:custGeom>
              <a:avLst/>
              <a:gdLst/>
              <a:ahLst/>
              <a:rect l="l" t="t" r="r" b="b"/>
              <a:pathLst>
                <a:path w="139" h="1">
                  <a:moveTo>
                    <a:pt x="139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477120" y="3206880"/>
              <a:ext cx="301320" cy="2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58000" y="3419640"/>
              <a:ext cx="1710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E336-7DD3-446B-AD46-E443A7FA33C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1" name=""/>
          <p:cNvGrpSpPr/>
          <p:nvPr/>
        </p:nvGrpSpPr>
        <p:grpSpPr>
          <a:xfrm>
            <a:off x="3736800" y="1674720"/>
            <a:ext cx="4984920" cy="2387520"/>
            <a:chOff x="3736800" y="1674720"/>
            <a:chExt cx="4984920" cy="2387520"/>
          </a:xfrm>
        </p:grpSpPr>
        <p:grpSp>
          <p:nvGrpSpPr>
            <p:cNvPr id="1702" name=""/>
            <p:cNvGrpSpPr/>
            <p:nvPr/>
          </p:nvGrpSpPr>
          <p:grpSpPr>
            <a:xfrm>
              <a:off x="3736800" y="1674720"/>
              <a:ext cx="4984920" cy="2387520"/>
              <a:chOff x="3736800" y="1674720"/>
              <a:chExt cx="4984920" cy="2387520"/>
            </a:xfrm>
          </p:grpSpPr>
          <p:sp>
            <p:nvSpPr>
              <p:cNvPr id="1703" name=""/>
              <p:cNvSpPr/>
              <p:nvPr/>
            </p:nvSpPr>
            <p:spPr>
              <a:xfrm>
                <a:off x="7342200" y="3821040"/>
                <a:ext cx="146160" cy="14616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6148440" y="1674720"/>
                <a:ext cx="673200" cy="2387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μ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7062840" y="3032280"/>
                <a:ext cx="720720" cy="102996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P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7107120" y="3780000"/>
                <a:ext cx="595440" cy="21420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6837480" y="2701800"/>
                <a:ext cx="1825560" cy="7920"/>
              </a:xfrm>
              <a:custGeom>
                <a:avLst/>
                <a:gdLst/>
                <a:ahLst/>
                <a:rect l="l" t="t" r="r" b="b"/>
                <a:pathLst>
                  <a:path w="1456" h="3">
                    <a:moveTo>
                      <a:pt x="0" y="0"/>
                    </a:moveTo>
                    <a:lnTo>
                      <a:pt x="1456" y="3"/>
                    </a:lnTo>
                  </a:path>
                </a:pathLst>
              </a:custGeom>
              <a:noFill/>
              <a:ln w="15840">
                <a:solidFill>
                  <a:srgbClr val="969696"/>
                </a:solidFill>
                <a:round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7432560" y="2701800"/>
                <a:ext cx="0" cy="325440"/>
              </a:xfrm>
              <a:prstGeom prst="line">
                <a:avLst/>
              </a:prstGeom>
              <a:ln w="15840">
                <a:solidFill>
                  <a:srgbClr val="96969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7765920" y="2451240"/>
                <a:ext cx="955800" cy="27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System 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7683480" y="2371680"/>
                <a:ext cx="0" cy="324000"/>
              </a:xfrm>
              <a:prstGeom prst="line">
                <a:avLst/>
              </a:prstGeom>
              <a:ln w="15840">
                <a:solidFill>
                  <a:srgbClr val="969696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948280" y="3557520"/>
                <a:ext cx="244440" cy="3240"/>
              </a:xfrm>
              <a:custGeom>
                <a:avLst/>
                <a:gdLst/>
                <a:ahLst/>
                <a:rect l="l" t="t" r="r" b="b"/>
                <a:pathLst>
                  <a:path w="196" h="3">
                    <a:moveTo>
                      <a:pt x="196" y="3"/>
                    </a:moveTo>
                    <a:lnTo>
                      <a:pt x="0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7078680" y="3549600"/>
                <a:ext cx="627120" cy="24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0x8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3792600" y="1682640"/>
                <a:ext cx="2147760" cy="2376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3871800" y="2076480"/>
                <a:ext cx="357480" cy="19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6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319640" y="2076480"/>
                <a:ext cx="152064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V R0, 0x8000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3833640" y="2259000"/>
                <a:ext cx="395640" cy="203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7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319640" y="2259000"/>
                <a:ext cx="1204920" cy="23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# modifies R0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3852720" y="2459160"/>
                <a:ext cx="3765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8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4309920" y="2459160"/>
                <a:ext cx="160200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OV 0x8001, R0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3909960" y="2664000"/>
                <a:ext cx="319320" cy="19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9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309920" y="2682720"/>
                <a:ext cx="1652760" cy="21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ETI  # ISR retur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3859200" y="1901880"/>
                <a:ext cx="460440" cy="28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S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3736800" y="3306600"/>
                <a:ext cx="45108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100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3825720" y="3517920"/>
                <a:ext cx="376560" cy="18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101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4290840" y="3517920"/>
                <a:ext cx="963720" cy="208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instruc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3946680" y="2798640"/>
                <a:ext cx="272880" cy="209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3859200" y="3000240"/>
                <a:ext cx="1257480" cy="277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868686"/>
                    </a:solidFill>
                    <a:latin typeface="Times New Roman"/>
                  </a:rPr>
                  <a:t>Main progra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3929040" y="3125880"/>
                <a:ext cx="273240" cy="20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...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4162320" y="1743120"/>
                <a:ext cx="147168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1200" spc="-1" strike="noStrike">
                    <a:solidFill>
                      <a:srgbClr val="000000"/>
                    </a:solidFill>
                    <a:latin typeface="Times New Roman"/>
                  </a:rPr>
                  <a:t>Program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6199200" y="3446640"/>
                <a:ext cx="399960" cy="2332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6859440" y="1690560"/>
                <a:ext cx="1828800" cy="677880"/>
              </a:xfrm>
              <a:prstGeom prst="rect">
                <a:avLst/>
              </a:prstGeom>
              <a:noFill/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Data memo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6881760" y="1886040"/>
                <a:ext cx="60156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0x00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7515360" y="1886040"/>
                <a:ext cx="618840" cy="204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0x00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6908760" y="2117880"/>
                <a:ext cx="576360" cy="204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7485120" y="2117880"/>
                <a:ext cx="579240" cy="204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064360" y="2117880"/>
                <a:ext cx="576360" cy="20448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7107120" y="3294000"/>
                <a:ext cx="358920" cy="243000"/>
              </a:xfrm>
              <a:prstGeom prst="rect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16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6831000" y="3333600"/>
                <a:ext cx="220680" cy="1800"/>
              </a:xfrm>
              <a:custGeom>
                <a:avLst/>
                <a:gdLst/>
                <a:ahLst/>
                <a:rect l="l" t="t" r="r" b="b"/>
                <a:pathLst>
                  <a:path w="139" h="1">
                    <a:moveTo>
                      <a:pt x="139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969696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6477120" y="3206880"/>
                <a:ext cx="301680" cy="26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08080"/>
                    </a:solidFill>
                    <a:latin typeface="Times New Roman"/>
                  </a:rPr>
                  <a:t>I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40" name=""/>
              <p:cNvGrpSpPr/>
              <p:nvPr/>
            </p:nvGrpSpPr>
            <p:grpSpPr>
              <a:xfrm>
                <a:off x="8213760" y="2239920"/>
                <a:ext cx="266400" cy="34920"/>
                <a:chOff x="8213760" y="2239920"/>
                <a:chExt cx="266400" cy="34920"/>
              </a:xfrm>
            </p:grpSpPr>
            <p:sp>
              <p:nvSpPr>
                <p:cNvPr id="1741" name=""/>
                <p:cNvSpPr/>
                <p:nvPr/>
              </p:nvSpPr>
              <p:spPr>
                <a:xfrm>
                  <a:off x="8328960" y="2239920"/>
                  <a:ext cx="36000" cy="34920"/>
                </a:xfrm>
                <a:prstGeom prst="ellipse">
                  <a:avLst/>
                </a:prstGeom>
                <a:noFill/>
                <a:ln w="936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8213760" y="2239920"/>
                  <a:ext cx="36000" cy="34920"/>
                </a:xfrm>
                <a:prstGeom prst="ellipse">
                  <a:avLst/>
                </a:prstGeom>
                <a:noFill/>
                <a:ln w="936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3" name=""/>
                <p:cNvSpPr/>
                <p:nvPr/>
              </p:nvSpPr>
              <p:spPr>
                <a:xfrm>
                  <a:off x="8444160" y="2239920"/>
                  <a:ext cx="36000" cy="34920"/>
                </a:xfrm>
                <a:prstGeom prst="ellipse">
                  <a:avLst/>
                </a:prstGeom>
                <a:noFill/>
                <a:ln w="9360">
                  <a:solidFill>
                    <a:srgbClr val="969696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960" bIns="-21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44" name=""/>
              <p:cNvSpPr/>
              <p:nvPr/>
            </p:nvSpPr>
            <p:spPr>
              <a:xfrm>
                <a:off x="4290840" y="3317760"/>
                <a:ext cx="938520" cy="200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868686"/>
                    </a:solidFill>
                    <a:latin typeface="Times New Roman"/>
                  </a:rPr>
                  <a:t>instructio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5" name=""/>
            <p:cNvSpPr/>
            <p:nvPr/>
          </p:nvSpPr>
          <p:spPr>
            <a:xfrm>
              <a:off x="6840360" y="3114720"/>
              <a:ext cx="211320" cy="1440"/>
            </a:xfrm>
            <a:custGeom>
              <a:avLst/>
              <a:gdLst/>
              <a:ahLst/>
              <a:rect l="l" t="t" r="r" b="b"/>
              <a:pathLst>
                <a:path w="133" h="1">
                  <a:moveTo>
                    <a:pt x="0" y="0"/>
                  </a:moveTo>
                  <a:lnTo>
                    <a:pt x="133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458040" y="2995560"/>
              <a:ext cx="328680" cy="26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without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MA, using vectored interrupt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312840" y="1682640"/>
            <a:ext cx="3243240" cy="14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 The ISR returns, thus restoring PC to 100+1=101, where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resumes execu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6203880" y="3754440"/>
            <a:ext cx="405000" cy="23328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68686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7686720" y="2152800"/>
            <a:ext cx="146160" cy="14580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1" name=""/>
          <p:cNvGrpSpPr/>
          <p:nvPr/>
        </p:nvGrpSpPr>
        <p:grpSpPr>
          <a:xfrm>
            <a:off x="6203880" y="3533760"/>
            <a:ext cx="863640" cy="453960"/>
            <a:chOff x="6203880" y="3533760"/>
            <a:chExt cx="863640" cy="453960"/>
          </a:xfrm>
        </p:grpSpPr>
        <p:sp>
          <p:nvSpPr>
            <p:cNvPr id="1752" name=""/>
            <p:cNvSpPr/>
            <p:nvPr/>
          </p:nvSpPr>
          <p:spPr>
            <a:xfrm>
              <a:off x="6203880" y="3754440"/>
              <a:ext cx="405000" cy="233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648480" y="3533760"/>
              <a:ext cx="119160" cy="333360"/>
            </a:xfrm>
            <a:custGeom>
              <a:avLst/>
              <a:gdLst/>
              <a:ahLst/>
              <a:rect l="l" t="t" r="r" b="b"/>
              <a:pathLst>
                <a:path w="75" h="210">
                  <a:moveTo>
                    <a:pt x="18" y="210"/>
                  </a:moveTo>
                  <a:cubicBezTo>
                    <a:pt x="46" y="170"/>
                    <a:pt x="75" y="131"/>
                    <a:pt x="72" y="96"/>
                  </a:cubicBezTo>
                  <a:cubicBezTo>
                    <a:pt x="69" y="61"/>
                    <a:pt x="34" y="30"/>
                    <a:pt x="0" y="0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838920" y="3619440"/>
              <a:ext cx="228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5" name=""/>
          <p:cNvGrpSpPr/>
          <p:nvPr/>
        </p:nvGrpSpPr>
        <p:grpSpPr>
          <a:xfrm>
            <a:off x="3736800" y="1901880"/>
            <a:ext cx="2872080" cy="2085840"/>
            <a:chOff x="3736800" y="1901880"/>
            <a:chExt cx="2872080" cy="2085840"/>
          </a:xfrm>
        </p:grpSpPr>
        <p:grpSp>
          <p:nvGrpSpPr>
            <p:cNvPr id="1756" name=""/>
            <p:cNvGrpSpPr/>
            <p:nvPr/>
          </p:nvGrpSpPr>
          <p:grpSpPr>
            <a:xfrm>
              <a:off x="3736800" y="1901880"/>
              <a:ext cx="2872080" cy="2085840"/>
              <a:chOff x="3736800" y="1901880"/>
              <a:chExt cx="2872080" cy="2085840"/>
            </a:xfrm>
          </p:grpSpPr>
          <p:grpSp>
            <p:nvGrpSpPr>
              <p:cNvPr id="1757" name=""/>
              <p:cNvGrpSpPr/>
              <p:nvPr/>
            </p:nvGrpSpPr>
            <p:grpSpPr>
              <a:xfrm>
                <a:off x="3736800" y="1901880"/>
                <a:ext cx="2225880" cy="1824120"/>
                <a:chOff x="3736800" y="1901880"/>
                <a:chExt cx="2225880" cy="1824120"/>
              </a:xfrm>
            </p:grpSpPr>
            <p:sp>
              <p:nvSpPr>
                <p:cNvPr id="1758" name=""/>
                <p:cNvSpPr/>
                <p:nvPr/>
              </p:nvSpPr>
              <p:spPr>
                <a:xfrm>
                  <a:off x="3871800" y="2076480"/>
                  <a:ext cx="357120" cy="19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6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59" name=""/>
                <p:cNvSpPr/>
                <p:nvPr/>
              </p:nvSpPr>
              <p:spPr>
                <a:xfrm>
                  <a:off x="4319640" y="2076480"/>
                  <a:ext cx="152064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MOV R0, 0x800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0" name=""/>
                <p:cNvSpPr/>
                <p:nvPr/>
              </p:nvSpPr>
              <p:spPr>
                <a:xfrm>
                  <a:off x="3833640" y="2259000"/>
                  <a:ext cx="395280" cy="203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7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1" name=""/>
                <p:cNvSpPr/>
                <p:nvPr/>
              </p:nvSpPr>
              <p:spPr>
                <a:xfrm>
                  <a:off x="4319640" y="2259000"/>
                  <a:ext cx="1204920" cy="23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# modifies R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852720" y="2459160"/>
                  <a:ext cx="376200" cy="212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8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4309920" y="2459160"/>
                  <a:ext cx="1602000" cy="200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MOV 0x0001, R0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909960" y="2664000"/>
                  <a:ext cx="31896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19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5" name=""/>
                <p:cNvSpPr/>
                <p:nvPr/>
              </p:nvSpPr>
              <p:spPr>
                <a:xfrm>
                  <a:off x="3859200" y="1901880"/>
                  <a:ext cx="460440" cy="28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ISR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6" name=""/>
                <p:cNvSpPr/>
                <p:nvPr/>
              </p:nvSpPr>
              <p:spPr>
                <a:xfrm>
                  <a:off x="3736800" y="3306960"/>
                  <a:ext cx="4510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0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825720" y="3517920"/>
                  <a:ext cx="376200" cy="18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101: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4290840" y="3517920"/>
                  <a:ext cx="96372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stru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3946320" y="2799000"/>
                  <a:ext cx="273240" cy="20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0" name=""/>
                <p:cNvSpPr/>
                <p:nvPr/>
              </p:nvSpPr>
              <p:spPr>
                <a:xfrm>
                  <a:off x="3859200" y="3000600"/>
                  <a:ext cx="1257120" cy="27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ain program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1" name=""/>
                <p:cNvSpPr/>
                <p:nvPr/>
              </p:nvSpPr>
              <p:spPr>
                <a:xfrm>
                  <a:off x="3929040" y="3125880"/>
                  <a:ext cx="272880" cy="208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...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290840" y="3318120"/>
                  <a:ext cx="938160" cy="199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instruction 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309920" y="2683080"/>
                  <a:ext cx="1652760" cy="21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868686"/>
                      </a:solidFill>
                      <a:latin typeface="Times New Roman"/>
                    </a:rPr>
                    <a:t>RETI  # ISR retur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74" name=""/>
              <p:cNvSpPr/>
              <p:nvPr/>
            </p:nvSpPr>
            <p:spPr>
              <a:xfrm>
                <a:off x="6203880" y="3754440"/>
                <a:ext cx="405000" cy="233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5" name=""/>
            <p:cNvSpPr/>
            <p:nvPr/>
          </p:nvSpPr>
          <p:spPr>
            <a:xfrm>
              <a:off x="5143680" y="3255840"/>
              <a:ext cx="733320" cy="408240"/>
            </a:xfrm>
            <a:custGeom>
              <a:avLst/>
              <a:gdLst/>
              <a:ahLst/>
              <a:rect l="l" t="t" r="r" b="b"/>
              <a:pathLst>
                <a:path w="462" h="257">
                  <a:moveTo>
                    <a:pt x="462" y="187"/>
                  </a:moveTo>
                  <a:cubicBezTo>
                    <a:pt x="446" y="194"/>
                    <a:pt x="388" y="257"/>
                    <a:pt x="366" y="229"/>
                  </a:cubicBezTo>
                  <a:cubicBezTo>
                    <a:pt x="344" y="201"/>
                    <a:pt x="391" y="38"/>
                    <a:pt x="330" y="19"/>
                  </a:cubicBezTo>
                  <a:cubicBezTo>
                    <a:pt x="269" y="0"/>
                    <a:pt x="133" y="54"/>
                    <a:pt x="0" y="115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prstDash val="dash"/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7CBC4-3A51-4CB0-9AFA-67B468D092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with DM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1123920" y="1679400"/>
            <a:ext cx="2506680" cy="84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(a)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μP is executing its main program. It has already configured th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MA ctrl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regist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5923080" y="1679400"/>
            <a:ext cx="1649160" cy="9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: P1 receives input data in a register with address 0x8000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923080" y="2838600"/>
            <a:ext cx="16761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2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1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request servicing by DMA ctr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991120" y="5305320"/>
            <a:ext cx="1675080" cy="27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(b)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P1 de-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e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934920" y="2185920"/>
            <a:ext cx="3240" cy="3529080"/>
          </a:xfrm>
          <a:custGeom>
            <a:avLst/>
            <a:gdLst/>
            <a:ahLst/>
            <a:rect l="l" t="t" r="r" b="b"/>
            <a:pathLst>
              <a:path w="4" h="3972">
                <a:moveTo>
                  <a:pt x="0" y="0"/>
                </a:moveTo>
                <a:lnTo>
                  <a:pt x="4" y="397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 rot="5400000">
            <a:off x="780840" y="1817640"/>
            <a:ext cx="377640" cy="2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794640" y="2577960"/>
            <a:ext cx="360" cy="258840"/>
          </a:xfrm>
          <a:custGeom>
            <a:avLst/>
            <a:gdLst/>
            <a:ahLst/>
            <a:rect l="l" t="t" r="r" b="b"/>
            <a:pathLst>
              <a:path w="1" h="290">
                <a:moveTo>
                  <a:pt x="0" y="0"/>
                </a:moveTo>
                <a:lnTo>
                  <a:pt x="0" y="29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3954600" y="2492280"/>
            <a:ext cx="1674720" cy="636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3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MA ctrl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e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request control of system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5640480" y="2481120"/>
            <a:ext cx="287280" cy="160560"/>
          </a:xfrm>
          <a:custGeom>
            <a:avLst/>
            <a:gdLst/>
            <a:ahLst/>
            <a:rect l="l" t="t" r="r" b="b"/>
            <a:pathLst>
              <a:path w="310" h="180">
                <a:moveTo>
                  <a:pt x="310" y="0"/>
                </a:moveTo>
                <a:lnTo>
                  <a:pt x="0" y="18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1123920" y="2625840"/>
            <a:ext cx="2479680" cy="149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4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fter executing instruction 100, μP sees 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Dreq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rted, releases the system bus,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, and resumes execution. μP stalls only if it needs the system bus to continue execu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3600360" y="2836800"/>
            <a:ext cx="354240" cy="150840"/>
          </a:xfrm>
          <a:custGeom>
            <a:avLst/>
            <a:gdLst/>
            <a:ahLst/>
            <a:rect l="l" t="t" r="r" b="b"/>
            <a:pathLst>
              <a:path w="380" h="170">
                <a:moveTo>
                  <a:pt x="380" y="0"/>
                </a:moveTo>
                <a:lnTo>
                  <a:pt x="0" y="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954600" y="3459240"/>
            <a:ext cx="1674720" cy="105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(a) DMA ctrl asserts ack (b) reads data from 0x8000 and (b) writes that data to 0x000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3610080" y="3387600"/>
            <a:ext cx="344520" cy="328680"/>
          </a:xfrm>
          <a:custGeom>
            <a:avLst/>
            <a:gdLst/>
            <a:ahLst/>
            <a:rect l="l" t="t" r="r" b="b"/>
            <a:pathLst>
              <a:path w="370" h="370">
                <a:moveTo>
                  <a:pt x="0" y="0"/>
                </a:moveTo>
                <a:lnTo>
                  <a:pt x="370" y="37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746600" y="4514760"/>
            <a:ext cx="12600" cy="206640"/>
          </a:xfrm>
          <a:custGeom>
            <a:avLst/>
            <a:gdLst/>
            <a:ahLst/>
            <a:rect l="l" t="t" r="r" b="b"/>
            <a:pathLst>
              <a:path w="14" h="231">
                <a:moveTo>
                  <a:pt x="0" y="0"/>
                </a:moveTo>
                <a:lnTo>
                  <a:pt x="14" y="231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3954600" y="4718160"/>
            <a:ext cx="1674720" cy="86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6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DMA de-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re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ack completing handshake with P1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1123920" y="5251320"/>
            <a:ext cx="24796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7(a)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μP de-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Dack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and resumes control of the bu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3508200" y="4400640"/>
            <a:ext cx="446400" cy="842760"/>
          </a:xfrm>
          <a:custGeom>
            <a:avLst/>
            <a:gdLst/>
            <a:ahLst/>
            <a:rect l="l" t="t" r="r" b="b"/>
            <a:pathLst>
              <a:path w="480" h="950">
                <a:moveTo>
                  <a:pt x="480" y="0"/>
                </a:moveTo>
                <a:lnTo>
                  <a:pt x="0" y="95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630760" y="4356000"/>
            <a:ext cx="484200" cy="941400"/>
          </a:xfrm>
          <a:custGeom>
            <a:avLst/>
            <a:gdLst/>
            <a:ahLst/>
            <a:rect l="l" t="t" r="r" b="b"/>
            <a:pathLst>
              <a:path w="520" h="1060">
                <a:moveTo>
                  <a:pt x="0" y="0"/>
                </a:moveTo>
                <a:lnTo>
                  <a:pt x="520" y="106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D63D4-7D9C-4029-8BE0-7ED74868D88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with DMA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247680" y="1727280"/>
            <a:ext cx="33321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a):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is executing its main program. It has already configured the DMA ctrl 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(b): P1 receives input data in a register with address 0x80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7" name=""/>
          <p:cNvGrpSpPr/>
          <p:nvPr/>
        </p:nvGrpSpPr>
        <p:grpSpPr>
          <a:xfrm>
            <a:off x="3854520" y="1727280"/>
            <a:ext cx="4886280" cy="2354040"/>
            <a:chOff x="3854520" y="1727280"/>
            <a:chExt cx="4886280" cy="2354040"/>
          </a:xfrm>
        </p:grpSpPr>
        <p:sp>
          <p:nvSpPr>
            <p:cNvPr id="1798" name=""/>
            <p:cNvSpPr/>
            <p:nvPr/>
          </p:nvSpPr>
          <p:spPr>
            <a:xfrm>
              <a:off x="6613560" y="1743120"/>
              <a:ext cx="2058840" cy="601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787716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697360" y="1727280"/>
              <a:ext cx="659160" cy="23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613560" y="3027240"/>
              <a:ext cx="11206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048520" y="3800520"/>
              <a:ext cx="57960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494400" y="2679840"/>
              <a:ext cx="2154240" cy="4680"/>
            </a:xfrm>
            <a:custGeom>
              <a:avLst/>
              <a:gdLst/>
              <a:ahLst/>
              <a:rect l="l" t="t" r="r" b="b"/>
              <a:pathLst>
                <a:path w="1766" h="5">
                  <a:moveTo>
                    <a:pt x="0" y="0"/>
                  </a:moveTo>
                  <a:lnTo>
                    <a:pt x="1766" y="5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01352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33436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808760" y="2427120"/>
              <a:ext cx="932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483320" y="2349360"/>
              <a:ext cx="6480" cy="33840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502240" y="3562200"/>
              <a:ext cx="241200" cy="180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051760" y="3587760"/>
              <a:ext cx="58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3944880" y="1738440"/>
              <a:ext cx="1554120" cy="23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927600" y="3614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381560" y="3405240"/>
              <a:ext cx="912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381560" y="3614760"/>
              <a:ext cx="938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046400" y="291132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3960720" y="3092400"/>
              <a:ext cx="1224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029120" y="32004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049640" y="1801800"/>
              <a:ext cx="1432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5746680" y="3462480"/>
              <a:ext cx="3938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5756400" y="3738600"/>
              <a:ext cx="3934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6381720" y="3257640"/>
              <a:ext cx="216000" cy="4680"/>
            </a:xfrm>
            <a:custGeom>
              <a:avLst/>
              <a:gdLst/>
              <a:ahLst/>
              <a:rect l="l" t="t" r="r" b="b"/>
              <a:pathLst>
                <a:path w="136" h="3">
                  <a:moveTo>
                    <a:pt x="136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5875200" y="3154320"/>
              <a:ext cx="4399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5875200" y="2967120"/>
              <a:ext cx="439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6676920" y="1906560"/>
              <a:ext cx="595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7300800" y="1906560"/>
              <a:ext cx="630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6637320" y="2109960"/>
              <a:ext cx="61596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725652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28" name=""/>
            <p:cNvGrpSpPr/>
            <p:nvPr/>
          </p:nvGrpSpPr>
          <p:grpSpPr>
            <a:xfrm>
              <a:off x="8013600" y="2220840"/>
              <a:ext cx="263160" cy="30240"/>
              <a:chOff x="8013600" y="2220840"/>
              <a:chExt cx="263160" cy="30240"/>
            </a:xfrm>
          </p:grpSpPr>
          <p:sp>
            <p:nvSpPr>
              <p:cNvPr id="1829" name=""/>
              <p:cNvSpPr/>
              <p:nvPr/>
            </p:nvSpPr>
            <p:spPr>
              <a:xfrm>
                <a:off x="812736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801360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824112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2" name=""/>
            <p:cNvSpPr/>
            <p:nvPr/>
          </p:nvSpPr>
          <p:spPr>
            <a:xfrm>
              <a:off x="3854520" y="3405240"/>
              <a:ext cx="43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049640" y="2246400"/>
              <a:ext cx="13431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No ISR needed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6689880" y="3259080"/>
              <a:ext cx="612720" cy="2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6689880" y="3524400"/>
              <a:ext cx="612720" cy="214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6689880" y="378792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397640" y="325296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397640" y="3483000"/>
              <a:ext cx="317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6372360" y="3083040"/>
              <a:ext cx="225360" cy="3240"/>
            </a:xfrm>
            <a:custGeom>
              <a:avLst/>
              <a:gdLst/>
              <a:ahLst/>
              <a:rect l="l" t="t" r="r" b="b"/>
              <a:pathLst>
                <a:path w="142" h="2">
                  <a:moveTo>
                    <a:pt x="0" y="2"/>
                  </a:move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758000" y="3381480"/>
              <a:ext cx="21456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7758000" y="361008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1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2" name=""/>
          <p:cNvSpPr/>
          <p:nvPr/>
        </p:nvSpPr>
        <p:spPr>
          <a:xfrm>
            <a:off x="8251920" y="4211640"/>
            <a:ext cx="1458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3" name=""/>
          <p:cNvGrpSpPr/>
          <p:nvPr/>
        </p:nvGrpSpPr>
        <p:grpSpPr>
          <a:xfrm>
            <a:off x="8251920" y="3827520"/>
            <a:ext cx="145800" cy="355680"/>
            <a:chOff x="8251920" y="3827520"/>
            <a:chExt cx="145800" cy="355680"/>
          </a:xfrm>
        </p:grpSpPr>
        <p:sp>
          <p:nvSpPr>
            <p:cNvPr id="1844" name=""/>
            <p:cNvSpPr/>
            <p:nvPr/>
          </p:nvSpPr>
          <p:spPr>
            <a:xfrm>
              <a:off x="8251920" y="3827520"/>
              <a:ext cx="145800" cy="146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8326440" y="4006800"/>
              <a:ext cx="360" cy="176400"/>
            </a:xfrm>
            <a:custGeom>
              <a:avLst/>
              <a:gdLst/>
              <a:ahLst/>
              <a:rect l="l" t="t" r="r" b="b"/>
              <a:pathLst>
                <a:path w="1" h="160">
                  <a:moveTo>
                    <a:pt x="0" y="16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91558-5930-41E2-9611-ADFEE536816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with DMA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47680" y="1727280"/>
            <a:ext cx="33321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: P1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request servi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y DMA ctr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: DMA ctrl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e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o request control of system bu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8" name=""/>
          <p:cNvGrpSpPr/>
          <p:nvPr/>
        </p:nvGrpSpPr>
        <p:grpSpPr>
          <a:xfrm>
            <a:off x="3854520" y="1727280"/>
            <a:ext cx="4886280" cy="2354040"/>
            <a:chOff x="3854520" y="1727280"/>
            <a:chExt cx="4886280" cy="2354040"/>
          </a:xfrm>
        </p:grpSpPr>
        <p:sp>
          <p:nvSpPr>
            <p:cNvPr id="1849" name=""/>
            <p:cNvSpPr/>
            <p:nvPr/>
          </p:nvSpPr>
          <p:spPr>
            <a:xfrm>
              <a:off x="6613560" y="1743120"/>
              <a:ext cx="2058840" cy="601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787716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5697360" y="1727280"/>
              <a:ext cx="659160" cy="23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613560" y="3027240"/>
              <a:ext cx="11206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8048520" y="3800520"/>
              <a:ext cx="57960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494400" y="2679840"/>
              <a:ext cx="2154240" cy="4680"/>
            </a:xfrm>
            <a:custGeom>
              <a:avLst/>
              <a:gdLst/>
              <a:ahLst/>
              <a:rect l="l" t="t" r="r" b="b"/>
              <a:pathLst>
                <a:path w="1766" h="5">
                  <a:moveTo>
                    <a:pt x="0" y="0"/>
                  </a:moveTo>
                  <a:lnTo>
                    <a:pt x="1766" y="5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701352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833436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808760" y="2427120"/>
              <a:ext cx="932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483320" y="2349360"/>
              <a:ext cx="6480" cy="33840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5502240" y="3562200"/>
              <a:ext cx="241200" cy="180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8051760" y="3587760"/>
              <a:ext cx="58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3944880" y="1738440"/>
              <a:ext cx="1554120" cy="23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3927600" y="3614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381560" y="3405240"/>
              <a:ext cx="912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381560" y="3614760"/>
              <a:ext cx="938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046400" y="291132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960720" y="3092400"/>
              <a:ext cx="1224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4029120" y="32004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4049640" y="1801800"/>
              <a:ext cx="1432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746680" y="3462480"/>
              <a:ext cx="3938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756400" y="3738600"/>
              <a:ext cx="3934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381720" y="3257640"/>
              <a:ext cx="216000" cy="4680"/>
            </a:xfrm>
            <a:custGeom>
              <a:avLst/>
              <a:gdLst/>
              <a:ahLst/>
              <a:rect l="l" t="t" r="r" b="b"/>
              <a:pathLst>
                <a:path w="136" h="3">
                  <a:moveTo>
                    <a:pt x="136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875200" y="3154320"/>
              <a:ext cx="4399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875200" y="2967120"/>
              <a:ext cx="439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6676920" y="1906560"/>
              <a:ext cx="595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300800" y="1906560"/>
              <a:ext cx="630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637320" y="2109960"/>
              <a:ext cx="61596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725652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8013600" y="2220840"/>
              <a:ext cx="263160" cy="30240"/>
              <a:chOff x="8013600" y="2220840"/>
              <a:chExt cx="263160" cy="30240"/>
            </a:xfrm>
          </p:grpSpPr>
          <p:sp>
            <p:nvSpPr>
              <p:cNvPr id="1880" name=""/>
              <p:cNvSpPr/>
              <p:nvPr/>
            </p:nvSpPr>
            <p:spPr>
              <a:xfrm>
                <a:off x="812736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801360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824112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83" name=""/>
            <p:cNvSpPr/>
            <p:nvPr/>
          </p:nvSpPr>
          <p:spPr>
            <a:xfrm>
              <a:off x="3854520" y="3405240"/>
              <a:ext cx="43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049640" y="2246400"/>
              <a:ext cx="13431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No ISR needed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689880" y="325908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689880" y="352440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689880" y="378792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397640" y="325296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7397640" y="3483000"/>
              <a:ext cx="317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372360" y="3083040"/>
              <a:ext cx="225360" cy="3240"/>
            </a:xfrm>
            <a:custGeom>
              <a:avLst/>
              <a:gdLst/>
              <a:ahLst/>
              <a:rect l="l" t="t" r="r" b="b"/>
              <a:pathLst>
                <a:path w="142" h="2">
                  <a:moveTo>
                    <a:pt x="0" y="2"/>
                  </a:move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758000" y="3381480"/>
              <a:ext cx="21456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7758000" y="361008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1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3" name=""/>
          <p:cNvSpPr/>
          <p:nvPr/>
        </p:nvSpPr>
        <p:spPr>
          <a:xfrm>
            <a:off x="8251920" y="3827520"/>
            <a:ext cx="145800" cy="146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4" name=""/>
          <p:cNvGrpSpPr/>
          <p:nvPr/>
        </p:nvGrpSpPr>
        <p:grpSpPr>
          <a:xfrm>
            <a:off x="7397640" y="3027240"/>
            <a:ext cx="1312920" cy="1054080"/>
            <a:chOff x="7397640" y="3027240"/>
            <a:chExt cx="1312920" cy="1054080"/>
          </a:xfrm>
        </p:grpSpPr>
        <p:grpSp>
          <p:nvGrpSpPr>
            <p:cNvPr id="1895" name=""/>
            <p:cNvGrpSpPr/>
            <p:nvPr/>
          </p:nvGrpSpPr>
          <p:grpSpPr>
            <a:xfrm>
              <a:off x="7397640" y="3483000"/>
              <a:ext cx="584280" cy="376560"/>
              <a:chOff x="7397640" y="3483000"/>
              <a:chExt cx="584280" cy="376560"/>
            </a:xfrm>
          </p:grpSpPr>
          <p:grpSp>
            <p:nvGrpSpPr>
              <p:cNvPr id="1896" name=""/>
              <p:cNvGrpSpPr/>
              <p:nvPr/>
            </p:nvGrpSpPr>
            <p:grpSpPr>
              <a:xfrm>
                <a:off x="7397640" y="3483000"/>
                <a:ext cx="584280" cy="242640"/>
                <a:chOff x="7397640" y="3483000"/>
                <a:chExt cx="584280" cy="242640"/>
              </a:xfrm>
            </p:grpSpPr>
            <p:sp>
              <p:nvSpPr>
                <p:cNvPr id="1897" name=""/>
                <p:cNvSpPr/>
                <p:nvPr/>
              </p:nvSpPr>
              <p:spPr>
                <a:xfrm>
                  <a:off x="7397640" y="3483000"/>
                  <a:ext cx="317520" cy="242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re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8" name=""/>
                <p:cNvSpPr/>
                <p:nvPr/>
              </p:nvSpPr>
              <p:spPr>
                <a:xfrm>
                  <a:off x="7758000" y="3610080"/>
                  <a:ext cx="223920" cy="1440"/>
                </a:xfrm>
                <a:custGeom>
                  <a:avLst/>
                  <a:gdLst/>
                  <a:ahLst/>
                  <a:rect l="l" t="t" r="r" b="b"/>
                  <a:pathLst>
                    <a:path w="141" h="1">
                      <a:moveTo>
                        <a:pt x="141" y="0"/>
                      </a:moveTo>
                      <a:lnTo>
                        <a:pt x="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99" name=""/>
              <p:cNvSpPr/>
              <p:nvPr/>
            </p:nvSpPr>
            <p:spPr>
              <a:xfrm>
                <a:off x="7772040" y="3676680"/>
                <a:ext cx="209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0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1" name=""/>
          <p:cNvGrpSpPr/>
          <p:nvPr/>
        </p:nvGrpSpPr>
        <p:grpSpPr>
          <a:xfrm>
            <a:off x="5875200" y="3027240"/>
            <a:ext cx="2835360" cy="1054080"/>
            <a:chOff x="5875200" y="3027240"/>
            <a:chExt cx="2835360" cy="1054080"/>
          </a:xfrm>
        </p:grpSpPr>
        <p:grpSp>
          <p:nvGrpSpPr>
            <p:cNvPr id="1902" name=""/>
            <p:cNvGrpSpPr/>
            <p:nvPr/>
          </p:nvGrpSpPr>
          <p:grpSpPr>
            <a:xfrm>
              <a:off x="5875200" y="3154320"/>
              <a:ext cx="735120" cy="352800"/>
              <a:chOff x="5875200" y="3154320"/>
              <a:chExt cx="735120" cy="352800"/>
            </a:xfrm>
          </p:grpSpPr>
          <p:grpSp>
            <p:nvGrpSpPr>
              <p:cNvPr id="1903" name=""/>
              <p:cNvGrpSpPr/>
              <p:nvPr/>
            </p:nvGrpSpPr>
            <p:grpSpPr>
              <a:xfrm>
                <a:off x="5875200" y="3154320"/>
                <a:ext cx="722520" cy="238320"/>
                <a:chOff x="5875200" y="3154320"/>
                <a:chExt cx="722520" cy="238320"/>
              </a:xfrm>
            </p:grpSpPr>
            <p:sp>
              <p:nvSpPr>
                <p:cNvPr id="1904" name=""/>
                <p:cNvSpPr/>
                <p:nvPr/>
              </p:nvSpPr>
              <p:spPr>
                <a:xfrm>
                  <a:off x="6381720" y="3257640"/>
                  <a:ext cx="216000" cy="4680"/>
                </a:xfrm>
                <a:custGeom>
                  <a:avLst/>
                  <a:gdLst/>
                  <a:ahLst/>
                  <a:rect l="l" t="t" r="r" b="b"/>
                  <a:pathLst>
                    <a:path w="136" h="3">
                      <a:moveTo>
                        <a:pt x="136" y="3"/>
                      </a:moveTo>
                      <a:lnTo>
                        <a:pt x="0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5" name=""/>
                <p:cNvSpPr/>
                <p:nvPr/>
              </p:nvSpPr>
              <p:spPr>
                <a:xfrm>
                  <a:off x="5875200" y="3154320"/>
                  <a:ext cx="439920" cy="238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req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06" name=""/>
              <p:cNvSpPr/>
              <p:nvPr/>
            </p:nvSpPr>
            <p:spPr>
              <a:xfrm>
                <a:off x="6400800" y="3324240"/>
                <a:ext cx="209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07" name=""/>
            <p:cNvSpPr/>
            <p:nvPr/>
          </p:nvSpPr>
          <p:spPr>
            <a:xfrm>
              <a:off x="6613560" y="3027240"/>
              <a:ext cx="1120680" cy="1046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1EE78-4334-43FC-BFB3-2F7E0A27F1A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with DMA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247680" y="1727280"/>
            <a:ext cx="33321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: After executing instruction 100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see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e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sserted, releases the system bus, 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and resumes execution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 stalls only if it needs the system bus to continue executing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3854520" y="1727280"/>
            <a:ext cx="4886280" cy="2354040"/>
            <a:chOff x="3854520" y="1727280"/>
            <a:chExt cx="4886280" cy="2354040"/>
          </a:xfrm>
        </p:grpSpPr>
        <p:sp>
          <p:nvSpPr>
            <p:cNvPr id="1912" name=""/>
            <p:cNvSpPr/>
            <p:nvPr/>
          </p:nvSpPr>
          <p:spPr>
            <a:xfrm>
              <a:off x="6613560" y="1743120"/>
              <a:ext cx="2058840" cy="601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787716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5697360" y="1727280"/>
              <a:ext cx="659160" cy="23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613560" y="3027240"/>
              <a:ext cx="11206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8048520" y="3800520"/>
              <a:ext cx="57960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94400" y="2679840"/>
              <a:ext cx="2154240" cy="4680"/>
            </a:xfrm>
            <a:custGeom>
              <a:avLst/>
              <a:gdLst/>
              <a:ahLst/>
              <a:rect l="l" t="t" r="r" b="b"/>
              <a:pathLst>
                <a:path w="1766" h="5">
                  <a:moveTo>
                    <a:pt x="0" y="0"/>
                  </a:moveTo>
                  <a:lnTo>
                    <a:pt x="1766" y="5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01352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833436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7808760" y="2427120"/>
              <a:ext cx="932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7483320" y="2349360"/>
              <a:ext cx="6480" cy="33840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5502240" y="3562200"/>
              <a:ext cx="241200" cy="180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8051760" y="3587760"/>
              <a:ext cx="58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944880" y="1738440"/>
              <a:ext cx="1554120" cy="23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927600" y="3614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4381560" y="3405240"/>
              <a:ext cx="912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4381560" y="3614760"/>
              <a:ext cx="938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046400" y="291132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960720" y="3092400"/>
              <a:ext cx="1224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029120" y="32004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049640" y="1801800"/>
              <a:ext cx="1432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5746680" y="3462480"/>
              <a:ext cx="3938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56400" y="3738600"/>
              <a:ext cx="3934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6381720" y="3257640"/>
              <a:ext cx="216000" cy="4680"/>
            </a:xfrm>
            <a:custGeom>
              <a:avLst/>
              <a:gdLst/>
              <a:ahLst/>
              <a:rect l="l" t="t" r="r" b="b"/>
              <a:pathLst>
                <a:path w="136" h="3">
                  <a:moveTo>
                    <a:pt x="136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5875200" y="3154320"/>
              <a:ext cx="4399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5875200" y="2967120"/>
              <a:ext cx="439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6676920" y="1906560"/>
              <a:ext cx="595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7300800" y="1906560"/>
              <a:ext cx="630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6637320" y="2109960"/>
              <a:ext cx="61596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725652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42" name=""/>
            <p:cNvGrpSpPr/>
            <p:nvPr/>
          </p:nvGrpSpPr>
          <p:grpSpPr>
            <a:xfrm>
              <a:off x="8013600" y="2220840"/>
              <a:ext cx="263160" cy="30240"/>
              <a:chOff x="8013600" y="2220840"/>
              <a:chExt cx="263160" cy="30240"/>
            </a:xfrm>
          </p:grpSpPr>
          <p:sp>
            <p:nvSpPr>
              <p:cNvPr id="1943" name=""/>
              <p:cNvSpPr/>
              <p:nvPr/>
            </p:nvSpPr>
            <p:spPr>
              <a:xfrm>
                <a:off x="812736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801360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824112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6" name=""/>
            <p:cNvSpPr/>
            <p:nvPr/>
          </p:nvSpPr>
          <p:spPr>
            <a:xfrm>
              <a:off x="3854520" y="3405240"/>
              <a:ext cx="43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049640" y="2246400"/>
              <a:ext cx="13431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No ISR needed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6689880" y="325908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6689880" y="352440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6689880" y="378792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7397640" y="325296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397640" y="3483000"/>
              <a:ext cx="317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6372360" y="3083040"/>
              <a:ext cx="225360" cy="3240"/>
            </a:xfrm>
            <a:custGeom>
              <a:avLst/>
              <a:gdLst/>
              <a:ahLst/>
              <a:rect l="l" t="t" r="r" b="b"/>
              <a:pathLst>
                <a:path w="142" h="2">
                  <a:moveTo>
                    <a:pt x="0" y="2"/>
                  </a:move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758000" y="3381480"/>
              <a:ext cx="21456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7758000" y="361008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1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56" name=""/>
          <p:cNvSpPr/>
          <p:nvPr/>
        </p:nvSpPr>
        <p:spPr>
          <a:xfrm>
            <a:off x="8251920" y="3827520"/>
            <a:ext cx="145800" cy="146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7" name=""/>
          <p:cNvGrpSpPr/>
          <p:nvPr/>
        </p:nvGrpSpPr>
        <p:grpSpPr>
          <a:xfrm>
            <a:off x="5875200" y="2838600"/>
            <a:ext cx="725760" cy="368280"/>
            <a:chOff x="5875200" y="2838600"/>
            <a:chExt cx="725760" cy="368280"/>
          </a:xfrm>
        </p:grpSpPr>
        <p:sp>
          <p:nvSpPr>
            <p:cNvPr id="1958" name=""/>
            <p:cNvSpPr/>
            <p:nvPr/>
          </p:nvSpPr>
          <p:spPr>
            <a:xfrm>
              <a:off x="5875200" y="2967120"/>
              <a:ext cx="439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372360" y="3083040"/>
              <a:ext cx="225360" cy="3240"/>
            </a:xfrm>
            <a:custGeom>
              <a:avLst/>
              <a:gdLst/>
              <a:ahLst/>
              <a:rect l="l" t="t" r="r" b="b"/>
              <a:pathLst>
                <a:path w="142" h="2">
                  <a:moveTo>
                    <a:pt x="0" y="2"/>
                  </a:move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6400800" y="2838600"/>
              <a:ext cx="20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6AF09E-AEB6-4130-AD2D-FCFF2D0091D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1" name=""/>
          <p:cNvGrpSpPr/>
          <p:nvPr/>
        </p:nvGrpSpPr>
        <p:grpSpPr>
          <a:xfrm>
            <a:off x="3854520" y="1727280"/>
            <a:ext cx="4886280" cy="2354040"/>
            <a:chOff x="3854520" y="1727280"/>
            <a:chExt cx="4886280" cy="2354040"/>
          </a:xfrm>
        </p:grpSpPr>
        <p:sp>
          <p:nvSpPr>
            <p:cNvPr id="1962" name=""/>
            <p:cNvSpPr/>
            <p:nvPr/>
          </p:nvSpPr>
          <p:spPr>
            <a:xfrm>
              <a:off x="6613560" y="1743120"/>
              <a:ext cx="2058840" cy="601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87716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697360" y="1727280"/>
              <a:ext cx="659160" cy="23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6613560" y="3027240"/>
              <a:ext cx="11206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8048520" y="3800520"/>
              <a:ext cx="57960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6494400" y="2679840"/>
              <a:ext cx="2154240" cy="4680"/>
            </a:xfrm>
            <a:custGeom>
              <a:avLst/>
              <a:gdLst/>
              <a:ahLst/>
              <a:rect l="l" t="t" r="r" b="b"/>
              <a:pathLst>
                <a:path w="1766" h="5">
                  <a:moveTo>
                    <a:pt x="0" y="0"/>
                  </a:moveTo>
                  <a:lnTo>
                    <a:pt x="1766" y="5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701352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833436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7808760" y="2427120"/>
              <a:ext cx="932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483320" y="2349360"/>
              <a:ext cx="6480" cy="33840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5502240" y="3562200"/>
              <a:ext cx="241200" cy="180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051760" y="3587760"/>
              <a:ext cx="58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944880" y="1738440"/>
              <a:ext cx="1554120" cy="23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3927600" y="3614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381560" y="3405240"/>
              <a:ext cx="912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381560" y="3614760"/>
              <a:ext cx="938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046400" y="291132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960720" y="3092400"/>
              <a:ext cx="1224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029120" y="32004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049640" y="1801800"/>
              <a:ext cx="1432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5746680" y="3462480"/>
              <a:ext cx="3938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756400" y="3738600"/>
              <a:ext cx="3934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6381720" y="3257640"/>
              <a:ext cx="216000" cy="4680"/>
            </a:xfrm>
            <a:custGeom>
              <a:avLst/>
              <a:gdLst/>
              <a:ahLst/>
              <a:rect l="l" t="t" r="r" b="b"/>
              <a:pathLst>
                <a:path w="136" h="3">
                  <a:moveTo>
                    <a:pt x="136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5875200" y="3154320"/>
              <a:ext cx="4399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5875200" y="2967120"/>
              <a:ext cx="439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6676920" y="1906560"/>
              <a:ext cx="595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7300800" y="1906560"/>
              <a:ext cx="630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6637320" y="2109960"/>
              <a:ext cx="61596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725652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92" name=""/>
            <p:cNvGrpSpPr/>
            <p:nvPr/>
          </p:nvGrpSpPr>
          <p:grpSpPr>
            <a:xfrm>
              <a:off x="8013600" y="2220840"/>
              <a:ext cx="263160" cy="30240"/>
              <a:chOff x="8013600" y="2220840"/>
              <a:chExt cx="263160" cy="30240"/>
            </a:xfrm>
          </p:grpSpPr>
          <p:sp>
            <p:nvSpPr>
              <p:cNvPr id="1993" name=""/>
              <p:cNvSpPr/>
              <p:nvPr/>
            </p:nvSpPr>
            <p:spPr>
              <a:xfrm>
                <a:off x="812736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801360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824112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96" name=""/>
            <p:cNvSpPr/>
            <p:nvPr/>
          </p:nvSpPr>
          <p:spPr>
            <a:xfrm>
              <a:off x="3854520" y="3405240"/>
              <a:ext cx="43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4049640" y="2246400"/>
              <a:ext cx="13431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No ISR needed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689880" y="325908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689880" y="352440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689880" y="378792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7397640" y="325296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7397640" y="3483000"/>
              <a:ext cx="317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6372360" y="3083040"/>
              <a:ext cx="225360" cy="3240"/>
            </a:xfrm>
            <a:custGeom>
              <a:avLst/>
              <a:gdLst/>
              <a:ahLst/>
              <a:rect l="l" t="t" r="r" b="b"/>
              <a:pathLst>
                <a:path w="142" h="2">
                  <a:moveTo>
                    <a:pt x="0" y="2"/>
                  </a:move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7758000" y="3381480"/>
              <a:ext cx="21456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7758000" y="361008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1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06" name=""/>
          <p:cNvGrpSpPr/>
          <p:nvPr/>
        </p:nvGrpSpPr>
        <p:grpSpPr>
          <a:xfrm>
            <a:off x="6494400" y="1746360"/>
            <a:ext cx="2246040" cy="2337840"/>
            <a:chOff x="6494400" y="1746360"/>
            <a:chExt cx="2246040" cy="2337840"/>
          </a:xfrm>
        </p:grpSpPr>
        <p:sp>
          <p:nvSpPr>
            <p:cNvPr id="2007" name=""/>
            <p:cNvSpPr/>
            <p:nvPr/>
          </p:nvSpPr>
          <p:spPr>
            <a:xfrm>
              <a:off x="6897600" y="3830400"/>
              <a:ext cx="145800" cy="14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7454520" y="2128680"/>
              <a:ext cx="146160" cy="14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6613200" y="1746360"/>
              <a:ext cx="2059200" cy="601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7876800" y="2112840"/>
              <a:ext cx="617760" cy="1821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6613200" y="3030480"/>
              <a:ext cx="1121040" cy="104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7980120" y="3030480"/>
              <a:ext cx="730440" cy="105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8048520" y="3803400"/>
              <a:ext cx="579240" cy="190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494400" y="2682720"/>
              <a:ext cx="2154240" cy="4320"/>
            </a:xfrm>
            <a:custGeom>
              <a:avLst/>
              <a:gdLst/>
              <a:ahLst/>
              <a:rect l="l" t="t" r="r" b="b"/>
              <a:pathLst>
                <a:path w="1766" h="5">
                  <a:moveTo>
                    <a:pt x="0" y="0"/>
                  </a:moveTo>
                  <a:lnTo>
                    <a:pt x="1766" y="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13520" y="2678040"/>
              <a:ext cx="0" cy="34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8334000" y="2678040"/>
              <a:ext cx="0" cy="348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7808760" y="2430360"/>
              <a:ext cx="931680" cy="29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7483320" y="2352600"/>
              <a:ext cx="6120" cy="33768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8051760" y="3590640"/>
              <a:ext cx="585720" cy="19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6676920" y="1909800"/>
              <a:ext cx="59508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300800" y="1909800"/>
              <a:ext cx="63000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636960" y="2112840"/>
              <a:ext cx="615960" cy="18216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256160" y="2112840"/>
              <a:ext cx="617760" cy="182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4" name=""/>
            <p:cNvGrpSpPr/>
            <p:nvPr/>
          </p:nvGrpSpPr>
          <p:grpSpPr>
            <a:xfrm>
              <a:off x="8013600" y="2224080"/>
              <a:ext cx="263160" cy="29520"/>
              <a:chOff x="8013600" y="2224080"/>
              <a:chExt cx="263160" cy="29520"/>
            </a:xfrm>
          </p:grpSpPr>
          <p:sp>
            <p:nvSpPr>
              <p:cNvPr id="2025" name=""/>
              <p:cNvSpPr/>
              <p:nvPr/>
            </p:nvSpPr>
            <p:spPr>
              <a:xfrm>
                <a:off x="8127360" y="2224080"/>
                <a:ext cx="35640" cy="29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8013600" y="2224080"/>
                <a:ext cx="35640" cy="29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8241120" y="2224080"/>
                <a:ext cx="35640" cy="2952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28" name=""/>
            <p:cNvSpPr/>
            <p:nvPr/>
          </p:nvSpPr>
          <p:spPr>
            <a:xfrm>
              <a:off x="6689520" y="3262320"/>
              <a:ext cx="612720" cy="213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6689520" y="3527280"/>
              <a:ext cx="612720" cy="21384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6689520" y="3790800"/>
              <a:ext cx="612720" cy="213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7397640" y="325584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7397640" y="348588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7758000" y="3384360"/>
              <a:ext cx="21420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7758000" y="3612960"/>
              <a:ext cx="22356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1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251560" y="3830400"/>
              <a:ext cx="146160" cy="145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7119720" y="2781000"/>
              <a:ext cx="1528920" cy="1144440"/>
            </a:xfrm>
            <a:custGeom>
              <a:avLst/>
              <a:gdLst/>
              <a:ahLst/>
              <a:rect l="l" t="t" r="r" b="b"/>
              <a:pathLst>
                <a:path w="963" h="721">
                  <a:moveTo>
                    <a:pt x="858" y="702"/>
                  </a:moveTo>
                  <a:cubicBezTo>
                    <a:pt x="870" y="697"/>
                    <a:pt x="914" y="721"/>
                    <a:pt x="929" y="670"/>
                  </a:cubicBezTo>
                  <a:cubicBezTo>
                    <a:pt x="944" y="619"/>
                    <a:pt x="952" y="494"/>
                    <a:pt x="951" y="398"/>
                  </a:cubicBezTo>
                  <a:cubicBezTo>
                    <a:pt x="950" y="302"/>
                    <a:pt x="963" y="153"/>
                    <a:pt x="924" y="94"/>
                  </a:cubicBezTo>
                  <a:cubicBezTo>
                    <a:pt x="885" y="35"/>
                    <a:pt x="794" y="55"/>
                    <a:pt x="717" y="45"/>
                  </a:cubicBezTo>
                  <a:cubicBezTo>
                    <a:pt x="640" y="35"/>
                    <a:pt x="558" y="29"/>
                    <a:pt x="462" y="34"/>
                  </a:cubicBezTo>
                  <a:cubicBezTo>
                    <a:pt x="366" y="39"/>
                    <a:pt x="200" y="0"/>
                    <a:pt x="141" y="77"/>
                  </a:cubicBezTo>
                  <a:cubicBezTo>
                    <a:pt x="82" y="154"/>
                    <a:pt x="121" y="399"/>
                    <a:pt x="108" y="496"/>
                  </a:cubicBezTo>
                  <a:cubicBezTo>
                    <a:pt x="95" y="593"/>
                    <a:pt x="83" y="625"/>
                    <a:pt x="65" y="659"/>
                  </a:cubicBezTo>
                  <a:cubicBezTo>
                    <a:pt x="47" y="693"/>
                    <a:pt x="14" y="693"/>
                    <a:pt x="0" y="70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6692760" y="2307960"/>
              <a:ext cx="703080" cy="1618920"/>
            </a:xfrm>
            <a:custGeom>
              <a:avLst/>
              <a:gdLst/>
              <a:ahLst/>
              <a:rect l="l" t="t" r="r" b="b"/>
              <a:pathLst>
                <a:path w="443" h="1020">
                  <a:moveTo>
                    <a:pt x="84" y="1011"/>
                  </a:moveTo>
                  <a:cubicBezTo>
                    <a:pt x="71" y="993"/>
                    <a:pt x="16" y="1020"/>
                    <a:pt x="8" y="902"/>
                  </a:cubicBezTo>
                  <a:cubicBezTo>
                    <a:pt x="0" y="784"/>
                    <a:pt x="6" y="428"/>
                    <a:pt x="35" y="305"/>
                  </a:cubicBezTo>
                  <a:cubicBezTo>
                    <a:pt x="64" y="182"/>
                    <a:pt x="123" y="189"/>
                    <a:pt x="182" y="163"/>
                  </a:cubicBezTo>
                  <a:cubicBezTo>
                    <a:pt x="241" y="137"/>
                    <a:pt x="345" y="174"/>
                    <a:pt x="388" y="147"/>
                  </a:cubicBezTo>
                  <a:cubicBezTo>
                    <a:pt x="431" y="120"/>
                    <a:pt x="432" y="31"/>
                    <a:pt x="443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with DMA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247680" y="1727280"/>
            <a:ext cx="33321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: DMA ctrl (a) asserts ack, (b) reads data from 0x8000, and (c) writes that data to 0x000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Meanwhile, processor still executing if not stalled!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8251920" y="3827520"/>
            <a:ext cx="145800" cy="146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1" name=""/>
          <p:cNvGrpSpPr/>
          <p:nvPr/>
        </p:nvGrpSpPr>
        <p:grpSpPr>
          <a:xfrm>
            <a:off x="7397640" y="3133800"/>
            <a:ext cx="574920" cy="361800"/>
            <a:chOff x="7397640" y="3133800"/>
            <a:chExt cx="574920" cy="361800"/>
          </a:xfrm>
        </p:grpSpPr>
        <p:sp>
          <p:nvSpPr>
            <p:cNvPr id="2042" name=""/>
            <p:cNvSpPr/>
            <p:nvPr/>
          </p:nvSpPr>
          <p:spPr>
            <a:xfrm>
              <a:off x="7397640" y="325296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7758000" y="3381480"/>
              <a:ext cx="21456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7790040" y="313380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FA9535-8DAB-4088-B7C6-4E5ACC2779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eripheral to memory transfer with DMA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247680" y="1727280"/>
            <a:ext cx="33321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: DMA de-asserts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req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completing the handshake with P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7" name=""/>
          <p:cNvSpPr/>
          <p:nvPr/>
        </p:nvSpPr>
        <p:spPr>
          <a:xfrm>
            <a:off x="8251920" y="3827520"/>
            <a:ext cx="145800" cy="146160"/>
          </a:xfrm>
          <a:prstGeom prst="ellipse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48" name=""/>
          <p:cNvGrpSpPr/>
          <p:nvPr/>
        </p:nvGrpSpPr>
        <p:grpSpPr>
          <a:xfrm>
            <a:off x="3854520" y="1727280"/>
            <a:ext cx="4886280" cy="2354040"/>
            <a:chOff x="3854520" y="1727280"/>
            <a:chExt cx="4886280" cy="2354040"/>
          </a:xfrm>
        </p:grpSpPr>
        <p:sp>
          <p:nvSpPr>
            <p:cNvPr id="2049" name=""/>
            <p:cNvSpPr/>
            <p:nvPr/>
          </p:nvSpPr>
          <p:spPr>
            <a:xfrm>
              <a:off x="6613560" y="1743120"/>
              <a:ext cx="2058840" cy="60156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787716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5697360" y="1727280"/>
              <a:ext cx="659160" cy="2346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μ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613560" y="3027240"/>
              <a:ext cx="1120680" cy="1046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MA ctr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7980480" y="3027240"/>
              <a:ext cx="730080" cy="105408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P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8048520" y="3800520"/>
              <a:ext cx="57960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494400" y="2679840"/>
              <a:ext cx="2154240" cy="4680"/>
            </a:xfrm>
            <a:custGeom>
              <a:avLst/>
              <a:gdLst/>
              <a:ahLst/>
              <a:rect l="l" t="t" r="r" b="b"/>
              <a:pathLst>
                <a:path w="1766" h="5">
                  <a:moveTo>
                    <a:pt x="0" y="0"/>
                  </a:moveTo>
                  <a:lnTo>
                    <a:pt x="1766" y="5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01352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8334360" y="2674800"/>
              <a:ext cx="0" cy="349560"/>
            </a:xfrm>
            <a:prstGeom prst="line">
              <a:avLst/>
            </a:prstGeom>
            <a:ln w="15840">
              <a:solidFill>
                <a:srgbClr val="96969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7808760" y="2427120"/>
              <a:ext cx="932040" cy="29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7483320" y="2349360"/>
              <a:ext cx="6480" cy="338400"/>
            </a:xfrm>
            <a:custGeom>
              <a:avLst/>
              <a:gdLst/>
              <a:ahLst/>
              <a:rect l="l" t="t" r="r" b="b"/>
              <a:pathLst>
                <a:path w="4" h="308">
                  <a:moveTo>
                    <a:pt x="0" y="0"/>
                  </a:moveTo>
                  <a:lnTo>
                    <a:pt x="4" y="308"/>
                  </a:lnTo>
                </a:path>
              </a:pathLst>
            </a:custGeom>
            <a:noFill/>
            <a:ln w="15840">
              <a:solidFill>
                <a:srgbClr val="969696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502240" y="3562200"/>
              <a:ext cx="241200" cy="1800"/>
            </a:xfrm>
            <a:custGeom>
              <a:avLst/>
              <a:gdLst/>
              <a:ahLst/>
              <a:rect l="l" t="t" r="r" b="b"/>
              <a:pathLst>
                <a:path w="196" h="3">
                  <a:moveTo>
                    <a:pt x="196" y="3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8051760" y="3587760"/>
              <a:ext cx="585720" cy="2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944880" y="1738440"/>
              <a:ext cx="1554120" cy="2342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927600" y="3614760"/>
              <a:ext cx="366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1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4381560" y="3405240"/>
              <a:ext cx="9126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4381560" y="3614760"/>
              <a:ext cx="938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4046400" y="2911320"/>
              <a:ext cx="2667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960720" y="3092400"/>
              <a:ext cx="1224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ain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4029120" y="3200400"/>
              <a:ext cx="26496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4049640" y="1801800"/>
              <a:ext cx="143208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5746680" y="3462480"/>
              <a:ext cx="393840" cy="206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5756400" y="3738600"/>
              <a:ext cx="393480" cy="203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381720" y="3257640"/>
              <a:ext cx="216000" cy="4680"/>
            </a:xfrm>
            <a:custGeom>
              <a:avLst/>
              <a:gdLst/>
              <a:ahLst/>
              <a:rect l="l" t="t" r="r" b="b"/>
              <a:pathLst>
                <a:path w="136" h="3">
                  <a:moveTo>
                    <a:pt x="136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5875200" y="3154320"/>
              <a:ext cx="439920" cy="2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5875200" y="2967120"/>
              <a:ext cx="4399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D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676920" y="1906560"/>
              <a:ext cx="5954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7300800" y="1906560"/>
              <a:ext cx="63036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637320" y="2109960"/>
              <a:ext cx="61596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7256520" y="2109960"/>
              <a:ext cx="617400" cy="18252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79" name=""/>
            <p:cNvGrpSpPr/>
            <p:nvPr/>
          </p:nvGrpSpPr>
          <p:grpSpPr>
            <a:xfrm>
              <a:off x="8013600" y="2220840"/>
              <a:ext cx="263160" cy="30240"/>
              <a:chOff x="8013600" y="2220840"/>
              <a:chExt cx="263160" cy="30240"/>
            </a:xfrm>
          </p:grpSpPr>
          <p:sp>
            <p:nvSpPr>
              <p:cNvPr id="2080" name=""/>
              <p:cNvSpPr/>
              <p:nvPr/>
            </p:nvSpPr>
            <p:spPr>
              <a:xfrm>
                <a:off x="812736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801360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8241120" y="2220840"/>
                <a:ext cx="35640" cy="30240"/>
              </a:xfrm>
              <a:prstGeom prst="ellipse">
                <a:avLst/>
              </a:prstGeom>
              <a:solidFill>
                <a:srgbClr val="969696"/>
              </a:solidFill>
              <a:ln w="9360">
                <a:solidFill>
                  <a:srgbClr val="969696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83" name=""/>
            <p:cNvSpPr/>
            <p:nvPr/>
          </p:nvSpPr>
          <p:spPr>
            <a:xfrm>
              <a:off x="3854520" y="3405240"/>
              <a:ext cx="43956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4049640" y="2246400"/>
              <a:ext cx="134316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808080"/>
                  </a:solidFill>
                  <a:latin typeface="Times New Roman"/>
                </a:rPr>
                <a:t>No ISR needed!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689880" y="325908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0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689880" y="352440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68686"/>
                  </a:solidFill>
                  <a:latin typeface="Times New Roman"/>
                </a:rPr>
                <a:t>0x8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689880" y="3787920"/>
              <a:ext cx="612720" cy="214200"/>
            </a:xfrm>
            <a:prstGeom prst="rect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397640" y="3252960"/>
              <a:ext cx="31752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397640" y="3483000"/>
              <a:ext cx="3175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80808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372360" y="3083040"/>
              <a:ext cx="225360" cy="3240"/>
            </a:xfrm>
            <a:custGeom>
              <a:avLst/>
              <a:gdLst/>
              <a:ahLst/>
              <a:rect l="l" t="t" r="r" b="b"/>
              <a:pathLst>
                <a:path w="142" h="2">
                  <a:moveTo>
                    <a:pt x="0" y="2"/>
                  </a:moveTo>
                  <a:lnTo>
                    <a:pt x="142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758000" y="3381480"/>
              <a:ext cx="214560" cy="1440"/>
            </a:xfrm>
            <a:custGeom>
              <a:avLst/>
              <a:gdLst/>
              <a:ahLst/>
              <a:rect l="l" t="t" r="r" b="b"/>
              <a:pathLst>
                <a:path w="135" h="1">
                  <a:moveTo>
                    <a:pt x="0" y="1"/>
                  </a:moveTo>
                  <a:lnTo>
                    <a:pt x="135" y="0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7758000" y="3610080"/>
              <a:ext cx="223920" cy="1440"/>
            </a:xfrm>
            <a:custGeom>
              <a:avLst/>
              <a:gdLst/>
              <a:ahLst/>
              <a:rect l="l" t="t" r="r" b="b"/>
              <a:pathLst>
                <a:path w="141" h="1">
                  <a:moveTo>
                    <a:pt x="141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96969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7454880" y="2128680"/>
              <a:ext cx="146160" cy="14616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4" name=""/>
          <p:cNvGrpSpPr/>
          <p:nvPr/>
        </p:nvGrpSpPr>
        <p:grpSpPr>
          <a:xfrm>
            <a:off x="5873760" y="3133800"/>
            <a:ext cx="2098800" cy="362160"/>
            <a:chOff x="5873760" y="3133800"/>
            <a:chExt cx="2098800" cy="362160"/>
          </a:xfrm>
        </p:grpSpPr>
        <p:grpSp>
          <p:nvGrpSpPr>
            <p:cNvPr id="2095" name=""/>
            <p:cNvGrpSpPr/>
            <p:nvPr/>
          </p:nvGrpSpPr>
          <p:grpSpPr>
            <a:xfrm>
              <a:off x="7397640" y="3133800"/>
              <a:ext cx="574920" cy="361800"/>
              <a:chOff x="7397640" y="3133800"/>
              <a:chExt cx="574920" cy="361800"/>
            </a:xfrm>
          </p:grpSpPr>
          <p:sp>
            <p:nvSpPr>
              <p:cNvPr id="2096" name=""/>
              <p:cNvSpPr/>
              <p:nvPr/>
            </p:nvSpPr>
            <p:spPr>
              <a:xfrm>
                <a:off x="7397640" y="3252960"/>
                <a:ext cx="317520" cy="24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ck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7758000" y="3381480"/>
                <a:ext cx="214560" cy="1440"/>
              </a:xfrm>
              <a:custGeom>
                <a:avLst/>
                <a:gdLst/>
                <a:ahLst/>
                <a:rect l="l" t="t" r="r" b="b"/>
                <a:pathLst>
                  <a:path w="135" h="1">
                    <a:moveTo>
                      <a:pt x="0" y="1"/>
                    </a:moveTo>
                    <a:lnTo>
                      <a:pt x="13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7790040" y="3133800"/>
                <a:ext cx="1825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99" name=""/>
            <p:cNvGrpSpPr/>
            <p:nvPr/>
          </p:nvGrpSpPr>
          <p:grpSpPr>
            <a:xfrm>
              <a:off x="5873760" y="3154320"/>
              <a:ext cx="721800" cy="341640"/>
              <a:chOff x="5873760" y="3154320"/>
              <a:chExt cx="721800" cy="341640"/>
            </a:xfrm>
          </p:grpSpPr>
          <p:sp>
            <p:nvSpPr>
              <p:cNvPr id="2100" name=""/>
              <p:cNvSpPr/>
              <p:nvPr/>
            </p:nvSpPr>
            <p:spPr>
              <a:xfrm>
                <a:off x="6379920" y="3257640"/>
                <a:ext cx="215640" cy="4680"/>
              </a:xfrm>
              <a:custGeom>
                <a:avLst/>
                <a:gdLst/>
                <a:ahLst/>
                <a:rect l="l" t="t" r="r" b="b"/>
                <a:pathLst>
                  <a:path w="136" h="3">
                    <a:moveTo>
                      <a:pt x="136" y="3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73760" y="3154320"/>
                <a:ext cx="43956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re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6379920" y="3313080"/>
                <a:ext cx="191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EA0D8-9B4E-4EB1-AE35-A9BF05807881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A bus DMA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04" name=""/>
          <p:cNvGrpSpPr/>
          <p:nvPr/>
        </p:nvGrpSpPr>
        <p:grpSpPr>
          <a:xfrm>
            <a:off x="2627280" y="1666800"/>
            <a:ext cx="3396960" cy="1474920"/>
            <a:chOff x="2627280" y="1666800"/>
            <a:chExt cx="3396960" cy="1474920"/>
          </a:xfrm>
        </p:grpSpPr>
        <p:sp>
          <p:nvSpPr>
            <p:cNvPr id="2105" name=""/>
            <p:cNvSpPr/>
            <p:nvPr/>
          </p:nvSpPr>
          <p:spPr>
            <a:xfrm>
              <a:off x="2686320" y="1666800"/>
              <a:ext cx="3337920" cy="147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2764080" y="1740600"/>
              <a:ext cx="122184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663440" y="1765080"/>
              <a:ext cx="122184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655160" y="2670840"/>
              <a:ext cx="122148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/O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367440" y="2421000"/>
              <a:ext cx="1901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H="1" flipV="1">
              <a:off x="3357720" y="2127960"/>
              <a:ext cx="7200" cy="304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V="1">
              <a:off x="5276880" y="2164320"/>
              <a:ext cx="0" cy="497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675600" y="2163600"/>
              <a:ext cx="1118880" cy="29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SA-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2822760" y="2678760"/>
              <a:ext cx="1221840" cy="38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H="1">
              <a:off x="4052520" y="2759760"/>
              <a:ext cx="60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052880" y="2975040"/>
              <a:ext cx="58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2877480" y="2129760"/>
              <a:ext cx="0" cy="53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155400" y="2130120"/>
              <a:ext cx="0" cy="54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213440" y="2489040"/>
              <a:ext cx="71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194360" y="2722680"/>
              <a:ext cx="71712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2627280" y="2382480"/>
              <a:ext cx="29484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2816640" y="2370600"/>
              <a:ext cx="717120" cy="39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22" name=""/>
          <p:cNvGrpSpPr/>
          <p:nvPr/>
        </p:nvGrpSpPr>
        <p:grpSpPr>
          <a:xfrm>
            <a:off x="390600" y="3413160"/>
            <a:ext cx="3930480" cy="2364840"/>
            <a:chOff x="390600" y="3413160"/>
            <a:chExt cx="3930480" cy="2364840"/>
          </a:xfrm>
        </p:grpSpPr>
        <p:sp>
          <p:nvSpPr>
            <p:cNvPr id="2123" name=""/>
            <p:cNvSpPr/>
            <p:nvPr/>
          </p:nvSpPr>
          <p:spPr>
            <a:xfrm>
              <a:off x="808200" y="3413160"/>
              <a:ext cx="29145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MA Memory-Write Bus Cyc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4" name=""/>
            <p:cNvGrpSpPr/>
            <p:nvPr/>
          </p:nvGrpSpPr>
          <p:grpSpPr>
            <a:xfrm>
              <a:off x="390600" y="3720960"/>
              <a:ext cx="3930480" cy="2057040"/>
              <a:chOff x="390600" y="3720960"/>
              <a:chExt cx="3930480" cy="2057040"/>
            </a:xfrm>
          </p:grpSpPr>
          <p:sp>
            <p:nvSpPr>
              <p:cNvPr id="2125" name=""/>
              <p:cNvSpPr/>
              <p:nvPr/>
            </p:nvSpPr>
            <p:spPr>
              <a:xfrm>
                <a:off x="1263600" y="4501440"/>
                <a:ext cx="2473920" cy="166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390600" y="3720960"/>
                <a:ext cx="3930480" cy="2046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486360" y="3816000"/>
                <a:ext cx="380520" cy="19119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YC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LO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D[7-0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A[19-0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/IO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/MEM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HRD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 flipH="1">
                <a:off x="3691440" y="3722040"/>
                <a:ext cx="360" cy="20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1066680" y="3793680"/>
                <a:ext cx="2855520" cy="17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1            C2           C3           C4          C5           C6           C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 flipH="1">
                <a:off x="1033560" y="3729600"/>
                <a:ext cx="360" cy="20361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 flipH="1">
                <a:off x="1490400" y="3722040"/>
                <a:ext cx="360" cy="20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 flipH="1">
                <a:off x="1928160" y="3722040"/>
                <a:ext cx="360" cy="20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 flipH="1">
                <a:off x="2804760" y="3722040"/>
                <a:ext cx="360" cy="20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 flipH="1">
                <a:off x="2368800" y="3722040"/>
                <a:ext cx="360" cy="20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 flipH="1">
                <a:off x="3239280" y="3722040"/>
                <a:ext cx="360" cy="2055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1033200" y="4584960"/>
                <a:ext cx="230040" cy="1800"/>
              </a:xfrm>
              <a:custGeom>
                <a:avLst/>
                <a:gdLst/>
                <a:ahLst/>
                <a:rect l="l" t="t" r="r" b="b"/>
                <a:pathLst>
                  <a:path w="408" h="3">
                    <a:moveTo>
                      <a:pt x="0" y="0"/>
                    </a:moveTo>
                    <a:lnTo>
                      <a:pt x="408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3741480" y="4584960"/>
                <a:ext cx="579600" cy="1800"/>
              </a:xfrm>
              <a:custGeom>
                <a:avLst/>
                <a:gdLst/>
                <a:ahLst/>
                <a:rect l="l" t="t" r="r" b="b"/>
                <a:pathLst>
                  <a:path w="1028" h="3">
                    <a:moveTo>
                      <a:pt x="0" y="3"/>
                    </a:moveTo>
                    <a:lnTo>
                      <a:pt x="102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2807640" y="4295880"/>
                <a:ext cx="672480" cy="163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1035000" y="4383000"/>
                <a:ext cx="17650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488040" y="4381200"/>
                <a:ext cx="832680" cy="1800"/>
              </a:xfrm>
              <a:custGeom>
                <a:avLst/>
                <a:gdLst/>
                <a:ahLst/>
                <a:rect l="l" t="t" r="r" b="b"/>
                <a:pathLst>
                  <a:path w="1477" h="3">
                    <a:moveTo>
                      <a:pt x="0" y="3"/>
                    </a:moveTo>
                    <a:lnTo>
                      <a:pt x="147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1033200" y="4011840"/>
                <a:ext cx="3282120" cy="167760"/>
              </a:xfrm>
              <a:custGeom>
                <a:avLst/>
                <a:gdLst/>
                <a:ahLst/>
                <a:rect l="l" t="t" r="r" b="b"/>
                <a:pathLst>
                  <a:path w="5820" h="247">
                    <a:moveTo>
                      <a:pt x="0" y="243"/>
                    </a:moveTo>
                    <a:lnTo>
                      <a:pt x="393" y="247"/>
                    </a:lnTo>
                    <a:lnTo>
                      <a:pt x="393" y="7"/>
                    </a:lnTo>
                    <a:lnTo>
                      <a:pt x="813" y="7"/>
                    </a:lnTo>
                    <a:lnTo>
                      <a:pt x="810" y="243"/>
                    </a:lnTo>
                    <a:lnTo>
                      <a:pt x="1195" y="240"/>
                    </a:lnTo>
                    <a:lnTo>
                      <a:pt x="1195" y="0"/>
                    </a:lnTo>
                    <a:lnTo>
                      <a:pt x="1590" y="3"/>
                    </a:lnTo>
                    <a:lnTo>
                      <a:pt x="1590" y="243"/>
                    </a:lnTo>
                    <a:lnTo>
                      <a:pt x="1975" y="247"/>
                    </a:lnTo>
                    <a:lnTo>
                      <a:pt x="1975" y="0"/>
                    </a:lnTo>
                    <a:lnTo>
                      <a:pt x="2373" y="7"/>
                    </a:lnTo>
                    <a:lnTo>
                      <a:pt x="2373" y="240"/>
                    </a:lnTo>
                    <a:lnTo>
                      <a:pt x="2763" y="247"/>
                    </a:lnTo>
                    <a:lnTo>
                      <a:pt x="2763" y="0"/>
                    </a:lnTo>
                    <a:lnTo>
                      <a:pt x="3145" y="7"/>
                    </a:lnTo>
                    <a:lnTo>
                      <a:pt x="3145" y="247"/>
                    </a:lnTo>
                    <a:lnTo>
                      <a:pt x="3550" y="247"/>
                    </a:lnTo>
                    <a:lnTo>
                      <a:pt x="3550" y="7"/>
                    </a:lnTo>
                    <a:lnTo>
                      <a:pt x="3910" y="7"/>
                    </a:lnTo>
                    <a:lnTo>
                      <a:pt x="3910" y="243"/>
                    </a:lnTo>
                    <a:lnTo>
                      <a:pt x="4308" y="240"/>
                    </a:lnTo>
                    <a:lnTo>
                      <a:pt x="4308" y="0"/>
                    </a:lnTo>
                    <a:lnTo>
                      <a:pt x="4713" y="6"/>
                    </a:lnTo>
                    <a:lnTo>
                      <a:pt x="4713" y="240"/>
                    </a:lnTo>
                    <a:lnTo>
                      <a:pt x="5103" y="247"/>
                    </a:lnTo>
                    <a:lnTo>
                      <a:pt x="5103" y="7"/>
                    </a:lnTo>
                    <a:lnTo>
                      <a:pt x="5820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1038960" y="4782240"/>
                <a:ext cx="3282120" cy="176040"/>
              </a:xfrm>
              <a:custGeom>
                <a:avLst/>
                <a:gdLst/>
                <a:ahLst/>
                <a:rect l="l" t="t" r="r" b="b"/>
                <a:pathLst>
                  <a:path w="5820" h="259">
                    <a:moveTo>
                      <a:pt x="0" y="259"/>
                    </a:moveTo>
                    <a:lnTo>
                      <a:pt x="158" y="259"/>
                    </a:lnTo>
                    <a:lnTo>
                      <a:pt x="158" y="4"/>
                    </a:lnTo>
                    <a:lnTo>
                      <a:pt x="4700" y="0"/>
                    </a:lnTo>
                    <a:lnTo>
                      <a:pt x="4703" y="251"/>
                    </a:lnTo>
                    <a:lnTo>
                      <a:pt x="5820" y="2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1033200" y="5033880"/>
                <a:ext cx="3287520" cy="170640"/>
              </a:xfrm>
              <a:custGeom>
                <a:avLst/>
                <a:gdLst/>
                <a:ahLst/>
                <a:rect l="l" t="t" r="r" b="b"/>
                <a:pathLst>
                  <a:path w="5830" h="251">
                    <a:moveTo>
                      <a:pt x="0" y="0"/>
                    </a:moveTo>
                    <a:lnTo>
                      <a:pt x="1788" y="3"/>
                    </a:lnTo>
                    <a:lnTo>
                      <a:pt x="1788" y="251"/>
                    </a:lnTo>
                    <a:lnTo>
                      <a:pt x="3660" y="250"/>
                    </a:lnTo>
                    <a:lnTo>
                      <a:pt x="3663" y="3"/>
                    </a:lnTo>
                    <a:lnTo>
                      <a:pt x="58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1036080" y="5303880"/>
                <a:ext cx="3285000" cy="171720"/>
              </a:xfrm>
              <a:custGeom>
                <a:avLst/>
                <a:gdLst/>
                <a:ahLst/>
                <a:rect l="l" t="t" r="r" b="b"/>
                <a:pathLst>
                  <a:path w="5825" h="253">
                    <a:moveTo>
                      <a:pt x="0" y="7"/>
                    </a:moveTo>
                    <a:lnTo>
                      <a:pt x="2648" y="0"/>
                    </a:lnTo>
                    <a:lnTo>
                      <a:pt x="2648" y="253"/>
                    </a:lnTo>
                    <a:lnTo>
                      <a:pt x="3675" y="253"/>
                    </a:lnTo>
                    <a:lnTo>
                      <a:pt x="3675" y="7"/>
                    </a:lnTo>
                    <a:lnTo>
                      <a:pt x="5825" y="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1035000" y="5547240"/>
                <a:ext cx="3285720" cy="165600"/>
              </a:xfrm>
              <a:custGeom>
                <a:avLst/>
                <a:gdLst/>
                <a:ahLst/>
                <a:rect l="l" t="t" r="r" b="b"/>
                <a:pathLst>
                  <a:path w="5827" h="244">
                    <a:moveTo>
                      <a:pt x="0" y="244"/>
                    </a:moveTo>
                    <a:lnTo>
                      <a:pt x="0" y="0"/>
                    </a:lnTo>
                    <a:lnTo>
                      <a:pt x="5467" y="0"/>
                    </a:lnTo>
                    <a:lnTo>
                      <a:pt x="5467" y="240"/>
                    </a:lnTo>
                    <a:lnTo>
                      <a:pt x="5827" y="23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6" name=""/>
          <p:cNvGrpSpPr/>
          <p:nvPr/>
        </p:nvGrpSpPr>
        <p:grpSpPr>
          <a:xfrm>
            <a:off x="4799160" y="3413160"/>
            <a:ext cx="3930120" cy="2361960"/>
            <a:chOff x="4799160" y="3413160"/>
            <a:chExt cx="3930120" cy="2361960"/>
          </a:xfrm>
        </p:grpSpPr>
        <p:sp>
          <p:nvSpPr>
            <p:cNvPr id="2147" name=""/>
            <p:cNvSpPr/>
            <p:nvPr/>
          </p:nvSpPr>
          <p:spPr>
            <a:xfrm>
              <a:off x="5442120" y="3413160"/>
              <a:ext cx="28098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DMA Memory-Read Bus Cyc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48" name=""/>
            <p:cNvGrpSpPr/>
            <p:nvPr/>
          </p:nvGrpSpPr>
          <p:grpSpPr>
            <a:xfrm>
              <a:off x="4799160" y="3717720"/>
              <a:ext cx="3930120" cy="2057400"/>
              <a:chOff x="4799160" y="3717720"/>
              <a:chExt cx="3930120" cy="2057400"/>
            </a:xfrm>
          </p:grpSpPr>
          <p:sp>
            <p:nvSpPr>
              <p:cNvPr id="2149" name=""/>
              <p:cNvSpPr/>
              <p:nvPr/>
            </p:nvSpPr>
            <p:spPr>
              <a:xfrm>
                <a:off x="5661720" y="4534560"/>
                <a:ext cx="2506320" cy="16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DDR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4799160" y="3717720"/>
                <a:ext cx="3927240" cy="2047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4856400" y="3805560"/>
                <a:ext cx="387000" cy="191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YC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LOCK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D[7-0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A[19-0]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ALE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/MEMR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/IOW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CHRDY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 flipH="1">
                <a:off x="8116200" y="3737160"/>
                <a:ext cx="108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444640" y="3773880"/>
                <a:ext cx="2905200" cy="157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1            C2           C3           C4           C5           C6            C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 flipH="1">
                <a:off x="5410440" y="3727080"/>
                <a:ext cx="36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 flipH="1">
                <a:off x="5875560" y="3727080"/>
                <a:ext cx="108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 flipH="1">
                <a:off x="6321600" y="3727080"/>
                <a:ext cx="36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 flipH="1">
                <a:off x="7213680" y="3727080"/>
                <a:ext cx="108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 flipH="1">
                <a:off x="6770160" y="3727080"/>
                <a:ext cx="36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403960" y="5542920"/>
                <a:ext cx="3313080" cy="162360"/>
              </a:xfrm>
              <a:custGeom>
                <a:avLst/>
                <a:gdLst/>
                <a:ahLst/>
                <a:rect l="l" t="t" r="r" b="b"/>
                <a:pathLst>
                  <a:path w="5880" h="240">
                    <a:moveTo>
                      <a:pt x="0" y="224"/>
                    </a:moveTo>
                    <a:lnTo>
                      <a:pt x="0" y="0"/>
                    </a:lnTo>
                    <a:lnTo>
                      <a:pt x="5610" y="6"/>
                    </a:lnTo>
                    <a:lnTo>
                      <a:pt x="5617" y="240"/>
                    </a:lnTo>
                    <a:lnTo>
                      <a:pt x="5880" y="23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 flipH="1">
                <a:off x="7656120" y="3727080"/>
                <a:ext cx="360" cy="203796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414400" y="4615200"/>
                <a:ext cx="247320" cy="5040"/>
              </a:xfrm>
              <a:custGeom>
                <a:avLst/>
                <a:gdLst/>
                <a:ahLst/>
                <a:rect l="l" t="t" r="r" b="b"/>
                <a:pathLst>
                  <a:path w="439" h="8">
                    <a:moveTo>
                      <a:pt x="439" y="8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8175600" y="4618800"/>
                <a:ext cx="545400" cy="1800"/>
              </a:xfrm>
              <a:custGeom>
                <a:avLst/>
                <a:gdLst/>
                <a:ahLst/>
                <a:rect l="l" t="t" r="r" b="b"/>
                <a:pathLst>
                  <a:path w="968" h="3">
                    <a:moveTo>
                      <a:pt x="0" y="3"/>
                    </a:moveTo>
                    <a:lnTo>
                      <a:pt x="96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3" name=""/>
              <p:cNvSpPr/>
              <p:nvPr/>
            </p:nvSpPr>
            <p:spPr>
              <a:xfrm>
                <a:off x="7904160" y="4364640"/>
                <a:ext cx="825120" cy="3240"/>
              </a:xfrm>
              <a:custGeom>
                <a:avLst/>
                <a:gdLst/>
                <a:ahLst/>
                <a:rect l="l" t="t" r="r" b="b"/>
                <a:pathLst>
                  <a:path w="1465" h="5">
                    <a:moveTo>
                      <a:pt x="0" y="5"/>
                    </a:moveTo>
                    <a:lnTo>
                      <a:pt x="146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4" name=""/>
              <p:cNvSpPr/>
              <p:nvPr/>
            </p:nvSpPr>
            <p:spPr>
              <a:xfrm>
                <a:off x="5410800" y="4364640"/>
                <a:ext cx="1805760" cy="3960"/>
              </a:xfrm>
              <a:custGeom>
                <a:avLst/>
                <a:gdLst/>
                <a:ahLst/>
                <a:rect l="l" t="t" r="r" b="b"/>
                <a:pathLst>
                  <a:path w="3205" h="6">
                    <a:moveTo>
                      <a:pt x="3205" y="0"/>
                    </a:move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5" name=""/>
              <p:cNvSpPr/>
              <p:nvPr/>
            </p:nvSpPr>
            <p:spPr>
              <a:xfrm>
                <a:off x="5407920" y="3963960"/>
                <a:ext cx="3317400" cy="177120"/>
              </a:xfrm>
              <a:custGeom>
                <a:avLst/>
                <a:gdLst/>
                <a:ahLst/>
                <a:rect l="l" t="t" r="r" b="b"/>
                <a:pathLst>
                  <a:path w="5888" h="262">
                    <a:moveTo>
                      <a:pt x="0" y="262"/>
                    </a:moveTo>
                    <a:lnTo>
                      <a:pt x="398" y="255"/>
                    </a:lnTo>
                    <a:lnTo>
                      <a:pt x="398" y="1"/>
                    </a:lnTo>
                    <a:lnTo>
                      <a:pt x="825" y="7"/>
                    </a:lnTo>
                    <a:lnTo>
                      <a:pt x="825" y="247"/>
                    </a:lnTo>
                    <a:lnTo>
                      <a:pt x="1215" y="247"/>
                    </a:lnTo>
                    <a:lnTo>
                      <a:pt x="1215" y="1"/>
                    </a:lnTo>
                    <a:lnTo>
                      <a:pt x="1620" y="9"/>
                    </a:lnTo>
                    <a:lnTo>
                      <a:pt x="1620" y="247"/>
                    </a:lnTo>
                    <a:lnTo>
                      <a:pt x="2018" y="247"/>
                    </a:lnTo>
                    <a:lnTo>
                      <a:pt x="2018" y="1"/>
                    </a:lnTo>
                    <a:lnTo>
                      <a:pt x="2415" y="7"/>
                    </a:lnTo>
                    <a:lnTo>
                      <a:pt x="2415" y="247"/>
                    </a:lnTo>
                    <a:lnTo>
                      <a:pt x="2813" y="247"/>
                    </a:lnTo>
                    <a:lnTo>
                      <a:pt x="2813" y="1"/>
                    </a:lnTo>
                    <a:lnTo>
                      <a:pt x="3210" y="1"/>
                    </a:lnTo>
                    <a:lnTo>
                      <a:pt x="3210" y="255"/>
                    </a:lnTo>
                    <a:lnTo>
                      <a:pt x="3600" y="262"/>
                    </a:lnTo>
                    <a:lnTo>
                      <a:pt x="3600" y="1"/>
                    </a:lnTo>
                    <a:lnTo>
                      <a:pt x="3990" y="9"/>
                    </a:lnTo>
                    <a:lnTo>
                      <a:pt x="3990" y="255"/>
                    </a:lnTo>
                    <a:lnTo>
                      <a:pt x="4395" y="262"/>
                    </a:lnTo>
                    <a:lnTo>
                      <a:pt x="4395" y="1"/>
                    </a:lnTo>
                    <a:lnTo>
                      <a:pt x="4808" y="9"/>
                    </a:lnTo>
                    <a:lnTo>
                      <a:pt x="4808" y="255"/>
                    </a:lnTo>
                    <a:lnTo>
                      <a:pt x="5205" y="262"/>
                    </a:lnTo>
                    <a:lnTo>
                      <a:pt x="5198" y="7"/>
                    </a:lnTo>
                    <a:lnTo>
                      <a:pt x="58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6" name=""/>
              <p:cNvSpPr/>
              <p:nvPr/>
            </p:nvSpPr>
            <p:spPr>
              <a:xfrm>
                <a:off x="7216920" y="4285440"/>
                <a:ext cx="689040" cy="165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7" name=""/>
              <p:cNvSpPr/>
              <p:nvPr/>
            </p:nvSpPr>
            <p:spPr>
              <a:xfrm>
                <a:off x="5412600" y="4791240"/>
                <a:ext cx="3308400" cy="160920"/>
              </a:xfrm>
              <a:custGeom>
                <a:avLst/>
                <a:gdLst/>
                <a:ahLst/>
                <a:rect l="l" t="t" r="r" b="b"/>
                <a:pathLst>
                  <a:path w="5872" h="238">
                    <a:moveTo>
                      <a:pt x="0" y="238"/>
                    </a:moveTo>
                    <a:lnTo>
                      <a:pt x="180" y="238"/>
                    </a:lnTo>
                    <a:lnTo>
                      <a:pt x="180" y="1"/>
                    </a:lnTo>
                    <a:lnTo>
                      <a:pt x="4792" y="0"/>
                    </a:lnTo>
                    <a:lnTo>
                      <a:pt x="4792" y="229"/>
                    </a:lnTo>
                    <a:lnTo>
                      <a:pt x="5872" y="22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8" name=""/>
              <p:cNvSpPr/>
              <p:nvPr/>
            </p:nvSpPr>
            <p:spPr>
              <a:xfrm>
                <a:off x="5407920" y="5024880"/>
                <a:ext cx="3321360" cy="162360"/>
              </a:xfrm>
              <a:custGeom>
                <a:avLst/>
                <a:gdLst/>
                <a:ahLst/>
                <a:rect l="l" t="t" r="r" b="b"/>
                <a:pathLst>
                  <a:path w="5895" h="240">
                    <a:moveTo>
                      <a:pt x="0" y="4"/>
                    </a:moveTo>
                    <a:lnTo>
                      <a:pt x="1815" y="4"/>
                    </a:lnTo>
                    <a:lnTo>
                      <a:pt x="1815" y="239"/>
                    </a:lnTo>
                    <a:lnTo>
                      <a:pt x="3735" y="240"/>
                    </a:lnTo>
                    <a:lnTo>
                      <a:pt x="3735" y="4"/>
                    </a:lnTo>
                    <a:lnTo>
                      <a:pt x="589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9" name=""/>
              <p:cNvSpPr/>
              <p:nvPr/>
            </p:nvSpPr>
            <p:spPr>
              <a:xfrm>
                <a:off x="5412600" y="5304600"/>
                <a:ext cx="3308400" cy="160200"/>
              </a:xfrm>
              <a:custGeom>
                <a:avLst/>
                <a:gdLst/>
                <a:ahLst/>
                <a:rect l="l" t="t" r="r" b="b"/>
                <a:pathLst>
                  <a:path w="5872" h="237">
                    <a:moveTo>
                      <a:pt x="0" y="0"/>
                    </a:moveTo>
                    <a:lnTo>
                      <a:pt x="2677" y="0"/>
                    </a:lnTo>
                    <a:lnTo>
                      <a:pt x="2677" y="232"/>
                    </a:lnTo>
                    <a:lnTo>
                      <a:pt x="3720" y="237"/>
                    </a:lnTo>
                    <a:lnTo>
                      <a:pt x="3720" y="0"/>
                    </a:lnTo>
                    <a:lnTo>
                      <a:pt x="5872" y="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5D117-772B-47C5-8676-509E5F21A77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0240" y="3286080"/>
            <a:ext cx="8381880" cy="28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ducting device on periph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s bus to processor or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referred to as a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tual pins on periphery of IC package that plug into socket on printed-circuit bo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metimes metallic balls instead of pi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ay, metal “pads” connecting processors and memories within single 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 wire or set of wires with single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12-wire address 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87840" y="3176640"/>
            <a:ext cx="700200" cy="3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2371680" y="1639800"/>
            <a:ext cx="3895920" cy="1536840"/>
            <a:chOff x="2371680" y="1639800"/>
            <a:chExt cx="3895920" cy="1536840"/>
          </a:xfrm>
        </p:grpSpPr>
        <p:sp>
          <p:nvSpPr>
            <p:cNvPr id="114" name=""/>
            <p:cNvSpPr/>
            <p:nvPr/>
          </p:nvSpPr>
          <p:spPr>
            <a:xfrm>
              <a:off x="3610080" y="1708200"/>
              <a:ext cx="838080" cy="13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5427720" y="1708200"/>
              <a:ext cx="839880" cy="13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48160" y="1871640"/>
              <a:ext cx="9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48160" y="2198520"/>
              <a:ext cx="97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48160" y="2525760"/>
              <a:ext cx="979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48160" y="2851200"/>
              <a:ext cx="979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78480" y="1639800"/>
              <a:ext cx="69984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d'/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97560" y="1967040"/>
              <a:ext cx="69984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406760" y="2293920"/>
              <a:ext cx="1049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[0-11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486320" y="2620800"/>
              <a:ext cx="90972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[0-7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5400000">
              <a:off x="4855680" y="2744640"/>
              <a:ext cx="163440" cy="700200"/>
            </a:xfrm>
            <a:custGeom>
              <a:avLst/>
              <a:gdLst>
                <a:gd name="textAreaLeft" fmla="*/ 0 w 163440"/>
                <a:gd name="textAreaRight" fmla="*/ 59040 w 163440"/>
                <a:gd name="textAreaTop" fmla="*/ 18000 h 700200"/>
                <a:gd name="textAreaBottom" fmla="*/ 682200 h 700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4826160" y="246060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826160" y="2787480"/>
              <a:ext cx="13968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359240" y="2400480"/>
              <a:ext cx="219240" cy="2188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 flipV="1">
              <a:off x="3053880" y="2111040"/>
              <a:ext cx="1320840" cy="376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71680" y="1878120"/>
              <a:ext cx="696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or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BB73C-01C4-4757-8B16-CD28507CA95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bitration: Priority arb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400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sider the situation where multiple peripherals request service from single resource (e.g., microprocessor, DMA controller) simultaneously - which gets serviced firs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orit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gle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s make requests to arbiter, arbiter makes requests to re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er connected to system bus for configuration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2" name=""/>
          <p:cNvGrpSpPr/>
          <p:nvPr/>
        </p:nvGrpSpPr>
        <p:grpSpPr>
          <a:xfrm>
            <a:off x="1808280" y="3956040"/>
            <a:ext cx="4639680" cy="2070000"/>
            <a:chOff x="1808280" y="3956040"/>
            <a:chExt cx="4639680" cy="2070000"/>
          </a:xfrm>
        </p:grpSpPr>
        <p:sp>
          <p:nvSpPr>
            <p:cNvPr id="2173" name=""/>
            <p:cNvSpPr/>
            <p:nvPr/>
          </p:nvSpPr>
          <p:spPr>
            <a:xfrm>
              <a:off x="1808280" y="3956040"/>
              <a:ext cx="717120" cy="20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cro-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857320" y="4686120"/>
              <a:ext cx="1325160" cy="133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ori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4625640" y="4686120"/>
              <a:ext cx="77292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525400" y="4321080"/>
              <a:ext cx="3922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244680" y="432108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011560" y="432108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189240" y="4321080"/>
              <a:ext cx="1213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>
              <a:off x="2525040" y="499104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195280" y="4868640"/>
              <a:ext cx="27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2636640" y="4987800"/>
              <a:ext cx="110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2636640" y="4560840"/>
              <a:ext cx="110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4790880" y="4394160"/>
              <a:ext cx="110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2525400" y="474336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2195280" y="4560840"/>
              <a:ext cx="27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563800" y="4686120"/>
              <a:ext cx="77292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660480" y="5113080"/>
              <a:ext cx="442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e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951160" y="432108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660480" y="5783040"/>
              <a:ext cx="442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ac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660480" y="5295600"/>
              <a:ext cx="44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ac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660480" y="5538600"/>
              <a:ext cx="442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e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4182840" y="5051160"/>
              <a:ext cx="663120" cy="182520"/>
            </a:xfrm>
            <a:custGeom>
              <a:avLst/>
              <a:gdLst/>
              <a:ahLst/>
              <a:rect l="l" t="t" r="r" b="b"/>
              <a:pathLst>
                <a:path w="864" h="216">
                  <a:moveTo>
                    <a:pt x="864" y="0"/>
                  </a:moveTo>
                  <a:lnTo>
                    <a:pt x="864" y="216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4182840" y="5051160"/>
              <a:ext cx="828360" cy="304920"/>
            </a:xfrm>
            <a:custGeom>
              <a:avLst/>
              <a:gdLst/>
              <a:ahLst/>
              <a:rect l="l" t="t" r="r" b="b"/>
              <a:pathLst>
                <a:path w="1080" h="360">
                  <a:moveTo>
                    <a:pt x="0" y="360"/>
                  </a:moveTo>
                  <a:lnTo>
                    <a:pt x="1080" y="360"/>
                  </a:ln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4182840" y="5051160"/>
              <a:ext cx="1657080" cy="669960"/>
            </a:xfrm>
            <a:custGeom>
              <a:avLst/>
              <a:gdLst/>
              <a:ahLst/>
              <a:rect l="l" t="t" r="r" b="b"/>
              <a:pathLst>
                <a:path w="864" h="216">
                  <a:moveTo>
                    <a:pt x="864" y="0"/>
                  </a:moveTo>
                  <a:lnTo>
                    <a:pt x="864" y="216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4182840" y="5051160"/>
              <a:ext cx="1877760" cy="792360"/>
            </a:xfrm>
            <a:custGeom>
              <a:avLst/>
              <a:gdLst/>
              <a:ahLst/>
              <a:rect l="l" t="t" r="r" b="b"/>
              <a:pathLst>
                <a:path w="1080" h="360">
                  <a:moveTo>
                    <a:pt x="0" y="360"/>
                  </a:moveTo>
                  <a:lnTo>
                    <a:pt x="1080" y="360"/>
                  </a:ln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4679640" y="5064120"/>
              <a:ext cx="110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730480" y="5064120"/>
              <a:ext cx="109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4228920" y="5359320"/>
              <a:ext cx="110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26132-2D2B-405C-B296-75997481A9F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bitration using a priority arb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>
            <a:off x="984240" y="4016520"/>
            <a:ext cx="64548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Microprocessor is executing its progr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Peripheral1 needs servicing so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eq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Peripheral2 also needs servicing so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eq2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Priority arbiter sees at least one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req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input asserted, so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Microprocessor stops executing its program and stores its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Microprocessor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ta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 Priority arbiter asserts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ack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to acknowledge Peripheral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 Peripheral1 puts its interrupt address vector on the system b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 Microprocessor jumps to the address of ISR read from data bus, ISR executes and retu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nd completes handshake with arbit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 Microprocessor resumes executing its progra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2" name=""/>
          <p:cNvGrpSpPr/>
          <p:nvPr/>
        </p:nvGrpSpPr>
        <p:grpSpPr>
          <a:xfrm>
            <a:off x="1871640" y="1606680"/>
            <a:ext cx="4640400" cy="2070000"/>
            <a:chOff x="1871640" y="1606680"/>
            <a:chExt cx="4640400" cy="2070000"/>
          </a:xfrm>
        </p:grpSpPr>
        <p:sp>
          <p:nvSpPr>
            <p:cNvPr id="2203" name=""/>
            <p:cNvSpPr/>
            <p:nvPr/>
          </p:nvSpPr>
          <p:spPr>
            <a:xfrm>
              <a:off x="1871640" y="1606680"/>
              <a:ext cx="717480" cy="20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cro-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921040" y="2336760"/>
              <a:ext cx="1325520" cy="133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ori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4689360" y="2336760"/>
              <a:ext cx="7732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589120" y="1971720"/>
              <a:ext cx="3922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308400" y="197172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075280" y="197172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252960" y="1971720"/>
              <a:ext cx="12142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H="1">
              <a:off x="2589120" y="2641680"/>
              <a:ext cx="3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259000" y="2519280"/>
              <a:ext cx="276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700360" y="2638440"/>
              <a:ext cx="111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700360" y="2211480"/>
              <a:ext cx="111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4854600" y="2044800"/>
              <a:ext cx="11124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589120" y="2394000"/>
              <a:ext cx="3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259000" y="2211480"/>
              <a:ext cx="276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627520" y="2336760"/>
              <a:ext cx="77328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724200" y="2763720"/>
              <a:ext cx="443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e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014880" y="197172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24200" y="3433680"/>
              <a:ext cx="443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ac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724200" y="2946240"/>
              <a:ext cx="443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ac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724200" y="3189240"/>
              <a:ext cx="4431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e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4246560" y="2701800"/>
              <a:ext cx="663480" cy="182520"/>
            </a:xfrm>
            <a:custGeom>
              <a:avLst/>
              <a:gdLst/>
              <a:ahLst/>
              <a:rect l="l" t="t" r="r" b="b"/>
              <a:pathLst>
                <a:path w="864" h="216">
                  <a:moveTo>
                    <a:pt x="864" y="0"/>
                  </a:moveTo>
                  <a:lnTo>
                    <a:pt x="864" y="216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4246560" y="2701800"/>
              <a:ext cx="828720" cy="304920"/>
            </a:xfrm>
            <a:custGeom>
              <a:avLst/>
              <a:gdLst/>
              <a:ahLst/>
              <a:rect l="l" t="t" r="r" b="b"/>
              <a:pathLst>
                <a:path w="1080" h="360">
                  <a:moveTo>
                    <a:pt x="0" y="360"/>
                  </a:moveTo>
                  <a:lnTo>
                    <a:pt x="1080" y="360"/>
                  </a:ln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4246560" y="2701800"/>
              <a:ext cx="1657440" cy="669960"/>
            </a:xfrm>
            <a:custGeom>
              <a:avLst/>
              <a:gdLst/>
              <a:ahLst/>
              <a:rect l="l" t="t" r="r" b="b"/>
              <a:pathLst>
                <a:path w="864" h="216">
                  <a:moveTo>
                    <a:pt x="864" y="0"/>
                  </a:moveTo>
                  <a:lnTo>
                    <a:pt x="864" y="216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4246560" y="2701800"/>
              <a:ext cx="1878120" cy="792360"/>
            </a:xfrm>
            <a:custGeom>
              <a:avLst/>
              <a:gdLst/>
              <a:ahLst/>
              <a:rect l="l" t="t" r="r" b="b"/>
              <a:pathLst>
                <a:path w="1080" h="360">
                  <a:moveTo>
                    <a:pt x="0" y="360"/>
                  </a:moveTo>
                  <a:lnTo>
                    <a:pt x="1080" y="360"/>
                  </a:ln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4743360" y="2714760"/>
              <a:ext cx="111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794200" y="2714760"/>
              <a:ext cx="109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4292640" y="3009960"/>
              <a:ext cx="1112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9670D-4974-4A9E-8727-7897A46BA7B6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bitration: Priority arb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es of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xed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peripheral has unique ran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est rank chosen first with simultaneous reque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ferred when clear difference in rank between peripher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ng priority (round-robi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 changed based on history of servic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distribution of servicing especially among peripherals with similar priority dem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8AC8-1DA2-4D98-8E44-C966885B9AC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bitration: Daisy-chain arbi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43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ion done by periph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ilt into peripheral or external logic ad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req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input and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output added to each peripher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ipherals connected to each other in daisy-chain man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peripheral connected to resource, all others connected “upstream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eq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ws “downstream” to resource, resource’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lows “upstream” to requesting 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sest peripheral has highest prior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34" name=""/>
          <p:cNvGrpSpPr/>
          <p:nvPr/>
        </p:nvGrpSpPr>
        <p:grpSpPr>
          <a:xfrm>
            <a:off x="1884240" y="4251240"/>
            <a:ext cx="4888080" cy="1887480"/>
            <a:chOff x="1884240" y="4251240"/>
            <a:chExt cx="4888080" cy="1887480"/>
          </a:xfrm>
        </p:grpSpPr>
        <p:sp>
          <p:nvSpPr>
            <p:cNvPr id="2235" name=""/>
            <p:cNvSpPr/>
            <p:nvPr/>
          </p:nvSpPr>
          <p:spPr>
            <a:xfrm>
              <a:off x="1884240" y="4251240"/>
              <a:ext cx="596880" cy="188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481120" y="4584600"/>
              <a:ext cx="4291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546520" y="4368600"/>
              <a:ext cx="10224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>
              <a:off x="2481120" y="541656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119320" y="5305320"/>
              <a:ext cx="3016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481120" y="5249880"/>
              <a:ext cx="24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119320" y="5084640"/>
              <a:ext cx="30168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732040" y="4922640"/>
              <a:ext cx="1066680" cy="6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iphera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262320" y="4589280"/>
              <a:ext cx="0" cy="33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292720" y="4589280"/>
              <a:ext cx="0" cy="33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771640" y="5175000"/>
              <a:ext cx="4366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ck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232080" y="5175000"/>
              <a:ext cx="5144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771640" y="5341680"/>
              <a:ext cx="47628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Req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313080" y="5341680"/>
              <a:ext cx="4334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4762440" y="4922640"/>
              <a:ext cx="1063440" cy="6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iphera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803400" y="5249880"/>
              <a:ext cx="963720" cy="3240"/>
            </a:xfrm>
            <a:custGeom>
              <a:avLst/>
              <a:gdLst/>
              <a:ahLst/>
              <a:rect l="l" t="t" r="r" b="b"/>
              <a:pathLst>
                <a:path w="1148" h="3">
                  <a:moveTo>
                    <a:pt x="0" y="0"/>
                  </a:moveTo>
                  <a:lnTo>
                    <a:pt x="1148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803400" y="5414760"/>
              <a:ext cx="963720" cy="1800"/>
            </a:xfrm>
            <a:custGeom>
              <a:avLst/>
              <a:gdLst/>
              <a:ahLst/>
              <a:rect l="l" t="t" r="r" b="b"/>
              <a:pathLst>
                <a:path w="1148" h="3">
                  <a:moveTo>
                    <a:pt x="1148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4795560" y="5175000"/>
              <a:ext cx="4240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ck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287680" y="5175000"/>
              <a:ext cx="4874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4795560" y="5341680"/>
              <a:ext cx="4874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Req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5349600" y="5341680"/>
              <a:ext cx="4255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830920" y="5249880"/>
              <a:ext cx="725400" cy="4680"/>
            </a:xfrm>
            <a:custGeom>
              <a:avLst/>
              <a:gdLst/>
              <a:ahLst/>
              <a:rect l="l" t="t" r="r" b="b"/>
              <a:pathLst>
                <a:path w="886" h="6">
                  <a:moveTo>
                    <a:pt x="0" y="6"/>
                  </a:moveTo>
                  <a:lnTo>
                    <a:pt x="8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830920" y="5414760"/>
              <a:ext cx="698400" cy="1800"/>
            </a:xfrm>
            <a:custGeom>
              <a:avLst/>
              <a:gdLst/>
              <a:ahLst/>
              <a:rect l="l" t="t" r="r" b="b"/>
              <a:pathLst>
                <a:path w="833" h="3">
                  <a:moveTo>
                    <a:pt x="833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402000" y="5910120"/>
              <a:ext cx="272232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isy-chain aware peripher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622920" y="5319720"/>
              <a:ext cx="1303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D4DBA-E8FF-40BE-B3CB-D39DD2CAE0CF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bitration: Daisy-chain arbi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/c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sy to add/remove peripheral - no system redesig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support rotating prior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broken peripheral can cause loss of access to other peripher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2" name=""/>
          <p:cNvGrpSpPr/>
          <p:nvPr/>
        </p:nvGrpSpPr>
        <p:grpSpPr>
          <a:xfrm>
            <a:off x="4386240" y="4022640"/>
            <a:ext cx="4443120" cy="1887480"/>
            <a:chOff x="4386240" y="4022640"/>
            <a:chExt cx="4443120" cy="1887480"/>
          </a:xfrm>
        </p:grpSpPr>
        <p:sp>
          <p:nvSpPr>
            <p:cNvPr id="2263" name=""/>
            <p:cNvSpPr/>
            <p:nvPr/>
          </p:nvSpPr>
          <p:spPr>
            <a:xfrm>
              <a:off x="4386240" y="4022640"/>
              <a:ext cx="542520" cy="1887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928760" y="4356000"/>
              <a:ext cx="3900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7715160" y="4140000"/>
              <a:ext cx="9291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H="1">
              <a:off x="4928400" y="518796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4599720" y="5076720"/>
              <a:ext cx="27396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4928760" y="5021280"/>
              <a:ext cx="21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4599720" y="4856040"/>
              <a:ext cx="273960" cy="16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156640" y="4694040"/>
              <a:ext cx="969480" cy="6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ipheral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5638680" y="4360680"/>
              <a:ext cx="0" cy="33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7484400" y="4360680"/>
              <a:ext cx="0" cy="333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5192640" y="4946400"/>
              <a:ext cx="396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ck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5611320" y="4946400"/>
              <a:ext cx="4676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5192640" y="5113080"/>
              <a:ext cx="43272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Req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5685120" y="5113080"/>
              <a:ext cx="3938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7002360" y="4694040"/>
              <a:ext cx="966600" cy="6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ipheral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130800" y="5021280"/>
              <a:ext cx="875880" cy="3240"/>
            </a:xfrm>
            <a:custGeom>
              <a:avLst/>
              <a:gdLst/>
              <a:ahLst/>
              <a:rect l="l" t="t" r="r" b="b"/>
              <a:pathLst>
                <a:path w="1148" h="3">
                  <a:moveTo>
                    <a:pt x="0" y="0"/>
                  </a:moveTo>
                  <a:lnTo>
                    <a:pt x="1148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130800" y="5186160"/>
              <a:ext cx="875880" cy="1800"/>
            </a:xfrm>
            <a:custGeom>
              <a:avLst/>
              <a:gdLst/>
              <a:ahLst/>
              <a:rect l="l" t="t" r="r" b="b"/>
              <a:pathLst>
                <a:path w="1148" h="3">
                  <a:moveTo>
                    <a:pt x="1148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7032600" y="4946400"/>
              <a:ext cx="3852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Ack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7480080" y="4946400"/>
              <a:ext cx="44280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7032600" y="5113080"/>
              <a:ext cx="44280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Req_o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7536240" y="5113080"/>
              <a:ext cx="386640" cy="16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_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7973640" y="5021280"/>
              <a:ext cx="659160" cy="4680"/>
            </a:xfrm>
            <a:custGeom>
              <a:avLst/>
              <a:gdLst/>
              <a:ahLst/>
              <a:rect l="l" t="t" r="r" b="b"/>
              <a:pathLst>
                <a:path w="886" h="6">
                  <a:moveTo>
                    <a:pt x="0" y="6"/>
                  </a:moveTo>
                  <a:lnTo>
                    <a:pt x="886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7973640" y="5186160"/>
              <a:ext cx="634680" cy="1800"/>
            </a:xfrm>
            <a:custGeom>
              <a:avLst/>
              <a:gdLst/>
              <a:ahLst/>
              <a:rect l="l" t="t" r="r" b="b"/>
              <a:pathLst>
                <a:path w="833" h="3">
                  <a:moveTo>
                    <a:pt x="833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5765760" y="5681520"/>
              <a:ext cx="2474640" cy="22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isy-chain aware periphera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8693640" y="5091120"/>
              <a:ext cx="11844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8" name=""/>
          <p:cNvGrpSpPr/>
          <p:nvPr/>
        </p:nvGrpSpPr>
        <p:grpSpPr>
          <a:xfrm>
            <a:off x="169920" y="3917880"/>
            <a:ext cx="4005000" cy="2070000"/>
            <a:chOff x="169920" y="3917880"/>
            <a:chExt cx="4005000" cy="2070000"/>
          </a:xfrm>
        </p:grpSpPr>
        <p:sp>
          <p:nvSpPr>
            <p:cNvPr id="2289" name=""/>
            <p:cNvSpPr/>
            <p:nvPr/>
          </p:nvSpPr>
          <p:spPr>
            <a:xfrm>
              <a:off x="169920" y="3917880"/>
              <a:ext cx="619200" cy="20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cro-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1075680" y="4647960"/>
              <a:ext cx="1144080" cy="133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ority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rbi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2601720" y="4647960"/>
              <a:ext cx="66744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789120" y="4282920"/>
              <a:ext cx="3385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1409760" y="428292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2935080" y="428292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1361880" y="4282920"/>
              <a:ext cx="1047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 flipH="1">
              <a:off x="788760" y="495288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04000" y="4830480"/>
              <a:ext cx="238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884880" y="4949640"/>
              <a:ext cx="9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884880" y="4522680"/>
              <a:ext cx="9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744640" y="4356000"/>
              <a:ext cx="957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789120" y="4705200"/>
              <a:ext cx="2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504000" y="4522680"/>
              <a:ext cx="238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3411720" y="4647960"/>
              <a:ext cx="667440" cy="365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1768680" y="5074920"/>
              <a:ext cx="38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e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3746160" y="428292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1768680" y="5744880"/>
              <a:ext cx="38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ack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1768680" y="5257440"/>
              <a:ext cx="382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ack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1768680" y="5500440"/>
              <a:ext cx="3823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e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2219760" y="5013000"/>
              <a:ext cx="572400" cy="182520"/>
            </a:xfrm>
            <a:custGeom>
              <a:avLst/>
              <a:gdLst/>
              <a:ahLst/>
              <a:rect l="l" t="t" r="r" b="b"/>
              <a:pathLst>
                <a:path w="864" h="216">
                  <a:moveTo>
                    <a:pt x="864" y="0"/>
                  </a:moveTo>
                  <a:lnTo>
                    <a:pt x="864" y="216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219760" y="5013000"/>
              <a:ext cx="714960" cy="304920"/>
            </a:xfrm>
            <a:custGeom>
              <a:avLst/>
              <a:gdLst/>
              <a:ahLst/>
              <a:rect l="l" t="t" r="r" b="b"/>
              <a:pathLst>
                <a:path w="1080" h="360">
                  <a:moveTo>
                    <a:pt x="0" y="360"/>
                  </a:moveTo>
                  <a:lnTo>
                    <a:pt x="1080" y="360"/>
                  </a:ln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219760" y="5013000"/>
              <a:ext cx="1430280" cy="669960"/>
            </a:xfrm>
            <a:custGeom>
              <a:avLst/>
              <a:gdLst/>
              <a:ahLst/>
              <a:rect l="l" t="t" r="r" b="b"/>
              <a:pathLst>
                <a:path w="864" h="216">
                  <a:moveTo>
                    <a:pt x="864" y="0"/>
                  </a:moveTo>
                  <a:lnTo>
                    <a:pt x="864" y="216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219760" y="5013000"/>
              <a:ext cx="1621080" cy="792360"/>
            </a:xfrm>
            <a:custGeom>
              <a:avLst/>
              <a:gdLst/>
              <a:ahLst/>
              <a:rect l="l" t="t" r="r" b="b"/>
              <a:pathLst>
                <a:path w="1080" h="360">
                  <a:moveTo>
                    <a:pt x="0" y="360"/>
                  </a:moveTo>
                  <a:lnTo>
                    <a:pt x="1080" y="360"/>
                  </a:lnTo>
                  <a:lnTo>
                    <a:pt x="10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648520" y="5025960"/>
              <a:ext cx="9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3555360" y="5025960"/>
              <a:ext cx="9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259360" y="5321160"/>
              <a:ext cx="9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52D17-A1E8-493D-9858-5B24D165527A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twork-oriented arbitr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multiple microprocessors share a bus (sometimes called a net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bitration typically built into bus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processors may try to write simultaneously causing colli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must be res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want to start sending again at sam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istical methods can be used to reduce ch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ically used for connecting multiple distant ch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end – use to connect multiple on-chip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FD278-14DC-46F4-BDD5-762B7598004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8" name=""/>
          <p:cNvSpPr/>
          <p:nvPr/>
        </p:nvSpPr>
        <p:spPr>
          <a:xfrm>
            <a:off x="3701880" y="3071880"/>
            <a:ext cx="870120" cy="75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Jump Tab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9" name=""/>
          <p:cNvGrpSpPr/>
          <p:nvPr/>
        </p:nvGrpSpPr>
        <p:grpSpPr>
          <a:xfrm>
            <a:off x="428760" y="1649520"/>
            <a:ext cx="4070160" cy="2198520"/>
            <a:chOff x="428760" y="1649520"/>
            <a:chExt cx="4070160" cy="2198520"/>
          </a:xfrm>
        </p:grpSpPr>
        <p:sp>
          <p:nvSpPr>
            <p:cNvPr id="2320" name=""/>
            <p:cNvSpPr/>
            <p:nvPr/>
          </p:nvSpPr>
          <p:spPr>
            <a:xfrm rot="16200000">
              <a:off x="3036240" y="2891160"/>
              <a:ext cx="1029960" cy="203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emory B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1512720" y="1649520"/>
              <a:ext cx="2038680" cy="576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519200" y="3117960"/>
              <a:ext cx="862200" cy="62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eripheral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2411280" y="3112920"/>
              <a:ext cx="85752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eripheral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1495440" y="2452680"/>
              <a:ext cx="1371600" cy="43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iority Arbi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V="1">
              <a:off x="2087640" y="288432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2184480" y="289044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2708280" y="287640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 flipV="1">
              <a:off x="2805120" y="288252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2144880" y="2217600"/>
              <a:ext cx="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V="1">
              <a:off x="2239920" y="2222280"/>
              <a:ext cx="0" cy="22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 flipH="1">
              <a:off x="3471480" y="2232000"/>
              <a:ext cx="4680" cy="161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878200" y="2639880"/>
              <a:ext cx="60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V="1">
              <a:off x="3268800" y="3190680"/>
              <a:ext cx="20772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392200" y="3676680"/>
              <a:ext cx="106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528920" y="2495520"/>
              <a:ext cx="28224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528920" y="2585880"/>
              <a:ext cx="28224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528920" y="2674800"/>
              <a:ext cx="28224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1528920" y="2773440"/>
              <a:ext cx="28224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28760" y="2187720"/>
              <a:ext cx="790560" cy="1593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A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DX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D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 flipV="1">
              <a:off x="902880" y="2273400"/>
              <a:ext cx="654120" cy="25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 flipH="1" flipV="1">
              <a:off x="852480" y="2441160"/>
              <a:ext cx="689040" cy="16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 flipV="1">
              <a:off x="852480" y="2593440"/>
              <a:ext cx="689040" cy="11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H="1">
              <a:off x="1022400" y="2793960"/>
              <a:ext cx="51912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1574640" y="3454560"/>
              <a:ext cx="282600" cy="53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449440" y="3432240"/>
              <a:ext cx="282600" cy="5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852480" y="3348000"/>
              <a:ext cx="744480" cy="12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841320" y="3348000"/>
              <a:ext cx="165888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697200" y="2100240"/>
              <a:ext cx="801720" cy="86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3481560" y="2422080"/>
              <a:ext cx="209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3940200" y="2398680"/>
              <a:ext cx="333360" cy="477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3940200" y="244800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3940200" y="250344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3940200" y="25588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3940200" y="2612880"/>
              <a:ext cx="33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946680" y="277344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946680" y="2827440"/>
              <a:ext cx="33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821040" y="2384280"/>
              <a:ext cx="90720" cy="214560"/>
            </a:xfrm>
            <a:custGeom>
              <a:avLst/>
              <a:gdLst>
                <a:gd name="textAreaLeft" fmla="*/ 57960 w 90720"/>
                <a:gd name="textAreaRight" fmla="*/ 91080 w 90720"/>
                <a:gd name="textAreaTop" fmla="*/ 5400 h 214560"/>
                <a:gd name="textAreaBottom" fmla="*/ 209160 h 21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092480" y="2635200"/>
              <a:ext cx="9720" cy="11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092480" y="2682720"/>
              <a:ext cx="9720" cy="12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092480" y="2732040"/>
              <a:ext cx="9720" cy="9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3849840" y="2647440"/>
              <a:ext cx="21960" cy="45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2" name=""/>
          <p:cNvGrpSpPr/>
          <p:nvPr/>
        </p:nvGrpSpPr>
        <p:grpSpPr>
          <a:xfrm>
            <a:off x="343080" y="4200480"/>
            <a:ext cx="4000320" cy="1809720"/>
            <a:chOff x="343080" y="4200480"/>
            <a:chExt cx="4000320" cy="1809720"/>
          </a:xfrm>
        </p:grpSpPr>
        <p:sp>
          <p:nvSpPr>
            <p:cNvPr id="2363" name=""/>
            <p:cNvSpPr/>
            <p:nvPr/>
          </p:nvSpPr>
          <p:spPr>
            <a:xfrm>
              <a:off x="453240" y="5414760"/>
              <a:ext cx="89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main(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954720" y="5546520"/>
              <a:ext cx="164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nitializePeripherals()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962280" y="5673600"/>
              <a:ext cx="2469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for(;;) {} // main program goes he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07520" y="57927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43520" y="4338360"/>
              <a:ext cx="3772800" cy="90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ARBITER_MASK_REG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_at_ 0xfff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ARBITER_CH0_INDEX_REG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_at_ 0xfff1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ARBITER_CH1_INDEX_REG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_at_ 0xfff2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ARBITER_ENABLE_REG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_at_ 0xfff3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PERIPHERAL1_DATA_REG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_at_ 0xffe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PERIPHERAL2_DATA_REG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	</a:t>
              </a: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   _at_ 0xffe1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void* INTERRUPT_LOOKUP_TABLE[256] _at_ 0x010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343080" y="4200480"/>
              <a:ext cx="4000320" cy="180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69" name=""/>
          <p:cNvGrpSpPr/>
          <p:nvPr/>
        </p:nvGrpSpPr>
        <p:grpSpPr>
          <a:xfrm>
            <a:off x="4572000" y="3495600"/>
            <a:ext cx="4352760" cy="2495520"/>
            <a:chOff x="4572000" y="3495600"/>
            <a:chExt cx="4352760" cy="2495520"/>
          </a:xfrm>
        </p:grpSpPr>
        <p:sp>
          <p:nvSpPr>
            <p:cNvPr id="2370" name=""/>
            <p:cNvSpPr/>
            <p:nvPr/>
          </p:nvSpPr>
          <p:spPr>
            <a:xfrm>
              <a:off x="4716720" y="3581280"/>
              <a:ext cx="192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Peripheral1_ISR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178240" y="3708360"/>
              <a:ext cx="130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data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175360" y="3840120"/>
              <a:ext cx="192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data = PERIPHERAL1_DATA_REG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178240" y="3968640"/>
              <a:ext cx="19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// do something with the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736520" y="40989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716720" y="4227480"/>
              <a:ext cx="192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Peripheral2_ISR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5178240" y="4359240"/>
              <a:ext cx="1303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unsigned char data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175360" y="4486320"/>
              <a:ext cx="192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data = PERIPHERAL2_DATA_REG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178240" y="4618080"/>
              <a:ext cx="198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// do something with the 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727160" y="474516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739400" y="4876920"/>
              <a:ext cx="23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void InitializePeripherals(void) {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5169600" y="5005440"/>
              <a:ext cx="164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ARBITER_MASK_REG = 0x03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6841440" y="5005440"/>
              <a:ext cx="1578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// enable both channe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5170680" y="5135760"/>
              <a:ext cx="18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ARBITER_CH0_INDEX_REG = 13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5170680" y="5264280"/>
              <a:ext cx="1852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ARBITER_CH1_INDEX_REG = 17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152320" y="5396040"/>
              <a:ext cx="356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NTERRUPT_LOOKUP_TABLE[13] = (void*)Peripheral1_ISR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152320" y="5523120"/>
              <a:ext cx="356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INTERRUPT_LOOKUP_TABLE[17] = (void*)Peripheral2_ISR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5155560" y="5654880"/>
              <a:ext cx="1578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ARBITER_ENABLE_REG = 1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736520" y="5781600"/>
              <a:ext cx="69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572000" y="3495600"/>
              <a:ext cx="4352760" cy="2495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Vectored interrupt us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nterrupt t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1640" y="1523880"/>
            <a:ext cx="4352760" cy="191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xed priority: i.e., Peripheral1 has highest prio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eyword “_at_” followed by memory address forces compiler to place variables in specific memory 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memory-mapped registers in arbiter, peripher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peripheral’s index into interrupt table is sent to memory-mapped register in arbi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ipherals receive external data and raise interru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16A1D-6DFE-4FE0-9F6D-852C3BAACFB4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 8237 DMA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3" name=""/>
          <p:cNvGrpSpPr/>
          <p:nvPr/>
        </p:nvGrpSpPr>
        <p:grpSpPr>
          <a:xfrm>
            <a:off x="122400" y="1660680"/>
            <a:ext cx="3544200" cy="1722240"/>
            <a:chOff x="122400" y="1660680"/>
            <a:chExt cx="3544200" cy="1722240"/>
          </a:xfrm>
        </p:grpSpPr>
        <p:sp>
          <p:nvSpPr>
            <p:cNvPr id="2394" name=""/>
            <p:cNvSpPr/>
            <p:nvPr/>
          </p:nvSpPr>
          <p:spPr>
            <a:xfrm>
              <a:off x="1261080" y="1660680"/>
              <a:ext cx="1337760" cy="17222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Intel 8237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85520" y="17866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122400" y="1673640"/>
              <a:ext cx="688680" cy="15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[7..0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[19..0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M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EM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O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L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RQ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86960" y="19458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73640" y="20988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79760" y="22442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79760" y="237636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86240" y="25354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86240" y="26809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79760" y="31212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86240" y="29624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070800" y="1671480"/>
              <a:ext cx="595800" cy="168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 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 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 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Q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 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613240" y="19458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612520" y="18064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606760" y="2363400"/>
              <a:ext cx="464040" cy="6120"/>
            </a:xfrm>
            <a:custGeom>
              <a:avLst/>
              <a:gdLst/>
              <a:ahLst/>
              <a:rect l="l" t="t" r="r" b="b"/>
              <a:pathLst>
                <a:path w="731" h="10">
                  <a:moveTo>
                    <a:pt x="0" y="10"/>
                  </a:moveTo>
                  <a:lnTo>
                    <a:pt x="73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2606040" y="22309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2606760" y="281376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2606040" y="2668320"/>
              <a:ext cx="464400" cy="6120"/>
            </a:xfrm>
            <a:custGeom>
              <a:avLst/>
              <a:gdLst/>
              <a:ahLst/>
              <a:rect l="l" t="t" r="r" b="b"/>
              <a:pathLst>
                <a:path w="732" h="10">
                  <a:moveTo>
                    <a:pt x="0" y="10"/>
                  </a:moveTo>
                  <a:lnTo>
                    <a:pt x="73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599920" y="32576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2599200" y="31186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14" name=""/>
          <p:cNvGraphicFramePr/>
          <p:nvPr/>
        </p:nvGraphicFramePr>
        <p:xfrm>
          <a:off x="3933720" y="1600200"/>
          <a:ext cx="4857840" cy="4419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33720" y="1600200"/>
                    <a:ext cx="48578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F42312-6782-4C8A-943E-34390079EC7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l 8259 programmable priority 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7" name=""/>
          <p:cNvGrpSpPr/>
          <p:nvPr/>
        </p:nvGrpSpPr>
        <p:grpSpPr>
          <a:xfrm>
            <a:off x="279360" y="1562040"/>
            <a:ext cx="3425760" cy="1455840"/>
            <a:chOff x="279360" y="1562040"/>
            <a:chExt cx="3425760" cy="1455840"/>
          </a:xfrm>
        </p:grpSpPr>
        <p:sp>
          <p:nvSpPr>
            <p:cNvPr id="2418" name=""/>
            <p:cNvSpPr/>
            <p:nvPr/>
          </p:nvSpPr>
          <p:spPr>
            <a:xfrm>
              <a:off x="1498320" y="1562040"/>
              <a:ext cx="1138320" cy="1274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ntel 825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1022760" y="16884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79360" y="1575360"/>
              <a:ext cx="768960" cy="144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[7..0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[0..0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S[2..0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P/E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023840" y="18280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1023480" y="22208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1023480" y="23515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108960" y="1572840"/>
              <a:ext cx="596160" cy="12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2651040" y="17996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650320" y="16700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2658240" y="20764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657520" y="19386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651760" y="233172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651040" y="22118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658600" y="259920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658240" y="24710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023840" y="19519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023480" y="209052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1029600" y="261468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1016280" y="273204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437" name=""/>
          <p:cNvGraphicFramePr/>
          <p:nvPr/>
        </p:nvGraphicFramePr>
        <p:xfrm>
          <a:off x="3986280" y="1590840"/>
          <a:ext cx="488628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86280" y="1590840"/>
                    <a:ext cx="488628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5E016-682C-4593-99E2-B01DB2E074DF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level bus archite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190080" y="2653920"/>
            <a:ext cx="4940280" cy="303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-local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speed, wide, most frequent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s microprocessor, cache, memory controll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pheral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speed, narrower, less frequent commun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 industry standard bus (ISA, PCI) for por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41" name=""/>
          <p:cNvGrpSpPr/>
          <p:nvPr/>
        </p:nvGrpSpPr>
        <p:grpSpPr>
          <a:xfrm>
            <a:off x="4824360" y="2664000"/>
            <a:ext cx="4138560" cy="2523960"/>
            <a:chOff x="4824360" y="2664000"/>
            <a:chExt cx="4138560" cy="2523960"/>
          </a:xfrm>
        </p:grpSpPr>
        <p:grpSp>
          <p:nvGrpSpPr>
            <p:cNvPr id="2442" name=""/>
            <p:cNvGrpSpPr/>
            <p:nvPr/>
          </p:nvGrpSpPr>
          <p:grpSpPr>
            <a:xfrm>
              <a:off x="4824360" y="3609720"/>
              <a:ext cx="4138560" cy="379800"/>
              <a:chOff x="4824360" y="3609720"/>
              <a:chExt cx="4138560" cy="379800"/>
            </a:xfrm>
          </p:grpSpPr>
          <p:sp>
            <p:nvSpPr>
              <p:cNvPr id="2443" name=""/>
              <p:cNvSpPr/>
              <p:nvPr/>
            </p:nvSpPr>
            <p:spPr>
              <a:xfrm flipV="1">
                <a:off x="4824360" y="3609720"/>
                <a:ext cx="413856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>
                <a:off x="8643960" y="3610080"/>
                <a:ext cx="1440" cy="379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>
                <a:off x="5278320" y="3673800"/>
                <a:ext cx="2538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Processor-local bu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6" name=""/>
            <p:cNvSpPr/>
            <p:nvPr/>
          </p:nvSpPr>
          <p:spPr>
            <a:xfrm>
              <a:off x="5187960" y="266400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cro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006960" y="266400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870600" y="266400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734240" y="266400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M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5551200" y="323244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370560" y="323244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189560" y="323244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8053200" y="323244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8280360" y="398952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ri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24360" y="4935600"/>
              <a:ext cx="4138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8643960" y="455796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189560" y="455796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6870600" y="398952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6370560" y="455796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6053040" y="3989520"/>
              <a:ext cx="68112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506920" y="4557960"/>
              <a:ext cx="0" cy="3776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187960" y="3989520"/>
              <a:ext cx="682560" cy="568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78320" y="4999320"/>
              <a:ext cx="1001520" cy="18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ripheral b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4" name=""/>
          <p:cNvSpPr/>
          <p:nvPr/>
        </p:nvSpPr>
        <p:spPr>
          <a:xfrm>
            <a:off x="203040" y="1523880"/>
            <a:ext cx="834408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n’t want one bus for al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ipherals would need high-speed, processor-specific bus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ss gates, power consumption, and cost; less port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o many peripherals slows down 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228600" y="5410080"/>
            <a:ext cx="84708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-purpose processor converts communication between bu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6007C-5CEB-4DE3-AEFB-D550F6BAAD35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ing Dia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094360" y="3992040"/>
            <a:ext cx="3076560" cy="2043720"/>
            <a:chOff x="5094360" y="3992040"/>
            <a:chExt cx="3076560" cy="2043720"/>
          </a:xfrm>
        </p:grpSpPr>
        <p:sp>
          <p:nvSpPr>
            <p:cNvPr id="132" name=""/>
            <p:cNvSpPr/>
            <p:nvPr/>
          </p:nvSpPr>
          <p:spPr>
            <a:xfrm>
              <a:off x="6070680" y="5791320"/>
              <a:ext cx="141588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rite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094360" y="3992400"/>
              <a:ext cx="698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d'/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094360" y="4319640"/>
              <a:ext cx="6984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094360" y="4645080"/>
              <a:ext cx="698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094360" y="5135400"/>
              <a:ext cx="698400" cy="3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72120" y="399240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792760" y="4481640"/>
              <a:ext cx="83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V="1">
              <a:off x="6632640" y="4319640"/>
              <a:ext cx="1396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72320" y="431964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792760" y="4808520"/>
              <a:ext cx="13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5932440" y="464508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932440" y="480852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072120" y="464508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072120" y="497196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792760" y="5299200"/>
              <a:ext cx="13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5932440" y="5135040"/>
              <a:ext cx="13968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932440" y="529920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072120" y="513540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072120" y="5462640"/>
              <a:ext cx="20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632640" y="448164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932440" y="546264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5792760" y="4156200"/>
              <a:ext cx="20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6002280" y="3992040"/>
              <a:ext cx="6984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072120" y="4981680"/>
              <a:ext cx="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470720" y="4319640"/>
              <a:ext cx="1414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12200" y="4481640"/>
              <a:ext cx="55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772320" y="4319640"/>
              <a:ext cx="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31040" y="4319640"/>
              <a:ext cx="0" cy="130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702480" y="5462640"/>
              <a:ext cx="698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33000" y="1574640"/>
            <a:ext cx="4659480" cy="444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st common method for describing a communicat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proceeds to the right on x-ax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signal: low or hi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y be active low (e.g., go’, /go, or go_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terms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ssert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active) and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easse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rting go’ means go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ignal: not valid or val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col may have subprotoc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led bus cycle, e.g., read an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may be several clock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d examp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rd’/w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set low,address placed 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add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for at least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setup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ime before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enabl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asserted, enable triggers memory to place data on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data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wires by time t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Times New Roman"/>
              </a:rPr>
              <a:t>rea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032440" y="1687680"/>
            <a:ext cx="3076560" cy="1985760"/>
            <a:chOff x="5032440" y="1687680"/>
            <a:chExt cx="3076560" cy="1985760"/>
          </a:xfrm>
        </p:grpSpPr>
        <p:sp>
          <p:nvSpPr>
            <p:cNvPr id="163" name=""/>
            <p:cNvSpPr/>
            <p:nvPr/>
          </p:nvSpPr>
          <p:spPr>
            <a:xfrm>
              <a:off x="6056280" y="3429000"/>
              <a:ext cx="14256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read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032440" y="1687680"/>
              <a:ext cx="7002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d'/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032440" y="201312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032440" y="234000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032440" y="283068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32640" y="1844640"/>
              <a:ext cx="2373120" cy="4680"/>
            </a:xfrm>
            <a:custGeom>
              <a:avLst/>
              <a:gdLst/>
              <a:ahLst/>
              <a:rect l="l" t="t" r="r" b="b"/>
              <a:pathLst>
                <a:path w="2444" h="5">
                  <a:moveTo>
                    <a:pt x="0" y="5"/>
                  </a:moveTo>
                  <a:lnTo>
                    <a:pt x="244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32640" y="2503440"/>
              <a:ext cx="13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5872320" y="234000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72320" y="250344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004080" y="2340000"/>
              <a:ext cx="209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12000" y="2666880"/>
              <a:ext cx="2097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732640" y="2994120"/>
              <a:ext cx="125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991200" y="283068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991200" y="2994120"/>
              <a:ext cx="1396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130880" y="2830680"/>
              <a:ext cx="9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130880" y="3157560"/>
              <a:ext cx="97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719760" y="2176560"/>
              <a:ext cx="28116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16680" y="2678040"/>
              <a:ext cx="0" cy="65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570720" y="2176560"/>
              <a:ext cx="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872320" y="3157560"/>
              <a:ext cx="6984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setu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719760" y="2025720"/>
              <a:ext cx="0" cy="130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39160" y="2830680"/>
              <a:ext cx="0" cy="49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570720" y="3157560"/>
              <a:ext cx="700200" cy="3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rea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726160" y="2176560"/>
              <a:ext cx="83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6566040" y="2014560"/>
              <a:ext cx="13968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05720" y="201456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404120" y="2014560"/>
              <a:ext cx="14112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545240" y="2176560"/>
              <a:ext cx="55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686040" y="2533680"/>
            <a:ext cx="723960" cy="133200"/>
          </a:xfrm>
          <a:custGeom>
            <a:avLst/>
            <a:gdLst/>
            <a:ahLst/>
            <a:rect l="l" t="t" r="r" b="b"/>
            <a:pathLst>
              <a:path w="456" h="84">
                <a:moveTo>
                  <a:pt x="0" y="84"/>
                </a:moveTo>
                <a:lnTo>
                  <a:pt x="132" y="84"/>
                </a:lnTo>
                <a:lnTo>
                  <a:pt x="186" y="0"/>
                </a:lnTo>
                <a:lnTo>
                  <a:pt x="456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3714840" y="3619440"/>
            <a:ext cx="799920" cy="218880"/>
            <a:chOff x="3714840" y="3619440"/>
            <a:chExt cx="799920" cy="218880"/>
          </a:xfrm>
        </p:grpSpPr>
        <p:sp>
          <p:nvSpPr>
            <p:cNvPr id="193" name=""/>
            <p:cNvSpPr/>
            <p:nvPr/>
          </p:nvSpPr>
          <p:spPr>
            <a:xfrm>
              <a:off x="3714840" y="3619440"/>
              <a:ext cx="762120" cy="114120"/>
            </a:xfrm>
            <a:custGeom>
              <a:avLst/>
              <a:gdLst/>
              <a:ahLst/>
              <a:rect l="l" t="t" r="r" b="b"/>
              <a:pathLst>
                <a:path w="480" h="72">
                  <a:moveTo>
                    <a:pt x="0" y="72"/>
                  </a:moveTo>
                  <a:lnTo>
                    <a:pt x="174" y="72"/>
                  </a:lnTo>
                  <a:lnTo>
                    <a:pt x="246" y="0"/>
                  </a:lnTo>
                  <a:lnTo>
                    <a:pt x="48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010040" y="3743280"/>
              <a:ext cx="504720" cy="95040"/>
            </a:xfrm>
            <a:custGeom>
              <a:avLst/>
              <a:gdLst/>
              <a:ahLst/>
              <a:rect l="l" t="t" r="r" b="b"/>
              <a:pathLst>
                <a:path w="318" h="60">
                  <a:moveTo>
                    <a:pt x="0" y="0"/>
                  </a:moveTo>
                  <a:lnTo>
                    <a:pt x="48" y="60"/>
                  </a:lnTo>
                  <a:lnTo>
                    <a:pt x="318" y="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36927-BA25-46CB-8643-B4B16DD9A5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ced communication princip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/>
          </p:nvPr>
        </p:nvSpPr>
        <p:spPr>
          <a:xfrm>
            <a:off x="380880" y="1476000"/>
            <a:ext cx="8420400" cy="46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y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eak complexity of communication protocol into pieces easier to design and underst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wer levels provide services to higher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level might work with bits while higher level might work with packets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st level in hierarch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um to carry data from one actor (device or node) to an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alle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 capable of transporting multiple bits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rial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sical layer transports one bit of data at a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reless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physical connection needed for transport at physical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E94DF-5ECD-49B6-80E8-A358F4C2402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llel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data, control, and possibly powe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e bit per w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ata throughput with short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used when connecting devices on same IC or same circuit 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must be kept sh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ng parallel wires result in high capacitance values which requires more time to charge/discha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misalignment between wires increases as length increa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cost, bul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AD7CB-CB28-46BB-A01B-790124D9397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67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gle data wire, possibly also control and power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s transmitted one bit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r data throughput with long dist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average capacitance, so more bits per unit of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aper, less bul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complex interfacing logic and communication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der needs to decompose word into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iver needs to recompose bits into wo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signals often sent on same wire as data increasing protocol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ED1A-D45F-491C-A4E7-AAFBE45D73AD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(I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nic wave frequencies just below visible light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ode emits infrared light to generate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frared transistor detects signal, conducts when exposed to infrared l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 to bui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of sight, limited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dio frequency (RF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ctromagnetic wave frequencies in radio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og circuitry and antenna needed on both sides of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ne of sight not needed, transmitter power determines r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53106-D7C0-407B-AB58-E3C591FDC0B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rror detection and corr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part of bus protoc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detection: ability of receiver to detect errors during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rror correction: ability of receiver and transmitter to cooperate to correct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 done by acknowledgement/retransmissio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 error: single bit is inv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rst of bit error: consecutive bits received in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ity: extra bit sent with word used for error dete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dd parity: data word plus parity bit contains odd number of 1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n parity: data word plus parity bit contains even number of 1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ways detects single bit errors, but not all burst bit 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sum: extra word sent with data packet of multiple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extra word contains XOR sum of all data words in pac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FA70D-2DA4-4898-9E55-B6E7EA07F304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 protocols: I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77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(Inter-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wo-wire serial bus protocol developed by Philips Semiconductors nearly 20 years 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es peripheral ICs to communicate using simple communication hard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fer rates up to 100 kbits/s and 7-bit addressing possible in normal 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4 Mbits/s and 10-bit addressing in fast-m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devices capable of interfacing to I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 bu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PROMS, Flash, and some RAM memory, real-time clocks, watchdog timers, and microcontrol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4E8DF-77B0-4C0C-8C0A-CD3D879C689D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2C bus 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9" name=""/>
          <p:cNvGrpSpPr/>
          <p:nvPr/>
        </p:nvGrpSpPr>
        <p:grpSpPr>
          <a:xfrm>
            <a:off x="1473120" y="1495440"/>
            <a:ext cx="6010200" cy="1372680"/>
            <a:chOff x="1473120" y="1495440"/>
            <a:chExt cx="6010200" cy="1372680"/>
          </a:xfrm>
        </p:grpSpPr>
        <p:sp>
          <p:nvSpPr>
            <p:cNvPr id="2480" name=""/>
            <p:cNvSpPr/>
            <p:nvPr/>
          </p:nvSpPr>
          <p:spPr>
            <a:xfrm>
              <a:off x="1473120" y="1495440"/>
              <a:ext cx="618840" cy="48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C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 flipV="1">
              <a:off x="1960560" y="1650960"/>
              <a:ext cx="516060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 flipV="1">
              <a:off x="1960560" y="1770480"/>
              <a:ext cx="516060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232720" y="1990800"/>
              <a:ext cx="988560" cy="65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icro-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master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 flipV="1">
              <a:off x="2373120" y="165096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 flipV="1">
              <a:off x="2527200" y="1764720"/>
              <a:ext cx="72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315960" y="1990800"/>
              <a:ext cx="988560" cy="650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EP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serva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4393440" y="1991520"/>
              <a:ext cx="988560" cy="64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mp. Sen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serva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476680" y="1990800"/>
              <a:ext cx="988560" cy="632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CD-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servan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 flipV="1">
              <a:off x="3485880" y="165096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 flipV="1">
              <a:off x="3640320" y="1764720"/>
              <a:ext cx="72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 flipV="1">
              <a:off x="4621680" y="164520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 flipV="1">
              <a:off x="4776120" y="1764720"/>
              <a:ext cx="72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 flipV="1">
              <a:off x="5624640" y="1645200"/>
              <a:ext cx="0" cy="33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 flipV="1">
              <a:off x="5778720" y="1764720"/>
              <a:ext cx="7200" cy="22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triangle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6797160" y="1650960"/>
              <a:ext cx="0" cy="626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7017840" y="1776600"/>
              <a:ext cx="0" cy="5194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6878520" y="2224080"/>
              <a:ext cx="0" cy="113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6937560" y="2224080"/>
              <a:ext cx="0" cy="11340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6804720" y="2277720"/>
              <a:ext cx="72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6952320" y="2277720"/>
              <a:ext cx="727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6590880" y="2343600"/>
              <a:ext cx="892440" cy="250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lt; 400 p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330000" y="2659680"/>
              <a:ext cx="3133440" cy="20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ddr=0x01     Addr=0x02        Addr=0x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03" name=""/>
          <p:cNvGrpSpPr/>
          <p:nvPr/>
        </p:nvGrpSpPr>
        <p:grpSpPr>
          <a:xfrm>
            <a:off x="1324080" y="4362480"/>
            <a:ext cx="6357960" cy="1678320"/>
            <a:chOff x="1324080" y="4362480"/>
            <a:chExt cx="6357960" cy="1678320"/>
          </a:xfrm>
        </p:grpSpPr>
        <p:grpSp>
          <p:nvGrpSpPr>
            <p:cNvPr id="2504" name=""/>
            <p:cNvGrpSpPr/>
            <p:nvPr/>
          </p:nvGrpSpPr>
          <p:grpSpPr>
            <a:xfrm>
              <a:off x="1733760" y="4886280"/>
              <a:ext cx="5943600" cy="914400"/>
              <a:chOff x="1733760" y="4886280"/>
              <a:chExt cx="5943600" cy="914400"/>
            </a:xfrm>
          </p:grpSpPr>
          <p:sp>
            <p:nvSpPr>
              <p:cNvPr id="2505" name=""/>
              <p:cNvSpPr/>
              <p:nvPr/>
            </p:nvSpPr>
            <p:spPr>
              <a:xfrm>
                <a:off x="17337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19623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21909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24195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17337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19623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21909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24195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17337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19623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21909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24195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356580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379440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402300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425160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356580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379440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402300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425160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356580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379440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402300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425160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44722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47008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49294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51580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44722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47008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49294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>
                <a:off x="51580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44722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>
                <a:off x="47008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>
                <a:off x="49294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1580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>
                <a:off x="53884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6170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>
                <a:off x="58456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>
                <a:off x="607428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3884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>
                <a:off x="56170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8456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>
                <a:off x="607428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>
                <a:off x="53884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6170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>
                <a:off x="58456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607428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>
                <a:off x="26499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>
                <a:off x="28785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31071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>
                <a:off x="33357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26499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>
                <a:off x="28785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>
                <a:off x="31071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33357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>
                <a:off x="26499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28785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>
                <a:off x="31071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33357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63057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65343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67629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69915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63057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65343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67629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69915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63057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65343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67629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69915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72201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7448760" y="48862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72201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7448760" y="5114880"/>
                <a:ext cx="228600" cy="2286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72201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7448760" y="5343480"/>
                <a:ext cx="228600" cy="457200"/>
              </a:xfrm>
              <a:prstGeom prst="rect">
                <a:avLst/>
              </a:prstGeom>
              <a:noFill/>
              <a:ln cap="sq" w="9360">
                <a:solidFill>
                  <a:srgbClr val="86868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83" name=""/>
            <p:cNvSpPr/>
            <p:nvPr/>
          </p:nvSpPr>
          <p:spPr>
            <a:xfrm>
              <a:off x="1324080" y="4905360"/>
              <a:ext cx="33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1324080" y="5143320"/>
              <a:ext cx="333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180036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038680" y="5343480"/>
              <a:ext cx="85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248616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6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294336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386748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4324680" y="5343480"/>
              <a:ext cx="85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/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4772160" y="5343480"/>
              <a:ext cx="85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22936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8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69628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60096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7058160" y="5343480"/>
              <a:ext cx="85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729648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7525080" y="5343480"/>
              <a:ext cx="856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1735200" y="4883040"/>
              <a:ext cx="5946840" cy="230040"/>
            </a:xfrm>
            <a:custGeom>
              <a:avLst/>
              <a:gdLst/>
              <a:ahLst/>
              <a:rect l="l" t="t" r="r" b="b"/>
              <a:pathLst>
                <a:path w="3746" h="145">
                  <a:moveTo>
                    <a:pt x="0" y="5"/>
                  </a:moveTo>
                  <a:lnTo>
                    <a:pt x="141" y="0"/>
                  </a:lnTo>
                  <a:lnTo>
                    <a:pt x="249" y="145"/>
                  </a:lnTo>
                  <a:lnTo>
                    <a:pt x="1509" y="145"/>
                  </a:lnTo>
                  <a:lnTo>
                    <a:pt x="1546" y="4"/>
                  </a:lnTo>
                  <a:lnTo>
                    <a:pt x="1774" y="4"/>
                  </a:lnTo>
                  <a:lnTo>
                    <a:pt x="1828" y="145"/>
                  </a:lnTo>
                  <a:lnTo>
                    <a:pt x="3452" y="145"/>
                  </a:lnTo>
                  <a:lnTo>
                    <a:pt x="3597" y="4"/>
                  </a:lnTo>
                  <a:lnTo>
                    <a:pt x="3746" y="5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2517840" y="4895640"/>
              <a:ext cx="2132280" cy="217440"/>
            </a:xfrm>
            <a:custGeom>
              <a:avLst/>
              <a:gdLst/>
              <a:ahLst/>
              <a:rect l="l" t="t" r="r" b="b"/>
              <a:pathLst>
                <a:path w="1343" h="137">
                  <a:moveTo>
                    <a:pt x="0" y="137"/>
                  </a:moveTo>
                  <a:lnTo>
                    <a:pt x="42" y="0"/>
                  </a:lnTo>
                  <a:lnTo>
                    <a:pt x="1007" y="0"/>
                  </a:lnTo>
                  <a:lnTo>
                    <a:pt x="1061" y="137"/>
                  </a:lnTo>
                  <a:lnTo>
                    <a:pt x="1343" y="133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051520" y="4889520"/>
              <a:ext cx="1893960" cy="223560"/>
            </a:xfrm>
            <a:custGeom>
              <a:avLst/>
              <a:gdLst/>
              <a:ahLst/>
              <a:rect l="l" t="t" r="r" b="b"/>
              <a:pathLst>
                <a:path w="1193" h="141">
                  <a:moveTo>
                    <a:pt x="0" y="141"/>
                  </a:moveTo>
                  <a:lnTo>
                    <a:pt x="33" y="4"/>
                  </a:lnTo>
                  <a:lnTo>
                    <a:pt x="1123" y="0"/>
                  </a:lnTo>
                  <a:lnTo>
                    <a:pt x="1193" y="137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741680" y="5337000"/>
              <a:ext cx="1368360" cy="249480"/>
            </a:xfrm>
            <a:custGeom>
              <a:avLst/>
              <a:gdLst/>
              <a:ahLst/>
              <a:rect l="l" t="t" r="r" b="b"/>
              <a:pathLst>
                <a:path w="862" h="157">
                  <a:moveTo>
                    <a:pt x="0" y="4"/>
                  </a:moveTo>
                  <a:lnTo>
                    <a:pt x="286" y="4"/>
                  </a:lnTo>
                  <a:lnTo>
                    <a:pt x="286" y="157"/>
                  </a:lnTo>
                  <a:lnTo>
                    <a:pt x="427" y="153"/>
                  </a:lnTo>
                  <a:lnTo>
                    <a:pt x="427" y="4"/>
                  </a:lnTo>
                  <a:lnTo>
                    <a:pt x="862" y="0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3570480" y="5337000"/>
              <a:ext cx="2282760" cy="255600"/>
            </a:xfrm>
            <a:custGeom>
              <a:avLst/>
              <a:gdLst/>
              <a:ahLst/>
              <a:rect l="l" t="t" r="r" b="b"/>
              <a:pathLst>
                <a:path w="1438" h="161">
                  <a:moveTo>
                    <a:pt x="0" y="8"/>
                  </a:moveTo>
                  <a:lnTo>
                    <a:pt x="4" y="153"/>
                  </a:lnTo>
                  <a:lnTo>
                    <a:pt x="145" y="157"/>
                  </a:lnTo>
                  <a:lnTo>
                    <a:pt x="145" y="8"/>
                  </a:lnTo>
                  <a:lnTo>
                    <a:pt x="290" y="4"/>
                  </a:lnTo>
                  <a:lnTo>
                    <a:pt x="290" y="157"/>
                  </a:lnTo>
                  <a:lnTo>
                    <a:pt x="427" y="157"/>
                  </a:lnTo>
                  <a:lnTo>
                    <a:pt x="427" y="0"/>
                  </a:lnTo>
                  <a:lnTo>
                    <a:pt x="572" y="0"/>
                  </a:lnTo>
                  <a:lnTo>
                    <a:pt x="572" y="153"/>
                  </a:lnTo>
                  <a:lnTo>
                    <a:pt x="713" y="157"/>
                  </a:lnTo>
                  <a:lnTo>
                    <a:pt x="717" y="0"/>
                  </a:lnTo>
                  <a:lnTo>
                    <a:pt x="858" y="4"/>
                  </a:lnTo>
                  <a:lnTo>
                    <a:pt x="854" y="161"/>
                  </a:lnTo>
                  <a:lnTo>
                    <a:pt x="1003" y="157"/>
                  </a:lnTo>
                  <a:lnTo>
                    <a:pt x="1003" y="4"/>
                  </a:lnTo>
                  <a:lnTo>
                    <a:pt x="1148" y="4"/>
                  </a:lnTo>
                  <a:lnTo>
                    <a:pt x="1148" y="157"/>
                  </a:lnTo>
                  <a:lnTo>
                    <a:pt x="1289" y="153"/>
                  </a:lnTo>
                  <a:lnTo>
                    <a:pt x="1293" y="4"/>
                  </a:lnTo>
                  <a:lnTo>
                    <a:pt x="1438" y="4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6294600" y="5337000"/>
              <a:ext cx="1387440" cy="249480"/>
            </a:xfrm>
            <a:custGeom>
              <a:avLst/>
              <a:gdLst/>
              <a:ahLst/>
              <a:rect l="l" t="t" r="r" b="b"/>
              <a:pathLst>
                <a:path w="874" h="157">
                  <a:moveTo>
                    <a:pt x="4" y="0"/>
                  </a:moveTo>
                  <a:lnTo>
                    <a:pt x="0" y="157"/>
                  </a:lnTo>
                  <a:lnTo>
                    <a:pt x="149" y="157"/>
                  </a:lnTo>
                  <a:lnTo>
                    <a:pt x="149" y="8"/>
                  </a:lnTo>
                  <a:lnTo>
                    <a:pt x="290" y="8"/>
                  </a:lnTo>
                  <a:lnTo>
                    <a:pt x="294" y="153"/>
                  </a:lnTo>
                  <a:lnTo>
                    <a:pt x="439" y="157"/>
                  </a:lnTo>
                  <a:lnTo>
                    <a:pt x="439" y="8"/>
                  </a:lnTo>
                  <a:lnTo>
                    <a:pt x="874" y="8"/>
                  </a:lnTo>
                </a:path>
              </a:pathLst>
            </a:custGeom>
            <a:noFill/>
            <a:ln cap="sq"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867640" y="5343480"/>
              <a:ext cx="439560" cy="1440"/>
            </a:xfrm>
            <a:custGeom>
              <a:avLst/>
              <a:gdLst/>
              <a:ahLst/>
              <a:rect l="l" t="t" r="r" b="b"/>
              <a:pathLst>
                <a:path w="277" h="1">
                  <a:moveTo>
                    <a:pt x="0" y="0"/>
                  </a:moveTo>
                  <a:lnTo>
                    <a:pt x="27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3122640" y="5344920"/>
              <a:ext cx="439920" cy="1800"/>
            </a:xfrm>
            <a:custGeom>
              <a:avLst/>
              <a:gdLst/>
              <a:ahLst/>
              <a:rect l="l" t="t" r="r" b="b"/>
              <a:pathLst>
                <a:path w="277" h="1">
                  <a:moveTo>
                    <a:pt x="0" y="0"/>
                  </a:moveTo>
                  <a:lnTo>
                    <a:pt x="277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4838760" y="4734000"/>
              <a:ext cx="0" cy="314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7105680" y="4724280"/>
              <a:ext cx="0" cy="31428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4562640" y="4381560"/>
              <a:ext cx="542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om 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829560" y="4362480"/>
              <a:ext cx="5428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rom receiv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3171960" y="5857920"/>
              <a:ext cx="29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ypical read/write cyc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1" name=""/>
          <p:cNvGrpSpPr/>
          <p:nvPr/>
        </p:nvGrpSpPr>
        <p:grpSpPr>
          <a:xfrm>
            <a:off x="781200" y="3267000"/>
            <a:ext cx="7562880" cy="954360"/>
            <a:chOff x="781200" y="3267000"/>
            <a:chExt cx="7562880" cy="954360"/>
          </a:xfrm>
        </p:grpSpPr>
        <p:grpSp>
          <p:nvGrpSpPr>
            <p:cNvPr id="2612" name=""/>
            <p:cNvGrpSpPr/>
            <p:nvPr/>
          </p:nvGrpSpPr>
          <p:grpSpPr>
            <a:xfrm>
              <a:off x="781200" y="3267000"/>
              <a:ext cx="1419120" cy="685080"/>
              <a:chOff x="781200" y="3267000"/>
              <a:chExt cx="1419120" cy="685080"/>
            </a:xfrm>
          </p:grpSpPr>
          <p:grpSp>
            <p:nvGrpSpPr>
              <p:cNvPr id="2613" name=""/>
              <p:cNvGrpSpPr/>
              <p:nvPr/>
            </p:nvGrpSpPr>
            <p:grpSpPr>
              <a:xfrm>
                <a:off x="1281240" y="3267000"/>
                <a:ext cx="919080" cy="685080"/>
                <a:chOff x="1281240" y="3267000"/>
                <a:chExt cx="919080" cy="685080"/>
              </a:xfrm>
            </p:grpSpPr>
            <p:grpSp>
              <p:nvGrpSpPr>
                <p:cNvPr id="2614" name=""/>
                <p:cNvGrpSpPr/>
                <p:nvPr/>
              </p:nvGrpSpPr>
              <p:grpSpPr>
                <a:xfrm>
                  <a:off x="1285920" y="3267000"/>
                  <a:ext cx="914400" cy="685080"/>
                  <a:chOff x="1285920" y="3267000"/>
                  <a:chExt cx="914400" cy="685080"/>
                </a:xfrm>
              </p:grpSpPr>
              <p:grpSp>
                <p:nvGrpSpPr>
                  <p:cNvPr id="2615" name=""/>
                  <p:cNvGrpSpPr/>
                  <p:nvPr/>
                </p:nvGrpSpPr>
                <p:grpSpPr>
                  <a:xfrm>
                    <a:off x="1285920" y="3267000"/>
                    <a:ext cx="914400" cy="228240"/>
                    <a:chOff x="1285920" y="3267000"/>
                    <a:chExt cx="914400" cy="228240"/>
                  </a:xfrm>
                </p:grpSpPr>
                <p:sp>
                  <p:nvSpPr>
                    <p:cNvPr id="2616" name=""/>
                    <p:cNvSpPr/>
                    <p:nvPr/>
                  </p:nvSpPr>
                  <p:spPr>
                    <a:xfrm>
                      <a:off x="128592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7" name=""/>
                    <p:cNvSpPr/>
                    <p:nvPr/>
                  </p:nvSpPr>
                  <p:spPr>
                    <a:xfrm>
                      <a:off x="151452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8" name=""/>
                    <p:cNvSpPr/>
                    <p:nvPr/>
                  </p:nvSpPr>
                  <p:spPr>
                    <a:xfrm>
                      <a:off x="174312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197172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20" name=""/>
                  <p:cNvGrpSpPr/>
                  <p:nvPr/>
                </p:nvGrpSpPr>
                <p:grpSpPr>
                  <a:xfrm>
                    <a:off x="1285920" y="3495240"/>
                    <a:ext cx="914400" cy="228240"/>
                    <a:chOff x="1285920" y="3495240"/>
                    <a:chExt cx="914400" cy="228240"/>
                  </a:xfrm>
                </p:grpSpPr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128592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2" name=""/>
                    <p:cNvSpPr/>
                    <p:nvPr/>
                  </p:nvSpPr>
                  <p:spPr>
                    <a:xfrm>
                      <a:off x="151452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174312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197172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25" name=""/>
                  <p:cNvGrpSpPr/>
                  <p:nvPr/>
                </p:nvGrpSpPr>
                <p:grpSpPr>
                  <a:xfrm>
                    <a:off x="1285920" y="3723840"/>
                    <a:ext cx="914400" cy="228240"/>
                    <a:chOff x="1285920" y="3723840"/>
                    <a:chExt cx="914400" cy="228240"/>
                  </a:xfrm>
                </p:grpSpPr>
                <p:sp>
                  <p:nvSpPr>
                    <p:cNvPr id="2626" name=""/>
                    <p:cNvSpPr/>
                    <p:nvPr/>
                  </p:nvSpPr>
                  <p:spPr>
                    <a:xfrm>
                      <a:off x="128592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7" name=""/>
                    <p:cNvSpPr/>
                    <p:nvPr/>
                  </p:nvSpPr>
                  <p:spPr>
                    <a:xfrm>
                      <a:off x="151452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174312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197172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30" name=""/>
                <p:cNvSpPr/>
                <p:nvPr/>
              </p:nvSpPr>
              <p:spPr>
                <a:xfrm>
                  <a:off x="1281240" y="3267000"/>
                  <a:ext cx="919080" cy="228240"/>
                </a:xfrm>
                <a:custGeom>
                  <a:avLst/>
                  <a:gdLst/>
                  <a:ahLst/>
                  <a:rect l="l" t="t" r="r" b="b"/>
                  <a:pathLst>
                    <a:path w="579" h="144">
                      <a:moveTo>
                        <a:pt x="0" y="0"/>
                      </a:moveTo>
                      <a:lnTo>
                        <a:pt x="144" y="0"/>
                      </a:lnTo>
                      <a:lnTo>
                        <a:pt x="291" y="144"/>
                      </a:lnTo>
                      <a:lnTo>
                        <a:pt x="579" y="144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1" name=""/>
                <p:cNvSpPr/>
                <p:nvPr/>
              </p:nvSpPr>
              <p:spPr>
                <a:xfrm>
                  <a:off x="1290960" y="3723840"/>
                  <a:ext cx="904680" cy="228240"/>
                </a:xfrm>
                <a:custGeom>
                  <a:avLst/>
                  <a:gdLst/>
                  <a:ahLst/>
                  <a:rect l="l" t="t" r="r" b="b"/>
                  <a:pathLst>
                    <a:path w="570" h="144">
                      <a:moveTo>
                        <a:pt x="0" y="1"/>
                      </a:moveTo>
                      <a:lnTo>
                        <a:pt x="429" y="0"/>
                      </a:lnTo>
                      <a:lnTo>
                        <a:pt x="429" y="144"/>
                      </a:lnTo>
                      <a:lnTo>
                        <a:pt x="570" y="144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32" name=""/>
              <p:cNvSpPr/>
              <p:nvPr/>
            </p:nvSpPr>
            <p:spPr>
              <a:xfrm>
                <a:off x="781200" y="32670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781200" y="37332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34" name=""/>
            <p:cNvGrpSpPr/>
            <p:nvPr/>
          </p:nvGrpSpPr>
          <p:grpSpPr>
            <a:xfrm>
              <a:off x="2914920" y="3267000"/>
              <a:ext cx="1190520" cy="685080"/>
              <a:chOff x="2914920" y="3267000"/>
              <a:chExt cx="1190520" cy="685080"/>
            </a:xfrm>
          </p:grpSpPr>
          <p:grpSp>
            <p:nvGrpSpPr>
              <p:cNvPr id="2635" name=""/>
              <p:cNvGrpSpPr/>
              <p:nvPr/>
            </p:nvGrpSpPr>
            <p:grpSpPr>
              <a:xfrm>
                <a:off x="3419640" y="3267000"/>
                <a:ext cx="685800" cy="685080"/>
                <a:chOff x="3419640" y="3267000"/>
                <a:chExt cx="685800" cy="685080"/>
              </a:xfrm>
            </p:grpSpPr>
            <p:grpSp>
              <p:nvGrpSpPr>
                <p:cNvPr id="2636" name=""/>
                <p:cNvGrpSpPr/>
                <p:nvPr/>
              </p:nvGrpSpPr>
              <p:grpSpPr>
                <a:xfrm>
                  <a:off x="3419640" y="3267000"/>
                  <a:ext cx="685800" cy="685080"/>
                  <a:chOff x="3419640" y="3267000"/>
                  <a:chExt cx="685800" cy="685080"/>
                </a:xfrm>
              </p:grpSpPr>
              <p:grpSp>
                <p:nvGrpSpPr>
                  <p:cNvPr id="2637" name=""/>
                  <p:cNvGrpSpPr/>
                  <p:nvPr/>
                </p:nvGrpSpPr>
                <p:grpSpPr>
                  <a:xfrm>
                    <a:off x="3419640" y="3267000"/>
                    <a:ext cx="685800" cy="228240"/>
                    <a:chOff x="3419640" y="3267000"/>
                    <a:chExt cx="685800" cy="228240"/>
                  </a:xfrm>
                </p:grpSpPr>
                <p:sp>
                  <p:nvSpPr>
                    <p:cNvPr id="2638" name=""/>
                    <p:cNvSpPr/>
                    <p:nvPr/>
                  </p:nvSpPr>
                  <p:spPr>
                    <a:xfrm>
                      <a:off x="341964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9" name=""/>
                    <p:cNvSpPr/>
                    <p:nvPr/>
                  </p:nvSpPr>
                  <p:spPr>
                    <a:xfrm>
                      <a:off x="364824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0" name=""/>
                    <p:cNvSpPr/>
                    <p:nvPr/>
                  </p:nvSpPr>
                  <p:spPr>
                    <a:xfrm>
                      <a:off x="387684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1" name=""/>
                  <p:cNvGrpSpPr/>
                  <p:nvPr/>
                </p:nvGrpSpPr>
                <p:grpSpPr>
                  <a:xfrm>
                    <a:off x="3419640" y="3495240"/>
                    <a:ext cx="685800" cy="228240"/>
                    <a:chOff x="3419640" y="3495240"/>
                    <a:chExt cx="685800" cy="228240"/>
                  </a:xfrm>
                </p:grpSpPr>
                <p:sp>
                  <p:nvSpPr>
                    <p:cNvPr id="2642" name=""/>
                    <p:cNvSpPr/>
                    <p:nvPr/>
                  </p:nvSpPr>
                  <p:spPr>
                    <a:xfrm>
                      <a:off x="341964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3" name=""/>
                    <p:cNvSpPr/>
                    <p:nvPr/>
                  </p:nvSpPr>
                  <p:spPr>
                    <a:xfrm>
                      <a:off x="364824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4" name=""/>
                    <p:cNvSpPr/>
                    <p:nvPr/>
                  </p:nvSpPr>
                  <p:spPr>
                    <a:xfrm>
                      <a:off x="387684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45" name=""/>
                  <p:cNvGrpSpPr/>
                  <p:nvPr/>
                </p:nvGrpSpPr>
                <p:grpSpPr>
                  <a:xfrm>
                    <a:off x="3419640" y="3723840"/>
                    <a:ext cx="685800" cy="228240"/>
                    <a:chOff x="3419640" y="3723840"/>
                    <a:chExt cx="685800" cy="228240"/>
                  </a:xfrm>
                </p:grpSpPr>
                <p:sp>
                  <p:nvSpPr>
                    <p:cNvPr id="2646" name=""/>
                    <p:cNvSpPr/>
                    <p:nvPr/>
                  </p:nvSpPr>
                  <p:spPr>
                    <a:xfrm>
                      <a:off x="341964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>
                      <a:off x="364824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>
                      <a:off x="387684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49" name=""/>
                <p:cNvSpPr/>
                <p:nvPr/>
              </p:nvSpPr>
              <p:spPr>
                <a:xfrm>
                  <a:off x="3424320" y="3490560"/>
                  <a:ext cx="681120" cy="1080"/>
                </a:xfrm>
                <a:custGeom>
                  <a:avLst/>
                  <a:gdLst/>
                  <a:ahLst/>
                  <a:rect l="l" t="t" r="r" b="b"/>
                  <a:pathLst>
                    <a:path w="429" h="1">
                      <a:moveTo>
                        <a:pt x="0" y="0"/>
                      </a:moveTo>
                      <a:lnTo>
                        <a:pt x="429" y="0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0" name=""/>
                <p:cNvSpPr/>
                <p:nvPr/>
              </p:nvSpPr>
              <p:spPr>
                <a:xfrm>
                  <a:off x="3419640" y="3728520"/>
                  <a:ext cx="681120" cy="223560"/>
                </a:xfrm>
                <a:custGeom>
                  <a:avLst/>
                  <a:gdLst/>
                  <a:ahLst/>
                  <a:rect l="l" t="t" r="r" b="b"/>
                  <a:pathLst>
                    <a:path w="429" h="141">
                      <a:moveTo>
                        <a:pt x="0" y="141"/>
                      </a:moveTo>
                      <a:lnTo>
                        <a:pt x="144" y="141"/>
                      </a:lnTo>
                      <a:lnTo>
                        <a:pt x="144" y="0"/>
                      </a:lnTo>
                      <a:lnTo>
                        <a:pt x="288" y="0"/>
                      </a:lnTo>
                      <a:lnTo>
                        <a:pt x="288" y="141"/>
                      </a:lnTo>
                      <a:lnTo>
                        <a:pt x="429" y="141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1" name=""/>
              <p:cNvSpPr/>
              <p:nvPr/>
            </p:nvSpPr>
            <p:spPr>
              <a:xfrm>
                <a:off x="2914920" y="32670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>
                <a:off x="2914920" y="37332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3" name=""/>
            <p:cNvGrpSpPr/>
            <p:nvPr/>
          </p:nvGrpSpPr>
          <p:grpSpPr>
            <a:xfrm>
              <a:off x="4820040" y="3267000"/>
              <a:ext cx="1171440" cy="685080"/>
              <a:chOff x="4820040" y="3267000"/>
              <a:chExt cx="1171440" cy="685080"/>
            </a:xfrm>
          </p:grpSpPr>
          <p:grpSp>
            <p:nvGrpSpPr>
              <p:cNvPr id="2654" name=""/>
              <p:cNvGrpSpPr/>
              <p:nvPr/>
            </p:nvGrpSpPr>
            <p:grpSpPr>
              <a:xfrm>
                <a:off x="5301000" y="3267000"/>
                <a:ext cx="690480" cy="685080"/>
                <a:chOff x="5301000" y="3267000"/>
                <a:chExt cx="690480" cy="685080"/>
              </a:xfrm>
            </p:grpSpPr>
            <p:grpSp>
              <p:nvGrpSpPr>
                <p:cNvPr id="2655" name=""/>
                <p:cNvGrpSpPr/>
                <p:nvPr/>
              </p:nvGrpSpPr>
              <p:grpSpPr>
                <a:xfrm>
                  <a:off x="5305680" y="3267000"/>
                  <a:ext cx="685800" cy="685080"/>
                  <a:chOff x="5305680" y="3267000"/>
                  <a:chExt cx="685800" cy="685080"/>
                </a:xfrm>
              </p:grpSpPr>
              <p:grpSp>
                <p:nvGrpSpPr>
                  <p:cNvPr id="2656" name=""/>
                  <p:cNvGrpSpPr/>
                  <p:nvPr/>
                </p:nvGrpSpPr>
                <p:grpSpPr>
                  <a:xfrm>
                    <a:off x="5305680" y="3267000"/>
                    <a:ext cx="685800" cy="228240"/>
                    <a:chOff x="5305680" y="3267000"/>
                    <a:chExt cx="685800" cy="228240"/>
                  </a:xfrm>
                </p:grpSpPr>
                <p:sp>
                  <p:nvSpPr>
                    <p:cNvPr id="2657" name=""/>
                    <p:cNvSpPr/>
                    <p:nvPr/>
                  </p:nvSpPr>
                  <p:spPr>
                    <a:xfrm>
                      <a:off x="530568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8" name=""/>
                    <p:cNvSpPr/>
                    <p:nvPr/>
                  </p:nvSpPr>
                  <p:spPr>
                    <a:xfrm>
                      <a:off x="553428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>
                      <a:off x="5762880" y="326700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0" name=""/>
                  <p:cNvGrpSpPr/>
                  <p:nvPr/>
                </p:nvGrpSpPr>
                <p:grpSpPr>
                  <a:xfrm>
                    <a:off x="5305680" y="3495240"/>
                    <a:ext cx="685800" cy="228240"/>
                    <a:chOff x="5305680" y="3495240"/>
                    <a:chExt cx="685800" cy="228240"/>
                  </a:xfrm>
                </p:grpSpPr>
                <p:sp>
                  <p:nvSpPr>
                    <p:cNvPr id="2661" name=""/>
                    <p:cNvSpPr/>
                    <p:nvPr/>
                  </p:nvSpPr>
                  <p:spPr>
                    <a:xfrm>
                      <a:off x="530568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2" name=""/>
                    <p:cNvSpPr/>
                    <p:nvPr/>
                  </p:nvSpPr>
                  <p:spPr>
                    <a:xfrm>
                      <a:off x="553428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3" name=""/>
                    <p:cNvSpPr/>
                    <p:nvPr/>
                  </p:nvSpPr>
                  <p:spPr>
                    <a:xfrm>
                      <a:off x="5762880" y="34952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4" name=""/>
                  <p:cNvGrpSpPr/>
                  <p:nvPr/>
                </p:nvGrpSpPr>
                <p:grpSpPr>
                  <a:xfrm>
                    <a:off x="5305680" y="3723840"/>
                    <a:ext cx="685800" cy="228240"/>
                    <a:chOff x="5305680" y="3723840"/>
                    <a:chExt cx="685800" cy="228240"/>
                  </a:xfrm>
                </p:grpSpPr>
                <p:sp>
                  <p:nvSpPr>
                    <p:cNvPr id="2665" name=""/>
                    <p:cNvSpPr/>
                    <p:nvPr/>
                  </p:nvSpPr>
                  <p:spPr>
                    <a:xfrm>
                      <a:off x="530568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6" name=""/>
                    <p:cNvSpPr/>
                    <p:nvPr/>
                  </p:nvSpPr>
                  <p:spPr>
                    <a:xfrm>
                      <a:off x="553428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7" name=""/>
                    <p:cNvSpPr/>
                    <p:nvPr/>
                  </p:nvSpPr>
                  <p:spPr>
                    <a:xfrm>
                      <a:off x="5762880" y="3723840"/>
                      <a:ext cx="228600" cy="228240"/>
                    </a:xfrm>
                    <a:prstGeom prst="rect">
                      <a:avLst/>
                    </a:prstGeom>
                    <a:noFill/>
                    <a:ln cap="sq" w="9360">
                      <a:solidFill>
                        <a:srgbClr val="86868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0" rIns="0" tIns="0" bIns="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68" name=""/>
                <p:cNvSpPr/>
                <p:nvPr/>
              </p:nvSpPr>
              <p:spPr>
                <a:xfrm>
                  <a:off x="5301000" y="3267000"/>
                  <a:ext cx="690480" cy="223560"/>
                </a:xfrm>
                <a:custGeom>
                  <a:avLst/>
                  <a:gdLst/>
                  <a:ahLst/>
                  <a:rect l="l" t="t" r="r" b="b"/>
                  <a:pathLst>
                    <a:path w="435" h="141">
                      <a:moveTo>
                        <a:pt x="0" y="141"/>
                      </a:moveTo>
                      <a:lnTo>
                        <a:pt x="93" y="141"/>
                      </a:lnTo>
                      <a:lnTo>
                        <a:pt x="147" y="0"/>
                      </a:lnTo>
                      <a:lnTo>
                        <a:pt x="288" y="0"/>
                      </a:lnTo>
                      <a:lnTo>
                        <a:pt x="345" y="141"/>
                      </a:lnTo>
                      <a:lnTo>
                        <a:pt x="435" y="141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5301000" y="3723840"/>
                  <a:ext cx="685800" cy="228240"/>
                </a:xfrm>
                <a:custGeom>
                  <a:avLst/>
                  <a:gdLst/>
                  <a:ahLst/>
                  <a:rect l="l" t="t" r="r" b="b"/>
                  <a:pathLst>
                    <a:path w="432" h="144">
                      <a:moveTo>
                        <a:pt x="0" y="141"/>
                      </a:moveTo>
                      <a:lnTo>
                        <a:pt x="147" y="141"/>
                      </a:lnTo>
                      <a:lnTo>
                        <a:pt x="147" y="0"/>
                      </a:lnTo>
                      <a:lnTo>
                        <a:pt x="288" y="0"/>
                      </a:lnTo>
                      <a:lnTo>
                        <a:pt x="288" y="144"/>
                      </a:lnTo>
                      <a:lnTo>
                        <a:pt x="432" y="144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70" name=""/>
              <p:cNvSpPr/>
              <p:nvPr/>
            </p:nvSpPr>
            <p:spPr>
              <a:xfrm>
                <a:off x="4820040" y="32670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4820040" y="37332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2" name=""/>
            <p:cNvGrpSpPr/>
            <p:nvPr/>
          </p:nvGrpSpPr>
          <p:grpSpPr>
            <a:xfrm>
              <a:off x="6705720" y="3267000"/>
              <a:ext cx="1638360" cy="685080"/>
              <a:chOff x="6705720" y="3267000"/>
              <a:chExt cx="1638360" cy="685080"/>
            </a:xfrm>
          </p:grpSpPr>
          <p:grpSp>
            <p:nvGrpSpPr>
              <p:cNvPr id="2673" name=""/>
              <p:cNvGrpSpPr/>
              <p:nvPr/>
            </p:nvGrpSpPr>
            <p:grpSpPr>
              <a:xfrm>
                <a:off x="7201080" y="3267000"/>
                <a:ext cx="1143000" cy="685080"/>
                <a:chOff x="7201080" y="3267000"/>
                <a:chExt cx="1143000" cy="685080"/>
              </a:xfrm>
            </p:grpSpPr>
            <p:grpSp>
              <p:nvGrpSpPr>
                <p:cNvPr id="2674" name=""/>
                <p:cNvGrpSpPr/>
                <p:nvPr/>
              </p:nvGrpSpPr>
              <p:grpSpPr>
                <a:xfrm>
                  <a:off x="7201080" y="3267000"/>
                  <a:ext cx="1143000" cy="685080"/>
                  <a:chOff x="7201080" y="3267000"/>
                  <a:chExt cx="1143000" cy="685080"/>
                </a:xfrm>
              </p:grpSpPr>
              <p:sp>
                <p:nvSpPr>
                  <p:cNvPr id="2675" name=""/>
                  <p:cNvSpPr/>
                  <p:nvPr/>
                </p:nvSpPr>
                <p:spPr>
                  <a:xfrm>
                    <a:off x="7201080" y="326700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6" name=""/>
                  <p:cNvSpPr/>
                  <p:nvPr/>
                </p:nvSpPr>
                <p:spPr>
                  <a:xfrm>
                    <a:off x="7429680" y="326700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7" name=""/>
                  <p:cNvSpPr/>
                  <p:nvPr/>
                </p:nvSpPr>
                <p:spPr>
                  <a:xfrm>
                    <a:off x="7658280" y="326700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8" name=""/>
                  <p:cNvSpPr/>
                  <p:nvPr/>
                </p:nvSpPr>
                <p:spPr>
                  <a:xfrm>
                    <a:off x="7201080" y="34952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9" name=""/>
                  <p:cNvSpPr/>
                  <p:nvPr/>
                </p:nvSpPr>
                <p:spPr>
                  <a:xfrm>
                    <a:off x="7429680" y="34952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0" name=""/>
                  <p:cNvSpPr/>
                  <p:nvPr/>
                </p:nvSpPr>
                <p:spPr>
                  <a:xfrm>
                    <a:off x="7658280" y="34952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1" name=""/>
                  <p:cNvSpPr/>
                  <p:nvPr/>
                </p:nvSpPr>
                <p:spPr>
                  <a:xfrm>
                    <a:off x="7886880" y="34952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2" name=""/>
                  <p:cNvSpPr/>
                  <p:nvPr/>
                </p:nvSpPr>
                <p:spPr>
                  <a:xfrm>
                    <a:off x="7201080" y="37238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3" name=""/>
                  <p:cNvSpPr/>
                  <p:nvPr/>
                </p:nvSpPr>
                <p:spPr>
                  <a:xfrm>
                    <a:off x="7429680" y="37238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4" name=""/>
                  <p:cNvSpPr/>
                  <p:nvPr/>
                </p:nvSpPr>
                <p:spPr>
                  <a:xfrm>
                    <a:off x="7658280" y="37238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5" name=""/>
                  <p:cNvSpPr/>
                  <p:nvPr/>
                </p:nvSpPr>
                <p:spPr>
                  <a:xfrm>
                    <a:off x="7886880" y="37238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6" name=""/>
                  <p:cNvSpPr/>
                  <p:nvPr/>
                </p:nvSpPr>
                <p:spPr>
                  <a:xfrm>
                    <a:off x="7886880" y="326700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7" name=""/>
                  <p:cNvSpPr/>
                  <p:nvPr/>
                </p:nvSpPr>
                <p:spPr>
                  <a:xfrm>
                    <a:off x="8115480" y="326700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8" name=""/>
                  <p:cNvSpPr/>
                  <p:nvPr/>
                </p:nvSpPr>
                <p:spPr>
                  <a:xfrm>
                    <a:off x="8115480" y="34952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9" name=""/>
                  <p:cNvSpPr/>
                  <p:nvPr/>
                </p:nvSpPr>
                <p:spPr>
                  <a:xfrm>
                    <a:off x="8115480" y="3723840"/>
                    <a:ext cx="228600" cy="228240"/>
                  </a:xfrm>
                  <a:prstGeom prst="rect">
                    <a:avLst/>
                  </a:prstGeom>
                  <a:noFill/>
                  <a:ln cap="sq" w="9360">
                    <a:solidFill>
                      <a:srgbClr val="86868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0" rIns="0" tIns="0" bIns="0" anchor="t">
                    <a:no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0" name=""/>
                <p:cNvSpPr/>
                <p:nvPr/>
              </p:nvSpPr>
              <p:spPr>
                <a:xfrm>
                  <a:off x="7201080" y="3267000"/>
                  <a:ext cx="1133640" cy="225000"/>
                </a:xfrm>
                <a:custGeom>
                  <a:avLst/>
                  <a:gdLst/>
                  <a:ahLst/>
                  <a:rect l="l" t="t" r="r" b="b"/>
                  <a:pathLst>
                    <a:path w="714" h="142">
                      <a:moveTo>
                        <a:pt x="0" y="142"/>
                      </a:moveTo>
                      <a:lnTo>
                        <a:pt x="141" y="141"/>
                      </a:lnTo>
                      <a:lnTo>
                        <a:pt x="285" y="0"/>
                      </a:lnTo>
                      <a:lnTo>
                        <a:pt x="714" y="0"/>
                      </a:lnTo>
                    </a:path>
                  </a:pathLst>
                </a:custGeom>
                <a:noFill/>
                <a:ln cap="sq" w="158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1" name=""/>
                <p:cNvSpPr/>
                <p:nvPr/>
              </p:nvSpPr>
              <p:spPr>
                <a:xfrm>
                  <a:off x="7205760" y="3719160"/>
                  <a:ext cx="1138320" cy="0"/>
                </a:xfrm>
                <a:prstGeom prst="line">
                  <a:avLst/>
                </a:prstGeom>
                <a:ln cap="sq"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92" name=""/>
              <p:cNvSpPr/>
              <p:nvPr/>
            </p:nvSpPr>
            <p:spPr>
              <a:xfrm>
                <a:off x="6705720" y="32670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D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6705720" y="3733200"/>
                <a:ext cx="43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C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94" name=""/>
            <p:cNvSpPr/>
            <p:nvPr/>
          </p:nvSpPr>
          <p:spPr>
            <a:xfrm>
              <a:off x="1200240" y="40384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rt con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3229200" y="40384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nding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5077080" y="40384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nding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7201080" y="4038480"/>
              <a:ext cx="111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p condi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C2365-6CF1-4989-B1A2-C0BA097044B8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 protocols: C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9" name="PlaceHolder 2"/>
          <p:cNvSpPr>
            <a:spLocks noGrp="1"/>
          </p:cNvSpPr>
          <p:nvPr>
            <p:ph/>
          </p:nvPr>
        </p:nvSpPr>
        <p:spPr>
          <a:xfrm>
            <a:off x="171000" y="1476000"/>
            <a:ext cx="8667720" cy="466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(Controller area network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tocol for real-time appli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veloped by Robert Bosch Gmb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ly for communication among components of ca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 now using CAN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evator controllers, copiers, telescopes, production-line control systems, and medical instru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ransfer rates up to 1 Mbit/s and 11-bit 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devices interfacing with CA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051-compatible 8592 processor and standalone CAN control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ual physical design of CAN bus not specified in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s devices to transmit/detect dominant and recessive signals to/from 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‘1’ = dominant, ‘0’ = recessive if single data wire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 guarantees dominant signal prevails over recessive signal if asserted simultaneous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92091-B98D-4EB4-BDA6-649A9D7293F6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 protocols: FireWi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218880" y="1447920"/>
            <a:ext cx="8753400" cy="465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eWire (a.k.a. I-Link, Lynx, IEEE 139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-performance serial bus developed by Apple Computer In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for interfacing independent electronic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Desktop, scan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ransfer rates from 12.5 to 400 Mbits/s, 64-bit 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ug-and-play capab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cket-based layered design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s using FireWire inclu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sk drives, printers, scanners, camer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able of supporting a LAN similar to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-bit addres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bits for network id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23 subnetwor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 bits for node ids,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h subnetwork can have 63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8 bits for memory address, each node can have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1 terabyte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f distinct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30B27-2B81-4A2F-A919-A84C94C5B03F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rial protocols: US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B (Universal Serial B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ier connection between PC and monitors, printers, digital speakers, modems, scanners, digital cameras, joysticks, multimedia game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 data rat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 Mbps for increased bandwidth de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5 Mbps for lower-speed devices (joysticks, game pad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ered star topology can be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USB device (hub) connected to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ub can be embedded in devices like monitor, printer, or keyboard or can be standal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le USB devices can be connected to h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p to 127 devices can be connected like th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B host controller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ages and controls bandwidth and driver software required by each periph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ynamically allocates power downstream according to devices connected/disconnec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E027-0AE1-4885-A86B-B2763F160787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protocol conce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25520" y="1459080"/>
            <a:ext cx="8313840" cy="210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or: master initiates, servant (slave) resp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ion: sender, rece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resses: special kind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a location in memory, a peripheral, or a register within a periph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multiplex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hare a single set of wires for multiple pieces of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ves wires at expense of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1989000" y="3524400"/>
            <a:ext cx="5234040" cy="2562120"/>
            <a:chOff x="1989000" y="3524400"/>
            <a:chExt cx="5234040" cy="2562120"/>
          </a:xfrm>
        </p:grpSpPr>
        <p:sp>
          <p:nvSpPr>
            <p:cNvPr id="198" name=""/>
            <p:cNvSpPr/>
            <p:nvPr/>
          </p:nvSpPr>
          <p:spPr>
            <a:xfrm>
              <a:off x="2682720" y="5881680"/>
              <a:ext cx="13208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serializ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351400" y="5881680"/>
              <a:ext cx="184644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ess/data mux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14640" y="3753000"/>
              <a:ext cx="72216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614760" y="3753000"/>
              <a:ext cx="72072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33560" y="405144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944800" y="3789360"/>
              <a:ext cx="5554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944800" y="4443480"/>
              <a:ext cx="55548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(8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836800" y="4732560"/>
              <a:ext cx="77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225520" y="4014720"/>
              <a:ext cx="5558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ta(15: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503440" y="4602240"/>
              <a:ext cx="333360" cy="1303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0200" y="4014720"/>
              <a:ext cx="554040" cy="260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ata(15:0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225520" y="4340160"/>
              <a:ext cx="555840" cy="26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9220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670200" y="4340160"/>
              <a:ext cx="554040" cy="26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5756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3614040" y="4602240"/>
              <a:ext cx="331560" cy="1303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61468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3544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90960" y="3753000"/>
              <a:ext cx="77796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45080" y="3753000"/>
              <a:ext cx="777960" cy="104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65680" y="4051440"/>
              <a:ext cx="77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776920" y="3789360"/>
              <a:ext cx="5554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668920" y="4471920"/>
              <a:ext cx="776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/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68920" y="4732560"/>
              <a:ext cx="776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59360" y="5183280"/>
              <a:ext cx="333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681440" y="5451480"/>
              <a:ext cx="6112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/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46760" y="4079880"/>
              <a:ext cx="277560" cy="1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335560" y="4079880"/>
              <a:ext cx="277920" cy="1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057640" y="4340160"/>
              <a:ext cx="555840" cy="26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16888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9100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5560" y="4602240"/>
              <a:ext cx="333360" cy="1303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00880" y="4340160"/>
              <a:ext cx="555480" cy="262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demux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500880" y="4079880"/>
              <a:ext cx="277560" cy="1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89680" y="4079880"/>
              <a:ext cx="277920" cy="19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72300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945120" y="4275360"/>
              <a:ext cx="0" cy="64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445080" y="4602240"/>
              <a:ext cx="333360" cy="13032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432" y="144"/>
                  </a:moveTo>
                  <a:lnTo>
                    <a:pt x="0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989000" y="5183280"/>
              <a:ext cx="33336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20680" y="5451480"/>
              <a:ext cx="301680" cy="26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2427120" y="5473800"/>
              <a:ext cx="1860480" cy="218520"/>
              <a:chOff x="2427120" y="5473800"/>
              <a:chExt cx="1860480" cy="218520"/>
            </a:xfrm>
          </p:grpSpPr>
          <p:sp>
            <p:nvSpPr>
              <p:cNvPr id="239" name=""/>
              <p:cNvSpPr/>
              <p:nvPr/>
            </p:nvSpPr>
            <p:spPr>
              <a:xfrm>
                <a:off x="2604960" y="5493960"/>
                <a:ext cx="457200" cy="198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900" spc="-1" strike="noStrike">
                    <a:solidFill>
                      <a:srgbClr val="000000"/>
                    </a:solidFill>
                    <a:latin typeface="Times New Roman"/>
                  </a:rPr>
                  <a:t>15:8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3558960" y="5473800"/>
                <a:ext cx="457200" cy="198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900" spc="-1" strike="noStrike">
                    <a:solidFill>
                      <a:srgbClr val="000000"/>
                    </a:solidFill>
                    <a:latin typeface="Times New Roman"/>
                  </a:rPr>
                  <a:t>7: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427120" y="5576760"/>
                <a:ext cx="190440" cy="1080"/>
              </a:xfrm>
              <a:custGeom>
                <a:avLst/>
                <a:gdLst/>
                <a:ahLst/>
                <a:rect l="l" t="t" r="r" b="b"/>
                <a:pathLst>
                  <a:path w="120" h="1">
                    <a:moveTo>
                      <a:pt x="0" y="1"/>
                    </a:moveTo>
                    <a:lnTo>
                      <a:pt x="1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3065400" y="5582880"/>
                <a:ext cx="493560" cy="2880"/>
              </a:xfrm>
              <a:custGeom>
                <a:avLst/>
                <a:gdLst/>
                <a:ahLst/>
                <a:rect l="l" t="t" r="r" b="b"/>
                <a:pathLst>
                  <a:path w="311" h="2">
                    <a:moveTo>
                      <a:pt x="0" y="2"/>
                    </a:moveTo>
                    <a:lnTo>
                      <a:pt x="31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16160" y="5582880"/>
                <a:ext cx="271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2413080" y="5151600"/>
              <a:ext cx="1881000" cy="153720"/>
            </a:xfrm>
            <a:custGeom>
              <a:avLst/>
              <a:gdLst/>
              <a:ahLst/>
              <a:rect l="l" t="t" r="r" b="b"/>
              <a:pathLst>
                <a:path w="2438" h="169">
                  <a:moveTo>
                    <a:pt x="0" y="169"/>
                  </a:moveTo>
                  <a:lnTo>
                    <a:pt x="248" y="169"/>
                  </a:lnTo>
                  <a:lnTo>
                    <a:pt x="248" y="0"/>
                  </a:lnTo>
                  <a:lnTo>
                    <a:pt x="848" y="0"/>
                  </a:lnTo>
                  <a:lnTo>
                    <a:pt x="848" y="161"/>
                  </a:lnTo>
                  <a:lnTo>
                    <a:pt x="1493" y="162"/>
                  </a:lnTo>
                  <a:lnTo>
                    <a:pt x="1486" y="1"/>
                  </a:lnTo>
                  <a:lnTo>
                    <a:pt x="2078" y="0"/>
                  </a:lnTo>
                  <a:lnTo>
                    <a:pt x="2078" y="169"/>
                  </a:lnTo>
                  <a:lnTo>
                    <a:pt x="2438" y="16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5357880" y="5489640"/>
              <a:ext cx="1850760" cy="196920"/>
              <a:chOff x="5357880" y="5489640"/>
              <a:chExt cx="1850760" cy="196920"/>
            </a:xfrm>
          </p:grpSpPr>
          <p:sp>
            <p:nvSpPr>
              <p:cNvPr id="246" name=""/>
              <p:cNvSpPr/>
              <p:nvPr/>
            </p:nvSpPr>
            <p:spPr>
              <a:xfrm>
                <a:off x="5549040" y="5489640"/>
                <a:ext cx="457200" cy="19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900" spc="-1" strike="noStrike">
                    <a:solidFill>
                      <a:srgbClr val="000000"/>
                    </a:solidFill>
                    <a:latin typeface="Times New Roman"/>
                  </a:rPr>
                  <a:t>add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519960" y="5489640"/>
                <a:ext cx="457200" cy="196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357880" y="5584320"/>
                <a:ext cx="185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011640" y="5584320"/>
                <a:ext cx="50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972120" y="5584320"/>
                <a:ext cx="23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5357880" y="5146560"/>
              <a:ext cx="1857240" cy="165240"/>
            </a:xfrm>
            <a:custGeom>
              <a:avLst/>
              <a:gdLst/>
              <a:ahLst/>
              <a:rect l="l" t="t" r="r" b="b"/>
              <a:pathLst>
                <a:path w="1170" h="104">
                  <a:moveTo>
                    <a:pt x="0" y="98"/>
                  </a:moveTo>
                  <a:lnTo>
                    <a:pt x="120" y="98"/>
                  </a:lnTo>
                  <a:lnTo>
                    <a:pt x="120" y="0"/>
                  </a:lnTo>
                  <a:lnTo>
                    <a:pt x="410" y="1"/>
                  </a:lnTo>
                  <a:lnTo>
                    <a:pt x="412" y="100"/>
                  </a:lnTo>
                  <a:lnTo>
                    <a:pt x="726" y="100"/>
                  </a:lnTo>
                  <a:lnTo>
                    <a:pt x="728" y="1"/>
                  </a:lnTo>
                  <a:lnTo>
                    <a:pt x="1005" y="4"/>
                  </a:lnTo>
                  <a:lnTo>
                    <a:pt x="1006" y="104"/>
                  </a:lnTo>
                  <a:lnTo>
                    <a:pt x="1170" y="10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81320" y="3524400"/>
              <a:ext cx="2857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ime-multiplexed data transf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B9197-4120-4632-AEC6-0A715F5AA1D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llel protocols: PCI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/>
          </p:nvPr>
        </p:nvSpPr>
        <p:spPr>
          <a:xfrm>
            <a:off x="380520" y="1923840"/>
            <a:ext cx="8458200" cy="38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I Bus (Peripheral Component Interconnec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performance bus originated at Intel in the early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adopted by industry and administered by PCISIG (PCI Special Interest Grou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connects chips, expansion boards, processor memory sub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ransfer rates of 127.2 to 508.6 Mbits/s and 32-bit 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ater extended to 64-bit while maintaining compatibility with 32-bit sche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chronous bus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xed data/address li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96D96-F140-4DB6-85B7-3A6A88C1415C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llel protocols: ARM B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38224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M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d and used internally by ARM Corpo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faces with ARM line of 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IC design companies have own bus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transfer rate is a function of clock sp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clock speed of bus is X, transfer rate = 16 x X bits/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2-bit 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156A7-F4EA-4F37-9357-6F6727E8C1E2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rotocols: Ir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col suite that supports short-range point-to-point infrared data transmi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and promoted by the Infrared Data Association (IrD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fer rate of 9.6 kbps and 4 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rDA hardware deployed in notebook computers, printers, PDAs, digital cameras, public phones, cell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ck of suitable drivers has slowed use by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ndows 2000/98 now include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oming available on popular embedded OS’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9C791-8805-4C6B-B06D-254D32ADFA39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rotocols: Bluetoo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1" name="PlaceHolder 2"/>
          <p:cNvSpPr>
            <a:spLocks noGrp="1"/>
          </p:cNvSpPr>
          <p:nvPr>
            <p:ph/>
          </p:nvPr>
        </p:nvSpPr>
        <p:spPr>
          <a:xfrm>
            <a:off x="380880" y="1724040"/>
            <a:ext cx="8382240" cy="391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uetoo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, global standard for wireless conne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low-cost, short-range radio lin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 established when within 10 meters of each 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line-of-sight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Connect to printer in another ro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78CD5-3BAD-4231-BD4D-82A5222FA2B7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reless Protocols: IEEE 802.1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EEE 802.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posed standard for wireless LA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fies parameters for PHY and MAC layers of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HY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es transmission of data between 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sions for data transfer rates of 1 or 2 Mb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es in 2.4 to 2.4835 GHz frequency band (RF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r 300 to 428,000 GHz (I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C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dium access control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col responsible for maintaining order in shared medi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llision avoidance/de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F8CC6-2C30-4BAB-99A8-18FC4F25C6F7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ic protocol concep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ors, direction, time multiplexing, control metho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-purpose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rt-based or bus-base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/O addressing: Memory mapped I/O or Standard I/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rupt handling: fixed or vecto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rect 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bi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ority arbiter (fixed/rotating) or daisy ch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vanced commun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rallel vs. serial, wires vs. wireless, error detection/correction, lay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protocols: I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, CAN, FireWire, and USB; Parallel: PCI and ARM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al wireless protocols: IrDA, Bluetooth, and IEEE 802.11.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2D92-3B86-435A-9D13-D1E7D6E6CF23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protocol concepts: control metho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1174680" y="1785960"/>
            <a:ext cx="6588360" cy="4178160"/>
            <a:chOff x="1174680" y="1785960"/>
            <a:chExt cx="6588360" cy="4178160"/>
          </a:xfrm>
        </p:grpSpPr>
        <p:sp>
          <p:nvSpPr>
            <p:cNvPr id="255" name=""/>
            <p:cNvSpPr/>
            <p:nvPr/>
          </p:nvSpPr>
          <p:spPr>
            <a:xfrm>
              <a:off x="1655640" y="5707080"/>
              <a:ext cx="1581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obe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237280" y="5737320"/>
              <a:ext cx="2028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Handshake protoc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13280" y="1785960"/>
              <a:ext cx="814320" cy="12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678720" y="1785960"/>
              <a:ext cx="815760" cy="12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4360" y="2131920"/>
              <a:ext cx="9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24360" y="2435400"/>
              <a:ext cx="9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861160" y="1828800"/>
              <a:ext cx="67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861160" y="2208240"/>
              <a:ext cx="67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311120" y="3270240"/>
              <a:ext cx="406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311120" y="3573360"/>
              <a:ext cx="4064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717560" y="3800520"/>
              <a:ext cx="7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33680" y="372600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533680" y="3876840"/>
              <a:ext cx="67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174680" y="1828800"/>
              <a:ext cx="814320" cy="1214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948040" y="1832040"/>
              <a:ext cx="814320" cy="1212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>
              <a:off x="2465280" y="3725640"/>
              <a:ext cx="684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65280" y="3800520"/>
              <a:ext cx="684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17560" y="3346560"/>
              <a:ext cx="2038320" cy="15084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1296" y="0"/>
                  </a:lnTo>
                  <a:lnTo>
                    <a:pt x="1296" y="144"/>
                  </a:lnTo>
                  <a:lnTo>
                    <a:pt x="216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213000" y="3726000"/>
              <a:ext cx="666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3213000" y="3800520"/>
              <a:ext cx="66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279600" y="3800520"/>
              <a:ext cx="4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61160" y="2587680"/>
              <a:ext cx="67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89000" y="2208240"/>
              <a:ext cx="9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125800" y="1905120"/>
              <a:ext cx="67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989000" y="2890800"/>
              <a:ext cx="95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125800" y="2664000"/>
              <a:ext cx="6793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10800000">
              <a:off x="2125800" y="3042000"/>
              <a:ext cx="67824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0800000">
              <a:off x="2940120" y="3042000"/>
              <a:ext cx="67824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125800" y="3497400"/>
              <a:ext cx="0" cy="53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533680" y="3726000"/>
              <a:ext cx="0" cy="30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989000" y="3952800"/>
              <a:ext cx="6796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86320" y="4029120"/>
              <a:ext cx="61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64200" y="395280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64200" y="4103640"/>
              <a:ext cx="81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5997600" y="3952800"/>
              <a:ext cx="666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97600" y="4029120"/>
              <a:ext cx="6660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86320" y="3270240"/>
              <a:ext cx="2036880" cy="15084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1296" y="0"/>
                  </a:lnTo>
                  <a:lnTo>
                    <a:pt x="1296" y="144"/>
                  </a:lnTo>
                  <a:lnTo>
                    <a:pt x="216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880320" y="3952800"/>
              <a:ext cx="6804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V="1">
              <a:off x="6880320" y="4028760"/>
              <a:ext cx="68040" cy="7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948360" y="4029120"/>
              <a:ext cx="47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0800000">
              <a:off x="5793120" y="2967480"/>
              <a:ext cx="67896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0800000">
              <a:off x="6608880" y="2967480"/>
              <a:ext cx="678240" cy="758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978440" y="3193920"/>
              <a:ext cx="40788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978440" y="3800520"/>
              <a:ext cx="40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386320" y="3573360"/>
              <a:ext cx="2036880" cy="15264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792" y="144"/>
                  </a:lnTo>
                  <a:lnTo>
                    <a:pt x="792" y="0"/>
                  </a:lnTo>
                  <a:lnTo>
                    <a:pt x="1656" y="0"/>
                  </a:lnTo>
                  <a:lnTo>
                    <a:pt x="1656" y="144"/>
                  </a:lnTo>
                  <a:lnTo>
                    <a:pt x="216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978440" y="3497400"/>
              <a:ext cx="40788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311120" y="4332240"/>
              <a:ext cx="2784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Master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ceiv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11120" y="4559400"/>
              <a:ext cx="3124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Servant puts data on bus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ithin time 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989000" y="3270240"/>
              <a:ext cx="136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7240" y="3573360"/>
              <a:ext cx="136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940120" y="3270240"/>
              <a:ext cx="1364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279600" y="3573360"/>
              <a:ext cx="1368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311120" y="4786200"/>
              <a:ext cx="31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Master receives data and de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311120" y="5014800"/>
              <a:ext cx="31244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Servant ready for next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657760" y="3193920"/>
              <a:ext cx="135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7600" y="3497400"/>
              <a:ext cx="13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08880" y="3193920"/>
              <a:ext cx="1350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48360" y="3497400"/>
              <a:ext cx="135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38600" y="4332240"/>
              <a:ext cx="278460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Master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ceiv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638600" y="4559400"/>
              <a:ext cx="312444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Servant puts data on bus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nd assert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638600" y="4786200"/>
              <a:ext cx="31244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Master receives data and de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38600" y="5014800"/>
              <a:ext cx="31244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Servant ready for next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24360" y="2890800"/>
              <a:ext cx="9511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rot="10800000">
              <a:off x="5792760" y="2664360"/>
              <a:ext cx="408960" cy="136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rot="10800000">
              <a:off x="6608880" y="2664360"/>
              <a:ext cx="678240" cy="136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6132600" y="3346560"/>
              <a:ext cx="951840" cy="605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1CA7E-8184-4AE8-9F65-B2D7EADB42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trobe/handshake compromi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1208160" y="1671480"/>
            <a:ext cx="6396120" cy="4300560"/>
            <a:chOff x="1208160" y="1671480"/>
            <a:chExt cx="6396120" cy="4300560"/>
          </a:xfrm>
        </p:grpSpPr>
        <p:sp>
          <p:nvSpPr>
            <p:cNvPr id="323" name=""/>
            <p:cNvSpPr/>
            <p:nvPr/>
          </p:nvSpPr>
          <p:spPr>
            <a:xfrm>
              <a:off x="1434960" y="5762520"/>
              <a:ext cx="2087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Fast-response c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898640" y="3765600"/>
              <a:ext cx="68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51040" y="369576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2651040" y="3835440"/>
              <a:ext cx="62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V="1">
              <a:off x="2587680" y="3695760"/>
              <a:ext cx="633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587680" y="3765600"/>
              <a:ext cx="633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98640" y="3068640"/>
              <a:ext cx="1881360" cy="13968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432" y="144"/>
                  </a:lnTo>
                  <a:lnTo>
                    <a:pt x="432" y="0"/>
                  </a:lnTo>
                  <a:lnTo>
                    <a:pt x="1296" y="0"/>
                  </a:lnTo>
                  <a:lnTo>
                    <a:pt x="1296" y="144"/>
                  </a:lnTo>
                  <a:lnTo>
                    <a:pt x="216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278160" y="3695760"/>
              <a:ext cx="619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3278160" y="3765600"/>
              <a:ext cx="6192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40080" y="3765600"/>
              <a:ext cx="43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rot="10800000">
              <a:off x="2274840" y="2511720"/>
              <a:ext cx="624960" cy="12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rot="10800000">
              <a:off x="3027240" y="2511720"/>
              <a:ext cx="624960" cy="12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522440" y="2998800"/>
              <a:ext cx="376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522440" y="3556080"/>
              <a:ext cx="376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440" y="3278160"/>
              <a:ext cx="376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149560" y="299880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27240" y="2998800"/>
              <a:ext cx="12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40080" y="355608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208160" y="4044960"/>
              <a:ext cx="25718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Master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ceiv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208160" y="4254480"/>
              <a:ext cx="307332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. Servant puts data on bus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within time 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208160" y="4673520"/>
              <a:ext cx="288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Master receives data and de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208160" y="4883040"/>
              <a:ext cx="288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Servant ready for next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98640" y="3487680"/>
              <a:ext cx="188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400480" y="355608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622760" y="5762520"/>
              <a:ext cx="271620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low-response c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152880" y="1671480"/>
              <a:ext cx="752400" cy="11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82960" y="1671480"/>
              <a:ext cx="752760" cy="111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rva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902040" y="199080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902040" y="2270160"/>
              <a:ext cx="87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027320" y="1711440"/>
              <a:ext cx="627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027320" y="2060640"/>
              <a:ext cx="627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027320" y="2409840"/>
              <a:ext cx="627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970520" y="3765600"/>
              <a:ext cx="100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037200" y="369576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037200" y="3835440"/>
              <a:ext cx="56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600960" y="3695760"/>
              <a:ext cx="633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6600960" y="3765600"/>
              <a:ext cx="633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664320" y="3765600"/>
              <a:ext cx="18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94320" y="2998800"/>
              <a:ext cx="376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94320" y="3556080"/>
              <a:ext cx="3762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594320" y="3278160"/>
              <a:ext cx="37620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95800" y="2998800"/>
              <a:ext cx="125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24760" y="327816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6539040" y="299880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281480" y="4044960"/>
              <a:ext cx="257004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. Master 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to receive 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281480" y="4254480"/>
              <a:ext cx="33228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. Servant can't put data within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ccess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ssert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281480" y="4464000"/>
              <a:ext cx="31971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. Servant puts data on bus and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sserts </a:t>
              </a:r>
              <a:r>
                <a:rPr b="1" i="1" lang="en-US" sz="1200" spc="-1" strike="noStrike">
                  <a:solidFill>
                    <a:srgbClr val="000000"/>
                  </a:solidFill>
                  <a:latin typeface="Times New Roman"/>
                </a:rPr>
                <a:t>wa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281480" y="4673520"/>
              <a:ext cx="288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. Master receives data and deasserts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902040" y="2689200"/>
              <a:ext cx="878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535720" y="327816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274840" y="30686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651040" y="36957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149560" y="3835440"/>
              <a:ext cx="6271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346720" y="30686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722920" y="3695760"/>
              <a:ext cx="0" cy="2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221440" y="3835440"/>
              <a:ext cx="62676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acc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5973840" y="3695760"/>
              <a:ext cx="633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973840" y="3765600"/>
              <a:ext cx="63360" cy="6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983120" y="3068640"/>
              <a:ext cx="1871640" cy="139680"/>
            </a:xfrm>
            <a:custGeom>
              <a:avLst/>
              <a:gdLst/>
              <a:ahLst/>
              <a:rect l="l" t="t" r="r" b="b"/>
              <a:pathLst>
                <a:path w="2150" h="144">
                  <a:moveTo>
                    <a:pt x="0" y="142"/>
                  </a:moveTo>
                  <a:lnTo>
                    <a:pt x="428" y="144"/>
                  </a:lnTo>
                  <a:lnTo>
                    <a:pt x="428" y="0"/>
                  </a:lnTo>
                  <a:lnTo>
                    <a:pt x="1739" y="0"/>
                  </a:lnTo>
                  <a:lnTo>
                    <a:pt x="1739" y="144"/>
                  </a:lnTo>
                  <a:lnTo>
                    <a:pt x="2150" y="14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970520" y="3348000"/>
              <a:ext cx="1881000" cy="139680"/>
            </a:xfrm>
            <a:custGeom>
              <a:avLst/>
              <a:gdLst/>
              <a:ahLst/>
              <a:rect l="l" t="t" r="r" b="b"/>
              <a:pathLst>
                <a:path w="2160" h="144">
                  <a:moveTo>
                    <a:pt x="0" y="144"/>
                  </a:moveTo>
                  <a:lnTo>
                    <a:pt x="792" y="144"/>
                  </a:lnTo>
                  <a:lnTo>
                    <a:pt x="792" y="0"/>
                  </a:lnTo>
                  <a:lnTo>
                    <a:pt x="1440" y="0"/>
                  </a:lnTo>
                  <a:lnTo>
                    <a:pt x="1440" y="144"/>
                  </a:lnTo>
                  <a:lnTo>
                    <a:pt x="2160" y="14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10800000">
              <a:off x="5346720" y="2789640"/>
              <a:ext cx="6278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6224760" y="3138480"/>
              <a:ext cx="627840" cy="69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281480" y="4883040"/>
              <a:ext cx="288432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. Servant ready for next reques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664320" y="3556080"/>
              <a:ext cx="1252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0800000">
              <a:off x="5347080" y="2511720"/>
              <a:ext cx="1253520" cy="12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10800000">
              <a:off x="6475320" y="2511720"/>
              <a:ext cx="377280" cy="1253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5973840" y="3417840"/>
              <a:ext cx="501120" cy="694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1" swAng="540000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1" swAng="5400001"/>
                </a:path>
              </a:pathLst>
            </a:custGeom>
            <a:noFill/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08160" y="4464000"/>
              <a:ext cx="288432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wait line is unused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D783-6917-412D-B674-3B96E9AC1DF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F Vahid</cp:lastModifiedBy>
  <cp:lastPrinted>2001-11-01T23:39:18Z</cp:lastPrinted>
  <dcterms:modified xsi:type="dcterms:W3CDTF">2002-03-09T05:00:55Z</dcterms:modified>
  <cp:revision>279</cp:revision>
  <dc:subject/>
  <dc:title>A “short list” of embedded systems</dc:title>
</cp:coreProperties>
</file>