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40867-9652-450F-BBD7-5ED8CA624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177C9-68AB-4C94-9629-ECFD3FFEF7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E6C80-AD60-4212-BEF5-EA5474E9D4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42709-3150-41F0-A708-6B8EF39A5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100C3E-C920-4CB1-9CF2-9D61987D5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C2A3A-0DAF-45DE-9D57-1BADB560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79361-28A6-402F-BC5D-A9151DA3F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78A85F-6637-42F6-8545-747B0706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8FF409-5D56-4785-BBCF-4DC8229DE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E97C98-9966-48D5-AA60-7DB0FA1A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381FED-6850-4143-8C73-CCE38733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2D34A-A343-49C9-B6E9-9355BF9EEE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813E6-4E40-4BD8-B3FB-70573D81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96E59-D05C-4309-97C8-753B1E2D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0485D4-3365-4EE4-912F-8C2B0C3A0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E1DA0D-EC8D-4ADC-B975-AB67AEE08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1ECEA-587D-4413-9022-6F4886160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50B4A-87E8-4E84-9C98-537ECC5485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2E52D-27F1-4917-ADD6-ABCC330B59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EF93-6202-43CD-B2EC-394167AFAB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B07DA-E4E6-490C-9135-5BDEC19F8F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9994F-D6C9-46FE-899A-B347A6982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DE69C-1F8C-4A44-95E6-4F2074F9BE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81A6F-DB61-4524-A2E0-AB4F78E4DE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D67F8-5085-4862-98DF-358621F1C0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1295280"/>
            <a:ext cx="8686800" cy="1526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617220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mbedded Systems Design: A Unified Hardware/Software Introduction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) 2000 Vahid/Givarg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095880"/>
            <a:ext cx="8686800" cy="763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14C4-6055-4E90-BE75-2A682B15F6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bedded Systems Design: A Unified Hardware/Software 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95280"/>
            <a:ext cx="8686800" cy="1526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6095880"/>
            <a:ext cx="8686800" cy="763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7 Digital Camera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F5D8C3-06A5-464B-9B4E-F71FC4B14A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Quantization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7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hieve high compression ratio by reducing image qu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 bit precision of encode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er bits needed for en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way is to divide all values by a factor of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e right shifts can do th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quantization would reverse process for de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963720" y="4383000"/>
          <a:ext cx="2523960" cy="130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3720" y="4383000"/>
                    <a:ext cx="252396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6" name=""/>
          <p:cNvGraphicFramePr/>
          <p:nvPr/>
        </p:nvGraphicFramePr>
        <p:xfrm>
          <a:off x="5148360" y="4373640"/>
          <a:ext cx="2523960" cy="1305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92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48360" y="4373640"/>
                    <a:ext cx="2523960" cy="13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8" name=""/>
          <p:cNvSpPr/>
          <p:nvPr/>
        </p:nvSpPr>
        <p:spPr>
          <a:xfrm>
            <a:off x="3822840" y="5016600"/>
            <a:ext cx="990360" cy="12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971640" y="5743440"/>
            <a:ext cx="247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fter being decoded using D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5200560" y="5743440"/>
            <a:ext cx="2476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After quant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648240" y="4429080"/>
            <a:ext cx="13428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ivide each cell’s value  by 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02EFA-879D-4BA3-8F67-960C67CE9B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91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ialize 8 x 8 block of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s are converted into single list using zigzag 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 Huffman 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frequently occurring pixels assigned short binary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nger binary codes left for less frequently occurring pix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pixel in serial list converted to Huffman encoded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h shorter list, thus comp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uffman encoding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1747800" y="7659720"/>
            <a:ext cx="479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1754280" y="-744480"/>
            <a:ext cx="360" cy="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1754280" y="5140440"/>
            <a:ext cx="3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1754280" y="5778360"/>
            <a:ext cx="4500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1747800" y="7659720"/>
            <a:ext cx="479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1754280" y="-744480"/>
            <a:ext cx="360" cy="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1754280" y="5140440"/>
            <a:ext cx="36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1" name=""/>
          <p:cNvGrpSpPr/>
          <p:nvPr/>
        </p:nvGrpSpPr>
        <p:grpSpPr>
          <a:xfrm>
            <a:off x="1876320" y="2371680"/>
            <a:ext cx="2868480" cy="1406520"/>
            <a:chOff x="1876320" y="2371680"/>
            <a:chExt cx="2868480" cy="1406520"/>
          </a:xfrm>
        </p:grpSpPr>
        <p:grpSp>
          <p:nvGrpSpPr>
            <p:cNvPr id="942" name=""/>
            <p:cNvGrpSpPr/>
            <p:nvPr/>
          </p:nvGrpSpPr>
          <p:grpSpPr>
            <a:xfrm>
              <a:off x="1876320" y="2371680"/>
              <a:ext cx="2868480" cy="1406520"/>
              <a:chOff x="1876320" y="2371680"/>
              <a:chExt cx="2868480" cy="1406520"/>
            </a:xfrm>
          </p:grpSpPr>
          <p:sp>
            <p:nvSpPr>
              <p:cNvPr id="943" name=""/>
              <p:cNvSpPr/>
              <p:nvPr/>
            </p:nvSpPr>
            <p:spPr>
              <a:xfrm>
                <a:off x="1876320" y="2371680"/>
                <a:ext cx="2868480" cy="1406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2331000" y="2499840"/>
                <a:ext cx="2710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H="1">
                <a:off x="2314080" y="2499840"/>
                <a:ext cx="276120" cy="168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2314440" y="2674080"/>
                <a:ext cx="0" cy="18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V="1">
                <a:off x="2325600" y="2673720"/>
                <a:ext cx="242640" cy="16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 flipV="1">
                <a:off x="2579760" y="2488320"/>
                <a:ext cx="315360" cy="19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2901960" y="2500200"/>
                <a:ext cx="27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 flipH="1">
                <a:off x="2878560" y="2505240"/>
                <a:ext cx="281880" cy="15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 flipH="1">
                <a:off x="2595960" y="2663280"/>
                <a:ext cx="281880" cy="15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 flipH="1">
                <a:off x="2314440" y="2821680"/>
                <a:ext cx="281880" cy="15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H="1">
                <a:off x="2325600" y="2984760"/>
                <a:ext cx="5040" cy="19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 flipV="1">
                <a:off x="2337120" y="3002040"/>
                <a:ext cx="242280" cy="163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V="1">
                <a:off x="2591280" y="2815920"/>
                <a:ext cx="315360" cy="19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 flipV="1">
                <a:off x="2901960" y="2634840"/>
                <a:ext cx="315360" cy="19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V="1">
                <a:off x="3183840" y="2471040"/>
                <a:ext cx="315360" cy="19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3505680" y="2483280"/>
                <a:ext cx="27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>
                <a:off x="3482640" y="2488320"/>
                <a:ext cx="281880" cy="15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 flipH="1">
                <a:off x="3200400" y="2646360"/>
                <a:ext cx="281520" cy="15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>
                <a:off x="2918520" y="2804400"/>
                <a:ext cx="281880" cy="15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 flipH="1">
                <a:off x="2636640" y="2968200"/>
                <a:ext cx="281880" cy="15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2331360" y="3126240"/>
                <a:ext cx="315360" cy="18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 flipH="1">
                <a:off x="2342160" y="3312360"/>
                <a:ext cx="5040" cy="19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 flipV="1">
                <a:off x="2353680" y="3328920"/>
                <a:ext cx="242640" cy="16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V="1">
                <a:off x="2607840" y="3143520"/>
                <a:ext cx="315360" cy="19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V="1">
                <a:off x="2918520" y="2962440"/>
                <a:ext cx="315360" cy="19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 flipV="1">
                <a:off x="3200400" y="2798640"/>
                <a:ext cx="315360" cy="19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V="1">
                <a:off x="3482280" y="2635560"/>
                <a:ext cx="315360" cy="19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V="1">
                <a:off x="3810600" y="2454120"/>
                <a:ext cx="315360" cy="19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4132440" y="2466000"/>
                <a:ext cx="27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 flipH="1">
                <a:off x="4109400" y="2471040"/>
                <a:ext cx="281880" cy="15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3826800" y="2629080"/>
                <a:ext cx="281880" cy="15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>
                <a:off x="3545280" y="2787120"/>
                <a:ext cx="281880" cy="15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H="1">
                <a:off x="3263400" y="2950920"/>
                <a:ext cx="281880" cy="15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 flipH="1">
                <a:off x="2958120" y="3108960"/>
                <a:ext cx="315360" cy="18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H="1">
                <a:off x="2631240" y="3295080"/>
                <a:ext cx="315360" cy="18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V="1">
                <a:off x="2584800" y="3532320"/>
                <a:ext cx="214560" cy="14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V="1">
                <a:off x="2810880" y="3346560"/>
                <a:ext cx="315360" cy="19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V="1">
                <a:off x="3121560" y="3165480"/>
                <a:ext cx="315360" cy="19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 flipV="1">
                <a:off x="3403440" y="3002040"/>
                <a:ext cx="315360" cy="19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V="1">
                <a:off x="3685680" y="2838600"/>
                <a:ext cx="315360" cy="19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V="1">
                <a:off x="4013640" y="2657160"/>
                <a:ext cx="315360" cy="19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 flipH="1">
                <a:off x="2320560" y="3470400"/>
                <a:ext cx="315360" cy="18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2337120" y="3667680"/>
                <a:ext cx="27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4329360" y="2690640"/>
                <a:ext cx="0" cy="18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H="1">
                <a:off x="4040640" y="2871720"/>
                <a:ext cx="281880" cy="15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3759480" y="3029760"/>
                <a:ext cx="281880" cy="15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 flipH="1">
                <a:off x="3438000" y="3187800"/>
                <a:ext cx="315360" cy="18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>
                <a:off x="3166200" y="3368520"/>
                <a:ext cx="270360" cy="14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H="1">
                <a:off x="2895120" y="3509640"/>
                <a:ext cx="270360" cy="14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2923920" y="3661920"/>
                <a:ext cx="27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V="1">
                <a:off x="3217680" y="3470760"/>
                <a:ext cx="315360" cy="19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 flipV="1">
                <a:off x="3528000" y="3290040"/>
                <a:ext cx="315360" cy="19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V="1">
                <a:off x="3809880" y="3126240"/>
                <a:ext cx="315360" cy="19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V="1">
                <a:off x="4092120" y="2996280"/>
                <a:ext cx="253080" cy="15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4335120" y="3012840"/>
                <a:ext cx="0" cy="18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 flipH="1">
                <a:off x="4046400" y="3193560"/>
                <a:ext cx="281880" cy="15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3765240" y="3351600"/>
                <a:ext cx="281880" cy="15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H="1">
                <a:off x="3477600" y="3509640"/>
                <a:ext cx="281160" cy="164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3517200" y="3679200"/>
                <a:ext cx="27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3793320" y="3476520"/>
                <a:ext cx="315360" cy="19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V="1">
                <a:off x="4104000" y="3318120"/>
                <a:ext cx="230400" cy="16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H="1">
                <a:off x="4329360" y="3317400"/>
                <a:ext cx="5760" cy="19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H="1">
                <a:off x="4052880" y="3503880"/>
                <a:ext cx="281880" cy="15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4070520" y="3667680"/>
                <a:ext cx="27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2203200" y="2393640"/>
              <a:ext cx="2282400" cy="1317960"/>
              <a:chOff x="2203200" y="2393640"/>
              <a:chExt cx="2282400" cy="1317960"/>
            </a:xfrm>
          </p:grpSpPr>
          <p:grpSp>
            <p:nvGrpSpPr>
              <p:cNvPr id="1008" name=""/>
              <p:cNvGrpSpPr/>
              <p:nvPr/>
            </p:nvGrpSpPr>
            <p:grpSpPr>
              <a:xfrm>
                <a:off x="2207880" y="2395080"/>
                <a:ext cx="2271240" cy="1314720"/>
                <a:chOff x="2207880" y="2395080"/>
                <a:chExt cx="2271240" cy="1314720"/>
              </a:xfrm>
            </p:grpSpPr>
            <p:grpSp>
              <p:nvGrpSpPr>
                <p:cNvPr id="1009" name=""/>
                <p:cNvGrpSpPr/>
                <p:nvPr/>
              </p:nvGrpSpPr>
              <p:grpSpPr>
                <a:xfrm>
                  <a:off x="2207880" y="2395080"/>
                  <a:ext cx="283320" cy="164160"/>
                  <a:chOff x="2207880" y="2395080"/>
                  <a:chExt cx="283320" cy="164160"/>
                </a:xfrm>
              </p:grpSpPr>
              <p:sp>
                <p:nvSpPr>
                  <p:cNvPr id="1010" name=""/>
                  <p:cNvSpPr/>
                  <p:nvPr/>
                </p:nvSpPr>
                <p:spPr>
                  <a:xfrm>
                    <a:off x="2280960" y="239508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1" name=""/>
                  <p:cNvSpPr/>
                  <p:nvPr/>
                </p:nvSpPr>
                <p:spPr>
                  <a:xfrm>
                    <a:off x="2207880" y="239508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2" name=""/>
                <p:cNvGrpSpPr/>
                <p:nvPr/>
              </p:nvGrpSpPr>
              <p:grpSpPr>
                <a:xfrm>
                  <a:off x="2491560" y="2395080"/>
                  <a:ext cx="283680" cy="164160"/>
                  <a:chOff x="2491560" y="2395080"/>
                  <a:chExt cx="283680" cy="164160"/>
                </a:xfrm>
              </p:grpSpPr>
              <p:sp>
                <p:nvSpPr>
                  <p:cNvPr id="1013" name=""/>
                  <p:cNvSpPr/>
                  <p:nvPr/>
                </p:nvSpPr>
                <p:spPr>
                  <a:xfrm>
                    <a:off x="2564640" y="239508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4" name=""/>
                  <p:cNvSpPr/>
                  <p:nvPr/>
                </p:nvSpPr>
                <p:spPr>
                  <a:xfrm>
                    <a:off x="2491560" y="2395080"/>
                    <a:ext cx="28368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5" name=""/>
                <p:cNvGrpSpPr/>
                <p:nvPr/>
              </p:nvGrpSpPr>
              <p:grpSpPr>
                <a:xfrm>
                  <a:off x="2775960" y="2395080"/>
                  <a:ext cx="283320" cy="164160"/>
                  <a:chOff x="2775960" y="2395080"/>
                  <a:chExt cx="283320" cy="164160"/>
                </a:xfrm>
              </p:grpSpPr>
              <p:sp>
                <p:nvSpPr>
                  <p:cNvPr id="1016" name=""/>
                  <p:cNvSpPr/>
                  <p:nvPr/>
                </p:nvSpPr>
                <p:spPr>
                  <a:xfrm>
                    <a:off x="2848680" y="2395080"/>
                    <a:ext cx="13788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7" name=""/>
                  <p:cNvSpPr/>
                  <p:nvPr/>
                </p:nvSpPr>
                <p:spPr>
                  <a:xfrm>
                    <a:off x="2775960" y="239508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8" name=""/>
                <p:cNvGrpSpPr/>
                <p:nvPr/>
              </p:nvGrpSpPr>
              <p:grpSpPr>
                <a:xfrm>
                  <a:off x="3059640" y="2395080"/>
                  <a:ext cx="283680" cy="164160"/>
                  <a:chOff x="3059640" y="2395080"/>
                  <a:chExt cx="283680" cy="164160"/>
                </a:xfrm>
              </p:grpSpPr>
              <p:sp>
                <p:nvSpPr>
                  <p:cNvPr id="1019" name=""/>
                  <p:cNvSpPr/>
                  <p:nvPr/>
                </p:nvSpPr>
                <p:spPr>
                  <a:xfrm>
                    <a:off x="3132720" y="239508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0" name=""/>
                  <p:cNvSpPr/>
                  <p:nvPr/>
                </p:nvSpPr>
                <p:spPr>
                  <a:xfrm>
                    <a:off x="3059640" y="2395080"/>
                    <a:ext cx="28368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1" name=""/>
                <p:cNvGrpSpPr/>
                <p:nvPr/>
              </p:nvGrpSpPr>
              <p:grpSpPr>
                <a:xfrm>
                  <a:off x="3344040" y="2395080"/>
                  <a:ext cx="283320" cy="164160"/>
                  <a:chOff x="3344040" y="2395080"/>
                  <a:chExt cx="283320" cy="164160"/>
                </a:xfrm>
              </p:grpSpPr>
              <p:sp>
                <p:nvSpPr>
                  <p:cNvPr id="1022" name=""/>
                  <p:cNvSpPr/>
                  <p:nvPr/>
                </p:nvSpPr>
                <p:spPr>
                  <a:xfrm>
                    <a:off x="3416760" y="2395080"/>
                    <a:ext cx="13788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3" name=""/>
                  <p:cNvSpPr/>
                  <p:nvPr/>
                </p:nvSpPr>
                <p:spPr>
                  <a:xfrm>
                    <a:off x="3344040" y="239508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4" name=""/>
                <p:cNvGrpSpPr/>
                <p:nvPr/>
              </p:nvGrpSpPr>
              <p:grpSpPr>
                <a:xfrm>
                  <a:off x="3627720" y="2395080"/>
                  <a:ext cx="283680" cy="164160"/>
                  <a:chOff x="3627720" y="2395080"/>
                  <a:chExt cx="283680" cy="164160"/>
                </a:xfrm>
              </p:grpSpPr>
              <p:sp>
                <p:nvSpPr>
                  <p:cNvPr id="1025" name=""/>
                  <p:cNvSpPr/>
                  <p:nvPr/>
                </p:nvSpPr>
                <p:spPr>
                  <a:xfrm>
                    <a:off x="3700800" y="239508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6" name=""/>
                  <p:cNvSpPr/>
                  <p:nvPr/>
                </p:nvSpPr>
                <p:spPr>
                  <a:xfrm>
                    <a:off x="3627720" y="2395080"/>
                    <a:ext cx="28368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7" name=""/>
                <p:cNvGrpSpPr/>
                <p:nvPr/>
              </p:nvGrpSpPr>
              <p:grpSpPr>
                <a:xfrm>
                  <a:off x="3912120" y="2395080"/>
                  <a:ext cx="283320" cy="164160"/>
                  <a:chOff x="3912120" y="2395080"/>
                  <a:chExt cx="283320" cy="164160"/>
                </a:xfrm>
              </p:grpSpPr>
              <p:sp>
                <p:nvSpPr>
                  <p:cNvPr id="1028" name=""/>
                  <p:cNvSpPr/>
                  <p:nvPr/>
                </p:nvSpPr>
                <p:spPr>
                  <a:xfrm>
                    <a:off x="3984840" y="239508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>
                    <a:off x="3912120" y="239508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0" name=""/>
                <p:cNvGrpSpPr/>
                <p:nvPr/>
              </p:nvGrpSpPr>
              <p:grpSpPr>
                <a:xfrm>
                  <a:off x="4195800" y="2395080"/>
                  <a:ext cx="283320" cy="164160"/>
                  <a:chOff x="4195800" y="2395080"/>
                  <a:chExt cx="283320" cy="164160"/>
                </a:xfrm>
              </p:grpSpPr>
              <p:sp>
                <p:nvSpPr>
                  <p:cNvPr id="1031" name=""/>
                  <p:cNvSpPr/>
                  <p:nvPr/>
                </p:nvSpPr>
                <p:spPr>
                  <a:xfrm>
                    <a:off x="4268880" y="239508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>
                    <a:off x="4195800" y="239508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3" name=""/>
                <p:cNvGrpSpPr/>
                <p:nvPr/>
              </p:nvGrpSpPr>
              <p:grpSpPr>
                <a:xfrm>
                  <a:off x="2207880" y="2559240"/>
                  <a:ext cx="283320" cy="164160"/>
                  <a:chOff x="2207880" y="2559240"/>
                  <a:chExt cx="283320" cy="164160"/>
                </a:xfrm>
              </p:grpSpPr>
              <p:sp>
                <p:nvSpPr>
                  <p:cNvPr id="1034" name=""/>
                  <p:cNvSpPr/>
                  <p:nvPr/>
                </p:nvSpPr>
                <p:spPr>
                  <a:xfrm>
                    <a:off x="2280960" y="255924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5" name=""/>
                  <p:cNvSpPr/>
                  <p:nvPr/>
                </p:nvSpPr>
                <p:spPr>
                  <a:xfrm>
                    <a:off x="2207880" y="255924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6" name=""/>
                <p:cNvGrpSpPr/>
                <p:nvPr/>
              </p:nvGrpSpPr>
              <p:grpSpPr>
                <a:xfrm>
                  <a:off x="2491560" y="2559240"/>
                  <a:ext cx="283680" cy="164160"/>
                  <a:chOff x="2491560" y="2559240"/>
                  <a:chExt cx="283680" cy="164160"/>
                </a:xfrm>
              </p:grpSpPr>
              <p:sp>
                <p:nvSpPr>
                  <p:cNvPr id="1037" name=""/>
                  <p:cNvSpPr/>
                  <p:nvPr/>
                </p:nvSpPr>
                <p:spPr>
                  <a:xfrm>
                    <a:off x="2564640" y="255924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8" name=""/>
                  <p:cNvSpPr/>
                  <p:nvPr/>
                </p:nvSpPr>
                <p:spPr>
                  <a:xfrm>
                    <a:off x="2491560" y="2559240"/>
                    <a:ext cx="28368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39" name=""/>
                <p:cNvGrpSpPr/>
                <p:nvPr/>
              </p:nvGrpSpPr>
              <p:grpSpPr>
                <a:xfrm>
                  <a:off x="2775960" y="2559240"/>
                  <a:ext cx="283320" cy="164160"/>
                  <a:chOff x="2775960" y="2559240"/>
                  <a:chExt cx="283320" cy="164160"/>
                </a:xfrm>
              </p:grpSpPr>
              <p:sp>
                <p:nvSpPr>
                  <p:cNvPr id="1040" name=""/>
                  <p:cNvSpPr/>
                  <p:nvPr/>
                </p:nvSpPr>
                <p:spPr>
                  <a:xfrm>
                    <a:off x="2848680" y="2559240"/>
                    <a:ext cx="13788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1" name=""/>
                  <p:cNvSpPr/>
                  <p:nvPr/>
                </p:nvSpPr>
                <p:spPr>
                  <a:xfrm>
                    <a:off x="2775960" y="255924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2" name=""/>
                <p:cNvGrpSpPr/>
                <p:nvPr/>
              </p:nvGrpSpPr>
              <p:grpSpPr>
                <a:xfrm>
                  <a:off x="3059640" y="2559240"/>
                  <a:ext cx="283680" cy="164160"/>
                  <a:chOff x="3059640" y="2559240"/>
                  <a:chExt cx="283680" cy="164160"/>
                </a:xfrm>
              </p:grpSpPr>
              <p:sp>
                <p:nvSpPr>
                  <p:cNvPr id="1043" name=""/>
                  <p:cNvSpPr/>
                  <p:nvPr/>
                </p:nvSpPr>
                <p:spPr>
                  <a:xfrm>
                    <a:off x="3132720" y="255924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4" name=""/>
                  <p:cNvSpPr/>
                  <p:nvPr/>
                </p:nvSpPr>
                <p:spPr>
                  <a:xfrm>
                    <a:off x="3059640" y="2559240"/>
                    <a:ext cx="28368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5" name=""/>
                <p:cNvGrpSpPr/>
                <p:nvPr/>
              </p:nvGrpSpPr>
              <p:grpSpPr>
                <a:xfrm>
                  <a:off x="3344040" y="2559240"/>
                  <a:ext cx="283320" cy="164160"/>
                  <a:chOff x="3344040" y="2559240"/>
                  <a:chExt cx="283320" cy="164160"/>
                </a:xfrm>
              </p:grpSpPr>
              <p:sp>
                <p:nvSpPr>
                  <p:cNvPr id="1046" name=""/>
                  <p:cNvSpPr/>
                  <p:nvPr/>
                </p:nvSpPr>
                <p:spPr>
                  <a:xfrm>
                    <a:off x="3416760" y="2559240"/>
                    <a:ext cx="13788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7" name=""/>
                  <p:cNvSpPr/>
                  <p:nvPr/>
                </p:nvSpPr>
                <p:spPr>
                  <a:xfrm>
                    <a:off x="3344040" y="255924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8" name=""/>
                <p:cNvGrpSpPr/>
                <p:nvPr/>
              </p:nvGrpSpPr>
              <p:grpSpPr>
                <a:xfrm>
                  <a:off x="3627720" y="2559240"/>
                  <a:ext cx="283680" cy="164160"/>
                  <a:chOff x="3627720" y="2559240"/>
                  <a:chExt cx="283680" cy="164160"/>
                </a:xfrm>
              </p:grpSpPr>
              <p:sp>
                <p:nvSpPr>
                  <p:cNvPr id="1049" name=""/>
                  <p:cNvSpPr/>
                  <p:nvPr/>
                </p:nvSpPr>
                <p:spPr>
                  <a:xfrm>
                    <a:off x="3700800" y="255924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0" name=""/>
                  <p:cNvSpPr/>
                  <p:nvPr/>
                </p:nvSpPr>
                <p:spPr>
                  <a:xfrm>
                    <a:off x="3627720" y="2559240"/>
                    <a:ext cx="28368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1" name=""/>
                <p:cNvGrpSpPr/>
                <p:nvPr/>
              </p:nvGrpSpPr>
              <p:grpSpPr>
                <a:xfrm>
                  <a:off x="3912120" y="2559240"/>
                  <a:ext cx="283320" cy="164160"/>
                  <a:chOff x="3912120" y="2559240"/>
                  <a:chExt cx="283320" cy="164160"/>
                </a:xfrm>
              </p:grpSpPr>
              <p:sp>
                <p:nvSpPr>
                  <p:cNvPr id="1052" name=""/>
                  <p:cNvSpPr/>
                  <p:nvPr/>
                </p:nvSpPr>
                <p:spPr>
                  <a:xfrm>
                    <a:off x="3984840" y="255924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3" name=""/>
                  <p:cNvSpPr/>
                  <p:nvPr/>
                </p:nvSpPr>
                <p:spPr>
                  <a:xfrm>
                    <a:off x="3912120" y="255924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4" name=""/>
                <p:cNvGrpSpPr/>
                <p:nvPr/>
              </p:nvGrpSpPr>
              <p:grpSpPr>
                <a:xfrm>
                  <a:off x="4195800" y="2559240"/>
                  <a:ext cx="283320" cy="164160"/>
                  <a:chOff x="4195800" y="2559240"/>
                  <a:chExt cx="283320" cy="164160"/>
                </a:xfrm>
              </p:grpSpPr>
              <p:sp>
                <p:nvSpPr>
                  <p:cNvPr id="1055" name=""/>
                  <p:cNvSpPr/>
                  <p:nvPr/>
                </p:nvSpPr>
                <p:spPr>
                  <a:xfrm>
                    <a:off x="4268880" y="255924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6" name=""/>
                  <p:cNvSpPr/>
                  <p:nvPr/>
                </p:nvSpPr>
                <p:spPr>
                  <a:xfrm>
                    <a:off x="4195800" y="255924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57" name=""/>
                <p:cNvGrpSpPr/>
                <p:nvPr/>
              </p:nvGrpSpPr>
              <p:grpSpPr>
                <a:xfrm>
                  <a:off x="2207880" y="2723760"/>
                  <a:ext cx="283320" cy="164160"/>
                  <a:chOff x="2207880" y="2723760"/>
                  <a:chExt cx="283320" cy="164160"/>
                </a:xfrm>
              </p:grpSpPr>
              <p:sp>
                <p:nvSpPr>
                  <p:cNvPr id="1058" name=""/>
                  <p:cNvSpPr/>
                  <p:nvPr/>
                </p:nvSpPr>
                <p:spPr>
                  <a:xfrm>
                    <a:off x="2280960" y="272376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59" name=""/>
                  <p:cNvSpPr/>
                  <p:nvPr/>
                </p:nvSpPr>
                <p:spPr>
                  <a:xfrm>
                    <a:off x="2207880" y="272376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0" name=""/>
                <p:cNvGrpSpPr/>
                <p:nvPr/>
              </p:nvGrpSpPr>
              <p:grpSpPr>
                <a:xfrm>
                  <a:off x="2491560" y="2723760"/>
                  <a:ext cx="283680" cy="164160"/>
                  <a:chOff x="2491560" y="2723760"/>
                  <a:chExt cx="283680" cy="164160"/>
                </a:xfrm>
              </p:grpSpPr>
              <p:sp>
                <p:nvSpPr>
                  <p:cNvPr id="1061" name=""/>
                  <p:cNvSpPr/>
                  <p:nvPr/>
                </p:nvSpPr>
                <p:spPr>
                  <a:xfrm>
                    <a:off x="2564640" y="272376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2" name=""/>
                  <p:cNvSpPr/>
                  <p:nvPr/>
                </p:nvSpPr>
                <p:spPr>
                  <a:xfrm>
                    <a:off x="2491560" y="2723760"/>
                    <a:ext cx="28368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3" name=""/>
                <p:cNvGrpSpPr/>
                <p:nvPr/>
              </p:nvGrpSpPr>
              <p:grpSpPr>
                <a:xfrm>
                  <a:off x="2775960" y="2723760"/>
                  <a:ext cx="283320" cy="164160"/>
                  <a:chOff x="2775960" y="2723760"/>
                  <a:chExt cx="283320" cy="164160"/>
                </a:xfrm>
              </p:grpSpPr>
              <p:sp>
                <p:nvSpPr>
                  <p:cNvPr id="1064" name=""/>
                  <p:cNvSpPr/>
                  <p:nvPr/>
                </p:nvSpPr>
                <p:spPr>
                  <a:xfrm>
                    <a:off x="2848680" y="2723760"/>
                    <a:ext cx="13788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5" name=""/>
                  <p:cNvSpPr/>
                  <p:nvPr/>
                </p:nvSpPr>
                <p:spPr>
                  <a:xfrm>
                    <a:off x="2775960" y="272376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6" name=""/>
                <p:cNvGrpSpPr/>
                <p:nvPr/>
              </p:nvGrpSpPr>
              <p:grpSpPr>
                <a:xfrm>
                  <a:off x="3059640" y="2723760"/>
                  <a:ext cx="283680" cy="164160"/>
                  <a:chOff x="3059640" y="2723760"/>
                  <a:chExt cx="283680" cy="164160"/>
                </a:xfrm>
              </p:grpSpPr>
              <p:sp>
                <p:nvSpPr>
                  <p:cNvPr id="1067" name=""/>
                  <p:cNvSpPr/>
                  <p:nvPr/>
                </p:nvSpPr>
                <p:spPr>
                  <a:xfrm>
                    <a:off x="3132720" y="272376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8" name=""/>
                  <p:cNvSpPr/>
                  <p:nvPr/>
                </p:nvSpPr>
                <p:spPr>
                  <a:xfrm>
                    <a:off x="3059640" y="2723760"/>
                    <a:ext cx="28368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69" name=""/>
                <p:cNvGrpSpPr/>
                <p:nvPr/>
              </p:nvGrpSpPr>
              <p:grpSpPr>
                <a:xfrm>
                  <a:off x="3344040" y="2723760"/>
                  <a:ext cx="283320" cy="164160"/>
                  <a:chOff x="3344040" y="2723760"/>
                  <a:chExt cx="283320" cy="164160"/>
                </a:xfrm>
              </p:grpSpPr>
              <p:sp>
                <p:nvSpPr>
                  <p:cNvPr id="1070" name=""/>
                  <p:cNvSpPr/>
                  <p:nvPr/>
                </p:nvSpPr>
                <p:spPr>
                  <a:xfrm>
                    <a:off x="3416760" y="2723760"/>
                    <a:ext cx="13788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1" name=""/>
                  <p:cNvSpPr/>
                  <p:nvPr/>
                </p:nvSpPr>
                <p:spPr>
                  <a:xfrm>
                    <a:off x="3344040" y="272376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2" name=""/>
                <p:cNvGrpSpPr/>
                <p:nvPr/>
              </p:nvGrpSpPr>
              <p:grpSpPr>
                <a:xfrm>
                  <a:off x="3627720" y="2723760"/>
                  <a:ext cx="283680" cy="164160"/>
                  <a:chOff x="3627720" y="2723760"/>
                  <a:chExt cx="283680" cy="164160"/>
                </a:xfrm>
              </p:grpSpPr>
              <p:sp>
                <p:nvSpPr>
                  <p:cNvPr id="1073" name=""/>
                  <p:cNvSpPr/>
                  <p:nvPr/>
                </p:nvSpPr>
                <p:spPr>
                  <a:xfrm>
                    <a:off x="3700800" y="272376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4" name=""/>
                  <p:cNvSpPr/>
                  <p:nvPr/>
                </p:nvSpPr>
                <p:spPr>
                  <a:xfrm>
                    <a:off x="3627720" y="2723760"/>
                    <a:ext cx="28368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5" name=""/>
                <p:cNvGrpSpPr/>
                <p:nvPr/>
              </p:nvGrpSpPr>
              <p:grpSpPr>
                <a:xfrm>
                  <a:off x="3912120" y="2723760"/>
                  <a:ext cx="283320" cy="164160"/>
                  <a:chOff x="3912120" y="2723760"/>
                  <a:chExt cx="283320" cy="164160"/>
                </a:xfrm>
              </p:grpSpPr>
              <p:sp>
                <p:nvSpPr>
                  <p:cNvPr id="1076" name=""/>
                  <p:cNvSpPr/>
                  <p:nvPr/>
                </p:nvSpPr>
                <p:spPr>
                  <a:xfrm>
                    <a:off x="3984840" y="272376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77" name=""/>
                  <p:cNvSpPr/>
                  <p:nvPr/>
                </p:nvSpPr>
                <p:spPr>
                  <a:xfrm>
                    <a:off x="3912120" y="272376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8" name=""/>
                <p:cNvGrpSpPr/>
                <p:nvPr/>
              </p:nvGrpSpPr>
              <p:grpSpPr>
                <a:xfrm>
                  <a:off x="4195800" y="2723760"/>
                  <a:ext cx="283320" cy="164160"/>
                  <a:chOff x="4195800" y="2723760"/>
                  <a:chExt cx="283320" cy="164160"/>
                </a:xfrm>
              </p:grpSpPr>
              <p:sp>
                <p:nvSpPr>
                  <p:cNvPr id="1079" name=""/>
                  <p:cNvSpPr/>
                  <p:nvPr/>
                </p:nvSpPr>
                <p:spPr>
                  <a:xfrm>
                    <a:off x="4268880" y="272376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0" name=""/>
                  <p:cNvSpPr/>
                  <p:nvPr/>
                </p:nvSpPr>
                <p:spPr>
                  <a:xfrm>
                    <a:off x="4195800" y="272376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1" name=""/>
                <p:cNvGrpSpPr/>
                <p:nvPr/>
              </p:nvGrpSpPr>
              <p:grpSpPr>
                <a:xfrm>
                  <a:off x="2207880" y="2887920"/>
                  <a:ext cx="283320" cy="164160"/>
                  <a:chOff x="2207880" y="2887920"/>
                  <a:chExt cx="283320" cy="164160"/>
                </a:xfrm>
              </p:grpSpPr>
              <p:sp>
                <p:nvSpPr>
                  <p:cNvPr id="1082" name=""/>
                  <p:cNvSpPr/>
                  <p:nvPr/>
                </p:nvSpPr>
                <p:spPr>
                  <a:xfrm>
                    <a:off x="2280960" y="288792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3" name=""/>
                  <p:cNvSpPr/>
                  <p:nvPr/>
                </p:nvSpPr>
                <p:spPr>
                  <a:xfrm>
                    <a:off x="2207880" y="288792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4" name=""/>
                <p:cNvGrpSpPr/>
                <p:nvPr/>
              </p:nvGrpSpPr>
              <p:grpSpPr>
                <a:xfrm>
                  <a:off x="2491560" y="2887920"/>
                  <a:ext cx="283680" cy="164160"/>
                  <a:chOff x="2491560" y="2887920"/>
                  <a:chExt cx="283680" cy="164160"/>
                </a:xfrm>
              </p:grpSpPr>
              <p:sp>
                <p:nvSpPr>
                  <p:cNvPr id="1085" name=""/>
                  <p:cNvSpPr/>
                  <p:nvPr/>
                </p:nvSpPr>
                <p:spPr>
                  <a:xfrm>
                    <a:off x="2564640" y="288792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6" name=""/>
                  <p:cNvSpPr/>
                  <p:nvPr/>
                </p:nvSpPr>
                <p:spPr>
                  <a:xfrm>
                    <a:off x="2491560" y="2887920"/>
                    <a:ext cx="28368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87" name=""/>
                <p:cNvGrpSpPr/>
                <p:nvPr/>
              </p:nvGrpSpPr>
              <p:grpSpPr>
                <a:xfrm>
                  <a:off x="2775960" y="2887920"/>
                  <a:ext cx="283320" cy="164160"/>
                  <a:chOff x="2775960" y="2887920"/>
                  <a:chExt cx="283320" cy="164160"/>
                </a:xfrm>
              </p:grpSpPr>
              <p:sp>
                <p:nvSpPr>
                  <p:cNvPr id="1088" name=""/>
                  <p:cNvSpPr/>
                  <p:nvPr/>
                </p:nvSpPr>
                <p:spPr>
                  <a:xfrm>
                    <a:off x="2848680" y="2887920"/>
                    <a:ext cx="13788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9" name=""/>
                  <p:cNvSpPr/>
                  <p:nvPr/>
                </p:nvSpPr>
                <p:spPr>
                  <a:xfrm>
                    <a:off x="2775960" y="288792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0" name=""/>
                <p:cNvGrpSpPr/>
                <p:nvPr/>
              </p:nvGrpSpPr>
              <p:grpSpPr>
                <a:xfrm>
                  <a:off x="3059640" y="2887920"/>
                  <a:ext cx="283680" cy="164160"/>
                  <a:chOff x="3059640" y="2887920"/>
                  <a:chExt cx="283680" cy="164160"/>
                </a:xfrm>
              </p:grpSpPr>
              <p:sp>
                <p:nvSpPr>
                  <p:cNvPr id="1091" name=""/>
                  <p:cNvSpPr/>
                  <p:nvPr/>
                </p:nvSpPr>
                <p:spPr>
                  <a:xfrm>
                    <a:off x="3132720" y="288792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2" name=""/>
                  <p:cNvSpPr/>
                  <p:nvPr/>
                </p:nvSpPr>
                <p:spPr>
                  <a:xfrm>
                    <a:off x="3059640" y="2887920"/>
                    <a:ext cx="28368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3" name=""/>
                <p:cNvGrpSpPr/>
                <p:nvPr/>
              </p:nvGrpSpPr>
              <p:grpSpPr>
                <a:xfrm>
                  <a:off x="3344040" y="2887920"/>
                  <a:ext cx="283320" cy="164160"/>
                  <a:chOff x="3344040" y="2887920"/>
                  <a:chExt cx="283320" cy="164160"/>
                </a:xfrm>
              </p:grpSpPr>
              <p:sp>
                <p:nvSpPr>
                  <p:cNvPr id="1094" name=""/>
                  <p:cNvSpPr/>
                  <p:nvPr/>
                </p:nvSpPr>
                <p:spPr>
                  <a:xfrm>
                    <a:off x="3416760" y="2887920"/>
                    <a:ext cx="13788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3344040" y="288792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6" name=""/>
                <p:cNvGrpSpPr/>
                <p:nvPr/>
              </p:nvGrpSpPr>
              <p:grpSpPr>
                <a:xfrm>
                  <a:off x="3627720" y="2887920"/>
                  <a:ext cx="283680" cy="164160"/>
                  <a:chOff x="3627720" y="2887920"/>
                  <a:chExt cx="283680" cy="164160"/>
                </a:xfrm>
              </p:grpSpPr>
              <p:sp>
                <p:nvSpPr>
                  <p:cNvPr id="1097" name=""/>
                  <p:cNvSpPr/>
                  <p:nvPr/>
                </p:nvSpPr>
                <p:spPr>
                  <a:xfrm>
                    <a:off x="3700800" y="288792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8" name=""/>
                  <p:cNvSpPr/>
                  <p:nvPr/>
                </p:nvSpPr>
                <p:spPr>
                  <a:xfrm>
                    <a:off x="3627720" y="2887920"/>
                    <a:ext cx="28368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9" name=""/>
                <p:cNvGrpSpPr/>
                <p:nvPr/>
              </p:nvGrpSpPr>
              <p:grpSpPr>
                <a:xfrm>
                  <a:off x="3912120" y="2887920"/>
                  <a:ext cx="283320" cy="164160"/>
                  <a:chOff x="3912120" y="2887920"/>
                  <a:chExt cx="283320" cy="164160"/>
                </a:xfrm>
              </p:grpSpPr>
              <p:sp>
                <p:nvSpPr>
                  <p:cNvPr id="1100" name=""/>
                  <p:cNvSpPr/>
                  <p:nvPr/>
                </p:nvSpPr>
                <p:spPr>
                  <a:xfrm>
                    <a:off x="3984840" y="288792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1" name=""/>
                  <p:cNvSpPr/>
                  <p:nvPr/>
                </p:nvSpPr>
                <p:spPr>
                  <a:xfrm>
                    <a:off x="3912120" y="288792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2" name=""/>
                <p:cNvGrpSpPr/>
                <p:nvPr/>
              </p:nvGrpSpPr>
              <p:grpSpPr>
                <a:xfrm>
                  <a:off x="4195800" y="2887920"/>
                  <a:ext cx="283320" cy="164160"/>
                  <a:chOff x="4195800" y="2887920"/>
                  <a:chExt cx="283320" cy="164160"/>
                </a:xfrm>
              </p:grpSpPr>
              <p:sp>
                <p:nvSpPr>
                  <p:cNvPr id="1103" name=""/>
                  <p:cNvSpPr/>
                  <p:nvPr/>
                </p:nvSpPr>
                <p:spPr>
                  <a:xfrm>
                    <a:off x="4268880" y="288792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4" name=""/>
                  <p:cNvSpPr/>
                  <p:nvPr/>
                </p:nvSpPr>
                <p:spPr>
                  <a:xfrm>
                    <a:off x="4195800" y="288792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5" name=""/>
                <p:cNvGrpSpPr/>
                <p:nvPr/>
              </p:nvGrpSpPr>
              <p:grpSpPr>
                <a:xfrm>
                  <a:off x="2207880" y="3052440"/>
                  <a:ext cx="283320" cy="164160"/>
                  <a:chOff x="2207880" y="3052440"/>
                  <a:chExt cx="283320" cy="164160"/>
                </a:xfrm>
              </p:grpSpPr>
              <p:sp>
                <p:nvSpPr>
                  <p:cNvPr id="1106" name=""/>
                  <p:cNvSpPr/>
                  <p:nvPr/>
                </p:nvSpPr>
                <p:spPr>
                  <a:xfrm>
                    <a:off x="2280960" y="305244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7" name=""/>
                  <p:cNvSpPr/>
                  <p:nvPr/>
                </p:nvSpPr>
                <p:spPr>
                  <a:xfrm>
                    <a:off x="2207880" y="305244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8" name=""/>
                <p:cNvGrpSpPr/>
                <p:nvPr/>
              </p:nvGrpSpPr>
              <p:grpSpPr>
                <a:xfrm>
                  <a:off x="2491560" y="3052440"/>
                  <a:ext cx="283680" cy="164160"/>
                  <a:chOff x="2491560" y="3052440"/>
                  <a:chExt cx="283680" cy="164160"/>
                </a:xfrm>
              </p:grpSpPr>
              <p:sp>
                <p:nvSpPr>
                  <p:cNvPr id="1109" name=""/>
                  <p:cNvSpPr/>
                  <p:nvPr/>
                </p:nvSpPr>
                <p:spPr>
                  <a:xfrm>
                    <a:off x="2564640" y="305244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0" name=""/>
                  <p:cNvSpPr/>
                  <p:nvPr/>
                </p:nvSpPr>
                <p:spPr>
                  <a:xfrm>
                    <a:off x="2491560" y="3052440"/>
                    <a:ext cx="28368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1" name=""/>
                <p:cNvGrpSpPr/>
                <p:nvPr/>
              </p:nvGrpSpPr>
              <p:grpSpPr>
                <a:xfrm>
                  <a:off x="2775960" y="3052440"/>
                  <a:ext cx="283320" cy="164160"/>
                  <a:chOff x="2775960" y="3052440"/>
                  <a:chExt cx="283320" cy="164160"/>
                </a:xfrm>
              </p:grpSpPr>
              <p:sp>
                <p:nvSpPr>
                  <p:cNvPr id="1112" name=""/>
                  <p:cNvSpPr/>
                  <p:nvPr/>
                </p:nvSpPr>
                <p:spPr>
                  <a:xfrm>
                    <a:off x="2848680" y="3052440"/>
                    <a:ext cx="13788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3" name=""/>
                  <p:cNvSpPr/>
                  <p:nvPr/>
                </p:nvSpPr>
                <p:spPr>
                  <a:xfrm>
                    <a:off x="2775960" y="305244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4" name=""/>
                <p:cNvGrpSpPr/>
                <p:nvPr/>
              </p:nvGrpSpPr>
              <p:grpSpPr>
                <a:xfrm>
                  <a:off x="3059640" y="3052440"/>
                  <a:ext cx="283680" cy="164160"/>
                  <a:chOff x="3059640" y="3052440"/>
                  <a:chExt cx="283680" cy="164160"/>
                </a:xfrm>
              </p:grpSpPr>
              <p:sp>
                <p:nvSpPr>
                  <p:cNvPr id="1115" name=""/>
                  <p:cNvSpPr/>
                  <p:nvPr/>
                </p:nvSpPr>
                <p:spPr>
                  <a:xfrm>
                    <a:off x="3132720" y="305244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6" name=""/>
                  <p:cNvSpPr/>
                  <p:nvPr/>
                </p:nvSpPr>
                <p:spPr>
                  <a:xfrm>
                    <a:off x="3059640" y="3052440"/>
                    <a:ext cx="28368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17" name=""/>
                <p:cNvGrpSpPr/>
                <p:nvPr/>
              </p:nvGrpSpPr>
              <p:grpSpPr>
                <a:xfrm>
                  <a:off x="3344040" y="3052440"/>
                  <a:ext cx="283320" cy="164160"/>
                  <a:chOff x="3344040" y="3052440"/>
                  <a:chExt cx="283320" cy="164160"/>
                </a:xfrm>
              </p:grpSpPr>
              <p:sp>
                <p:nvSpPr>
                  <p:cNvPr id="1118" name=""/>
                  <p:cNvSpPr/>
                  <p:nvPr/>
                </p:nvSpPr>
                <p:spPr>
                  <a:xfrm>
                    <a:off x="3416760" y="3052440"/>
                    <a:ext cx="13788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9" name=""/>
                  <p:cNvSpPr/>
                  <p:nvPr/>
                </p:nvSpPr>
                <p:spPr>
                  <a:xfrm>
                    <a:off x="3344040" y="305244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0" name=""/>
                <p:cNvGrpSpPr/>
                <p:nvPr/>
              </p:nvGrpSpPr>
              <p:grpSpPr>
                <a:xfrm>
                  <a:off x="3627720" y="3052440"/>
                  <a:ext cx="283680" cy="164160"/>
                  <a:chOff x="3627720" y="3052440"/>
                  <a:chExt cx="283680" cy="164160"/>
                </a:xfrm>
              </p:grpSpPr>
              <p:sp>
                <p:nvSpPr>
                  <p:cNvPr id="1121" name=""/>
                  <p:cNvSpPr/>
                  <p:nvPr/>
                </p:nvSpPr>
                <p:spPr>
                  <a:xfrm>
                    <a:off x="3700800" y="305244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2" name=""/>
                  <p:cNvSpPr/>
                  <p:nvPr/>
                </p:nvSpPr>
                <p:spPr>
                  <a:xfrm>
                    <a:off x="3627720" y="3052440"/>
                    <a:ext cx="28368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3" name=""/>
                <p:cNvGrpSpPr/>
                <p:nvPr/>
              </p:nvGrpSpPr>
              <p:grpSpPr>
                <a:xfrm>
                  <a:off x="3912120" y="3052440"/>
                  <a:ext cx="283320" cy="164160"/>
                  <a:chOff x="3912120" y="3052440"/>
                  <a:chExt cx="283320" cy="164160"/>
                </a:xfrm>
              </p:grpSpPr>
              <p:sp>
                <p:nvSpPr>
                  <p:cNvPr id="1124" name=""/>
                  <p:cNvSpPr/>
                  <p:nvPr/>
                </p:nvSpPr>
                <p:spPr>
                  <a:xfrm>
                    <a:off x="3984840" y="305244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5" name=""/>
                  <p:cNvSpPr/>
                  <p:nvPr/>
                </p:nvSpPr>
                <p:spPr>
                  <a:xfrm>
                    <a:off x="3912120" y="305244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6" name=""/>
                <p:cNvGrpSpPr/>
                <p:nvPr/>
              </p:nvGrpSpPr>
              <p:grpSpPr>
                <a:xfrm>
                  <a:off x="4195800" y="3052440"/>
                  <a:ext cx="283320" cy="164160"/>
                  <a:chOff x="4195800" y="3052440"/>
                  <a:chExt cx="283320" cy="164160"/>
                </a:xfrm>
              </p:grpSpPr>
              <p:sp>
                <p:nvSpPr>
                  <p:cNvPr id="1127" name=""/>
                  <p:cNvSpPr/>
                  <p:nvPr/>
                </p:nvSpPr>
                <p:spPr>
                  <a:xfrm>
                    <a:off x="4268880" y="305244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8" name=""/>
                  <p:cNvSpPr/>
                  <p:nvPr/>
                </p:nvSpPr>
                <p:spPr>
                  <a:xfrm>
                    <a:off x="4195800" y="305244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29" name=""/>
                <p:cNvGrpSpPr/>
                <p:nvPr/>
              </p:nvGrpSpPr>
              <p:grpSpPr>
                <a:xfrm>
                  <a:off x="2207880" y="3216960"/>
                  <a:ext cx="283320" cy="164160"/>
                  <a:chOff x="2207880" y="3216960"/>
                  <a:chExt cx="283320" cy="164160"/>
                </a:xfrm>
              </p:grpSpPr>
              <p:sp>
                <p:nvSpPr>
                  <p:cNvPr id="1130" name=""/>
                  <p:cNvSpPr/>
                  <p:nvPr/>
                </p:nvSpPr>
                <p:spPr>
                  <a:xfrm>
                    <a:off x="2280960" y="321696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1" name=""/>
                  <p:cNvSpPr/>
                  <p:nvPr/>
                </p:nvSpPr>
                <p:spPr>
                  <a:xfrm>
                    <a:off x="2207880" y="321696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2" name=""/>
                <p:cNvGrpSpPr/>
                <p:nvPr/>
              </p:nvGrpSpPr>
              <p:grpSpPr>
                <a:xfrm>
                  <a:off x="2491560" y="3216960"/>
                  <a:ext cx="283680" cy="164160"/>
                  <a:chOff x="2491560" y="3216960"/>
                  <a:chExt cx="283680" cy="164160"/>
                </a:xfrm>
              </p:grpSpPr>
              <p:sp>
                <p:nvSpPr>
                  <p:cNvPr id="1133" name=""/>
                  <p:cNvSpPr/>
                  <p:nvPr/>
                </p:nvSpPr>
                <p:spPr>
                  <a:xfrm>
                    <a:off x="2564640" y="321696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4" name=""/>
                  <p:cNvSpPr/>
                  <p:nvPr/>
                </p:nvSpPr>
                <p:spPr>
                  <a:xfrm>
                    <a:off x="2491560" y="3216960"/>
                    <a:ext cx="28368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5" name=""/>
                <p:cNvGrpSpPr/>
                <p:nvPr/>
              </p:nvGrpSpPr>
              <p:grpSpPr>
                <a:xfrm>
                  <a:off x="2775960" y="3216960"/>
                  <a:ext cx="283320" cy="164160"/>
                  <a:chOff x="2775960" y="3216960"/>
                  <a:chExt cx="283320" cy="164160"/>
                </a:xfrm>
              </p:grpSpPr>
              <p:sp>
                <p:nvSpPr>
                  <p:cNvPr id="1136" name=""/>
                  <p:cNvSpPr/>
                  <p:nvPr/>
                </p:nvSpPr>
                <p:spPr>
                  <a:xfrm>
                    <a:off x="2848680" y="3216960"/>
                    <a:ext cx="13788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37" name=""/>
                  <p:cNvSpPr/>
                  <p:nvPr/>
                </p:nvSpPr>
                <p:spPr>
                  <a:xfrm>
                    <a:off x="2775960" y="321696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8" name=""/>
                <p:cNvGrpSpPr/>
                <p:nvPr/>
              </p:nvGrpSpPr>
              <p:grpSpPr>
                <a:xfrm>
                  <a:off x="3059640" y="3216960"/>
                  <a:ext cx="283680" cy="164160"/>
                  <a:chOff x="3059640" y="3216960"/>
                  <a:chExt cx="283680" cy="164160"/>
                </a:xfrm>
              </p:grpSpPr>
              <p:sp>
                <p:nvSpPr>
                  <p:cNvPr id="1139" name=""/>
                  <p:cNvSpPr/>
                  <p:nvPr/>
                </p:nvSpPr>
                <p:spPr>
                  <a:xfrm>
                    <a:off x="3132720" y="321696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0" name=""/>
                  <p:cNvSpPr/>
                  <p:nvPr/>
                </p:nvSpPr>
                <p:spPr>
                  <a:xfrm>
                    <a:off x="3059640" y="3216960"/>
                    <a:ext cx="28368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1" name=""/>
                <p:cNvGrpSpPr/>
                <p:nvPr/>
              </p:nvGrpSpPr>
              <p:grpSpPr>
                <a:xfrm>
                  <a:off x="3344040" y="3216960"/>
                  <a:ext cx="283320" cy="164160"/>
                  <a:chOff x="3344040" y="3216960"/>
                  <a:chExt cx="283320" cy="164160"/>
                </a:xfrm>
              </p:grpSpPr>
              <p:sp>
                <p:nvSpPr>
                  <p:cNvPr id="1142" name=""/>
                  <p:cNvSpPr/>
                  <p:nvPr/>
                </p:nvSpPr>
                <p:spPr>
                  <a:xfrm>
                    <a:off x="3416760" y="3216960"/>
                    <a:ext cx="13788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3" name=""/>
                  <p:cNvSpPr/>
                  <p:nvPr/>
                </p:nvSpPr>
                <p:spPr>
                  <a:xfrm>
                    <a:off x="3344040" y="321696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4" name=""/>
                <p:cNvGrpSpPr/>
                <p:nvPr/>
              </p:nvGrpSpPr>
              <p:grpSpPr>
                <a:xfrm>
                  <a:off x="3627720" y="3216960"/>
                  <a:ext cx="283680" cy="164160"/>
                  <a:chOff x="3627720" y="3216960"/>
                  <a:chExt cx="283680" cy="164160"/>
                </a:xfrm>
              </p:grpSpPr>
              <p:sp>
                <p:nvSpPr>
                  <p:cNvPr id="1145" name=""/>
                  <p:cNvSpPr/>
                  <p:nvPr/>
                </p:nvSpPr>
                <p:spPr>
                  <a:xfrm>
                    <a:off x="3700800" y="321696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6" name=""/>
                  <p:cNvSpPr/>
                  <p:nvPr/>
                </p:nvSpPr>
                <p:spPr>
                  <a:xfrm>
                    <a:off x="3627720" y="3216960"/>
                    <a:ext cx="28368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47" name=""/>
                <p:cNvGrpSpPr/>
                <p:nvPr/>
              </p:nvGrpSpPr>
              <p:grpSpPr>
                <a:xfrm>
                  <a:off x="3912120" y="3216960"/>
                  <a:ext cx="283320" cy="164160"/>
                  <a:chOff x="3912120" y="3216960"/>
                  <a:chExt cx="283320" cy="164160"/>
                </a:xfrm>
              </p:grpSpPr>
              <p:sp>
                <p:nvSpPr>
                  <p:cNvPr id="1148" name=""/>
                  <p:cNvSpPr/>
                  <p:nvPr/>
                </p:nvSpPr>
                <p:spPr>
                  <a:xfrm>
                    <a:off x="3984840" y="321696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49" name=""/>
                  <p:cNvSpPr/>
                  <p:nvPr/>
                </p:nvSpPr>
                <p:spPr>
                  <a:xfrm>
                    <a:off x="3912120" y="321696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0" name=""/>
                <p:cNvGrpSpPr/>
                <p:nvPr/>
              </p:nvGrpSpPr>
              <p:grpSpPr>
                <a:xfrm>
                  <a:off x="4195800" y="3216960"/>
                  <a:ext cx="283320" cy="164160"/>
                  <a:chOff x="4195800" y="3216960"/>
                  <a:chExt cx="283320" cy="164160"/>
                </a:xfrm>
              </p:grpSpPr>
              <p:sp>
                <p:nvSpPr>
                  <p:cNvPr id="1151" name=""/>
                  <p:cNvSpPr/>
                  <p:nvPr/>
                </p:nvSpPr>
                <p:spPr>
                  <a:xfrm>
                    <a:off x="4268880" y="321696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2" name=""/>
                  <p:cNvSpPr/>
                  <p:nvPr/>
                </p:nvSpPr>
                <p:spPr>
                  <a:xfrm>
                    <a:off x="4195800" y="321696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3" name=""/>
                <p:cNvGrpSpPr/>
                <p:nvPr/>
              </p:nvGrpSpPr>
              <p:grpSpPr>
                <a:xfrm>
                  <a:off x="2207880" y="3381480"/>
                  <a:ext cx="283320" cy="164160"/>
                  <a:chOff x="2207880" y="3381480"/>
                  <a:chExt cx="283320" cy="164160"/>
                </a:xfrm>
              </p:grpSpPr>
              <p:sp>
                <p:nvSpPr>
                  <p:cNvPr id="1154" name=""/>
                  <p:cNvSpPr/>
                  <p:nvPr/>
                </p:nvSpPr>
                <p:spPr>
                  <a:xfrm>
                    <a:off x="2280960" y="338148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5" name=""/>
                  <p:cNvSpPr/>
                  <p:nvPr/>
                </p:nvSpPr>
                <p:spPr>
                  <a:xfrm>
                    <a:off x="2207880" y="338148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6" name=""/>
                <p:cNvGrpSpPr/>
                <p:nvPr/>
              </p:nvGrpSpPr>
              <p:grpSpPr>
                <a:xfrm>
                  <a:off x="2491560" y="3381480"/>
                  <a:ext cx="283680" cy="164160"/>
                  <a:chOff x="2491560" y="3381480"/>
                  <a:chExt cx="283680" cy="164160"/>
                </a:xfrm>
              </p:grpSpPr>
              <p:sp>
                <p:nvSpPr>
                  <p:cNvPr id="1157" name=""/>
                  <p:cNvSpPr/>
                  <p:nvPr/>
                </p:nvSpPr>
                <p:spPr>
                  <a:xfrm>
                    <a:off x="2564640" y="338148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8" name=""/>
                  <p:cNvSpPr/>
                  <p:nvPr/>
                </p:nvSpPr>
                <p:spPr>
                  <a:xfrm>
                    <a:off x="2491560" y="3381480"/>
                    <a:ext cx="28368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59" name=""/>
                <p:cNvGrpSpPr/>
                <p:nvPr/>
              </p:nvGrpSpPr>
              <p:grpSpPr>
                <a:xfrm>
                  <a:off x="2775960" y="3381480"/>
                  <a:ext cx="283320" cy="164160"/>
                  <a:chOff x="2775960" y="3381480"/>
                  <a:chExt cx="283320" cy="164160"/>
                </a:xfrm>
              </p:grpSpPr>
              <p:sp>
                <p:nvSpPr>
                  <p:cNvPr id="1160" name=""/>
                  <p:cNvSpPr/>
                  <p:nvPr/>
                </p:nvSpPr>
                <p:spPr>
                  <a:xfrm>
                    <a:off x="2848680" y="3381480"/>
                    <a:ext cx="13788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1" name=""/>
                  <p:cNvSpPr/>
                  <p:nvPr/>
                </p:nvSpPr>
                <p:spPr>
                  <a:xfrm>
                    <a:off x="2775960" y="338148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2" name=""/>
                <p:cNvGrpSpPr/>
                <p:nvPr/>
              </p:nvGrpSpPr>
              <p:grpSpPr>
                <a:xfrm>
                  <a:off x="3059640" y="3381480"/>
                  <a:ext cx="283680" cy="164160"/>
                  <a:chOff x="3059640" y="3381480"/>
                  <a:chExt cx="283680" cy="164160"/>
                </a:xfrm>
              </p:grpSpPr>
              <p:sp>
                <p:nvSpPr>
                  <p:cNvPr id="1163" name=""/>
                  <p:cNvSpPr/>
                  <p:nvPr/>
                </p:nvSpPr>
                <p:spPr>
                  <a:xfrm>
                    <a:off x="3132720" y="338148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4" name=""/>
                  <p:cNvSpPr/>
                  <p:nvPr/>
                </p:nvSpPr>
                <p:spPr>
                  <a:xfrm>
                    <a:off x="3059640" y="3381480"/>
                    <a:ext cx="28368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5" name=""/>
                <p:cNvGrpSpPr/>
                <p:nvPr/>
              </p:nvGrpSpPr>
              <p:grpSpPr>
                <a:xfrm>
                  <a:off x="3344040" y="3381480"/>
                  <a:ext cx="283320" cy="164160"/>
                  <a:chOff x="3344040" y="3381480"/>
                  <a:chExt cx="283320" cy="164160"/>
                </a:xfrm>
              </p:grpSpPr>
              <p:sp>
                <p:nvSpPr>
                  <p:cNvPr id="1166" name=""/>
                  <p:cNvSpPr/>
                  <p:nvPr/>
                </p:nvSpPr>
                <p:spPr>
                  <a:xfrm>
                    <a:off x="3416760" y="3381480"/>
                    <a:ext cx="13788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7" name=""/>
                  <p:cNvSpPr/>
                  <p:nvPr/>
                </p:nvSpPr>
                <p:spPr>
                  <a:xfrm>
                    <a:off x="3344040" y="338148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68" name=""/>
                <p:cNvGrpSpPr/>
                <p:nvPr/>
              </p:nvGrpSpPr>
              <p:grpSpPr>
                <a:xfrm>
                  <a:off x="3627720" y="3381480"/>
                  <a:ext cx="283680" cy="164160"/>
                  <a:chOff x="3627720" y="3381480"/>
                  <a:chExt cx="283680" cy="164160"/>
                </a:xfrm>
              </p:grpSpPr>
              <p:sp>
                <p:nvSpPr>
                  <p:cNvPr id="1169" name=""/>
                  <p:cNvSpPr/>
                  <p:nvPr/>
                </p:nvSpPr>
                <p:spPr>
                  <a:xfrm>
                    <a:off x="3700800" y="338148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0" name=""/>
                  <p:cNvSpPr/>
                  <p:nvPr/>
                </p:nvSpPr>
                <p:spPr>
                  <a:xfrm>
                    <a:off x="3627720" y="3381480"/>
                    <a:ext cx="28368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1" name=""/>
                <p:cNvGrpSpPr/>
                <p:nvPr/>
              </p:nvGrpSpPr>
              <p:grpSpPr>
                <a:xfrm>
                  <a:off x="3912120" y="3381480"/>
                  <a:ext cx="283320" cy="164160"/>
                  <a:chOff x="3912120" y="3381480"/>
                  <a:chExt cx="283320" cy="164160"/>
                </a:xfrm>
              </p:grpSpPr>
              <p:sp>
                <p:nvSpPr>
                  <p:cNvPr id="1172" name=""/>
                  <p:cNvSpPr/>
                  <p:nvPr/>
                </p:nvSpPr>
                <p:spPr>
                  <a:xfrm>
                    <a:off x="3984840" y="338148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3" name=""/>
                  <p:cNvSpPr/>
                  <p:nvPr/>
                </p:nvSpPr>
                <p:spPr>
                  <a:xfrm>
                    <a:off x="3912120" y="338148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4" name=""/>
                <p:cNvGrpSpPr/>
                <p:nvPr/>
              </p:nvGrpSpPr>
              <p:grpSpPr>
                <a:xfrm>
                  <a:off x="4195800" y="3381480"/>
                  <a:ext cx="283320" cy="164160"/>
                  <a:chOff x="4195800" y="3381480"/>
                  <a:chExt cx="283320" cy="164160"/>
                </a:xfrm>
              </p:grpSpPr>
              <p:sp>
                <p:nvSpPr>
                  <p:cNvPr id="1175" name=""/>
                  <p:cNvSpPr/>
                  <p:nvPr/>
                </p:nvSpPr>
                <p:spPr>
                  <a:xfrm>
                    <a:off x="4268880" y="338148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6" name=""/>
                  <p:cNvSpPr/>
                  <p:nvPr/>
                </p:nvSpPr>
                <p:spPr>
                  <a:xfrm>
                    <a:off x="4195800" y="338148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77" name=""/>
                <p:cNvGrpSpPr/>
                <p:nvPr/>
              </p:nvGrpSpPr>
              <p:grpSpPr>
                <a:xfrm>
                  <a:off x="2207880" y="3545640"/>
                  <a:ext cx="283320" cy="164160"/>
                  <a:chOff x="2207880" y="3545640"/>
                  <a:chExt cx="283320" cy="164160"/>
                </a:xfrm>
              </p:grpSpPr>
              <p:sp>
                <p:nvSpPr>
                  <p:cNvPr id="1178" name=""/>
                  <p:cNvSpPr/>
                  <p:nvPr/>
                </p:nvSpPr>
                <p:spPr>
                  <a:xfrm>
                    <a:off x="2280960" y="354564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9" name=""/>
                  <p:cNvSpPr/>
                  <p:nvPr/>
                </p:nvSpPr>
                <p:spPr>
                  <a:xfrm>
                    <a:off x="2207880" y="354564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0" name=""/>
                <p:cNvGrpSpPr/>
                <p:nvPr/>
              </p:nvGrpSpPr>
              <p:grpSpPr>
                <a:xfrm>
                  <a:off x="2491560" y="3545640"/>
                  <a:ext cx="283680" cy="164160"/>
                  <a:chOff x="2491560" y="3545640"/>
                  <a:chExt cx="283680" cy="164160"/>
                </a:xfrm>
              </p:grpSpPr>
              <p:sp>
                <p:nvSpPr>
                  <p:cNvPr id="1181" name=""/>
                  <p:cNvSpPr/>
                  <p:nvPr/>
                </p:nvSpPr>
                <p:spPr>
                  <a:xfrm>
                    <a:off x="2564640" y="354564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2" name=""/>
                  <p:cNvSpPr/>
                  <p:nvPr/>
                </p:nvSpPr>
                <p:spPr>
                  <a:xfrm>
                    <a:off x="2491560" y="3545640"/>
                    <a:ext cx="28368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3" name=""/>
                <p:cNvGrpSpPr/>
                <p:nvPr/>
              </p:nvGrpSpPr>
              <p:grpSpPr>
                <a:xfrm>
                  <a:off x="2775960" y="3545640"/>
                  <a:ext cx="283320" cy="164160"/>
                  <a:chOff x="2775960" y="3545640"/>
                  <a:chExt cx="283320" cy="164160"/>
                </a:xfrm>
              </p:grpSpPr>
              <p:sp>
                <p:nvSpPr>
                  <p:cNvPr id="1184" name=""/>
                  <p:cNvSpPr/>
                  <p:nvPr/>
                </p:nvSpPr>
                <p:spPr>
                  <a:xfrm>
                    <a:off x="2848680" y="3545640"/>
                    <a:ext cx="13788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5" name=""/>
                  <p:cNvSpPr/>
                  <p:nvPr/>
                </p:nvSpPr>
                <p:spPr>
                  <a:xfrm>
                    <a:off x="2775960" y="354564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6" name=""/>
                <p:cNvGrpSpPr/>
                <p:nvPr/>
              </p:nvGrpSpPr>
              <p:grpSpPr>
                <a:xfrm>
                  <a:off x="3059640" y="3545640"/>
                  <a:ext cx="283680" cy="164160"/>
                  <a:chOff x="3059640" y="3545640"/>
                  <a:chExt cx="283680" cy="164160"/>
                </a:xfrm>
              </p:grpSpPr>
              <p:sp>
                <p:nvSpPr>
                  <p:cNvPr id="1187" name=""/>
                  <p:cNvSpPr/>
                  <p:nvPr/>
                </p:nvSpPr>
                <p:spPr>
                  <a:xfrm>
                    <a:off x="3132720" y="354564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8" name=""/>
                  <p:cNvSpPr/>
                  <p:nvPr/>
                </p:nvSpPr>
                <p:spPr>
                  <a:xfrm>
                    <a:off x="3059640" y="3545640"/>
                    <a:ext cx="28368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89" name=""/>
                <p:cNvGrpSpPr/>
                <p:nvPr/>
              </p:nvGrpSpPr>
              <p:grpSpPr>
                <a:xfrm>
                  <a:off x="3344040" y="3545640"/>
                  <a:ext cx="283320" cy="164160"/>
                  <a:chOff x="3344040" y="3545640"/>
                  <a:chExt cx="283320" cy="164160"/>
                </a:xfrm>
              </p:grpSpPr>
              <p:sp>
                <p:nvSpPr>
                  <p:cNvPr id="1190" name=""/>
                  <p:cNvSpPr/>
                  <p:nvPr/>
                </p:nvSpPr>
                <p:spPr>
                  <a:xfrm>
                    <a:off x="3416760" y="3545640"/>
                    <a:ext cx="13788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1" name=""/>
                  <p:cNvSpPr/>
                  <p:nvPr/>
                </p:nvSpPr>
                <p:spPr>
                  <a:xfrm>
                    <a:off x="3344040" y="354564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2" name=""/>
                <p:cNvGrpSpPr/>
                <p:nvPr/>
              </p:nvGrpSpPr>
              <p:grpSpPr>
                <a:xfrm>
                  <a:off x="3627720" y="3545640"/>
                  <a:ext cx="283680" cy="164160"/>
                  <a:chOff x="3627720" y="3545640"/>
                  <a:chExt cx="283680" cy="164160"/>
                </a:xfrm>
              </p:grpSpPr>
              <p:sp>
                <p:nvSpPr>
                  <p:cNvPr id="1193" name=""/>
                  <p:cNvSpPr/>
                  <p:nvPr/>
                </p:nvSpPr>
                <p:spPr>
                  <a:xfrm>
                    <a:off x="3700800" y="354564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>
                    <a:off x="3627720" y="3545640"/>
                    <a:ext cx="28368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5" name=""/>
                <p:cNvGrpSpPr/>
                <p:nvPr/>
              </p:nvGrpSpPr>
              <p:grpSpPr>
                <a:xfrm>
                  <a:off x="3912120" y="3545640"/>
                  <a:ext cx="283320" cy="164160"/>
                  <a:chOff x="3912120" y="3545640"/>
                  <a:chExt cx="283320" cy="164160"/>
                </a:xfrm>
              </p:grpSpPr>
              <p:sp>
                <p:nvSpPr>
                  <p:cNvPr id="1196" name=""/>
                  <p:cNvSpPr/>
                  <p:nvPr/>
                </p:nvSpPr>
                <p:spPr>
                  <a:xfrm>
                    <a:off x="3984840" y="354564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>
                    <a:off x="3912120" y="354564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98" name=""/>
                <p:cNvGrpSpPr/>
                <p:nvPr/>
              </p:nvGrpSpPr>
              <p:grpSpPr>
                <a:xfrm>
                  <a:off x="4195800" y="3545640"/>
                  <a:ext cx="283320" cy="164160"/>
                  <a:chOff x="4195800" y="3545640"/>
                  <a:chExt cx="283320" cy="164160"/>
                </a:xfrm>
              </p:grpSpPr>
              <p:sp>
                <p:nvSpPr>
                  <p:cNvPr id="1199" name=""/>
                  <p:cNvSpPr/>
                  <p:nvPr/>
                </p:nvSpPr>
                <p:spPr>
                  <a:xfrm>
                    <a:off x="4268880" y="3545640"/>
                    <a:ext cx="137520" cy="164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b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9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9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0" name=""/>
                  <p:cNvSpPr/>
                  <p:nvPr/>
                </p:nvSpPr>
                <p:spPr>
                  <a:xfrm>
                    <a:off x="4195800" y="3545640"/>
                    <a:ext cx="283320" cy="164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201" name=""/>
              <p:cNvSpPr/>
              <p:nvPr/>
            </p:nvSpPr>
            <p:spPr>
              <a:xfrm>
                <a:off x="2203200" y="2393640"/>
                <a:ext cx="2282400" cy="1317960"/>
              </a:xfrm>
              <a:prstGeom prst="rect">
                <a:avLst/>
              </a:prstGeom>
              <a:noFill/>
              <a:ln w="9360">
                <a:solidFill>
                  <a:srgbClr val="a0a0a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1E22-AEC8-4680-A8CE-8E7EDBE811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uffman encoding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209160" y="1523520"/>
            <a:ext cx="37148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xel frequencies on le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xel value –1 occurs 15 ti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ixel value 14 occurs 1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Huffman tree from bottom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e one leaf node for each pixel value and assign frequency as node’s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eate an internal node by joining any two nodes whose sum is a minimal 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sum is internal nodes 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peat until complete binary tre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verse tree from root to leaf to obtain binary code for leaf’s pixel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ppend 0 for left traversal, 1 for right travers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uffman encoding is rever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 code is a prefix of another c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4" name=""/>
          <p:cNvGrpSpPr/>
          <p:nvPr/>
        </p:nvGrpSpPr>
        <p:grpSpPr>
          <a:xfrm>
            <a:off x="3990960" y="2209680"/>
            <a:ext cx="4896000" cy="3375000"/>
            <a:chOff x="3990960" y="2209680"/>
            <a:chExt cx="4896000" cy="3375000"/>
          </a:xfrm>
        </p:grpSpPr>
        <p:sp>
          <p:nvSpPr>
            <p:cNvPr id="1205" name=""/>
            <p:cNvSpPr/>
            <p:nvPr/>
          </p:nvSpPr>
          <p:spPr>
            <a:xfrm>
              <a:off x="7662960" y="5324400"/>
              <a:ext cx="426960" cy="20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4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5005440" y="4648320"/>
              <a:ext cx="33156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5959440" y="4613400"/>
              <a:ext cx="3319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6924600" y="4597560"/>
              <a:ext cx="3319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879800" y="4235400"/>
              <a:ext cx="333720" cy="20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5800680" y="4206960"/>
              <a:ext cx="33336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6823080" y="4191120"/>
              <a:ext cx="33192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795920" y="3846600"/>
              <a:ext cx="33336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967280" y="5025960"/>
              <a:ext cx="460440" cy="22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6026040" y="4992840"/>
              <a:ext cx="33336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002360" y="4997520"/>
              <a:ext cx="33336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6297480" y="5335560"/>
              <a:ext cx="311400" cy="20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6670800" y="5342040"/>
              <a:ext cx="357120" cy="222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302600" y="5319720"/>
              <a:ext cx="31104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-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802480" y="5381640"/>
              <a:ext cx="309240" cy="20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5380200" y="5375160"/>
              <a:ext cx="347400" cy="20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5398920" y="5160960"/>
              <a:ext cx="3160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776920" y="5165640"/>
              <a:ext cx="3160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 flipV="1">
              <a:off x="5557680" y="4946400"/>
              <a:ext cx="61920" cy="20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591160" y="4759200"/>
              <a:ext cx="3160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845320" y="4991040"/>
              <a:ext cx="568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6275520" y="5114880"/>
              <a:ext cx="31572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6653160" y="5121360"/>
              <a:ext cx="3160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 flipV="1">
              <a:off x="6434280" y="4900680"/>
              <a:ext cx="6192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467400" y="4714920"/>
              <a:ext cx="3160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6721560" y="4946760"/>
              <a:ext cx="55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291440" y="5103720"/>
              <a:ext cx="31572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 flipV="1">
              <a:off x="7450200" y="4889520"/>
              <a:ext cx="6192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483320" y="4703760"/>
              <a:ext cx="31464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737480" y="4933800"/>
              <a:ext cx="554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219640" y="4856040"/>
              <a:ext cx="3142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 flipV="1">
              <a:off x="5423040" y="4584600"/>
              <a:ext cx="15228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522760" y="4365720"/>
              <a:ext cx="3160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76920" y="4595760"/>
              <a:ext cx="572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6110280" y="4816440"/>
              <a:ext cx="3160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 flipV="1">
              <a:off x="6315120" y="4545000"/>
              <a:ext cx="15228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6415200" y="4325760"/>
              <a:ext cx="31572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6669000" y="4556160"/>
              <a:ext cx="572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110360" y="4794120"/>
              <a:ext cx="3160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 flipV="1">
              <a:off x="7313760" y="4522680"/>
              <a:ext cx="15372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415280" y="4302000"/>
              <a:ext cx="31572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669080" y="4533840"/>
              <a:ext cx="5580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5129280" y="4454640"/>
              <a:ext cx="3142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 flipV="1">
              <a:off x="5332320" y="4184280"/>
              <a:ext cx="15264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433840" y="3963960"/>
              <a:ext cx="31464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688000" y="4195800"/>
              <a:ext cx="554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6014880" y="4410000"/>
              <a:ext cx="3160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6218280" y="4138560"/>
              <a:ext cx="15408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6319800" y="3919680"/>
              <a:ext cx="40176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6573960" y="4149720"/>
              <a:ext cx="5688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020000" y="4387680"/>
              <a:ext cx="31572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 flipV="1">
              <a:off x="7224840" y="4116240"/>
              <a:ext cx="15228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324560" y="3897360"/>
              <a:ext cx="36360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578720" y="4127400"/>
              <a:ext cx="572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5038560" y="4054320"/>
              <a:ext cx="3160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 flipV="1">
              <a:off x="5241960" y="3782880"/>
              <a:ext cx="154080" cy="27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343480" y="3564000"/>
              <a:ext cx="36360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597640" y="3794040"/>
              <a:ext cx="554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946920" y="3986280"/>
              <a:ext cx="31572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7149960" y="3714480"/>
              <a:ext cx="15408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251840" y="3495600"/>
              <a:ext cx="36324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505640" y="3727440"/>
              <a:ext cx="5580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927760" y="4017960"/>
              <a:ext cx="31572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 flipV="1">
              <a:off x="6130800" y="3746160"/>
              <a:ext cx="15408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232680" y="3527280"/>
              <a:ext cx="38232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486480" y="3757680"/>
              <a:ext cx="554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900680" y="3656160"/>
              <a:ext cx="3826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 flipV="1">
              <a:off x="5172120" y="3384360"/>
              <a:ext cx="152280" cy="27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272200" y="3165480"/>
              <a:ext cx="43020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5526000" y="3397320"/>
              <a:ext cx="57240" cy="18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740640" y="3006720"/>
              <a:ext cx="34452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 flipV="1">
              <a:off x="6405480" y="3212640"/>
              <a:ext cx="37152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 flipH="1" flipV="1">
              <a:off x="7036920" y="3184200"/>
              <a:ext cx="322200" cy="32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5894280" y="2565360"/>
              <a:ext cx="439920" cy="32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 flipV="1">
              <a:off x="5524560" y="2857680"/>
              <a:ext cx="452520" cy="32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 flipH="1" flipV="1">
              <a:off x="6269040" y="2835360"/>
              <a:ext cx="503280" cy="20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669080" y="5110200"/>
              <a:ext cx="316080" cy="247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82" name=""/>
            <p:cNvGraphicFramePr/>
            <p:nvPr/>
          </p:nvGraphicFramePr>
          <p:xfrm>
            <a:off x="4081320" y="2814480"/>
            <a:ext cx="638280" cy="26006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8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81320" y="2814480"/>
                      <a:ext cx="638280" cy="2600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284" name=""/>
            <p:cNvGraphicFramePr/>
            <p:nvPr/>
          </p:nvGraphicFramePr>
          <p:xfrm>
            <a:off x="8143920" y="2766960"/>
            <a:ext cx="704880" cy="260028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28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8143920" y="2766960"/>
                      <a:ext cx="704880" cy="2600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86" name=""/>
            <p:cNvSpPr/>
            <p:nvPr/>
          </p:nvSpPr>
          <p:spPr>
            <a:xfrm>
              <a:off x="3990960" y="2266920"/>
              <a:ext cx="8287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ixel frequenc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5457960" y="2305080"/>
              <a:ext cx="15238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uffman tre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8058240" y="2209680"/>
              <a:ext cx="8287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Huffman cod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9D78B-6EED-4FF9-A007-F3D797E57B4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ve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342720" y="1504440"/>
            <a:ext cx="84675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ord starting address and imag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linked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ossible way to archive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max number of images archived is 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aside memory for N addresses and N image-size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a counter for location of next available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e addresses and image-size variables to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global memory address to N x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uming addresses, image-size variables occupy N x 4 by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 image archived starting at address N x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lobal memory address updated to N x 4 + (compressed image siz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requirement based on N, image size, and average compression rat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1A918-E033-4588-9122-2D3D0F8074F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loading to P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connected to PC and upload command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images from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 serially using U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transmit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t pointers, image-size variables and global memory pointer according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CED29-A399-466E-B3C6-9645B409E83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quirements Spec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352080" y="1517400"/>
            <a:ext cx="8480520" cy="450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’s requirements – what system should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function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raints on design metrics (e.g., “should use 0.001 watt or les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al requi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’s behavior (e.g., “output X should be input Y times 2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tial specification may be very general and come from marketing dep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short document detailing market need for a low-end digital camera tha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ptures and stores at least 50 low-res images and uploads to PC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sts around $100 with single medium-size IC costing less that $25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s long as possible battery lif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s expected sales volume of 200,000 if market entry &lt; 6 month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,000 if between 6 and 12 month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ignificant sales beyond 12 month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A9B96-6732-4D95-B73E-A5C51ADE7FE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functional requirem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343080" y="1517760"/>
            <a:ext cx="8372160" cy="450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metrics of importance based on initial spec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time required to process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iz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number of elementary logic gates (2-input NAND gate) in 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ow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measure of avg. electrical energy consumed while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battery lifetime (power x tim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ed 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ues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us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 below (sometimes above) certain thresh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ation 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roved as much as possible to improve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ric can be both constrained and opt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A883C-0F8C-4B47-9553-54612411B3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functional requirements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st process image fast enough to be use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sec reasonable constr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ower would be annoy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aster not necessary for low-end of mar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efore, constrained me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st use IC that fits in reasonably sized cam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rained and optimization me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straint may be 200,000 gates, but smaller would be cheap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st operate below certain temperature (cooling fan not possib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refore, constrained me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ucing power or time reduces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timized metric: want battery to last as long as poss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94C65-2617-4F69-8581-19ED9E88BEC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formal functional spec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361800" y="1514520"/>
            <a:ext cx="4013280" cy="448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lowchart breaks functionality down into simpler fun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function’s details could then be described in Engl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e earlier in chap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quality image has resolution of 64 x 6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ping functions to a particular processor type not done at this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01" name=""/>
          <p:cNvGrpSpPr/>
          <p:nvPr/>
        </p:nvGrpSpPr>
        <p:grpSpPr>
          <a:xfrm>
            <a:off x="4456080" y="2232000"/>
            <a:ext cx="4206600" cy="2957400"/>
            <a:chOff x="4456080" y="2232000"/>
            <a:chExt cx="4206600" cy="2957400"/>
          </a:xfrm>
        </p:grpSpPr>
        <p:sp>
          <p:nvSpPr>
            <p:cNvPr id="1302" name=""/>
            <p:cNvSpPr/>
            <p:nvPr/>
          </p:nvSpPr>
          <p:spPr>
            <a:xfrm>
              <a:off x="5106960" y="2232000"/>
              <a:ext cx="2580120" cy="295740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784640" y="4617720"/>
              <a:ext cx="87804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erial outp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.g., 011010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273280" y="4538880"/>
              <a:ext cx="36684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6311520" y="4550400"/>
              <a:ext cx="36684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4456080" y="2349360"/>
              <a:ext cx="522720" cy="35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C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4978080" y="2520720"/>
              <a:ext cx="57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543640" y="2343600"/>
              <a:ext cx="857880" cy="400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Zero-bias adju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538240" y="2925360"/>
              <a:ext cx="857520" cy="286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5944320" y="2751480"/>
              <a:ext cx="111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543640" y="3388320"/>
              <a:ext cx="857880" cy="321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Quantiz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H="1">
              <a:off x="5955840" y="3213720"/>
              <a:ext cx="115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549400" y="3884760"/>
              <a:ext cx="857520" cy="321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rchive in 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5961240" y="3710160"/>
              <a:ext cx="111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583600" y="4354200"/>
              <a:ext cx="780480" cy="7801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ore 8×8 blocks?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978880" y="4212720"/>
              <a:ext cx="0" cy="13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5250240" y="4748760"/>
              <a:ext cx="332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 flipV="1">
              <a:off x="5244480" y="3111840"/>
              <a:ext cx="0" cy="163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250240" y="3106440"/>
              <a:ext cx="28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362280" y="4743720"/>
              <a:ext cx="43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802920" y="4550400"/>
              <a:ext cx="857520" cy="3834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ransmit seriall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 flipV="1">
              <a:off x="7666560" y="4720680"/>
              <a:ext cx="185760" cy="1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198200" y="3438360"/>
              <a:ext cx="36684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y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695640" y="3788280"/>
              <a:ext cx="36684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939720" y="3665880"/>
              <a:ext cx="660960" cy="62784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ne?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 flipV="1">
              <a:off x="7269120" y="4297680"/>
              <a:ext cx="0" cy="24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 flipV="1">
              <a:off x="7269120" y="2508120"/>
              <a:ext cx="0" cy="116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 flipH="1">
              <a:off x="6399720" y="2502360"/>
              <a:ext cx="86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 flipH="1">
              <a:off x="6868440" y="3987000"/>
              <a:ext cx="7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874200" y="3981240"/>
              <a:ext cx="0" cy="57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B69E9-2F03-4C35-9F47-4DDB775337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fined functional spec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257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ine informal specification into one that can actually be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C/C++ code to describe each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led system-level model, prototype, or simply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so is first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provide insight into operations of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iling can find computationally intensive fun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btain sample output used to verify correctness of final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5251320" y="2509920"/>
            <a:ext cx="3143520" cy="2771640"/>
            <a:chOff x="5251320" y="2509920"/>
            <a:chExt cx="3143520" cy="2771640"/>
          </a:xfrm>
        </p:grpSpPr>
        <p:sp>
          <p:nvSpPr>
            <p:cNvPr id="1334" name=""/>
            <p:cNvSpPr/>
            <p:nvPr/>
          </p:nvSpPr>
          <p:spPr>
            <a:xfrm>
              <a:off x="5251320" y="3553920"/>
              <a:ext cx="74556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mage fi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257080" y="2644920"/>
              <a:ext cx="728280" cy="97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1011010110101010010101101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6341040" y="2509920"/>
              <a:ext cx="936720" cy="50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CD.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991120" y="2752920"/>
              <a:ext cx="35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6356880" y="3858840"/>
              <a:ext cx="959400" cy="50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NTRL.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6368400" y="4615200"/>
              <a:ext cx="936720" cy="50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UART.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649280" y="4982400"/>
              <a:ext cx="745560" cy="299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utput fi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655040" y="4073400"/>
              <a:ext cx="728280" cy="97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10101010101010101010101010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7305840" y="4852800"/>
              <a:ext cx="35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7655760" y="4072680"/>
              <a:ext cx="84240" cy="8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 flipV="1">
              <a:off x="5257440" y="2638800"/>
              <a:ext cx="84240" cy="8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351920" y="3180960"/>
              <a:ext cx="975960" cy="50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DEC.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6373800" y="3182400"/>
              <a:ext cx="936720" cy="50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CDPP.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6837840" y="3005640"/>
              <a:ext cx="0" cy="1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6831360" y="4361040"/>
              <a:ext cx="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6837840" y="3677760"/>
              <a:ext cx="0" cy="1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7188120" y="3609720"/>
              <a:ext cx="309600" cy="321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1" name=""/>
          <p:cNvSpPr/>
          <p:nvPr/>
        </p:nvSpPr>
        <p:spPr>
          <a:xfrm>
            <a:off x="5626080" y="2019240"/>
            <a:ext cx="2552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Executable model of digital cam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2337E-1A8F-4BCC-BECF-2AA23E18B25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 to a simple digital cam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er’s persp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ments spec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ig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implemen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CB0E4-30EC-40C4-A2CB-CD871A3D8A0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CD mo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177840" y="1523520"/>
            <a:ext cx="387360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ates real C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cdInitializ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s passed name of image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cdCaptur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reads “image” from 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cdPopPixel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utputs pixels one at a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254160" y="4146480"/>
            <a:ext cx="3763800" cy="185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har CcdPopPixel(void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har pixe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ixel = buffer[rowIndex][colIndex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f( ++colIndex == SZ_COL 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lIndex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f( ++rowIndex == SZ_ROW 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lIndex = -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wIndex = -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pixe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254160" y="2760840"/>
            <a:ext cx="3759120" cy="13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define SZ_ROW       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define SZ_COL      (64 + 2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tic FILE *imageFileHandl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tic char buffer[SZ_ROW][SZ_COL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tic unsigned rowIndex, colInde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4140360" y="1846440"/>
            <a:ext cx="4698720" cy="107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CcdInitialize(const char *imageFileNam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mageFileHandle = fopen(imageFileName, "r"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wIndex = -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lIndex = -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4140360" y="3110040"/>
            <a:ext cx="4736880" cy="293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CcdCapture(void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pixe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wind(imageFileHandl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rowIndex=0; rowIndex&lt;SZ_ROW; rowIndex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colIndex=0; colIndex&lt;SZ_COL; colIndex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f( fscanf(imageFileHandle, "%i", &amp;pixel) == 1 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uffer[rowIndex][colIndex] = (char)pixe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wIndex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lIndex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16185-FC51-4E8E-B239-0F21D39BD50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CDPP (CCD PreProcessing) mo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215640" y="1523520"/>
            <a:ext cx="5499000" cy="111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forms zero-bias adjust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cdppCaptu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use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cdCaptur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CcdPopPixe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o obtain im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forms zero-bias adjustment after each row read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1054080" y="1065240"/>
            <a:ext cx="4398840" cy="477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5765760" y="1467000"/>
            <a:ext cx="3098880" cy="84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#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fine SZ_ROW      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define SZ_COL      6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tic char buffer[SZ_ROW][SZ_COL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tic unsigned rowIndex, colInde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765760" y="2394000"/>
            <a:ext cx="3111480" cy="84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CcdppInitializ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wIndex = -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lIndex = -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71680" y="2689200"/>
            <a:ext cx="4572000" cy="339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CcdppCapture(void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har bia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cdCaptur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rowIndex=0; rowIndex&lt;SZ_ROW; rowIndex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colIndex=0; colIndex&lt;SZ_COL; colIndex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uffer[rowIndex][colIndex] = CcdPopPixel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ias = (CcdPopPixel() + CcdPopPixel()) / 2;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or(colIndex=0; colIndex&lt;SZ_COL; colIndex++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buffer[rowIndex][colIndex] -= bia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wIndex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lIndex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5765760" y="3365640"/>
            <a:ext cx="3124080" cy="269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har CcdppPopPixel(void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har pixe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ixel = buffer[rowIndex][colIndex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f( ++colIndex == SZ_COL 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lIndex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f( ++rowIndex == SZ_ROW 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olIndex = -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owIndex = -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pixel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0C6EFA-E558-4147-A7AF-79D08D8AA1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ART mo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38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ually a half U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ly transmits, does not rece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artInitializ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s passed name of file to output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UartSend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transmits (writes to output file) bytes at a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2324160" y="4214880"/>
            <a:ext cx="4170240" cy="136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#include &lt;stdio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tatic FILE *outputFileHandl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UartInitialize(const char *outputFileNam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outputFileHandle = fopen(outputFileName, "w"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UartSend(char d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printf(outputFileHandle, "%i\n", (int)d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0F651-F7B9-4A21-BD3C-3649BA74351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C mo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/>
          </p:nvPr>
        </p:nvSpPr>
        <p:spPr>
          <a:xfrm>
            <a:off x="380520" y="1780920"/>
            <a:ext cx="4457880" cy="40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s FDCT en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buff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olds original 8 x 8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buff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olds encoded 8 x 8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decPushPixe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64 times to fill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buffer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original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decDoFdc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alled once to transform 8 x 8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lained in next sl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odecPopPixel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64 times to retrieve encoded block from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o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5162400" y="1603440"/>
            <a:ext cx="3486240" cy="4425120"/>
            <a:chOff x="5162400" y="1603440"/>
            <a:chExt cx="3486240" cy="4425120"/>
          </a:xfrm>
        </p:grpSpPr>
        <p:sp>
          <p:nvSpPr>
            <p:cNvPr id="1371" name=""/>
            <p:cNvSpPr/>
            <p:nvPr/>
          </p:nvSpPr>
          <p:spPr>
            <a:xfrm>
              <a:off x="5165640" y="1603440"/>
              <a:ext cx="3473640" cy="540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static short ibuffer[8][8], obuffer[8][8], idx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void CodecInitialize(void) { idx = 0; }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172120" y="3321000"/>
              <a:ext cx="3476520" cy="151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void CodecDoFdct(void) {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int x, y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for(x=0; x&lt;8; x++) {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for(y=0; y&lt;8; y++)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obuffer[x][y] = FDCT(x, y, ibuffer)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2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idx = 0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2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162400" y="2397240"/>
              <a:ext cx="3476880" cy="76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void CodecPushPixel(short p) {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if( idx == 64 ) idx = 0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ibuffer[idx / 8][idx % 8] = p; idx++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172120" y="4925880"/>
              <a:ext cx="3476520" cy="110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short CodecPopPixel(void) {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short p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if( idx == 64 ) idx = 0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p = obuffer[idx / 8][idx % 8]; idx++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2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return p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2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4D4CB-E115-4E78-89EB-E386F72E662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C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123840" y="1504440"/>
            <a:ext cx="3905280" cy="288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lementing FDCT formu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(h) = if (h == 0) then 1/sqrt(2) else 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(u,v) = ¼ x C(u) x C(v)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..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..7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(π(2u + 1)u/16) x cos(π(2y + 1)v/1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64 possible inputs to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o table can be used to save performanc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oating-point values multiplied by 32,678 and rounded to nearest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2,678 chosen in order to store each value in 2 bytes of 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xed-point representation explained more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DC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rolls inner loop of summation, implements outer summation as two consecutive for loop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4105440" y="1805040"/>
            <a:ext cx="4813200" cy="2013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tatic const short COS_TABLE[8][8] = 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{ 32768,  32138,  30273,  27245,  23170,  18204,  12539,   6392 }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{ 32768,  27245,  12539,  -6392, -23170, -32138, -30273, -18204 }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{ 32768,  18204, -12539, -32138, -23170,   6392,  30273,  27245 }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{ 32768,   6392, -30273, -18204,  23170,  27245, -12539, -32138 }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{ 32768,  -6392, -30273,  18204,  23170, -27245, -12539,  32138 }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{ 32768, -18204, -12539,  32138, -23170,  -6392,  30273, -27245 }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{ 32768, -27245,  12539,   6392, -23170,  32138, -30273,  18204 }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{ 32768, -32138,  30273, -27245,  23170, -18204,  12539,  -6392 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4098960" y="3871800"/>
            <a:ext cx="4829040" cy="2221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tatic int FDCT(int u, int v, short img[8][8]) 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ouble s[8], r = 0; int x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(x=0; x&lt;8; x++) 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[x] = img[x][0] * COS(0, v) + img[x][1] * COS(1, v) +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g[x][2] * COS(2, v) + img[x][3] * COS(3, v) +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g[x][4] * COS(4, v) + img[x][5] * COS(5, v) +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mg[x][6] * COS(6, v) + img[x][7] * COS(7, v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(x=0; x&lt;8; x++) r += s[x] * COS(x, u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(short)(r * .25 * C(u) * C(v)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307800" y="4540320"/>
            <a:ext cx="3695760" cy="152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tatic short ONE_OVER_SQRT_TWO = 23170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tatic double COS(int xy, int uv) {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COS_TABLE[xy][uv] / 32768.0;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tatic double C(int h) {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h ? 1.0 : ONE_OVER_SQRT_TWO / 32768.0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0DAD8-4C33-4767-A671-AD155C187FA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NTRL (controller) mo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199800" y="1456920"/>
            <a:ext cx="3933720" cy="21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art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ntrlInitializ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for consistency with other module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ntrlCaptureIm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uses CCDPP module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input image and place in buff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ntrlCompressIm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breaks the 64 x 64 buffer into 8 x 8 blocks and performs FDCT on each block using the CODEC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so performs quantization on each blo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ntrlSendImag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ransmits encoded image serially using UART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2" name=""/>
          <p:cNvGrpSpPr/>
          <p:nvPr/>
        </p:nvGrpSpPr>
        <p:grpSpPr>
          <a:xfrm>
            <a:off x="314280" y="1623960"/>
            <a:ext cx="8582040" cy="4445640"/>
            <a:chOff x="314280" y="1623960"/>
            <a:chExt cx="8582040" cy="4445640"/>
          </a:xfrm>
        </p:grpSpPr>
        <p:sp>
          <p:nvSpPr>
            <p:cNvPr id="1383" name=""/>
            <p:cNvSpPr/>
            <p:nvPr/>
          </p:nvSpPr>
          <p:spPr>
            <a:xfrm>
              <a:off x="4238640" y="1623960"/>
              <a:ext cx="4648320" cy="121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void CntrlSendImage(void) {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for(i=0; i&lt;SZ_ROW; i++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for(j=0; j&lt;SZ_COL; j++) {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temp = buffer[i][j]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UartSend(((char*)&amp;temp)[0]);    /* send upper byte *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UartSend(((char*)&amp;temp)[1]);    /* send lower byte *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} 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6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14280" y="4859280"/>
              <a:ext cx="3781440" cy="11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#define SZ_ROW          6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#define SZ_COL          6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#define NUM_ROW_BLOCKS  (SZ_ROW / 8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#define NUM_COL_BLOCKS  (SZ_COL / 8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static short buffer[SZ_ROW][SZ_COL], i, j, k, l, temp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void CntrlInitialize(void) {}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14280" y="3621240"/>
              <a:ext cx="3781440" cy="117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void CntrlCaptureImage(void) {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CcdppCapture()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for(i=0; i&lt;SZ_ROW; i++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for(j=0; j&lt;SZ_COL; j++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buffer[i][j] = CcdppPopPixel()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238640" y="2921040"/>
              <a:ext cx="4657680" cy="3148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void CntrlCompressImage(void) {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for(i=0; i&lt;NUM_ROW_BLOCKS; i++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for(j=0; j&lt;NUM_COL_BLOCKS; j++) {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for(k=0; k&lt;8; k++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for(l=0; l&lt;8; l++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CodecPushPixel(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(char)buffer[i * 8 + k][j * 8 + l])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CodecDoFdct();/* part 1 - FDCT *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for(k=0; k&lt;8; k++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for(l=0; l&lt;8; l++) {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buffer[i * 8 + k][j * 8 + l] = CodecPopPixel()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/* part 2 - quantization *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buffer[i*8+k][j*8+l] &gt;&gt;= 6;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2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    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2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2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74CDC-D416-4C18-826F-5F48CC58168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933480" y="1790640"/>
            <a:ext cx="7238880" cy="20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ain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es all modules, then uses CNTRL module to capture, compress, and transmit one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system-level model can be used for extensive experi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gs much easier to correct here rather than in later mod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1990800" y="3659040"/>
            <a:ext cx="5010120" cy="208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main(int argc, char *argv[]) 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har *uartOutputFileName = argc &gt; 1 ? argv[1] : "uart_out.txt"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har *imageFileName = argc &gt; 2 ? argv[2] : "image.txt"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* initialize the modules *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UartInitialize(uartOutputFileName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cdInitialize(imageFileName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cdppInitialize(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odecInitialize(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ntrlInitialize(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* simulate functionality *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ntrlCaptureImage(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ntrlCompressImage(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ntrlSendImage(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039E3-610C-4ABE-BD25-6F6515483CC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termine system’s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y combination of single-purpose (custom or standard) or general-purpose process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mories, bu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p functionality to that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ple functions on one 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 function on one or more 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particular architecture and mapp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lution space is set of all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rting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-end general-purpose processor connected to flash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functionality mapped to software running on 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ually satisfies power, size, and time-to-market constrai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f timing constraint not satisfied then later implementations coul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e single-purpose processors for time-critical fun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write functional specif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79AF4-C716-46CE-AFF5-6C1D3BF8D27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lementation 1: Microcontroller al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399600" y="1504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-end processor could be Intel 8051 microcontro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IC cost including NRE about $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ll below 200 mW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-to-market about 3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ever, one image per second not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 MHz, 12 cycles per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cutes one million instructions per sec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cdppCaptu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has nested loops resulting in 4096 (64 x 64) it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~100 assembly instructions each it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9,000 (4096 x 100) instructions per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lf of budget for reading image al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uld be over budget after adding compute-intensive DCT and Huffman enco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4272E-3EF7-4EE8-BA99-DA07891BA6E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lementation 2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rocontroller and CCDP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361800" y="3190680"/>
            <a:ext cx="8382240" cy="285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CDPP function implemented on custom single-purpose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roves performance – less microcontroller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es NRE cost and time-to-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imp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ple data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w states in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UART easy to implement as single-purpose processor al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EPROM for program memory and RAM for data memory added as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2230560" y="1501920"/>
            <a:ext cx="4052880" cy="1577880"/>
            <a:chOff x="2230560" y="1501920"/>
            <a:chExt cx="4052880" cy="1577880"/>
          </a:xfrm>
        </p:grpSpPr>
        <p:sp>
          <p:nvSpPr>
            <p:cNvPr id="1397" name=""/>
            <p:cNvSpPr/>
            <p:nvPr/>
          </p:nvSpPr>
          <p:spPr>
            <a:xfrm>
              <a:off x="2230560" y="1511280"/>
              <a:ext cx="4052880" cy="1416240"/>
            </a:xfrm>
            <a:prstGeom prst="parallelogram">
              <a:avLst>
                <a:gd name="adj" fmla="val 71543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092480" y="1700280"/>
              <a:ext cx="860400" cy="338040"/>
            </a:xfrm>
            <a:prstGeom prst="parallelogram">
              <a:avLst>
                <a:gd name="adj" fmla="val 6363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805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279600" y="2386080"/>
              <a:ext cx="858960" cy="338040"/>
            </a:xfrm>
            <a:prstGeom prst="parallelogram">
              <a:avLst>
                <a:gd name="adj" fmla="val 6352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UA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352760" y="2416320"/>
              <a:ext cx="908280" cy="338040"/>
            </a:xfrm>
            <a:prstGeom prst="parallelogram">
              <a:avLst>
                <a:gd name="adj" fmla="val 6717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CDP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4962600" y="1692360"/>
              <a:ext cx="858600" cy="336600"/>
            </a:xfrm>
            <a:prstGeom prst="parallelogram">
              <a:avLst>
                <a:gd name="adj" fmla="val 6377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3009960" y="1685880"/>
              <a:ext cx="1096920" cy="336600"/>
            </a:xfrm>
            <a:prstGeom prst="parallelogram">
              <a:avLst>
                <a:gd name="adj" fmla="val 8147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EPRO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89200" y="2479680"/>
              <a:ext cx="520560" cy="382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O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3498840" y="2203560"/>
              <a:ext cx="21528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 flipV="1">
              <a:off x="3876840" y="2197080"/>
              <a:ext cx="9972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 flipV="1">
              <a:off x="5011560" y="2217240"/>
              <a:ext cx="9864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V="1">
              <a:off x="5310360" y="2030400"/>
              <a:ext cx="9972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 flipV="1">
              <a:off x="4492800" y="2030400"/>
              <a:ext cx="9828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962520" y="1844640"/>
              <a:ext cx="250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470320" y="292752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554200" y="2927520"/>
              <a:ext cx="18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638440" y="292752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724120" y="292752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2808360" y="292752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892600" y="292752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978280" y="292752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062160" y="2927520"/>
              <a:ext cx="18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146400" y="293544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3232080" y="2935440"/>
              <a:ext cx="18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316320" y="293544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402000" y="293544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484440" y="2935440"/>
              <a:ext cx="18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570120" y="2935440"/>
              <a:ext cx="18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654360" y="2935440"/>
              <a:ext cx="18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740040" y="2935440"/>
              <a:ext cx="18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824280" y="293544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3908520" y="293544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3992400" y="2935440"/>
              <a:ext cx="18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078440" y="293544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162320" y="2935440"/>
              <a:ext cx="18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246560" y="293544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332240" y="2935440"/>
              <a:ext cx="18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4416480" y="293544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4500720" y="293544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4586400" y="293544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4670280" y="2935440"/>
              <a:ext cx="18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4756320" y="293544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4840200" y="2935440"/>
              <a:ext cx="18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924440" y="293544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008680" y="293544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094360" y="2935440"/>
              <a:ext cx="14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173560" y="2935440"/>
              <a:ext cx="18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205680" y="1625760"/>
              <a:ext cx="468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3397320" y="2724120"/>
              <a:ext cx="115920" cy="189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4413240" y="2746440"/>
              <a:ext cx="93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4492800" y="2762280"/>
              <a:ext cx="9360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4576680" y="2762280"/>
              <a:ext cx="9360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4662360" y="2760840"/>
              <a:ext cx="9216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>
              <a:off x="4746600" y="2760840"/>
              <a:ext cx="9360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 flipH="1">
              <a:off x="4830840" y="2752560"/>
              <a:ext cx="93600" cy="1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 flipH="1">
              <a:off x="3459240" y="1501920"/>
              <a:ext cx="9360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 flipH="1">
              <a:off x="3538440" y="1509840"/>
              <a:ext cx="9360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3624120" y="1509840"/>
              <a:ext cx="9216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29E36-2E7E-4CA4-8137-1E229265F85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tting it all toge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-purpose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-purpose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nowledge applied to designing a simple digital came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-purpose vs. single-purpose 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ing of functionality among different processor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DD8A6-9E91-4199-B402-A1DC5B58A1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rocontro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753080" cy="450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nthesizable version of Intel 8051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ritten in VHD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ptured at register transfer level (RT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tches instruction from R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odes using Instruction Deco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 executes arithmetic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and destination registers reside in 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al data movement instructions used to load and store extern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ecial program generates VHDL description of ROM from output of C compiler/lin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6" name=""/>
          <p:cNvGrpSpPr/>
          <p:nvPr/>
        </p:nvGrpSpPr>
        <p:grpSpPr>
          <a:xfrm>
            <a:off x="5299200" y="2448000"/>
            <a:ext cx="3555720" cy="2022480"/>
            <a:chOff x="5299200" y="2448000"/>
            <a:chExt cx="3555720" cy="2022480"/>
          </a:xfrm>
        </p:grpSpPr>
        <p:grpSp>
          <p:nvGrpSpPr>
            <p:cNvPr id="1457" name=""/>
            <p:cNvGrpSpPr/>
            <p:nvPr/>
          </p:nvGrpSpPr>
          <p:grpSpPr>
            <a:xfrm>
              <a:off x="5299200" y="2827440"/>
              <a:ext cx="3555720" cy="1643040"/>
              <a:chOff x="5299200" y="2827440"/>
              <a:chExt cx="3555720" cy="1643040"/>
            </a:xfrm>
          </p:grpSpPr>
          <p:sp>
            <p:nvSpPr>
              <p:cNvPr id="1458" name=""/>
              <p:cNvSpPr/>
              <p:nvPr/>
            </p:nvSpPr>
            <p:spPr>
              <a:xfrm>
                <a:off x="6319440" y="4233600"/>
                <a:ext cx="1535400" cy="23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To External Memory Bu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299200" y="2827440"/>
                <a:ext cx="3555720" cy="1298880"/>
              </a:xfrm>
              <a:prstGeom prst="rect">
                <a:avLst/>
              </a:prstGeom>
              <a:solidFill>
                <a:srgbClr val="ffffff"/>
              </a:solidFill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732000" y="3024720"/>
                <a:ext cx="734400" cy="840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ontroll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7923600" y="2905920"/>
                <a:ext cx="734400" cy="349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4K RO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7934400" y="3502440"/>
                <a:ext cx="734400" cy="40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28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RA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468040" y="2923920"/>
                <a:ext cx="79668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Instruction Deco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479200" y="3561480"/>
                <a:ext cx="796680" cy="349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AL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7460640" y="3075480"/>
                <a:ext cx="45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7471440" y="3736080"/>
                <a:ext cx="45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6263640" y="3098520"/>
                <a:ext cx="45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6280560" y="3730680"/>
                <a:ext cx="45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7082640" y="3866400"/>
                <a:ext cx="0" cy="40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0" name=""/>
            <p:cNvSpPr/>
            <p:nvPr/>
          </p:nvSpPr>
          <p:spPr>
            <a:xfrm>
              <a:off x="5476680" y="2448000"/>
              <a:ext cx="3209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Block diagram of Intel 8051 processor co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5C4A0-A767-4D68-AC64-433548530FD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5810400" cy="456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ART in idle mode until invo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ART invoked when 8051 executes store instruction with UART’s enable register as target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mory-mapped communication between 8051 and all single-purpose process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er 8-bits of memory address for 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per 8-bits of memory address for memory-mapped I/O de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state transmits 0 indicating start of byte transmission then transitions to Data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state sends 8 bits serially then transitions to Stop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p state transmits 1 indicating transmission done then transitions back to idle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7399440" y="2857680"/>
            <a:ext cx="560160" cy="2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nvok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7377120" y="4172040"/>
            <a:ext cx="474480" cy="24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 =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7469280" y="3262320"/>
            <a:ext cx="458640" cy="230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 &lt; 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622920" y="2951280"/>
            <a:ext cx="586080" cy="453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Times New Roman"/>
              </a:rPr>
              <a:t>Idle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 = 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7983360" y="2792520"/>
            <a:ext cx="812880" cy="623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tart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: Transmit LO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7886880" y="3546360"/>
            <a:ext cx="898200" cy="847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Data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: Transmit data(I), then I++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505560" y="3622680"/>
            <a:ext cx="801720" cy="63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</a:rPr>
              <a:t>Stop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: Transmit HIG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7175520" y="4178160"/>
            <a:ext cx="750960" cy="239760"/>
          </a:xfrm>
          <a:custGeom>
            <a:avLst/>
            <a:gdLst/>
            <a:ahLst/>
            <a:rect l="l" t="t" r="r" b="b"/>
            <a:pathLst>
              <a:path w="1182" h="378">
                <a:moveTo>
                  <a:pt x="1182" y="27"/>
                </a:moveTo>
                <a:cubicBezTo>
                  <a:pt x="1040" y="202"/>
                  <a:pt x="899" y="378"/>
                  <a:pt x="702" y="374"/>
                </a:cubicBezTo>
                <a:cubicBezTo>
                  <a:pt x="505" y="370"/>
                  <a:pt x="252" y="185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638760" y="3359160"/>
            <a:ext cx="90720" cy="312840"/>
          </a:xfrm>
          <a:custGeom>
            <a:avLst/>
            <a:gdLst/>
            <a:ahLst/>
            <a:rect l="l" t="t" r="r" b="b"/>
            <a:pathLst>
              <a:path w="179" h="622">
                <a:moveTo>
                  <a:pt x="179" y="622"/>
                </a:moveTo>
                <a:cubicBezTo>
                  <a:pt x="90" y="545"/>
                  <a:pt x="2" y="469"/>
                  <a:pt x="1" y="365"/>
                </a:cubicBezTo>
                <a:cubicBezTo>
                  <a:pt x="0" y="261"/>
                  <a:pt x="85" y="130"/>
                  <a:pt x="17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7192800" y="2828880"/>
            <a:ext cx="828720" cy="282600"/>
          </a:xfrm>
          <a:custGeom>
            <a:avLst/>
            <a:gdLst/>
            <a:ahLst/>
            <a:rect l="l" t="t" r="r" b="b"/>
            <a:pathLst>
              <a:path w="1378" h="454">
                <a:moveTo>
                  <a:pt x="0" y="454"/>
                </a:moveTo>
                <a:cubicBezTo>
                  <a:pt x="254" y="263"/>
                  <a:pt x="508" y="72"/>
                  <a:pt x="738" y="36"/>
                </a:cubicBezTo>
                <a:cubicBezTo>
                  <a:pt x="968" y="0"/>
                  <a:pt x="1173" y="120"/>
                  <a:pt x="1378" y="24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8707320" y="3343320"/>
            <a:ext cx="46080" cy="390600"/>
          </a:xfrm>
          <a:custGeom>
            <a:avLst/>
            <a:gdLst/>
            <a:ahLst/>
            <a:rect l="l" t="t" r="r" b="b"/>
            <a:pathLst>
              <a:path w="288" h="827">
                <a:moveTo>
                  <a:pt x="18" y="0"/>
                </a:moveTo>
                <a:cubicBezTo>
                  <a:pt x="153" y="86"/>
                  <a:pt x="288" y="173"/>
                  <a:pt x="285" y="311"/>
                </a:cubicBezTo>
                <a:cubicBezTo>
                  <a:pt x="282" y="449"/>
                  <a:pt x="141" y="638"/>
                  <a:pt x="0" y="827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7715160" y="3438360"/>
            <a:ext cx="317520" cy="378000"/>
          </a:xfrm>
          <a:custGeom>
            <a:avLst/>
            <a:gdLst/>
            <a:ahLst/>
            <a:rect l="l" t="t" r="r" b="b"/>
            <a:pathLst>
              <a:path w="668" h="828">
                <a:moveTo>
                  <a:pt x="446" y="828"/>
                </a:moveTo>
                <a:cubicBezTo>
                  <a:pt x="223" y="469"/>
                  <a:pt x="0" y="110"/>
                  <a:pt x="37" y="55"/>
                </a:cubicBezTo>
                <a:cubicBezTo>
                  <a:pt x="74" y="0"/>
                  <a:pt x="371" y="250"/>
                  <a:pt x="668" y="5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6581880" y="2409840"/>
            <a:ext cx="2171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FSMD description of U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8A527-C7FE-4965-8B5A-40B6A3BA21C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CDP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171360" y="1523520"/>
            <a:ext cx="523872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ware implementation of zero-bias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acts with external CCD chi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CD chip resides external to our SOC mainly because combining CCD with ordinary logic not fea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l buffer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memory-mapped to 805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bles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are buffer’s row, column ind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tRow state reads in one row from CCD to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6 bytes: 64 pixels + 2 blacked-out pixe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uteBias state computes bias for that row and stores in variable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Bias state iterates over same row subtracting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Bias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from each el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xtRow transitions to GetRow for repeat of process on next row or to Idle state when all 64 rows comp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8" name=""/>
          <p:cNvGrpSpPr/>
          <p:nvPr/>
        </p:nvGrpSpPr>
        <p:grpSpPr>
          <a:xfrm>
            <a:off x="5470560" y="2428920"/>
            <a:ext cx="3421080" cy="2663640"/>
            <a:chOff x="5470560" y="2428920"/>
            <a:chExt cx="3421080" cy="2663640"/>
          </a:xfrm>
        </p:grpSpPr>
        <p:sp>
          <p:nvSpPr>
            <p:cNvPr id="1489" name=""/>
            <p:cNvSpPr/>
            <p:nvPr/>
          </p:nvSpPr>
          <p:spPr>
            <a:xfrm>
              <a:off x="5821200" y="4730760"/>
              <a:ext cx="525600" cy="23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 = 6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010280" y="4051440"/>
              <a:ext cx="525600" cy="23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 &lt; 6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705640" y="3522600"/>
              <a:ext cx="703080" cy="23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 = 6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8223120" y="3470400"/>
              <a:ext cx="525600" cy="23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 = 6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602400" y="2884320"/>
              <a:ext cx="571680" cy="23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vok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534000" y="3821040"/>
              <a:ext cx="668520" cy="23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 &lt; 6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8346960" y="2765520"/>
              <a:ext cx="525600" cy="231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 &lt; 6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919840" y="2873520"/>
              <a:ext cx="576360" cy="625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Idle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=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=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7315200" y="2789280"/>
              <a:ext cx="1057320" cy="681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GetRow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[R][C]=Px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=C+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7574040" y="3745080"/>
              <a:ext cx="1317600" cy="838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ComputeBias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ias=(B[R][11] + B[R][10]) / 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=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470560" y="3979800"/>
              <a:ext cx="947880" cy="628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NextRow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++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=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450120" y="4427640"/>
              <a:ext cx="1539720" cy="664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FixBias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[R][C]=B[R][C]-Bi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473880" y="3108240"/>
              <a:ext cx="852480" cy="77760"/>
            </a:xfrm>
            <a:custGeom>
              <a:avLst/>
              <a:gdLst/>
              <a:ahLst/>
              <a:rect l="l" t="t" r="r" b="b"/>
              <a:pathLst>
                <a:path w="1342" h="122">
                  <a:moveTo>
                    <a:pt x="0" y="86"/>
                  </a:moveTo>
                  <a:cubicBezTo>
                    <a:pt x="190" y="43"/>
                    <a:pt x="380" y="0"/>
                    <a:pt x="604" y="6"/>
                  </a:cubicBezTo>
                  <a:cubicBezTo>
                    <a:pt x="828" y="12"/>
                    <a:pt x="1085" y="67"/>
                    <a:pt x="1342" y="12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8074080" y="3463920"/>
              <a:ext cx="245880" cy="284040"/>
            </a:xfrm>
            <a:custGeom>
              <a:avLst/>
              <a:gdLst/>
              <a:ahLst/>
              <a:rect l="l" t="t" r="r" b="b"/>
              <a:pathLst>
                <a:path w="490" h="622">
                  <a:moveTo>
                    <a:pt x="0" y="0"/>
                  </a:moveTo>
                  <a:cubicBezTo>
                    <a:pt x="190" y="59"/>
                    <a:pt x="380" y="118"/>
                    <a:pt x="435" y="222"/>
                  </a:cubicBezTo>
                  <a:cubicBezTo>
                    <a:pt x="490" y="326"/>
                    <a:pt x="409" y="474"/>
                    <a:pt x="329" y="62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970760" y="4613400"/>
              <a:ext cx="324000" cy="225360"/>
            </a:xfrm>
            <a:custGeom>
              <a:avLst/>
              <a:gdLst/>
              <a:ahLst/>
              <a:rect l="l" t="t" r="r" b="b"/>
              <a:pathLst>
                <a:path w="590" h="560">
                  <a:moveTo>
                    <a:pt x="506" y="0"/>
                  </a:moveTo>
                  <a:cubicBezTo>
                    <a:pt x="548" y="131"/>
                    <a:pt x="590" y="262"/>
                    <a:pt x="506" y="355"/>
                  </a:cubicBezTo>
                  <a:cubicBezTo>
                    <a:pt x="422" y="448"/>
                    <a:pt x="211" y="504"/>
                    <a:pt x="0" y="5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130800" y="4618080"/>
              <a:ext cx="331920" cy="231840"/>
            </a:xfrm>
            <a:custGeom>
              <a:avLst/>
              <a:gdLst/>
              <a:ahLst/>
              <a:rect l="l" t="t" r="r" b="b"/>
              <a:pathLst>
                <a:path w="791" h="492">
                  <a:moveTo>
                    <a:pt x="791" y="444"/>
                  </a:moveTo>
                  <a:cubicBezTo>
                    <a:pt x="612" y="468"/>
                    <a:pt x="434" y="492"/>
                    <a:pt x="302" y="418"/>
                  </a:cubicBezTo>
                  <a:cubicBezTo>
                    <a:pt x="170" y="344"/>
                    <a:pt x="85" y="172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5713560" y="3360600"/>
              <a:ext cx="269640" cy="603360"/>
            </a:xfrm>
            <a:custGeom>
              <a:avLst/>
              <a:gdLst/>
              <a:ahLst/>
              <a:rect l="l" t="t" r="r" b="b"/>
              <a:pathLst>
                <a:path w="407" h="942">
                  <a:moveTo>
                    <a:pt x="407" y="942"/>
                  </a:moveTo>
                  <a:cubicBezTo>
                    <a:pt x="210" y="763"/>
                    <a:pt x="14" y="584"/>
                    <a:pt x="7" y="427"/>
                  </a:cubicBezTo>
                  <a:cubicBezTo>
                    <a:pt x="0" y="270"/>
                    <a:pt x="181" y="135"/>
                    <a:pt x="362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315120" y="3456000"/>
              <a:ext cx="1324080" cy="631800"/>
            </a:xfrm>
            <a:custGeom>
              <a:avLst/>
              <a:gdLst/>
              <a:ahLst/>
              <a:rect l="l" t="t" r="r" b="b"/>
              <a:pathLst>
                <a:path w="2018" h="960">
                  <a:moveTo>
                    <a:pt x="0" y="960"/>
                  </a:moveTo>
                  <a:cubicBezTo>
                    <a:pt x="556" y="902"/>
                    <a:pt x="1113" y="845"/>
                    <a:pt x="1449" y="685"/>
                  </a:cubicBezTo>
                  <a:cubicBezTo>
                    <a:pt x="1785" y="525"/>
                    <a:pt x="1901" y="262"/>
                    <a:pt x="201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958080" y="4226040"/>
              <a:ext cx="417600" cy="214200"/>
            </a:xfrm>
            <a:custGeom>
              <a:avLst/>
              <a:gdLst/>
              <a:ahLst/>
              <a:rect l="l" t="t" r="r" b="b"/>
              <a:pathLst>
                <a:path w="658" h="558">
                  <a:moveTo>
                    <a:pt x="0" y="558"/>
                  </a:moveTo>
                  <a:cubicBezTo>
                    <a:pt x="56" y="286"/>
                    <a:pt x="113" y="14"/>
                    <a:pt x="223" y="7"/>
                  </a:cubicBezTo>
                  <a:cubicBezTo>
                    <a:pt x="333" y="0"/>
                    <a:pt x="495" y="256"/>
                    <a:pt x="658" y="5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8327880" y="2987640"/>
              <a:ext cx="322560" cy="181080"/>
            </a:xfrm>
            <a:custGeom>
              <a:avLst/>
              <a:gdLst/>
              <a:ahLst/>
              <a:rect l="l" t="t" r="r" b="b"/>
              <a:pathLst>
                <a:path w="508" h="286">
                  <a:moveTo>
                    <a:pt x="0" y="0"/>
                  </a:moveTo>
                  <a:cubicBezTo>
                    <a:pt x="245" y="3"/>
                    <a:pt x="490" y="7"/>
                    <a:pt x="499" y="55"/>
                  </a:cubicBezTo>
                  <a:cubicBezTo>
                    <a:pt x="508" y="103"/>
                    <a:pt x="281" y="194"/>
                    <a:pt x="55" y="28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867280" y="2428920"/>
              <a:ext cx="2638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SMD description of CCDP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7A01B-260F-44CB-9E40-6973A204704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necting SOC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361800" y="1418760"/>
            <a:ext cx="8382240" cy="461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-mapp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single-purpose processors and RAM are connected to 8051’s memory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or places address on 16-bit address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rts read control signal for 1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s data from 8-bit data bus 1 cycle la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ice (RAM or SPP) detects asserted read control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cks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ces and holds requested data on data bus for 1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or places address and data on address and data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rts write control signal for 1 clock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ice (RAM or SPP) detects asserted write control sign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cks address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s and stores data from data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41AA5A-B50A-423F-8C58-36AE824D86E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/>
          </p:nvPr>
        </p:nvSpPr>
        <p:spPr>
          <a:xfrm>
            <a:off x="371160" y="1400040"/>
            <a:ext cx="8381880" cy="28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stem-level model provides majority of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ule hierarchy, procedure names, and main program unchang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de for UART and CCDPP modules must be redesig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ply replace with memory assign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xda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used to load/store variables over external memory 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_at_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pecifies memory address to store these vari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yte sent to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_TX_REG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y processor will invoke U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U_STAT_REG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used by UART to indicate its ready for next by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ART may be much slower than 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ilar modification for CCDPP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other modules untouc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5208480" y="4438800"/>
            <a:ext cx="3646440" cy="1578960"/>
            <a:chOff x="5208480" y="4438800"/>
            <a:chExt cx="3646440" cy="1578960"/>
          </a:xfrm>
        </p:grpSpPr>
        <p:sp>
          <p:nvSpPr>
            <p:cNvPr id="1515" name=""/>
            <p:cNvSpPr/>
            <p:nvPr/>
          </p:nvSpPr>
          <p:spPr>
            <a:xfrm>
              <a:off x="5208480" y="4686120"/>
              <a:ext cx="3646440" cy="133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static unsigned char xdata U_TX_REG _at_ 65535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static unsigned char xdata U_STAT_REG _at_ 65534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void UARTInitialize(void) {}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void UARTSend(unsigned char d) {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while( U_STAT_REG == 1 ) {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/* busy wait */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U_TX_REG = d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771880" y="4438800"/>
              <a:ext cx="2486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written UART modu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257040" y="4438800"/>
            <a:ext cx="4170240" cy="1612800"/>
            <a:chOff x="257040" y="4438800"/>
            <a:chExt cx="4170240" cy="1612800"/>
          </a:xfrm>
        </p:grpSpPr>
        <p:sp>
          <p:nvSpPr>
            <p:cNvPr id="1518" name=""/>
            <p:cNvSpPr/>
            <p:nvPr/>
          </p:nvSpPr>
          <p:spPr>
            <a:xfrm>
              <a:off x="257040" y="4691160"/>
              <a:ext cx="4170240" cy="136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#include &lt;stdio.h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static FILE *outputFileHandle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void UartInitialize(const char *outputFileName) {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outputFileHandle = fopen(outputFileName, "w")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void UartSend(char d) {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fprintf(outputFileHandle, "%i\n", (int)d)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485640" y="4438800"/>
              <a:ext cx="3695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Original code from system-level mo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0" name=""/>
          <p:cNvSpPr/>
          <p:nvPr/>
        </p:nvSpPr>
        <p:spPr>
          <a:xfrm>
            <a:off x="4514760" y="5391000"/>
            <a:ext cx="6001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0E7A7-1F7C-404C-A484-698B9AF15C3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aly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209160" y="1523880"/>
            <a:ext cx="442908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tire SOC tested on VHDL si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prets VHDL descriptions and functionally simulates execution of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all program code translated to VHDL description of 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ests for correct functiona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asures clock cycles to process one image (performan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e-level description obtained through 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nthesis tool like compiler for SP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ulate gate-level models to obtain data for power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times gates switch from 1 to 0 or 0 to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nt number of gates for chip are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8255160" y="412596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4" name=""/>
          <p:cNvGrpSpPr/>
          <p:nvPr/>
        </p:nvGrpSpPr>
        <p:grpSpPr>
          <a:xfrm>
            <a:off x="4592520" y="2852640"/>
            <a:ext cx="4202280" cy="2205000"/>
            <a:chOff x="4592520" y="2852640"/>
            <a:chExt cx="4202280" cy="2205000"/>
          </a:xfrm>
        </p:grpSpPr>
        <p:sp>
          <p:nvSpPr>
            <p:cNvPr id="1525" name=""/>
            <p:cNvSpPr/>
            <p:nvPr/>
          </p:nvSpPr>
          <p:spPr>
            <a:xfrm>
              <a:off x="4951440" y="3263760"/>
              <a:ext cx="1060560" cy="59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HDL simula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592520" y="2852640"/>
              <a:ext cx="536760" cy="2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HD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5160960" y="2852640"/>
              <a:ext cx="536400" cy="2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HD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5722920" y="2852640"/>
              <a:ext cx="536400" cy="24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HD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4852800" y="3089160"/>
              <a:ext cx="230400" cy="27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5423040" y="3095280"/>
              <a:ext cx="0" cy="16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H="1">
              <a:off x="5783400" y="3095280"/>
              <a:ext cx="19512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5475240" y="3860640"/>
              <a:ext cx="0" cy="61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4894200" y="4520880"/>
              <a:ext cx="1182600" cy="2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xecution 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037200" y="3263760"/>
              <a:ext cx="1060560" cy="59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ynthesis to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5749920" y="4035240"/>
              <a:ext cx="536400" cy="2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a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319800" y="4035240"/>
              <a:ext cx="534960" cy="2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a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880320" y="4035240"/>
              <a:ext cx="536400" cy="2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a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867200" y="3095280"/>
              <a:ext cx="1360440" cy="23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5423040" y="3089160"/>
              <a:ext cx="100800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5973840" y="3095280"/>
              <a:ext cx="672840" cy="16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 flipH="1">
              <a:off x="6024240" y="3855960"/>
              <a:ext cx="45252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573960" y="3855960"/>
              <a:ext cx="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653160" y="3862080"/>
              <a:ext cx="45720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397560" y="4458960"/>
              <a:ext cx="1058760" cy="598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um gat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 flipV="1">
              <a:off x="7470720" y="4746240"/>
              <a:ext cx="27000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442280" y="3531960"/>
              <a:ext cx="1060200" cy="59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ate level simula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 flipV="1">
              <a:off x="6175440" y="3724200"/>
              <a:ext cx="1301760" cy="31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 flipV="1">
              <a:off x="6757920" y="3830040"/>
              <a:ext cx="690480" cy="20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V="1">
              <a:off x="7261200" y="3947400"/>
              <a:ext cx="2412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416720" y="2865240"/>
              <a:ext cx="1058760" cy="598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ower equ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8242200" y="3400200"/>
              <a:ext cx="101520" cy="174600"/>
            </a:xfrm>
            <a:custGeom>
              <a:avLst/>
              <a:gdLst/>
              <a:ahLst/>
              <a:rect l="l" t="t" r="r" b="b"/>
              <a:pathLst>
                <a:path w="139" h="249">
                  <a:moveTo>
                    <a:pt x="0" y="249"/>
                  </a:moveTo>
                  <a:cubicBezTo>
                    <a:pt x="63" y="211"/>
                    <a:pt x="127" y="174"/>
                    <a:pt x="133" y="133"/>
                  </a:cubicBezTo>
                  <a:cubicBezTo>
                    <a:pt x="139" y="92"/>
                    <a:pt x="87" y="46"/>
                    <a:pt x="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770960" y="4627440"/>
              <a:ext cx="849240" cy="304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ip ar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8477280" y="3163680"/>
              <a:ext cx="317520" cy="946080"/>
            </a:xfrm>
            <a:custGeom>
              <a:avLst/>
              <a:gdLst/>
              <a:ahLst/>
              <a:rect l="l" t="t" r="r" b="b"/>
              <a:pathLst>
                <a:path w="432" h="1351">
                  <a:moveTo>
                    <a:pt x="0" y="0"/>
                  </a:moveTo>
                  <a:cubicBezTo>
                    <a:pt x="149" y="78"/>
                    <a:pt x="298" y="157"/>
                    <a:pt x="365" y="382"/>
                  </a:cubicBezTo>
                  <a:cubicBezTo>
                    <a:pt x="432" y="607"/>
                    <a:pt x="416" y="979"/>
                    <a:pt x="400" y="135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012000" y="4278240"/>
              <a:ext cx="496800" cy="30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580080" y="4278240"/>
              <a:ext cx="144720" cy="212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>
              <a:off x="7057800" y="4278240"/>
              <a:ext cx="9180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7" name=""/>
          <p:cNvSpPr/>
          <p:nvPr/>
        </p:nvSpPr>
        <p:spPr>
          <a:xfrm>
            <a:off x="5295960" y="2476440"/>
            <a:ext cx="2752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Obtaining design metrics of inter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1117A-47EB-4972-A9B1-B5222F849E2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lementation 2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rocontroller and CCDP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of implementation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execution time for processing one imag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.1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consump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33 wa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consump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30 joule (9.1 s x 0.033 wa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hip are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8,000 g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A9701-27CC-46CC-92F3-6D63C3D188F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lementation 3: Microcontroller and CCDPP/Fixed-Point D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.1 seconds still doesn’t meet performance constraint of 1 sec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CT operation prime candidate for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ion of implementation 2 shows microprocessor spends most cycles 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ld design custom hardware like we did for CCDP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complex so more design 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ead, will speed up DCT functionality by modifying behavi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F6AD6-3EC9-4ACC-A599-C309EB60BF6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CT floating-point c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oating-point c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CT uses ~260 floating-point operations per pixel 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096 (64 x 64) pixels per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illion floating-point operations per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loating-point support with Intel 805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iler must emu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tes procedures for each floating-point op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, ad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procedure uses tens of integer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s, &gt; 10 million integer operations per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dures increase cod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-point arithmetic can improve on thi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51F14-8A99-49E4-ADD1-267D9D2D610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xed-point arithmet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er used to represent a real numb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stant number of integer’s bits represents fractional portion of real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bits, more accurate the repres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aining bits represent portion of real number before decimal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lating a real constant to a fixed-point repres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y real value by 2 ^ (# of bits used for fractional par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und to nearest integ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represent 3.14 as 8-bit integer with 4 bits for f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^4 = 1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14 x 16 = 50.24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50 = 00110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 (2^4) possible values for fraction, each represents 0.0625 (1/1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st 4 bits (0010) =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x 0.0625 = 0.12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(0011) + 0.125 = 3.125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3.14 (more bits for fraction would increase accurac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AD97B-12AC-4CE4-B3C6-8ED15C0A5EA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 to a simple digital cam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95200" y="1523520"/>
            <a:ext cx="85154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tures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s images in digital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fil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images stored in cam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mber depends on amount of memory and bits used per im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loads images to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recently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s-on-a-c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processors and memories on one 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-capacity flash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simple description used for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y more features with real digital cam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ariable size images, image deletion, digital stretching, zooming in and out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5DEA3-ABB0-45D0-B337-14DB61B98E2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xed-point arithmetic op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323640" y="1390680"/>
            <a:ext cx="8420040" cy="47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ply add integer repres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3.14 + 2.71 = 5.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.14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50 = 001100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.71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43 = 001010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 + 43 = 93 = 01011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(0101) + 13(1101) x 0.0625 = 5.8125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8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ply integer repres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ift result right by # of bits in fractional p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.g., 3.14 * 2.71 = 8.50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 * 43 = 2150 = 100001100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 4 = 100001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(1000) + 6(0110) x 0.0625 = 8.375 ≈ 8.509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nge of real values used limited by bit widths of possible resulting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3BC17-94D9-46D8-A18F-094E40D96D5F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xed-point implementation of CODE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219240" y="1486080"/>
            <a:ext cx="4619520" cy="209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_TABLE gives 8-bit fixed-point representation of cosine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 bits used for fractional por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 of multiplications shifted right by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038560" y="5014800"/>
            <a:ext cx="3972240" cy="10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void CodecDoFdct(void) 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unsigned short x, y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(x=0; x&lt;8; x++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(y=0; y&lt;8; y++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utBuffer[x][y] = F(x, y, inBuffer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dx = 0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5038560" y="1517760"/>
            <a:ext cx="3953160" cy="1736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tatic const char code COS_TABLE[8][8] = 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{   64,   62,   59,   53,   45,   35,   24,   12 }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{   64,   53,   24,  -12,  -45,  -62,  -59,  -35 }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{   64,   35,  -24,  -62,  -45,   12,   59,   53 }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{   64,   12,  -59,  -35,   45,   53,  -24,  -62 }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{   64,  -12,  -59,   35,   45,  -53,  -24,   62 }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{   64,  -35,  -24,   62,  -45,  -12,   59,  -53 }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{   64,  -53,   24,   12,  -45,   62,  -59,   35 },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{   64,  -62,   59,  -53,   45,  -35,   24,  -12 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038560" y="3382920"/>
            <a:ext cx="3962520" cy="620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tatic const char ONE_OVER_SQRT_TWO = 5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tatic short xdata inBuffer[8][8], outBuffer[8][8], idx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void CodecInitialize(void) { idx = 0; 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123840" y="3656160"/>
            <a:ext cx="4838760" cy="243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tatic unsigned char C(int h) { return h ? 64 : ONE_OVER_SQRT_TWO;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tatic int F(int u, int v, short img[8][8]) 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ong s[8], r = 0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unsigned char x, j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(x=0; x&lt;8; x++) 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[x] = 0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(j=0; j&lt;8; j++)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[x] += (img[x][j] * COS_TABLE[j][v] ) &gt;&gt; 6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for(x=0; x&lt;8; x++) r += (s[x] * COS_TABLE[x][u]) &gt;&gt; 6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return (short)((((r * (((16*C(u)) &gt;&gt; 6) *C(v)) &gt;&gt; 6)) &gt;&gt; 6) &gt;&gt; 6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5038560" y="4111560"/>
            <a:ext cx="3953160" cy="7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void CodecPushPixel(short p) 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f( idx == 64 ) idx = 0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Buffer[idx / 8][idx % 8] = p &lt;&lt; 6; idx++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2A6A1-36EC-420F-AF02-160516E7EA8F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lementation 3: Microcontroller and CCDPP/Fixed-Point D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of implementation 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same analysis techniques as implementation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execution time for processing one im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.5 seco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consump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33 watt (same as 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consump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50 joule (1.5 s x 0.033 wa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ttery life 6x longer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hip are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90,000 g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,000 less gates (less memory needed for co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08F25-E7D2-4051-BA3C-89DA7B560251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lementation 4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rocontroller and CCDPP/D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409320" y="3524040"/>
            <a:ext cx="838188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 close but not good enoug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st resort to implementing CODEC in hardw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-purpose processor to perform DCT on 8 x 8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2490840" y="1638360"/>
            <a:ext cx="3919320" cy="1577880"/>
            <a:chOff x="2490840" y="1638360"/>
            <a:chExt cx="3919320" cy="1577880"/>
          </a:xfrm>
        </p:grpSpPr>
        <p:sp>
          <p:nvSpPr>
            <p:cNvPr id="1580" name=""/>
            <p:cNvSpPr/>
            <p:nvPr/>
          </p:nvSpPr>
          <p:spPr>
            <a:xfrm>
              <a:off x="2490840" y="1648080"/>
              <a:ext cx="3919320" cy="1415880"/>
            </a:xfrm>
            <a:prstGeom prst="parallelogram">
              <a:avLst>
                <a:gd name="adj" fmla="val 69203"/>
              </a:avLst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219560" y="1836720"/>
              <a:ext cx="830160" cy="338400"/>
            </a:xfrm>
            <a:prstGeom prst="parallelogram">
              <a:avLst>
                <a:gd name="adj" fmla="val 6133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805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849480" y="2533680"/>
              <a:ext cx="831960" cy="338040"/>
            </a:xfrm>
            <a:prstGeom prst="parallelogram">
              <a:avLst>
                <a:gd name="adj" fmla="val 6152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UA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4537080" y="2533680"/>
              <a:ext cx="868320" cy="338040"/>
            </a:xfrm>
            <a:prstGeom prst="parallelogram">
              <a:avLst>
                <a:gd name="adj" fmla="val 6421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CDP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116320" y="1828800"/>
              <a:ext cx="831960" cy="336600"/>
            </a:xfrm>
            <a:prstGeom prst="parallelogram">
              <a:avLst>
                <a:gd name="adj" fmla="val 6179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171960" y="1822680"/>
              <a:ext cx="1060200" cy="336240"/>
            </a:xfrm>
            <a:prstGeom prst="parallelogram">
              <a:avLst>
                <a:gd name="adj" fmla="val 78828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EPRO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766960" y="2668680"/>
              <a:ext cx="433440" cy="33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SO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3695760" y="2340000"/>
              <a:ext cx="208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 flipV="1">
              <a:off x="4422600" y="2344320"/>
              <a:ext cx="9540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 flipV="1">
              <a:off x="5140440" y="2354400"/>
              <a:ext cx="9684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 flipV="1">
              <a:off x="5440320" y="2166480"/>
              <a:ext cx="9540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 flipV="1">
              <a:off x="4621320" y="2166480"/>
              <a:ext cx="9684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097160" y="1981440"/>
              <a:ext cx="24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595600" y="30639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679480" y="30639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763720" y="30639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849400" y="30639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933640" y="30639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3017880" y="30639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3103560" y="30639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3187800" y="30639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273480" y="3071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3357360" y="3071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441600" y="3071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3527280" y="3071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3611520" y="3071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695760" y="3071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3781440" y="3071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865680" y="3071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949560" y="3071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4035240" y="3071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119480" y="3071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4203720" y="3071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4287960" y="3071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4373640" y="3071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4457520" y="3071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543560" y="3071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4627440" y="3071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4713120" y="3071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4797360" y="3071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4881600" y="3071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4965480" y="3071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5051520" y="3071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135400" y="3071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5221080" y="3071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300640" y="307188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6332400" y="1762200"/>
              <a:ext cx="468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 flipH="1">
              <a:off x="3943440" y="2873520"/>
              <a:ext cx="11088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 flipH="1">
              <a:off x="4543200" y="2863800"/>
              <a:ext cx="903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H="1">
              <a:off x="4622400" y="2879640"/>
              <a:ext cx="9036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 flipH="1">
              <a:off x="4706640" y="2879640"/>
              <a:ext cx="9036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>
              <a:off x="4790880" y="2878200"/>
              <a:ext cx="9072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 flipH="1">
              <a:off x="4876560" y="2878200"/>
              <a:ext cx="9036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 flipH="1">
              <a:off x="4960800" y="2870280"/>
              <a:ext cx="9072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 flipH="1">
              <a:off x="3589200" y="1638360"/>
              <a:ext cx="9072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 flipH="1">
              <a:off x="3668400" y="1646280"/>
              <a:ext cx="9036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H="1">
              <a:off x="3752640" y="1646280"/>
              <a:ext cx="90720" cy="17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100320" y="2527200"/>
              <a:ext cx="919080" cy="338400"/>
            </a:xfrm>
            <a:prstGeom prst="parallelogram">
              <a:avLst>
                <a:gd name="adj" fmla="val 6789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DE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V="1">
              <a:off x="3759120" y="2338560"/>
              <a:ext cx="96840" cy="18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 flipH="1">
              <a:off x="3279240" y="2867040"/>
              <a:ext cx="112680" cy="18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F9121-193F-49B2-B394-3577FBFF1D91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C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371520" y="1447920"/>
            <a:ext cx="4781520" cy="46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 memory mapped regis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_DATAI_RE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_DATAO_RE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sed to push/pop 8 x 8 block into and out of COD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_CMND_RE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used to command COD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riting 1 to this register invokes COD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C_STAT_REG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icates CODEC done and ready for next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olled in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 translation of C code to VHDL for actual hardware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xed-point version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DEC module in software changed similar to UART/CCDPP in implementation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2" name=""/>
          <p:cNvGrpSpPr/>
          <p:nvPr/>
        </p:nvGrpSpPr>
        <p:grpSpPr>
          <a:xfrm>
            <a:off x="5241960" y="3981600"/>
            <a:ext cx="3763800" cy="2043000"/>
            <a:chOff x="5241960" y="3981600"/>
            <a:chExt cx="3763800" cy="2043000"/>
          </a:xfrm>
        </p:grpSpPr>
        <p:sp>
          <p:nvSpPr>
            <p:cNvPr id="1643" name=""/>
            <p:cNvSpPr/>
            <p:nvPr/>
          </p:nvSpPr>
          <p:spPr>
            <a:xfrm>
              <a:off x="5241960" y="4272120"/>
              <a:ext cx="3763800" cy="175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static unsigned char xdata C_STAT_REG _at_ 65527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static unsigned char xdata C_CMND_REG _at_ 65528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static unsigned char xdata C_DATAI_REG _at_ 65529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static unsigned char xdata C_DATAO_REG _at_ 65530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void CodecInitialize(void) {}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void CodecPushPixel(short p) { C_DATAO_REG = (char)p; }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short CodecPopPixel(void) {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return ((C_DATAI_REG &lt;&lt; 8) | C_DATAI_REG)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void CodecDoFdct(void) {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C_CMND_REG = 1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while( C_STAT_REG == 1 ) { /* busy wait */ }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5676840" y="3981600"/>
              <a:ext cx="291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written CODEC softwa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201E6-1A47-4D3E-95C8-AF7FA9CEB5B9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lementation 4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rocontroller and CCDPP/D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42040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sis of implementation 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execution time for processing one im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99 seconds (well under 1 se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 consump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40 wat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 over 2 and 3 because SOC has another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consumptio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0040 joule (0.099 s x 0.040 wa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ttery life 12x longer than previous implementation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tal chip are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8,000 g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gnificant increase over previous implemen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3F0CE-F918-4BF1-A49C-32CF093F726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 of implem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380880" y="2571840"/>
            <a:ext cx="8382240" cy="34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se in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time to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ation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eat performance and energy consum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re expensive and may miss time-to-market wind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DCT designed ourselves then increased NRE cost and time-to-mar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existing DCT purchased then increased IC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ch is bett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9" name=""/>
          <p:cNvGraphicFramePr/>
          <p:nvPr/>
        </p:nvGraphicFramePr>
        <p:xfrm>
          <a:off x="2266920" y="1666800"/>
          <a:ext cx="4600440" cy="809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6920" y="1666800"/>
                    <a:ext cx="4600440" cy="80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A81EF-CF46-4B5C-B424-689CF8C40EDD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gital camera examp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fications in English and executable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metrics: performance, power and ar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ral implemen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controller: too 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controller and coprocessor: better, but still too 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-point arithmetic: almost fast en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 coprocessor for compression: fast enough, but expensive and hard to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offs between hw/sw – the main lesson of this boo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281DA-F22D-4B08-B85A-864A30DAAA3D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er’s perspectiv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90240" y="154296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 key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ing images and storing in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shutter presse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e captu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ed to digital form by charge-coupled device (CC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ressed and archived in internal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loading images to P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camera attached to 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ial software commands camera to transmit archived images seri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767C6-2EF4-494B-B061-519BBAB2CF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rge-coupled device (CC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sensor that captures an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ght-sensitive silicon solid-state device composed of many 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722160" y="2541600"/>
            <a:ext cx="7461360" cy="3476520"/>
            <a:chOff x="722160" y="2541600"/>
            <a:chExt cx="7461360" cy="3476520"/>
          </a:xfrm>
        </p:grpSpPr>
        <p:sp>
          <p:nvSpPr>
            <p:cNvPr id="99" name=""/>
            <p:cNvSpPr/>
            <p:nvPr/>
          </p:nvSpPr>
          <p:spPr>
            <a:xfrm>
              <a:off x="722160" y="2541600"/>
              <a:ext cx="2095560" cy="330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hen exposed to light, each cell becomes electrically charged. This charge can then be converted to a 8-bit value where 0 represents no exposure while 255 represents very intense exposure of that cell to ligh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ome of the columns are covered with a black strip of paint. The light-intensity of these pixels is used for zero-bias adjustments of all the cells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37200" y="2774880"/>
              <a:ext cx="2146320" cy="324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he electromechanical shutter is activated to expose the cells to light for a brief moment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he electronic circuitry, when commanded, discharges the cells, activates the electromechanical shutter, and then reads the 8-bit charge value of each cell. These values can be clocked out of the CCD by external logic through a standard parallel bus interface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424320" y="2906640"/>
              <a:ext cx="79380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ens ar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559320" y="3852720"/>
              <a:ext cx="107640" cy="842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065400" y="3322800"/>
              <a:ext cx="2797200" cy="210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444840" y="3733920"/>
              <a:ext cx="1352520" cy="1247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657680" y="3686040"/>
              <a:ext cx="108000" cy="13687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470400" y="3759120"/>
              <a:ext cx="93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656160" y="3759120"/>
              <a:ext cx="1080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843360" y="375912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29120" y="375912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935520" y="375912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749760" y="3759120"/>
              <a:ext cx="93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64000" y="3759120"/>
              <a:ext cx="93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516480" y="3759120"/>
              <a:ext cx="1080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01880" y="375912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89440" y="375912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75200" y="375912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83040" y="3759120"/>
              <a:ext cx="93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797280" y="3759120"/>
              <a:ext cx="972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610080" y="375912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122720" y="375912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308480" y="375912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95680" y="375912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681440" y="3759120"/>
              <a:ext cx="972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589640" y="3759120"/>
              <a:ext cx="1080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402080" y="375912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16320" y="3759120"/>
              <a:ext cx="972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168800" y="375912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356000" y="375912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541760" y="375912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729320" y="3759120"/>
              <a:ext cx="1080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633920" y="3759120"/>
              <a:ext cx="1260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49600" y="3759120"/>
              <a:ext cx="972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262400" y="375912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470400" y="389736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656160" y="389736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43360" y="38973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29120" y="38973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35520" y="38973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749760" y="389736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64000" y="389736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516480" y="389736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701880" y="38973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889440" y="38973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75200" y="38973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83040" y="389736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797280" y="389736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610080" y="38973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122720" y="38973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08480" y="38973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495680" y="38973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681440" y="389736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589640" y="389736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02080" y="38973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16320" y="389736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168800" y="38973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356000" y="38973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41760" y="38973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729320" y="389736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633920" y="3897360"/>
              <a:ext cx="126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449600" y="389736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62400" y="38973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70400" y="4035600"/>
              <a:ext cx="93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656160" y="4035600"/>
              <a:ext cx="1080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3360" y="40356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29120" y="40356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935520" y="40356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749760" y="4035600"/>
              <a:ext cx="93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564000" y="4035600"/>
              <a:ext cx="93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516480" y="4035600"/>
              <a:ext cx="1080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701880" y="40356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889440" y="40356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75200" y="40356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983040" y="4035600"/>
              <a:ext cx="93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7280" y="4035600"/>
              <a:ext cx="972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610080" y="40356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122720" y="40356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308480" y="40356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495680" y="40356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681440" y="4035600"/>
              <a:ext cx="972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589640" y="4035600"/>
              <a:ext cx="1080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402080" y="40356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16320" y="4035600"/>
              <a:ext cx="972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168800" y="40356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356000" y="40356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541760" y="40356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29320" y="4035600"/>
              <a:ext cx="1080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33920" y="4035600"/>
              <a:ext cx="1260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49600" y="4035600"/>
              <a:ext cx="972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262400" y="40356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70400" y="4173480"/>
              <a:ext cx="93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56160" y="4173480"/>
              <a:ext cx="1080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843360" y="41734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029120" y="41734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35520" y="41734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749760" y="4173480"/>
              <a:ext cx="93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64000" y="4173480"/>
              <a:ext cx="93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16480" y="4173480"/>
              <a:ext cx="1080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01880" y="41734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889440" y="41734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075200" y="41734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983040" y="4173480"/>
              <a:ext cx="93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797280" y="4173480"/>
              <a:ext cx="972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610080" y="41734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122720" y="41734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308480" y="41734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495680" y="41734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681440" y="4173480"/>
              <a:ext cx="972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589640" y="4173480"/>
              <a:ext cx="1080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402080" y="41734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16320" y="4173480"/>
              <a:ext cx="972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68800" y="41734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356000" y="41734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541760" y="41734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729320" y="4173480"/>
              <a:ext cx="1080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633920" y="4173480"/>
              <a:ext cx="1260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49600" y="4173480"/>
              <a:ext cx="972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262400" y="41734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70400" y="4311720"/>
              <a:ext cx="93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656160" y="4311720"/>
              <a:ext cx="1080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43360" y="43117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29120" y="43117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35520" y="43117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749760" y="4311720"/>
              <a:ext cx="93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64000" y="4311720"/>
              <a:ext cx="93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16480" y="4311720"/>
              <a:ext cx="1080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701880" y="43117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89440" y="43117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075200" y="43117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83040" y="4311720"/>
              <a:ext cx="93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797280" y="4311720"/>
              <a:ext cx="972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10080" y="43117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22720" y="43117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308480" y="43117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495680" y="43117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681440" y="4311720"/>
              <a:ext cx="972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589640" y="4311720"/>
              <a:ext cx="1080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02080" y="43117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16320" y="4311720"/>
              <a:ext cx="972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168800" y="43117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356000" y="43117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541760" y="43117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29320" y="4311720"/>
              <a:ext cx="1080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633920" y="4311720"/>
              <a:ext cx="1260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449600" y="4311720"/>
              <a:ext cx="972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262400" y="43117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470400" y="4449600"/>
              <a:ext cx="93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56160" y="4449600"/>
              <a:ext cx="1080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843360" y="44496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029120" y="44496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935520" y="44496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749760" y="4449600"/>
              <a:ext cx="93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64000" y="4449600"/>
              <a:ext cx="93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16480" y="4449600"/>
              <a:ext cx="1080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01880" y="44496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889440" y="44496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075200" y="44496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83040" y="4449600"/>
              <a:ext cx="93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797280" y="4449600"/>
              <a:ext cx="972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610080" y="44496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22720" y="44496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308480" y="44496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495680" y="44496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681440" y="4449600"/>
              <a:ext cx="972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589640" y="4449600"/>
              <a:ext cx="1080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402080" y="44496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216320" y="4449600"/>
              <a:ext cx="972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168800" y="44496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56000" y="44496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541760" y="44496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729320" y="4449600"/>
              <a:ext cx="1080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633920" y="4449600"/>
              <a:ext cx="1260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49600" y="4449600"/>
              <a:ext cx="972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262400" y="44496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70400" y="4589640"/>
              <a:ext cx="936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56160" y="4589640"/>
              <a:ext cx="1080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843360" y="4589640"/>
              <a:ext cx="1116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29120" y="4589640"/>
              <a:ext cx="1116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935520" y="4589640"/>
              <a:ext cx="1116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749760" y="4589640"/>
              <a:ext cx="936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564000" y="4589640"/>
              <a:ext cx="936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516480" y="4589640"/>
              <a:ext cx="1080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701880" y="4589640"/>
              <a:ext cx="1116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89440" y="4589640"/>
              <a:ext cx="1116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075200" y="4589640"/>
              <a:ext cx="1116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983040" y="4589640"/>
              <a:ext cx="936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797280" y="4589640"/>
              <a:ext cx="972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610080" y="4589640"/>
              <a:ext cx="1116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122720" y="4589640"/>
              <a:ext cx="1116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308480" y="4589640"/>
              <a:ext cx="1116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495680" y="4589640"/>
              <a:ext cx="1116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81440" y="4589640"/>
              <a:ext cx="972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589640" y="4589640"/>
              <a:ext cx="1080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402080" y="4589640"/>
              <a:ext cx="1116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216320" y="4589640"/>
              <a:ext cx="972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168800" y="4589640"/>
              <a:ext cx="1116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356000" y="4589640"/>
              <a:ext cx="1116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541760" y="4589640"/>
              <a:ext cx="1116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729320" y="4589640"/>
              <a:ext cx="1080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33920" y="4589640"/>
              <a:ext cx="1260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449600" y="4589640"/>
              <a:ext cx="972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262400" y="4589640"/>
              <a:ext cx="11160" cy="61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470400" y="472752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656160" y="472752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43360" y="4727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029120" y="4727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935520" y="4727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749760" y="472752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564000" y="472752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516480" y="472752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701880" y="4727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889440" y="4727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75200" y="4727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983040" y="472752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797280" y="472752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610080" y="4727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22720" y="4727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308480" y="4727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495680" y="4727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81440" y="472752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589640" y="472752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402080" y="4727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16320" y="472752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68800" y="4727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56000" y="4727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541760" y="4727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729320" y="472752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33920" y="4727520"/>
              <a:ext cx="126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449600" y="472752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262400" y="4727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470400" y="486576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656160" y="486576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843360" y="48657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29120" y="48657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935520" y="48657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49760" y="486576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564000" y="486576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516480" y="486576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01880" y="48657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889440" y="48657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075200" y="48657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983040" y="486576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97280" y="486576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610080" y="48657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122720" y="48657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308480" y="48657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495680" y="48657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681440" y="486576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89640" y="486576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402080" y="48657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216320" y="486576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168800" y="48657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356000" y="48657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541760" y="48657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729320" y="486576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633920" y="4865760"/>
              <a:ext cx="126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449600" y="486576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262400" y="48657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70400" y="385128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56160" y="385128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843360" y="38512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29120" y="38512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935520" y="38512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49760" y="385128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64000" y="385128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516480" y="385128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01880" y="38512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889440" y="38512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75200" y="38512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983040" y="385128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97280" y="385128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0080" y="38512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22720" y="38512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08480" y="38512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495680" y="38512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681440" y="385128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89640" y="385128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402080" y="38512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216320" y="385128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68800" y="38512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356000" y="38512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41760" y="38512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729320" y="385128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633920" y="3851280"/>
              <a:ext cx="126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9600" y="385128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62400" y="38512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470400" y="398952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656160" y="398952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843360" y="3989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29120" y="3989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35520" y="3989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749760" y="398952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64000" y="398952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16480" y="398952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701880" y="3989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89440" y="3989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075200" y="3989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983040" y="398952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97280" y="398952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10080" y="3989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22720" y="3989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308480" y="3989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495680" y="3989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681440" y="398952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589640" y="398952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402080" y="3989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16320" y="398952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168800" y="3989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356000" y="3989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541760" y="3989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29320" y="398952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633920" y="3989520"/>
              <a:ext cx="126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449600" y="398952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62400" y="39895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470400" y="412740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656160" y="412740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43360" y="41274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029120" y="41274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935520" y="41274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49760" y="412740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564000" y="412740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16480" y="412740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701880" y="41274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889440" y="41274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75200" y="41274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83040" y="412740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797280" y="412740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610080" y="41274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122720" y="41274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4308480" y="41274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95680" y="41274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681440" y="412740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589640" y="412740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402080" y="41274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216320" y="412740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68800" y="41274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1274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541760" y="41274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29320" y="412740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633920" y="4127400"/>
              <a:ext cx="126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49600" y="412740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262400" y="41274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470400" y="4267080"/>
              <a:ext cx="93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656160" y="4267080"/>
              <a:ext cx="1080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43360" y="42670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029120" y="42670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935520" y="42670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49760" y="4267080"/>
              <a:ext cx="93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564000" y="4267080"/>
              <a:ext cx="93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516480" y="4267080"/>
              <a:ext cx="1080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701880" y="42670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889440" y="42670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75200" y="42670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983040" y="4267080"/>
              <a:ext cx="93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797280" y="4267080"/>
              <a:ext cx="972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610080" y="42670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122720" y="42670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308480" y="42670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95680" y="42670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81440" y="4267080"/>
              <a:ext cx="972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89640" y="4267080"/>
              <a:ext cx="1080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402080" y="42670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216320" y="4267080"/>
              <a:ext cx="972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168800" y="42670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356000" y="42670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541760" y="42670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729320" y="4267080"/>
              <a:ext cx="1080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633920" y="4267080"/>
              <a:ext cx="1260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449600" y="4267080"/>
              <a:ext cx="972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262400" y="42670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470400" y="440532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656160" y="440532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43360" y="44053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029120" y="44053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935520" y="44053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49760" y="440532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564000" y="440532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516480" y="440532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701880" y="44053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889440" y="44053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75200" y="44053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983040" y="440532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3797280" y="440532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610080" y="44053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122720" y="44053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308480" y="44053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495680" y="44053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81440" y="440532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589640" y="440532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402080" y="44053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16320" y="440532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168800" y="44053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356000" y="44053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4541760" y="44053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29320" y="440532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633920" y="4405320"/>
              <a:ext cx="126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449600" y="440532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262400" y="44053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470400" y="454356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56160" y="454356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843360" y="45435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029120" y="45435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935520" y="45435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749760" y="454356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564000" y="454356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516480" y="454356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701880" y="45435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889440" y="45435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075200" y="45435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983040" y="454356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797280" y="454356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10080" y="45435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122720" y="45435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308480" y="45435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495680" y="45435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681440" y="454356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589640" y="454356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402080" y="45435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216320" y="454356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168800" y="45435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356000" y="45435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541760" y="45435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729320" y="454356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633920" y="4543560"/>
              <a:ext cx="126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449600" y="454356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262400" y="454356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470400" y="468144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56160" y="468144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43360" y="46814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029120" y="46814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935520" y="46814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749760" y="468144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64000" y="468144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516480" y="468144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701880" y="46814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889440" y="46814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075200" y="46814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983040" y="468144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797280" y="468144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610080" y="46814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122720" y="46814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08480" y="46814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495680" y="46814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1440" y="468144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589640" y="468144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402080" y="46814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216320" y="468144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168800" y="46814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356000" y="46814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541760" y="46814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729320" y="468144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633920" y="4681440"/>
              <a:ext cx="126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449600" y="468144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262400" y="46814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470400" y="481968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656160" y="481968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843360" y="48196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029120" y="48196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935520" y="48196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749760" y="481968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564000" y="481968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516480" y="481968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701880" y="48196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89440" y="48196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075200" y="48196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983040" y="481968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97280" y="481968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610080" y="48196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122720" y="48196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308480" y="48196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495680" y="48196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681440" y="481968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589640" y="481968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402080" y="48196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216320" y="481968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168800" y="48196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356000" y="48196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541760" y="48196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729320" y="481968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633920" y="4819680"/>
              <a:ext cx="126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49600" y="481968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262400" y="481968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470400" y="495792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656160" y="495792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843360" y="49579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029120" y="49579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935520" y="49579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749760" y="495792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564000" y="495792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516480" y="495792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701880" y="49579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889440" y="49579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075200" y="49579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983040" y="495792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797280" y="495792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610080" y="49579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122720" y="49579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308480" y="49579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495680" y="49579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681440" y="495792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640" y="495792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402080" y="49579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16320" y="495792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168800" y="49579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56000" y="49579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541760" y="49579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729320" y="495792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633920" y="4957920"/>
              <a:ext cx="126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449600" y="495792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262400" y="49579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470400" y="380520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656160" y="380520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843360" y="38052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29120" y="38052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3935520" y="38052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3749760" y="380520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3564000" y="380520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516480" y="380520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3701880" y="38052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889440" y="38052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075200" y="38052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983040" y="380520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97280" y="380520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610080" y="38052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4122720" y="38052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4308480" y="38052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95680" y="38052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681440" y="380520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589640" y="380520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4402080" y="38052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216320" y="380520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168800" y="38052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356000" y="38052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4541760" y="38052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729320" y="380520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633920" y="3805200"/>
              <a:ext cx="126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4449600" y="380520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262400" y="380520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470400" y="3944880"/>
              <a:ext cx="93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656160" y="3944880"/>
              <a:ext cx="1080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843360" y="39448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029120" y="39448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935520" y="39448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749760" y="3944880"/>
              <a:ext cx="93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564000" y="3944880"/>
              <a:ext cx="93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3516480" y="3944880"/>
              <a:ext cx="1080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701880" y="39448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889440" y="39448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075200" y="39448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3983040" y="3944880"/>
              <a:ext cx="93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797280" y="3944880"/>
              <a:ext cx="972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3610080" y="39448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122720" y="39448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308480" y="39448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495680" y="39448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681440" y="3944880"/>
              <a:ext cx="972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589640" y="3944880"/>
              <a:ext cx="1080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402080" y="39448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216320" y="3944880"/>
              <a:ext cx="972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68800" y="39448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356000" y="39448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41760" y="39448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29320" y="3944880"/>
              <a:ext cx="1080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633920" y="3944880"/>
              <a:ext cx="1260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449600" y="3944880"/>
              <a:ext cx="972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262400" y="3944880"/>
              <a:ext cx="11160" cy="6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3470400" y="408312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656160" y="408312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843360" y="40831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029120" y="40831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935520" y="40831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749760" y="408312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564000" y="408312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516480" y="408312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701880" y="40831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889440" y="40831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75200" y="40831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983040" y="408312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797280" y="408312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610080" y="40831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22720" y="40831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308480" y="40831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95680" y="40831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681440" y="408312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589640" y="408312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402080" y="40831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16320" y="408312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168800" y="40831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56000" y="40831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541760" y="40831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729320" y="408312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4633920" y="4083120"/>
              <a:ext cx="126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449600" y="408312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262400" y="408312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470400" y="4221000"/>
              <a:ext cx="93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656160" y="4221000"/>
              <a:ext cx="1080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843360" y="42210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029120" y="42210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935520" y="42210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749760" y="4221000"/>
              <a:ext cx="93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564000" y="4221000"/>
              <a:ext cx="93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516480" y="4221000"/>
              <a:ext cx="1080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01880" y="42210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889440" y="42210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075200" y="42210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983040" y="4221000"/>
              <a:ext cx="93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797280" y="4221000"/>
              <a:ext cx="972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610080" y="42210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122720" y="42210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4308480" y="42210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495680" y="42210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681440" y="4221000"/>
              <a:ext cx="972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89640" y="4221000"/>
              <a:ext cx="1080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402080" y="42210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216320" y="4221000"/>
              <a:ext cx="972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168800" y="42210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356000" y="42210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541760" y="42210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4729320" y="4221000"/>
              <a:ext cx="1080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633920" y="4221000"/>
              <a:ext cx="1260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449600" y="4221000"/>
              <a:ext cx="972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262400" y="4221000"/>
              <a:ext cx="11160" cy="8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3470400" y="4357800"/>
              <a:ext cx="93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3656160" y="4357800"/>
              <a:ext cx="1080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3843360" y="43578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029120" y="43578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3935520" y="43578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3749760" y="4357800"/>
              <a:ext cx="93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564000" y="4357800"/>
              <a:ext cx="93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3516480" y="4357800"/>
              <a:ext cx="1080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701880" y="43578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889440" y="43578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075200" y="43578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3983040" y="4357800"/>
              <a:ext cx="93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3797280" y="4357800"/>
              <a:ext cx="972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610080" y="43578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122720" y="43578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308480" y="43578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495680" y="43578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4681440" y="4357800"/>
              <a:ext cx="972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589640" y="4357800"/>
              <a:ext cx="1080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02080" y="43578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216320" y="4357800"/>
              <a:ext cx="972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168800" y="43578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356000" y="43578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541760" y="43578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729320" y="4357800"/>
              <a:ext cx="1080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633920" y="4357800"/>
              <a:ext cx="1260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449600" y="4357800"/>
              <a:ext cx="972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262400" y="435780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470400" y="4495680"/>
              <a:ext cx="93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656160" y="4495680"/>
              <a:ext cx="1080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843360" y="44956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029120" y="44956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3935520" y="44956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749760" y="4495680"/>
              <a:ext cx="93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564000" y="4495680"/>
              <a:ext cx="93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3516480" y="4495680"/>
              <a:ext cx="1080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701880" y="44956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889440" y="44956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075200" y="44956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983040" y="4495680"/>
              <a:ext cx="93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797280" y="4495680"/>
              <a:ext cx="972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610080" y="44956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122720" y="44956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4308480" y="44956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4495680" y="44956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681440" y="4495680"/>
              <a:ext cx="972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89640" y="4495680"/>
              <a:ext cx="1080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402080" y="44956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216320" y="4495680"/>
              <a:ext cx="972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4168800" y="44956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4356000" y="44956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4541760" y="44956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729320" y="4495680"/>
              <a:ext cx="1080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33920" y="4495680"/>
              <a:ext cx="1260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4449600" y="4495680"/>
              <a:ext cx="972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4262400" y="4495680"/>
              <a:ext cx="11160" cy="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470400" y="4633920"/>
              <a:ext cx="93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56160" y="4633920"/>
              <a:ext cx="1080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843360" y="46339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029120" y="46339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935520" y="46339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49760" y="4633920"/>
              <a:ext cx="93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564000" y="4633920"/>
              <a:ext cx="93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516480" y="4633920"/>
              <a:ext cx="1080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701880" y="46339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89440" y="46339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75200" y="46339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83040" y="4633920"/>
              <a:ext cx="93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797280" y="4633920"/>
              <a:ext cx="972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10080" y="46339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122720" y="46339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308480" y="46339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495680" y="46339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681440" y="4633920"/>
              <a:ext cx="972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589640" y="4633920"/>
              <a:ext cx="1080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402080" y="46339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16320" y="4633920"/>
              <a:ext cx="972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168800" y="46339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356000" y="46339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541760" y="46339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729320" y="4633920"/>
              <a:ext cx="1080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633920" y="4633920"/>
              <a:ext cx="1260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49600" y="4633920"/>
              <a:ext cx="972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262400" y="463392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470400" y="4772160"/>
              <a:ext cx="93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56160" y="4772160"/>
              <a:ext cx="1080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843360" y="477216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029120" y="477216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935520" y="477216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749760" y="4772160"/>
              <a:ext cx="93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564000" y="4772160"/>
              <a:ext cx="93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516480" y="4772160"/>
              <a:ext cx="1080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701880" y="477216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889440" y="477216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075200" y="477216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983040" y="4772160"/>
              <a:ext cx="93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797280" y="4772160"/>
              <a:ext cx="972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610080" y="477216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122720" y="477216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308480" y="477216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495680" y="477216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681440" y="4772160"/>
              <a:ext cx="972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589640" y="4772160"/>
              <a:ext cx="1080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402080" y="477216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216320" y="4772160"/>
              <a:ext cx="972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168800" y="477216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356000" y="477216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4541760" y="477216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729320" y="4772160"/>
              <a:ext cx="1080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633920" y="4772160"/>
              <a:ext cx="1260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449600" y="4772160"/>
              <a:ext cx="972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4262400" y="4772160"/>
              <a:ext cx="11160" cy="9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470400" y="491184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56160" y="491184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43360" y="49118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4029120" y="49118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935520" y="49118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749760" y="491184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3564000" y="491184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516480" y="491184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701880" y="49118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889440" y="49118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075200" y="49118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983040" y="4911840"/>
              <a:ext cx="93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3797280" y="491184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3610080" y="49118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4122720" y="49118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4308480" y="49118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4495680" y="49118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4681440" y="491184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4589640" y="491184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4402080" y="49118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216320" y="491184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4168800" y="49118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356000" y="49118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4541760" y="49118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4729320" y="4911840"/>
              <a:ext cx="108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633920" y="4911840"/>
              <a:ext cx="1260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449600" y="4911840"/>
              <a:ext cx="972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4262400" y="4911840"/>
              <a:ext cx="11160" cy="7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254400" y="3701880"/>
              <a:ext cx="135000" cy="1295640"/>
            </a:xfrm>
            <a:custGeom>
              <a:avLst/>
              <a:gdLst>
                <a:gd name="textAreaLeft" fmla="*/ 86400 w 135000"/>
                <a:gd name="textAreaRight" fmla="*/ 135360 w 135000"/>
                <a:gd name="textAreaTop" fmla="*/ 33480 h 1295640"/>
                <a:gd name="textAreaBottom" fmla="*/ 1262160 h 129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rot="5400000">
              <a:off x="3971160" y="4493520"/>
              <a:ext cx="164880" cy="1217520"/>
            </a:xfrm>
            <a:custGeom>
              <a:avLst/>
              <a:gdLst>
                <a:gd name="textAreaLeft" fmla="*/ 0 w 164880"/>
                <a:gd name="textAreaRight" fmla="*/ 59400 w 164880"/>
                <a:gd name="textAreaTop" fmla="*/ 31680 h 1217520"/>
                <a:gd name="textAreaBottom" fmla="*/ 1185840 h 1217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21160" y="5159520"/>
              <a:ext cx="1181160" cy="20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ixel colum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16200000">
              <a:off x="4668840" y="3471480"/>
              <a:ext cx="90360" cy="284040"/>
            </a:xfrm>
            <a:custGeom>
              <a:avLst/>
              <a:gdLst>
                <a:gd name="textAreaLeft" fmla="*/ 0 w 90360"/>
                <a:gd name="textAreaRight" fmla="*/ 32760 w 90360"/>
                <a:gd name="textAreaTop" fmla="*/ 7200 h 284040"/>
                <a:gd name="textAreaBottom" fmla="*/ 276840 h 284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821040" y="3301920"/>
              <a:ext cx="1355760" cy="23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vered colum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992840" y="4138560"/>
              <a:ext cx="788760" cy="120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lectronic circuitr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4797360" y="420840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797360" y="424980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797360" y="429588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797360" y="433872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4797360" y="438480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797360" y="442764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797360" y="447372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4797360" y="451800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4797360" y="456732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4797360" y="460836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4797360" y="465768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4797360" y="469908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930920" y="3348000"/>
              <a:ext cx="898560" cy="62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lectro-mechanical shut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5329080" y="396864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5511960" y="3968640"/>
              <a:ext cx="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84880" y="3971880"/>
              <a:ext cx="0" cy="168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452920" y="3973680"/>
              <a:ext cx="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 flipV="1">
              <a:off x="2985840" y="3510000"/>
              <a:ext cx="57924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 flipV="1">
              <a:off x="3787920" y="3130560"/>
              <a:ext cx="195120" cy="587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2897280" y="4565520"/>
              <a:ext cx="1784160" cy="1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5700600" y="4471920"/>
              <a:ext cx="301680" cy="14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V="1">
              <a:off x="5686560" y="3495600"/>
              <a:ext cx="315720" cy="21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rot="16200000">
              <a:off x="2716920" y="4231440"/>
              <a:ext cx="89712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ixel row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5781600" y="474804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5781600" y="479124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5781600" y="483876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5781600" y="488160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781600" y="492588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781600" y="496872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5781600" y="501660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5781600" y="505764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781600" y="510840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5781600" y="515160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5781600" y="519732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781600" y="524016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3B11A-4BCF-4235-837D-887873AE875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Zero-bias err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25520" y="1458720"/>
            <a:ext cx="8313840" cy="237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ufacturing errors cause cells to measure slightly above or below actual light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typically same across columns, but different across ro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of left most columns blocked by black paint to detect zero-bias e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ing of other than 0 in blocked cells is zero-bias err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row is corrected by subtracting the average error found in blocked cells for that 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5" name=""/>
          <p:cNvGrpSpPr/>
          <p:nvPr/>
        </p:nvGrpSpPr>
        <p:grpSpPr>
          <a:xfrm>
            <a:off x="917640" y="3753000"/>
            <a:ext cx="7173360" cy="2166120"/>
            <a:chOff x="917640" y="3753000"/>
            <a:chExt cx="7173360" cy="2166120"/>
          </a:xfrm>
        </p:grpSpPr>
        <p:graphicFrame>
          <p:nvGraphicFramePr>
            <p:cNvPr id="906" name=""/>
            <p:cNvGraphicFramePr/>
            <p:nvPr/>
          </p:nvGraphicFramePr>
          <p:xfrm>
            <a:off x="5567040" y="4329000"/>
            <a:ext cx="2523960" cy="13050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9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67040" y="4329000"/>
                      <a:ext cx="2523960" cy="130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08" name=""/>
            <p:cNvGraphicFramePr/>
            <p:nvPr/>
          </p:nvGraphicFramePr>
          <p:xfrm>
            <a:off x="917640" y="4305240"/>
            <a:ext cx="3153960" cy="13143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90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917640" y="4305240"/>
                      <a:ext cx="3153960" cy="131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0" name=""/>
            <p:cNvSpPr/>
            <p:nvPr/>
          </p:nvSpPr>
          <p:spPr>
            <a:xfrm>
              <a:off x="4771800" y="4962600"/>
              <a:ext cx="704520" cy="9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371760" y="3753000"/>
              <a:ext cx="7902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vered cell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428480" y="5695920"/>
              <a:ext cx="216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Before zero-bias adjust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781600" y="5705640"/>
              <a:ext cx="2161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fter zero-bias adjust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rot="16200000">
              <a:off x="3647520" y="3920760"/>
              <a:ext cx="212760" cy="583920"/>
            </a:xfrm>
            <a:custGeom>
              <a:avLst/>
              <a:gdLst>
                <a:gd name="textAreaLeft" fmla="*/ 0 w 212760"/>
                <a:gd name="textAreaRight" fmla="*/ 76680 w 212760"/>
                <a:gd name="textAreaTop" fmla="*/ 15120 h 583920"/>
                <a:gd name="textAreaBottom" fmla="*/ 568800 h 58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15" name=""/>
            <p:cNvGraphicFramePr/>
            <p:nvPr/>
          </p:nvGraphicFramePr>
          <p:xfrm>
            <a:off x="4371840" y="4309920"/>
            <a:ext cx="323280" cy="1305000"/>
          </p:xfrm>
          <a:graphic>
            <a:graphicData uri="http://schemas.openxmlformats.org/presentationml/2006/ole">
              <p:oleObj progId="Excel.Sheet.12" r:id="rId5" spid="">
                <p:embed/>
                <p:pic>
                  <p:nvPicPr>
                    <p:cNvPr id="91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71840" y="4309920"/>
                      <a:ext cx="323280" cy="1305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7" name=""/>
            <p:cNvSpPr/>
            <p:nvPr/>
          </p:nvSpPr>
          <p:spPr>
            <a:xfrm>
              <a:off x="4124160" y="3905280"/>
              <a:ext cx="828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Zero-bias adjust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D1E1B-5760-4FFD-BA4E-10B4C7B7ACF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res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 more im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mit image to PC in less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PEG (Joint Photographic Experts Grou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pular standard format for representing digital images in a compressed 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s for a number of different modes of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 used in this chapter provides high compression ratios using DCT (discrete cosine transfor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age data divided into blocks of 8 x 8 pix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 steps performed on each blo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Quant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uffman enco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B72C-4BF8-4620-95C0-D6CE1AC484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CT st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5154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forms original 8 x 8 block into a cosine-frequency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per-left corner values represent more of the essence of the im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-right corner values represent finer detai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reduce precision of these values and retain reasonable image qu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DCT (Forward DCT)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(h) = if (h == 0) then 1/sqrt(2) else 1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xiliary function used in main function F(u,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(u,v) = ¼ x C(u) x C(v)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=0..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0..7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cos(π(2u + 1)u/16) x cos(π(2y + 1)v/1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s encoded pixel at row u, column 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y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original pixel value at row x, column 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CT (Inverse DC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verses process to obtain original block (not needed for this desig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66C58-5AA8-45D2-B482-6A88EC09FAB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14:38:47Z</dcterms:created>
  <dc:creator>vahid</dc:creator>
  <dc:description/>
  <dc:language>en-US</dc:language>
  <cp:lastModifiedBy>F Vahid</cp:lastModifiedBy>
  <cp:lastPrinted>2001-11-01T23:39:18Z</cp:lastPrinted>
  <dcterms:modified xsi:type="dcterms:W3CDTF">2002-03-13T05:37:04Z</dcterms:modified>
  <cp:revision>347</cp:revision>
  <dc:subject/>
  <dc:title>A “short list” of embedded systems</dc:title>
</cp:coreProperties>
</file>