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90FA2-28EC-48B8-8845-D722D30D15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3312A-4B71-4FD8-98A9-0DA79AAC8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AC228-1BFF-4F6A-919D-2C2986BBA7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57DAC-E345-4FA5-9D3F-93BCA5544D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63E081-CEF0-4A20-BCA5-E82B85B7C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655B99-4660-4F11-BF46-3CE034525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56F5B0-547A-488B-971B-43685DC3B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51CF0F-BAFA-4D94-8F7E-1AA64116F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0CE1B-3DDF-405B-B0A8-A764EAB14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F57BA-7062-4DCD-9166-E2C1A4E0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40557A-C733-4DB8-91ED-A802D416B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1417DF-5495-46FB-B030-54270377776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F18016-4757-4E69-A042-0A8E4BB8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5EBD58-FED6-4710-878E-7DE2C92F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B8713-4F9E-4A15-B4D9-3ED4ACFA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EA0E13-1600-4927-9F1A-EE0C85EE1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40BF9C-9D95-48E2-A341-F431C8F84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08D90-A827-461E-9C98-B7B864D41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08761-4E77-4950-B842-7E5272D91A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13FFE-F601-4B1B-8C33-683ACC8D3B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673D8-00FC-4381-BDC5-77F384121A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C010-40B6-4F24-A664-A8A9FCA15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C8EA0-21C2-4ED0-9196-702B0D3E62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ADCC9-A78A-4C4F-9A2B-AE9809A236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80AC-42F1-4DE7-9B5B-79A3AE59A9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5B71F-80F6-4228-8366-3FE8C36E10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9: Contro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A6304-59FA-4F55-AC62-2FF8437A33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ing the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ing we want to use a simple linear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F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= P *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 the desired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ar proportional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*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t steady state =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steady state, we want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0.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1440" indent="-2426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.6*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~AUT0001" descr=""/>
          <p:cNvPicPr/>
          <p:nvPr/>
        </p:nvPicPr>
        <p:blipFill>
          <a:blip r:embed="rId1"/>
          <a:srcRect l="7070" t="2625" r="2019" b="56481"/>
          <a:stretch/>
        </p:blipFill>
        <p:spPr>
          <a:xfrm>
            <a:off x="3276720" y="4343400"/>
            <a:ext cx="5410080" cy="156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10BC-1427-4E31-8D82-A4C7DE8414C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ing the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562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 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20mph, 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50m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0.5(0.6)*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0.3*50= 0.7*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ttle position is 0.6*50=30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~AUT0003" descr=""/>
          <p:cNvPicPr/>
          <p:nvPr/>
        </p:nvPicPr>
        <p:blipFill>
          <a:blip r:embed="rId1"/>
          <a:srcRect l="0" t="0" r="54871" b="6865"/>
          <a:stretch/>
        </p:blipFill>
        <p:spPr>
          <a:xfrm>
            <a:off x="5867280" y="1752480"/>
            <a:ext cx="262440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8C471-EB2B-4FF4-9172-FBD0F92877F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e Disturb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3581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road grade can affect the spe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–5mph to +5 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2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~AUT0003" descr=""/>
          <p:cNvPicPr/>
          <p:nvPr/>
        </p:nvPicPr>
        <p:blipFill>
          <a:blip r:embed="rId1"/>
          <a:srcRect l="5555" t="7587" r="5555" b="6378"/>
          <a:stretch/>
        </p:blipFill>
        <p:spPr>
          <a:xfrm>
            <a:off x="4114800" y="1676520"/>
            <a:ext cx="4724280" cy="334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750BC-0F9D-4E70-8515-ED9BA26D4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ing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(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*0.7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0.7+1.0)*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(0.7+1.0)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0.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7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+0.7+1.0)(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efficient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rmines rate of decay of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gt;1 or &lt;-1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grow without bou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0,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oscil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~AUT0001" descr=""/>
          <p:cNvPicPr/>
          <p:nvPr/>
        </p:nvPicPr>
        <p:blipFill>
          <a:blip r:embed="rId1"/>
          <a:srcRect l="7070" t="2625" r="2019" b="56481"/>
          <a:stretch/>
        </p:blipFill>
        <p:spPr>
          <a:xfrm>
            <a:off x="1905120" y="4267080"/>
            <a:ext cx="5943600" cy="171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11F1D-DE9F-48D6-B0B4-77175F2ECD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ing Close Loop Control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~AUT0001" descr=""/>
          <p:cNvPicPr/>
          <p:nvPr/>
        </p:nvPicPr>
        <p:blipFill>
          <a:blip r:embed="rId1"/>
          <a:srcRect l="7070" t="2625" r="2019" b="389"/>
          <a:stretch/>
        </p:blipFill>
        <p:spPr>
          <a:xfrm>
            <a:off x="1371600" y="1523880"/>
            <a:ext cx="6324480" cy="4334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32028D-E817-474A-BDD4-7DA4CBC6D71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P)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+0.7-0.5P+1.0)(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constraint (I.e. convergence) requ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|0.7-0.5P|&l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1&lt;0.7-0.5P&lt;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6&lt;P&lt;3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~AUT0001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2666880" y="4038480"/>
            <a:ext cx="502920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08563-2BDF-4DD4-A57C-789D02AE8C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ing effect of v</a:t>
            </a:r>
            <a:r>
              <a:rPr b="0" lang="en-US" sz="3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P)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+0.7-0.5P+1.0)(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reduce the effect of initial con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7-0.5P as small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=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~AUT0001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2286000" y="4114800"/>
            <a:ext cx="5410080" cy="18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03E5-9195-45DA-97C9-2A660E25D7F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void Oscil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P)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(0.7-0.5P)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-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…+0.7-0.5P+1.0)(0.5P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void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7-0.5P &gt;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&lt;=1.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~AUT0001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2286000" y="4038480"/>
            <a:ext cx="5410080" cy="18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CA421-7F25-4487-8A04-B2F75EDCDE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ect Tra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305920" cy="28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0.5u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0.5P*(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)-w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(0.7-0.5P)*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(0.7-0.5P)*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(1-0.7+0.5P)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0.5P*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=(0.5P/(0.3+0.5P)) *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- (1.0/(0.3+0.5P)) * w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76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To make v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s close to r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 as pos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spcBef>
                <a:spcPts val="476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imes New Roman"/>
              </a:rPr>
              <a:t>P should be as large as possible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~AUT0001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2286000" y="4343400"/>
            <a:ext cx="502920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65895-80C3-4D83-8C3E-7804BE9FC65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ose-Loop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nally, setting P=3.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ble, track well, some 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3.3 *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~AUT0001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1905120" y="3809880"/>
            <a:ext cx="5410080" cy="185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C921-5A98-42D9-8980-4D9338A93F2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03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physical system’s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y setting physical system’s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uis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mostat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k driv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ircraft altitu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fficulty due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urbance: wind, road, tire, brake; opening/closing door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man interface: feel good, feel righ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~AUT0001" descr=""/>
          <p:cNvPicPr/>
          <p:nvPr/>
        </p:nvPicPr>
        <p:blipFill>
          <a:blip r:embed="rId1"/>
          <a:srcRect l="7070" t="2625" r="2019" b="56481"/>
          <a:stretch/>
        </p:blipFill>
        <p:spPr>
          <a:xfrm>
            <a:off x="3276720" y="2438280"/>
            <a:ext cx="5181480" cy="1497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5BF04-9C98-4002-B3D7-3510089D9D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e the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 mph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50 mph, w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P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*3.3*(50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3.3 * (50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range from 0-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 satur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~AUT0002" descr=""/>
          <p:cNvPicPr/>
          <p:nvPr/>
        </p:nvPicPr>
        <p:blipFill>
          <a:blip r:embed="rId1"/>
          <a:srcRect l="9043" t="3312" r="53617" b="38057"/>
          <a:stretch/>
        </p:blipFill>
        <p:spPr>
          <a:xfrm>
            <a:off x="6019920" y="1600200"/>
            <a:ext cx="231444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011A7-F840-4DC9-BFD0-FA64230A709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e the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20 mph, 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50 mph, w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*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3.3 * (50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urate at 0, 4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el bad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~AUT0002" descr=""/>
          <p:cNvPicPr/>
          <p:nvPr/>
        </p:nvPicPr>
        <p:blipFill>
          <a:blip r:embed="rId1"/>
          <a:srcRect l="9043" t="3312" r="27905" b="38057"/>
          <a:stretch/>
        </p:blipFill>
        <p:spPr>
          <a:xfrm>
            <a:off x="4854600" y="1600200"/>
            <a:ext cx="3908520" cy="4343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B991A-CB3B-4F72-A324-D2F0C8F8844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e the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667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P=1.0 to void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rrible SS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~AUT0002" descr=""/>
          <p:cNvPicPr/>
          <p:nvPr/>
        </p:nvPicPr>
        <p:blipFill>
          <a:blip r:embed="rId1"/>
          <a:srcRect l="9043" t="3312" r="3378" b="38057"/>
          <a:stretch/>
        </p:blipFill>
        <p:spPr>
          <a:xfrm>
            <a:off x="3200400" y="1523880"/>
            <a:ext cx="5562720" cy="444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B1607-C6E0-491F-B6AF-45F194866F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zing the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~AUT0002" descr=""/>
          <p:cNvPicPr/>
          <p:nvPr/>
        </p:nvPicPr>
        <p:blipFill>
          <a:blip r:embed="rId1"/>
          <a:srcRect l="6501" t="65577" r="3924" b="3005"/>
          <a:stretch/>
        </p:blipFill>
        <p:spPr>
          <a:xfrm>
            <a:off x="457200" y="1752480"/>
            <a:ext cx="7620120" cy="3195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E0D7C-BB6D-4EBB-B428-E0C81A56FF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e the effect of disturb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895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*3.3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=-5 or +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9.7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 to 42.3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th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S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scil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~AUT0004" descr=""/>
          <p:cNvPicPr/>
          <p:nvPr/>
        </p:nvPicPr>
        <p:blipFill>
          <a:blip r:embed="rId1"/>
          <a:srcRect l="13182" t="2408" r="11018" b="39552"/>
          <a:stretch/>
        </p:blipFill>
        <p:spPr>
          <a:xfrm>
            <a:off x="3657600" y="1523880"/>
            <a:ext cx="518148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80345-5156-4565-A9C5-79CC6C18F87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Control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jec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using output to track a reference even in the presence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asurement noi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el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urb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 remains boun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well an output tracks the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turbance rej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bustn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ility to tolerate modeling error of the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DF430-2249-48A7-9A71-01043578F14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formance (generally speak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8958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it takes form 10% to 9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ak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sho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centage by which Peak exceed fin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tlin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it takes to reach 1% of final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~AUT0005" descr=""/>
          <p:cNvPicPr/>
          <p:nvPr/>
        </p:nvPicPr>
        <p:blipFill>
          <a:blip r:embed="rId1"/>
          <a:srcRect l="14497" t="12183" r="4350" b="2602"/>
          <a:stretch/>
        </p:blipFill>
        <p:spPr>
          <a:xfrm>
            <a:off x="3505320" y="1676520"/>
            <a:ext cx="5410080" cy="27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EFBB7-D2DD-4C03-A861-7737FD9B739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ant modeling is difficul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358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eed to be done fir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is usually on continuou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discret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 car speed continuously react to throttle position, not at discrete interv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period must be chosen carefu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make sure “nothing interesting” happen in betw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37080" indent="-18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 small enou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nt is usually non-lin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shock absorber response may need to be 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der differenti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ive development of the plant model and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 plant model that is “good enough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AA67F-39D5-460B-943D-0CE0D2BCC88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ler Design: 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controller that multiplies the tracking error by a const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 loop model with a linear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 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(0.7-0.5P)*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0.5P*r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 affe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ent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bility, oscil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ady state tac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large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urbance rej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 large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3657600" y="3581280"/>
            <a:ext cx="4876920" cy="20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76F562-AD34-4D66-BE9C-C1BF5596D7D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ler Design: P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15364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portional and Derivativ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P * 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+ D * (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-(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) = P *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 D * (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size of error over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ui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 to “push” more if the error is not reducing fast en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nt to “push” less if the error is reducing really 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905120" y="3809880"/>
            <a:ext cx="563868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30E69-B4D7-4F78-9D42-40B5B3E3A7D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ac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~AUT0000" descr=""/>
          <p:cNvPicPr/>
          <p:nvPr/>
        </p:nvPicPr>
        <p:blipFill>
          <a:blip r:embed="rId1"/>
          <a:srcRect l="4543" t="8277" r="9850" b="11043"/>
          <a:stretch/>
        </p:blipFill>
        <p:spPr>
          <a:xfrm>
            <a:off x="1219320" y="2514600"/>
            <a:ext cx="7391160" cy="255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9EBB0-A7CC-431D-8844-71A08CD94A0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D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keep track of error deriva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 Cruise controlle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t u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= P *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+ D * (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, e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0.7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*(P*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+D*(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-(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))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(0.7-0.5*(P+D))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D*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+0.5*(P+D)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0.5D*r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w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reference input and distribance are constant, the steady-state speed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(0.5P/(1-0.7+0.5P)) *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depend on D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can be set for best tracking and disturbance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D set to control oscillation/overshoot/rate of converg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B99AC-A2B1-4986-A908-6F18BB6FD92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D Control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3668" t="7618" r="2753" b="3168"/>
          <a:stretch/>
        </p:blipFill>
        <p:spPr>
          <a:xfrm>
            <a:off x="304920" y="1752480"/>
            <a:ext cx="8229600" cy="403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B3EF-6246-485C-BCE6-9F531B4DD87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rtional plus integral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P*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*(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…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m up error 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sure reaching desired output, eventu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ill not be reached until 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s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P to control disturb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 to ensure steady state convergence and convergence r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668" t="7618" r="2753" b="3168"/>
          <a:stretch/>
        </p:blipFill>
        <p:spPr>
          <a:xfrm>
            <a:off x="457200" y="3962520"/>
            <a:ext cx="4114800" cy="21142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6029" t="7020" r="5641" b="8776"/>
          <a:stretch/>
        </p:blipFill>
        <p:spPr>
          <a:xfrm>
            <a:off x="4572000" y="4038480"/>
            <a:ext cx="4038480" cy="2062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EBBD2-BD56-4DF8-920E-311C037BA53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D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bine Proportional, integral, and derivativ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=P*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I*(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…+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+D*(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ailable off-the shel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rcRect l="6671" t="6226" r="5559" b="6700"/>
          <a:stretch/>
        </p:blipFill>
        <p:spPr>
          <a:xfrm>
            <a:off x="1828800" y="2971800"/>
            <a:ext cx="5029200" cy="26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73987-DAAC-4DA2-8936-1E41E6EE43F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Co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010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function loops forever, during each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plant output sen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A2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current desired reference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 PidUpdate, to determine actuato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actuator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require D2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7407" t="4248" r="1850" b="10717"/>
          <a:stretch/>
        </p:blipFill>
        <p:spPr>
          <a:xfrm>
            <a:off x="2286000" y="3809880"/>
            <a:ext cx="5029200" cy="205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58119-EEB5-47CC-BFC7-4DE85894902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Coding (continu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gain, Dgain, Igain are const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_value_previo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_s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I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rcRect l="1855" t="2034" r="9259" b="79703"/>
          <a:stretch/>
        </p:blipFill>
        <p:spPr>
          <a:xfrm>
            <a:off x="609480" y="4191120"/>
            <a:ext cx="7772400" cy="1457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525AF-65BE-43BE-A4A9-757EE1ADC10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153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P*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I*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…+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+D*(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1855" t="38584" r="3702" b="0"/>
          <a:stretch/>
        </p:blipFill>
        <p:spPr>
          <a:xfrm>
            <a:off x="1828800" y="2133720"/>
            <a:ext cx="6324480" cy="3751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3783E-E5BE-4FCB-A26A-30921B37062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D tun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tically deriving P, I, D may not be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plant not is not available, or to costly to obt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 hoc method for getting  “reasonable” P, I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a small P, I=D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D, until seeing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D a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P, until seeing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D a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I, until seeing oscil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erate until can change anything without excessive oscil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82331-830A-4E4A-87C6-5B6B681E00C1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actical Issues with Computer-Based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ation Del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A18B6-5009-4D70-91E5-DE4C3891755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zation &amp; Overfl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’t store 0.36 as 4-bit fractional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only store 0.75, 0.59, 0.25, 0.00, -0.25, -050,-0.75, -1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hoose 0.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sult in quantization error of 0.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urces of quantization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ions, e.g. 0.50*0.25=0.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 use more bits until input/output to the environment/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2D converte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ver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’t store 0.75+0.50 = 1.25 as 4-bit fractional num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u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ix-point representation/operations careful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-consu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floating-point co-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st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9D850-CC26-49EC-8CF6-AF81C593C57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-Loop Contro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system to be controll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r, plane, disk, heater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ice to control the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rottle, wing flap, disk motor,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product to control the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~AUT0001" descr=""/>
          <p:cNvPicPr/>
          <p:nvPr/>
        </p:nvPicPr>
        <p:blipFill>
          <a:blip r:embed="rId1"/>
          <a:srcRect l="7049" t="2744" r="1936" b="56524"/>
          <a:stretch/>
        </p:blipFill>
        <p:spPr>
          <a:xfrm>
            <a:off x="2133720" y="4267080"/>
            <a:ext cx="5187960" cy="149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EF998-5F52-4FED-AE89-077169125B2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0773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antization/over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discrete nature of computer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ia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ue to discrete nature of samp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2514600" y="3048120"/>
            <a:ext cx="4114800" cy="2997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22916-E3F8-4330-B221-90A8E421AE0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lias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pling at 2.5 Hz, period of 0.4, the following are indistinguish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t)=1.0*sin(6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), frequency 3 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(t)=1.0*sin(</a:t>
            </a:r>
            <a:r>
              <a:rPr b="0" lang="el-G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), frequency of 0.5 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fact, with sampling frequency of 2.5 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only correctly sample signal below Nyquist frequency 2.5/2 = 1.25 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rcRect l="7413" t="5088" r="1853" b="0"/>
          <a:stretch/>
        </p:blipFill>
        <p:spPr>
          <a:xfrm>
            <a:off x="2438280" y="3367080"/>
            <a:ext cx="3505320" cy="267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F3C41-8A47-438A-89A5-684355AFE58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utation Del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erent delay in 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uation occurs later than expec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to characterize implementation delay to make sure it is neglig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 delay is usually easy to character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chronous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ware delay is harder to predi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uld organize code carefully so delay is predictable and minim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software with predictable timing behavior (be like hard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Trigger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97280" indent="-21924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Software Langu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5C4C6-099B-464C-8A36-8BE76354E6F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nefit of Computer Contr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t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nsive to make analog control immune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ge, temperature, manufacturing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control replace complex analog hardware with complex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ility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Control can be “upgraded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in control mode, gain, are easy to 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er Control can be adaptive to change in pl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ue to age, temperature, …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ture-proof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ly adapt to change in standards,..et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FD80BA-547A-4911-A83B-2A17393EFB7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n-Loop Contro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aspect of the physical system we are intereste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ed, disk location, temper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value we want to see at out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sired speed, desired location, desired tempera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turb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ncontrollable input to the plant imposed by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ind, bumping the disk drive, door open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~AUT0001" descr=""/>
          <p:cNvPicPr/>
          <p:nvPr/>
        </p:nvPicPr>
        <p:blipFill>
          <a:blip r:embed="rId1"/>
          <a:srcRect l="7070" t="2625" r="2019" b="56481"/>
          <a:stretch/>
        </p:blipFill>
        <p:spPr>
          <a:xfrm>
            <a:off x="1981080" y="4343400"/>
            <a:ext cx="5181840" cy="1496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7693B-8137-4EF2-9C2E-78C2EB0F227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her Characteristics of open lo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-forward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 in actual change of the out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 doesn’t know how well thing go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use for predictabl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~AUT0001" descr=""/>
          <p:cNvPicPr/>
          <p:nvPr/>
        </p:nvPicPr>
        <p:blipFill>
          <a:blip r:embed="rId1"/>
          <a:srcRect l="7070" t="2625" r="2019" b="56481"/>
          <a:stretch/>
        </p:blipFill>
        <p:spPr>
          <a:xfrm>
            <a:off x="1447920" y="4038480"/>
            <a:ext cx="6400800" cy="184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6682D-7F28-48CF-89F2-B8F637B73EF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ose Loop Control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the plant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rror det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tect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edback contro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ize tracking err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~AUT0001" descr=""/>
          <p:cNvPicPr/>
          <p:nvPr/>
        </p:nvPicPr>
        <p:blipFill>
          <a:blip r:embed="rId1"/>
          <a:srcRect l="7070" t="49816" r="2019" b="1696"/>
          <a:stretch/>
        </p:blipFill>
        <p:spPr>
          <a:xfrm>
            <a:off x="1752480" y="4089240"/>
            <a:ext cx="5639040" cy="1930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E03D9-1DEA-4244-ACE3-C9DFE721F7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ing Open Loop Control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model of the pl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 a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the 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Disturb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 Open Loop Cruise Control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~AUT0001" descr=""/>
          <p:cNvPicPr/>
          <p:nvPr/>
        </p:nvPicPr>
        <p:blipFill>
          <a:blip r:embed="rId1"/>
          <a:srcRect l="7070" t="2625" r="2019" b="56481"/>
          <a:stretch/>
        </p:blipFill>
        <p:spPr>
          <a:xfrm>
            <a:off x="1447920" y="4259160"/>
            <a:ext cx="6095880" cy="176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FB0A3E-12AB-49BE-9ACB-0D51A62E083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del of the Pl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not be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done through experimenting and tu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ke it easier to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be useful for deriving the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: throttle that goes from 0 to 45 deg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flat surface at 50 mph, open the throttle to 40 deg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it 1 “time unit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e the speed, let’s say 55 mp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n the following equation satisfy the above sce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+1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0.7*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+0.5*u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5 = 0.7*50+0.5*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the equation holds for all other sce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n we have a model of the pl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E79ACE-8D25-4BDE-B2CA-0C815117352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susanc</cp:lastModifiedBy>
  <cp:lastPrinted>2001-09-25T21:20:17Z</cp:lastPrinted>
  <dcterms:modified xsi:type="dcterms:W3CDTF">2004-01-27T00:12:38Z</dcterms:modified>
  <cp:revision>200</cp:revision>
  <dc:subject/>
  <dc:title>A “short list” of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9172768</vt:r8>
  </property>
  <property fmtid="{D5CDD505-2E9C-101B-9397-08002B2CF9AE}" pid="3" name="_AuthorEmail">
    <vt:lpwstr>harry@cs.ucr.edu</vt:lpwstr>
  </property>
  <property fmtid="{D5CDD505-2E9C-101B-9397-08002B2CF9AE}" pid="4" name="_AuthorEmailDisplayName">
    <vt:lpwstr>Harry C. Hsieh</vt:lpwstr>
  </property>
  <property fmtid="{D5CDD505-2E9C-101B-9397-08002B2CF9AE}" pid="5" name="_EmailSubject">
    <vt:lpwstr/>
  </property>
</Properties>
</file>